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995-5F85-47B8-9A1E-1EE53DCB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8A1-B858-4992-8627-B9A53075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18B5F-FC77-4557-A77B-64552C7D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2C000-0CB6-429C-AD7C-EBCB6132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22017-7A9A-4A79-AAFD-CB75CA2F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8864F-1061-4073-9BA3-382A1BA7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73D99-7810-4302-84BE-E2CA9EA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40E2-7BA3-449C-9901-A181A12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3317-2009-4EEC-96D1-7C6A6862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1D49C-99A3-46A0-8ECA-73D06CF5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21B61-62B1-46A5-8F95-D2EBB9E7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DCD-F046-4DEB-820F-56F2BAF2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CEA-8484-4793-8FD9-06EECF3D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F307-C667-4A1D-A77B-D8072FDA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1F3C-AFF5-4262-B3C6-65A965E9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83FD-AB6F-46CF-811D-07546049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F6D6-AC08-41EF-9CF0-1DC57DC7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17F2-BB6A-4A4F-BE04-741BFCC4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A2E7-0BAA-4442-A5E2-26661CDA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EEBE-B092-4AAE-8865-3DD03D51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60F-C656-4C78-8475-567DB104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1D95-875A-4919-A420-7AFDB76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6D75-CB9F-43A4-8856-CE8CD2DF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225D-A2AD-41DE-93B4-D341BB9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721F-7BEF-4078-ACC9-4DCE3B22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C0B9-A548-42E3-B7C9-4826D3AF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01E1-4968-4D74-A8BF-B805F5E6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CE34-C3BF-4BEA-9E8B-9BD50F6C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DA82-5B00-4F4C-B80E-42DA1563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4984-4A26-483F-8FF0-6DB58212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5D8B-AA9B-43C4-963C-132CC9E2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FDA-2CB8-443D-BE57-D7D65BF2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E2F2-6CDB-472F-BCE0-2E0F7823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FB82-630E-4A9F-818C-04D167B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8ADD0-3269-4D11-9A9B-C7C5B33A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5868-7C77-43B0-BA94-4247293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2C46A-09A1-455B-A505-10D85B8F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A031-E723-44ED-8590-30FFD58E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276B-B545-4A8D-B1BD-D4C77A5E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6BD-B944-4D04-889F-81A41C33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112B-A73F-4157-9F23-6E03E2CE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EFB-D2F7-4706-A1E1-92640E46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1019-D773-460E-8098-ADC76D61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2276C-E7D4-4CD5-86F6-90F6ECC8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78DF-8E9D-4456-8DA0-747AF22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C5AE-C06E-4B9B-BB88-9043B73D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E67C-A529-4A4D-A5BF-8203F97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A16F-A842-4015-9F21-E203F91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3CEC-F5CC-498C-BE96-596BC74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21518-26CC-44B6-9865-A9D4A32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E951-5765-44A6-9CD1-CD21F6F9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FFDE7-C832-4C7B-BA1E-196049AD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872-3D14-4CAC-9966-C28B739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426A-B513-40E3-81EC-CD830775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DE5-1AA4-408D-A5D9-A424CB35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E1DD-D2D8-464E-8780-42E8E156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9AF30-A4F5-4D03-8846-2EAA4437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2D2EB-C254-4231-89A1-C8D24511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89A8A-AF9A-44F0-9AE7-9E772674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98CE-B68B-490B-9BA9-377C36E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57E5-C0D1-4357-9E4B-973717D9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C9F8-F323-4EC7-82EE-6BCA0777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729-60B5-4450-8D00-2E3E7FF3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A77E7-DA88-4E89-889D-FDB4A80E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BC9FD-220D-4B15-8810-BB7C960D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1BCBC-E11D-4C3A-B264-E3F32965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0BC8D-7107-47F5-8829-09BDBB75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2690-C709-4CDC-A984-AF3B3316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406-108B-4AB6-9DAF-DF7C44C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849B5-F746-4997-9E77-01306F11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E96A-9A05-4AC7-B7BC-BA6DA09D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F85A3-0F74-491C-862F-AA45FD53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B7590-99C1-48D5-A40F-F1FCA9B6B0B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94479-8521-4B42-BE45-8D3F0E542C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3FCD7-9B06-4EEE-A77C-CC47F6D55F7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D3F6F-94E9-4A66-A173-159F378E020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35336-5B7C-405E-ADB9-9FE17BC64CA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5F394-8C5A-4923-9F05-A724092D801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80C9F-0820-4D90-BAD2-C48CDB0A184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C6677-D629-4FAE-BD2C-B7D8C67672F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4C970-3907-4BF6-9033-80177916276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E3345-91AB-4AD7-81AD-AE349D3A47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73BB6-64E7-44BD-83D7-AEF63536112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AFD50-A8D6-428D-869F-5150AF7A0A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umetinib plus Docetaxel for KRAS-Mutant Advanced Non-Small-Cell Lung Cancer: A Randomised, Multicentre, Placebo-Controlled, Phase 2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Jänne PA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14(1):38-4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9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KRAS is the most frequent mutated oncogene in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SCLC, with mutations detected in approximately 20% of tumors in Caucasian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re are no approved therapies available for KRAS-mutant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Selumetinib is a selective inhibitor of MEK1/2 kinases, downstream of KRAS, with preclinical evidence of synergistic activity with docetaxel in KRAS-mutant cance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Assess the efficacy and safety of selumetinib in combination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with docetaxel as second-line therapy for patients with KRAS-mutant advanc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1"/>
          <p:cNvSpPr/>
          <p:nvPr/>
        </p:nvSpPr>
        <p:spPr>
          <a:xfrm>
            <a:off x="914400" y="5249880"/>
            <a:ext cx="75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verall survival (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559480" y="1460520"/>
          <a:ext cx="2759040" cy="63972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elumetinib + 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559480" y="2798640"/>
          <a:ext cx="2759040" cy="63972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cebo + 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Line 2"/>
          <p:cNvSpPr/>
          <p:nvPr/>
        </p:nvSpPr>
        <p:spPr>
          <a:xfrm>
            <a:off x="3981600" y="2435400"/>
            <a:ext cx="125064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5237280" y="1779480"/>
            <a:ext cx="322200" cy="655920"/>
            <a:chOff x="5237280" y="1779480"/>
            <a:chExt cx="322200" cy="655920"/>
          </a:xfrm>
        </p:grpSpPr>
        <p:sp>
          <p:nvSpPr>
            <p:cNvPr id="377" name="Line 14"/>
            <p:cNvSpPr/>
            <p:nvPr/>
          </p:nvSpPr>
          <p:spPr>
            <a:xfrm flipV="1">
              <a:off x="5237280" y="1779480"/>
              <a:ext cx="0" cy="6559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>
              <a:off x="5237280" y="17794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6"/>
          <p:cNvGrpSpPr/>
          <p:nvPr/>
        </p:nvGrpSpPr>
        <p:grpSpPr>
          <a:xfrm>
            <a:off x="5237280" y="2443320"/>
            <a:ext cx="322200" cy="679320"/>
            <a:chOff x="5237280" y="2443320"/>
            <a:chExt cx="322200" cy="679320"/>
          </a:xfrm>
        </p:grpSpPr>
        <p:sp>
          <p:nvSpPr>
            <p:cNvPr id="380" name="Line 17"/>
            <p:cNvSpPr/>
            <p:nvPr/>
          </p:nvSpPr>
          <p:spPr>
            <a:xfrm>
              <a:off x="5237280" y="2443320"/>
              <a:ext cx="0" cy="6793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8"/>
            <p:cNvSpPr/>
            <p:nvPr/>
          </p:nvSpPr>
          <p:spPr>
            <a:xfrm>
              <a:off x="5237280" y="31222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1"/>
          <p:cNvSpPr/>
          <p:nvPr/>
        </p:nvSpPr>
        <p:spPr>
          <a:xfrm>
            <a:off x="4229280" y="3597120"/>
            <a:ext cx="43941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lumetinib/placebo: 75 mg BID (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100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djustment/reductions: 75 mg/d,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50 mg BID and 50 mg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cetaxel: 75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(IV); d1 q3wk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≤6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4"/>
          <p:cNvSpPr/>
          <p:nvPr/>
        </p:nvSpPr>
        <p:spPr>
          <a:xfrm>
            <a:off x="4292640" y="2050920"/>
            <a:ext cx="731880" cy="7318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4400" y="1473120"/>
          <a:ext cx="3170160" cy="2803680"/>
        </p:xfrm>
        <a:graphic>
          <a:graphicData uri="http://schemas.openxmlformats.org/drawingml/2006/table">
            <a:tbl>
              <a:tblPr/>
              <a:tblGrid>
                <a:gridCol w="317016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43900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ically/cytologically confirmed locally advanced or metastatic KRAS-mutant NSCLC (Stage IIIB-I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ilure of first-line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treatment with a MEK inhibitor or 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6" name="Rectangle 31"/>
          <p:cNvSpPr/>
          <p:nvPr/>
        </p:nvSpPr>
        <p:spPr>
          <a:xfrm>
            <a:off x="5587920" y="2270160"/>
            <a:ext cx="27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crossover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1"/>
          <p:cNvSpPr/>
          <p:nvPr/>
        </p:nvSpPr>
        <p:spPr>
          <a:xfrm>
            <a:off x="914400" y="3606840"/>
            <a:ext cx="77724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EL = selumetinib; Doc = docetaxel; PLA = 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treatment was 117 days (SEL), 68 days (P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S was similar regardless of confirmation of KRAS muta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100000"/>
              </a:lnSpc>
              <a:spcBef>
                <a:spcPts val="601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R: 0.81;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14400" y="1447920"/>
          <a:ext cx="7327800" cy="2081160"/>
        </p:xfrm>
        <a:graphic>
          <a:graphicData uri="http://schemas.openxmlformats.org/drawingml/2006/table">
            <a:tbl>
              <a:tblPr/>
              <a:tblGrid>
                <a:gridCol w="1641600"/>
                <a:gridCol w="1406520"/>
                <a:gridCol w="1371600"/>
                <a:gridCol w="1549440"/>
                <a:gridCol w="1358640"/>
              </a:tblGrid>
              <a:tr h="69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/Doc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/Doc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 (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and Progression-Free Survival (P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1"/>
          <p:cNvSpPr/>
          <p:nvPr/>
        </p:nvSpPr>
        <p:spPr>
          <a:xfrm>
            <a:off x="914400" y="4565520"/>
            <a:ext cx="7485120" cy="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&lt; 0.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response with SEL was 6.0 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914400" y="1498680"/>
          <a:ext cx="7315200" cy="3068640"/>
        </p:xfrm>
        <a:graphic>
          <a:graphicData uri="http://schemas.openxmlformats.org/drawingml/2006/table">
            <a:tbl>
              <a:tblPr/>
              <a:tblGrid>
                <a:gridCol w="3689280"/>
                <a:gridCol w="1812960"/>
                <a:gridCol w="18129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/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/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0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 at ≥6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52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evalu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914400" y="1739880"/>
          <a:ext cx="7327800" cy="2524320"/>
        </p:xfrm>
        <a:graphic>
          <a:graphicData uri="http://schemas.openxmlformats.org/drawingml/2006/table">
            <a:tbl>
              <a:tblPr/>
              <a:tblGrid>
                <a:gridCol w="3035160"/>
                <a:gridCol w="1416240"/>
                <a:gridCol w="1378080"/>
                <a:gridCol w="1498320"/>
              </a:tblGrid>
              <a:tr h="695520">
                <a:tc>
                  <a:txBody>
                    <a:bodyPr lIns="90000" rIns="90000" anchor="b">
                      <a:noAutofit/>
                    </a:bodyPr>
                    <a:p>
                      <a:pPr marL="6336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/Doc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/Doc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16.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fference between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17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ee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19.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fference between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Tumor Size from Bas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914400" y="4376880"/>
            <a:ext cx="73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st-study use of anticancer therapy was similar between groups: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44% (SEL) and 55% (P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914400" y="1434960"/>
          <a:ext cx="7467480" cy="4023000"/>
        </p:xfrm>
        <a:graphic>
          <a:graphicData uri="http://schemas.openxmlformats.org/drawingml/2006/table">
            <a:tbl>
              <a:tblPr/>
              <a:tblGrid>
                <a:gridCol w="2641680"/>
                <a:gridCol w="1270080"/>
                <a:gridCol w="1180800"/>
                <a:gridCol w="1206720"/>
                <a:gridCol w="116820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/Doc (n = 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/Doc (n = 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o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o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ow neutrophil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ts val="2999"/>
              </a:lnSpc>
              <a:spcBef>
                <a:spcPts val="1800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patients with previously treated KRAS-mutant NSCLC, the combination of selumetinib with docetaxel demonstrated promising efficacy, albeit with a higher number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adverse events than with docetaxel therapy alone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1800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findings warrant further clinical investigation of combination therapy with selumetinib and docetaxel in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KRAS-mutant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32Z</dcterms:created>
  <dc:creator>Research To Practice</dc:creator>
  <dc:description/>
  <cp:keywords/>
  <dc:language>en-US</dc:language>
  <cp:lastModifiedBy>Silvana Izquierdo</cp:lastModifiedBy>
  <cp:lastPrinted>2013-06-11T14:17:33Z</cp:lastPrinted>
  <dcterms:modified xsi:type="dcterms:W3CDTF">2013-07-22T19:08:30Z</dcterms:modified>
  <cp:revision>631</cp:revision>
  <dc:subject/>
  <dc:title>Research To Practice</dc:title>
</cp:coreProperties>
</file>