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93F-BE28-4F67-B15F-B12C53B2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ABC-06CA-458E-8DAF-B76E79E0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3845-F256-4FD2-BB5F-211DAA5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62F7-B787-4EC4-A2FD-2D0B9D0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73BB-4ABC-4816-9BE2-C7DA354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56F7-1B2E-4174-8CD0-73F1AA5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A4D5-5F47-44A3-BB27-73A838A3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FDB5-54EC-4510-8B8B-28A99DE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5518-ECF6-442D-81F0-872D7CE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4A79B-DDDF-4DBB-BCF5-4CD3619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AA85-B677-4F1F-A00D-2A6FB770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CFF-CBA7-4EF2-B9F1-B4B303A4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56B-7F60-4DC0-A667-D14644C9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3D2B-AB0C-4963-95AA-AB7BED2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94B4-E4AE-4176-82DE-7330F43B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186-2C63-40CC-9DB8-371D343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2F4-6914-4842-8E50-3125FCF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31B-1DB8-495F-A5C8-E809BCAA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9F27-C673-4998-99FF-513F20F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D5D-03F5-482F-B4F8-715C59A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C35-E599-4167-8F3F-5BD9E63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0F8-81C3-4200-A587-8E68906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5EE2-52B7-431E-A52D-A94B2CC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3D5-8E35-4888-B2AF-7EC38A0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C76-E8FB-4C7E-87CC-BA34C99C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70D-F65C-4C80-A450-E12E0713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A1F0-4403-4554-BBB3-123B87FA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CE91-2DA1-480F-97F0-210C1F16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99F8-A871-49D6-840E-9277383C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B217-A6C1-4651-AF9A-9031910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2225-C40A-438C-BF29-4308C7A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50-2EBF-4042-A1D0-FB4A248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D682-1CEC-4A6C-9B7C-A74BDBFC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81A4-1178-4C1C-8493-75F344D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A5CC-17FC-40C8-95F9-7399A4F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A753-7794-400E-8596-13ADEBF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3F2B-BF6C-4A0E-96ED-0A857AF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F4D5-585B-4F93-BA73-09CBA5E3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82D5-0BB4-4702-AE63-36C43BEE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C48-F87A-45BA-86A9-6F3124DD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0F0C-A2CD-4240-8CDC-F67A7930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485-F99E-4A1D-B028-3AAE76F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DE56-D16E-4B55-A8A3-040217F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73E1-CA7F-486D-BAFD-C9A0A2F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374B4-9895-434B-9C9E-FCB1A7A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93DC-BAC8-40C2-92DA-60DF9E14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74E7-19FA-499B-8DA7-955ECF0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EE37-52D0-4976-9601-2F21C1F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DC7F-33A8-4583-A544-C1076DA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D4B2-FF23-466E-83CD-2C579AE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1661-8231-4133-8390-9658246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D364-8FDE-40BE-B53A-7CF40B03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61E-2B91-49D5-B429-C1502767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11B6-AF1F-433F-BA95-7E734C3C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E70-87B6-4075-A1FA-0F5C35F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509A2-4E32-49DA-9FD0-E7085FD9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9EFF-761E-4B76-8A5C-256A04FD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64AB-60A6-4946-B024-19F54EB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0D20-FF42-4B52-8A40-4C850C09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F98C-F540-4AA7-B9F6-0352E06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69AD-02B5-43F2-BEDB-04EEABC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8286-75CC-4754-B3FA-8A7C677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E93-64F8-47CC-97EB-C36F499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7815-7ED9-46F0-94AF-621665B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DB3A-211F-4A56-A8D3-D54FCE7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E61C-3597-49A8-B033-7B76C27A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26D6-447B-4BC5-BB65-CB9D1F57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42A4-3B12-4378-8204-F5F511B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DC2-4998-459A-AE7B-D1EECE0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824C-D7BE-49F2-9BD1-6FBC8A03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7724-D081-4038-AF2B-16E1A73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9D36-0409-4603-BFD0-DC95B6A0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25A09-1C9F-426A-AB1B-58252D39D65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5770E-723E-423A-B28E-94E812BFEB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889B9-360D-47E6-B903-765C46F1E5B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A8B3B-C0AB-4B39-B37D-FDFFBFE3A83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EB45B-EE8D-4D10-B5F5-35EAE5DB6EF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B5A5B-D944-49B4-BC6C-4E1E6C5E819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FBD15-BBF5-4A4D-B9E2-AC69B314ACF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77AF6-FBA6-4CAB-BD2B-FA9E66195B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4331B-7AD7-4A57-8D28-CA2820E2AA3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48BD3-DC5D-41B0-8789-1C6D876C3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84CD9-9836-41D3-B28F-BCB068DD0AF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D37C3-5DE0-4AD6-BEBC-E28100F698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rehensive Genomic Characterization of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uamous Cell Lung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c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e Cancer Genome Atlas Research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Nature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2012;489(7417):519-2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The discovery of recurrent mutations in EGFR kinase and ALK fusions led to a marked change in the treatment of lung adenocarcinoma with targeted therapie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However, targeted agents for lung adenocarcinoma are largely ineffective against lung squamous cell carcinoma (SQCC) because activating mutations in EGFR and ALK fusions are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ypically not present</a:t>
            </a: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Although no comprehensive genomic analysis of lung SQCC has been reported, single-platform studies have identified gene alterations in the disease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27920" indent="-2800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Conduct a comprehensive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  <a:ea typeface="Arial"/>
              </a:rPr>
              <a:t>study of genomic and epigenomic alterations in a large cohort of patients with lung SQCC to identify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potential opportunities for therapy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samples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obtained from 178 patients with previously untreated Stage I to IV lung SQCC of whom 96% had a history of tobacco u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ermline DNA was obtained from adjacent, histologically normal tissue resected at time of surgery (n = 137) or from peripheral blood (n = 4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rmal and tumor DNA samples were sequenced by whole-genome shotgun sequencing, and significantly mutated genes were identified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NP copy number data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sed to identify recurrent amplification and deletion peak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DNA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lung SQCC samples analyzed displayed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exonic mutations: 360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altered copy number segments: 323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genomic rearrangements: 165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altered copy number segments gave rise to regions of both focal and broad somatic copy number alterations (SCNAs), with a mean of 47 focal and 23 broad events per tumor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most notable difference between SQCC and lung adenocarcinoma was the selective amplification of chromosome 3q in lung SQCC versus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DNA Alterat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01440" y="1320480"/>
            <a:ext cx="756900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y peaks of significant amplification or deletion were observed, many of which included SCNAs previously seen in lung SQCC, including PDGFRA and/or KIT, EGFR and CDKN2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ther peaks defined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regions of SCNA reported for the first time, including amplification of chromosomal segments containing MYC, CDK6, MDM2 and deletions of PTEN and NF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en significantly mutated genes were observed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8" descr=""/>
          <p:cNvPicPr/>
          <p:nvPr/>
        </p:nvPicPr>
        <p:blipFill>
          <a:blip r:embed="rId1"/>
          <a:stretch/>
        </p:blipFill>
        <p:spPr>
          <a:xfrm>
            <a:off x="895320" y="4022640"/>
            <a:ext cx="75787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Altered Pat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Several somatic alterations identified in lung SQCC seem to be drivers of pathways important for cancer initiation or progress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Genes involved in oxidative stress response and squamous differentiation were frequently altered by mutation or SCNA: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utations and copy number alterations of oxidative stress response genes NFE2L2 and KEAP1 and/or deletion or mutation of CUL3 were observed in 34% of cas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Alterations in genes with known roles in squamous cell differentiation were observed in 44% of samples, including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expression and amplification of SOX2 and TP63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ss-of-function mutations in NOTCH1, NOTCH2 and ASCL4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cal deletions in FOXP1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Potential Targets for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ased on several features, 114 cases (64%) with somatic alteration of a potentially targetable gene were identified, including 3 families of tyrosine kinas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BB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GFR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JAK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alysis of core cellular pathways revealed alterations in 69%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samples in ≥1 of the following signaling pathway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I3K/AKT (47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Receptor tyrosine kinase (26%)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AS (24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SQCC is characterized by a high overall mutation rat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8.1 mutations/Mb and marked genomic complexit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milar to high-grade serous ovarian cancer, almost all lung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QCCs display somatic mutations of TP53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eviously unreported loss-of-function mutations in the HLA-A Class I MHC gene were observ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requent alterations were observed in the following pathways: CDKN2A/RB1, NFE2L2/KEAP1/CUL3, PI3K/AKT and SOX2/TP63/NOTCH1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provide evidence of common dysfunction in cell-cycle control, response to oxidative stress, apoptotic signaling and/or squamous cell differenti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and K-ras mutations, the 2 most common oncogenic aberrations in lung adenocarcinoma, are extremely rare in lung SQCC, but alterations in the FGFR kinase family are comm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dentified a potentially targetable gene or pathway alteration in most lung SQCC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can help to organize efforts to analyze lung SQCC clinical tumor specimens for a panel of specific, actionable mutations to select patients for appropriately targeted clinical tria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results could help to facilitate effective personalized therapy for lung SQC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7:12Z</dcterms:modified>
  <cp:revision>743</cp:revision>
  <dc:subject/>
  <dc:title>Research To Practice</dc:title>
</cp:coreProperties>
</file>