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02C-6A94-48FA-A086-3E4E746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BFA-F3F2-4152-8291-C09103D5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523-61D3-4B0C-8E8E-9FDE7384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A6A-44D7-446C-B6CD-A494BCD0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611-DC8B-4341-810F-7C735184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2FBD-2B47-44C1-8CBE-60BC6B6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15B-0B97-4B15-BDBA-5D6EA157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C959-2ECD-4178-A99B-C5EB74F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0614-E93C-47B8-A9EA-0CD2D24C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0463-06CA-466E-8CA7-DADFB21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D13-57F5-4100-A084-9E6B7FE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27D-12BA-4928-BB9B-C0152F5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F110-F162-4B79-AF00-8F30EFE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E97-F130-4F64-AAA9-0D5EB75C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540-D16D-42F4-A2B6-0D7B4D0F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A7E9-F4EF-4169-B800-8E0B3BBF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4C6-AB40-49B3-9B99-C9CF9A93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862-D498-4A25-AF9B-85B95A2B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728D-DF42-48A0-A788-EAB521D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9BB4-227B-4EA4-B612-C7FA21B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006E-D8FE-41C4-A370-F8A61446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6A5-E329-4EDD-87E3-467A4084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9A81-C351-400F-9B52-E70FD917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CB3A-BAC1-4A5B-9DEC-A2BE918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F204-9E80-45C7-B86D-024D38AF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59E0-C5F6-4F7D-B5E5-8615378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91D7-87F8-4312-BE23-190E842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2164-3167-4457-88A0-E9DCAC0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60E6-1FB3-4929-B7F7-4E8C0B9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937E-5089-4BE5-8289-7F6DC30F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ABE9-3113-4401-BBB6-0230BBB2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B3E-6716-43A7-B9AF-1DC2944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1EF-285A-473D-B97F-5583324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B2ED-D871-449D-9889-0F4950A6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EA3C-03AA-40F7-8DDB-3730E39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9A7F-D3A6-4B8D-9F68-B10DC305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F01A-D362-4A6B-848E-65EEA0F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7299-D7F6-46C0-8611-9E392B01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283A-32C7-416D-81B6-3AC3969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C182-FAFA-4197-90D2-8EF934E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4FAB-5A3B-48D8-91BC-ECFB8C4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9488-1BFA-45A0-8BCE-6D8E727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3D5-C8E3-4076-9501-36C3582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360B-4EF2-4B11-9EDB-31C6828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3AAC-3312-4235-835D-0714511A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864C-D657-484B-BD38-22F4F24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9B5-69FD-41AC-94CB-C197653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C61-D80D-4028-9574-1667913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9D22B-4BE9-4669-AEC3-15AD38EDC59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C2B22-C7A2-4E7C-8DC3-B7CDBE5A96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ADD63-5923-4D6D-984E-E9A6F222C89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DA53B-DEEB-4AC0-97E2-1A1EBD425A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E5057-9E0F-42BD-BC1C-7E4DADD336C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2EE1C-13C9-4E27-9A8A-191E81C062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FFD87-5D31-4D64-BB2D-6BF17D87937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A5F0C-C459-499E-AC72-0114188D1A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nical Activity of Crizotinib in Advanced Non-Small Cell Lung Cancer (NSCLC) Harboring ROS1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hromosomal rearrangements in the ROS1 receptor tyrosine kinase gene define a new molecular subset of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is present in about 1% of NSCLC cases and enriched in young never/light smokers with lung adenocarcinoma 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is a small molecule tyrosine kinase inhibitor of cMET, ALK and ROS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demonstrated activity in preclinical studies of ROS1- rearranged NSCLC cell lines and 1 patient with ROS1- rearranged advanced NSCLC 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xamine the efficacy and safety of crizotinib in patients with advanced ROS1-rearrang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800" y="1163520"/>
            <a:ext cx="824400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rt 1: Dose-escalation phase (cohorts 1 to 6: 50 to 300 mg BID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rt 2: Dos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-expansion pha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riched patient population with ROS1 rearrangements (n = 15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osed at 250 mg BID (n = 15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ontinuing treatment (n = 1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iscontinued treatment due to disease progression (n = 3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was determined with the </a:t>
            </a:r>
            <a:r>
              <a:rPr b="0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reak-apart</a:t>
            </a:r>
            <a:r>
              <a:rPr b="0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FISH ass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914400" y="1498680"/>
          <a:ext cx="7378560" cy="3865320"/>
        </p:xfrm>
        <a:graphic>
          <a:graphicData uri="http://schemas.openxmlformats.org/drawingml/2006/table">
            <a:tbl>
              <a:tblPr/>
              <a:tblGrid>
                <a:gridCol w="4832280"/>
                <a:gridCol w="2546280"/>
              </a:tblGrid>
              <a:tr h="446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4 (31-72)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Never/former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93%/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OG performance status (0/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67%/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188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Prior Tx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Non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≥1 regim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3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80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line Demograph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914400" y="1473120"/>
          <a:ext cx="7332840" cy="3106800"/>
        </p:xfrm>
        <a:graphic>
          <a:graphicData uri="http://schemas.openxmlformats.org/drawingml/2006/table">
            <a:tbl>
              <a:tblPr/>
              <a:tblGrid>
                <a:gridCol w="4622760"/>
                <a:gridCol w="271008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ble fo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verall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0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sease control rate at 8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f"/>
                    </a:solidFill>
                  </a:tcPr>
                </a:tc>
              </a:tr>
            </a:tbl>
          </a:graphicData>
        </a:graphic>
      </p:graphicFrame>
      <p:sp>
        <p:nvSpPr>
          <p:cNvPr id="25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tumor Activity of Crizotinib in Patients with ROS1-Positiv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914400" y="47498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edian duration of treatment: 25.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914400" y="1447920"/>
          <a:ext cx="7175520" cy="3698640"/>
        </p:xfrm>
        <a:graphic>
          <a:graphicData uri="http://schemas.openxmlformats.org/drawingml/2006/table">
            <a:tbl>
              <a:tblPr/>
              <a:tblGrid>
                <a:gridCol w="2779560"/>
                <a:gridCol w="1465560"/>
                <a:gridCol w="1465200"/>
                <a:gridCol w="1465200"/>
              </a:tblGrid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T incr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ypophosphat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ripheral ed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T incr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ysgeu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 with ≥10% Oc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914400" y="520056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o treatment-related Grade 4 or 5 AEs wer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defines a distinct subset of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demonstrates marked antitumor activity in patients with advanced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se data validate ROS1 as a therapeutic target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ure directions includ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continuation of enrollment of patients with ROS1-positive NSCLC in the MTD/RP2D expansion cohor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evaluation of the role of crizotinib in other ROS1-rearranged cancers, including GBM and cholangiocarcinoma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determination of mechanisms of resistance to crizotinib in ROS1-positive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7-22T17:17:17Z</cp:lastPrinted>
  <dcterms:modified xsi:type="dcterms:W3CDTF">2013-07-22T18:55:26Z</dcterms:modified>
  <cp:revision>650</cp:revision>
  <dc:subject/>
  <dc:title>Research To Practice</dc:title>
</cp:coreProperties>
</file>