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8E4-E854-474B-92E1-D71E52B8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E43-63FE-4CF8-8599-9F5AE0FD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7DA-EE2D-4DD2-A6EC-40B50F34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639-CFBD-4B9A-99BD-B06C8C17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0BEE-D046-4CD1-AAC4-36B82AF4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06DE-9A06-4753-B713-BA630CF1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513F-4797-4061-81F4-755C6070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A5C-6D85-471C-B093-0CF30772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E872-C02C-475F-929C-C30A83C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2858-D776-45C5-B2A6-73E864FA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DEFD-5850-44F4-ADCE-6318A8E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648-3D4C-4428-90EB-FF4E63CE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8B5F-7957-485C-8B68-9A778F1C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30F9-D8E3-4A06-B933-0B3D5E18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CCB3-3B43-4A34-B46A-CDB4C3D8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48DF-7B10-4834-816F-F4C0E12A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8FDC-1DA2-4C29-BE8C-97644514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E7B-D823-4A61-BC8D-095F066C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09CD-2632-4E98-AFCA-6E6618AB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EC07-AB0E-458D-BA08-933A4FB5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1ECD-11D1-4B51-870B-10CD87CC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940-02DD-48B8-A4B8-0E8E024E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C7FB-1B77-4C56-996C-04E1FE93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3035-CD81-4F52-8CD5-9EA264A2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913D-4A0E-4AE9-A889-FD4F4C7D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2793-AC93-44DC-B86A-7825CF0A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FBAD-3232-4AC3-B54D-33FB906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C76D-EEAC-4D00-AF1C-69C553F4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7B17-FEFF-4848-90AF-E85D8903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2D29-83C4-48A5-896E-259459D8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DA0C-A746-4E68-B132-5992CCF6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50F-F070-406F-A1D6-0CAC9529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7DF-63F6-4917-A0BA-30DB6A15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E74E-D1A4-4E27-92BE-D679C04C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1018-6A5B-4F3F-99C9-3D6A7B4C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BC78-A3F7-43C2-AB2D-854A9941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9100-E76B-4DD5-8E54-24BA99C7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926D-B3B8-4A26-9054-AA48D854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EE8B-1072-42BD-9FCC-F3165A0F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4D75F-3958-47CC-990E-E1FB7F01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B63C-37AD-42EC-93E2-2813FEC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6CDBE-5C8C-49A3-88EE-EDF096EE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057-0C7C-414A-8158-5C056B22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F05F-C867-452A-AF6F-3A28AAD2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41D3B-8E57-411B-8B77-41C6CD39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3FCC6-FED3-48B3-80C6-6AD09344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1B6-5985-4963-809F-67E0EC5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F50-B2A5-4A1D-83B8-874872FA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94658-ABB2-4B63-8679-B9F68AC9B56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67C5C-CA16-47BC-891B-4AAE21E74C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7B002-D21C-4D27-9A98-93E6DC58EAC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45D39-2899-4531-B9DB-93041D701C2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icture 8"/>
          <p:cNvSpPr/>
          <p:nvPr/>
        </p:nvSpPr>
        <p:spPr>
          <a:xfrm>
            <a:off x="449280" y="1170000"/>
            <a:ext cx="822636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A5834-B3C0-496D-A8F4-14B3EC676E2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1BDBC-23E6-4E42-80BA-5D53A3317C8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BAE40-4462-480F-8D2E-27FE20718EE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A478E-7174-4212-9158-566FC61B5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9120" y="111240"/>
            <a:ext cx="84330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Randomized Phase III Comparison of Standard-Dose (60 Gy) versus High-Dose (74 Gy) Conformal Radiotherapy with Concurrent and Consolidation Carboplatin/Paclitaxel +/- Cetuximab in Patients with Stage IIIA/IIIB Non-Small Cell Lung Cancer (NSCL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Bradley JD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750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he era of PET staging, a median overall survival of 28.7 months can be expected with concurrent chemotherapy with RT at a standard dose (60 Gy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Unreported treatment-related deaths from cardiac and pulmonary events are likely to be the major causes of the inferior survival observed in the high-dose arms (74 Gy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indicates that stricter heart and lung constraints should be built into future studies and institutional protocol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tricter RT quality assurance programs may be necessary in multicenter trial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nally, radiation dose escalation with conventional fractionation and concurrent chemotherapy is not the way forward. Rather, treatment intensification should be pursu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Faivre-Finn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5960" indent="-34272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istorically, standard treatment for Stage III NSCLC has included radiation therapy (RT) limited to a dose between 60 and 63 Gy due to toxicity associated with higher dos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5960" indent="-34272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nventional thinking, multiple retrospective reviews and a secondary analysis of RTOG trials supported the notion that a higher dose of RT may increase local-regional control and prolong surviv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5960" indent="-34272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ospective Phase I and II trials from the RTOG, NCCTG, CALGB and North Carolina have demonstrated that 74 Gy was both safe and effectiv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5960" indent="-34272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high-dose versus standard-dose conformal RT with concurrent and consolidation chemotherapy with or without cetuximab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RTOG-0617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81200" y="1270080"/>
          <a:ext cx="7483320" cy="1471680"/>
        </p:xfrm>
        <a:graphic>
          <a:graphicData uri="http://schemas.openxmlformats.org/drawingml/2006/table">
            <a:tbl>
              <a:tblPr/>
              <a:tblGrid>
                <a:gridCol w="7483320"/>
              </a:tblGrid>
              <a:tr h="3967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5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749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Bef>
                          <a:spcPts val="3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wly diagnosed, unresectable Stage IIIA/B NSCL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Bef>
                          <a:spcPts val="3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2/N3 disease and undetectable NSCLC primary tu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Bef>
                          <a:spcPts val="3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supraclavicular or contralateral hilar aden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47560" y="3646440"/>
          <a:ext cx="1704960" cy="1346400"/>
        </p:xfrm>
        <a:graphic>
          <a:graphicData uri="http://schemas.openxmlformats.org/drawingml/2006/table">
            <a:tbl>
              <a:tblPr/>
              <a:tblGrid>
                <a:gridCol w="1704960"/>
              </a:tblGrid>
              <a:tr h="1346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m 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T: 60 Gy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x/wk, 6 wk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332080" y="3648240"/>
          <a:ext cx="1639800" cy="1344600"/>
        </p:xfrm>
        <a:graphic>
          <a:graphicData uri="http://schemas.openxmlformats.org/drawingml/2006/table">
            <a:tbl>
              <a:tblPr/>
              <a:tblGrid>
                <a:gridCol w="1639800"/>
              </a:tblGrid>
              <a:tr h="1344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m 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T: 74 Gy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x/wk, 7.5 w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057560" y="3659040"/>
          <a:ext cx="2229120" cy="1320840"/>
        </p:xfrm>
        <a:graphic>
          <a:graphicData uri="http://schemas.openxmlformats.org/drawingml/2006/table">
            <a:tbl>
              <a:tblPr/>
              <a:tblGrid>
                <a:gridCol w="2229120"/>
              </a:tblGrid>
              <a:tr h="1320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m 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T: 60 Gy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x/wk, 6 w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CT + C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373800" y="3646440"/>
          <a:ext cx="2192400" cy="1333440"/>
        </p:xfrm>
        <a:graphic>
          <a:graphicData uri="http://schemas.openxmlformats.org/drawingml/2006/table">
            <a:tbl>
              <a:tblPr/>
              <a:tblGrid>
                <a:gridCol w="2192400"/>
              </a:tblGrid>
              <a:tr h="1333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m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T: 74 Gy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x/wk, 7.5 w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CT + C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6" name="Rectangle 31"/>
          <p:cNvSpPr/>
          <p:nvPr/>
        </p:nvSpPr>
        <p:spPr>
          <a:xfrm>
            <a:off x="987480" y="5048280"/>
            <a:ext cx="7391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CT = chemotherapy with carboplatin + paclitaxel; Cet = cetuxim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444680" y="3409920"/>
            <a:ext cx="60609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"/>
          <p:cNvSpPr/>
          <p:nvPr/>
        </p:nvSpPr>
        <p:spPr>
          <a:xfrm>
            <a:off x="1444680" y="34099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"/>
          <p:cNvSpPr/>
          <p:nvPr/>
        </p:nvSpPr>
        <p:spPr>
          <a:xfrm>
            <a:off x="3228840" y="34099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"/>
          <p:cNvSpPr/>
          <p:nvPr/>
        </p:nvSpPr>
        <p:spPr>
          <a:xfrm>
            <a:off x="5427720" y="34099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"/>
          <p:cNvSpPr/>
          <p:nvPr/>
        </p:nvSpPr>
        <p:spPr>
          <a:xfrm>
            <a:off x="7491240" y="34099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4057560" y="2673360"/>
            <a:ext cx="828720" cy="82872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 2-by-2 factorial design with radiation dose as one factor and cetuximab as the other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 1-sided log-rank test with overall significance level of 0.0125 and 80% power at final analysis at 339 event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re will be 3 interim analyses at 85, 170 and 255 event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t first interim analysis, the 2 high-dose arms (B and D) were closed to accrual due to futility (June 2011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trial continued accrual to the standard-dose arms (A and C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ccrual to the study was completed in November 2011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o data are currently available for treatment with or without cetuximab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IJournal_Bradley_Curve1.png"/>
          <p:cNvPicPr/>
          <p:nvPr/>
        </p:nvPicPr>
        <p:blipFill>
          <a:blip r:embed="rId1"/>
          <a:srcRect l="10651" t="23656" r="16747" b="26438"/>
          <a:stretch/>
        </p:blipFill>
        <p:spPr>
          <a:xfrm>
            <a:off x="1136520" y="1116000"/>
            <a:ext cx="6426360" cy="44164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 rot="16200000">
            <a:off x="-913680" y="3123720"/>
            <a:ext cx="40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Survival Rat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873080" y="5338800"/>
            <a:ext cx="54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onths Since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7042320" y="1549440"/>
            <a:ext cx="104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8-month survival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7042320" y="265896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"/>
              </a:rPr>
              <a:t>66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7042320" y="310356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9a332"/>
                </a:solidFill>
                <a:latin typeface="Arial"/>
              </a:rPr>
              <a:t>53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2301840" y="4013280"/>
            <a:ext cx="26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tandard (60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igh dose (74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2289240" y="4630680"/>
            <a:ext cx="40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R = 1.56 (1.19, 2.06)    p = 0.0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203720" y="3610080"/>
          <a:ext cx="2989080" cy="1001520"/>
        </p:xfrm>
        <a:graphic>
          <a:graphicData uri="http://schemas.openxmlformats.org/drawingml/2006/table">
            <a:tbl>
              <a:tblPr/>
              <a:tblGrid>
                <a:gridCol w="839880"/>
                <a:gridCol w="703080"/>
                <a:gridCol w="1446120"/>
              </a:tblGrid>
              <a:tr h="438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Survival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7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.5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Straight Connector 15"/>
          <p:cNvSpPr/>
          <p:nvPr/>
        </p:nvSpPr>
        <p:spPr>
          <a:xfrm>
            <a:off x="2011320" y="4175280"/>
            <a:ext cx="29052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6"/>
          <p:cNvSpPr/>
          <p:nvPr/>
        </p:nvSpPr>
        <p:spPr>
          <a:xfrm>
            <a:off x="2011320" y="4425840"/>
            <a:ext cx="290520" cy="0"/>
          </a:xfrm>
          <a:prstGeom prst="line">
            <a:avLst/>
          </a:prstGeom>
          <a:ln w="38160">
            <a:solidFill>
              <a:srgbClr val="69a3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IJournal_Bradley_Curve2.png"/>
          <p:cNvPicPr/>
          <p:nvPr/>
        </p:nvPicPr>
        <p:blipFill>
          <a:blip r:embed="rId1"/>
          <a:srcRect l="12669" t="24938" r="16566" b="25191"/>
          <a:stretch/>
        </p:blipFill>
        <p:spPr>
          <a:xfrm>
            <a:off x="1320840" y="1219320"/>
            <a:ext cx="6267240" cy="44164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 (P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 rot="16200000">
            <a:off x="-913680" y="3123720"/>
            <a:ext cx="40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PFS Rat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1873080" y="5338800"/>
            <a:ext cx="55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onths Since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7129440" y="2681280"/>
            <a:ext cx="104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8-month survival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3"/>
          <p:cNvSpPr/>
          <p:nvPr/>
        </p:nvSpPr>
        <p:spPr>
          <a:xfrm>
            <a:off x="7142040" y="36100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"/>
              </a:rPr>
              <a:t>36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7142040" y="39178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9a332"/>
                </a:solidFill>
                <a:latin typeface="Arial"/>
              </a:rPr>
              <a:t>26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2301840" y="4013280"/>
            <a:ext cx="26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tandard (60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igh dose (74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289240" y="4630680"/>
            <a:ext cx="40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R = 1.3 (1.04, 1.63)    p = 0.01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127400" y="3610080"/>
          <a:ext cx="1492200" cy="933480"/>
        </p:xfrm>
        <a:graphic>
          <a:graphicData uri="http://schemas.openxmlformats.org/drawingml/2006/table">
            <a:tbl>
              <a:tblPr/>
              <a:tblGrid>
                <a:gridCol w="776520"/>
                <a:gridCol w="715680"/>
              </a:tblGrid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Straight Connector 28"/>
          <p:cNvSpPr/>
          <p:nvPr/>
        </p:nvSpPr>
        <p:spPr>
          <a:xfrm>
            <a:off x="2011320" y="4175280"/>
            <a:ext cx="29052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29"/>
          <p:cNvSpPr/>
          <p:nvPr/>
        </p:nvSpPr>
        <p:spPr>
          <a:xfrm>
            <a:off x="2011320" y="4425840"/>
            <a:ext cx="290520" cy="0"/>
          </a:xfrm>
          <a:prstGeom prst="line">
            <a:avLst/>
          </a:prstGeom>
          <a:ln w="38160">
            <a:solidFill>
              <a:srgbClr val="69a3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IJournal_Bradley_Curve3.png"/>
          <p:cNvPicPr/>
          <p:nvPr/>
        </p:nvPicPr>
        <p:blipFill>
          <a:blip r:embed="rId1"/>
          <a:srcRect l="11017" t="25489" r="16566" b="27538"/>
          <a:stretch/>
        </p:blipFill>
        <p:spPr>
          <a:xfrm>
            <a:off x="1170000" y="1255680"/>
            <a:ext cx="6418080" cy="4162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 rot="16200000">
            <a:off x="-913680" y="3123720"/>
            <a:ext cx="40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Local Progression Rat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1886040" y="5338800"/>
            <a:ext cx="534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onths Since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9"/>
          <p:cNvSpPr/>
          <p:nvPr/>
        </p:nvSpPr>
        <p:spPr>
          <a:xfrm>
            <a:off x="7180200" y="2346480"/>
            <a:ext cx="131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8-month local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rogression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1"/>
          <p:cNvSpPr/>
          <p:nvPr/>
        </p:nvSpPr>
        <p:spPr>
          <a:xfrm>
            <a:off x="7236000" y="389412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"/>
              </a:rPr>
              <a:t>25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7218360" y="356868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9a332"/>
                </a:solidFill>
                <a:latin typeface="Arial"/>
              </a:rPr>
              <a:t>34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2389320" y="191448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tandard (60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igh dose (74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2401920" y="2525760"/>
            <a:ext cx="40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R = 1.37 (0.99, 1.89)    p = 0.03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216320" y="1509840"/>
          <a:ext cx="1492200" cy="933480"/>
        </p:xfrm>
        <a:graphic>
          <a:graphicData uri="http://schemas.openxmlformats.org/drawingml/2006/table">
            <a:tbl>
              <a:tblPr/>
              <a:tblGrid>
                <a:gridCol w="776520"/>
                <a:gridCol w="715680"/>
              </a:tblGrid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Straight Connector 26"/>
          <p:cNvSpPr/>
          <p:nvPr/>
        </p:nvSpPr>
        <p:spPr>
          <a:xfrm>
            <a:off x="2100240" y="2075040"/>
            <a:ext cx="28908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27"/>
          <p:cNvSpPr/>
          <p:nvPr/>
        </p:nvSpPr>
        <p:spPr>
          <a:xfrm>
            <a:off x="2100240" y="2325600"/>
            <a:ext cx="289080" cy="0"/>
          </a:xfrm>
          <a:prstGeom prst="line">
            <a:avLst/>
          </a:prstGeom>
          <a:ln w="38160">
            <a:solidFill>
              <a:srgbClr val="69a3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27000" y="1468440"/>
          <a:ext cx="7404120" cy="3459240"/>
        </p:xfrm>
        <a:graphic>
          <a:graphicData uri="http://schemas.openxmlformats.org/drawingml/2006/table">
            <a:tbl>
              <a:tblPr/>
              <a:tblGrid>
                <a:gridCol w="2522520"/>
                <a:gridCol w="1220760"/>
                <a:gridCol w="1220760"/>
                <a:gridCol w="1219320"/>
                <a:gridCol w="1220760"/>
              </a:tblGrid>
              <a:tr h="43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 Gy (n = 2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orst nonhemato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orst 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sophagitis/dyspha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reported (N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 Gy (n = 2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5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orst nonhemato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orst 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sophagitis/dyspha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9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866880" y="4986360"/>
            <a:ext cx="768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Included: Pulmonary AE (n = 1) and sudden death (n =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Included: Pulmonary, hemorrhagic AEs (n = 2 each), thrombosis (n =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on the high-dose arms had a 56% greater risk of death than patients on the standard-dose ar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a higher rate of local esophagitis in the high-dose arms (20.9% vs 7%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rates of local failure were higher on the high-dose arms. This does not account for the overall survival differenc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re was a 37% increased risk of developing local failure in the high-dose arm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no clear reason for the poorer survival on the high-dose arm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ssible reasons include unreported toxicities, increased heart dose, extended therapy, Grade 5 events or a combination of these factor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Aura Herrmann</cp:lastModifiedBy>
  <cp:lastPrinted>2013-03-06T20:38:39Z</cp:lastPrinted>
  <dcterms:modified xsi:type="dcterms:W3CDTF">2013-07-22T21:04:08Z</dcterms:modified>
  <cp:revision>730</cp:revision>
  <dc:subject/>
  <dc:title>Research To Practice</dc:title>
</cp:coreProperties>
</file>