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4556C-7E57-477F-8D5B-A3FA2C78A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B522E-87E3-4491-891B-EFB3714F8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369789-C389-4F8F-8C34-F191DC10E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51E64E-ACC2-442F-A65D-1C013DAB2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ubTitle"/>
          </p:nvPr>
        </p:nvSpPr>
        <p:spPr>
          <a:xfrm>
            <a:off x="457200" y="20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E442E8-0DA6-4F3D-A2F9-2EDB23A3C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F5A65F-59BC-4112-B993-C744D457E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C81AA2-D07F-4805-8B5C-EEB6CB362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AFE165-574E-4FD7-8832-B89F24045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A848C9-CB4D-42DF-A89B-67361DE9E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5C7C82-2BA5-4C4B-828D-E36FF18AA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322380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00516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44244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64" name="PlaceHolder 6"/>
          <p:cNvSpPr>
            <a:spLocks noGrp="1"/>
          </p:cNvSpPr>
          <p:nvPr>
            <p:ph/>
          </p:nvPr>
        </p:nvSpPr>
        <p:spPr>
          <a:xfrm>
            <a:off x="322380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65" name="PlaceHolder 7"/>
          <p:cNvSpPr>
            <a:spLocks noGrp="1"/>
          </p:cNvSpPr>
          <p:nvPr>
            <p:ph/>
          </p:nvPr>
        </p:nvSpPr>
        <p:spPr>
          <a:xfrm>
            <a:off x="600516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355F3E-334C-47E9-8E25-E676AB884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76129-6CF5-442B-97BC-A00A5DA37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2380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516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4244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2380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516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B1DA6-C729-4953-A4AA-86B3BEC59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AE0B0-C9D1-4B12-B65B-9C2F54D8F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455DB-31A4-40CF-AC87-DD0E4D258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2C120-6003-4AE6-A5D5-845904E96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37035-2B8E-42BC-AD56-D0A516445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EB325-0D5A-41E6-BDC0-5F4B3C997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0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73D21-2C2F-4312-B3AF-85F9E08E0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FAE08-D0CD-483A-A150-416D647D2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30C3E-A980-4438-B760-2826685D8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12401-1993-4A94-A2C9-B941106F1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33BAC-0E2A-4211-A074-5FD04A937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B05B8-6B90-4104-90D5-CB4A5756B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AAA56-4D81-44D0-9550-771A8DB90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2380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0516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4244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2380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0516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D657F-B464-4045-B371-1E6500B36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9FD340-BFE0-48F1-8162-F6F416E2E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EF9CA8-0D19-4DF9-AE57-AA458F46F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031AA7-CBF4-4163-8959-6996560E7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2FFDEA-699E-463D-A886-0785827D5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4C66B4-996E-45F9-906E-F246E3936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7C77E-EA3B-49FB-B40B-F273F7395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0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CDE9C4-3412-4A2F-8B30-E4CB6ED7B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EE4870-6792-405A-B76F-3FE0849E8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62EFEE-E9FA-4694-A99B-73286EA66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D982D7-D36E-43D6-B390-ADBF176E9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072971-3E50-4E94-9E67-A96FCD1D8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BAA7FB-4A04-4CE0-B92B-A57FC20EC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2380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0516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4244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2380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0516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2DE8EF-5747-40A4-AB42-4D82DA2D0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08392-8ABA-41B7-8D4C-A2D150601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0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2380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0516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4244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2380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0516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FB5DA1-84E1-4345-B285-88444CBB0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1662E-8289-4849-9C6B-B8BE2FA73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7E8314-5DDE-4EF2-9437-E6DD2DE36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6318EA-E166-46F6-8A2D-1C1250C78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32BC1E-5F3F-4AED-9322-66271D37A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97A834-F9B9-4457-98C6-DAA2AF9E1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20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E5E1F7-11BC-436D-AD3C-8C766BE0C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03AFFE-6A8B-4885-AB8B-0627BA90B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6FE352-698E-454D-B4C5-CAD09B214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DD89B2-7F16-4836-A21E-0960BF287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BC55FB-2E71-432A-8191-54CE968BE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5FDC3B-D616-4F69-B466-1B3449750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44B94-8AE0-45F9-B93D-E12DEC2FA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2380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0516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4244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2380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0516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992722-5E0F-4685-BC94-207F90027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457200" y="20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7CC32-A106-4AB8-A112-4E86B1033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22380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00516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4244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22380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600516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A4D414-A5D6-4D46-9ECF-D834BF61E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2F4AE9-A122-4F62-A483-643BDCC6C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F45E29-BBE7-44F2-9456-C9BC66BD4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FD826E-1B9C-464E-9C1F-C55DA156E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86040C-3805-4326-A927-2061C213A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ubTitle"/>
          </p:nvPr>
        </p:nvSpPr>
        <p:spPr>
          <a:xfrm>
            <a:off x="457200" y="20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6156D6-909E-404B-9269-3CA67E7BB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A0411E-25CD-47CB-9343-DA4E03505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2ECDE-1056-4B67-9D17-BDC6F821F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214C6D-C610-4AC8-8816-1BE0F81DD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6B1D8F-6A1E-43F4-B519-9A99E49C6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1E0CD5-C5BA-47EB-9602-677678D0D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B91AA7-960D-4814-AFEE-6AEC8CF45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322380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600516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4244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83" name="PlaceHolder 6"/>
          <p:cNvSpPr>
            <a:spLocks noGrp="1"/>
          </p:cNvSpPr>
          <p:nvPr>
            <p:ph/>
          </p:nvPr>
        </p:nvSpPr>
        <p:spPr>
          <a:xfrm>
            <a:off x="322380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84" name="PlaceHolder 7"/>
          <p:cNvSpPr>
            <a:spLocks noGrp="1"/>
          </p:cNvSpPr>
          <p:nvPr>
            <p:ph/>
          </p:nvPr>
        </p:nvSpPr>
        <p:spPr>
          <a:xfrm>
            <a:off x="600516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F9517B-3E57-4DDE-AE6C-28540E6CF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ubTitle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F83DE-1AAE-429E-8600-27BDA48CA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ubTitle"/>
          </p:nvPr>
        </p:nvSpPr>
        <p:spPr>
          <a:xfrm>
            <a:off x="457200" y="20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322380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00516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4244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22" name="PlaceHolder 6"/>
          <p:cNvSpPr>
            <a:spLocks noGrp="1"/>
          </p:cNvSpPr>
          <p:nvPr>
            <p:ph/>
          </p:nvPr>
        </p:nvSpPr>
        <p:spPr>
          <a:xfrm>
            <a:off x="322380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23" name="PlaceHolder 7"/>
          <p:cNvSpPr>
            <a:spLocks noGrp="1"/>
          </p:cNvSpPr>
          <p:nvPr>
            <p:ph/>
          </p:nvPr>
        </p:nvSpPr>
        <p:spPr>
          <a:xfrm>
            <a:off x="600516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6F67E3-21B7-4DF7-AA69-0409A5396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BC62B1-E8DE-44E0-8AC0-6B4AF7000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C82E46-C78B-48C5-A892-C04AAD9DD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46484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8E8AA4B-B034-4956-8B34-ADB5A458217C}" type="datetime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A90854C-98CC-4D49-801A-6A40F125AE8E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46484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26D141A-8604-4A4A-91BB-EDE589591204}" type="datetime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C3D230B-CE8A-4D76-91FD-1808D2B11195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46484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1B39BF7-D31F-4BC7-B5D4-D56FD68E9104}" type="datetime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D3678D6-5A13-46D5-B18D-24BB4ED5A667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YiRNHL_TitlePageBarv1si"/>
          <p:cNvPicPr/>
          <p:nvPr/>
        </p:nvPicPr>
        <p:blipFill>
          <a:blip r:embed="rId2"/>
          <a:stretch/>
        </p:blipFill>
        <p:spPr>
          <a:xfrm>
            <a:off x="442800" y="4707000"/>
            <a:ext cx="8226360" cy="152568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46484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8" descr="YiRNHL_Intro_v1si"/>
          <p:cNvPicPr/>
          <p:nvPr/>
        </p:nvPicPr>
        <p:blipFill>
          <a:blip r:embed="rId2"/>
          <a:stretch/>
        </p:blipFill>
        <p:spPr>
          <a:xfrm>
            <a:off x="449280" y="1170000"/>
            <a:ext cx="8226360" cy="457056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46484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D7B1EF0-8976-401F-9088-22690051D817}" type="datetime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3BAC17F-75FA-4CFB-BF1D-445731EEA2E5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2" descr="YiRNHL_TitlePageBarv1si"/>
          <p:cNvPicPr/>
          <p:nvPr/>
        </p:nvPicPr>
        <p:blipFill>
          <a:blip r:embed="rId2"/>
          <a:stretch/>
        </p:blipFill>
        <p:spPr>
          <a:xfrm>
            <a:off x="442800" y="4707000"/>
            <a:ext cx="8226360" cy="152568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46484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8" descr="YiRNHL_Intro_v1si"/>
          <p:cNvPicPr/>
          <p:nvPr/>
        </p:nvPicPr>
        <p:blipFill>
          <a:blip r:embed="rId2"/>
          <a:stretch/>
        </p:blipFill>
        <p:spPr>
          <a:xfrm>
            <a:off x="449280" y="1170000"/>
            <a:ext cx="8226360" cy="4570560"/>
          </a:xfrm>
          <a:prstGeom prst="rect">
            <a:avLst/>
          </a:prstGeom>
          <a:ln w="0">
            <a:noFill/>
          </a:ln>
        </p:spPr>
      </p:pic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46484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0AB73B1-45AD-4ACD-A715-479FAAE333B0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85BFAF6-4601-4E82-918C-15C2727D7BA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Picture 2" descr="YiRNHL_TitlePageBarv1si"/>
          <p:cNvPicPr/>
          <p:nvPr/>
        </p:nvPicPr>
        <p:blipFill>
          <a:blip r:embed="rId2"/>
          <a:stretch/>
        </p:blipFill>
        <p:spPr>
          <a:xfrm>
            <a:off x="442800" y="4707000"/>
            <a:ext cx="8226360" cy="1525680"/>
          </a:xfrm>
          <a:prstGeom prst="rect">
            <a:avLst/>
          </a:prstGeom>
          <a:ln w="0">
            <a:noFill/>
          </a:ln>
        </p:spPr>
      </p:pic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46484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Picture 8" descr="YiRNHL_Intro_v1si"/>
          <p:cNvPicPr/>
          <p:nvPr/>
        </p:nvPicPr>
        <p:blipFill>
          <a:blip r:embed="rId2"/>
          <a:stretch/>
        </p:blipFill>
        <p:spPr>
          <a:xfrm>
            <a:off x="449280" y="1170000"/>
            <a:ext cx="8226360" cy="4570560"/>
          </a:xfrm>
          <a:prstGeom prst="rect">
            <a:avLst/>
          </a:prstGeom>
          <a:ln w="0">
            <a:noFill/>
          </a:ln>
        </p:spPr>
      </p:pic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46484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7978C4F-8399-4CB3-BEFF-58BF5C28156A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7B024F6-1C85-498D-92B1-DD103B57F83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4"/>
          <p:cNvSpPr/>
          <p:nvPr/>
        </p:nvSpPr>
        <p:spPr>
          <a:xfrm>
            <a:off x="442800" y="496800"/>
            <a:ext cx="8226360" cy="42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365760" tIns="320040" bIns="457200" anchor="b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Biomarkers France: Preliminary Results of Routine EGFR, HER2, KRAS, BRAF, PI3KCA Mutations Detection and EML4-ALK Gene Fusion Assessment on the First 10,000 Non-Small Cell Lung Cancer (NSCLC) Patient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5"/>
          <p:cNvSpPr/>
          <p:nvPr/>
        </p:nvSpPr>
        <p:spPr>
          <a:xfrm>
            <a:off x="455760" y="4707000"/>
            <a:ext cx="8226360" cy="15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90000" tIns="46800" bIns="46800" anchor="ctr">
            <a:noAutofit/>
          </a:bodyPr>
          <a:p>
            <a:pPr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Barlesi F et a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200" spc="-1" strike="noStrike">
                <a:solidFill>
                  <a:srgbClr val="464847"/>
                </a:solidFill>
                <a:latin typeface="Arial"/>
              </a:rPr>
              <a:t>Proc ASCO </a:t>
            </a: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2013;Abstract 8000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6" name=""/>
          <p:cNvGraphicFramePr/>
          <p:nvPr/>
        </p:nvGraphicFramePr>
        <p:xfrm>
          <a:off x="977760" y="1536840"/>
          <a:ext cx="7302600" cy="2873160"/>
        </p:xfrm>
        <a:graphic>
          <a:graphicData uri="http://schemas.openxmlformats.org/drawingml/2006/table">
            <a:tbl>
              <a:tblPr/>
              <a:tblGrid>
                <a:gridCol w="1778040"/>
                <a:gridCol w="1381320"/>
                <a:gridCol w="1380960"/>
                <a:gridCol w="1381320"/>
                <a:gridCol w="1380960"/>
              </a:tblGrid>
              <a:tr h="657000"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RAS 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n = 675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RAF 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n = 29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I3K 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n = 3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2 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n = 1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</a:tr>
              <a:tr h="44460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Chemotherap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60.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6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3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3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4280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EGFR TK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.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</a:tr>
              <a:tr h="44316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Tri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2.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4280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Oth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3.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2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3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</a:tr>
              <a:tr h="44280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BS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23.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2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3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4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e of First-Line Therapy by Biomarker and Preliminary Overall Survival Data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Footer Placeholder 4"/>
          <p:cNvSpPr/>
          <p:nvPr/>
        </p:nvSpPr>
        <p:spPr>
          <a:xfrm>
            <a:off x="457200" y="6046920"/>
            <a:ext cx="822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Barlesi F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</a:rPr>
              <a:t>Proc ASCO 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2013;Abstract 800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Rectangle 31"/>
          <p:cNvSpPr/>
          <p:nvPr/>
        </p:nvSpPr>
        <p:spPr>
          <a:xfrm>
            <a:off x="977760" y="4683240"/>
            <a:ext cx="735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47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*</a:t>
            </a:r>
            <a:r>
              <a:rPr b="0" lang="en-US" sz="1800" spc="-1" strike="noStrike" baseline="30000">
                <a:solidFill>
                  <a:srgbClr val="464847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Preliminary median overall survival data for 70% of the patient population was 11.4 months (95% CI: 10.5-not reach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tIns="228600" anchor="t">
            <a:normAutofit/>
          </a:bodyPr>
          <a:p>
            <a:pPr marL="343080" indent="-343080">
              <a:spcAft>
                <a:spcPts val="601"/>
              </a:spcAft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Tumor profiling in NSCLC is feasible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The Biomarker France study is a national effort to provide data on: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Aft>
                <a:spcPts val="601"/>
              </a:spcAft>
              <a:buClr>
                <a:srgbClr val="464847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Major patient characteristics</a:t>
            </a:r>
            <a:endParaRPr b="0" lang="en-US" sz="18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Aft>
                <a:spcPts val="601"/>
              </a:spcAft>
              <a:buClr>
                <a:srgbClr val="464847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Tissue collection issues</a:t>
            </a:r>
            <a:endParaRPr b="0" lang="en-US" sz="18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Aft>
                <a:spcPts val="601"/>
              </a:spcAft>
              <a:buClr>
                <a:srgbClr val="464847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Rate of identified targets</a:t>
            </a:r>
            <a:endParaRPr b="0" lang="en-US" sz="18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Aft>
                <a:spcPts val="601"/>
              </a:spcAft>
              <a:buClr>
                <a:srgbClr val="464847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Impact of biomarkers on treatment decisions and outcomes</a:t>
            </a:r>
            <a:endParaRPr b="0" lang="en-US" sz="18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Tumor profiling identified a known target in 46% of samples and contributed to the management of 57% of patient cases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This study includes the largest cohort of unselected Caucasian patients with NSCLC with an expectation of 19,000 patients for inclusion in the final data analysis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title"/>
          </p:nvPr>
        </p:nvSpPr>
        <p:spPr>
          <a:xfrm>
            <a:off x="4716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Footer Placeholder 4"/>
          <p:cNvSpPr/>
          <p:nvPr/>
        </p:nvSpPr>
        <p:spPr>
          <a:xfrm>
            <a:off x="457200" y="6046920"/>
            <a:ext cx="822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Barlesi F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</a:rPr>
              <a:t>Proc ASCO 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2013;Abstract 800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7560"/>
            <a:ext cx="836928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ussant Conclus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tIns="228600" anchor="t">
            <a:normAutofit/>
          </a:bodyPr>
          <a:p>
            <a:pPr marL="343080" indent="-343080">
              <a:spcBef>
                <a:spcPts val="499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This is an impressive “mammoth-scale” national effort including almost 10,000 patients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The dual goals of personalizing therapy and centrally collecting data about patients’ tumors, treatments and outcomes will be invaluable for research in years to come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The local standard genotyping assays used in the study emulate the real world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Newly emerging “drugable” genotypes such as ROS1 and RET rearrangements should be added to this effort in real time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Because genotyping needs to go hand in hand with clinical trials, it is important to increase the availability of such trials for patients when the disease genotype is identified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25" name="Footer Placeholder 4"/>
          <p:cNvSpPr/>
          <p:nvPr/>
        </p:nvSpPr>
        <p:spPr>
          <a:xfrm>
            <a:off x="457200" y="6046920"/>
            <a:ext cx="822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Sequist LV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</a:rPr>
              <a:t>Proc ASCO 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2013;Discussa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7560"/>
            <a:ext cx="836928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rodu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tIns="228600" anchor="t">
            <a:normAutofit/>
          </a:bodyPr>
          <a:p>
            <a:pPr marL="343080" indent="-343080">
              <a:lnSpc>
                <a:spcPts val="2299"/>
              </a:lnSpc>
              <a:spcBef>
                <a:spcPts val="300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The ASCO clinical practice guidelines recommend that patients with Stage IV NSCLC be screened for the oncogenic drivers EGFR and ALK to determine whether they are candidates for targeted therapies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lnSpc>
                <a:spcPts val="2299"/>
              </a:lnSpc>
              <a:spcBef>
                <a:spcPts val="300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Based on the routine screening for alterations in these genes, personalized medicine is now a reality in advanced NSCLC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lnSpc>
                <a:spcPts val="2299"/>
              </a:lnSpc>
              <a:spcBef>
                <a:spcPts val="300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Also, patients may be enrolled in “bio-guided” clinical trials based on tumor profiling for other emerging biomarkers such as mutations in KRAS, BRAF or PI3 kinase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lnSpc>
                <a:spcPts val="2299"/>
              </a:lnSpc>
              <a:spcBef>
                <a:spcPts val="300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Current study objective: 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464847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Assess 4 tumor biomarkers (HER2, KRAS, BRAF, PI3KCA), in addition to EGFR and ALK, from the first 10,000 samples from a database with epidemiological, clinical and therapeutic data for patients with NSCLC. </a:t>
            </a:r>
            <a:endParaRPr b="0" lang="en-US" sz="18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70" name="Footer Placeholder 4"/>
          <p:cNvSpPr/>
          <p:nvPr/>
        </p:nvSpPr>
        <p:spPr>
          <a:xfrm>
            <a:off x="457200" y="6046920"/>
            <a:ext cx="822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Barlesi F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</a:rPr>
              <a:t>Proc ASCO 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2013;Abstract 800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7560"/>
            <a:ext cx="836928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udy Metho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tIns="228600" anchor="t">
            <a:normAutofit/>
          </a:bodyPr>
          <a:p>
            <a:pPr marL="343080" indent="-343080">
              <a:spcBef>
                <a:spcPts val="499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Starting in April 2012, data on the analyses of the biomarkers (HER2, KRAS, BRAF, PI3KCA) were prospectively collected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Routine biomarker screening of patients/samples was performed on 28 platforms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Biomarker results were sent to the prescribing physician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Collected data were logged into the Biomarkers France database (IFCT)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Database access was granted to the prescribing physician in order to complete patients’ data, including: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464847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9 demographic characteristics </a:t>
            </a:r>
            <a:endParaRPr b="0" lang="en-US" sz="18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464847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13 therapeutic factors</a:t>
            </a:r>
            <a:endParaRPr b="0" lang="en-US" sz="18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73" name="Footer Placeholder 4"/>
          <p:cNvSpPr/>
          <p:nvPr/>
        </p:nvSpPr>
        <p:spPr>
          <a:xfrm>
            <a:off x="457200" y="6046920"/>
            <a:ext cx="822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Barlesi F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</a:rPr>
              <a:t>Proc ASCO 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2013;Abstract 800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31"/>
          <p:cNvSpPr/>
          <p:nvPr/>
        </p:nvSpPr>
        <p:spPr>
          <a:xfrm>
            <a:off x="1003320" y="4633920"/>
            <a:ext cx="7504200" cy="96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ID = ident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464847"/>
                </a:solidFill>
                <a:latin typeface="Arial"/>
              </a:rPr>
              <a:t>Primary objective: </a:t>
            </a: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Provision of data on patient/tumor characteristics, targeted therapies and impact of treatment choice on NSCL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ta Analysis — Flow Cha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76" name=""/>
          <p:cNvGraphicFramePr/>
          <p:nvPr/>
        </p:nvGraphicFramePr>
        <p:xfrm>
          <a:off x="1092240" y="3565440"/>
          <a:ext cx="1638360" cy="955800"/>
        </p:xfrm>
        <a:graphic>
          <a:graphicData uri="http://schemas.openxmlformats.org/drawingml/2006/table">
            <a:tbl>
              <a:tblPr/>
              <a:tblGrid>
                <a:gridCol w="1638360"/>
              </a:tblGrid>
              <a:tr h="955800">
                <a:tc>
                  <a:txBody>
                    <a:bodyPr lIns="90000" rIns="90000" tIns="45360" bIns="4536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Samples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(n = 9,91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767878"/>
                      </a:solidFill>
                    </a:lnL>
                    <a:lnR w="13680">
                      <a:solidFill>
                        <a:srgbClr val="767878"/>
                      </a:solidFill>
                    </a:lnR>
                    <a:lnT w="13680">
                      <a:solidFill>
                        <a:srgbClr val="767878"/>
                      </a:solidFill>
                    </a:lnT>
                    <a:lnB w="13680">
                      <a:solidFill>
                        <a:srgbClr val="767878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77" name="Line 2"/>
          <p:cNvSpPr/>
          <p:nvPr/>
        </p:nvSpPr>
        <p:spPr>
          <a:xfrm>
            <a:off x="4543560" y="2260440"/>
            <a:ext cx="0" cy="182880"/>
          </a:xfrm>
          <a:prstGeom prst="line">
            <a:avLst/>
          </a:prstGeom>
          <a:ln w="28440">
            <a:solidFill>
              <a:srgbClr val="7678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Line 14"/>
          <p:cNvSpPr/>
          <p:nvPr/>
        </p:nvSpPr>
        <p:spPr>
          <a:xfrm>
            <a:off x="2844720" y="2443320"/>
            <a:ext cx="3730680" cy="0"/>
          </a:xfrm>
          <a:prstGeom prst="line">
            <a:avLst/>
          </a:prstGeom>
          <a:ln w="28440">
            <a:solidFill>
              <a:srgbClr val="7678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9" name=""/>
          <p:cNvGraphicFramePr/>
          <p:nvPr/>
        </p:nvGraphicFramePr>
        <p:xfrm>
          <a:off x="1670040" y="2631960"/>
          <a:ext cx="2482920" cy="552600"/>
        </p:xfrm>
        <a:graphic>
          <a:graphicData uri="http://schemas.openxmlformats.org/drawingml/2006/table">
            <a:tbl>
              <a:tblPr/>
              <a:tblGrid>
                <a:gridCol w="2482920"/>
              </a:tblGrid>
              <a:tr h="5526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Analyzed da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767878"/>
                      </a:solidFill>
                    </a:lnL>
                    <a:lnR w="13680">
                      <a:solidFill>
                        <a:srgbClr val="767878"/>
                      </a:solidFill>
                    </a:lnR>
                    <a:lnT w="13680">
                      <a:solidFill>
                        <a:srgbClr val="767878"/>
                      </a:solidFill>
                    </a:lnT>
                    <a:lnB w="13680">
                      <a:solidFill>
                        <a:srgbClr val="767878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80" name=""/>
          <p:cNvGraphicFramePr/>
          <p:nvPr/>
        </p:nvGraphicFramePr>
        <p:xfrm>
          <a:off x="5330880" y="2630520"/>
          <a:ext cx="2482920" cy="554040"/>
        </p:xfrm>
        <a:graphic>
          <a:graphicData uri="http://schemas.openxmlformats.org/drawingml/2006/table">
            <a:tbl>
              <a:tblPr/>
              <a:tblGrid>
                <a:gridCol w="2482920"/>
              </a:tblGrid>
              <a:tr h="5540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Excluded da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767878"/>
                      </a:solidFill>
                    </a:lnL>
                    <a:lnR w="13680">
                      <a:solidFill>
                        <a:srgbClr val="767878"/>
                      </a:solidFill>
                    </a:lnR>
                    <a:lnT w="13680">
                      <a:solidFill>
                        <a:srgbClr val="767878"/>
                      </a:solidFill>
                    </a:lnT>
                    <a:lnB w="13680">
                      <a:solidFill>
                        <a:srgbClr val="767878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81" name="Line 2"/>
          <p:cNvSpPr/>
          <p:nvPr/>
        </p:nvSpPr>
        <p:spPr>
          <a:xfrm>
            <a:off x="2857680" y="2446200"/>
            <a:ext cx="0" cy="184320"/>
          </a:xfrm>
          <a:prstGeom prst="line">
            <a:avLst/>
          </a:prstGeom>
          <a:ln w="28440">
            <a:solidFill>
              <a:srgbClr val="767878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Line 2"/>
          <p:cNvSpPr/>
          <p:nvPr/>
        </p:nvSpPr>
        <p:spPr>
          <a:xfrm>
            <a:off x="6575400" y="2448000"/>
            <a:ext cx="0" cy="182520"/>
          </a:xfrm>
          <a:prstGeom prst="line">
            <a:avLst/>
          </a:prstGeom>
          <a:ln w="28440">
            <a:solidFill>
              <a:srgbClr val="767878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Line 2"/>
          <p:cNvSpPr/>
          <p:nvPr/>
        </p:nvSpPr>
        <p:spPr>
          <a:xfrm>
            <a:off x="1778040" y="3362400"/>
            <a:ext cx="0" cy="183960"/>
          </a:xfrm>
          <a:prstGeom prst="line">
            <a:avLst/>
          </a:prstGeom>
          <a:ln w="28440">
            <a:solidFill>
              <a:srgbClr val="767878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Line 2"/>
          <p:cNvSpPr/>
          <p:nvPr/>
        </p:nvSpPr>
        <p:spPr>
          <a:xfrm>
            <a:off x="2844720" y="3187800"/>
            <a:ext cx="0" cy="183960"/>
          </a:xfrm>
          <a:prstGeom prst="line">
            <a:avLst/>
          </a:prstGeom>
          <a:ln w="28440">
            <a:solidFill>
              <a:srgbClr val="7678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Line 14"/>
          <p:cNvSpPr/>
          <p:nvPr/>
        </p:nvSpPr>
        <p:spPr>
          <a:xfrm>
            <a:off x="1778040" y="3375000"/>
            <a:ext cx="2209680" cy="0"/>
          </a:xfrm>
          <a:prstGeom prst="line">
            <a:avLst/>
          </a:prstGeom>
          <a:ln w="28440">
            <a:solidFill>
              <a:srgbClr val="7678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Footer Placeholder 4"/>
          <p:cNvSpPr/>
          <p:nvPr/>
        </p:nvSpPr>
        <p:spPr>
          <a:xfrm>
            <a:off x="457200" y="6046920"/>
            <a:ext cx="822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Barlesi F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</a:rPr>
              <a:t>Proc ASCO 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2013;Abstract 800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7" name=""/>
          <p:cNvGraphicFramePr/>
          <p:nvPr/>
        </p:nvGraphicFramePr>
        <p:xfrm>
          <a:off x="1003320" y="1405080"/>
          <a:ext cx="7251840" cy="855360"/>
        </p:xfrm>
        <a:graphic>
          <a:graphicData uri="http://schemas.openxmlformats.org/drawingml/2006/table">
            <a:tbl>
              <a:tblPr/>
              <a:tblGrid>
                <a:gridCol w="7251840"/>
              </a:tblGrid>
              <a:tr h="8553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Analysis of collected data from patients with NSCLC (Jan 201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N = 1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767878"/>
                      </a:solidFill>
                    </a:lnL>
                    <a:lnR w="13680">
                      <a:solidFill>
                        <a:srgbClr val="767878"/>
                      </a:solidFill>
                    </a:lnR>
                    <a:lnT w="13680">
                      <a:solidFill>
                        <a:srgbClr val="767878"/>
                      </a:solidFill>
                    </a:lnT>
                    <a:lnB w="13680">
                      <a:solidFill>
                        <a:srgbClr val="767878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88" name=""/>
          <p:cNvGraphicFramePr/>
          <p:nvPr/>
        </p:nvGraphicFramePr>
        <p:xfrm>
          <a:off x="2978280" y="3575160"/>
          <a:ext cx="1565280" cy="946080"/>
        </p:xfrm>
        <a:graphic>
          <a:graphicData uri="http://schemas.openxmlformats.org/drawingml/2006/table">
            <a:tbl>
              <a:tblPr/>
              <a:tblGrid>
                <a:gridCol w="1565280"/>
              </a:tblGrid>
              <a:tr h="946080">
                <a:tc>
                  <a:txBody>
                    <a:bodyPr lIns="90000" rIns="90000" tIns="45360" bIns="4536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Patients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(n = 9,464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767878"/>
                      </a:solidFill>
                    </a:lnL>
                    <a:lnR w="13680">
                      <a:solidFill>
                        <a:srgbClr val="767878"/>
                      </a:solidFill>
                    </a:lnR>
                    <a:lnT w="13680">
                      <a:solidFill>
                        <a:srgbClr val="767878"/>
                      </a:solidFill>
                    </a:lnT>
                    <a:lnB w="13680">
                      <a:solidFill>
                        <a:srgbClr val="767878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89" name="Line 2"/>
          <p:cNvSpPr/>
          <p:nvPr/>
        </p:nvSpPr>
        <p:spPr>
          <a:xfrm>
            <a:off x="3975120" y="3375000"/>
            <a:ext cx="0" cy="184320"/>
          </a:xfrm>
          <a:prstGeom prst="line">
            <a:avLst/>
          </a:prstGeom>
          <a:ln w="28440">
            <a:solidFill>
              <a:srgbClr val="767878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0" name=""/>
          <p:cNvGraphicFramePr/>
          <p:nvPr/>
        </p:nvGraphicFramePr>
        <p:xfrm>
          <a:off x="4905360" y="3552840"/>
          <a:ext cx="1469880" cy="968400"/>
        </p:xfrm>
        <a:graphic>
          <a:graphicData uri="http://schemas.openxmlformats.org/drawingml/2006/table">
            <a:tbl>
              <a:tblPr/>
              <a:tblGrid>
                <a:gridCol w="1469880"/>
              </a:tblGrid>
              <a:tr h="968400">
                <a:tc>
                  <a:txBody>
                    <a:bodyPr lIns="90000" rIns="90000" tIns="45360" bIns="4536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Other cancer type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(n = 1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767878"/>
                      </a:solidFill>
                    </a:lnL>
                    <a:lnR w="13680">
                      <a:solidFill>
                        <a:srgbClr val="767878"/>
                      </a:solidFill>
                    </a:lnR>
                    <a:lnT w="13680">
                      <a:solidFill>
                        <a:srgbClr val="767878"/>
                      </a:solidFill>
                    </a:lnT>
                    <a:lnB w="13680">
                      <a:solidFill>
                        <a:srgbClr val="767878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91" name="Line 2"/>
          <p:cNvSpPr/>
          <p:nvPr/>
        </p:nvSpPr>
        <p:spPr>
          <a:xfrm>
            <a:off x="5705640" y="3349800"/>
            <a:ext cx="0" cy="183960"/>
          </a:xfrm>
          <a:prstGeom prst="line">
            <a:avLst/>
          </a:prstGeom>
          <a:ln w="28440">
            <a:solidFill>
              <a:srgbClr val="767878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Line 2"/>
          <p:cNvSpPr/>
          <p:nvPr/>
        </p:nvSpPr>
        <p:spPr>
          <a:xfrm>
            <a:off x="6581880" y="3174840"/>
            <a:ext cx="0" cy="184320"/>
          </a:xfrm>
          <a:prstGeom prst="line">
            <a:avLst/>
          </a:prstGeom>
          <a:ln w="28440">
            <a:solidFill>
              <a:srgbClr val="7678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Line 14"/>
          <p:cNvSpPr/>
          <p:nvPr/>
        </p:nvSpPr>
        <p:spPr>
          <a:xfrm>
            <a:off x="5705640" y="3349800"/>
            <a:ext cx="1850760" cy="0"/>
          </a:xfrm>
          <a:prstGeom prst="line">
            <a:avLst/>
          </a:prstGeom>
          <a:ln w="28440">
            <a:solidFill>
              <a:srgbClr val="7678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4" name=""/>
          <p:cNvGraphicFramePr/>
          <p:nvPr/>
        </p:nvGraphicFramePr>
        <p:xfrm>
          <a:off x="6581880" y="3562200"/>
          <a:ext cx="1508040" cy="968400"/>
        </p:xfrm>
        <a:graphic>
          <a:graphicData uri="http://schemas.openxmlformats.org/drawingml/2006/table">
            <a:tbl>
              <a:tblPr/>
              <a:tblGrid>
                <a:gridCol w="1508040"/>
              </a:tblGrid>
              <a:tr h="968400">
                <a:tc>
                  <a:txBody>
                    <a:bodyPr lIns="90000" rIns="90000" tIns="45360" bIns="4536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Unknown patient ID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(n = 77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767878"/>
                      </a:solidFill>
                    </a:lnL>
                    <a:lnR w="13680">
                      <a:solidFill>
                        <a:srgbClr val="767878"/>
                      </a:solidFill>
                    </a:lnR>
                    <a:lnT w="13680">
                      <a:solidFill>
                        <a:srgbClr val="767878"/>
                      </a:solidFill>
                    </a:lnT>
                    <a:lnB w="13680">
                      <a:solidFill>
                        <a:srgbClr val="767878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95" name="Line 2"/>
          <p:cNvSpPr/>
          <p:nvPr/>
        </p:nvSpPr>
        <p:spPr>
          <a:xfrm>
            <a:off x="7547040" y="3362400"/>
            <a:ext cx="0" cy="183960"/>
          </a:xfrm>
          <a:prstGeom prst="line">
            <a:avLst/>
          </a:prstGeom>
          <a:ln w="28440">
            <a:solidFill>
              <a:srgbClr val="767878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6" name=""/>
          <p:cNvGraphicFramePr/>
          <p:nvPr/>
        </p:nvGraphicFramePr>
        <p:xfrm>
          <a:off x="927000" y="1492200"/>
          <a:ext cx="7378920" cy="3463920"/>
        </p:xfrm>
        <a:graphic>
          <a:graphicData uri="http://schemas.openxmlformats.org/drawingml/2006/table">
            <a:tbl>
              <a:tblPr/>
              <a:tblGrid>
                <a:gridCol w="4567320"/>
                <a:gridCol w="2811600"/>
              </a:tblGrid>
              <a:tr h="476280"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haracterist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 = 9,46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</a:tr>
              <a:tr h="42696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Median age (rang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64.5 years (21.4-97.7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696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Ma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6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</a:tr>
              <a:tr h="42552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Ethnicity: Asian/oth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.2%/98.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732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Current/former/never smok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38.1%/44.2%/17.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</a:tr>
              <a:tr h="42696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ECOG PS: 0-1/≥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72.7%/27.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696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Previous history of cancer: Patient/famil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20.2%/14.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</a:tr>
              <a:tr h="42696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Disease stage: I-II/IIIB/IV/relap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4.6%/71.8%/7.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tient Demographics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Footer Placeholder 4"/>
          <p:cNvSpPr/>
          <p:nvPr/>
        </p:nvSpPr>
        <p:spPr>
          <a:xfrm>
            <a:off x="457200" y="6046920"/>
            <a:ext cx="822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Barlesi F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</a:rPr>
              <a:t>Proc ASCO 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2013;Abstract 800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ectangle 31"/>
          <p:cNvSpPr/>
          <p:nvPr/>
        </p:nvSpPr>
        <p:spPr>
          <a:xfrm>
            <a:off x="871560" y="5076720"/>
            <a:ext cx="748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47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*</a:t>
            </a:r>
            <a:r>
              <a:rPr b="0" lang="en-US" sz="1800" spc="-1" strike="noStrike" baseline="30000">
                <a:solidFill>
                  <a:srgbClr val="464847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According to available data as completed by physician at the time of 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0" name=""/>
          <p:cNvGraphicFramePr/>
          <p:nvPr/>
        </p:nvGraphicFramePr>
        <p:xfrm>
          <a:off x="927000" y="1474920"/>
          <a:ext cx="7378920" cy="3233520"/>
        </p:xfrm>
        <a:graphic>
          <a:graphicData uri="http://schemas.openxmlformats.org/drawingml/2006/table">
            <a:tbl>
              <a:tblPr/>
              <a:tblGrid>
                <a:gridCol w="4953240"/>
                <a:gridCol w="2425680"/>
              </a:tblGrid>
              <a:tr h="500040"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haracterist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 = 9,9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</a:tr>
              <a:tr h="75240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Sample collection: Bronchoscopy/surge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             </a:t>
                      </a: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Transthoracic biopsy/oth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27.5%/24.1%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28%/20.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672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Number of samples analyzed/patient*: 1/2/≥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95.5%/4.3%/0.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</a:tr>
              <a:tr h="39528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NSCLC histology</a:t>
                      </a:r>
                      <a:r>
                        <a:rPr b="0" lang="en-US" sz="1800" spc="-1" strike="noStrike" baseline="30000">
                          <a:solidFill>
                            <a:srgbClr val="464847"/>
                          </a:solidFill>
                          <a:latin typeface="Arial"/>
                        </a:rPr>
                        <a:t>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708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              </a:t>
                      </a: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Adenocarcinoma/large ce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76.1%/3.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</a:tr>
              <a:tr h="39528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              </a:t>
                      </a: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Squamous ce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5.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672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              </a:t>
                      </a: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Other sub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5.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</a:tr>
            </a:tbl>
          </a:graphicData>
        </a:graphic>
      </p:graphicFrame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ple Characteris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Footer Placeholder 4"/>
          <p:cNvSpPr/>
          <p:nvPr/>
        </p:nvSpPr>
        <p:spPr>
          <a:xfrm>
            <a:off x="457200" y="6046920"/>
            <a:ext cx="822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Barlesi F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</a:rPr>
              <a:t>Proc ASCO 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2013;Abstract 800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31"/>
          <p:cNvSpPr/>
          <p:nvPr/>
        </p:nvSpPr>
        <p:spPr>
          <a:xfrm>
            <a:off x="927000" y="4886280"/>
            <a:ext cx="77598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47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*</a:t>
            </a:r>
            <a:r>
              <a:rPr b="0" lang="en-US" sz="1800" spc="-1" strike="noStrike" baseline="30000">
                <a:solidFill>
                  <a:srgbClr val="464847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Median duration of delay between sample collection and analysis: 8 da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47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 baseline="30000">
                <a:solidFill>
                  <a:srgbClr val="464847"/>
                </a:solidFill>
                <a:latin typeface="Arial"/>
              </a:rPr>
              <a:t>† </a:t>
            </a: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Median duration between start of analysis and results: 11 da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4" name=""/>
          <p:cNvGraphicFramePr/>
          <p:nvPr/>
        </p:nvGraphicFramePr>
        <p:xfrm>
          <a:off x="927000" y="1461960"/>
          <a:ext cx="7353360" cy="3218040"/>
        </p:xfrm>
        <a:graphic>
          <a:graphicData uri="http://schemas.openxmlformats.org/drawingml/2006/table">
            <a:tbl>
              <a:tblPr/>
              <a:tblGrid>
                <a:gridCol w="5015160"/>
                <a:gridCol w="2338200"/>
              </a:tblGrid>
              <a:tr h="357480"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omark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 = 9,9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</a:tr>
              <a:tr h="357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KRAS mut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27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5856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EGFR-activating mut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9.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</a:tr>
              <a:tr h="35748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EGFR resistance mut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.8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57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ALK rearrangem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3.7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</a:tr>
              <a:tr h="357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PI3K mut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2.6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5856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BRAF mut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.7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</a:tr>
              <a:tr h="35748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HER2 mut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.9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57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Unknown/oth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53.8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</a:tr>
            </a:tbl>
          </a:graphicData>
        </a:graphic>
      </p:graphicFrame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omarker Assessment from Samp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Footer Placeholder 4"/>
          <p:cNvSpPr/>
          <p:nvPr/>
        </p:nvSpPr>
        <p:spPr>
          <a:xfrm>
            <a:off x="457200" y="6046920"/>
            <a:ext cx="822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Barlesi F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</a:rPr>
              <a:t>Proc ASCO 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2013;Abstract 800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31"/>
          <p:cNvSpPr/>
          <p:nvPr/>
        </p:nvSpPr>
        <p:spPr>
          <a:xfrm>
            <a:off x="927000" y="4788000"/>
            <a:ext cx="7404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47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500" spc="-1" strike="noStrike">
                <a:solidFill>
                  <a:srgbClr val="464847"/>
                </a:solidFill>
                <a:latin typeface="Arial"/>
              </a:rPr>
              <a:t>Double mutations (n = 79): PI3K/KRAS (n = 33); PI3K/EGFR (n = 16); KRAS/ALK </a:t>
            </a:r>
            <a:br>
              <a:rPr sz="1500"/>
            </a:br>
            <a:r>
              <a:rPr b="0" lang="en-US" sz="1500" spc="-1" strike="noStrike">
                <a:solidFill>
                  <a:srgbClr val="464847"/>
                </a:solidFill>
                <a:latin typeface="Arial"/>
              </a:rPr>
              <a:t>(n = 10); KRAS/BRAF (n = 6); KRAS/EGFR (n = 5); ALK/EGFR (n = 3); BRAF/EGFR (n = 2); BRAF/ALK (n = 1); PI3K/ALK (n = 1); PI3K/BRAF (n = 1); HER2/BRAF (n = 1)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8" name=""/>
          <p:cNvGraphicFramePr/>
          <p:nvPr/>
        </p:nvGraphicFramePr>
        <p:xfrm>
          <a:off x="927000" y="1476360"/>
          <a:ext cx="7353360" cy="3591000"/>
        </p:xfrm>
        <a:graphic>
          <a:graphicData uri="http://schemas.openxmlformats.org/drawingml/2006/table">
            <a:tbl>
              <a:tblPr/>
              <a:tblGrid>
                <a:gridCol w="5181840"/>
                <a:gridCol w="2171520"/>
              </a:tblGrid>
              <a:tr h="398520"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eatment choi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 = 9,46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</a:tr>
              <a:tr h="39996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Molecular profiling did not guide Tx: Del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1.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52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Molecular profiling did not guide Tx: Oth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31.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</a:tr>
              <a:tr h="39852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Molecular profiling guided choice of T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56.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996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Chemotherapy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57.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</a:tr>
              <a:tr h="39852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Clinical tri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2.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52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EGFR tyrosine kinase inhibitor (TKI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6.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</a:tr>
              <a:tr h="39996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Best supportive care (BSC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21.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52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Oth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2.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</a:tr>
            </a:tbl>
          </a:graphicData>
        </a:graphic>
      </p:graphicFrame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te of “Bio-Guided” First-Line Treatment for Pati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Footer Placeholder 4"/>
          <p:cNvSpPr/>
          <p:nvPr/>
        </p:nvSpPr>
        <p:spPr>
          <a:xfrm>
            <a:off x="457200" y="6046920"/>
            <a:ext cx="822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Barlesi F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</a:rPr>
              <a:t>Proc ASCO 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2013;Abstract 800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Rectangle 31"/>
          <p:cNvSpPr/>
          <p:nvPr/>
        </p:nvSpPr>
        <p:spPr>
          <a:xfrm>
            <a:off x="977760" y="5189400"/>
            <a:ext cx="735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47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*</a:t>
            </a:r>
            <a:r>
              <a:rPr b="0" lang="en-US" sz="1800" spc="-1" strike="noStrike" baseline="30000">
                <a:solidFill>
                  <a:srgbClr val="464847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Included pemetrexed (36.9%), vinorelbine (6.7%) and a taxane (14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2" name=""/>
          <p:cNvGraphicFramePr/>
          <p:nvPr/>
        </p:nvGraphicFramePr>
        <p:xfrm>
          <a:off x="927000" y="1444680"/>
          <a:ext cx="7353360" cy="2768400"/>
        </p:xfrm>
        <a:graphic>
          <a:graphicData uri="http://schemas.openxmlformats.org/drawingml/2006/table">
            <a:tbl>
              <a:tblPr/>
              <a:tblGrid>
                <a:gridCol w="5181840"/>
                <a:gridCol w="2171520"/>
              </a:tblGrid>
              <a:tr h="449280"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GF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 = 1,0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</a:tr>
              <a:tr h="465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EGFR mutation did not guide Tx: Delay/oth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0%/2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6332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EGFR mutation guided Tx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7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</a:tr>
              <a:tr h="463680"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L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 = 14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</a:tr>
              <a:tr h="46368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ALK translocation did not guide Tx: Delay/oth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26.5%/21.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6332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ALK translocation guided Tx</a:t>
                      </a:r>
                      <a:r>
                        <a:rPr b="0" lang="en-US" sz="1800" spc="-1" strike="noStrike" baseline="30000">
                          <a:solidFill>
                            <a:srgbClr val="464847"/>
                          </a:solidFill>
                          <a:latin typeface="Arial"/>
                        </a:rPr>
                        <a:t>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52.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</a:tr>
            </a:tbl>
          </a:graphicData>
        </a:graphic>
      </p:graphicFrame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cidence of First-Line Therapy Based on Biomark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Footer Placeholder 4"/>
          <p:cNvSpPr/>
          <p:nvPr/>
        </p:nvSpPr>
        <p:spPr>
          <a:xfrm>
            <a:off x="457200" y="6046920"/>
            <a:ext cx="822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Barlesi F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</a:rPr>
              <a:t>Proc ASCO 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2013;Abstract 800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Rectangle 31"/>
          <p:cNvSpPr/>
          <p:nvPr/>
        </p:nvSpPr>
        <p:spPr>
          <a:xfrm>
            <a:off x="977760" y="4313160"/>
            <a:ext cx="7353360" cy="132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5240" indent="-165240">
              <a:spcBef>
                <a:spcPts val="601"/>
              </a:spcBef>
              <a:spcAft>
                <a:spcPts val="47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*</a:t>
            </a:r>
            <a:r>
              <a:rPr b="0" lang="en-US" sz="1800" spc="-1" strike="noStrike" baseline="30000">
                <a:solidFill>
                  <a:srgbClr val="464847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Included: EGFR TKI (55.9%), pemetrexed (13.8%), BSC (11.3%), taxane (5.1%), vinorelbine (2.6%), trial (4.6%), other (6.7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5240" indent="-165240">
              <a:spcBef>
                <a:spcPts val="601"/>
              </a:spcBef>
              <a:spcAft>
                <a:spcPts val="47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 baseline="30000">
                <a:solidFill>
                  <a:srgbClr val="464847"/>
                </a:solidFill>
                <a:latin typeface="Arial"/>
              </a:rPr>
              <a:t>† </a:t>
            </a: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Included: EGFR TKI (0%), pemetrexed (69.8%), BSC (16.3%), taxane (4.7%), vinorelbine (2.3%), trial (4.6%), other (2.3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4T13:28:02Z</dcterms:created>
  <dc:creator>Research To Practice</dc:creator>
  <dc:description/>
  <cp:keywords/>
  <dc:language>en-US</dc:language>
  <cp:lastModifiedBy>Silvana Izquierdo</cp:lastModifiedBy>
  <cp:lastPrinted>2013-03-06T20:38:39Z</cp:lastPrinted>
  <dcterms:modified xsi:type="dcterms:W3CDTF">2013-07-22T18:50:18Z</dcterms:modified>
  <cp:revision>722</cp:revision>
  <dc:subject/>
  <dc:title>Research To Practice</dc:title>
</cp:coreProperties>
</file>