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28C5-4240-465E-A181-27B86191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8AFB-291B-4F88-B28D-18DF5A02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77BE4-7278-4D10-A745-D32A53FC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A01C9-E08B-42D8-9B36-FCB471CD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6FB95-3A66-4D41-8D95-428215D7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5C670-0804-44BC-B52C-4B1B640E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D9CBE-4BE8-4BB4-B767-BEA70C4D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F8142-01AA-4B6F-9488-BF58EBA9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F42C0-8979-4515-A1B2-1BB65FF0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C251D-35F0-472B-A422-53747517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0D34D-6076-4E39-A6DD-6DC52C8D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CEC8-9EE2-4B7B-B61A-58751F08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9257-81CB-4192-9854-E74084BC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ED12-63D4-43C9-BF65-E9177517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7618-8F5F-41A3-901C-E059635F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0659-13F9-4F7A-A0D6-8D00B9B2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28CF-5541-49A6-91F1-4B714FF0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8BF8-9390-44A8-B201-CB5C2D68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1C9B-C98E-457D-B0C1-9D213296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9229-6F92-4CF2-87D4-FA2AEA3D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8AB-209C-49C6-BD8F-63CEB2AC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F32F-7CF6-4378-9C21-24C6933E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F6D0-6138-4C76-A064-DD02E9CD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BD57-51F7-4B78-ADAC-93CE6730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31E7-CB92-4DE8-956A-7F1478CF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40D9-9D9D-44B2-AB72-3F475674D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8DB92-0ABE-4FD7-99B0-1F39B398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CB06B-EBF1-459F-AF9B-A38C5748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EBCE0-5EB8-4688-8A2B-DD2B6F33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589F5-B1E6-40BF-9565-6988444E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6C684-8928-4F72-9B14-603692B2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9E47-79FC-4ECF-9A96-35C8F499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773F3-4476-46A3-A5C4-506CDE66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23DED-820C-4FC5-9674-77F3F7D2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84DE5-0BAA-4DB5-9F78-687DCCA1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32E89-1F0C-422E-8BCE-426EF1A6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C890B-7013-4A16-918D-47A969CE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58727-F2B7-4123-B808-4022495A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DFE42-0D52-41F2-A920-DE9492D2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37EA-40F3-4FBC-8E47-24541EAA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512D5-2831-46D4-86E9-B60BD648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66E3-A4AE-418C-998A-DA505630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E1BF0-87F3-4599-B313-AB011B55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60306-6B56-43ED-AFD6-B812CFDE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C6840-1747-4AF0-AC17-60B99F88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C7D3B-B642-4B54-8C4D-59AC2D5C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60929-9350-423C-817A-E3A99B46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8F0B7-D6CA-4D5D-A73E-F3991DFD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0B15B-2F77-49CC-BFA8-28660B98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C3C25-161C-45EE-89E6-12E57C7B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5738B-D821-48FA-85A3-12CB7598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DE23B-0C98-43BB-ADF1-5E2CCF90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4DC4-A2CA-4ACF-A3A1-B5D1392B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77E0D-DC80-4E54-B4F4-9BE67691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7A6C-289D-43CB-A129-2DE02ACD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78857-50E4-4206-9385-99749A3F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E24ED-B6DF-4BC3-AB1B-7499E483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7D0A3-730C-421D-946A-731DD444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2541D-32E1-4516-98C9-291B2D01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C1768-C529-495A-B392-B9063D24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79933-A25E-4775-97E9-E04D9D52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9A463-5957-418E-8AB3-E231C38C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FA51-2A9F-4138-97DC-7A934D6E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74BA1-5601-48AD-9E06-AD87A42B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263E0-9946-4DA5-B262-EEBE9358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88E6F-637C-4EDB-945B-39C74B64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53F71-2006-4BD8-A7EC-CAE282EF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8C432-B737-441F-9A32-4F427950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2C57-1EA3-4D7F-A1A6-152591F9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9D3AE-6A4F-4015-B12F-489528FC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62D3F-C04A-4ADE-8F6F-374EA164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EED7E-4EBF-40A4-94BC-1A5CB676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13716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D477A-F39E-4E73-8540-7806EB7F5400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F32F04-40A2-41B5-A21A-87BAE27D0FC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803EC-47C2-4D44-BAB8-C57FDB9642EA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A8FA65-A482-46DF-A73E-2BDCB801EFD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65512F-072B-4890-8D18-2FE88438CEEA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027ED-F24C-43C1-8A97-FBC2A8ACF66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13716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13716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A0EEF-A546-4706-BE62-4143FF288067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B31648-8AF0-43E4-B7AF-95AF4C2D2F4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FDBCA-5961-4463-8ABB-CD8541EF4EC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A77C20-D9C1-4C78-B363-FB26057B61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ECE8AA-2B3C-4376-83B4-0F4A5ECE797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56F4DF-53C6-4BC7-9EBC-C048E246DB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ndomized Phase 2 Trial on Refinement of Early-Stage NSCLC Adjuvant Chemotherapy with Cisplatin and Pemetrexed versus Cisplatin and Vinorelbine: The TREAT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Kreuter M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Ann Oncol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24(4):986-9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Evidence from meta-analyses shows a survival benefit for patients with NSCLC with adjuvant cisplatin-based chemotherapy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Lancet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10;375:1267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However, high toxic effects have been associated with platinum-based adjuvant protocols, especially when combined with vinca alkaloid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6;7:719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everal Phase II/III trials of cisplatin/pemetrexed (CPx) in advanced NSCLC showed comparable efficacy to platinum-based combinations with a good safety profile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JCO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8;26:3543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ompare clinical feasibility between adjuvant CPx and cisplatin/vinorelbine (CVb) in early-stage NSCLC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Kreuter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An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24(4):986-9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31"/>
          <p:cNvSpPr/>
          <p:nvPr/>
        </p:nvSpPr>
        <p:spPr>
          <a:xfrm>
            <a:off x="876240" y="3573360"/>
            <a:ext cx="75042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464847"/>
                </a:solidFill>
                <a:uFillTx/>
                <a:latin typeface="Arial"/>
              </a:rPr>
              <a:t>Primary endpoint</a:t>
            </a: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Clinical feasibility rate defined as (a) no premature withdrawal or death and (b) no dose-limiting toxicities (DLT)(Grade 4 neutropenia/thrombocytopenia &gt;7 d, Grade 3/4 febrile neutropenia, any thrombocytopenia with bleeding, treatment-related Grade 3/4 hematologic toxicit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: Phase II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Kreuter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An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24(4):986-9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5495760" y="1847880"/>
          <a:ext cx="2743200" cy="639720"/>
        </p:xfrm>
        <a:graphic>
          <a:graphicData uri="http://schemas.openxmlformats.org/drawingml/2006/table">
            <a:tbl>
              <a:tblPr/>
              <a:tblGrid>
                <a:gridCol w="274320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 cycles of CP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(n = 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5495760" y="2590920"/>
          <a:ext cx="2743200" cy="639720"/>
        </p:xfrm>
        <a:graphic>
          <a:graphicData uri="http://schemas.openxmlformats.org/drawingml/2006/table">
            <a:tbl>
              <a:tblPr/>
              <a:tblGrid>
                <a:gridCol w="274320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 cycles of C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(n = 6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6" name="Line 2"/>
          <p:cNvSpPr/>
          <p:nvPr/>
        </p:nvSpPr>
        <p:spPr>
          <a:xfrm>
            <a:off x="3917880" y="2606760"/>
            <a:ext cx="125100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3"/>
          <p:cNvGrpSpPr/>
          <p:nvPr/>
        </p:nvGrpSpPr>
        <p:grpSpPr>
          <a:xfrm>
            <a:off x="5173560" y="2180880"/>
            <a:ext cx="322200" cy="655560"/>
            <a:chOff x="5173560" y="2180880"/>
            <a:chExt cx="322200" cy="655560"/>
          </a:xfrm>
        </p:grpSpPr>
        <p:sp>
          <p:nvSpPr>
            <p:cNvPr id="378" name="Line 14"/>
            <p:cNvSpPr/>
            <p:nvPr/>
          </p:nvSpPr>
          <p:spPr>
            <a:xfrm flipV="1">
              <a:off x="5173560" y="2180880"/>
              <a:ext cx="0" cy="65556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5"/>
            <p:cNvSpPr/>
            <p:nvPr/>
          </p:nvSpPr>
          <p:spPr>
            <a:xfrm>
              <a:off x="5173560" y="218124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16"/>
          <p:cNvGrpSpPr/>
          <p:nvPr/>
        </p:nvGrpSpPr>
        <p:grpSpPr>
          <a:xfrm>
            <a:off x="5173560" y="2266920"/>
            <a:ext cx="322200" cy="677880"/>
            <a:chOff x="5173560" y="2266920"/>
            <a:chExt cx="322200" cy="677880"/>
          </a:xfrm>
        </p:grpSpPr>
        <p:sp>
          <p:nvSpPr>
            <p:cNvPr id="381" name="Line 17"/>
            <p:cNvSpPr/>
            <p:nvPr/>
          </p:nvSpPr>
          <p:spPr>
            <a:xfrm>
              <a:off x="5173560" y="2266920"/>
              <a:ext cx="0" cy="67788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8"/>
            <p:cNvSpPr/>
            <p:nvPr/>
          </p:nvSpPr>
          <p:spPr>
            <a:xfrm>
              <a:off x="5173560" y="294444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Oval 4"/>
          <p:cNvSpPr/>
          <p:nvPr/>
        </p:nvSpPr>
        <p:spPr>
          <a:xfrm>
            <a:off x="4248000" y="2235240"/>
            <a:ext cx="731880" cy="7318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914400" y="2152800"/>
          <a:ext cx="3154320" cy="1077840"/>
        </p:xfrm>
        <a:graphic>
          <a:graphicData uri="http://schemas.openxmlformats.org/drawingml/2006/table">
            <a:tbl>
              <a:tblPr/>
              <a:tblGrid>
                <a:gridCol w="3154320"/>
              </a:tblGrid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13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711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SCLC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Stag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, IIA, IIB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 T3N1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fter R0 re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31"/>
          <p:cNvSpPr/>
          <p:nvPr/>
        </p:nvSpPr>
        <p:spPr>
          <a:xfrm>
            <a:off x="914400" y="3924360"/>
            <a:ext cx="775188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Mean follow-up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until the primary endpoint analysis: 3.95 months (CPx), 3.87 months (CVb); NR = not re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spcAft>
                <a:spcPts val="3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Preliminary efficacy analysis revealed no treatment-related death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No significant difference in OS and PFS between arm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914400" y="1752480"/>
          <a:ext cx="7378560" cy="2079720"/>
        </p:xfrm>
        <a:graphic>
          <a:graphicData uri="http://schemas.openxmlformats.org/drawingml/2006/table">
            <a:tbl>
              <a:tblPr/>
              <a:tblGrid>
                <a:gridCol w="2679840"/>
                <a:gridCol w="1523880"/>
                <a:gridCol w="1612800"/>
                <a:gridCol w="1562040"/>
              </a:tblGrid>
              <a:tr h="416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Px (n = 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b (n = 6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15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Feasibility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95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5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5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De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6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Withdrawal of con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5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D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Endpoint: Feasibility Analy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Kreuter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An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24(4):986-9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914400" y="1486080"/>
          <a:ext cx="7378560" cy="2981160"/>
        </p:xfrm>
        <a:graphic>
          <a:graphicData uri="http://schemas.openxmlformats.org/drawingml/2006/table">
            <a:tbl>
              <a:tblPr/>
              <a:tblGrid>
                <a:gridCol w="3911760"/>
                <a:gridCol w="1765080"/>
                <a:gridCol w="1701720"/>
              </a:tblGrid>
              <a:tr h="496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s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Px (n =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b (n = 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96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Grade 4 neutropenia &gt;7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Grade 4 thrombocytopenia &gt;7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96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Grade 3/4 febrile 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7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Thrombocytopenia with blee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96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Grade 3/4 nonhematologic toxi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sibility: Reasons for DLT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Kreuter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An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24(4):986-9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736560" y="1727280"/>
          <a:ext cx="7683480" cy="3073320"/>
        </p:xfrm>
        <a:graphic>
          <a:graphicData uri="http://schemas.openxmlformats.org/drawingml/2006/table">
            <a:tbl>
              <a:tblPr/>
              <a:tblGrid>
                <a:gridCol w="2819520"/>
                <a:gridCol w="1930320"/>
                <a:gridCol w="1714680"/>
                <a:gridCol w="1218960"/>
              </a:tblGrid>
              <a:tr h="640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Px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Vb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6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90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Dose delivery, % plan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74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&lt;0.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5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Cisplatin deli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6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85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Px or Vb deli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6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Mean duration of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1.2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9.9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8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Median number of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.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e Delivery and Duration of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Kreuter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An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24(4):986-9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914400" y="1676520"/>
          <a:ext cx="7378560" cy="1500120"/>
        </p:xfrm>
        <a:graphic>
          <a:graphicData uri="http://schemas.openxmlformats.org/drawingml/2006/table">
            <a:tbl>
              <a:tblPr/>
              <a:tblGrid>
                <a:gridCol w="3009960"/>
                <a:gridCol w="1460520"/>
                <a:gridCol w="1365120"/>
                <a:gridCol w="1542960"/>
              </a:tblGrid>
              <a:tr h="640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P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29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arlier therapy ter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2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3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Time to treatment 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ot reac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&lt;0.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ation of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Kreuter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An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24(4):986-9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1"/>
          <p:cNvSpPr/>
          <p:nvPr/>
        </p:nvSpPr>
        <p:spPr>
          <a:xfrm>
            <a:off x="914400" y="3306600"/>
            <a:ext cx="733284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5000"/>
              </a:lnSpc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Reasons for earlier termination inclu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6"/>
              </a:spcBef>
              <a:buClr>
                <a:srgbClr val="464847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Unacceptable toxicity per protocol or as perceived by patient: CPx = 10, CVb =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6"/>
              </a:spcBef>
              <a:buClr>
                <a:srgbClr val="464847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Medical decision by investigator: CPx = 4, CVb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6"/>
              </a:spcBef>
              <a:buClr>
                <a:srgbClr val="464847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Withdrawal of consent: CPx = 0, CVb 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"/>
          <p:cNvGraphicFramePr/>
          <p:nvPr/>
        </p:nvGraphicFramePr>
        <p:xfrm>
          <a:off x="914400" y="1422360"/>
          <a:ext cx="7378560" cy="4022640"/>
        </p:xfrm>
        <a:graphic>
          <a:graphicData uri="http://schemas.openxmlformats.org/drawingml/2006/table">
            <a:tbl>
              <a:tblPr/>
              <a:tblGrid>
                <a:gridCol w="3193920"/>
                <a:gridCol w="2092320"/>
                <a:gridCol w="2092320"/>
              </a:tblGrid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Px, % (n = 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b, % (n = 6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Hematologic A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nem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Thrombocyt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Febrile 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onhematologic A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Fati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ausea/vom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Thromboembolic ev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Renal impair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Grade 3 and 4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Kreuter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An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24(4):986-9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lnSpc>
                <a:spcPct val="95000"/>
              </a:lnSpc>
              <a:spcBef>
                <a:spcPts val="10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djuvant chemotherapy with CPx is safe and feasible with less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toxicity and superior dose delivery compared to CVb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 terms of efficacy, however, the limitations of the size of a Phase II trial and a large number of patients with Stage IB or SCLC should be taken into account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Longer follow-up to observe possible outcome differences is ongoing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Kreuter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An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24(4):986-9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19:16:34Z</dcterms:created>
  <dc:creator>Research To Practice</dc:creator>
  <dc:description/>
  <cp:keywords/>
  <dc:language>en-US</dc:language>
  <cp:lastModifiedBy>Silvana Izquierdo</cp:lastModifiedBy>
  <cp:lastPrinted>2013-06-11T14:03:38Z</cp:lastPrinted>
  <dcterms:modified xsi:type="dcterms:W3CDTF">2013-07-22T19:11:16Z</dcterms:modified>
  <cp:revision>610</cp:revision>
  <dc:subject/>
  <dc:title>Research To Practice</dc:title>
</cp:coreProperties>
</file>