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A842-FE93-40DA-B5EC-646A9B8E4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7DA6-6611-48C1-BFB0-813A2F8E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87E21-817D-47C2-AE7E-67C04AAB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A9D7C-CE7D-4618-98E9-2DB79615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CF051-DBFB-4923-9FDC-F0F30682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DEAB3-F692-431E-ACDE-43233DC2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F0F0F-5702-450A-A26B-17BBE6D2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D74C2-3E95-48DF-A272-0C083F5D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C9BD0-52E0-4AFA-9558-8F982ACE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93A65-948E-4CC5-94BB-AE1ED94F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74F19-BA0E-4DA0-8C87-ED1D0E56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50A4-2739-418C-A264-2E806A05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8E71-9122-47EB-A515-6A93E1A7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6963-278C-49D2-A23F-39FCD0E7D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E0CB-F05C-4102-AAC1-E419EFBE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0B1B-13FA-4178-82CB-F64E5EEC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05FF-0C47-4B79-8A61-34F2D51C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2A6A-8FFD-4E1B-9049-342347B5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4B64-12BF-443D-AC9D-73EB9C9A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25D3-F5E9-4BCB-AC0B-1940E2C6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FB52-0418-4BA8-8746-FA513DA8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4F84-97E2-4AC0-A012-3B7257F6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C974-5958-4C39-A682-8543C93F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FEAC-5475-4C91-B589-DDAF397C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8653-4195-40BC-B1CD-1966856A7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6E9E-F14D-462D-BAD9-1757F5150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46DD8-23ED-42CE-BF9A-D28B24D7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BC389-ADAD-47C7-91C9-8D658B0F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FCE28-81E4-423B-9193-0E919B9C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C6614-916E-46BD-A418-D3B7AE3D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ED0D5-C766-4918-AAA4-0C131385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93A1-41A2-416C-969C-348A0B96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BF7AE-F394-4BC8-AF9B-E83640B6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BE5B3-DFA9-4524-B337-F1B26881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625CD-5087-4A55-ABAD-EF301D89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7E5F1-9BC5-4039-A841-2D43A65B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417AE-A9B5-494F-B97B-CFC56079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4CF9C-5449-40FF-90BB-21DA8ADA6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C859C-3458-42A8-88DE-C93642004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FB99-AB02-4FBC-B191-38061474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B1762-D80E-4D46-B7AA-2A38621D1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00B0-4681-464A-8587-59147ED4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F1583-C7DB-4A96-A84A-C9D8F3F3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83309-E6DE-4125-ABCC-9342635F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31199-616B-4861-9336-99D9F230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996A3-9F3D-4D66-A1CE-590074FD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FB7D1-E0BC-45A3-8B7C-95A2E1BA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3E97C-989F-4A0A-8670-4CC08B0F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3138B-1648-43B0-8022-B65BCABE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E8C52-9EAF-4089-929C-AF545F7F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14953-D001-403D-BD82-EB30ED95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704D3-6DA1-4F2C-A902-FFF4A2C6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D0CB-C8FB-4EAF-80AF-7A388F6C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B402A-8912-4814-B2E2-3E53CB81B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5964-41DC-4AC1-AFD6-473427B7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81C08-F660-4742-BD56-83EBE055E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120BB-BE18-4CB6-B229-19BDAF76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E7004-EFD6-4990-B2B4-A9ABD437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D4EC0-BC48-442D-84DD-FC025539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FB2E0-FAC6-4EBF-90A7-F1C30F50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BDB4A-6DA6-4AEB-8A47-66FBBDAB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F4DF5-DAA9-4EDF-AF73-E2AE0789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16C2-690E-44D6-BB6D-06D9D531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C7B39-01CB-48DD-8073-30FEBA68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17316-77C4-4C90-ADEE-FBCD8405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D38D0-BBD6-4685-A66D-11CE968E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CBB97-3387-4C16-8BD1-A6479CAEE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D4E09-332E-46F9-8627-8EBC200C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E70F-770D-49FB-B1F8-9F1C8E6B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8B56B-260C-45DD-91ED-75B07F341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6FDB9-B618-4E5B-9E15-60C2BCB8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F95A3-A444-4160-9FDE-8CEAE22A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7DB0F8-6268-4DB7-86EA-C13309ADFC07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D8DD4C-0773-454F-BBB5-EB53D59596C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ADC5CB-F2D0-43AB-9C51-610BABA2A677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F129AF-73D4-4023-9697-48F64729507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CCE638-11AB-42BA-8413-96636FED644E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F0B7A1-7273-41B9-B17F-1E1585DF87C7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E1DF8B-9C6B-45E7-BB86-CD106C7A8A25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534CEB-A333-4B13-86E9-A694EB0C605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8E8933-F25C-43E0-8F2B-18E2A242883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5E6B1E-7978-40E1-9A6C-056D55B781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29080D-C548-4C11-8486-DE2BA9ADA7A8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2C712A-7228-450F-9A4F-1923889911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Randomized, Open-Label, Phase III, Superiority Study of Pemetrexed (Pem) + Carboplatin (Cb) + Bevacizumab (Bev) Followed by Maintenance Pem + Bev versus Paclitaxel (Pac)+Cb+Bev Followed by Maintenance Bev in Patients with Stage IIIB or IV Non-Squamous Non-Small Cell Lung Cancer (NS-NSCL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Patel JD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Proc IASLC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2;Abstract LBPL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9688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spcAft>
                <a:spcPts val="2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Phase III ECOG-E4599 trial demonstrated that Pac + Cb + Bev followed by maintenance Bev significantly improved survival compared to Pac + Cb alone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NEJM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06;355:2542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spcAft>
                <a:spcPts val="2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n a single-arm Phase II study, Pem + Cb + Bev followed by Pem + Bev produced an overall survival (OS) of 14.1 months and a progression-free survival (PFS) of 7.8 months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JCO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09;27:3284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spcAft>
                <a:spcPts val="2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spcAft>
                <a:spcPts val="2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Compare the efficacy and safety of Pem + Cb + Bev followed by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em + Bev to that of Pac + Cb + Bev followed by Bev for patients with advanced NS-NSCLC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tel JD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IASLC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Abstract LBPL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31"/>
          <p:cNvSpPr/>
          <p:nvPr/>
        </p:nvSpPr>
        <p:spPr>
          <a:xfrm>
            <a:off x="914400" y="4527720"/>
            <a:ext cx="77724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Primary endpoint: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atients were stratified by PS (0 vs 1), sex (M vs F), disease stage (IIIB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vs IV) and measurable vs nonmeasurable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II PointBreak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Line 2"/>
          <p:cNvSpPr/>
          <p:nvPr/>
        </p:nvSpPr>
        <p:spPr>
          <a:xfrm>
            <a:off x="3537000" y="2867040"/>
            <a:ext cx="123516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1"/>
          <p:cNvGrpSpPr/>
          <p:nvPr/>
        </p:nvGrpSpPr>
        <p:grpSpPr>
          <a:xfrm>
            <a:off x="4767120" y="2377800"/>
            <a:ext cx="249480" cy="1017720"/>
            <a:chOff x="4767120" y="2377800"/>
            <a:chExt cx="249480" cy="1017720"/>
          </a:xfrm>
        </p:grpSpPr>
        <p:grpSp>
          <p:nvGrpSpPr>
            <p:cNvPr id="375" name="Group 3"/>
            <p:cNvGrpSpPr/>
            <p:nvPr/>
          </p:nvGrpSpPr>
          <p:grpSpPr>
            <a:xfrm>
              <a:off x="4767120" y="2377800"/>
              <a:ext cx="249480" cy="655560"/>
              <a:chOff x="4767120" y="2377800"/>
              <a:chExt cx="249480" cy="655560"/>
            </a:xfrm>
          </p:grpSpPr>
          <p:sp>
            <p:nvSpPr>
              <p:cNvPr id="376" name="Line 14"/>
              <p:cNvSpPr/>
              <p:nvPr/>
            </p:nvSpPr>
            <p:spPr>
              <a:xfrm flipV="1">
                <a:off x="4767120" y="2377800"/>
                <a:ext cx="0" cy="655560"/>
              </a:xfrm>
              <a:prstGeom prst="line">
                <a:avLst/>
              </a:prstGeom>
              <a:ln w="28440">
                <a:solidFill>
                  <a:srgbClr val="7678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15"/>
              <p:cNvSpPr/>
              <p:nvPr/>
            </p:nvSpPr>
            <p:spPr>
              <a:xfrm>
                <a:off x="4767120" y="2378160"/>
                <a:ext cx="249480" cy="0"/>
              </a:xfrm>
              <a:prstGeom prst="line">
                <a:avLst/>
              </a:prstGeom>
              <a:ln w="28440">
                <a:solidFill>
                  <a:srgbClr val="76787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16"/>
            <p:cNvGrpSpPr/>
            <p:nvPr/>
          </p:nvGrpSpPr>
          <p:grpSpPr>
            <a:xfrm>
              <a:off x="4767120" y="2717640"/>
              <a:ext cx="249480" cy="677880"/>
              <a:chOff x="4767120" y="2717640"/>
              <a:chExt cx="249480" cy="677880"/>
            </a:xfrm>
          </p:grpSpPr>
          <p:sp>
            <p:nvSpPr>
              <p:cNvPr id="379" name="Line 17"/>
              <p:cNvSpPr/>
              <p:nvPr/>
            </p:nvSpPr>
            <p:spPr>
              <a:xfrm>
                <a:off x="4767120" y="2717640"/>
                <a:ext cx="0" cy="677880"/>
              </a:xfrm>
              <a:prstGeom prst="line">
                <a:avLst/>
              </a:prstGeom>
              <a:ln w="28440">
                <a:solidFill>
                  <a:srgbClr val="7678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Line 18"/>
              <p:cNvSpPr/>
              <p:nvPr/>
            </p:nvSpPr>
            <p:spPr>
              <a:xfrm>
                <a:off x="4767120" y="3395160"/>
                <a:ext cx="249480" cy="0"/>
              </a:xfrm>
              <a:prstGeom prst="line">
                <a:avLst/>
              </a:prstGeom>
              <a:ln w="28440">
                <a:solidFill>
                  <a:srgbClr val="76787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1" name="Oval 4"/>
          <p:cNvSpPr/>
          <p:nvPr/>
        </p:nvSpPr>
        <p:spPr>
          <a:xfrm>
            <a:off x="3919680" y="2494080"/>
            <a:ext cx="731520" cy="731880"/>
          </a:xfrm>
          <a:prstGeom prst="ellipse">
            <a:avLst/>
          </a:prstGeom>
          <a:solidFill>
            <a:srgbClr val="db9f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tel JD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IASLC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Abstract LBPL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7101000" y="2001960"/>
          <a:ext cx="1336680" cy="695160"/>
        </p:xfrm>
        <a:graphic>
          <a:graphicData uri="http://schemas.openxmlformats.org/drawingml/2006/table">
            <a:tbl>
              <a:tblPr/>
              <a:tblGrid>
                <a:gridCol w="1336680"/>
              </a:tblGrid>
              <a:tr h="695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em + Bev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292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7101000" y="3009960"/>
          <a:ext cx="1336680" cy="695160"/>
        </p:xfrm>
        <a:graphic>
          <a:graphicData uri="http://schemas.openxmlformats.org/drawingml/2006/table">
            <a:tbl>
              <a:tblPr/>
              <a:tblGrid>
                <a:gridCol w="1336680"/>
              </a:tblGrid>
              <a:tr h="695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Bev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298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5" name="Line 15"/>
          <p:cNvSpPr/>
          <p:nvPr/>
        </p:nvSpPr>
        <p:spPr>
          <a:xfrm>
            <a:off x="6819840" y="2370240"/>
            <a:ext cx="284400" cy="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5"/>
          <p:cNvSpPr/>
          <p:nvPr/>
        </p:nvSpPr>
        <p:spPr>
          <a:xfrm>
            <a:off x="6808680" y="3395520"/>
            <a:ext cx="284400" cy="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924440" y="1335240"/>
            <a:ext cx="206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464847"/>
                </a:solidFill>
                <a:uFillTx/>
                <a:latin typeface="Arial"/>
              </a:rPr>
              <a:t>Induction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464847"/>
                </a:solidFill>
                <a:uFillTx/>
                <a:latin typeface="Arial"/>
              </a:rPr>
              <a:t>q21d, 4 cy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25"/>
          <p:cNvSpPr/>
          <p:nvPr/>
        </p:nvSpPr>
        <p:spPr>
          <a:xfrm>
            <a:off x="6926400" y="1332000"/>
            <a:ext cx="168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464847"/>
                </a:solidFill>
                <a:uFillTx/>
                <a:latin typeface="Arial"/>
              </a:rPr>
              <a:t>Maintena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464847"/>
                </a:solidFill>
                <a:uFillTx/>
                <a:latin typeface="Arial"/>
              </a:rPr>
              <a:t>q21d until P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31"/>
          <p:cNvSpPr/>
          <p:nvPr/>
        </p:nvSpPr>
        <p:spPr>
          <a:xfrm>
            <a:off x="4008600" y="3865680"/>
            <a:ext cx="453852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7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Pem, 500 mg/m</a:t>
            </a:r>
            <a:r>
              <a:rPr b="0" lang="en-US" sz="1700" spc="-1" strike="noStrike" baseline="30000">
                <a:solidFill>
                  <a:srgbClr val="464847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; Cb, AUC 6; Bev, 15 mg/k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 baseline="30000">
                <a:solidFill>
                  <a:srgbClr val="464847"/>
                </a:solidFill>
                <a:latin typeface="Arial"/>
              </a:rPr>
              <a:t>† </a:t>
            </a: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Pac, 200 mg/m</a:t>
            </a:r>
            <a:r>
              <a:rPr b="0" lang="en-US" sz="1700" spc="-1" strike="noStrike" baseline="30000">
                <a:solidFill>
                  <a:srgbClr val="464847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; Cb, AUC 6; Bev, 15 mg/k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5014800" y="2001960"/>
          <a:ext cx="1884600" cy="695160"/>
        </p:xfrm>
        <a:graphic>
          <a:graphicData uri="http://schemas.openxmlformats.org/drawingml/2006/table">
            <a:tbl>
              <a:tblPr/>
              <a:tblGrid>
                <a:gridCol w="1884600"/>
              </a:tblGrid>
              <a:tr h="695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em + Cb + Bev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472)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5014800" y="3021120"/>
          <a:ext cx="1884600" cy="695160"/>
        </p:xfrm>
        <a:graphic>
          <a:graphicData uri="http://schemas.openxmlformats.org/drawingml/2006/table">
            <a:tbl>
              <a:tblPr/>
              <a:tblGrid>
                <a:gridCol w="1884600"/>
              </a:tblGrid>
              <a:tr h="695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ac + Cb + Bev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467)</a:t>
                      </a:r>
                      <a:r>
                        <a:rPr b="0" lang="en-US" sz="17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2" name=""/>
          <p:cNvGraphicFramePr/>
          <p:nvPr/>
        </p:nvGraphicFramePr>
        <p:xfrm>
          <a:off x="914400" y="1625760"/>
          <a:ext cx="2908440" cy="2476440"/>
        </p:xfrm>
        <a:graphic>
          <a:graphicData uri="http://schemas.openxmlformats.org/drawingml/2006/table">
            <a:tbl>
              <a:tblPr/>
              <a:tblGrid>
                <a:gridCol w="2908440"/>
              </a:tblGrid>
              <a:tr h="3841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(N = 93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2092320">
                <a:tc>
                  <a:txBody>
                    <a:bodyPr lIns="90000" rIns="90000" anchor="t">
                      <a:noAutofit/>
                    </a:bodyPr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476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age IIIB-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476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prior systemic therap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476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Stable treated brain metast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476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No Grade ≥1 peripheral neuropat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914400" y="1512720"/>
          <a:ext cx="7429680" cy="2738520"/>
        </p:xfrm>
        <a:graphic>
          <a:graphicData uri="http://schemas.openxmlformats.org/drawingml/2006/table">
            <a:tbl>
              <a:tblPr/>
              <a:tblGrid>
                <a:gridCol w="1625760"/>
                <a:gridCol w="1841400"/>
                <a:gridCol w="1816200"/>
                <a:gridCol w="1073160"/>
                <a:gridCol w="1073160"/>
              </a:tblGrid>
              <a:tr h="9241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 + Cb + B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4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 + Cb + B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4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644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2.6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.4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585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-year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2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4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4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-year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4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1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ction Phase: OS (ITT Popul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tel JD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IASLC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Abstract LBPL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6" name=""/>
          <p:cNvGraphicFramePr/>
          <p:nvPr/>
        </p:nvGraphicFramePr>
        <p:xfrm>
          <a:off x="914400" y="1486080"/>
          <a:ext cx="7429680" cy="2838240"/>
        </p:xfrm>
        <a:graphic>
          <a:graphicData uri="http://schemas.openxmlformats.org/drawingml/2006/table">
            <a:tbl>
              <a:tblPr/>
              <a:tblGrid>
                <a:gridCol w="2514600"/>
                <a:gridCol w="1397160"/>
                <a:gridCol w="1396800"/>
                <a:gridCol w="1028880"/>
                <a:gridCol w="1092240"/>
              </a:tblGrid>
              <a:tr h="9144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 + Cb + B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4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 + Cb + B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4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80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0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6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T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.0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0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80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verall response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4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3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FS (No G4 toxicity)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3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0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ction Phase: Additional Efficacy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31"/>
          <p:cNvSpPr/>
          <p:nvPr/>
        </p:nvSpPr>
        <p:spPr>
          <a:xfrm>
            <a:off x="914400" y="4503600"/>
            <a:ext cx="742968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TPD = time to progressive disease; NR = not re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edian PFS without Grade 4 toxicity (prespecified exploratory analy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tel JD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IASLC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Abstract LBPL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31"/>
          <p:cNvSpPr/>
          <p:nvPr/>
        </p:nvSpPr>
        <p:spPr>
          <a:xfrm>
            <a:off x="914400" y="5002200"/>
            <a:ext cx="74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Hazard ratio &lt;1.0 favors Pem + Cb + B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914400" y="1486080"/>
          <a:ext cx="7353360" cy="3395520"/>
        </p:xfrm>
        <a:graphic>
          <a:graphicData uri="http://schemas.openxmlformats.org/drawingml/2006/table">
            <a:tbl>
              <a:tblPr/>
              <a:tblGrid>
                <a:gridCol w="3463920"/>
                <a:gridCol w="1920960"/>
                <a:gridCol w="1968480"/>
              </a:tblGrid>
              <a:tr h="64044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zard ratio (Pem + Cb + Bev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s Pac + Cb + Be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93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age IIIB (n = 9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age IV (n = 84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3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≤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0 years (n = 69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gt;70 years (n = 24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3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denocarcinoma (n = 74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Large cell (n = 2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ction Phase: Analyses of OS and PF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Sub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tel JD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IASLC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Abstract LBPL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"/>
          <p:cNvGraphicFramePr/>
          <p:nvPr/>
        </p:nvGraphicFramePr>
        <p:xfrm>
          <a:off x="914400" y="2082960"/>
          <a:ext cx="7353360" cy="2114280"/>
        </p:xfrm>
        <a:graphic>
          <a:graphicData uri="http://schemas.openxmlformats.org/drawingml/2006/table">
            <a:tbl>
              <a:tblPr/>
              <a:tblGrid>
                <a:gridCol w="2451240"/>
                <a:gridCol w="2450880"/>
                <a:gridCol w="2451240"/>
              </a:tblGrid>
              <a:tr h="7045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 + Cb + B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29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 + Cb + B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2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704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7.7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.7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.6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9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enance Phase: Prespecified Exploratory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tel JD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IASLC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Abstract LBPL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914400" y="1320840"/>
          <a:ext cx="7226280" cy="4032360"/>
        </p:xfrm>
        <a:graphic>
          <a:graphicData uri="http://schemas.openxmlformats.org/drawingml/2006/table">
            <a:tbl>
              <a:tblPr/>
              <a:tblGrid>
                <a:gridCol w="3048120"/>
                <a:gridCol w="2082600"/>
                <a:gridCol w="2095560"/>
              </a:tblGrid>
              <a:tr h="603360">
                <a:tc rowSpan="2">
                  <a:txBody>
                    <a:bodyPr lIns="90000" rIns="90000" tIns="27360" bIns="27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 + Cb + Bev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44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 + Cb + Bev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n = 44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4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/4 (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/4 (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43080">
                <a:tc>
                  <a:txBody>
                    <a:bodyPr lIns="90000" rIns="90000" tIns="27360" bIns="2736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emia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90000" rIns="90000" tIns="27360" bIns="2736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hrombocytopenia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3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43080">
                <a:tc>
                  <a:txBody>
                    <a:bodyPr lIns="90000" rIns="90000" tIns="27360" bIns="2736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utropenia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5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0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90000" rIns="90000" tIns="27360" bIns="2736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ebrile neutropenia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43080">
                <a:tc>
                  <a:txBody>
                    <a:bodyPr lIns="90000" rIns="90000" tIns="27360" bIns="2736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atigue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90000" rIns="90000" tIns="27360" bIns="2736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emorrhage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8% (0.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5% (0.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43080">
                <a:tc>
                  <a:txBody>
                    <a:bodyPr lIns="90000" rIns="90000" tIns="27360" bIns="2736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hromboembolic A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90000" rIns="90000" tIns="27360" bIns="2736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uropathy/sensory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43080">
                <a:tc>
                  <a:txBody>
                    <a:bodyPr lIns="90000" rIns="90000" tIns="27360" bIns="2736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Grade 2 complete alopec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1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dverse Events (A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31"/>
          <p:cNvSpPr/>
          <p:nvPr/>
        </p:nvSpPr>
        <p:spPr>
          <a:xfrm>
            <a:off x="914400" y="5330880"/>
            <a:ext cx="749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ignificant difference between arms for Grade 3/4 AEs; 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†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GI/pulmo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tel JD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IASLC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Abstract LBPL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is study did not meet its primary endpoint of superior OS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efficacy data for Pac + Cb + Bev are similar to previous results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NEJM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06;355:2542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em + Cb + Bev followed by Pem + Bev had a superior median PFS compared to Pac + Cb + Bev followed by Bev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6.0 mo vs 5.6 mo (HR, 0.83; 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= 0.012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prespecified exploratory noncomparative analyses for the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maintenance population receiving Pem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+ Cb + Bev compared to the Pac + Cb + Bev arm yielded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OS: 17.7 mo vs 15.7 mo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FS: 8.6 mo vs 6.9 mo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toxicity profiles differed between the 2 treatment regimens, and both demonstrated tolerability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tel JD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IASLC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Abstract LBPL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19:16:38Z</dcterms:created>
  <dc:creator>Research To Practice</dc:creator>
  <dc:description/>
  <cp:keywords/>
  <dc:language>en-US</dc:language>
  <cp:lastModifiedBy>Silvana Izquierdo</cp:lastModifiedBy>
  <cp:lastPrinted>2013-06-11T14:13:41Z</cp:lastPrinted>
  <dcterms:modified xsi:type="dcterms:W3CDTF">2013-07-22T19:05:48Z</dcterms:modified>
  <cp:revision>690</cp:revision>
  <dc:subject/>
  <dc:title>Research To Practice</dc:title>
</cp:coreProperties>
</file>