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03B-6DAF-41AA-A3C8-C4387F46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9CE-CDB9-4A59-AC6C-2F091159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E2EE3-1465-433D-B3A7-BFE93E8F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83056-90C5-4A65-8099-072E4F9B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6901D-540C-4EAD-91B8-F056C6FC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82160-0857-483F-9941-8028633C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5418C-DB0B-422F-84E2-B09470DA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2B029-C302-4B88-8405-3E24209F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5478D-8E9F-40C2-899C-48118556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87F2B-8AB9-4CC6-83A3-19B0A124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F28CA-F212-42B8-9C68-FC8C0C92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0E6D-D313-49A1-9418-DBCAC230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E85-0EFC-4B9C-A3E0-3E1876E5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197B-91E0-4AE4-B1F4-DCFC252C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D4D8-46F8-47BF-965E-00078247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245C-A293-4D18-A9BE-D2B269EF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C8A1-1CE0-467D-9CD9-8292D0CF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22CD-49AD-4A69-8C7C-0592FFE7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61D1-9E01-4A21-A04B-47C27729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629B-241B-49C2-BD8C-D52471D9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788-CBAD-435A-99C1-594E43D2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B853-D8A8-41F3-8A76-CA4E6FD6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8142-58D4-4FA3-A3BB-F0E1933B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9BFD-8C1E-45E4-B7D2-48D80670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A843-6D37-4C2C-A88A-51FD1DD2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7934-C415-47B4-929E-7BE7E57C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D75E9-971B-4149-950E-3C33F356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6E648-7F9A-4F61-9B6C-5BE68481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17260-074A-429B-832A-E3B82B83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EDFF9-B024-4E00-AAEF-59B04E4E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F7EDD-9144-4AEC-9605-0FECE7AB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1EA-B9FD-497D-B198-F191FF83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7FE19-AADD-4E17-86B8-751EB208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4A286-82F7-40AF-A001-073441B0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96053-2411-4CC7-BBE4-AB5084D8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18778-EF39-4E36-A5F6-D713B220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8AEC0-BCE7-4C7D-AE9B-03781D65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33435-A5BA-4D03-AB7F-8EF4AD45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C161E-68B0-4D8D-9BC0-3A882483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4A1F-C619-4B6C-8CE8-03B00FAA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273FC-DFE5-406B-9DA5-1E9A50FD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5F2-F4A8-47A3-981E-E69CB53C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9F59B-83DE-4BE6-926B-B717BF6B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80677-71B5-4F0D-AAFF-08650851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CDACB-56F3-4C8D-B22D-4371767E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1C5FB-2449-4703-A9D5-00BBF342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72557-2F6F-4BE4-B9B1-DF4929A4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553B9-7EDF-4228-84CC-55815E16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2275F-0F4E-4436-AACC-08224321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583DA-DBBB-4467-B4E2-B0A01EFF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99351-FC8C-476E-A10C-6C89512D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33EDB-78CC-4DBF-B7B8-4161D0C6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AA1-A054-43C2-87DC-4A7CD477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BFF53-D273-42F6-98D8-80BF4B75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156-68EE-4FE2-BFAE-7E391789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EB2B8-F932-48B2-9173-1D8F10B9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5CD4F-F3D0-4C87-8762-25FB66AE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09B02-8194-414B-9F57-665F7F8C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338AB-37B5-4990-BD87-5FD84621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7EDC3-95C0-4E8D-A3C3-02E1746E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0E8A6-B304-4094-9FA9-134F984C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08631-E137-4FF0-8307-795F2EDA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4ED-BF6F-402B-9872-CC7CD099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28F98-20A8-4F3D-87E3-4CD7E741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78A44-B6B2-4048-9764-4EC4AEF3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B575F-C63F-4444-B567-4AA6D261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F6EEB-9D37-40EE-90A2-A65D98E5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0948B-3ECB-4C4D-816B-369D433E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4BAF-574B-41EC-A422-B536227C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94BD1-769B-4E36-80B8-17669532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B7C36-74D4-4366-812D-9FF5CA50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0E909-4523-4DEC-9F36-9D1F2117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D1AB4-240D-471F-9010-81235EAB1724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25113-4CA7-4652-A516-D775C25F868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EE505-2678-4E9E-8587-7A89740038B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215EF-61D5-43A0-969B-A72C5A8AF6D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61611-D9CC-4247-B94B-9E8003FE7CB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7D395-2488-4B6C-BDC0-6E1B47B0FF5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8A9A2-1A26-4272-A08F-2FAD56B133F4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AA75A8-C632-4F12-BB04-FA87707432C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41F57-112F-4AF1-B58C-D11CCA5F73D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F2968-B58B-466C-AF45-1B862189F7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92962-1184-4703-B4D7-4F0C103370C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6707D-5B0A-4C74-ABEE-1F55F59C9A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OSE: Randomized Proteomic Stratified Phase III Study of Second-Line Erlotinib versus Chemotherapy in Patients with Inoperable Non-Small Cell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ung Canc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Lazzari C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LBA800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a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187280"/>
            <a:ext cx="8226360" cy="4570560"/>
          </a:xfrm>
          <a:prstGeom prst="rect">
            <a:avLst/>
          </a:prstGeom>
          <a:noFill/>
          <a:ln w="0">
            <a:noFill/>
          </a:ln>
        </p:spPr>
        <p:txBody>
          <a:bodyPr lIns="457200" tIns="182880" anchor="t">
            <a:normAutofit/>
          </a:bodyPr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this trial, all patients were classified as having good or poor VeriStrat status, depending on the biomarker signature in plasma sampl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verall, there were no significant differences in overall survival except for patients classified as having poor VeriStrat statu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r these patients, CT was a better treatment than ERL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terestingly, 2 patients with EGFR mutations were classified as having poor VeriStrat statu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demonstrated that the VeriStrat signature is a prognostic tool and may be another useful biomarker for predicting response to therapy in the second-line setting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ngoing VeriStrat trials in the second-line setting for squamous cell carcinoma include the Phase III EMPHASIS study (NCT01652469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z-Ares L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reatment of NSCLC after progression on platinum-based regimens includes chemotherapy or EGFR inhibitor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rlotinib, an EGFR inhibitor, improves progression-free survival for patients with EGFR-activating mutation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 test for optimizing treatment for patients with advanced NSCLC with wild-type or unknown EGFR status or those with squamous cell histology is of clinical valu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 multivariate protein-based serum classification test has been shown to have prognostic and predictive value in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rospectively evaluate the predictive utility of VeriStrat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classification on survival outcome with erlotinib versus chemotherapy as second-line therapy for patients with advanced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azzari 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888840" y="1380960"/>
          <a:ext cx="7315200" cy="111780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3970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2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720720">
                <a:tc>
                  <a:txBody>
                    <a:bodyPr lIns="90000" rIns="90000" anchor="t">
                      <a:noAutofit/>
                    </a:bodyPr>
                    <a:p>
                      <a:pPr marL="285840" indent="-230400"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istologically/cytologically confirmed Stage IIIB-IV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30400"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prior platinum-based therapy; no prior EGFR 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2" name="Rectangle 31"/>
          <p:cNvSpPr/>
          <p:nvPr/>
        </p:nvSpPr>
        <p:spPr>
          <a:xfrm>
            <a:off x="944640" y="5110200"/>
            <a:ext cx="41940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 Overall 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Crossover permitted at pro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pective Phase III PROSE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44640" y="4070520"/>
          <a:ext cx="2884320" cy="366480"/>
        </p:xfrm>
        <a:graphic>
          <a:graphicData uri="http://schemas.openxmlformats.org/drawingml/2006/table">
            <a:tbl>
              <a:tblPr/>
              <a:tblGrid>
                <a:gridCol w="2884320"/>
              </a:tblGrid>
              <a:tr h="366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hemotherapy (n = 129)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5" name="Line 2"/>
          <p:cNvSpPr/>
          <p:nvPr/>
        </p:nvSpPr>
        <p:spPr>
          <a:xfrm>
            <a:off x="4543560" y="2502000"/>
            <a:ext cx="0" cy="18252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4"/>
          <p:cNvSpPr/>
          <p:nvPr/>
        </p:nvSpPr>
        <p:spPr>
          <a:xfrm>
            <a:off x="3416400" y="2695680"/>
            <a:ext cx="220968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azzari 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447920" y="2873520"/>
          <a:ext cx="2844720" cy="365040"/>
        </p:xfrm>
        <a:graphic>
          <a:graphicData uri="http://schemas.openxmlformats.org/drawingml/2006/table">
            <a:tbl>
              <a:tblPr/>
              <a:tblGrid>
                <a:gridCol w="2844720"/>
              </a:tblGrid>
              <a:tr h="365040"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eriStrat status* — 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5321160" y="4108320"/>
          <a:ext cx="3173400" cy="366840"/>
        </p:xfrm>
        <a:graphic>
          <a:graphicData uri="http://schemas.openxmlformats.org/drawingml/2006/table">
            <a:tbl>
              <a:tblPr/>
              <a:tblGrid>
                <a:gridCol w="3173400"/>
              </a:tblGrid>
              <a:tr h="366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rlotinib (150 mg/d) (n = 1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4809960" y="2860560"/>
          <a:ext cx="2683080" cy="365400"/>
        </p:xfrm>
        <a:graphic>
          <a:graphicData uri="http://schemas.openxmlformats.org/drawingml/2006/table">
            <a:tbl>
              <a:tblPr/>
              <a:tblGrid>
                <a:gridCol w="2683080"/>
              </a:tblGrid>
              <a:tr h="365400"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eriStrat status* — 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1" name="Line 2"/>
          <p:cNvSpPr/>
          <p:nvPr/>
        </p:nvSpPr>
        <p:spPr>
          <a:xfrm>
            <a:off x="3416400" y="2687760"/>
            <a:ext cx="0" cy="18396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"/>
          <p:cNvSpPr/>
          <p:nvPr/>
        </p:nvSpPr>
        <p:spPr>
          <a:xfrm>
            <a:off x="5635800" y="2689200"/>
            <a:ext cx="0" cy="1825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"/>
          <p:cNvSpPr/>
          <p:nvPr/>
        </p:nvSpPr>
        <p:spPr>
          <a:xfrm>
            <a:off x="4543560" y="3425760"/>
            <a:ext cx="0" cy="14760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"/>
          <p:cNvSpPr/>
          <p:nvPr/>
        </p:nvSpPr>
        <p:spPr>
          <a:xfrm>
            <a:off x="5635800" y="3251160"/>
            <a:ext cx="0" cy="18432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"/>
          <p:cNvSpPr/>
          <p:nvPr/>
        </p:nvSpPr>
        <p:spPr>
          <a:xfrm>
            <a:off x="3416400" y="3251160"/>
            <a:ext cx="0" cy="18432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4"/>
          <p:cNvSpPr/>
          <p:nvPr/>
        </p:nvSpPr>
        <p:spPr>
          <a:xfrm>
            <a:off x="3416400" y="3425760"/>
            <a:ext cx="220968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1"/>
          <p:cNvSpPr/>
          <p:nvPr/>
        </p:nvSpPr>
        <p:spPr>
          <a:xfrm>
            <a:off x="5295960" y="4489560"/>
            <a:ext cx="319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atients and investigators are blinded to VeriStrat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896760" y="4438800"/>
            <a:ext cx="316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emetrexed (500 mg/m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 ) 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or docetaxel (75 mg/m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4"/>
          <p:cNvSpPr/>
          <p:nvPr/>
        </p:nvSpPr>
        <p:spPr>
          <a:xfrm>
            <a:off x="3416400" y="3887640"/>
            <a:ext cx="220968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"/>
          <p:cNvSpPr/>
          <p:nvPr/>
        </p:nvSpPr>
        <p:spPr>
          <a:xfrm>
            <a:off x="3416400" y="3879720"/>
            <a:ext cx="0" cy="1843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"/>
          <p:cNvSpPr/>
          <p:nvPr/>
        </p:nvSpPr>
        <p:spPr>
          <a:xfrm>
            <a:off x="5635800" y="3881520"/>
            <a:ext cx="0" cy="1825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4"/>
          <p:cNvSpPr/>
          <p:nvPr/>
        </p:nvSpPr>
        <p:spPr>
          <a:xfrm>
            <a:off x="4176720" y="3527280"/>
            <a:ext cx="731880" cy="731880"/>
          </a:xfrm>
          <a:prstGeom prst="ellipse">
            <a:avLst/>
          </a:prstGeom>
          <a:solidFill>
            <a:srgbClr val="db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984240" y="1473120"/>
          <a:ext cx="7340760" cy="3821040"/>
        </p:xfrm>
        <a:graphic>
          <a:graphicData uri="http://schemas.openxmlformats.org/drawingml/2006/table">
            <a:tbl>
              <a:tblPr/>
              <a:tblGrid>
                <a:gridCol w="3289320"/>
                <a:gridCol w="2025720"/>
                <a:gridCol w="2025720"/>
              </a:tblGrid>
              <a:tr h="6937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therap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0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4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6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eriStrat — Good (Poor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8% (3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2% (2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0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COG PS 0-1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4% (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4% (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ale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0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moking history: Yes (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7% (1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4% (1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(Squamo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8% (1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7% (2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6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utation-positive (Wild typ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 (9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% (9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Characteristics by Treat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azzari 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984240" y="1442880"/>
          <a:ext cx="7340760" cy="3975120"/>
        </p:xfrm>
        <a:graphic>
          <a:graphicData uri="http://schemas.openxmlformats.org/drawingml/2006/table">
            <a:tbl>
              <a:tblPr/>
              <a:tblGrid>
                <a:gridCol w="3111480"/>
                <a:gridCol w="1536840"/>
                <a:gridCol w="1422360"/>
                <a:gridCol w="1270080"/>
              </a:tblGrid>
              <a:tr h="7448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o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6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5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5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COG PS 0-1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6% (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9% (1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6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ale (Female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7%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4% (1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moking history: Yes (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3%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1% (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6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(Squamo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4% (1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7% (2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6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utation-positive (Wild typ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% (9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 (9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Characteristics by VeriStrat Classifi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azzari 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917640" y="1481040"/>
          <a:ext cx="7429320" cy="3040200"/>
        </p:xfrm>
        <a:graphic>
          <a:graphicData uri="http://schemas.openxmlformats.org/drawingml/2006/table">
            <a:tbl>
              <a:tblPr/>
              <a:tblGrid>
                <a:gridCol w="2692440"/>
                <a:gridCol w="1384200"/>
                <a:gridCol w="1270080"/>
                <a:gridCol w="1054080"/>
                <a:gridCol w="102852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y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7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y VeriStrat status — 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72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9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9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y VeriStrat status — 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7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3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9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urvival (OS) by Treatment and VeriStrat Class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31"/>
          <p:cNvSpPr/>
          <p:nvPr/>
        </p:nvSpPr>
        <p:spPr>
          <a:xfrm>
            <a:off x="917640" y="4627440"/>
            <a:ext cx="756108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T = chemotherapy; ERL = erlotinib; HR = hazard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verall, patients classified as having good VeriStrat status have better outcomes than those classified as having poor VeriStrat stat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azzari 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31"/>
          <p:cNvSpPr/>
          <p:nvPr/>
        </p:nvSpPr>
        <p:spPr>
          <a:xfrm>
            <a:off x="870120" y="4452840"/>
            <a:ext cx="7588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476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COG PS and VeriStrat classification are prognostic for outcome independent of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476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VeriStrat is predictive of significant differential treatment benefit between CT and ERL when adjusted for potential confounding fa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015920" y="1476360"/>
          <a:ext cx="7267680" cy="2879640"/>
        </p:xfrm>
        <a:graphic>
          <a:graphicData uri="http://schemas.openxmlformats.org/drawingml/2006/table">
            <a:tbl>
              <a:tblPr/>
              <a:tblGrid>
                <a:gridCol w="4303800"/>
                <a:gridCol w="1376280"/>
                <a:gridCol w="1587600"/>
              </a:tblGrid>
              <a:tr h="42372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ari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096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COG PS (2 vs 0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moking history (yes vs 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096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istology (squamous vs nonsquamo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eriStrat status (poor vs goo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096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reatment (ERL vs 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3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eriStrat treatment inte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azzari 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Strat Treatment-Adjusted Interaction Analysis for Overall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927000" y="1523880"/>
          <a:ext cx="7328160" cy="2756160"/>
        </p:xfrm>
        <a:graphic>
          <a:graphicData uri="http://schemas.openxmlformats.org/drawingml/2006/table">
            <a:tbl>
              <a:tblPr/>
              <a:tblGrid>
                <a:gridCol w="3899160"/>
                <a:gridCol w="1714320"/>
                <a:gridCol w="1714680"/>
              </a:tblGrid>
              <a:tr h="6858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iStrat treatment inte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8904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l treated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90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group analysi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9228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tients with EGFR wild type or unknown EGFR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Analysis: Interaction between Treatme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VeriStrat Class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azzari 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1"/>
          <p:cNvSpPr/>
          <p:nvPr/>
        </p:nvSpPr>
        <p:spPr>
          <a:xfrm>
            <a:off x="927000" y="4516560"/>
            <a:ext cx="7328160" cy="10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xcludes 14 patients with NSCLC harboring EGFR mu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76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VeriStrat classification is useful in guiding treatment decision-making for patients with EGFR wild type or unknown EGFR stat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57200" y="1172880"/>
            <a:ext cx="822960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ROSE trial is the first completed prospective biomarker-stratified validation study in oncology to test for interactions between treatment and biomarker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demonstrated that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urvival of patients who are classified as having poor VeriStrat status (30% to 35%) is better with chemotherapy than with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rlotinib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urvival of patients who are classified as having good VeriStrat status (65% to 70%) is similar between chemotherapy and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rlotinib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serum proteomic VeriStrat classification is clinically useful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o guide second-line treatment decisions for patients with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SCLC with EGFR wild type or unknown EGFR statu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azzari 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3-06T20:38:39Z</cp:lastPrinted>
  <dcterms:modified xsi:type="dcterms:W3CDTF">2013-07-22T18:49:12Z</dcterms:modified>
  <cp:revision>686</cp:revision>
  <dc:subject/>
  <dc:title>Research To Practice</dc:title>
</cp:coreProperties>
</file>