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CA5F2-6E41-4D0E-B3FF-EAAE969E43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55B11B-75F8-430B-B285-9C729C5D7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B2A429-5F17-474F-A876-52F20AFB0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FDE2-4EB2-4461-A450-4D3D5EF8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A66A-533D-4B00-9232-8EC17A31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F799-05C7-4AD7-8CFE-F528FD8F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A962-1C36-4D04-907C-AE1020F8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BF30-9C6C-44CF-ABAB-29A17ADE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2C46-0E5D-41B0-B1EE-9D359833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54C3-72C7-419F-B2C1-0D67253D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C361-D777-4205-980D-8464E34C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C425-D3AD-4E80-9E55-2C5E75D1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BD09-7B14-4C33-9C5A-C3D88211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5F42-4AD9-40E5-A5E6-A5E534B8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7776-F92B-4DFD-9FBA-D3367DFB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0835-DA88-44B7-A8B0-77F917A2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6361-D7A9-4487-BF58-0B2D0E90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D494-FD75-41B6-86D8-C464D11C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EB16-5469-4086-ACA2-73227AA0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434B-E187-40AD-BA5D-A08EF68E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4943-FF24-4673-84B2-F3CB7A62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3BDD5-E4F3-4D43-B2CF-7EBA5592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4E8DF-214E-4565-A61B-36054536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91760-AA33-492E-B159-70F7AC70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6358-BB27-4E43-BFC9-12CC1490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9AECF-85C9-4716-851B-61A79615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02A0B-29F5-416F-A56C-3735A72D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AE0FD-7DBD-4D67-8FC3-C6393A31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503BF-B95E-47D5-9961-8C775FF3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D351C-F5A1-4C57-A5E8-FB42CD68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DDEBF-DF28-43A3-A12D-C3122912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D8BE3-2DA6-4B02-9C4B-087C1F91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2C011-E07D-4D70-A579-E522023F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3C51A-87E5-455C-8914-BCE28CB2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3FC8-EDC0-4F33-ABCC-811CEF8F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34E8-F4C2-425A-834F-41CE78FD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44C74-F565-45A2-A321-151AF62F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B1043-C8B9-47E3-947A-7EE1EFCD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4F31B-898B-40F5-ACF4-F2109EF3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1A733-6257-45DF-8359-E26F7F41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60262-3295-445F-8D2D-A007D5C2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59CB9-1E0D-400E-AFFC-3BB95C0B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872FF-4961-4875-B5FA-22FF2DA8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AA3D8-80D6-4D60-B4B0-D900F4E9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44994-0B5F-4B32-BEE6-86BE15D6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D540-5229-49DC-B37A-55A6FB7F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DD5EC-0CBF-4C70-81AC-97EA8657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91280-2C1F-4142-BEF0-75D66826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4A056-7318-476E-92F5-2CA99E55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5A82-F999-42C6-B5F8-F93E5768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B567-0535-45AA-BFF6-6F23858D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AE55FB-F406-47FD-A051-55735125FFDC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5C6584-16FD-4302-BD5D-87342CE8DF3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1C0507-5E70-47A2-9CE9-525F89188F92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85D87-3A95-4F64-86EC-CC2354636C0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4A145D-0BCC-42FE-A4BB-B682B68C1D1A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CA5FB-F1F3-420B-9C6D-C142ABDDDBB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AC409C-E05C-44AA-B616-81D42F3B9D4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0C532-9F75-4F3E-977E-A7A4489C4F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nical Activity of the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K Inhibitor LDK378 i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vanced, ALK-Positive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SCLC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haw AT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Abstract 801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172880"/>
            <a:ext cx="82119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LK gene rearrangements occur in 3% to 7% of non-small cell lung cancer (NSCLC) cases and are more prevalent in younger patients, nonsmokers and those with adenocarcinomas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LK+ NSCLC is sensitive to crizotinib (CRZ), but most patients develop resistance to CRZ, and CNS relapses are common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LDK378 is a novel, oral ALK tyrosine kinase inhibitor that is more potent than CRZ, with significant antitumor activity, including in CRZ-resistant models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roc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AACR-NCI-EORTC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1;Abstract B232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nvestigate the safety and efficacy of LDK378 in patients with advanced ALK+ NSCLC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traight Connector 37"/>
          <p:cNvSpPr/>
          <p:nvPr/>
        </p:nvSpPr>
        <p:spPr>
          <a:xfrm>
            <a:off x="2886120" y="3830760"/>
            <a:ext cx="0" cy="137880"/>
          </a:xfrm>
          <a:prstGeom prst="line">
            <a:avLst/>
          </a:prstGeom>
          <a:ln w="255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38"/>
          <p:cNvSpPr/>
          <p:nvPr/>
        </p:nvSpPr>
        <p:spPr>
          <a:xfrm>
            <a:off x="4626000" y="3830760"/>
            <a:ext cx="0" cy="137880"/>
          </a:xfrm>
          <a:prstGeom prst="line">
            <a:avLst/>
          </a:prstGeom>
          <a:ln w="255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5"/>
          <p:cNvSpPr/>
          <p:nvPr/>
        </p:nvSpPr>
        <p:spPr>
          <a:xfrm>
            <a:off x="5084640" y="2500200"/>
            <a:ext cx="0" cy="639720"/>
          </a:xfrm>
          <a:prstGeom prst="line">
            <a:avLst/>
          </a:prstGeom>
          <a:ln w="255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2"/>
          <p:cNvSpPr/>
          <p:nvPr/>
        </p:nvSpPr>
        <p:spPr>
          <a:xfrm>
            <a:off x="2014560" y="3944880"/>
            <a:ext cx="1657440" cy="5396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3"/>
          <p:cNvSpPr/>
          <p:nvPr/>
        </p:nvSpPr>
        <p:spPr>
          <a:xfrm>
            <a:off x="3767040" y="3944880"/>
            <a:ext cx="1657440" cy="5396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1"/>
          <p:cNvSpPr/>
          <p:nvPr/>
        </p:nvSpPr>
        <p:spPr>
          <a:xfrm>
            <a:off x="6929280" y="3270240"/>
            <a:ext cx="1301760" cy="1179360"/>
          </a:xfrm>
          <a:prstGeom prst="rect">
            <a:avLst/>
          </a:prstGeom>
          <a:solidFill>
            <a:srgbClr val="c6d9f1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0"/>
          <p:cNvSpPr/>
          <p:nvPr/>
        </p:nvSpPr>
        <p:spPr>
          <a:xfrm>
            <a:off x="5519880" y="3270240"/>
            <a:ext cx="1299960" cy="1179360"/>
          </a:xfrm>
          <a:prstGeom prst="rect">
            <a:avLst/>
          </a:prstGeom>
          <a:solidFill>
            <a:srgbClr val="8eb4e3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2021040" y="1308240"/>
            <a:ext cx="5140080" cy="1261800"/>
          </a:xfrm>
          <a:prstGeom prst="rect">
            <a:avLst/>
          </a:prstGeom>
          <a:solidFill>
            <a:srgbClr val="17375e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1"/>
          <p:cNvSpPr/>
          <p:nvPr/>
        </p:nvSpPr>
        <p:spPr>
          <a:xfrm>
            <a:off x="855720" y="5310360"/>
            <a:ext cx="725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*Continuous oral dosing in 21-day cycles                      ALKi = ALK inhib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"/>
          <p:cNvSpPr/>
          <p:nvPr/>
        </p:nvSpPr>
        <p:spPr>
          <a:xfrm>
            <a:off x="2139840" y="1308240"/>
            <a:ext cx="502128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y advanced ALK+ canc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gression on standard thera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treated asymptomatic and treated neurologically stable CNS metastases allow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ose escalation starting at 50 mg/day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9"/>
          <p:cNvSpPr/>
          <p:nvPr/>
        </p:nvSpPr>
        <p:spPr>
          <a:xfrm>
            <a:off x="3419640" y="2666880"/>
            <a:ext cx="3522600" cy="312840"/>
          </a:xfrm>
          <a:prstGeom prst="rect">
            <a:avLst/>
          </a:prstGeom>
          <a:solidFill>
            <a:srgbClr val="578fd3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calate to MTD (750 mg/day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1062000" y="2647800"/>
            <a:ext cx="2306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Completed N = 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1"/>
          <p:cNvSpPr/>
          <p:nvPr/>
        </p:nvSpPr>
        <p:spPr>
          <a:xfrm>
            <a:off x="2014560" y="3267000"/>
            <a:ext cx="3398760" cy="531720"/>
          </a:xfrm>
          <a:prstGeom prst="rect">
            <a:avLst/>
          </a:prstGeom>
          <a:solidFill>
            <a:srgbClr val="89add8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ALK+ lung cancer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Prior ALKi thera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2"/>
          <p:cNvSpPr/>
          <p:nvPr/>
        </p:nvSpPr>
        <p:spPr>
          <a:xfrm>
            <a:off x="638280" y="3529080"/>
            <a:ext cx="1554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Additional</a:t>
            </a:r>
            <a:br>
              <a:rPr sz="1600"/>
            </a:b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N = 71</a:t>
            </a:r>
            <a:br>
              <a:rPr sz="1600"/>
            </a:b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enro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3"/>
          <p:cNvSpPr/>
          <p:nvPr/>
        </p:nvSpPr>
        <p:spPr>
          <a:xfrm>
            <a:off x="2025720" y="3944880"/>
            <a:ext cx="1658880" cy="531720"/>
          </a:xfrm>
          <a:prstGeom prst="rect">
            <a:avLst/>
          </a:prstGeom>
          <a:noFill/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≤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2 months after prior ALK T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4"/>
          <p:cNvSpPr/>
          <p:nvPr/>
        </p:nvSpPr>
        <p:spPr>
          <a:xfrm>
            <a:off x="3754440" y="3944880"/>
            <a:ext cx="1658880" cy="531720"/>
          </a:xfrm>
          <a:prstGeom prst="rect">
            <a:avLst/>
          </a:prstGeom>
          <a:noFill/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&gt;2 months after prior ALK T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5"/>
          <p:cNvSpPr/>
          <p:nvPr/>
        </p:nvSpPr>
        <p:spPr>
          <a:xfrm>
            <a:off x="5519880" y="3371760"/>
            <a:ext cx="12999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ALK+ lung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cancer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naïve to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AL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6"/>
          <p:cNvSpPr/>
          <p:nvPr/>
        </p:nvSpPr>
        <p:spPr>
          <a:xfrm>
            <a:off x="6929280" y="3465360"/>
            <a:ext cx="13017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Non-lung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ALK+ tum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28"/>
          <p:cNvSpPr/>
          <p:nvPr/>
        </p:nvSpPr>
        <p:spPr>
          <a:xfrm flipH="1">
            <a:off x="3684600" y="3139920"/>
            <a:ext cx="3857760" cy="0"/>
          </a:xfrm>
          <a:prstGeom prst="line">
            <a:avLst/>
          </a:prstGeom>
          <a:ln w="255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32"/>
          <p:cNvSpPr/>
          <p:nvPr/>
        </p:nvSpPr>
        <p:spPr>
          <a:xfrm>
            <a:off x="3695760" y="3139920"/>
            <a:ext cx="0" cy="138240"/>
          </a:xfrm>
          <a:prstGeom prst="line">
            <a:avLst/>
          </a:prstGeom>
          <a:ln w="255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35"/>
          <p:cNvSpPr/>
          <p:nvPr/>
        </p:nvSpPr>
        <p:spPr>
          <a:xfrm>
            <a:off x="6165720" y="3139920"/>
            <a:ext cx="0" cy="138240"/>
          </a:xfrm>
          <a:prstGeom prst="line">
            <a:avLst/>
          </a:prstGeom>
          <a:ln w="255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36"/>
          <p:cNvSpPr/>
          <p:nvPr/>
        </p:nvSpPr>
        <p:spPr>
          <a:xfrm>
            <a:off x="7542360" y="3139920"/>
            <a:ext cx="0" cy="138240"/>
          </a:xfrm>
          <a:prstGeom prst="line">
            <a:avLst/>
          </a:prstGeom>
          <a:ln w="255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1"/>
          <p:cNvSpPr/>
          <p:nvPr/>
        </p:nvSpPr>
        <p:spPr>
          <a:xfrm>
            <a:off x="844560" y="4573440"/>
            <a:ext cx="7899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objective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Determination of maximum tolerated dose (MT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Secondary objectives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Include safety, preliminary antitumo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939960" y="1494000"/>
          <a:ext cx="7315200" cy="3028680"/>
        </p:xfrm>
        <a:graphic>
          <a:graphicData uri="http://schemas.openxmlformats.org/drawingml/2006/table">
            <a:tbl>
              <a:tblPr/>
              <a:tblGrid>
                <a:gridCol w="2619360"/>
                <a:gridCol w="1552320"/>
                <a:gridCol w="1576440"/>
                <a:gridCol w="1567080"/>
              </a:tblGrid>
              <a:tr h="97200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Z pretre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79)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Z naï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5)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0465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verall response ra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mplete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rtial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80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bl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54036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ogressiv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e to LDK378 (400-750 mg/d) i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K+ N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992520" y="4681440"/>
            <a:ext cx="435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1 response unknown  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†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4 responses un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FS and Duration of Response with LDK378 in ALK+ N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934920" y="1517760"/>
          <a:ext cx="7337520" cy="2771640"/>
        </p:xfrm>
        <a:graphic>
          <a:graphicData uri="http://schemas.openxmlformats.org/drawingml/2006/table">
            <a:tbl>
              <a:tblPr/>
              <a:tblGrid>
                <a:gridCol w="5757840"/>
                <a:gridCol w="1579680"/>
              </a:tblGrid>
              <a:tr h="45072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i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1494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ogression-free survival (PF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* (≥400 mg/d) (n = 1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FS rate (6 mo) at 750 mg/d (n = 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6 mo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7144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uration of response (DO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DOR (≥400 mg/d) (n = 66 responde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OR rate (6 mo) at 750 mg/d (n = 47 responde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0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88" name="TextBox 5"/>
          <p:cNvSpPr/>
          <p:nvPr/>
        </p:nvSpPr>
        <p:spPr>
          <a:xfrm>
            <a:off x="934920" y="4381560"/>
            <a:ext cx="733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Median PFS at 750 mg/d not reac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†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57% cens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977760" y="1450800"/>
          <a:ext cx="7162920" cy="2414880"/>
        </p:xfrm>
        <a:graphic>
          <a:graphicData uri="http://schemas.openxmlformats.org/drawingml/2006/table">
            <a:tbl>
              <a:tblPr/>
              <a:tblGrid>
                <a:gridCol w="4042080"/>
                <a:gridCol w="3120840"/>
              </a:tblGrid>
              <a:tr h="43992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 and 4 A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atients (n = 1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952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LT incr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ST incr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384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ipase incr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52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ypokal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5"/>
          <p:cNvSpPr/>
          <p:nvPr/>
        </p:nvSpPr>
        <p:spPr>
          <a:xfrm>
            <a:off x="884160" y="4016520"/>
            <a:ext cx="76215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e most common adverse events among all patients were nausea (73%), diarrhea (72%), vomiting (58%) and fatigue (41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2% discontinued therapy due to A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ere were no treatment-related dea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 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457200" y="1173240"/>
            <a:ext cx="821196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2286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LDK378 exhibits potent antitumor activity in ALK+ NSCLC at doses of 400-750 mg/d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ORR was 57% for CRZ-treated patients and 60% for CRZ-naïve pati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Median PFS was 8.6 mon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LDK378 is active in the CNS (data not show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most common adverse events were nausea, diarrhea, vomiting and fatigue, and most were Grade 1 or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LDK378 induces responses in the majority of CRZ-treated patients, including those who have acquired a new ALK mutation or amplification (data not show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Directions in N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457200" y="1173240"/>
            <a:ext cx="821196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2286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hase II stud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LDK378 in patients previously treated with CRZ and chemotherapy (NCT016850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LDK378 in CRZ-naïve patients previously treated with chemotherapy (NCT016851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hase III stud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LDK378 versus chemotherapy in patients previously treated with CRZ and chemotherapy (NCT018281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LDK378 versus chemotherapy in patients who are both CRZ-naïve  and chemotherapy-naïve (NCT018280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568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LDK378 exhibits potent antitumor activity in ALK+ NSCLC in CRZ-naïve and CRZ-resistant tumor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uture studies will inform us regarding sequence of ALK TKI therapy and benefit of rational combinatorial therapies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otential strategies include combination of ALK inhibitors with HSP90, MEK, mTOR or EGFR inhibitors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urther insights into alternative mechanisms of ALK TKI resistance will help to refine treatment approach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Because ALK is an oncogenic driver in a growing number of hematologic and solid tumors, an improved understanding of ALK signaling and mechanisms of resistance to ALK inhibition may have potential implications for other ALK-driven malignancies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ant 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ovly 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 Discu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Research To Practice</dc:creator>
  <dc:description/>
  <cp:keywords/>
  <dc:language>en-US</dc:language>
  <cp:lastModifiedBy>Silvana Izquierdo</cp:lastModifiedBy>
  <cp:lastPrinted>2013-06-28T17:15:38Z</cp:lastPrinted>
  <dcterms:modified xsi:type="dcterms:W3CDTF">2013-07-22T18:51:06Z</dcterms:modified>
  <cp:revision>708</cp:revision>
  <dc:subject/>
  <dc:title>Research To Practice</dc:title>
</cp:coreProperties>
</file>