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FA89-E840-4225-88F6-15F2ECA4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F428-F2D2-42A0-A828-4BC410E5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A965-6DB5-4C5B-86B2-182DDA7C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FDA-80BC-429C-9005-89B08F9E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E9C9-7028-4534-A5FA-707CD54E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8428-196C-43DF-BDB2-686A7A2C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1EAE-22ED-4EF6-AC02-17AAA08F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C4EA-3E8C-481A-833B-E75F266D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0261-A8FA-4CB6-A46C-53C0E702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3324-1A36-4776-9884-631A7FA3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96EB-41F9-459D-94F6-55064F44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B1E6-C6BC-4CC9-B754-160D09CC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8E24-3EA7-428E-9D96-594C50FA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3950-504E-4C96-9DE7-C19E2CCA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94CB-4CCA-4381-A95A-F0AD70F8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7C64-99CF-4374-AAF6-D0466792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E524-59C7-4027-89AF-FDBE77C0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ABE6-1847-46D6-8B90-81A209EE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F3FEF-E9B8-4038-AB2F-B1D721E1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C6AA3-FD3E-4DA2-92EF-4E6E57CE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12EB8-9CE5-4F0D-B325-AD567F2A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4A24-30E6-4805-8C12-0CA35F51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881DF-77CD-41E1-A4AF-2E798DFC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2B5B2-FCA0-4302-9212-58A040CB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47316-D9C0-405D-A278-449C3C92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52E59-1711-4D21-A8E2-EA29ECAF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BCA33-FABA-4B21-83ED-09FCB6D5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E1BF7-1966-4D10-8119-3518C9C4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2D26B-74F2-462B-9616-38ED4651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D522B-9174-4342-B1DC-59E3D89D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AA184-6018-42C2-8F0E-62B65B1E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B8D-3D32-4554-BD0D-D183E9FB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783-C3BD-40B1-98A9-632E23F3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68260-B883-4CA7-A33C-3594C1C3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262B9-15B5-45F8-87A6-8BECCB74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AD9F3-D77C-4713-BB53-587605D2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C2A81-5916-4224-9D30-7D78BFF6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AB6D8-0A47-4DAD-A09B-14C3CD05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ACCB2-D420-4FC3-91A5-9106A701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A7D21-B78D-4885-AD9C-B66F33CC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FC86F-92E1-48EA-B4AD-0502F251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8DB33-A57D-4A0C-A3DE-AC803506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95B-4438-4FDF-BA74-17478024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32463-F8E0-4F26-B9E0-2DABE6A8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921BA-0299-4CC8-8A2C-92F875D5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531D0-240A-447D-BD52-F7C1F942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5E56-65AA-4E1E-8D63-8CA4386C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88BF-48E8-4934-8BA4-8448B85F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5FEF9-0ED6-454A-A68C-7E17004DBD27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DE89A-3FD4-4BAB-AE7C-61CEFA801D1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58638-81F4-4E5C-9936-2FF11C0B18B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F16CE-AEA2-4F51-8795-948150DA348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6513F-2934-4C23-8E7C-003708A357A2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4C952-45B9-4387-8B0E-DDC4DD67FBC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8F4280-2781-4617-86CC-CA985B9EDE8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5F24C-970F-409C-8D27-21CFA94808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ELECT Study: A Multicenter Phase II Trial of Adjuvant Erlotinib in Resected Epidermal Growth Factor Receptor (EGFR) Mutation-Positive Non-Small Cell Lung Cancer (NSCL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Neal JW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2 Multidisciplinary Symposium in Thoracic Oncology;Abstract 1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42440" y="1163520"/>
            <a:ext cx="8226360" cy="4577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32004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Only 2 of 8 recurrent tumors exhibited genetic changes associated with EGFR-TKI resistance (data not shown)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6 of 6 evaluable patients who received erlotinib for recurrent disease demonstrated sensitivity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ased on the demonstrated role of EGFR TKIs in advanced NSCLC with EGFR mutations, this trial has been expanded to a total of 100 patients to permit survival analysis by stage (accrual completed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457200" y="6046920"/>
            <a:ext cx="70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Neal JW et al. </a:t>
            </a:r>
            <a:r>
              <a:rPr b="0" lang="en-US" sz="2000" spc="-1" strike="noStrike">
                <a:solidFill>
                  <a:srgbClr val="80c3d5"/>
                </a:solidFill>
                <a:latin typeface="Arial"/>
              </a:rPr>
              <a:t>2012 Multidisciplinary Symposium in Thoracic Oncology;Abstract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djuvant chemotherapy provides a modest survival benefit of 5-10% for patients with resected NSCLC, and many patients still experience disease relaps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umors with activating EGFR mutations are sensitive to EGFR tyrosine kinase inhibitors (TKIs) such as erlotinib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 previously published retrospective analysis demonstrated 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 2-year disease-free survival of 89% versus 72% for patients treated with adjuvant EGFR TKIs compared to controls 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33"/>
                </a:solidFill>
                <a:latin typeface="Arial"/>
              </a:rPr>
              <a:t>J Thoracic Oncol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2011;6:569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nvestigate the safety and efficacy of adjuvant erlotinib in patients with Stage IA-IIIA NSCLC and somatic EGFR mutations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457200" y="6046920"/>
            <a:ext cx="70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Neal JW et al. </a:t>
            </a:r>
            <a:r>
              <a:rPr b="0" lang="en-US" sz="2000" spc="-1" strike="noStrike">
                <a:solidFill>
                  <a:srgbClr val="80c3d5"/>
                </a:solidFill>
                <a:latin typeface="Arial"/>
              </a:rPr>
              <a:t>2012 Multidisciplinary Symposium in Thoracic Oncology;Abstract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4902120" y="1758960"/>
          <a:ext cx="3300480" cy="695160"/>
        </p:xfrm>
        <a:graphic>
          <a:graphicData uri="http://schemas.openxmlformats.org/drawingml/2006/table">
            <a:tbl>
              <a:tblPr/>
              <a:tblGrid>
                <a:gridCol w="330048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rlotinib (o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0 mg/d x 2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0" name="Rectangle 31"/>
          <p:cNvSpPr/>
          <p:nvPr/>
        </p:nvSpPr>
        <p:spPr>
          <a:xfrm>
            <a:off x="914400" y="4245120"/>
            <a:ext cx="732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2-year disease-free survival (DFS) exceeding 85%, suggesting improvement over the historically expected 70% in early-stage EGFR-mutant NSCLC (</a:t>
            </a:r>
            <a:r>
              <a:rPr b="0" i="1" lang="en-US" sz="1800" spc="-1" strike="noStrike">
                <a:solidFill>
                  <a:srgbClr val="333333"/>
                </a:solidFill>
                <a:latin typeface="Arial"/>
              </a:rPr>
              <a:t>J Thoracic Oncol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2011;6:56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902120" y="3203640"/>
          <a:ext cx="3300480" cy="726840"/>
        </p:xfrm>
        <a:graphic>
          <a:graphicData uri="http://schemas.openxmlformats.org/drawingml/2006/table">
            <a:tbl>
              <a:tblPr/>
              <a:tblGrid>
                <a:gridCol w="3300480"/>
              </a:tblGrid>
              <a:tr h="726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T scans: Every 6 mo for 3 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nnually years 4 and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: Single-Arm Phase II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"/>
          <p:cNvSpPr/>
          <p:nvPr/>
        </p:nvSpPr>
        <p:spPr>
          <a:xfrm>
            <a:off x="3924360" y="2106720"/>
            <a:ext cx="977760" cy="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"/>
          <p:cNvSpPr/>
          <p:nvPr/>
        </p:nvSpPr>
        <p:spPr>
          <a:xfrm>
            <a:off x="6551640" y="2454120"/>
            <a:ext cx="0" cy="7495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914400" y="1523880"/>
          <a:ext cx="3154320" cy="2457720"/>
        </p:xfrm>
        <a:graphic>
          <a:graphicData uri="http://schemas.openxmlformats.org/drawingml/2006/table">
            <a:tbl>
              <a:tblPr/>
              <a:tblGrid>
                <a:gridCol w="3154320"/>
              </a:tblGrid>
              <a:tr h="412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3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044800">
                <a:tc>
                  <a:txBody>
                    <a:bodyPr lIns="90000" rIns="90000" anchor="ctr">
                      <a:noAutofit/>
                    </a:bodyPr>
                    <a:p>
                      <a:pPr marL="174600" indent="-174600">
                        <a:spcBef>
                          <a:spcPts val="601"/>
                        </a:spcBef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GFR mutation-positive, surgically resected Stage IA-IIIA 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spcBef>
                          <a:spcPts val="601"/>
                        </a:spcBef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&lt;6-9 mo following routine adjuvant chemotherapy with/without X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6" name="Footer Placeholder 4"/>
          <p:cNvSpPr/>
          <p:nvPr/>
        </p:nvSpPr>
        <p:spPr>
          <a:xfrm>
            <a:off x="457200" y="6046920"/>
            <a:ext cx="70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Neal JW et al. </a:t>
            </a:r>
            <a:r>
              <a:rPr b="0" lang="en-US" sz="2000" spc="-1" strike="noStrike">
                <a:solidFill>
                  <a:srgbClr val="80c3d5"/>
                </a:solidFill>
                <a:latin typeface="Arial"/>
              </a:rPr>
              <a:t>2012 Multidisciplinary Symposium in Thoracic Oncology;Abstract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iJournalNeilGraph1.png"/>
          <p:cNvPicPr/>
          <p:nvPr/>
        </p:nvPicPr>
        <p:blipFill>
          <a:blip r:embed="rId1"/>
          <a:stretch/>
        </p:blipFill>
        <p:spPr>
          <a:xfrm>
            <a:off x="2095560" y="1355760"/>
            <a:ext cx="6264360" cy="3546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FS from Start of Adjuvant Erlotinib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457200" y="6046920"/>
            <a:ext cx="8394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Neal JW et al. </a:t>
            </a:r>
            <a:r>
              <a:rPr b="0" lang="en-US" sz="2000" spc="-1" strike="noStrike">
                <a:solidFill>
                  <a:srgbClr val="80c3d5"/>
                </a:solidFill>
                <a:latin typeface="Arial"/>
              </a:rPr>
              <a:t>2012 Multidisciplinary Symposium in Thoracic Oncology;Abstract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4"/>
          <p:cNvSpPr/>
          <p:nvPr/>
        </p:nvSpPr>
        <p:spPr>
          <a:xfrm flipH="1">
            <a:off x="647280" y="5216400"/>
            <a:ext cx="7712280" cy="0"/>
          </a:xfrm>
          <a:prstGeom prst="line">
            <a:avLst/>
          </a:prstGeom>
          <a:ln w="1584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5"/>
          <p:cNvSpPr/>
          <p:nvPr/>
        </p:nvSpPr>
        <p:spPr>
          <a:xfrm>
            <a:off x="2077920" y="4789440"/>
            <a:ext cx="64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Time from initiating adjuvant erlotinib (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7"/>
          <p:cNvSpPr/>
          <p:nvPr/>
        </p:nvSpPr>
        <p:spPr>
          <a:xfrm>
            <a:off x="2081160" y="4521240"/>
            <a:ext cx="68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         0.5       1.0       1.5        2.0       2.5       3.0       3.5        4.0       4.5        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5"/>
          <p:cNvSpPr/>
          <p:nvPr/>
        </p:nvSpPr>
        <p:spPr>
          <a:xfrm rot="16200000">
            <a:off x="400680" y="2882160"/>
            <a:ext cx="227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Survival  Prob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6"/>
          <p:cNvSpPr/>
          <p:nvPr/>
        </p:nvSpPr>
        <p:spPr>
          <a:xfrm>
            <a:off x="1509840" y="1246320"/>
            <a:ext cx="630000" cy="33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612"/>
          <p:cNvSpPr/>
          <p:nvPr/>
        </p:nvSpPr>
        <p:spPr>
          <a:xfrm>
            <a:off x="5495760" y="1619280"/>
            <a:ext cx="364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Median follow-up tim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2.7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21"/>
          <p:cNvSpPr/>
          <p:nvPr/>
        </p:nvSpPr>
        <p:spPr>
          <a:xfrm>
            <a:off x="4678200" y="1698480"/>
            <a:ext cx="0" cy="1138320"/>
          </a:xfrm>
          <a:prstGeom prst="line">
            <a:avLst/>
          </a:prstGeom>
          <a:ln w="38160">
            <a:solidFill>
              <a:srgbClr val="dc701a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612"/>
          <p:cNvSpPr/>
          <p:nvPr/>
        </p:nvSpPr>
        <p:spPr>
          <a:xfrm>
            <a:off x="3878280" y="2882880"/>
            <a:ext cx="18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dc701a"/>
                </a:solidFill>
                <a:latin typeface="Arial"/>
              </a:rPr>
              <a:t>94% 2-Year 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612"/>
          <p:cNvSpPr/>
          <p:nvPr/>
        </p:nvSpPr>
        <p:spPr>
          <a:xfrm>
            <a:off x="2274840" y="403704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Censored obser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24"/>
          <p:cNvSpPr/>
          <p:nvPr/>
        </p:nvSpPr>
        <p:spPr>
          <a:xfrm>
            <a:off x="2463840" y="4189320"/>
            <a:ext cx="0" cy="69840"/>
          </a:xfrm>
          <a:prstGeom prst="line">
            <a:avLst/>
          </a:prstGeom>
          <a:ln cap="rnd" w="38160">
            <a:solidFill>
              <a:srgbClr val="6fa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647640" y="5214960"/>
            <a:ext cx="771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Patients at Risk   36</a:t>
            </a:r>
            <a:r>
              <a:rPr b="0" lang="en-US" sz="1300" spc="-1" strike="noStrike">
                <a:solidFill>
                  <a:srgbClr val="464847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35        34</a:t>
            </a:r>
            <a:r>
              <a:rPr b="0" lang="en-US" sz="1500" spc="-1" strike="noStrike">
                <a:solidFill>
                  <a:srgbClr val="464847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34        33        19          7          3          1 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3" descr="iJournalNeilGraph2.png"/>
          <p:cNvPicPr/>
          <p:nvPr/>
        </p:nvPicPr>
        <p:blipFill>
          <a:blip r:embed="rId1"/>
          <a:stretch/>
        </p:blipFill>
        <p:spPr>
          <a:xfrm>
            <a:off x="2039760" y="1138320"/>
            <a:ext cx="6471000" cy="35211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457200" y="6046920"/>
            <a:ext cx="8394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Neal JW et al. </a:t>
            </a:r>
            <a:r>
              <a:rPr b="0" lang="en-US" sz="2000" spc="-1" strike="noStrike">
                <a:solidFill>
                  <a:srgbClr val="80c3d5"/>
                </a:solidFill>
                <a:latin typeface="Arial"/>
              </a:rPr>
              <a:t>2012 Multidisciplinary Symposium in Thoracic Oncology;Abstract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1"/>
          <p:cNvSpPr/>
          <p:nvPr/>
        </p:nvSpPr>
        <p:spPr>
          <a:xfrm>
            <a:off x="573120" y="4987800"/>
            <a:ext cx="782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04920"/>
                <a:tab algn="l" pos="1770120"/>
                <a:tab algn="l" pos="2395440"/>
                <a:tab algn="l" pos="2975040"/>
                <a:tab algn="l" pos="3541680"/>
                <a:tab algn="l" pos="4165560"/>
                <a:tab algn="l" pos="4746600"/>
                <a:tab algn="l" pos="5311800"/>
                <a:tab algn="l" pos="5951520"/>
                <a:tab algn="l" pos="6516720"/>
                <a:tab algn="l" pos="7140600"/>
                <a:tab algn="l" pos="7823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04920"/>
                <a:tab algn="l" pos="1770120"/>
                <a:tab algn="l" pos="2395440"/>
                <a:tab algn="l" pos="2975040"/>
                <a:tab algn="l" pos="3541680"/>
                <a:tab algn="l" pos="4165560"/>
                <a:tab algn="l" pos="4746600"/>
                <a:tab algn="l" pos="5311800"/>
                <a:tab algn="l" pos="5951520"/>
                <a:tab algn="l" pos="6516720"/>
                <a:tab algn="l" pos="7140600"/>
                <a:tab algn="l" pos="7823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  <a:ea typeface="Arial"/>
              </a:rPr>
              <a:t>Patients at Risk    36         36        36         35        33        26        11         5            4 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 flipH="1">
            <a:off x="464760" y="5191200"/>
            <a:ext cx="7596360" cy="0"/>
          </a:xfrm>
          <a:prstGeom prst="line">
            <a:avLst/>
          </a:prstGeom>
          <a:ln w="1584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612"/>
          <p:cNvSpPr/>
          <p:nvPr/>
        </p:nvSpPr>
        <p:spPr>
          <a:xfrm>
            <a:off x="4956120" y="1649520"/>
            <a:ext cx="3554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1" lang="en-US" sz="1500" spc="-1" strike="noStrike">
                <a:solidFill>
                  <a:srgbClr val="474747"/>
                </a:solidFill>
                <a:latin typeface="Arial"/>
                <a:ea typeface="Arial"/>
              </a:rPr>
              <a:t>Median follow-up time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1" lang="en-US" sz="1500" spc="-1" strike="noStrike">
                <a:solidFill>
                  <a:srgbClr val="474747"/>
                </a:solidFill>
                <a:latin typeface="Arial"/>
                <a:ea typeface="Arial"/>
              </a:rPr>
              <a:t>2.7 yea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4"/>
          <p:cNvSpPr/>
          <p:nvPr/>
        </p:nvSpPr>
        <p:spPr>
          <a:xfrm>
            <a:off x="2077920" y="4789440"/>
            <a:ext cx="64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Arial"/>
              </a:rPr>
              <a:t>Time from initiating adjuvant erlotinib (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5"/>
          <p:cNvSpPr/>
          <p:nvPr/>
        </p:nvSpPr>
        <p:spPr>
          <a:xfrm>
            <a:off x="2081160" y="4521240"/>
            <a:ext cx="68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         0.5       1.0       1.5        2.0       2.5       3.0       3.5        4.0       4.5        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6"/>
          <p:cNvSpPr/>
          <p:nvPr/>
        </p:nvSpPr>
        <p:spPr>
          <a:xfrm rot="16200000">
            <a:off x="400680" y="2882160"/>
            <a:ext cx="227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Survival  Prob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7"/>
          <p:cNvSpPr/>
          <p:nvPr/>
        </p:nvSpPr>
        <p:spPr>
          <a:xfrm>
            <a:off x="1509840" y="1246320"/>
            <a:ext cx="630000" cy="33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612"/>
          <p:cNvSpPr/>
          <p:nvPr/>
        </p:nvSpPr>
        <p:spPr>
          <a:xfrm>
            <a:off x="2274840" y="403704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Arial"/>
              </a:rPr>
              <a:t>Censored obser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30"/>
          <p:cNvSpPr/>
          <p:nvPr/>
        </p:nvSpPr>
        <p:spPr>
          <a:xfrm>
            <a:off x="2463840" y="4189320"/>
            <a:ext cx="0" cy="69840"/>
          </a:xfrm>
          <a:prstGeom prst="line">
            <a:avLst/>
          </a:prstGeom>
          <a:ln cap="rnd" w="38160">
            <a:solidFill>
              <a:srgbClr val="6fa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612"/>
          <p:cNvSpPr/>
          <p:nvPr/>
        </p:nvSpPr>
        <p:spPr>
          <a:xfrm>
            <a:off x="3517920" y="2424240"/>
            <a:ext cx="49039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1" lang="en-US" sz="1400" spc="-1" strike="noStrike">
                <a:solidFill>
                  <a:srgbClr val="313131"/>
                </a:solidFill>
                <a:latin typeface="Arial"/>
              </a:rPr>
              <a:t>Median OS not yet rea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1" lang="en-US" sz="1400" spc="-1" strike="noStrike">
                <a:solidFill>
                  <a:srgbClr val="313131"/>
                </a:solidFill>
                <a:latin typeface="Arial"/>
              </a:rPr>
              <a:t>Two death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13131"/>
              </a:buClr>
              <a:buFont typeface="Lucida Grande"/>
              <a:buChar char="–"/>
              <a:tabLst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1" lang="en-US" sz="1400" spc="-1" strike="noStrike">
                <a:solidFill>
                  <a:srgbClr val="313131"/>
                </a:solidFill>
                <a:latin typeface="Arial"/>
              </a:rPr>
              <a:t>One at 1.5 years who stopped erlotinib after 1 month due to tox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13131"/>
              </a:buClr>
              <a:buFont typeface="Lucida Grande"/>
              <a:buChar char="–"/>
              <a:tabLst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1" lang="en-US" sz="1400" spc="-1" strike="noStrike">
                <a:solidFill>
                  <a:srgbClr val="313131"/>
                </a:solidFill>
                <a:latin typeface="Arial"/>
              </a:rPr>
              <a:t>One at 2 years whose disease progressed on erlotin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12307"/>
          <p:cNvGrpSpPr/>
          <p:nvPr/>
        </p:nvGrpSpPr>
        <p:grpSpPr>
          <a:xfrm>
            <a:off x="1725480" y="4386240"/>
            <a:ext cx="4880160" cy="85680"/>
            <a:chOff x="1725480" y="4386240"/>
            <a:chExt cx="4880160" cy="85680"/>
          </a:xfrm>
        </p:grpSpPr>
        <p:sp>
          <p:nvSpPr>
            <p:cNvPr id="285" name="Straight Connector 31"/>
            <p:cNvSpPr/>
            <p:nvPr/>
          </p:nvSpPr>
          <p:spPr>
            <a:xfrm flipH="1">
              <a:off x="1725480" y="4386240"/>
              <a:ext cx="4880160" cy="0"/>
            </a:xfrm>
            <a:prstGeom prst="line">
              <a:avLst/>
            </a:prstGeom>
            <a:ln cap="rnd" w="255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Straight Connector 32"/>
            <p:cNvSpPr/>
            <p:nvPr/>
          </p:nvSpPr>
          <p:spPr>
            <a:xfrm flipV="1">
              <a:off x="6546960" y="4386240"/>
              <a:ext cx="0" cy="85680"/>
            </a:xfrm>
            <a:prstGeom prst="line">
              <a:avLst/>
            </a:prstGeom>
            <a:ln cap="rnd" w="255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Straight Connector 33"/>
            <p:cNvSpPr/>
            <p:nvPr/>
          </p:nvSpPr>
          <p:spPr>
            <a:xfrm flipV="1">
              <a:off x="5348520" y="4386240"/>
              <a:ext cx="0" cy="85680"/>
            </a:xfrm>
            <a:prstGeom prst="line">
              <a:avLst/>
            </a:prstGeom>
            <a:ln cap="rnd" w="255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Straight Connector 34"/>
            <p:cNvSpPr/>
            <p:nvPr/>
          </p:nvSpPr>
          <p:spPr>
            <a:xfrm flipV="1">
              <a:off x="4151160" y="4386240"/>
              <a:ext cx="0" cy="85680"/>
            </a:xfrm>
            <a:prstGeom prst="line">
              <a:avLst/>
            </a:prstGeom>
            <a:ln cap="rnd" w="255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Straight Connector 35"/>
            <p:cNvSpPr/>
            <p:nvPr/>
          </p:nvSpPr>
          <p:spPr>
            <a:xfrm flipV="1">
              <a:off x="2952720" y="4386240"/>
              <a:ext cx="0" cy="85680"/>
            </a:xfrm>
            <a:prstGeom prst="line">
              <a:avLst/>
            </a:prstGeom>
            <a:ln cap="rnd" w="255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Straight Connector 36"/>
            <p:cNvSpPr/>
            <p:nvPr/>
          </p:nvSpPr>
          <p:spPr>
            <a:xfrm flipV="1">
              <a:off x="1753920" y="4386240"/>
              <a:ext cx="0" cy="85680"/>
            </a:xfrm>
            <a:prstGeom prst="line">
              <a:avLst/>
            </a:prstGeom>
            <a:ln cap="rnd" w="255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Straight Connector 37"/>
            <p:cNvSpPr/>
            <p:nvPr/>
          </p:nvSpPr>
          <p:spPr>
            <a:xfrm flipV="1">
              <a:off x="558828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Straight Connector 38"/>
            <p:cNvSpPr/>
            <p:nvPr/>
          </p:nvSpPr>
          <p:spPr>
            <a:xfrm flipV="1">
              <a:off x="582768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Straight Connector 39"/>
            <p:cNvSpPr/>
            <p:nvPr/>
          </p:nvSpPr>
          <p:spPr>
            <a:xfrm flipV="1">
              <a:off x="606744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Straight Connector 40"/>
            <p:cNvSpPr/>
            <p:nvPr/>
          </p:nvSpPr>
          <p:spPr>
            <a:xfrm flipV="1">
              <a:off x="630720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Straight Connector 41"/>
            <p:cNvSpPr/>
            <p:nvPr/>
          </p:nvSpPr>
          <p:spPr>
            <a:xfrm flipV="1">
              <a:off x="439092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Straight Connector 42"/>
            <p:cNvSpPr/>
            <p:nvPr/>
          </p:nvSpPr>
          <p:spPr>
            <a:xfrm flipV="1">
              <a:off x="463068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Straight Connector 43"/>
            <p:cNvSpPr/>
            <p:nvPr/>
          </p:nvSpPr>
          <p:spPr>
            <a:xfrm flipV="1">
              <a:off x="487044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Straight Connector 44"/>
            <p:cNvSpPr/>
            <p:nvPr/>
          </p:nvSpPr>
          <p:spPr>
            <a:xfrm flipV="1">
              <a:off x="511020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Straight Connector 45"/>
            <p:cNvSpPr/>
            <p:nvPr/>
          </p:nvSpPr>
          <p:spPr>
            <a:xfrm flipV="1">
              <a:off x="319248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Straight Connector 46"/>
            <p:cNvSpPr/>
            <p:nvPr/>
          </p:nvSpPr>
          <p:spPr>
            <a:xfrm flipV="1">
              <a:off x="343188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Straight Connector 47"/>
            <p:cNvSpPr/>
            <p:nvPr/>
          </p:nvSpPr>
          <p:spPr>
            <a:xfrm flipV="1">
              <a:off x="367164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Straight Connector 48"/>
            <p:cNvSpPr/>
            <p:nvPr/>
          </p:nvSpPr>
          <p:spPr>
            <a:xfrm flipV="1">
              <a:off x="391140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Straight Connector 49"/>
            <p:cNvSpPr/>
            <p:nvPr/>
          </p:nvSpPr>
          <p:spPr>
            <a:xfrm flipV="1">
              <a:off x="199368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Straight Connector 50"/>
            <p:cNvSpPr/>
            <p:nvPr/>
          </p:nvSpPr>
          <p:spPr>
            <a:xfrm flipV="1">
              <a:off x="223344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Straight Connector 51"/>
            <p:cNvSpPr/>
            <p:nvPr/>
          </p:nvSpPr>
          <p:spPr>
            <a:xfrm flipV="1">
              <a:off x="247320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Straight Connector 52"/>
            <p:cNvSpPr/>
            <p:nvPr/>
          </p:nvSpPr>
          <p:spPr>
            <a:xfrm flipV="1">
              <a:off x="271296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: Treatment Duration and Inten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457200" y="6046920"/>
            <a:ext cx="8394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Neal JW et al. </a:t>
            </a:r>
            <a:r>
              <a:rPr b="0" lang="en-US" sz="2000" spc="-1" strike="noStrike">
                <a:solidFill>
                  <a:srgbClr val="80c3d5"/>
                </a:solidFill>
                <a:latin typeface="Arial"/>
              </a:rPr>
              <a:t>2012 Multidisciplinary Symposium in Thoracic Oncology;Abstract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612"/>
          <p:cNvSpPr/>
          <p:nvPr/>
        </p:nvSpPr>
        <p:spPr>
          <a:xfrm>
            <a:off x="2879640" y="4753080"/>
            <a:ext cx="2575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  <a:ea typeface="Arial"/>
              </a:rPr>
              <a:t>Treatment duration (year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9612"/>
          <p:cNvSpPr/>
          <p:nvPr/>
        </p:nvSpPr>
        <p:spPr>
          <a:xfrm rot="16200000">
            <a:off x="-64800" y="2658600"/>
            <a:ext cx="2576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  <a:ea typeface="Arial"/>
              </a:rPr>
              <a:t>Patients/Erlotinib Do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Chart 11" descr=""/>
          <p:cNvPicPr/>
          <p:nvPr/>
        </p:nvPicPr>
        <p:blipFill>
          <a:blip r:embed="rId1"/>
          <a:stretch/>
        </p:blipFill>
        <p:spPr>
          <a:xfrm>
            <a:off x="1538280" y="1233360"/>
            <a:ext cx="6062760" cy="3322800"/>
          </a:xfrm>
          <a:prstGeom prst="rect">
            <a:avLst/>
          </a:prstGeom>
          <a:ln w="0">
            <a:noFill/>
          </a:ln>
        </p:spPr>
      </p:pic>
      <p:sp>
        <p:nvSpPr>
          <p:cNvPr id="312" name="Straight Connector 19"/>
          <p:cNvSpPr/>
          <p:nvPr/>
        </p:nvSpPr>
        <p:spPr>
          <a:xfrm flipH="1">
            <a:off x="1722600" y="1349280"/>
            <a:ext cx="2880" cy="3035520"/>
          </a:xfrm>
          <a:prstGeom prst="line">
            <a:avLst/>
          </a:prstGeom>
          <a:ln w="255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9979"/>
          <p:cNvSpPr/>
          <p:nvPr/>
        </p:nvSpPr>
        <p:spPr>
          <a:xfrm>
            <a:off x="1601640" y="4471920"/>
            <a:ext cx="297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  <a:ea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979"/>
          <p:cNvSpPr/>
          <p:nvPr/>
        </p:nvSpPr>
        <p:spPr>
          <a:xfrm>
            <a:off x="2570040" y="4471920"/>
            <a:ext cx="722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  <a:ea typeface="Arial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979"/>
          <p:cNvSpPr/>
          <p:nvPr/>
        </p:nvSpPr>
        <p:spPr>
          <a:xfrm>
            <a:off x="3848040" y="4471920"/>
            <a:ext cx="62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  <a:ea typeface="Arial"/>
              </a:rPr>
              <a:t>1.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979"/>
          <p:cNvSpPr/>
          <p:nvPr/>
        </p:nvSpPr>
        <p:spPr>
          <a:xfrm>
            <a:off x="5037120" y="4471920"/>
            <a:ext cx="550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  <a:ea typeface="Arial"/>
              </a:rPr>
              <a:t>1.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979"/>
          <p:cNvSpPr/>
          <p:nvPr/>
        </p:nvSpPr>
        <p:spPr>
          <a:xfrm>
            <a:off x="6189840" y="4471920"/>
            <a:ext cx="761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  <a:ea typeface="Arial"/>
              </a:rPr>
              <a:t>2.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58"/>
          <p:cNvSpPr/>
          <p:nvPr/>
        </p:nvSpPr>
        <p:spPr>
          <a:xfrm>
            <a:off x="6350040" y="3495600"/>
            <a:ext cx="0" cy="250920"/>
          </a:xfrm>
          <a:prstGeom prst="line">
            <a:avLst/>
          </a:prstGeom>
          <a:ln w="38160">
            <a:solidFill>
              <a:srgbClr val="0d0d0d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612"/>
          <p:cNvSpPr/>
          <p:nvPr/>
        </p:nvSpPr>
        <p:spPr>
          <a:xfrm>
            <a:off x="4780080" y="3746520"/>
            <a:ext cx="2657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  <a:ea typeface="Arial"/>
              </a:rPr>
              <a:t>69% of patient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  <a:ea typeface="Arial"/>
              </a:rPr>
              <a:t>completed &gt;90% of therap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612"/>
          <p:cNvSpPr/>
          <p:nvPr/>
        </p:nvSpPr>
        <p:spPr>
          <a:xfrm>
            <a:off x="6885000" y="4427640"/>
            <a:ext cx="1704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  <a:ea typeface="Arial"/>
              </a:rPr>
              <a:t>39% of patient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  <a:ea typeface="Arial"/>
              </a:rPr>
              <a:t>had dose redu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2"/>
          <p:cNvSpPr/>
          <p:nvPr/>
        </p:nvSpPr>
        <p:spPr>
          <a:xfrm>
            <a:off x="6157800" y="1349280"/>
            <a:ext cx="385920" cy="215424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ight Brace 63"/>
          <p:cNvSpPr/>
          <p:nvPr/>
        </p:nvSpPr>
        <p:spPr>
          <a:xfrm>
            <a:off x="7358040" y="3063960"/>
            <a:ext cx="168120" cy="404640"/>
          </a:xfrm>
          <a:custGeom>
            <a:avLst/>
            <a:gdLst>
              <a:gd name="textAreaLeft" fmla="*/ 0 w 168120"/>
              <a:gd name="textAreaRight" fmla="*/ 60840 w 168120"/>
              <a:gd name="textAreaTop" fmla="*/ 4320 h 404640"/>
              <a:gd name="textAreaBottom" fmla="*/ 40032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4"/>
                  <a:pt x="10800" y="748"/>
                </a:cubicBezTo>
                <a:lnTo>
                  <a:pt x="10800" y="10052"/>
                </a:lnTo>
                <a:cubicBezTo>
                  <a:pt x="10800" y="10426"/>
                  <a:pt x="16200" y="10800"/>
                  <a:pt x="21600" y="10800"/>
                </a:cubicBezTo>
                <a:cubicBezTo>
                  <a:pt x="16200" y="10800"/>
                  <a:pt x="10800" y="11174"/>
                  <a:pt x="10800" y="11548"/>
                </a:cubicBezTo>
                <a:lnTo>
                  <a:pt x="10800" y="20852"/>
                </a:lnTo>
                <a:cubicBezTo>
                  <a:pt x="10800" y="2122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64"/>
          <p:cNvSpPr/>
          <p:nvPr/>
        </p:nvSpPr>
        <p:spPr>
          <a:xfrm>
            <a:off x="7526160" y="3289320"/>
            <a:ext cx="0" cy="1095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9979"/>
          <p:cNvSpPr/>
          <p:nvPr/>
        </p:nvSpPr>
        <p:spPr>
          <a:xfrm>
            <a:off x="907920" y="5167440"/>
            <a:ext cx="632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Reasons for discontinuation included travel, diarrhea, rash, fatigue, prostate cancer radiation therapy, disease progression and patient prefer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se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046920"/>
            <a:ext cx="70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Neal JW et al. </a:t>
            </a:r>
            <a:r>
              <a:rPr b="0" lang="en-US" sz="2000" spc="-1" strike="noStrike">
                <a:solidFill>
                  <a:srgbClr val="80c3d5"/>
                </a:solidFill>
                <a:latin typeface="Arial"/>
              </a:rPr>
              <a:t>2012 Multidisciplinary Symposium in Thoracic Oncology;Abstract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963720" y="1628640"/>
          <a:ext cx="7088040" cy="3571920"/>
        </p:xfrm>
        <a:graphic>
          <a:graphicData uri="http://schemas.openxmlformats.org/drawingml/2006/table">
            <a:tbl>
              <a:tblPr/>
              <a:tblGrid>
                <a:gridCol w="4408560"/>
                <a:gridCol w="1193760"/>
                <a:gridCol w="1485720"/>
              </a:tblGrid>
              <a:tr h="428760">
                <a:tc>
                  <a:txBody>
                    <a:bodyPr lIns="45720" rIns="4572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verse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16375e"/>
                    </a:solidFill>
                  </a:tcPr>
                </a:tc>
                <a:tc>
                  <a:txBody>
                    <a:bodyPr lIns="45720" rIns="4572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y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16375e"/>
                    </a:solidFill>
                  </a:tcPr>
                </a:tc>
                <a:tc>
                  <a:txBody>
                    <a:bodyPr lIns="45720" rIns="4572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3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16375e"/>
                    </a:solidFill>
                  </a:tcPr>
                </a:tc>
              </a:tr>
              <a:tr h="34920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Rash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iarrhea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</a:tr>
              <a:tr h="34920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Fatigu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56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ausea/vom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</a:tr>
              <a:tr h="34920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ry s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Cough (unrelated except single Grade 2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</a:tr>
              <a:tr h="34920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ail ch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yspnea (unrelat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</a:tr>
              <a:tr h="34920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Alopecia/scalp irr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8" name="Text Box 9613"/>
          <p:cNvSpPr/>
          <p:nvPr/>
        </p:nvSpPr>
        <p:spPr>
          <a:xfrm>
            <a:off x="457200" y="1189080"/>
            <a:ext cx="8229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1" lang="en-US" sz="1700" spc="-1" strike="noStrike">
                <a:solidFill>
                  <a:srgbClr val="464847"/>
                </a:solidFill>
                <a:latin typeface="Arial"/>
              </a:rPr>
              <a:t>(Any relationship, &gt;25% frequency or Grade ≥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918"/>
          <p:cNvSpPr/>
          <p:nvPr/>
        </p:nvSpPr>
        <p:spPr>
          <a:xfrm>
            <a:off x="963720" y="525312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* Toxicities leading to dose reductions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No Grade 4 AEs ob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se Events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Footer Placeholder 4"/>
          <p:cNvSpPr/>
          <p:nvPr/>
        </p:nvSpPr>
        <p:spPr>
          <a:xfrm>
            <a:off x="457200" y="6046920"/>
            <a:ext cx="70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Neal JW et al. </a:t>
            </a:r>
            <a:r>
              <a:rPr b="0" lang="en-US" sz="2000" spc="-1" strike="noStrike">
                <a:solidFill>
                  <a:srgbClr val="80c3d5"/>
                </a:solidFill>
                <a:latin typeface="Arial"/>
              </a:rPr>
              <a:t>2012 Multidisciplinary Symposium in Thoracic Oncology;Abstract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613"/>
          <p:cNvSpPr/>
          <p:nvPr/>
        </p:nvSpPr>
        <p:spPr>
          <a:xfrm>
            <a:off x="457200" y="1189080"/>
            <a:ext cx="8229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1" lang="en-US" sz="1700" spc="-1" strike="noStrike">
                <a:solidFill>
                  <a:srgbClr val="464847"/>
                </a:solidFill>
                <a:latin typeface="Arial"/>
              </a:rPr>
              <a:t>(Any relationship, 10-25% frequency or Grade ≥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918"/>
          <p:cNvSpPr/>
          <p:nvPr/>
        </p:nvSpPr>
        <p:spPr>
          <a:xfrm>
            <a:off x="963720" y="524016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oxicities leading to dose reductions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  No Grade 4 AEs or pneumonit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963720" y="1628640"/>
          <a:ext cx="7088040" cy="3571920"/>
        </p:xfrm>
        <a:graphic>
          <a:graphicData uri="http://schemas.openxmlformats.org/drawingml/2006/table">
            <a:tbl>
              <a:tblPr/>
              <a:tblGrid>
                <a:gridCol w="4408560"/>
                <a:gridCol w="1193760"/>
                <a:gridCol w="1485720"/>
              </a:tblGrid>
              <a:tr h="428760">
                <a:tc>
                  <a:txBody>
                    <a:bodyPr lIns="45720" rIns="4572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verse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16375e"/>
                    </a:solidFill>
                  </a:tcPr>
                </a:tc>
                <a:tc>
                  <a:txBody>
                    <a:bodyPr lIns="45720" rIns="4572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y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16375e"/>
                    </a:solidFill>
                  </a:tcPr>
                </a:tc>
                <a:tc>
                  <a:txBody>
                    <a:bodyPr lIns="45720" rIns="4572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3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16375e"/>
                    </a:solidFill>
                  </a:tcPr>
                </a:tc>
              </a:tr>
              <a:tr h="349200">
                <a:tc>
                  <a:txBody>
                    <a:bodyPr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ruri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Mucos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</a:tr>
              <a:tr h="349200">
                <a:tc>
                  <a:txBody>
                    <a:bodyPr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Transaminiti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560">
                <a:tc>
                  <a:txBody>
                    <a:bodyPr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Hyperbilirubinemia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</a:tr>
              <a:tr h="349200">
                <a:tc>
                  <a:txBody>
                    <a:bodyPr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Anorexia/dysgu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osebl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</a:tr>
              <a:tr h="349200">
                <a:tc>
                  <a:txBody>
                    <a:bodyPr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Constip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europa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</a:tr>
              <a:tr h="349200">
                <a:tc>
                  <a:txBody>
                    <a:bodyPr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Urticaria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163520"/>
            <a:ext cx="8229600" cy="4577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reatment with adjuvant erlotinib in patients with NSCLC with EGFR mutations is feasibl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any patients required dose reduction (39%) or discontinued treatment (31%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 primary endpoint of 2-year DFS &gt;85% was met. 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 observed 2-year DFS was 94%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djuvant erlotinib appears to have at least a cytostatic effect on micrometastatic disease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Only 1 patient experienced disease recurrence during treatment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11 patients experienced recurrence 3 to 24 months after stopping treatment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7" name="Footer Placeholder 4"/>
          <p:cNvSpPr/>
          <p:nvPr/>
        </p:nvSpPr>
        <p:spPr>
          <a:xfrm>
            <a:off x="457200" y="6046920"/>
            <a:ext cx="70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Neal JW et al. </a:t>
            </a:r>
            <a:r>
              <a:rPr b="0" lang="en-US" sz="2000" spc="-1" strike="noStrike">
                <a:solidFill>
                  <a:srgbClr val="80c3d5"/>
                </a:solidFill>
                <a:latin typeface="Arial"/>
              </a:rPr>
              <a:t>2012 Multidisciplinary Symposium in Thoracic Oncology;Abstract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8T22:09:39Z</dcterms:created>
  <dc:creator>Research To Practice</dc:creator>
  <dc:description/>
  <cp:keywords/>
  <dc:language>en-US</dc:language>
  <cp:lastModifiedBy>Silvana Izquierdo</cp:lastModifiedBy>
  <cp:lastPrinted>2013-05-01T23:57:39Z</cp:lastPrinted>
  <dcterms:modified xsi:type="dcterms:W3CDTF">2013-07-22T18:57:07Z</dcterms:modified>
  <cp:revision>602</cp:revision>
  <dc:subject/>
  <dc:title>Research To Practice</dc:title>
</cp:coreProperties>
</file>