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F3A28-9A4F-44F1-AD14-4BA104816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4196A-3752-4556-8939-C6E362175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C61D2-0A6F-451E-B526-66CD8206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A0D4-F0D6-47AA-AAA9-621B3CFED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EE9-EEE4-41B2-8E8D-1036FC7C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687-1D6B-42A9-A97C-3804A245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5DD-1A89-44DD-91A8-7713BDA3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573-BAF6-4592-819F-43200613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EF95-A8D7-4F9F-9545-AD64D1B9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957C-BCD3-472A-A520-5E7B6FEE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8FFB-5B87-4117-B3DB-D9C090C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D479-580E-46F1-969D-41833D64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7385-BAEB-4741-B113-A92C37DB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D279-E4D9-44EA-A536-778C6471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0F3F-63C5-4EAD-B6A0-79CD30A6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481-B657-45F5-90EB-F83DF327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0CA0-1DBF-4DD1-AEA0-9071F044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F490-CCA4-4B80-94AD-79AF519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3EE0-EFAB-4A6A-BA47-15BDAED5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DC9B-55FC-48AC-934B-7E0F0F13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0E29-BD0C-4EE3-A8AE-C10491B2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0D3-801E-40F1-B284-F52EC3AE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DF4C-9419-4803-9ED8-51651AB1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6EA00-52E5-4DC0-BD58-2EECDF9F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9CCA-D90F-4256-94A0-9BC9260E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E5B-FDAF-4140-AAF7-0BDEF696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414F-BC00-4B7F-9D29-84381218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9891-6D56-44F8-A596-FA7D616F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742D-8FF0-4EBF-B5DC-65881828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6297-6B60-4FCB-86E1-7701413F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0613-52A9-4B07-A6EB-FBBA98A1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15F6-433F-4923-A929-7AF472F2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118C-2EBE-4935-BD25-92BD81E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07F8-52B2-4028-B26E-6DB723CA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A236-878D-4DDF-BC37-753941DC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079-093D-4EEF-B356-AC5D99DA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C18-2785-4472-823B-03E229E0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F4DB-EE16-4F53-B89B-EEA2FD55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6E97-39DB-4587-88F5-972CFCAD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5F353-B3B0-47E1-A736-CC47A66D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01FF-4D50-4C66-A18C-F9040D94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AF00-B0C7-4F95-B68C-FB4D600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4CB2-FEDC-4E1B-B075-1E432196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AFD4-C53F-4FBC-93B0-99D0BFE4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5C51-55F4-4E88-80D7-677BD536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1FCB-58F4-4205-BE1B-C28C950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02B-2EAF-444D-B816-EA3881E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71C54-D2E7-4EB7-9A86-6CEE5894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9199-12F5-4FE7-B145-8AEE01EE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0D531-CB30-43BD-B761-936538F0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67E-7C8E-43DC-A964-34D91594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797-B1C8-4CC8-BD95-9B05963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706F2-B64A-4686-BE31-EAB5E94998C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2C674-0560-4EE4-B5B3-D218A85573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B1877-2068-4BFD-B820-597E2C33FA5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DED89-9418-441C-9D08-2348F1AD83C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5EF4A-FD86-4993-9561-C650B88E79D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F65ED-2800-40EC-872F-255DC5D79D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29F52-566E-4A72-8A53-94D4B28EE63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25746-D24B-4114-8E5D-181E04EE28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nical Activity, Safety and Biomarkers of MPDL3280A, an Engineered PD-L1 Antibody in Patients with Locally Advanced or Metastatic Non-Small Cell Lung Cancer (NSCLC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pigel DR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of Efficacy between PD-1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-L1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ighl NB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,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61920" y="1596960"/>
          <a:ext cx="7239240" cy="2405160"/>
        </p:xfrm>
        <a:graphic>
          <a:graphicData uri="http://schemas.openxmlformats.org/drawingml/2006/table">
            <a:tbl>
              <a:tblPr/>
              <a:tblGrid>
                <a:gridCol w="1306440"/>
                <a:gridCol w="3951360"/>
                <a:gridCol w="1981440"/>
              </a:tblGrid>
              <a:tr h="4809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 marL="16668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-1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ivolumab (n =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320">
                <a:tc>
                  <a:txBody>
                    <a:bodyPr anchor="ctr">
                      <a:noAutofit/>
                    </a:bodyPr>
                    <a:p>
                      <a:pPr marL="16668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-1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ambrolizumab (n =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 marL="16668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-L1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MS-936559 (n = 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 marL="16668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-L1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PDL3280A (n = 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01" name="TextBox 10"/>
          <p:cNvSpPr/>
          <p:nvPr/>
        </p:nvSpPr>
        <p:spPr>
          <a:xfrm>
            <a:off x="936720" y="4527720"/>
            <a:ext cx="726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rahmer JR et al.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2013;Abstract 8030;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atnaik A et al.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013;Abstract 2512;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rahmer JR et al.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NEJM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012;366(26):2455-65; </a:t>
            </a:r>
            <a:br>
              <a:rPr sz="1600"/>
            </a:b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4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pigel DR et al.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2013;Abstract 8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of Toxicity between PD-1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-L1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ighl NB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,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66640" y="1268280"/>
          <a:ext cx="8006040" cy="3402000"/>
        </p:xfrm>
        <a:graphic>
          <a:graphicData uri="http://schemas.openxmlformats.org/drawingml/2006/table">
            <a:tbl>
              <a:tblPr/>
              <a:tblGrid>
                <a:gridCol w="1592280"/>
                <a:gridCol w="1549440"/>
                <a:gridCol w="1384200"/>
                <a:gridCol w="1663920"/>
                <a:gridCol w="1816200"/>
              </a:tblGrid>
              <a:tr h="39528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inhib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1 inhib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DL3280A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2 NSC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MS-936559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07 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olumab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29 NSC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brolizumab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32 M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lated AE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Grade 3,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1%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1%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~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eatment- related de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 (pneumonia, Gr 2 pneumonit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neumon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 (2/9 fat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rade 3 or 4 immune-related A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br>
                        <a:rPr sz="1600"/>
                      </a:b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hyperglycem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05" name="Rectangle 1"/>
          <p:cNvSpPr/>
          <p:nvPr/>
        </p:nvSpPr>
        <p:spPr>
          <a:xfrm>
            <a:off x="566640" y="3452760"/>
            <a:ext cx="8018640" cy="398520"/>
          </a:xfrm>
          <a:prstGeom prst="rect">
            <a:avLst/>
          </a:prstGeom>
          <a:noFill/>
          <a:ln w="38160">
            <a:solidFill>
              <a:srgbClr val="fd8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814320" y="4708440"/>
            <a:ext cx="775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400"/>
              </a:spcBef>
              <a:buClr>
                <a:srgbClr val="464847"/>
              </a:buClr>
              <a:buSzPct val="1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Fatigue, decreased appetite, diarrhea common with both classes of dru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Spigel et al. </a:t>
            </a:r>
            <a:r>
              <a:rPr b="0" i="1" lang="en-US" sz="15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2013;Abstract 8008; Brahmer et al. </a:t>
            </a:r>
            <a:r>
              <a:rPr b="0" i="1" lang="en-US" sz="15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 2012;366(26):2455-65; Brahmer et al. </a:t>
            </a:r>
            <a:r>
              <a:rPr b="0" i="1" lang="en-US" sz="1500" spc="-1" strike="noStrike">
                <a:solidFill>
                  <a:srgbClr val="464847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 2013;Abstract 8030; Ribas et al. </a:t>
            </a:r>
            <a:r>
              <a:rPr b="0" i="1" lang="en-US" sz="1500" spc="-1" strike="noStrike">
                <a:solidFill>
                  <a:srgbClr val="464847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 2013;Abstract 9009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ighl NB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,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442800" y="1173240"/>
            <a:ext cx="8226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PDL3280A shows clear evidence of activity in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oo early to determine if PD-L1 inhibitors are less toxic than PD-1 inhibitors; efficacy appears to be simi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lection by PD-L1 expression likely enhances response rate,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ut some activity is observed in PD-L1-negative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mportant unanswered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ow is PD-L1 positivity defi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 companion diagnostic test for each drug cannot be supp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What other markers could be useful in the fu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442800" y="1173240"/>
            <a:ext cx="8226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ancer cells can evade immune surveillance by expressing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D-L1, a protein broadly expressed in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PDL3280A  is a monoclonal antibody engineered to block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D-L1 from binding to its receptors PD-1 and B7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locking the interaction between PD-L1 and PD-1 restore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-cell activity and causes tumor regression in preclinical mod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inding of MPDL3280A to PD-L1 leaves the PD-1/PD-L2 interaction intact and may enhance efficacy and saf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vestigate the efficacy and safety of MPDL3280A in patients with advanced NSCL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793800" y="1531800"/>
          <a:ext cx="4476600" cy="1195560"/>
        </p:xfrm>
        <a:graphic>
          <a:graphicData uri="http://schemas.openxmlformats.org/drawingml/2006/table">
            <a:tbl>
              <a:tblPr/>
              <a:tblGrid>
                <a:gridCol w="4476600"/>
              </a:tblGrid>
              <a:tr h="4413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 marL="222120" indent="-22212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ocally advanced or metastatic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2120" indent="-22212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asurable disease by RECIST v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Rectangle 31"/>
          <p:cNvSpPr/>
          <p:nvPr/>
        </p:nvSpPr>
        <p:spPr>
          <a:xfrm>
            <a:off x="787320" y="3024360"/>
            <a:ext cx="789948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Standard 3+3 at doses ≥0.3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tandard Phase I DLT criteria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ultimodality biomarkers including PD-L1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objectives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Include safety, tolerability, maximium tolerate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(M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a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24440" y="1622520"/>
          <a:ext cx="2541600" cy="1068120"/>
        </p:xfrm>
        <a:graphic>
          <a:graphicData uri="http://schemas.openxmlformats.org/drawingml/2006/table">
            <a:tbl>
              <a:tblPr/>
              <a:tblGrid>
                <a:gridCol w="2541600"/>
              </a:tblGrid>
              <a:tr h="1068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PDL3280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 mg/kg-20 mg/kg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q3wk x 16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5270400" y="2168640"/>
            <a:ext cx="50976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700200" y="1344600"/>
          <a:ext cx="7805520" cy="2960640"/>
        </p:xfrm>
        <a:graphic>
          <a:graphicData uri="http://schemas.openxmlformats.org/drawingml/2006/table">
            <a:tbl>
              <a:tblPr/>
              <a:tblGrid>
                <a:gridCol w="3166920"/>
                <a:gridCol w="1130400"/>
                <a:gridCol w="1482480"/>
                <a:gridCol w="2025720"/>
              </a:tblGrid>
              <a:tr h="4428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 ≥24 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 at 24 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242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 (n = 41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by PD-L1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270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 (n = 41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a Efficacy Summary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855720" y="4338720"/>
            <a:ext cx="7813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Investigator assessed;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ne pt had undetermined histology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RR = objective response rate; SD = stable disease; PFS = progression-free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Responses ongoing in all respon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IJC_Lung_SpigelGraph1.png"/>
          <p:cNvPicPr/>
          <p:nvPr/>
        </p:nvPicPr>
        <p:blipFill>
          <a:blip r:embed="rId1"/>
          <a:srcRect l="5689" t="12290" r="12484" b="10603"/>
          <a:stretch/>
        </p:blipFill>
        <p:spPr>
          <a:xfrm>
            <a:off x="1344600" y="1293840"/>
            <a:ext cx="6635880" cy="4191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PDL3280A Phase 1a: Tumor Bu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6451560" y="13050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 mg/kg (n 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0 mg/kg (n =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5 mg/kg (n = 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0 mg/kg (n =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6203880" y="43290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ew le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iscontinu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1936800" y="5307120"/>
            <a:ext cx="6043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Time on Study (Day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 rot="16200000">
            <a:off x="-939600" y="3051000"/>
            <a:ext cx="4413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Change in Sum of Longest Diameters</a:t>
            </a:r>
            <a:br>
              <a:rPr sz="1700"/>
            </a:b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(SLD) From Baseline,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2043000" y="45943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 ≥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3503520" y="129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"/>
          <p:cNvSpPr/>
          <p:nvPr/>
        </p:nvSpPr>
        <p:spPr>
          <a:xfrm>
            <a:off x="6039000" y="1477800"/>
            <a:ext cx="412560" cy="0"/>
          </a:xfrm>
          <a:prstGeom prst="line">
            <a:avLst/>
          </a:prstGeom>
          <a:ln w="38160">
            <a:solidFill>
              <a:srgbClr val="fd8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3"/>
          <p:cNvSpPr/>
          <p:nvPr/>
        </p:nvSpPr>
        <p:spPr>
          <a:xfrm>
            <a:off x="6039000" y="1778040"/>
            <a:ext cx="412560" cy="0"/>
          </a:xfrm>
          <a:prstGeom prst="line">
            <a:avLst/>
          </a:prstGeom>
          <a:ln w="38160">
            <a:solidFill>
              <a:srgbClr val="6ba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4"/>
          <p:cNvSpPr/>
          <p:nvPr/>
        </p:nvSpPr>
        <p:spPr>
          <a:xfrm>
            <a:off x="6039000" y="2066760"/>
            <a:ext cx="412560" cy="0"/>
          </a:xfrm>
          <a:prstGeom prst="line">
            <a:avLst/>
          </a:prstGeom>
          <a:ln w="38160">
            <a:solidFill>
              <a:srgbClr val="1a2d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6039000" y="2332080"/>
            <a:ext cx="41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ctivity of MPDL3280A in a Patient with Lung Adenocarci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rcRect l="4705" t="7920" r="1517" b="2731"/>
          <a:stretch/>
        </p:blipFill>
        <p:spPr>
          <a:xfrm>
            <a:off x="1177920" y="1674720"/>
            <a:ext cx="6904080" cy="3370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730080" y="514656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62 yr old male, PD-L1 positive, who received multiple prior lines of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177920" y="1336680"/>
            <a:ext cx="21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3510000" y="1336680"/>
            <a:ext cx="21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ost C4 (Week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5802480" y="1336680"/>
            <a:ext cx="22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ost C12 (Week 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977760" y="1471680"/>
          <a:ext cx="7199280" cy="2195280"/>
        </p:xfrm>
        <a:graphic>
          <a:graphicData uri="http://schemas.openxmlformats.org/drawingml/2006/table">
            <a:tbl>
              <a:tblPr/>
              <a:tblGrid>
                <a:gridCol w="4714920"/>
                <a:gridCol w="2484360"/>
              </a:tblGrid>
              <a:tr h="3661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 and 4 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Grade 3 or 4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ricardial ef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ys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erglyc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3 and 4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977760" y="3747960"/>
            <a:ext cx="71992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MTD or dose-limiting toxi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ajority of AEs were Grade 1 or 2, required no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Grade 3 to 5 pneumon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mmune-related Grade 3 to 4 hyperglycemia in 1 pt (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reatment-related Grade 3 or 4 AEs occurred in 12% of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treatment-related 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42800" y="1173240"/>
            <a:ext cx="8226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PDL3280A was generally well tolerated in patients with NSCL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dose-limiting toxicities and no Grade 3 to 5 pneumoni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ctivity was observed in patients with heavily treated NSCL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sponses are ongoing in respon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fficacy was observed in patients with squamous an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nsquamous hist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umor PD-L1 expression appears to be associated with clinical benefit from MPDL3280A monothera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xpansion phase is ongoing in various tumor types, including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gistration trials of MPDL3280A are planned for patients with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ngoing Trials of PD-1 Immune Checkpoint Inhibitors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ighl NB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,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866880" y="5067360"/>
            <a:ext cx="74912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D = progressive disease; exp =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dapted from Brahmer J. ASCO 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8360" y="1300320"/>
          <a:ext cx="7619760" cy="3738240"/>
        </p:xfrm>
        <a:graphic>
          <a:graphicData uri="http://schemas.openxmlformats.org/drawingml/2006/table">
            <a:tbl>
              <a:tblPr/>
              <a:tblGrid>
                <a:gridCol w="809280"/>
                <a:gridCol w="1683000"/>
                <a:gridCol w="2890800"/>
                <a:gridCol w="1219320"/>
                <a:gridCol w="1017360"/>
              </a:tblGrid>
              <a:tr h="5785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a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IHC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mor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6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lin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ivolumab vs docetaxel to P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 = 264; primary endpoint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,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chival or 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line adenocarcin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ivolumab vs docetaxel to P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 = 574; primary endpoint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chival or 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78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+-lin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ivolum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chival or 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 e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 or 3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+-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ambrolizumab (x 2 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PDL3280A (x 1 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 e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47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97" name="Rectangle 8"/>
          <p:cNvSpPr/>
          <p:nvPr/>
        </p:nvSpPr>
        <p:spPr>
          <a:xfrm>
            <a:off x="6124680" y="1330200"/>
            <a:ext cx="1233360" cy="3737160"/>
          </a:xfrm>
          <a:prstGeom prst="rect">
            <a:avLst/>
          </a:prstGeom>
          <a:noFill/>
          <a:ln w="38160">
            <a:solidFill>
              <a:srgbClr val="fd8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51:54Z</dcterms:modified>
  <cp:revision>683</cp:revision>
  <dc:subject/>
  <dc:title>Research To Practice</dc:title>
</cp:coreProperties>
</file>