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0E7-A4E3-44E6-B0C3-B1694A6F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046-D60A-4450-B373-B5EC5495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829-0578-4A88-9A0C-1E95F6F2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718-A37A-40F0-BF02-FEF5E2DD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5909-4B00-489F-BADC-04A91324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1924-7431-4AC0-94F3-FEB3E30C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4BBA-3F84-42A1-B079-A94DAD1A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7B50-A244-40D7-B4FB-34F480E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1A03-AFEA-43F5-990E-A82D3556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351-4900-4854-884B-5000634F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88E5-0E14-4AA2-A7DA-F3A6F93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D5A-FE97-452C-A2BC-58DE538D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E86E-C86B-4A70-A7BF-C150AB8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8C6F-8934-45EF-81C2-FA60DF8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C5E5-2543-47D7-A1AC-9103482C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AC62-85A8-4CCE-8686-C7EA3C6F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461A-B044-4CC0-B3FC-2FCCA794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651-DFB8-4A87-A2BB-6EFE367B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2F6E-D439-45BA-99D4-9E5E2FED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6ADA-924A-431B-BE6E-1B058D2C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AD6E-C8C7-4BBA-9604-4E615577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16F-7733-4670-B3FB-0012C856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2138-9F5E-4418-AFDB-60D0D3DD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4814-EEEB-4766-B0E0-9B8CDA95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F91E-B5A8-435F-99F4-BEC6E6B4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5FE0-225B-4665-94AC-35170F92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965E-0E37-4D39-958A-3C75BE3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D8D7-08AA-4830-93B6-C4E626B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8491-7B3A-45A9-A20C-A423B943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1C4B-87E6-404D-A1CE-B545C30A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778C-0812-49B8-9B6C-13CA8138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BCE-0A62-450F-9E30-5943509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AD7-EE0E-4F77-AE7F-BB69F67F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01FC-5ECE-497F-B092-4F3A2F2F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AE93F-F20A-4F68-921D-12E6BA0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FFBD-B2F9-482C-AD6E-56EE2FC9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7040-CB35-4F57-A321-CB9C4DAD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3F07-3EE2-4C68-B065-6ABEFC2E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09BD1-8320-464B-9A7D-0CB03F5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A687-2B15-4D59-AB6B-55B8D16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AEB4-14BF-48B2-89A4-E92CD027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B275-600A-49DD-A17F-8F6C7208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8B7-9938-4E6B-9CD3-B6C8967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9695-70FC-4470-834B-68C0A497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5FB5-D8B5-4A3F-8300-4B6BE1D4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14E3-D194-4146-B619-53E57C3B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508-FF6B-4522-8BAC-84E9CA38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597-4A05-4580-AFB5-9B14244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A285C-B6EA-4EA6-853B-69C77F680FF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E6FFA-F40B-4C88-8118-5CDF850BEE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6BE5E-8C7F-4809-AA57-019D60F3AFD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D7671-E7BA-4842-A430-E5D8BB1D336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9CCE6-FA43-487F-A866-8C59311B87F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FDAB2-834E-47C1-87DC-BF1C306F0B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A01FA-2E8A-458D-A235-0CE1184206F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0975E-77CB-40D9-AC6B-993C177F41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0"/>
            <a:ext cx="870120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rlotinib versus Standard Chemotherapy as First-Line Treatment for European Patients with Advanced EGFR Mutation-Positive Non-Small-Cell Lung Cancer (EURTAC): A Multicentre, Open-Label, Randomised Phase 3 Tr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osell R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333333"/>
                </a:solidFill>
                <a:latin typeface="Arial"/>
              </a:rPr>
              <a:t>Lancet Oncol 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2012;13(3):239-4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 Phase III trials demonstrated that first-line erlotinib or gefitinib significantly improved progression-free survival (PFS) compared to chemotherapy in Asian patients with advanced NSCLC harboring EGFR mut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IPASS study of gefitinib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NEJM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2009;361:947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WJTOG3405 study of gefitinib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Lancet Oncol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10;11:12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NEJ002 study of gefitinib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NEJM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2010;362:2380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OPTIMAL study of erlotinib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Lancet Oncol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11;12:735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ssess the efficacy and safety of first-line erlotinib compared to standard chemotherapy for European patients with advanced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GFR mutation-positive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2"/>
          <p:cNvSpPr/>
          <p:nvPr/>
        </p:nvSpPr>
        <p:spPr>
          <a:xfrm>
            <a:off x="3930480" y="207972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4400" y="1371600"/>
          <a:ext cx="3079800" cy="4076640"/>
        </p:xfrm>
        <a:graphic>
          <a:graphicData uri="http://schemas.openxmlformats.org/drawingml/2006/table">
            <a:tbl>
              <a:tblPr/>
              <a:tblGrid>
                <a:gridCol w="3079800"/>
              </a:tblGrid>
              <a:tr h="46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0684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istologically confirmed NSCLC — Stage IIIB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ith pleural effusion or Stage I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GFR exon 19 delet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r exon 21 L858R mu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hemotherapy-naïv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or metastatic NSCLC (neo/adjuvant Tx ≥6 mo allow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31"/>
          <p:cNvSpPr/>
          <p:nvPr/>
        </p:nvSpPr>
        <p:spPr>
          <a:xfrm>
            <a:off x="4546440" y="3192480"/>
            <a:ext cx="4089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P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emotherapy (CT) consisted of four 3-week cycles of cisplatin with carboplatin or gemcitabine with doceta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rossover wa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TAC: 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508720" y="1371600"/>
          <a:ext cx="2884320" cy="69516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rlotinib (150 mg/d 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508720" y="2208240"/>
          <a:ext cx="2884320" cy="69516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andard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55" name="Group 13"/>
          <p:cNvGrpSpPr/>
          <p:nvPr/>
        </p:nvGrpSpPr>
        <p:grpSpPr>
          <a:xfrm>
            <a:off x="5186520" y="1742760"/>
            <a:ext cx="322200" cy="655560"/>
            <a:chOff x="5186520" y="1742760"/>
            <a:chExt cx="322200" cy="655560"/>
          </a:xfrm>
        </p:grpSpPr>
        <p:sp>
          <p:nvSpPr>
            <p:cNvPr id="256" name="Line 14"/>
            <p:cNvSpPr/>
            <p:nvPr/>
          </p:nvSpPr>
          <p:spPr>
            <a:xfrm flipV="1">
              <a:off x="5186520" y="174276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5186520" y="17431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5186520" y="1879560"/>
            <a:ext cx="322200" cy="677880"/>
            <a:chOff x="5186520" y="1879560"/>
            <a:chExt cx="322200" cy="677880"/>
          </a:xfrm>
        </p:grpSpPr>
        <p:sp>
          <p:nvSpPr>
            <p:cNvPr id="259" name="Line 17"/>
            <p:cNvSpPr/>
            <p:nvPr/>
          </p:nvSpPr>
          <p:spPr>
            <a:xfrm>
              <a:off x="5186520" y="187956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5186520" y="25570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4184640" y="1708200"/>
            <a:ext cx="731880" cy="7318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1"/>
          <p:cNvSpPr/>
          <p:nvPr/>
        </p:nvSpPr>
        <p:spPr>
          <a:xfrm>
            <a:off x="914400" y="4668840"/>
            <a:ext cx="76453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* Data cutoff August 2, 2010; </a:t>
            </a:r>
            <a:r>
              <a:rPr b="0" lang="en-US" sz="1800" spc="-1" strike="noStrike" baseline="30000">
                <a:solidFill>
                  <a:srgbClr val="333333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nal data cutoff January 26, 2011;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NA = not ass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fter review of interim analysis data, enrollment was stop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14400" y="1397160"/>
          <a:ext cx="7315200" cy="3225600"/>
        </p:xfrm>
        <a:graphic>
          <a:graphicData uri="http://schemas.openxmlformats.org/drawingml/2006/table">
            <a:tbl>
              <a:tblPr/>
              <a:tblGrid>
                <a:gridCol w="3314880"/>
                <a:gridCol w="2171520"/>
                <a:gridCol w="1828800"/>
              </a:tblGrid>
              <a:tr h="403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planned interim analysi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lotinib (n = 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T 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azard ratio 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-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.42 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&lt; 0.0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al analysis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9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5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azard ratio 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-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0.37 (</a:t>
                      </a:r>
                      <a:r>
                        <a:rPr b="0" i="1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p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&lt; 0.0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-year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-year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0% (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P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914400" y="1498680"/>
          <a:ext cx="7353360" cy="3176640"/>
        </p:xfrm>
        <a:graphic>
          <a:graphicData uri="http://schemas.openxmlformats.org/drawingml/2006/table">
            <a:tbl>
              <a:tblPr/>
              <a:tblGrid>
                <a:gridCol w="2989440"/>
                <a:gridCol w="1455480"/>
                <a:gridCol w="1471680"/>
                <a:gridCol w="1436760"/>
              </a:tblGrid>
              <a:tr h="66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 response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Response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934920" y="477504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tention-to-treat population; NR = not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914400" y="1562040"/>
          <a:ext cx="7332840" cy="2868840"/>
        </p:xfrm>
        <a:graphic>
          <a:graphicData uri="http://schemas.openxmlformats.org/drawingml/2006/table">
            <a:tbl>
              <a:tblPr/>
              <a:tblGrid>
                <a:gridCol w="3594240"/>
                <a:gridCol w="1868400"/>
                <a:gridCol w="187020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verall surv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914400" y="488808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requency of crossover from CT to the erlotinib arm: 66 patients (76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914400" y="1422360"/>
          <a:ext cx="7289640" cy="3565440"/>
        </p:xfrm>
        <a:graphic>
          <a:graphicData uri="http://schemas.openxmlformats.org/drawingml/2006/table">
            <a:tbl>
              <a:tblPr/>
              <a:tblGrid>
                <a:gridCol w="2739960"/>
                <a:gridCol w="1515960"/>
                <a:gridCol w="1517760"/>
                <a:gridCol w="15159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 (n = 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6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3 and 4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777420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Patients who received erlotinib in the EURTAC trial had longer PFS, a higher response rate and milder side effects compared to those who received standard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Data from the EURTAC and OPTIMAL trials suggest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benefit in PFS with first-line erlotinib in a European population and confirm the improvements attained with EGFR-targeted agents in Asian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se data strengthen the rationale for routine baseline tissue-based assessment of EGFR mutations in patients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th NSCLC and for the treatment of patients with mutation-positive NSCLC with EGFR tyrosine kinase inhibito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41Z</dcterms:created>
  <dc:creator>Research To Practice</dc:creator>
  <dc:description/>
  <cp:keywords/>
  <dc:language>en-US</dc:language>
  <cp:lastModifiedBy>Aura Herrmann</cp:lastModifiedBy>
  <cp:lastPrinted>2013-03-06T20:38:39Z</cp:lastPrinted>
  <dcterms:modified xsi:type="dcterms:W3CDTF">2013-07-22T21:02:21Z</dcterms:modified>
  <cp:revision>649</cp:revision>
  <dc:subject/>
  <dc:title>Research To Practice</dc:title>
</cp:coreProperties>
</file>