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768-2709-475C-8CC5-699CBFDD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86F-513B-4A89-BC9D-EB831EB9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D099A-45DE-4A6D-9105-3DDFCC85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7557-CBC5-4115-B6B6-6EAE598E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5C02-009B-43FC-8F04-1F576840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EEA6-14EE-405D-8761-5E052CCD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EC686-2CE8-4865-8D7C-912E6A9F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AB09-EC8A-4D96-A95A-83B7CA84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87EB7-10A4-49D4-8864-A5859B2C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ABBD1-0606-42D9-8252-3030778B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DAC11-DE5F-4EF2-8DF3-98568368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A2F-8E10-40AC-BEB4-B8CFA8E3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3B4-7B6D-4728-8432-43FFA1F0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8E7A-512B-4C05-BAED-A92F2992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11B-6439-44D7-B06E-BF86848D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4B48-2F55-491D-8994-14F1DB91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158-58A4-4A9D-9D84-B2E43FD3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2335-B818-41CB-8756-CE6E8338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EC62-C6FE-49D4-B450-A4623E6D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A2BC-DA90-4CFA-9306-2FECE1A6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98E-A8C5-4C59-A288-C600C38C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BEB7-B3F3-446B-9BA2-CD15F7A3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3BA9-1BF9-49E7-8365-ABAC4DC0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67E8-73B2-4CD9-BC28-D85318E6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74F8-29CD-4B2E-BE52-47C62B97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B511-2DEC-412A-B732-BDDA3477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A0E8-377B-451F-837A-72232ACC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9321B-7EED-4B8E-A372-754296A2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F4E8-4041-4C8C-BEB9-736EAD5C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13AC-2F10-42D9-A1E8-0DBC4DBD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DCBE-B768-4ACE-9DBA-ACBC6B9A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7BC-3327-47A0-AD0F-E68B92D6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512A-5971-457B-943F-C748B4EA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84D2-E210-43EF-A7CE-1209FDBF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CEB6-0AA7-4E13-B559-135E810C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286B-A2A0-43B6-AB6F-35FF363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2A56-D4B0-46C4-917A-66E4638A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594B-46F7-46B5-9CF5-8048B7B6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40BD-6773-487E-9817-0409C53C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01E-9171-4424-8B1E-8E8BC002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B094-1166-4C49-959F-21862F97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207-82B4-43DF-AE0F-31E3A784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632A-F476-4C68-B017-5CCFBBFA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BBFC-3A22-48FE-8877-3284801D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113A-8276-4FFF-99E5-CEC0925F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C72E0-D1DA-4FCE-99C0-645C726C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D737-6F08-4F6A-AE13-AB47FE41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6F6B-AAAF-4747-96B2-D9CD720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D845-E77D-4AAF-AE53-AC1C9350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BBBC6-4038-4625-948A-1B3551D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DBA29-83F6-4484-A8E0-A5F8982C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4B96-F44E-474C-855B-178596AC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1F1-3236-4C00-9957-C65A88E5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7830-EFB7-4790-899E-1731B817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FDB-FFEC-4905-B3EE-C1E1142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83322-5A30-4D44-A13B-4FFC11ED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A5ED4-E594-45E1-9013-7FBCE05E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E5BC-092B-4CF5-AF9B-741638C7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E1F97-FBC0-4E15-9462-C1473C2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50651-F620-410A-B25A-DF00D3D5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CCF9-C679-4F90-8EA0-FC8DBE5D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3707C-5D4A-4E40-B893-B3E2EEC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AC6-D682-45E9-8010-DF512B1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8EF54-4A98-4920-9F21-912AD2D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3DFC-8EB8-4FD2-8237-C277443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13CE-6A18-43F5-888A-E86C1D90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CEC80-1763-4AFD-A785-12CD5624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CAEF-72E1-4BCE-8547-D48C396B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CE7-8217-4205-8E0D-1229448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04D8-519A-4547-8402-35BF8FE6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19EE0-856E-4277-B92F-E059DC95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C44E-BBE1-4E96-9A3C-476AFAA4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DFCE9-BE22-48F1-89EA-E355D3D99E2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2D33D-3358-4C87-9769-C3DEA52206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013E1-1F79-47A9-BD18-689E7282806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7F4BF-D12A-40D5-8E78-015A9C809B8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590A7-3084-4CCF-869C-A9C33284730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F91D4-2ED8-4313-B106-190F497B3E2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09947-1406-4457-8F10-789876944AF1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27D9D-DA9C-4B0B-A290-BF4EAE9C81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79E43-587E-4558-AA11-EA6B981DFC8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32467-0FFF-4543-9FF3-84DA0D1739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6B6DA-7182-4806-AB94-8CA9A85316F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061B3-D4D8-4961-BF0A-1B485434A3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ults of the Prospective, Randomized, and Customized NSCLC Adjuvant Phase II Trial (IFCT-0801, TASTE Trial) from the French Collaborative Intergro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ria JC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750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ASTE trial demonstrated that customized biomarker-based adjuvant therapy can be employed after surger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t is unclear whether cisplatin/pemetrexed is an effectiv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djuvant therapy for patients with early-stage nonsquamous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ere no serious adverse events associated with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ue to the low accrual on this study, it failed to answer the question of whether erlotinib can substitute for adjuvant chemotherapy for patients with EGFR mutation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nally, ERCC1 status cannot be used to direct adjuvant therapy due to limitations in the currently available detection techniqu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Hoang C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urgical resection followed by adjuvant platinum-based chemotherapy is the standard for Stage II/III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RCC1 protein expression is a molecular determinant of benefit from platinum-based chemotherapy and is a good prognostic marker in resect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98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utations in EGFR are predictive of response to erlotinib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Science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4;304:149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valuate the feasibility of standard versus customized treatment for patients with Stage II or IIIA nonsquamous NSCLC based on baseline tumor ERCC1 protein levels and EGFR mutation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88840" y="1436760"/>
          <a:ext cx="7315200" cy="121752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urgically resected Stage II/IIIA (non-N2) NSCLC (6</a:t>
                      </a:r>
                      <a:r>
                        <a:rPr b="0" lang="en-US" sz="19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TNM editi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cell histolog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1028880" y="3800520"/>
            <a:ext cx="2546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88840" y="2852640"/>
          <a:ext cx="2686320" cy="695520"/>
        </p:xfrm>
        <a:graphic>
          <a:graphicData uri="http://schemas.openxmlformats.org/drawingml/2006/table">
            <a:tbl>
              <a:tblPr/>
              <a:tblGrid>
                <a:gridCol w="268632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platin/pemetre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trol (n = 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4" name="Line 14"/>
          <p:cNvSpPr/>
          <p:nvPr/>
        </p:nvSpPr>
        <p:spPr>
          <a:xfrm>
            <a:off x="5556240" y="3711600"/>
            <a:ext cx="18921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"/>
          <p:cNvSpPr/>
          <p:nvPr/>
        </p:nvSpPr>
        <p:spPr>
          <a:xfrm flipH="1">
            <a:off x="3574800" y="3086280"/>
            <a:ext cx="476280" cy="18540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110120" y="3902040"/>
          <a:ext cx="2030400" cy="552600"/>
        </p:xfrm>
        <a:graphic>
          <a:graphicData uri="http://schemas.openxmlformats.org/drawingml/2006/table">
            <a:tbl>
              <a:tblPr/>
              <a:tblGrid>
                <a:gridCol w="2030400"/>
              </a:tblGrid>
              <a:tr h="55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wild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5067360" y="2852640"/>
          <a:ext cx="2895480" cy="69552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ustomized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429240" y="3900600"/>
          <a:ext cx="1863720" cy="554040"/>
        </p:xfrm>
        <a:graphic>
          <a:graphicData uri="http://schemas.openxmlformats.org/drawingml/2006/table">
            <a:tbl>
              <a:tblPr/>
              <a:tblGrid>
                <a:gridCol w="1863720"/>
              </a:tblGrid>
              <a:tr h="55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9" name="Line 2"/>
          <p:cNvSpPr/>
          <p:nvPr/>
        </p:nvSpPr>
        <p:spPr>
          <a:xfrm>
            <a:off x="5556240" y="370368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"/>
          <p:cNvSpPr/>
          <p:nvPr/>
        </p:nvSpPr>
        <p:spPr>
          <a:xfrm>
            <a:off x="7445520" y="371808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4673520" y="3098880"/>
            <a:ext cx="393840" cy="17280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2527200" y="4626000"/>
            <a:ext cx="26514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"/>
          <p:cNvSpPr/>
          <p:nvPr/>
        </p:nvSpPr>
        <p:spPr>
          <a:xfrm>
            <a:off x="2527200" y="461808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5184720" y="461952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"/>
          <p:cNvSpPr/>
          <p:nvPr/>
        </p:nvSpPr>
        <p:spPr>
          <a:xfrm>
            <a:off x="5178600" y="4460760"/>
            <a:ext cx="0" cy="16524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257480" y="4805280"/>
          <a:ext cx="2369880" cy="639720"/>
        </p:xfrm>
        <a:graphic>
          <a:graphicData uri="http://schemas.openxmlformats.org/drawingml/2006/table">
            <a:tbl>
              <a:tblPr/>
              <a:tblGrid>
                <a:gridCol w="236988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+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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bservation (n = 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3843360" y="4807080"/>
          <a:ext cx="2548080" cy="639720"/>
        </p:xfrm>
        <a:graphic>
          <a:graphicData uri="http://schemas.openxmlformats.org/drawingml/2006/table">
            <a:tbl>
              <a:tblPr/>
              <a:tblGrid>
                <a:gridCol w="254808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–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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platin/pem (n = 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Line 2"/>
          <p:cNvSpPr/>
          <p:nvPr/>
        </p:nvSpPr>
        <p:spPr>
          <a:xfrm>
            <a:off x="6512040" y="3559320"/>
            <a:ext cx="0" cy="14580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7451640" y="4454640"/>
            <a:ext cx="0" cy="35244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595920" y="4832280"/>
          <a:ext cx="1811520" cy="614520"/>
        </p:xfrm>
        <a:graphic>
          <a:graphicData uri="http://schemas.openxmlformats.org/drawingml/2006/table">
            <a:tbl>
              <a:tblPr/>
              <a:tblGrid>
                <a:gridCol w="1811520"/>
              </a:tblGrid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 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vant Phase II/III TASTE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3905280" y="2416320"/>
            <a:ext cx="852480" cy="8506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2919240" y="1490760"/>
            <a:ext cx="1725840" cy="452520"/>
          </a:xfrm>
          <a:prstGeom prst="rect">
            <a:avLst/>
          </a:prstGeom>
          <a:solidFill>
            <a:srgbClr val="7ea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995400" y="5076720"/>
            <a:ext cx="75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Lower limit of the 1-sided 95% CI: 74% (superior to the nonfeasibility boundary of 6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ight Arrow 2"/>
          <p:cNvSpPr/>
          <p:nvPr/>
        </p:nvSpPr>
        <p:spPr>
          <a:xfrm>
            <a:off x="927000" y="1252440"/>
            <a:ext cx="7518600" cy="930240"/>
          </a:xfrm>
          <a:prstGeom prst="rightArrow">
            <a:avLst>
              <a:gd name="adj1" fmla="val 50000"/>
              <a:gd name="adj2" fmla="val 32068"/>
            </a:avLst>
          </a:prstGeom>
          <a:noFill/>
          <a:ln w="284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4"/>
          <p:cNvSpPr/>
          <p:nvPr/>
        </p:nvSpPr>
        <p:spPr>
          <a:xfrm flipV="1">
            <a:off x="1927080" y="1490400"/>
            <a:ext cx="0" cy="4633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10"/>
          <p:cNvSpPr/>
          <p:nvPr/>
        </p:nvSpPr>
        <p:spPr>
          <a:xfrm flipV="1">
            <a:off x="4645080" y="1490400"/>
            <a:ext cx="0" cy="4633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11"/>
          <p:cNvSpPr/>
          <p:nvPr/>
        </p:nvSpPr>
        <p:spPr>
          <a:xfrm flipV="1">
            <a:off x="6227640" y="1490400"/>
            <a:ext cx="0" cy="4633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949320" y="154152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1927080" y="154152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I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2905200" y="1490760"/>
            <a:ext cx="1739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iomarker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6"/>
          <p:cNvSpPr/>
          <p:nvPr/>
        </p:nvSpPr>
        <p:spPr>
          <a:xfrm>
            <a:off x="4645080" y="154152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Rando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7"/>
          <p:cNvSpPr/>
          <p:nvPr/>
        </p:nvSpPr>
        <p:spPr>
          <a:xfrm>
            <a:off x="6227640" y="154152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8"/>
          <p:cNvSpPr/>
          <p:nvPr/>
        </p:nvSpPr>
        <p:spPr>
          <a:xfrm>
            <a:off x="1368360" y="20271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9"/>
          <p:cNvSpPr/>
          <p:nvPr/>
        </p:nvSpPr>
        <p:spPr>
          <a:xfrm>
            <a:off x="6278400" y="20304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 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8"/>
          <p:cNvSpPr/>
          <p:nvPr/>
        </p:nvSpPr>
        <p:spPr>
          <a:xfrm>
            <a:off x="1900080" y="2198520"/>
            <a:ext cx="44038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835200" y="2540160"/>
            <a:ext cx="5905440" cy="745920"/>
          </a:xfrm>
          <a:prstGeom prst="rect">
            <a:avLst/>
          </a:prstGeom>
          <a:solidFill>
            <a:srgbClr val="fa831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4"/>
          <p:cNvSpPr/>
          <p:nvPr/>
        </p:nvSpPr>
        <p:spPr>
          <a:xfrm>
            <a:off x="6740640" y="2540160"/>
            <a:ext cx="344520" cy="745920"/>
          </a:xfrm>
          <a:prstGeom prst="rect">
            <a:avLst/>
          </a:prstGeom>
          <a:solidFill>
            <a:srgbClr val="7eab4a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"/>
          <p:cNvSpPr/>
          <p:nvPr/>
        </p:nvSpPr>
        <p:spPr>
          <a:xfrm>
            <a:off x="7085160" y="2540160"/>
            <a:ext cx="245880" cy="74592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6"/>
          <p:cNvSpPr/>
          <p:nvPr/>
        </p:nvSpPr>
        <p:spPr>
          <a:xfrm>
            <a:off x="7331040" y="2540160"/>
            <a:ext cx="890640" cy="745920"/>
          </a:xfrm>
          <a:prstGeom prst="rect">
            <a:avLst/>
          </a:prstGeom>
          <a:solidFill>
            <a:srgbClr val="1b164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0"/>
          <p:cNvSpPr/>
          <p:nvPr/>
        </p:nvSpPr>
        <p:spPr>
          <a:xfrm>
            <a:off x="746280" y="3286080"/>
            <a:ext cx="747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22"/>
          <p:cNvSpPr/>
          <p:nvPr/>
        </p:nvSpPr>
        <p:spPr>
          <a:xfrm flipV="1">
            <a:off x="83520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31"/>
          <p:cNvSpPr/>
          <p:nvPr/>
        </p:nvSpPr>
        <p:spPr>
          <a:xfrm flipV="1">
            <a:off x="16066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32"/>
          <p:cNvSpPr/>
          <p:nvPr/>
        </p:nvSpPr>
        <p:spPr>
          <a:xfrm flipV="1">
            <a:off x="232236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33"/>
          <p:cNvSpPr/>
          <p:nvPr/>
        </p:nvSpPr>
        <p:spPr>
          <a:xfrm flipV="1">
            <a:off x="30844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35"/>
          <p:cNvSpPr/>
          <p:nvPr/>
        </p:nvSpPr>
        <p:spPr>
          <a:xfrm flipV="1">
            <a:off x="38116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36"/>
          <p:cNvSpPr/>
          <p:nvPr/>
        </p:nvSpPr>
        <p:spPr>
          <a:xfrm flipV="1">
            <a:off x="45370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37"/>
          <p:cNvSpPr/>
          <p:nvPr/>
        </p:nvSpPr>
        <p:spPr>
          <a:xfrm flipV="1">
            <a:off x="528012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38"/>
          <p:cNvSpPr/>
          <p:nvPr/>
        </p:nvSpPr>
        <p:spPr>
          <a:xfrm flipV="1">
            <a:off x="60148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39"/>
          <p:cNvSpPr/>
          <p:nvPr/>
        </p:nvSpPr>
        <p:spPr>
          <a:xfrm flipV="1">
            <a:off x="675000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40"/>
          <p:cNvSpPr/>
          <p:nvPr/>
        </p:nvSpPr>
        <p:spPr>
          <a:xfrm flipV="1">
            <a:off x="747540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41"/>
          <p:cNvSpPr/>
          <p:nvPr/>
        </p:nvSpPr>
        <p:spPr>
          <a:xfrm flipV="1">
            <a:off x="822312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2"/>
          <p:cNvSpPr/>
          <p:nvPr/>
        </p:nvSpPr>
        <p:spPr>
          <a:xfrm>
            <a:off x="835200" y="2720880"/>
            <a:ext cx="59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uccess 80% (N = 120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3"/>
          <p:cNvSpPr/>
          <p:nvPr/>
        </p:nvSpPr>
        <p:spPr>
          <a:xfrm>
            <a:off x="1081080" y="3763800"/>
            <a:ext cx="7432560" cy="13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Biomarker status not available on time 5% (n =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nd of study before treatment 3% (n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ime between surgery and treatment &gt;61 days 11% (n = 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50"/>
          <p:cNvSpPr/>
          <p:nvPr/>
        </p:nvSpPr>
        <p:spPr>
          <a:xfrm flipV="1">
            <a:off x="2914560" y="1490400"/>
            <a:ext cx="0" cy="4633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4"/>
          <p:cNvSpPr/>
          <p:nvPr/>
        </p:nvSpPr>
        <p:spPr>
          <a:xfrm>
            <a:off x="56844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2"/>
          <p:cNvSpPr/>
          <p:nvPr/>
        </p:nvSpPr>
        <p:spPr>
          <a:xfrm>
            <a:off x="133992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3"/>
          <p:cNvSpPr/>
          <p:nvPr/>
        </p:nvSpPr>
        <p:spPr>
          <a:xfrm>
            <a:off x="205596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4"/>
          <p:cNvSpPr/>
          <p:nvPr/>
        </p:nvSpPr>
        <p:spPr>
          <a:xfrm>
            <a:off x="281772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5"/>
          <p:cNvSpPr/>
          <p:nvPr/>
        </p:nvSpPr>
        <p:spPr>
          <a:xfrm>
            <a:off x="354492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6"/>
          <p:cNvSpPr/>
          <p:nvPr/>
        </p:nvSpPr>
        <p:spPr>
          <a:xfrm>
            <a:off x="427032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7"/>
          <p:cNvSpPr/>
          <p:nvPr/>
        </p:nvSpPr>
        <p:spPr>
          <a:xfrm>
            <a:off x="501336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8"/>
          <p:cNvSpPr/>
          <p:nvPr/>
        </p:nvSpPr>
        <p:spPr>
          <a:xfrm>
            <a:off x="576756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9"/>
          <p:cNvSpPr/>
          <p:nvPr/>
        </p:nvSpPr>
        <p:spPr>
          <a:xfrm>
            <a:off x="648324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60"/>
          <p:cNvSpPr/>
          <p:nvPr/>
        </p:nvSpPr>
        <p:spPr>
          <a:xfrm>
            <a:off x="720900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61"/>
          <p:cNvSpPr/>
          <p:nvPr/>
        </p:nvSpPr>
        <p:spPr>
          <a:xfrm>
            <a:off x="7886880" y="3441600"/>
            <a:ext cx="67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5"/>
          <p:cNvSpPr/>
          <p:nvPr/>
        </p:nvSpPr>
        <p:spPr>
          <a:xfrm>
            <a:off x="903240" y="4178160"/>
            <a:ext cx="177840" cy="177840"/>
          </a:xfrm>
          <a:prstGeom prst="rect">
            <a:avLst/>
          </a:prstGeom>
          <a:solidFill>
            <a:srgbClr val="7eab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3"/>
          <p:cNvSpPr/>
          <p:nvPr/>
        </p:nvSpPr>
        <p:spPr>
          <a:xfrm>
            <a:off x="903240" y="4483080"/>
            <a:ext cx="177840" cy="17784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4"/>
          <p:cNvSpPr/>
          <p:nvPr/>
        </p:nvSpPr>
        <p:spPr>
          <a:xfrm>
            <a:off x="903240" y="4788000"/>
            <a:ext cx="177840" cy="177840"/>
          </a:xfrm>
          <a:prstGeom prst="rect">
            <a:avLst/>
          </a:prstGeom>
          <a:solidFill>
            <a:srgbClr val="1b16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927000" y="1521000"/>
          <a:ext cx="7378920" cy="3187440"/>
        </p:xfrm>
        <a:graphic>
          <a:graphicData uri="http://schemas.openxmlformats.org/drawingml/2006/table">
            <a:tbl>
              <a:tblPr/>
              <a:tblGrid>
                <a:gridCol w="2773440"/>
                <a:gridCol w="1535040"/>
                <a:gridCol w="1535040"/>
                <a:gridCol w="1535400"/>
              </a:tblGrid>
              <a:tr h="7189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a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stomiz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/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/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rker Rea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31"/>
          <p:cNvSpPr/>
          <p:nvPr/>
        </p:nvSpPr>
        <p:spPr>
          <a:xfrm>
            <a:off x="927000" y="4848120"/>
            <a:ext cx="73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turnaround testing time: ERCC1 status (7 days), EGFR status (14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927000" y="1500120"/>
          <a:ext cx="7378920" cy="2178000"/>
        </p:xfrm>
        <a:graphic>
          <a:graphicData uri="http://schemas.openxmlformats.org/drawingml/2006/table">
            <a:tbl>
              <a:tblPr/>
              <a:tblGrid>
                <a:gridCol w="3306960"/>
                <a:gridCol w="2035080"/>
                <a:gridCol w="2036880"/>
              </a:tblGrid>
              <a:tr h="6048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arker (n = 1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2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-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-neg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zed Arm: Incidence of EGFR Mutation and ERCC1 versus IALT Tri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820800" y="3789360"/>
            <a:ext cx="7642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ccrual on the study was stopped after the enrollment of 150 patients due to the observed frequency of immunohistochemical (IHC) staining for ERCC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300"/>
              </a:spcBef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occurrence of ERCC1 in samples was significantly different from that observed from bioanalysis of data from the International Adjuvant Lung Cancer Trial (IALT)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2006;355:98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286680" y="1476360"/>
          <a:ext cx="2019240" cy="218916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42800" y="1163520"/>
            <a:ext cx="8244000" cy="457992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3080" indent="-343080"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pon retesting of the IALT samples by IHC for ERCC1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nly 43% of IALT samples consistently restained as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CC1-positiv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nly 21% of IALT samples consistently restained as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CC1-negativ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36% of samples restained in the reverse direct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noclonal antibodies and other commercially available antibodies recognize a conserved region shared by all isoforms of the ERCC1 protei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ly available antibodies are unable to differentiat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tween the different ERCC1 isofor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ERCC1 isoform 202 is the only functional isoform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or DNA repair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Associated with Staining for ERCC1 by IH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927000" y="1467000"/>
          <a:ext cx="7404120" cy="3657600"/>
        </p:xfrm>
        <a:graphic>
          <a:graphicData uri="http://schemas.openxmlformats.org/drawingml/2006/table">
            <a:tbl>
              <a:tblPr/>
              <a:tblGrid>
                <a:gridCol w="2468520"/>
                <a:gridCol w="1233720"/>
                <a:gridCol w="1233360"/>
                <a:gridCol w="1235160"/>
                <a:gridCol w="123336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/pem (n = 1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sth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reported (N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977760" y="5261040"/>
            <a:ext cx="73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Grade 5 AE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ASTE trial met its primary endpoint for the Phase II component, demonstrating the feasibility of a national biology-driven trial in the adjuvant sett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tandard therapy with cisplatin/pemetrexed demonstrated an excellent tolerability profile comparable to that observed with cisplatin/vinorelbin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hase III component of the trial was cancelled due to the unexpected unreliability of the ERCC1 IHC readou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RCC1 IHC readouts need to be refined before a prospective Phase III trial can be conduc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48:38Z</dcterms:modified>
  <cp:revision>747</cp:revision>
  <dc:subject/>
  <dc:title>Research To Practice</dc:title>
</cp:coreProperties>
</file>