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710C-ABA2-41B3-BC8A-F6DC58B5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8AFB-B6C7-432E-BBC2-255E5309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684F9-5CE4-4E0B-86E5-CF098C39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AE4B8-A045-4511-B53E-39B6BFC9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2966C-2D07-40A8-A094-E4458560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5AB8A-D895-4688-B3C0-AEB7D49A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C25DC-034C-4E6B-9722-F3D18982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23AC2-1B9A-4898-8727-EC6A10AF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DEC8E-BDDF-4A3C-A4BF-23254EF2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A70AB-3426-4186-B32B-6A02D5AE4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E6EB9-FF5B-4D9F-9CFB-0B074261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8306-FEB5-470E-B3A6-817D55EF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B78F-70B3-4277-B06A-4F019921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6AB6-D46D-4985-AACD-3E53993D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719D-5229-44AA-8F22-F2F7ECBE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3655-52C0-4040-B529-D386A875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0CD5-7063-49F0-9BDB-D9575880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2805-40F4-4175-8998-B2F76DEF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D362-40DF-4D6E-9D62-A854573E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7E1E-7277-4B4A-85C1-A8726ABB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2FC-F984-4E8E-B9D7-C5EF3428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9B01-7BFE-4095-B4D5-3EE79151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0EB0-30EB-4C98-8A3A-874BCA01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88CC-D841-45C6-A188-D8770831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E421-9219-4B28-B227-A6227FDF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6108-A31D-46A3-B80F-4D8A79C0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96454-8D30-485F-8B1F-CDE53F36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F6C7D-C281-42E8-B504-A8C14499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773DB-DCA5-4913-B2A9-591C488C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EC3E6-F361-4626-BA3B-1E043931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9148D-E8B7-407C-B5BD-9307599B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59A5-FD0C-4DDA-8A0B-C350CA96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4E5A2-D0A5-470E-AAC1-4D3D3DF6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6BE43-0A61-4F2E-A5FA-A179F7B5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C4AEB-E689-4EA4-93FC-24B64421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0BD75-6169-4265-96D4-A0926F66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BD638-43C1-4A2A-89CC-CFD88BC1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9EAE2-1779-4FD6-9AC9-933886E5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32693-BD5E-4403-BB24-693709C3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15A1-D27F-4B8D-A460-DADABCC6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4334B-2F11-4807-91AA-F2279AE7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80AD-E251-4E8D-8B5A-BBB547DD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247CE-DACA-43F9-AF22-9BAC576F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07471-3BCB-433C-9F47-3A868A01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4C41B-9B17-40F7-A226-5881B79C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622A6-EC9A-4A50-A8B7-7DFD4746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32D4F-A11C-434E-AD19-C68181BD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19457-9424-4587-99C5-2BD3B79D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E84B8-D1B0-4D34-8551-3B0E9F53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A1CD7-BC24-4559-85BD-E8FD4A58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E9AA2-EF19-4215-BD0B-9695D815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CEF46-8077-40E2-A7C4-A28CB36A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A732-034F-4437-9BEF-821CAB59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8B0D7-94EA-4961-9E8E-471E507B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C867-F5F6-45AB-B939-47191516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5D07B-05B4-4A55-AD19-3D71AC44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3D2C0-EF69-43F2-B1E4-7C14E197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98E5C-B452-4646-B991-18856482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368FB-46B9-4D8E-AF0A-D3B26A8E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E3B13-3F13-4A76-877D-B06C1398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17B23-9508-4068-A394-01085DC9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7CF6F-417B-4BA3-910C-B546B05C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0EBD-9443-489F-BDA2-C47594D7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043EB-3B0B-4CAC-8260-F3D76632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570CD-CDF9-4087-8CA8-6411AEA3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6D1E2-6715-4A08-980C-70B608B7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B3531-2EB3-4B9F-A3A1-BCB187B3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FE086-E766-457D-B24A-82A3E177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9CCB-678F-4ECA-B7B2-0A49A4C3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0A485-5DEF-4EAF-A17B-67F73F1F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FFC3A-09D3-43D1-B1CD-9CBF2A71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299A3-7CAE-448D-947C-6D0530F0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929BA-A1D5-4EEF-95EE-13B8CF473B05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1FD36-6842-4647-8028-3B65FF493A2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BAA6C6-24BB-4C30-8D97-1EAAF467CBB6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DCFD8D-7F93-45A9-B4C8-5A68B44E334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22228-2206-46BD-820A-EA04E8E9E89C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8F43BB-AC3B-464B-A9D3-6C79BCC8744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74F8F1-D6D9-4897-AC57-219DE1EED8AF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A68231-DE86-4F97-A44F-62F69D47F79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84F385-A039-47A8-B1A5-3360410D8F1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99D59D-AAA8-432E-A093-5957A28E8C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150F30-00EC-4F29-8B8C-6D8CA0BF686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DB074-9384-491F-A14C-F4BC14B89E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MOUNT: Final Overall Survival Results of the Phase III Study of Maintenance Pemetrexed versus Placebo Immediately After Induction Treatment with Pemetrexed plus Cisplatin for Advanced Nonsquamous Non-Small-Cell Lung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Paz-Ares LG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J Clin Oncol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[Epub ahead of print]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968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ost patients have Stage IIIB or IV non-small cell lung cancer (NSCLC) when diagnosed, and platinum-based doublets are recommended as first-line therapy for those with a PS of 0 or 1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JCO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9;27:6251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emetrexed (Pem) has demonstrated efficacy in advanced nonsquamous NSCLC (NS-NSCLC) in combination with cisplatin (Cis) and as maintenance therapy after non-Pem/platinum doublets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JCO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8;26:3543;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Lancet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9;374:1432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Phase III PARAMOUNT trial showed that Pem continuation maintenance therapy significantly reduced the risk of disease progression compared to placebo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12;13:247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Report the results of the final overall survival (OS) analysis of the PARAMOUNT trial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z-Ares LG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698400" y="1865160"/>
          <a:ext cx="2908440" cy="138780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3970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9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990720">
                <a:tc>
                  <a:txBody>
                    <a:bodyPr lIns="90000" rIns="90000" anchor="t">
                      <a:noAutofit/>
                    </a:bodyPr>
                    <a:p>
                      <a:pPr marL="177840" indent="-177840">
                        <a:spcBef>
                          <a:spcPts val="60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eviously untreated Stage IIIB/IV NS-NSC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60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COG PS 0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2" name="Rectangle 31"/>
          <p:cNvSpPr/>
          <p:nvPr/>
        </p:nvSpPr>
        <p:spPr>
          <a:xfrm>
            <a:off x="698400" y="4786200"/>
            <a:ext cx="79884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95000"/>
              </a:lnSpc>
              <a:spcBef>
                <a:spcPts val="201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Primary endpoint: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Progression-free survival (PF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spcBef>
                <a:spcPts val="201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inal OS analysis occurred after ≥390 de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I PARAMOUNT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6735600" y="1900080"/>
          <a:ext cx="1704960" cy="695520"/>
        </p:xfrm>
        <a:graphic>
          <a:graphicData uri="http://schemas.openxmlformats.org/drawingml/2006/table">
            <a:tbl>
              <a:tblPr/>
              <a:tblGrid>
                <a:gridCol w="1704960"/>
              </a:tblGrid>
              <a:tr h="695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em + BS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3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6735600" y="2682720"/>
          <a:ext cx="1704960" cy="695520"/>
        </p:xfrm>
        <a:graphic>
          <a:graphicData uri="http://schemas.openxmlformats.org/drawingml/2006/table">
            <a:tbl>
              <a:tblPr/>
              <a:tblGrid>
                <a:gridCol w="1704960"/>
              </a:tblGrid>
              <a:tr h="695520">
                <a:tc>
                  <a:txBody>
                    <a:bodyPr lIns="0" r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lacebo + BS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18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6" name="Line 2"/>
          <p:cNvSpPr/>
          <p:nvPr/>
        </p:nvSpPr>
        <p:spPr>
          <a:xfrm>
            <a:off x="5097600" y="2714760"/>
            <a:ext cx="140796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20"/>
          <p:cNvGrpSpPr/>
          <p:nvPr/>
        </p:nvGrpSpPr>
        <p:grpSpPr>
          <a:xfrm>
            <a:off x="6487560" y="2276280"/>
            <a:ext cx="229320" cy="814680"/>
            <a:chOff x="6487560" y="2276280"/>
            <a:chExt cx="229320" cy="814680"/>
          </a:xfrm>
        </p:grpSpPr>
        <p:sp>
          <p:nvSpPr>
            <p:cNvPr id="378" name="Line 14"/>
            <p:cNvSpPr/>
            <p:nvPr/>
          </p:nvSpPr>
          <p:spPr>
            <a:xfrm flipV="1">
              <a:off x="6488280" y="2276280"/>
              <a:ext cx="0" cy="655560"/>
            </a:xfrm>
            <a:prstGeom prst="line">
              <a:avLst/>
            </a:prstGeom>
            <a:ln w="28440">
              <a:solidFill>
                <a:srgbClr val="7679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5"/>
            <p:cNvSpPr/>
            <p:nvPr/>
          </p:nvSpPr>
          <p:spPr>
            <a:xfrm>
              <a:off x="6488280" y="2276640"/>
              <a:ext cx="228600" cy="0"/>
            </a:xfrm>
            <a:prstGeom prst="line">
              <a:avLst/>
            </a:prstGeom>
            <a:ln w="28440">
              <a:solidFill>
                <a:srgbClr val="7679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7"/>
            <p:cNvSpPr/>
            <p:nvPr/>
          </p:nvSpPr>
          <p:spPr>
            <a:xfrm>
              <a:off x="6488280" y="2412360"/>
              <a:ext cx="0" cy="677880"/>
            </a:xfrm>
            <a:prstGeom prst="line">
              <a:avLst/>
            </a:prstGeom>
            <a:ln w="28440">
              <a:solidFill>
                <a:srgbClr val="7679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8"/>
            <p:cNvSpPr/>
            <p:nvPr/>
          </p:nvSpPr>
          <p:spPr>
            <a:xfrm>
              <a:off x="6487560" y="3090960"/>
              <a:ext cx="228600" cy="0"/>
            </a:xfrm>
            <a:prstGeom prst="line">
              <a:avLst/>
            </a:prstGeom>
            <a:ln w="28440">
              <a:solidFill>
                <a:srgbClr val="7679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Oval 4"/>
          <p:cNvSpPr/>
          <p:nvPr/>
        </p:nvSpPr>
        <p:spPr>
          <a:xfrm>
            <a:off x="5554800" y="2328840"/>
            <a:ext cx="752400" cy="752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3911760" y="2367000"/>
          <a:ext cx="1247760" cy="695160"/>
        </p:xfrm>
        <a:graphic>
          <a:graphicData uri="http://schemas.openxmlformats.org/drawingml/2006/table">
            <a:tbl>
              <a:tblPr/>
              <a:tblGrid>
                <a:gridCol w="1247760"/>
              </a:tblGrid>
              <a:tr h="69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em/C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9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4" name="Line 15"/>
          <p:cNvSpPr/>
          <p:nvPr/>
        </p:nvSpPr>
        <p:spPr>
          <a:xfrm>
            <a:off x="3618000" y="2719440"/>
            <a:ext cx="284040" cy="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4"/>
          <p:cNvSpPr/>
          <p:nvPr/>
        </p:nvSpPr>
        <p:spPr>
          <a:xfrm>
            <a:off x="3502080" y="1744560"/>
            <a:ext cx="20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Induction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q21d, 4 cy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25"/>
          <p:cNvSpPr/>
          <p:nvPr/>
        </p:nvSpPr>
        <p:spPr>
          <a:xfrm>
            <a:off x="6746760" y="1231920"/>
            <a:ext cx="168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Mainten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q21d until P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z-Ares LG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4"/>
          <p:cNvSpPr/>
          <p:nvPr/>
        </p:nvSpPr>
        <p:spPr>
          <a:xfrm>
            <a:off x="5268960" y="1744560"/>
            <a:ext cx="132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CR/PR/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(n = 53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1"/>
          <p:cNvSpPr/>
          <p:nvPr/>
        </p:nvSpPr>
        <p:spPr>
          <a:xfrm>
            <a:off x="698400" y="3605040"/>
            <a:ext cx="77313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Pem, 500 mg/m</a:t>
            </a:r>
            <a:r>
              <a:rPr b="0" lang="en-US" sz="17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; Cis, 75 mg/m</a:t>
            </a:r>
            <a:r>
              <a:rPr b="0" lang="en-US" sz="17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Folic acid and vitamin B12 received on both ar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888840" y="1486080"/>
          <a:ext cx="7429680" cy="3528720"/>
        </p:xfrm>
        <a:graphic>
          <a:graphicData uri="http://schemas.openxmlformats.org/drawingml/2006/table">
            <a:tbl>
              <a:tblPr/>
              <a:tblGrid>
                <a:gridCol w="1841760"/>
                <a:gridCol w="1396800"/>
                <a:gridCol w="1397160"/>
                <a:gridCol w="1396800"/>
                <a:gridCol w="1397160"/>
              </a:tblGrid>
              <a:tr h="672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m random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8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 (H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52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.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0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ne-year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554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wo-year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m in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bo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8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5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6.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.0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 Analysis of OS from Random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z-Ares LG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1"/>
          <p:cNvSpPr/>
          <p:nvPr/>
        </p:nvSpPr>
        <p:spPr>
          <a:xfrm>
            <a:off x="1003320" y="5160960"/>
            <a:ext cx="59054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R = not re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31"/>
          <p:cNvSpPr/>
          <p:nvPr/>
        </p:nvSpPr>
        <p:spPr>
          <a:xfrm>
            <a:off x="914400" y="4699080"/>
            <a:ext cx="759924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Hazard ratio &lt;1.0 favors P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urvival results were internally consistent, with benefit observed across all sub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914400" y="1434960"/>
          <a:ext cx="7391520" cy="3200400"/>
        </p:xfrm>
        <a:graphic>
          <a:graphicData uri="http://schemas.openxmlformats.org/drawingml/2006/table">
            <a:tbl>
              <a:tblPr/>
              <a:tblGrid>
                <a:gridCol w="4410000"/>
                <a:gridCol w="2981520"/>
              </a:tblGrid>
              <a:tr h="4003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versus place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99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ge IV (n = 49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ge IIIB (n = 4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00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smoker (n = 11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moker (n = 4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9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erandomization PS 1 (n = 36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erandomization PS 0 (n = 1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 According to Sub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z-Ares LG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888840" y="1409760"/>
          <a:ext cx="7429680" cy="2755800"/>
        </p:xfrm>
        <a:graphic>
          <a:graphicData uri="http://schemas.openxmlformats.org/drawingml/2006/table">
            <a:tbl>
              <a:tblPr/>
              <a:tblGrid>
                <a:gridCol w="1841760"/>
                <a:gridCol w="1396800"/>
                <a:gridCol w="1397160"/>
                <a:gridCol w="1396800"/>
                <a:gridCol w="1397160"/>
              </a:tblGrid>
              <a:tr h="766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/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28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.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86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1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31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.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1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5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ival Outcomes for Patients Who Achieved CR/PR and SD with Induction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z-Ares LG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1"/>
          <p:cNvSpPr/>
          <p:nvPr/>
        </p:nvSpPr>
        <p:spPr>
          <a:xfrm>
            <a:off x="914400" y="4253040"/>
            <a:ext cx="74930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e study was not adequately powered to differentiate between treatments for these 2 subgroups (CR/PR or S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o significant interaction in terms of response by trea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464847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R/PR vs SD;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= 0.7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914400" y="1612800"/>
          <a:ext cx="7493040" cy="3292560"/>
        </p:xfrm>
        <a:graphic>
          <a:graphicData uri="http://schemas.openxmlformats.org/drawingml/2006/table">
            <a:tbl>
              <a:tblPr/>
              <a:tblGrid>
                <a:gridCol w="2367000"/>
                <a:gridCol w="1336680"/>
                <a:gridCol w="1263600"/>
                <a:gridCol w="1263600"/>
                <a:gridCol w="1262160"/>
              </a:tblGrid>
              <a:tr h="3661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erse 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(n = 3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bo (n = 18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/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ati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.5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7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.6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1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au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.4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2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7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4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4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Vom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5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1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ucositis/stomat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5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1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uropathy/sens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0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8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 with Incidence of ≥2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31"/>
          <p:cNvSpPr/>
          <p:nvPr/>
        </p:nvSpPr>
        <p:spPr>
          <a:xfrm>
            <a:off x="914400" y="5014800"/>
            <a:ext cx="74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gnificant difference (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≤ 0.05) between 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z-Ares LG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10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emetrexed continuation maintenance therapy is well tolerated and offers a superior overall survival in comparison to placebo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10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survival results were not likely confounded by poststudy therapy as the use of postdiscontinuation therapy was similar in both study arms (data not shown)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10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PARAMOUNT study further demonstrates that pemetrexed continuation maintenance therapy is an efficacious treatment strategy for patients with advanced nonsquamous NSCLC with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 good performance status and without progressive disease during pemetrexed-cisplatin induction therap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z-Ares LG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8T20:29:36Z</dcterms:created>
  <dc:creator>Research To Practice</dc:creator>
  <dc:description/>
  <cp:keywords/>
  <dc:language>en-US</dc:language>
  <cp:lastModifiedBy>Silvana Izquierdo</cp:lastModifiedBy>
  <cp:lastPrinted>2013-04-25T19:06:00Z</cp:lastPrinted>
  <dcterms:modified xsi:type="dcterms:W3CDTF">2013-07-22T19:02:04Z</dcterms:modified>
  <cp:revision>716</cp:revision>
  <dc:subject/>
  <dc:title>Research To Practice</dc:title>
</cp:coreProperties>
</file>