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D76C-C5D8-492D-8E44-9D749252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1778-5851-49A2-938E-9C0EF674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B6B1-B441-4BA2-A23F-362F2001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AAB5-9CC0-4C90-8052-3BDC5DA2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F6A8-9ABA-4D97-9B72-A2329552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12D5-5D35-4974-BE82-A45CC742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8220-75C1-49C4-9373-D4927A0C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C380-7336-4352-9E07-1923AA71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2FAC-9ECE-4E36-A072-7493AE0D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7A06-A9C5-4CED-AC60-ECBD294F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7E1E-6E9A-486D-B396-0357D46E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4B8-FDBD-4751-93A2-47B9DFAC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E4BB-9976-4A3C-A127-9D77C66F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A67F-83E6-4C51-BF29-C290A899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94CD-6F67-4B0E-A0AA-9B8B080B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B6FF-B02D-476C-ACB1-6D64091D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0415-F923-42AF-92ED-0A30A54C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4D12-85F9-48A0-A8F0-935E753C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F301F-D110-43D4-B5D8-659B8359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1D93A-D31F-4878-B262-0F704311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C8A69-A184-49B3-9558-6CBE1420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1904-D043-41FD-8350-62A11F88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4D73D-A3D0-47E2-B675-EFEC00FF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7ABF4-10BB-4F2D-9A12-AB89AECC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5F814-7A56-47D9-B647-8F17A9B8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2072E-513E-4CC3-92BF-27A6D5FE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730C2-E280-434D-9F67-B2764BCC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407F8-CF97-4A43-B450-0CAD8B68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6E352-1D82-40C1-954B-21325810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8F1B1-6233-4026-80B8-A2C69D33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A466B-6206-4744-BF23-256B0F06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6554-2D3E-498D-8005-7B64D8BF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4A79-F0AD-47BA-BFBB-1463029D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B287F-70C5-4592-888A-FEA980FB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A9F40-6D5A-4822-A8EB-C9668C55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418DC-5914-4E43-982F-ADECC73E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FFF9D-0A1C-46B9-8825-D223AE3E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50701-3BD1-490F-B5BF-A98590E0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50C37-9483-49A5-B201-0EAEFB55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FBBB5-2E72-443D-AB80-08239FD4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8D685-0D38-4507-B64B-C44A1B1B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EB264-1522-4EA0-AA27-FFBE022C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00D7-2D96-4316-B8E9-377D5FEB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68EF1-39E1-408D-B92B-1C30A632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A6680-7EBC-450E-A4F6-8C9AD8E0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B4E32-E3C4-4BEF-9F6C-7A463992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B373-08E4-4D45-8E84-8169F23F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D106-222F-4D53-B2F6-A1B49CED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18B19-1E72-45AD-8ABE-27F4A6744197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88799A-CB43-4D35-9B76-9FBD6925004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517AB9-F4A7-4309-9A5D-B836121FE3EC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DEE266-090C-4BF9-97C8-68BBC33616D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A5B5E4-34E8-4A89-89E5-9E79D44CF0BD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BDEA05-F672-47A3-B202-7F7C3575DB2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69B81-4056-4992-9B2B-6C334D027FC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25CD3-ED75-4BA3-B64F-0EF8AAC7C8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442800" y="444600"/>
            <a:ext cx="8358480" cy="42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0" bIns="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NOUNCE: Randomized, Open-Label, Phase 3 Study of Pemetrexed (Pem) + Carboplatin (Cb) Followed by Maintenance Pemetrexed vs Paclitaxel (Pac) + Carboplatin + Bevacizumab (Bev) Followed by Maintenance Bevacizumab in Patients with Advanced Non-Squamous Non-Small-Cell Lung Cancer (NS-NSCLC)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Phase 3 Study of Pemetrexed (Pem)+Carboplatin (Cb)+Bevacizumab (Bev) Followed by Maintenance Pem+Bev versus Paclitaxel (Pac)+Cb+Bev Followed by Maintenance Bev in Stage IIIB or IV Nonsquamous Non-Small Cell Lung Cancer (NS-NSCLC): Overall and Age Group Results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 baseline="30000">
                <a:solidFill>
                  <a:srgbClr val="464847"/>
                </a:solidFill>
                <a:latin typeface="Arial"/>
              </a:rPr>
              <a:t>1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Zinner R et al.</a:t>
            </a:r>
            <a:br>
              <a:rPr sz="2200"/>
            </a:b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Abstract LBA800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 baseline="30000">
                <a:solidFill>
                  <a:srgbClr val="464847"/>
                </a:solidFill>
                <a:latin typeface="Arial"/>
              </a:rPr>
              <a:t>2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ocinski MA et al.</a:t>
            </a:r>
            <a:br>
              <a:rPr sz="2200"/>
            </a:b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Abstract 800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795240" y="1523880"/>
          <a:ext cx="7497720" cy="3586320"/>
        </p:xfrm>
        <a:graphic>
          <a:graphicData uri="http://schemas.openxmlformats.org/drawingml/2006/table">
            <a:tbl>
              <a:tblPr/>
              <a:tblGrid>
                <a:gridCol w="2433600"/>
                <a:gridCol w="1881360"/>
                <a:gridCol w="1787400"/>
                <a:gridCol w="1395360"/>
              </a:tblGrid>
              <a:tr h="3985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/4 A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(n = 1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 (n = 16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98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hrombocyt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8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ebrile 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8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y hemorrhagic 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8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au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ensory neuropathy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31"/>
          <p:cNvSpPr/>
          <p:nvPr/>
        </p:nvSpPr>
        <p:spPr>
          <a:xfrm>
            <a:off x="774720" y="5089680"/>
            <a:ext cx="74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o Grad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inner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0535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Aft>
                <a:spcPts val="10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primary objective of the study was not met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Aft>
                <a:spcPts val="10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em + Cb was not superior to Pac + Cb + Bev in terms of G4PFS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PFS and OS results were similar between patient groups treated with Pem + Cb and those who received Pac + Cb + Bev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re were no unexpected toxic effect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toxicity profiles for both regimens were different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Aft>
                <a:spcPts val="10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Both regimens demonstrated tolerability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inner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t is uncertain whether the primary endpoint of G4PFS is optimal, especially when some of the Grade 4 toxicities were not clinically relevant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Aft>
                <a:spcPts val="400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24% of patients treated with Pem experienced Grade 3/4 thrombocytopenia, but only 1% had hemorrhage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Aft>
                <a:spcPts val="400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49% of patients who received Pac experienced Grade 3/4 neutropenia, but only 2% developed febrile neutropenia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ost important, PFS and OS benefits were similar between treatment arm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However, this is a small trial of only 350 patients that is not sufficiently powered to detect differences in survival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is study does not provide definitive answers about whether these 2 regimens are equally effectiv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ant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z-Ares L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Discu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hase 3 Study of Pemetrexed (Pem)+Carboplatin (Cb)+Bevacizumab (Bev) Followed by Maintenance Pem+Bev versus Paclitaxel (Pac)+Cb+Bev Followed by Maintenance Bev in Stage IIIB or IV Nonsquamous Non-Small Cell Lung Cancer (NS-NSCLC): Overall and Age Group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ocinski MA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Abstract 800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68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ac + Cb + Bev followed by maintenance Bev significantly improved overall survival (OS) compared to Pac + Cb alone in the Phase II/III ECOG-E4599 trial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NEJM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6;355:2542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ost hoc analysis of a subgroup of elderly patients &gt;70 years demonstrated more toxicity without OS benefit with the addition of Bev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PointBreak trial did not meet its primary endpoint and demonstrated that OS with Pem + Cb + Bev followed by Pem + Bev was not superior to Pac + Cb + Bev followed by Bev maintenance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roc IASLC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2;Abstract LBPL1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ompare the efficacy and safety of the PointBreak study treatment regimens for patients with advanced NSCLC according to age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cinski M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698400" y="1576440"/>
          <a:ext cx="2908440" cy="343692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377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93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2999160">
                <a:tc>
                  <a:txBody>
                    <a:bodyPr lIns="90000" rIns="90000" anchor="t">
                      <a:noAutofit/>
                    </a:bodyPr>
                    <a:p>
                      <a:pPr marL="228600" indent="-228600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ge IIIB-IV NS-NSCL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prior systemic</a:t>
                      </a:r>
                      <a:br>
                        <a:rPr sz="1900"/>
                      </a:b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herapy for NS-NSCL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COG PS 0/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ble treated brain metastas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≥Grade 1 P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uncontrolled pleural effusio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I PointBreak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2"/>
          <p:cNvSpPr/>
          <p:nvPr/>
        </p:nvSpPr>
        <p:spPr>
          <a:xfrm>
            <a:off x="3600360" y="3108240"/>
            <a:ext cx="123516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"/>
          <p:cNvGrpSpPr/>
          <p:nvPr/>
        </p:nvGrpSpPr>
        <p:grpSpPr>
          <a:xfrm>
            <a:off x="4818240" y="2619000"/>
            <a:ext cx="158400" cy="655560"/>
            <a:chOff x="4818240" y="2619000"/>
            <a:chExt cx="158400" cy="655560"/>
          </a:xfrm>
        </p:grpSpPr>
        <p:sp>
          <p:nvSpPr>
            <p:cNvPr id="312" name="Line 14"/>
            <p:cNvSpPr/>
            <p:nvPr/>
          </p:nvSpPr>
          <p:spPr>
            <a:xfrm flipV="1">
              <a:off x="4818240" y="2619000"/>
              <a:ext cx="0" cy="65556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5"/>
            <p:cNvSpPr/>
            <p:nvPr/>
          </p:nvSpPr>
          <p:spPr>
            <a:xfrm>
              <a:off x="4818240" y="2619360"/>
              <a:ext cx="1584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16"/>
          <p:cNvGrpSpPr/>
          <p:nvPr/>
        </p:nvGrpSpPr>
        <p:grpSpPr>
          <a:xfrm>
            <a:off x="4818240" y="2959200"/>
            <a:ext cx="158400" cy="677880"/>
            <a:chOff x="4818240" y="2959200"/>
            <a:chExt cx="158400" cy="677880"/>
          </a:xfrm>
        </p:grpSpPr>
        <p:sp>
          <p:nvSpPr>
            <p:cNvPr id="315" name="Line 17"/>
            <p:cNvSpPr/>
            <p:nvPr/>
          </p:nvSpPr>
          <p:spPr>
            <a:xfrm>
              <a:off x="4818240" y="2959200"/>
              <a:ext cx="0" cy="67788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8"/>
            <p:cNvSpPr/>
            <p:nvPr/>
          </p:nvSpPr>
          <p:spPr>
            <a:xfrm>
              <a:off x="4818240" y="3636720"/>
              <a:ext cx="1584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Oval 4"/>
          <p:cNvSpPr/>
          <p:nvPr/>
        </p:nvSpPr>
        <p:spPr>
          <a:xfrm>
            <a:off x="3703680" y="2595600"/>
            <a:ext cx="1004760" cy="1003320"/>
          </a:xfrm>
          <a:prstGeom prst="ellipse">
            <a:avLst/>
          </a:prstGeom>
          <a:solidFill>
            <a:srgbClr val="db9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7058160" y="2243160"/>
          <a:ext cx="1336680" cy="695160"/>
        </p:xfrm>
        <a:graphic>
          <a:graphicData uri="http://schemas.openxmlformats.org/drawingml/2006/table">
            <a:tbl>
              <a:tblPr/>
              <a:tblGrid>
                <a:gridCol w="1336680"/>
              </a:tblGrid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em 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2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7058160" y="3251160"/>
          <a:ext cx="1349280" cy="695520"/>
        </p:xfrm>
        <a:graphic>
          <a:graphicData uri="http://schemas.openxmlformats.org/drawingml/2006/table">
            <a:tbl>
              <a:tblPr/>
              <a:tblGrid>
                <a:gridCol w="1349280"/>
              </a:tblGrid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2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0" name="Line 15"/>
          <p:cNvSpPr/>
          <p:nvPr/>
        </p:nvSpPr>
        <p:spPr>
          <a:xfrm>
            <a:off x="6781680" y="2611440"/>
            <a:ext cx="284400" cy="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5"/>
          <p:cNvSpPr/>
          <p:nvPr/>
        </p:nvSpPr>
        <p:spPr>
          <a:xfrm>
            <a:off x="6770520" y="3637080"/>
            <a:ext cx="284400" cy="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"/>
          <p:cNvSpPr/>
          <p:nvPr/>
        </p:nvSpPr>
        <p:spPr>
          <a:xfrm>
            <a:off x="4911840" y="1576440"/>
            <a:ext cx="20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Induction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q21d, 4 cy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5"/>
          <p:cNvSpPr/>
          <p:nvPr/>
        </p:nvSpPr>
        <p:spPr>
          <a:xfrm>
            <a:off x="6900840" y="1573200"/>
            <a:ext cx="168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Mainten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Q21d until P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1"/>
          <p:cNvSpPr/>
          <p:nvPr/>
        </p:nvSpPr>
        <p:spPr>
          <a:xfrm>
            <a:off x="3720960" y="4021200"/>
            <a:ext cx="48006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em, 500 mg/m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; Cb, AUC 6; Bev, 15 mg/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†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ac, 200 mg/m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; Cb, AUC 6; Bev, 15 mg/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cinski M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4976640" y="2243160"/>
          <a:ext cx="1868760" cy="695160"/>
        </p:xfrm>
        <a:graphic>
          <a:graphicData uri="http://schemas.openxmlformats.org/drawingml/2006/table">
            <a:tbl>
              <a:tblPr/>
              <a:tblGrid>
                <a:gridCol w="1868760"/>
              </a:tblGrid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em + Cb 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472)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4976640" y="3262320"/>
          <a:ext cx="1893960" cy="695160"/>
        </p:xfrm>
        <a:graphic>
          <a:graphicData uri="http://schemas.openxmlformats.org/drawingml/2006/table">
            <a:tbl>
              <a:tblPr/>
              <a:tblGrid>
                <a:gridCol w="1893960"/>
              </a:tblGrid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c + Cb 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467)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8" name="Rectangle 31"/>
          <p:cNvSpPr/>
          <p:nvPr/>
        </p:nvSpPr>
        <p:spPr>
          <a:xfrm>
            <a:off x="698400" y="5141880"/>
            <a:ext cx="79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endpoint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812880" y="1359000"/>
          <a:ext cx="7442280" cy="3962160"/>
        </p:xfrm>
        <a:graphic>
          <a:graphicData uri="http://schemas.openxmlformats.org/drawingml/2006/table">
            <a:tbl>
              <a:tblPr/>
              <a:tblGrid>
                <a:gridCol w="2793960"/>
                <a:gridCol w="1346040"/>
                <a:gridCol w="1193760"/>
                <a:gridCol w="990720"/>
                <a:gridCol w="1117800"/>
              </a:tblGrid>
              <a:tr h="7747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+ Cb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 + Cb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35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TT (n = 472, 4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7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0 years (n = 354, 33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.5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2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638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gt;70 years (n = 118, 1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.6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4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8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5 years (n = 420, 4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.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.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637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gt;75 years (n = 52, 5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8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9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: ITT Population and Age Sub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cinski M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812880" y="1308240"/>
          <a:ext cx="7442280" cy="3846240"/>
        </p:xfrm>
        <a:graphic>
          <a:graphicData uri="http://schemas.openxmlformats.org/drawingml/2006/table">
            <a:tbl>
              <a:tblPr/>
              <a:tblGrid>
                <a:gridCol w="2793960"/>
                <a:gridCol w="1346040"/>
                <a:gridCol w="1193760"/>
                <a:gridCol w="990720"/>
                <a:gridCol w="1117800"/>
              </a:tblGrid>
              <a:tr h="7524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+ Cb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 + Cb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17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TT (n = 472, 4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0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0 years (n = 354, 33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3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5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619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gt;70 years (n = 118, 1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6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5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5 years (n = 420, 4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618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gt;75 years (n = 52, 5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3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50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FS: ITT Population and Age Sub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1"/>
          <p:cNvSpPr/>
          <p:nvPr/>
        </p:nvSpPr>
        <p:spPr>
          <a:xfrm>
            <a:off x="812880" y="5203800"/>
            <a:ext cx="76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FS = progression-free surv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cinski M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795240" y="1257480"/>
          <a:ext cx="7510680" cy="3997080"/>
        </p:xfrm>
        <a:graphic>
          <a:graphicData uri="http://schemas.openxmlformats.org/drawingml/2006/table">
            <a:tbl>
              <a:tblPr/>
              <a:tblGrid>
                <a:gridCol w="2392560"/>
                <a:gridCol w="927000"/>
                <a:gridCol w="838080"/>
                <a:gridCol w="838440"/>
                <a:gridCol w="838080"/>
                <a:gridCol w="804960"/>
                <a:gridCol w="871560"/>
              </a:tblGrid>
              <a:tr h="36324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/4 A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≤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yea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70 yea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75 yea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3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em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hrombocytopen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2.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6.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2.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3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tropen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.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2.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1.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5.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.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5.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ebrile neutropen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3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ropathy/senso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atig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.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3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emorrhage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hromboembolic ev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3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lopec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9.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8.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.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cinski M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1"/>
          <p:cNvSpPr/>
          <p:nvPr/>
        </p:nvSpPr>
        <p:spPr>
          <a:xfrm>
            <a:off x="1028880" y="5292720"/>
            <a:ext cx="74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GI/pulmo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primary endpoint of superior OS was not met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Aft>
                <a:spcPts val="400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TT population: HR, 1.00;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 p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= 0.949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secondary endpoint of median PFS was 6.0 months (Pem + Cb + Bev) vs 5.6 months (Pac + Cb + Bev) (HR, 0.83;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= 0.012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FS was statistically prolonged with Pem + Cb + Bev for the younger subgroups (≤70 or ≤75 years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re was no difference in PFS for the older populations (&gt;70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r &gt;75 years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oth regimens demonstrated tolerability in all age subgroup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Elderly patients (defined by age &gt;70 or &gt;75 years) did not appear to experience a greater incidence of AEs compared to the overall study population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cinski M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4"/>
          <p:cNvSpPr/>
          <p:nvPr/>
        </p:nvSpPr>
        <p:spPr>
          <a:xfrm>
            <a:off x="442800" y="203040"/>
            <a:ext cx="822636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NOUNCE: Randomized, Open-Label, Phase 3 Study of Pemetrexed (Pem) + Carboplatin (Cb) Followed by Maintenance Pemetrexed vs Paclitaxel (Pac) + Carboplatin + Bevacizumab (Bev) Followed by Maintenance Bevacizumab in Patients with Advanced Non-Squamous Non-Small-Cell Lung Cancer (NS-NSCL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Zinner R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Abstract LBA800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The PointBreak trial was a pragmatic and ambitious study of more than 900 patients that addressed 2 questions about benefits during induction therapy with/without maintenance. 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Overall, there was an improvement in PFS but not OS with Pem + Cb + Bev compared to Pac + Cb + Bev. 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The study demonstrated a clear difference in toxicity profile between the 2 regimens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In contrast to the trial hypothesis, treatment with Pem + Cb + Bev followed by Pem + Bev maintenance led to similar outcomes to those seen with Pac + Cb + Bev followed by Bev maintenance therapy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The trial demonstrated that fit elderly patients with advanced nonsquamous NSCLC are eligible for both treatment regimens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ant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z-Ares L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Discu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968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074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em/Cb and Pac/Cb are effective regimens in advanced NSCLC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NEJM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6;355:2542;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Cancer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5;104:2449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74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hase III trials showed that single-agent Pem improves overall survival when administered as maintenance or second-line therapy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Lancet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9;374:1432;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JCO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4;22:1589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74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074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ompare the efficacy and safety of Pem + Cb followed by Pem maintenance to that of Pac + Cb + Bev followed by Bev maintenance for patients with advanced NSCLC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inner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698400" y="1258920"/>
          <a:ext cx="2908440" cy="326232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316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36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2830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tients with Stage IV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S-NSCL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hemotherapy naïv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COG PS 0/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ble treated CNS    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tastas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uncontrolled pleural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ffusio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2" name="Rectangle 31"/>
          <p:cNvSpPr/>
          <p:nvPr/>
        </p:nvSpPr>
        <p:spPr>
          <a:xfrm>
            <a:off x="698400" y="4557600"/>
            <a:ext cx="780912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endpoint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PFS without Grade 4 adverse events (G4PF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atients were stratified by PS (0 vs 1), sex (M vs F) and disease stage (M1a vs M1b) prior to random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I PRONOUNCE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"/>
          <p:cNvSpPr/>
          <p:nvPr/>
        </p:nvSpPr>
        <p:spPr>
          <a:xfrm>
            <a:off x="3600360" y="2790720"/>
            <a:ext cx="123516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4818240" y="2301480"/>
            <a:ext cx="284040" cy="655560"/>
            <a:chOff x="4818240" y="2301480"/>
            <a:chExt cx="284040" cy="655560"/>
          </a:xfrm>
        </p:grpSpPr>
        <p:sp>
          <p:nvSpPr>
            <p:cNvPr id="256" name="Line 14"/>
            <p:cNvSpPr/>
            <p:nvPr/>
          </p:nvSpPr>
          <p:spPr>
            <a:xfrm flipV="1">
              <a:off x="4818240" y="2301480"/>
              <a:ext cx="0" cy="65556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5"/>
            <p:cNvSpPr/>
            <p:nvPr/>
          </p:nvSpPr>
          <p:spPr>
            <a:xfrm>
              <a:off x="4818240" y="2301840"/>
              <a:ext cx="28404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6"/>
          <p:cNvGrpSpPr/>
          <p:nvPr/>
        </p:nvGrpSpPr>
        <p:grpSpPr>
          <a:xfrm>
            <a:off x="4818240" y="2641680"/>
            <a:ext cx="284040" cy="677880"/>
            <a:chOff x="4818240" y="2641680"/>
            <a:chExt cx="284040" cy="677880"/>
          </a:xfrm>
        </p:grpSpPr>
        <p:sp>
          <p:nvSpPr>
            <p:cNvPr id="259" name="Line 17"/>
            <p:cNvSpPr/>
            <p:nvPr/>
          </p:nvSpPr>
          <p:spPr>
            <a:xfrm>
              <a:off x="4818240" y="2641680"/>
              <a:ext cx="0" cy="67788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8"/>
            <p:cNvSpPr/>
            <p:nvPr/>
          </p:nvSpPr>
          <p:spPr>
            <a:xfrm>
              <a:off x="4818240" y="3319200"/>
              <a:ext cx="28404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Oval 4"/>
          <p:cNvSpPr/>
          <p:nvPr/>
        </p:nvSpPr>
        <p:spPr>
          <a:xfrm>
            <a:off x="3703680" y="2278080"/>
            <a:ext cx="1004760" cy="1003320"/>
          </a:xfrm>
          <a:prstGeom prst="ellipse">
            <a:avLst/>
          </a:prstGeom>
          <a:solidFill>
            <a:srgbClr val="db9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058160" y="1925640"/>
          <a:ext cx="1247760" cy="695160"/>
        </p:xfrm>
        <a:graphic>
          <a:graphicData uri="http://schemas.openxmlformats.org/drawingml/2006/table">
            <a:tbl>
              <a:tblPr/>
              <a:tblGrid>
                <a:gridCol w="1247760"/>
              </a:tblGrid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7058160" y="2933640"/>
          <a:ext cx="1247760" cy="695520"/>
        </p:xfrm>
        <a:graphic>
          <a:graphicData uri="http://schemas.openxmlformats.org/drawingml/2006/table">
            <a:tbl>
              <a:tblPr/>
              <a:tblGrid>
                <a:gridCol w="1247760"/>
              </a:tblGrid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4" name="Line 15"/>
          <p:cNvSpPr/>
          <p:nvPr/>
        </p:nvSpPr>
        <p:spPr>
          <a:xfrm>
            <a:off x="6781680" y="2293920"/>
            <a:ext cx="284400" cy="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6770520" y="3319560"/>
            <a:ext cx="284400" cy="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4911840" y="1258920"/>
            <a:ext cx="20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Induction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q21d, 4 cy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5"/>
          <p:cNvSpPr/>
          <p:nvPr/>
        </p:nvSpPr>
        <p:spPr>
          <a:xfrm>
            <a:off x="6900840" y="1255680"/>
            <a:ext cx="168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Mainten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q21d until P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1"/>
          <p:cNvSpPr/>
          <p:nvPr/>
        </p:nvSpPr>
        <p:spPr>
          <a:xfrm>
            <a:off x="3720960" y="3703680"/>
            <a:ext cx="48006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em, 500 mg/m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; Cb, AUC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†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ac, 200 mg/m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; Cb, AUC 6; Bev, 15 mg/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inner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114880" y="1925640"/>
          <a:ext cx="1781280" cy="695160"/>
        </p:xfrm>
        <a:graphic>
          <a:graphicData uri="http://schemas.openxmlformats.org/drawingml/2006/table">
            <a:tbl>
              <a:tblPr/>
              <a:tblGrid>
                <a:gridCol w="1781280"/>
              </a:tblGrid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em + C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182)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5102280" y="2944800"/>
          <a:ext cx="1793880" cy="695160"/>
        </p:xfrm>
        <a:graphic>
          <a:graphicData uri="http://schemas.openxmlformats.org/drawingml/2006/table">
            <a:tbl>
              <a:tblPr/>
              <a:tblGrid>
                <a:gridCol w="1793880"/>
              </a:tblGrid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c + Cb 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179)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927000" y="1486080"/>
          <a:ext cx="7086600" cy="3035160"/>
        </p:xfrm>
        <a:graphic>
          <a:graphicData uri="http://schemas.openxmlformats.org/drawingml/2006/table">
            <a:tbl>
              <a:tblPr/>
              <a:tblGrid>
                <a:gridCol w="2835360"/>
                <a:gridCol w="2125800"/>
                <a:gridCol w="2125440"/>
              </a:tblGrid>
              <a:tr h="8762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+ C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 + Cb 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717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G4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0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968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Endpoint: G4PFS (ITT Population*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inner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1"/>
          <p:cNvSpPr/>
          <p:nvPr/>
        </p:nvSpPr>
        <p:spPr>
          <a:xfrm>
            <a:off x="812880" y="4757760"/>
            <a:ext cx="76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ne patient was randomly assigned to Pac + Cb + Bev but received Pem + Cb and was analyzed per ITT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" descr="iJournal_Lung_Socinski-ZinnerGraph1.png"/>
          <p:cNvPicPr/>
          <p:nvPr/>
        </p:nvPicPr>
        <p:blipFill>
          <a:blip r:embed="rId1"/>
          <a:srcRect l="6527" t="3287" r="3523" b="233"/>
          <a:stretch/>
        </p:blipFill>
        <p:spPr>
          <a:xfrm>
            <a:off x="341280" y="1473120"/>
            <a:ext cx="8371080" cy="378936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968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group Analysis of G4P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457200" y="6046920"/>
            <a:ext cx="836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Zinner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"/>
          <p:cNvSpPr/>
          <p:nvPr/>
        </p:nvSpPr>
        <p:spPr>
          <a:xfrm>
            <a:off x="1892160" y="5052960"/>
            <a:ext cx="31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vors Pem+C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1"/>
          <p:cNvSpPr/>
          <p:nvPr/>
        </p:nvSpPr>
        <p:spPr>
          <a:xfrm>
            <a:off x="5110200" y="5068800"/>
            <a:ext cx="316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vors Pac+Cb+Bev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R (95% C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812880" y="1486080"/>
          <a:ext cx="7442280" cy="2920680"/>
        </p:xfrm>
        <a:graphic>
          <a:graphicData uri="http://schemas.openxmlformats.org/drawingml/2006/table">
            <a:tbl>
              <a:tblPr/>
              <a:tblGrid>
                <a:gridCol w="1904760"/>
                <a:gridCol w="1549440"/>
                <a:gridCol w="1879560"/>
                <a:gridCol w="990720"/>
                <a:gridCol w="1117800"/>
              </a:tblGrid>
              <a:tr h="8427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+ C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 + Cb 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90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.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3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-y OS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3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8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693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-y OS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968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Survival (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inner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968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group Analysis of 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457200" y="6046920"/>
            <a:ext cx="836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Zinner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1892160" y="5052960"/>
            <a:ext cx="31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vors Pem+C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5110200" y="5068800"/>
            <a:ext cx="316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vors Pac+Cb+Bev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R (95% C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" descr="iJournal_Lung_Socinski-ZinnerGraph2.png"/>
          <p:cNvPicPr/>
          <p:nvPr/>
        </p:nvPicPr>
        <p:blipFill>
          <a:blip r:embed="rId1"/>
          <a:srcRect l="7639" t="0" r="5000" b="0"/>
          <a:stretch/>
        </p:blipFill>
        <p:spPr>
          <a:xfrm>
            <a:off x="558720" y="1498680"/>
            <a:ext cx="798840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812880" y="1473120"/>
          <a:ext cx="7442280" cy="3111480"/>
        </p:xfrm>
        <a:graphic>
          <a:graphicData uri="http://schemas.openxmlformats.org/drawingml/2006/table">
            <a:tbl>
              <a:tblPr/>
              <a:tblGrid>
                <a:gridCol w="1879560"/>
                <a:gridCol w="1600200"/>
                <a:gridCol w="1854000"/>
                <a:gridCol w="990720"/>
                <a:gridCol w="1117800"/>
              </a:tblGrid>
              <a:tr h="9669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+ C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 + Cb 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712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5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esponse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7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716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9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7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968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inner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1"/>
          <p:cNvSpPr/>
          <p:nvPr/>
        </p:nvSpPr>
        <p:spPr>
          <a:xfrm>
            <a:off x="812880" y="4782960"/>
            <a:ext cx="74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DCR = disease control rate; NR = not re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Research To Practice</dc:creator>
  <dc:description/>
  <cp:keywords/>
  <dc:language>en-US</dc:language>
  <cp:lastModifiedBy>Silvana Izquierdo</cp:lastModifiedBy>
  <cp:lastPrinted>2013-07-22T16:57:06Z</cp:lastPrinted>
  <dcterms:modified xsi:type="dcterms:W3CDTF">2013-07-22T18:49:50Z</dcterms:modified>
  <cp:revision>708</cp:revision>
  <dc:subject/>
  <dc:title>Research To Practice</dc:title>
</cp:coreProperties>
</file>