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3AA67-4A9E-4A9B-9049-1DD3162DA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93F50-AC37-4C22-B1FE-F186EE30E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C81C9-A54D-46C3-8EC9-FD3F24ED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AFBC6-8432-481E-99CB-9E9BB84C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AA4FC-D8E7-49B0-9F18-AD38D5AD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BEF-27A6-40E3-A855-96B7B432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B32-22C6-4D1E-9CD3-71B8EED8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1702-C3A3-4A36-AA52-1DCB5AA9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8557-1440-4D79-AB8C-A6BA30C0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3CE5-54E2-4838-A513-9FDB0CA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2586-22DF-41BE-A35C-8CE2A00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F310-AC1F-409F-8BC8-D871C34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003D-7804-43D9-99DB-B9A937A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6142-EC6D-434B-ABC0-D9EFDC98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95466-C98B-4F17-B15F-8502FCC2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6900-98C3-44BB-B928-7DEAFCD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3C9-7DE2-4A13-AA61-770AACC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7C4-B68A-422A-8F6E-DA9D51A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BEA5-9EB9-4D1A-BD3F-D6BAA96C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F482-2673-4483-AF3D-6274C14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7CA-C423-440A-AC22-FD93305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F2D-5857-44B6-BAA7-020C77D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B3F-E2C9-42BB-B3F1-1112331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EE2-1B17-4B1D-9ED7-BF3D25B9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8E22-5F1D-4C17-A62E-DF9D4F0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EB7-C502-403E-93D0-4E2D5E4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5E5-8C63-45E4-B4BC-67921BB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1FB0-4B51-4B04-9C9B-72E5652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66BF-2B05-4445-9C7A-E966CD1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316-710E-4C71-BB1C-D8BD0782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5C14-FA38-4295-8DC1-D1B6B563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81FD-33C0-4D8F-B126-1B92E1BA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5A50-40E0-4938-8F9C-30B55B8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CEAB-16DD-455F-BE69-C6765190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F13E-A210-4CD3-A2D4-F4BB118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69E9-CF6C-4647-A1A4-8704C2CE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4BA-A14F-49BB-AE5E-9832CB0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1C63-7697-497D-ABDB-0332E60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5AEB-9DE5-4044-B858-32D204B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5F82-469D-4352-80C1-A4A3D79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5ED4-EB5D-4E81-8910-4E8CEA5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1195-3917-4184-998D-5D8A481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2DDB-00D9-4798-9E9C-1A9D2157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5C29-ACC7-4843-9D63-1A9A2301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AF-7405-46B6-A16E-C278182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8E9D-BADD-4149-82DE-82A5F05D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171-E455-41CF-859C-594E683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3992-514C-4577-AC0C-BC49D95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599F-43EE-44CA-A3F8-BE49BDA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955E-2D40-490E-BA60-8D1DCBC3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1C79-9A3E-42D3-A96E-289511DE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CC4A-4AA5-47B4-A430-F4EEF05F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55F3-DE66-4E23-AD88-4B45C7D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9592-EF05-4CC0-9B17-BBB3CF6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1020-7049-4DE1-B4C5-C250BCA4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FA67-03C5-4810-BCCC-24DF2CB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FE93-0DB1-4C33-BE81-62C3D475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E32-3A20-415F-BFA7-98BAC15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0192-BF2C-4ED1-8679-8D68D01B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CA4-CB35-47C8-9F9F-89E0CA2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5648-448B-4E93-BB20-6C5EC028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0610-C49E-474E-9CF9-243FC4AB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55DA-CD04-466A-9FF0-CDB1D8D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657A-1701-4AEB-A31B-C1FC509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60A9-B095-4095-BD43-87F5842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7306-A4AD-4B84-A346-6DC6AB2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5373-1509-4A9D-B0BE-30CAD56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D0E-7DD5-4E47-AE51-DEEAC5C9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E499-01B2-4A2E-948C-FB8B9CD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55A4-BDB6-47D2-8FCC-E1CE6EB0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78F9-A830-456C-A6E8-66DA663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8C49-3CB3-41E2-AE43-2CFE270B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72CB-6D62-4CD0-9FAD-BA69AC8B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4B2-9551-453B-BFB7-CC34CDE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5B2F-AFA1-4B7F-BE4B-8CA9AA6D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3821-5F0C-4843-AB43-2F5AB43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EF17-6093-4931-AFD4-1A39F47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C38FF-5F86-4847-BF07-E8DBD2DC474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6CCAC-F4BB-47D0-9F58-9829189703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F1BF3-C86D-418D-BAF8-A11E2C1B6F2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08FB4-8314-4AFB-8D49-42EACCB6B64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3FE9A-D39E-4860-B875-65463E0D360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0948D-4210-41C9-AB14-3D9E920E6BE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43EC9-4DF2-4386-B365-48EE7ACDD89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FCFCB-F60F-4CB0-A213-A6AE198EBF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208D9-C48E-4483-8C68-3502A2D8963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4925B-9458-45EE-A47D-B8B4D371D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0ABF7-D7E9-42E0-81A5-A5D6E5A57BC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55628-09F3-47D1-88CE-398E1EB4C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izotinib versus Chemotherapy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 Advanced ALK-Positiv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N Engl J Med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368(25):2385-9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-Reported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914400" y="1461960"/>
          <a:ext cx="7346880" cy="1814760"/>
        </p:xfrm>
        <a:graphic>
          <a:graphicData uri="http://schemas.openxmlformats.org/drawingml/2006/table">
            <a:tbl>
              <a:tblPr/>
              <a:tblGrid>
                <a:gridCol w="4406760"/>
                <a:gridCol w="1470240"/>
                <a:gridCol w="1469880"/>
              </a:tblGrid>
              <a:tr h="586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 respect to a composite endpoint of cough, dyspnea or chest 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time to deteri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.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Rectangle 31"/>
          <p:cNvSpPr/>
          <p:nvPr/>
        </p:nvSpPr>
        <p:spPr>
          <a:xfrm>
            <a:off x="914400" y="3355920"/>
            <a:ext cx="767412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r patients who received crizotinib versus chemo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overall reduction from baseline in th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ymptoms of alopecia, cough, dyspnea, fatigue, chest pain,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rm/shoulder pain and pain in other parts of the body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delay in the worsening of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overall improvement from baseline in global quality of lif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42800" y="1172880"/>
            <a:ext cx="8244000" cy="44607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 crizotinib is superior to standard chemotherapy for patients with advanced, previously treated ALK-positive NSCLC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prolonged PF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increased response rate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improved the quality of life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pparent lack of a survival benefit at interim analysis probably reflects the confounding effects of crossover, effects that have been observed in other randomized trials of molecular-targeted agents for patients with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150560"/>
            <a:ext cx="8013600" cy="429732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hromosomal rearrangements of the anaplastic lymphoma kinase (ALK) gene are found in about 3% of patients with newly diagnosed non-small cell lung cancer (NSCLC) in the United Stat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30:878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, an orally available ALK inhibitor, demonstrated rapid and durable responses in patients with ALK-positive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101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20720" indent="-277200">
              <a:spcAft>
                <a:spcPts val="7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crizotinib to standard chemotherapy with pemetrexed (Pem) or docetaxel (Doc) as second-line therapy for patients with advanced ALK-positiv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/>
          <p:cNvSpPr/>
          <p:nvPr/>
        </p:nvSpPr>
        <p:spPr>
          <a:xfrm>
            <a:off x="901800" y="3327480"/>
            <a:ext cx="76453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 by independent radiologi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survival (OS), objective response rate (ORR), patient-reported outcomes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K rearrangement was detected by FISH analysis in a centr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ith progressive disease on Pem or Doc were offered crizotinib on the PROFILE 1005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 1007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784760" y="2265480"/>
          <a:ext cx="3657600" cy="10238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or Doc q3wk 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, 500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 (n =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c, 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 (n = 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3206880" y="216864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8"/>
          <p:cNvGrpSpPr/>
          <p:nvPr/>
        </p:nvGrpSpPr>
        <p:grpSpPr>
          <a:xfrm>
            <a:off x="4462560" y="1679400"/>
            <a:ext cx="322200" cy="655920"/>
            <a:chOff x="4462560" y="1679400"/>
            <a:chExt cx="322200" cy="655920"/>
          </a:xfrm>
        </p:grpSpPr>
        <p:sp>
          <p:nvSpPr>
            <p:cNvPr id="383" name="Line 14"/>
            <p:cNvSpPr/>
            <p:nvPr/>
          </p:nvSpPr>
          <p:spPr>
            <a:xfrm flipV="1">
              <a:off x="4462560" y="167940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4462560" y="16794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9"/>
          <p:cNvGrpSpPr/>
          <p:nvPr/>
        </p:nvGrpSpPr>
        <p:grpSpPr>
          <a:xfrm>
            <a:off x="4461840" y="2018520"/>
            <a:ext cx="322200" cy="678600"/>
            <a:chOff x="4461840" y="2018520"/>
            <a:chExt cx="322200" cy="678600"/>
          </a:xfrm>
        </p:grpSpPr>
        <p:sp>
          <p:nvSpPr>
            <p:cNvPr id="386" name="Line 17"/>
            <p:cNvSpPr/>
            <p:nvPr/>
          </p:nvSpPr>
          <p:spPr>
            <a:xfrm>
              <a:off x="4462560" y="201852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461840" y="26971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784760" y="1371600"/>
          <a:ext cx="3657600" cy="6951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izotinib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0 mg BID (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Oval 4"/>
          <p:cNvSpPr/>
          <p:nvPr/>
        </p:nvSpPr>
        <p:spPr>
          <a:xfrm>
            <a:off x="3597120" y="1784520"/>
            <a:ext cx="731880" cy="73152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14400" y="1371600"/>
          <a:ext cx="2546280" cy="1917720"/>
        </p:xfrm>
        <a:graphic>
          <a:graphicData uri="http://schemas.openxmlformats.org/drawingml/2006/table">
            <a:tbl>
              <a:tblPr/>
              <a:tblGrid>
                <a:gridCol w="2546280"/>
              </a:tblGrid>
              <a:tr h="446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71680">
                <a:tc>
                  <a:txBody>
                    <a:bodyPr lIns="90000" rIns="90000" anchor="ctr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or IV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-positive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platinum-based regi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914400" y="1422360"/>
          <a:ext cx="7365960" cy="3024360"/>
        </p:xfrm>
        <a:graphic>
          <a:graphicData uri="http://schemas.openxmlformats.org/drawingml/2006/table">
            <a:tbl>
              <a:tblPr/>
              <a:tblGrid>
                <a:gridCol w="3143160"/>
                <a:gridCol w="2109960"/>
                <a:gridCol w="2112840"/>
              </a:tblGrid>
              <a:tr h="750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22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 by independent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0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7-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914400" y="4559400"/>
            <a:ext cx="73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study met its primary endpoint by demonstrating the superiority of crizotinib over Pem or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es of PFS: As-Treated Population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14400" y="1422360"/>
          <a:ext cx="7365960" cy="3276720"/>
        </p:xfrm>
        <a:graphic>
          <a:graphicData uri="http://schemas.openxmlformats.org/drawingml/2006/table">
            <a:tbl>
              <a:tblPr/>
              <a:tblGrid>
                <a:gridCol w="2441520"/>
                <a:gridCol w="1641600"/>
                <a:gridCol w="1641240"/>
                <a:gridCol w="1641600"/>
              </a:tblGrid>
              <a:tr h="719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 by independent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&lt;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&lt;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914400" y="4811760"/>
            <a:ext cx="73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cluded 4 patients who did not receive study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14400" y="1473120"/>
          <a:ext cx="7365960" cy="2933640"/>
        </p:xfrm>
        <a:graphic>
          <a:graphicData uri="http://schemas.openxmlformats.org/drawingml/2006/table">
            <a:tbl>
              <a:tblPr/>
              <a:tblGrid>
                <a:gridCol w="3143160"/>
                <a:gridCol w="2109960"/>
                <a:gridCol w="2112840"/>
              </a:tblGrid>
              <a:tr h="660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19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liminary estimate of median O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3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8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-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31"/>
          <p:cNvSpPr/>
          <p:nvPr/>
        </p:nvSpPr>
        <p:spPr>
          <a:xfrm>
            <a:off x="914400" y="4508640"/>
            <a:ext cx="74851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t time of data cutoff, 96 deaths had occurred in the ITT population, representing 40% of the total events required for final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291960">
              <a:lnSpc>
                <a:spcPct val="90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12 (64%) patients on the Pem or Doc arm crossed over to receive crizotinib outside the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914400" y="1374840"/>
          <a:ext cx="7378560" cy="2631960"/>
        </p:xfrm>
        <a:graphic>
          <a:graphicData uri="http://schemas.openxmlformats.org/drawingml/2006/table">
            <a:tbl>
              <a:tblPr/>
              <a:tblGrid>
                <a:gridCol w="2631960"/>
                <a:gridCol w="1581120"/>
                <a:gridCol w="1582920"/>
                <a:gridCol w="15825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T populatio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780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31"/>
          <p:cNvSpPr/>
          <p:nvPr/>
        </p:nvSpPr>
        <p:spPr>
          <a:xfrm>
            <a:off x="914400" y="4110120"/>
            <a:ext cx="759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dian duration of response and time to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izotinib: 32.1 weeks and 6.3 week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em or Doc: 22.4 weeks and 12.6 week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In the as-treated population, ORR was 66% (crizotinib)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vs 29% (Pem) vs 7% (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Status at Data Cut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14400" y="1432080"/>
          <a:ext cx="7378560" cy="3292200"/>
        </p:xfrm>
        <a:graphic>
          <a:graphicData uri="http://schemas.openxmlformats.org/drawingml/2006/table">
            <a:tbl>
              <a:tblPr/>
              <a:tblGrid>
                <a:gridCol w="3284640"/>
                <a:gridCol w="2138400"/>
                <a:gridCol w="19555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ill receiving study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5 (4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8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scontinued treatment with crossover to 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12 (6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scontinued treatment without crossover to 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4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ed during therapy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before follow-up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 (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otal number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9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7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733320" y="1305000"/>
          <a:ext cx="7677360" cy="3816360"/>
        </p:xfrm>
        <a:graphic>
          <a:graphicData uri="http://schemas.openxmlformats.org/drawingml/2006/table">
            <a:tbl>
              <a:tblPr/>
              <a:tblGrid>
                <a:gridCol w="2441520"/>
                <a:gridCol w="1162080"/>
                <a:gridCol w="1376640"/>
                <a:gridCol w="1245960"/>
                <a:gridCol w="1451160"/>
              </a:tblGrid>
              <a:tr h="27324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(n = 1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(n = 17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gr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gr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isual dis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levated aminotransferase lev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zz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ysp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lope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31"/>
          <p:cNvSpPr/>
          <p:nvPr/>
        </p:nvSpPr>
        <p:spPr>
          <a:xfrm>
            <a:off x="914400" y="5103720"/>
            <a:ext cx="71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Grade 3 or 4 neutropenia/febrile neutropenia: 13%/1% (crizotinib) versus 19%/9% (Pem or D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18:05:39Z</dcterms:created>
  <dc:creator>Research To Practice</dc:creator>
  <dc:description/>
  <cp:keywords/>
  <dc:language>en-US</dc:language>
  <cp:lastModifiedBy>Silvana Izquierdo</cp:lastModifiedBy>
  <cp:lastPrinted>2013-07-12T17:41:18Z</cp:lastPrinted>
  <dcterms:modified xsi:type="dcterms:W3CDTF">2013-07-22T18:56:04Z</dcterms:modified>
  <cp:revision>637</cp:revision>
  <dc:subject/>
  <dc:title>Research To Practice</dc:title>
</cp:coreProperties>
</file>