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F5D5-402B-4CC3-B5B4-D1FBCEFCB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FDB1-AA33-4C27-8EE2-FC8D8FC8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D28A-FDEA-4D09-BDBF-52239537D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C3FF-8DFC-4440-A18D-384940B51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A37B-8921-48CB-9405-B8BE8B4D5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3EC0-6225-452B-9EF9-01ACBE61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60BC-BC0D-4BF0-81A7-6E35634F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AD4A-6131-4396-86A8-F416EF96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6243-DC47-4D33-9FCD-3019B075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4BCB-B1D4-4699-9149-CA2C2A85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4FE6-DCA7-4F52-BD14-D6643035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60DB-465F-4A9D-A912-3433A75D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1E34-205B-4779-8060-43685FF5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3FD4-0D9E-4DCF-AE61-66C80E7A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B030-DFD7-44D9-8B2E-D2858CC6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0A2B-6577-4C94-9BB3-E9381B01F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7E15-3368-4529-87FB-B33317DA0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8C2E-C854-4959-92E0-663722CB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C58AF-9E68-44C2-8801-9AC3E8E0C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D5811-EFAB-4824-82F4-30E95785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4A396-F5D5-4011-9C10-3A39510B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4B6E-61B7-4F1F-88D2-72F0BAFA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72768-5065-48D7-8E92-68564992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DCD74-8B81-406F-9E6B-36C4FE97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605AB-A4C3-428B-8253-48A9F0F9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D896F-EA57-47C6-99DA-B4D6941F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49B0F-C83B-4480-B057-3F008424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CBC09-3B55-4357-8CA2-75A015E3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6DC49-B506-4BC1-A0C1-EC4BBA0C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88D7C-9732-4444-A5A9-89080FB5A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A3E64-36EF-4A8A-AF03-2FD7039B8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32D6-E57D-4F1D-9FC2-BFA912FF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FDFA-3D93-450B-AD75-95D266E7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B9229-410C-4D59-9900-4F000C1BF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EA528-36E1-4726-AC0B-981EA924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F5C21-ED19-4490-972D-BD094BAB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D9D93-BB38-44D4-990A-9FA42E1A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B69A6-A4E2-4750-9605-F98B375C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83F5D-C86C-4378-8D21-16B86ECC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DBE62-1AF1-4114-BE8E-23417513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A9BB4-D924-4299-9663-9BEC1CCE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10BE1-AEEE-4F7C-97AC-5382DCE1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9F53-CF12-497F-BB88-9E4EA51F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79F27-C4A1-4FB8-8681-CE33A475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1BBD6-652C-4139-B0C7-78CB285F1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D4D05-B7F2-408E-9733-D587AB1D3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4F87-1CBD-45A1-90FC-A50F77AF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7084-E8EF-4085-A6FF-FD0924E3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4789B7-55A8-4047-B0D6-963FF313A59E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45D480-44B2-4A85-81FD-73FFB8EA1C8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113392-350E-42C5-BFD9-CCC262C50E9C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E45C6E-345F-489A-AC63-68D30F241ED4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88091E-5F0A-448E-AEAD-6822B46806C5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5FBA7A-DF11-4892-A61E-F25FDCCA861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9E1AC3-744B-444C-AC0F-F2276579E1FE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A55766-2B53-43A1-BCAE-3A90339E02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fficacy and Safety of Crizotinib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Patients with Advanced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S1-Rearranged Non-Small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ell Lung Can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Ou SHI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Proc ASCO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3;Abstract 803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ROS1 chromosomal rearrangements are oncogenic drivers, occurring in a subset of &lt;1% of patients with NSCLC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ROS1 tyrosine kinase and anaplastic lymphoma kinase (ALK) are similar in structure, and ALK inhibitors are often active in ROS1-positive cell lines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JCO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2012;30:863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rizotinib is a small molecule tyrosine kinase inhibitor of MET, ALK and ROS1 that has demonstrated activity in patients with ROS1-rearranged NSCLC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Proc ESMO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2012;Abstract 1191PD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Determine the efficacy and safety of crizotinib for patients with advanced ROS1-rearranged NSCLC.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Ou SHI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3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880920" y="1533600"/>
          <a:ext cx="7239240" cy="3022560"/>
        </p:xfrm>
        <a:graphic>
          <a:graphicData uri="http://schemas.openxmlformats.org/drawingml/2006/table">
            <a:tbl>
              <a:tblPr/>
              <a:tblGrid>
                <a:gridCol w="3683160"/>
                <a:gridCol w="3556080"/>
              </a:tblGrid>
              <a:tr h="4316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h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zotinib d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32000">
                <a:tc>
                  <a:txBody>
                    <a:bodyPr lIns="90000" rIns="90000" anchor="ctr">
                      <a:noAutofit/>
                    </a:bodyPr>
                    <a:p>
                      <a:pPr marL="165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ohort 1 (n = 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0 mg Q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90000" rIns="90000" anchor="ctr">
                      <a:noAutofit/>
                    </a:bodyPr>
                    <a:p>
                      <a:pPr marL="165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ohort 2 (n = 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0 mg Q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32000">
                <a:tc>
                  <a:txBody>
                    <a:bodyPr lIns="90000" rIns="90000" anchor="ctr">
                      <a:noAutofit/>
                    </a:bodyPr>
                    <a:p>
                      <a:pPr marL="165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ohort 3 (n = 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00 mg Q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90000" rIns="90000" anchor="ctr">
                      <a:noAutofit/>
                    </a:bodyPr>
                    <a:p>
                      <a:pPr marL="165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ohort 4 (n = 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00 mg B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31640">
                <a:tc>
                  <a:txBody>
                    <a:bodyPr lIns="90000" rIns="90000" anchor="ctr">
                      <a:noAutofit/>
                    </a:bodyPr>
                    <a:p>
                      <a:pPr marL="165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ohort 5 (n = 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00 mg B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90000" rIns="90000" anchor="ctr">
                      <a:noAutofit/>
                    </a:bodyPr>
                    <a:p>
                      <a:pPr marL="165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ohort 6 (n = 9)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50 mg BID</a:t>
                      </a:r>
                      <a:r>
                        <a:rPr b="0" lang="en-US" sz="18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1: Dose-Escalation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Ou SHI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3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1"/>
          <p:cNvSpPr/>
          <p:nvPr/>
        </p:nvSpPr>
        <p:spPr>
          <a:xfrm>
            <a:off x="880920" y="4786200"/>
            <a:ext cx="76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Included in the dose-expansion cohort (Part 2); 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†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Maximum tolerated dose (MTD) = recommended Phase II dose (RP2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1066680" y="1536840"/>
          <a:ext cx="3060720" cy="2552400"/>
        </p:xfrm>
        <a:graphic>
          <a:graphicData uri="http://schemas.openxmlformats.org/drawingml/2006/table">
            <a:tbl>
              <a:tblPr/>
              <a:tblGrid>
                <a:gridCol w="3060720"/>
              </a:tblGrid>
              <a:tr h="37440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gibility (N = 4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2178000">
                <a:tc>
                  <a:txBody>
                    <a:bodyPr anchor="t">
                      <a:noAutofit/>
                    </a:bodyPr>
                    <a:p>
                      <a:pPr marL="290520" indent="-235080">
                        <a:spcBef>
                          <a:spcPts val="45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dvanced NSCL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0520" indent="-235080">
                        <a:spcBef>
                          <a:spcPts val="45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ROS1-rearranged NSCLC confirmed with break-apart FISH assay*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0520" indent="-235080">
                        <a:spcBef>
                          <a:spcPts val="45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Treated, stable and untreated, asymptomatic brain metast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4" name="Rectangle 31"/>
          <p:cNvSpPr/>
          <p:nvPr/>
        </p:nvSpPr>
        <p:spPr>
          <a:xfrm>
            <a:off x="901800" y="4305240"/>
            <a:ext cx="760572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Where available, further investigation by next-generation sequencing (NGS) was used to identify fusion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Endpoints: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Objective response rate (ORR), disease control rate (DCR), progression-free survival (PFS) and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II Tri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5083200" y="1940040"/>
          <a:ext cx="3130560" cy="1117440"/>
        </p:xfrm>
        <a:graphic>
          <a:graphicData uri="http://schemas.openxmlformats.org/drawingml/2006/table">
            <a:tbl>
              <a:tblPr/>
              <a:tblGrid>
                <a:gridCol w="3130560"/>
              </a:tblGrid>
              <a:tr h="1117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rizotin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250 mg BI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4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7" name="Line 2"/>
          <p:cNvSpPr/>
          <p:nvPr/>
        </p:nvSpPr>
        <p:spPr>
          <a:xfrm>
            <a:off x="4133880" y="2536920"/>
            <a:ext cx="949320" cy="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Ou SHI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3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"/>
          <p:cNvSpPr/>
          <p:nvPr/>
        </p:nvSpPr>
        <p:spPr>
          <a:xfrm>
            <a:off x="4984920" y="3159000"/>
            <a:ext cx="336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atients were allowed to continue to receive crizotinib beyond disease pro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925560" y="1397160"/>
          <a:ext cx="7453440" cy="2868480"/>
        </p:xfrm>
        <a:graphic>
          <a:graphicData uri="http://schemas.openxmlformats.org/drawingml/2006/table">
            <a:tbl>
              <a:tblPr/>
              <a:tblGrid>
                <a:gridCol w="5114880"/>
                <a:gridCol w="2338560"/>
              </a:tblGrid>
              <a:tr h="41724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i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1436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age (rang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1 years (31-7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60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2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1580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moking history: Never (form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0% (2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616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Histology: Adenocarcino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78732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rior Tx for advanced/metastatic NSCLC: 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 regimen (2-6 regime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0% (4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line 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Ou SHI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3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925560" y="4330800"/>
            <a:ext cx="7453440" cy="12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5240" indent="-165240">
              <a:spcAft>
                <a:spcPts val="400"/>
              </a:spcAft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atients still receiving crizotinib at time of analysis (n = 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spcAft>
                <a:spcPts val="400"/>
              </a:spcAft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Analysis excluded patients whose disease tested as ROS1-positive by FISH but negative by next-generation sequencing with unidentifiable fusion partner (n =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"/>
          <p:cNvGraphicFramePr/>
          <p:nvPr/>
        </p:nvGraphicFramePr>
        <p:xfrm>
          <a:off x="901800" y="1384200"/>
          <a:ext cx="7423200" cy="3114720"/>
        </p:xfrm>
        <a:graphic>
          <a:graphicData uri="http://schemas.openxmlformats.org/drawingml/2006/table">
            <a:tbl>
              <a:tblPr/>
              <a:tblGrid>
                <a:gridCol w="5010120"/>
                <a:gridCol w="2413080"/>
              </a:tblGrid>
              <a:tr h="43200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e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35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4604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O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74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omplete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4640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artial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74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table dis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4784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rogressive dis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74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arly dea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st Respon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Ou SHI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3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5"/>
          <p:cNvSpPr/>
          <p:nvPr/>
        </p:nvSpPr>
        <p:spPr>
          <a:xfrm>
            <a:off x="901800" y="4546440"/>
            <a:ext cx="7289640" cy="10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atients evaluable for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atients with indeterminate response (n =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DCR: 80% (at 8 weeks); 66% (at 16 wee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31"/>
          <p:cNvSpPr/>
          <p:nvPr/>
        </p:nvSpPr>
        <p:spPr>
          <a:xfrm>
            <a:off x="1054080" y="4251240"/>
            <a:ext cx="731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25 patients (63%) were still in follow-up for progression at time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of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Ou SHI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3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054080" y="1611360"/>
          <a:ext cx="7124760" cy="2116080"/>
        </p:xfrm>
        <a:graphic>
          <a:graphicData uri="http://schemas.openxmlformats.org/drawingml/2006/table">
            <a:tbl>
              <a:tblPr/>
              <a:tblGrid>
                <a:gridCol w="4051440"/>
                <a:gridCol w="3073320"/>
              </a:tblGrid>
              <a:tr h="65232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40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730440">
                <a:tc>
                  <a:txBody>
                    <a:bodyPr lIns="90000" rIns="90000" anchor="ctr">
                      <a:noAutofit/>
                    </a:bodyPr>
                    <a:p>
                      <a:pPr marL="111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t yet reach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3320">
                <a:tc>
                  <a:txBody>
                    <a:bodyPr lIns="90000" rIns="90000" anchor="ctr">
                      <a:noAutofit/>
                    </a:bodyPr>
                    <a:p>
                      <a:pPr marL="111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-month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887400" y="1490760"/>
          <a:ext cx="7408800" cy="3290760"/>
        </p:xfrm>
        <a:graphic>
          <a:graphicData uri="http://schemas.openxmlformats.org/drawingml/2006/table">
            <a:tbl>
              <a:tblPr/>
              <a:tblGrid>
                <a:gridCol w="2867040"/>
                <a:gridCol w="1587600"/>
                <a:gridCol w="1504800"/>
                <a:gridCol w="1449360"/>
              </a:tblGrid>
              <a:tr h="36612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rad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rad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rad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marL="111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Visual impair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marL="111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Diarrh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3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marL="111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Naus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marL="111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Peripheral ede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marL="111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Constip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marL="111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Vom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marL="1112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Wingdings"/>
                          <a:ea typeface="Wingdings"/>
                        </a:rPr>
                        <a:t>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AST (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Wingdings"/>
                          <a:ea typeface="Wingdings"/>
                        </a:rPr>
                        <a:t>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A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3% (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3% (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3% (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marL="111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Hypophosphatem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Adverse Events (A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1"/>
          <p:cNvSpPr/>
          <p:nvPr/>
        </p:nvSpPr>
        <p:spPr>
          <a:xfrm>
            <a:off x="887400" y="4925880"/>
            <a:ext cx="74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No treatment-related Grade 4/5 AEs; 1 patient discontinued therapy due to Grade 2 nausea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Ou SHI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3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568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182880" anchor="t">
            <a:normAutofit/>
          </a:bodyPr>
          <a:p>
            <a:pPr marL="343080" indent="-343080"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rizotinib demonstrated marked antitumor activity with a high ORR for patients with ROS1-positive NSCL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Response was similar to that observed in ALK-positive NSCLC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dverse events associated with crizotinib were generally tolerable and easily managed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toxicity profile of crizotinib in patients with ROS1-positive disease was similar to that established in patients with ALK-positive NSCL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rizotinib is an effective therapy for advanced ROS1-positive NSCL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Mechanisms of crizotinib resistance are yet to be investigated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False-positive ROS1 rearrangements by FISH indicate that specificity of this method requires improvement before it can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be recommended for routine use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Ou SHI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3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3:28:02Z</dcterms:created>
  <dc:creator>Research To Practice</dc:creator>
  <dc:description/>
  <cp:keywords/>
  <dc:language>en-US</dc:language>
  <cp:lastModifiedBy>Silvana Izquierdo</cp:lastModifiedBy>
  <cp:lastPrinted>2013-03-06T20:38:39Z</cp:lastPrinted>
  <dcterms:modified xsi:type="dcterms:W3CDTF">2013-07-22T18:50:43Z</dcterms:modified>
  <cp:revision>718</cp:revision>
  <dc:subject/>
  <dc:title>Research To Practice</dc:title>
</cp:coreProperties>
</file>