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D57E-92F3-46AB-BDF1-00749927C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B9EA-F325-4567-A9DF-13D51CEA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0FB6C-1E7A-4C8F-AABC-F4D29133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1E38F-BF4A-4381-828D-B9C6B550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37F69-AA8E-41A7-A521-62EB4377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0ED15-06CD-4550-9966-2707304D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BCA22-A499-4B42-AA91-4E067182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2B343-0C71-4BED-A476-17237360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47E45-67D0-4DF2-9F75-A1E87701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DEA75-3753-4DF2-904F-E1CCA2B35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F8B74-1C06-48C0-BB16-C1D10D613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A681-65E4-4C74-9651-FDA2CB0DE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8D4C-2BA7-43FD-95DB-2F6F24A78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1590-5151-47C0-9926-EA0D84A53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A120-34E6-4BD8-840F-C8DD0483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C810-F933-4471-9671-BDF5403D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CE27-8F63-4E36-AA65-EE5D077A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BC50-8F3C-4A20-977D-F0752217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5FF8-D85C-4B04-8EB9-A3E14A8C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9BF5-0F61-4E75-8AA5-3C76BE9C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8FAA-CFEF-43A7-8444-8C24137F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F162-5F51-406A-B5E0-4022C3DF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7B1E-4E39-43F1-9625-29578E32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EE88-4EFF-4791-B361-50D9351F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5FAD-1BB7-4081-A0FF-797AEFF1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953B-AD8C-422C-96C4-DBB522158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EBC42-F452-44BE-82DC-76FF509C2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82D7F-EABC-4B94-9F6F-23645A02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51761-F93F-4B59-88F9-B3EE7C24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DD856-13A0-41D2-8F69-F87A3D78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BC7DC-CCB3-4B34-A655-B520A296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1CBE-9C08-4C26-8947-C2F25971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EFABE-D057-46CA-992A-2F26FA31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CA787-CECA-48EE-8E45-6DDB6820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00EC6-1779-4BA9-A5A3-E8C63710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13BDE-5E2B-4176-BFC9-FAD1DC7D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4EF53-0646-497A-8BF0-8383ED66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6ADF8-FBAB-4203-B603-8B9F9979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00E7C-DD0E-42DD-BACA-9EDB552D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C51C-24A6-4523-9AB2-E8D60714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1340D-40C5-40E7-AF26-36DCDB9A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184C-260C-47DB-B4E6-E55F3F70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E387C-2919-43CC-8B6C-07E7137C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AE713-8951-4E0C-A649-B24B8696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E54FD-03CF-43D5-9683-5B0F1C6E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855BC-AA8B-483B-9407-A6AF03D0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29BDF-3C9F-465A-95B2-106A8274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37BF2-588F-4A32-A8D8-945371DC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FD4A0-D906-42EF-9AFD-C54456E4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2AF8E-3D19-4E93-A412-7CB2EC33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50CFC-732E-4BC3-8538-40FE8CE0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46BA4-C9D7-466B-AF09-FAD6C6B4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2F6C-0DE5-4F91-A104-79609FBA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3E764-892D-4FFC-9D35-89B278EB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6178-CBF6-445E-A4D3-AF4772F4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9EB92-76B9-4B01-B97B-1649AB20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F47D3-A35C-4B86-8172-EB45AFB7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5EC2C-C976-47C4-A116-1E1BBB08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464A7-C1EB-4D13-A5BF-3DEF14E5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7E68F-A246-445D-8C48-EE366070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61233-31B8-4BA0-8DDB-ED91D5D6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112B8-13BA-4534-9E8D-CB22E194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DB2C-1D49-4913-AEB3-AF2D4055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77D08-4B57-4A28-8A96-6708B1D8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14F11-92B9-4843-A63F-558819AC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44426-AABC-4C5B-9226-103AAB66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5D2D1-0E7C-49E2-92FF-6EEE3E843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B8B90-2C21-43F2-A750-DF919EF7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1805-03D3-4F70-8940-9A47251D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1B57C-12CE-49FD-BEA4-8ACF405C5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1BDE2-ED3C-44C8-B43A-73781595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A8B31-DD88-4DB5-BF65-271D3D06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18A09D-EF1E-4E64-89C4-A5F6D722DA90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693EC2-5404-4753-A908-3839F14C3D8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442C87-EA11-4C58-B8FB-8BD9B5E7D76A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FD3E0F-4119-4E8B-8560-3C6AE03B2006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4FA51C-2450-49FD-8CC1-D50C20CD06AA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6AB2BE-1E9A-44ED-B0A3-CCE95C4B26E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016CA6-12F0-4EB2-9DB1-8C2696997F8A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73702B-BBF9-45C9-938B-48C2D6B4C36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867682-BCD7-4400-81B2-533DCA02F3D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BD8737-B534-4FC4-8468-ED9F1F46B7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B796F8-34EC-4DE5-A814-662134720637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F3405B-6056-494A-9CFD-06443DEC57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pilimumab in Combination with Paclitaxel and Carboplatin as First-Line Treatment in Stage IIIB/IV Non-Small-Cell Lung Cancer: Results from a Randomized, Double-Blind, Multicenter Phase II St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Lynch TJ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333333"/>
                </a:solidFill>
                <a:latin typeface="Arial"/>
              </a:rPr>
              <a:t>J Clin Oncol 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2012;30(17):2046-5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4568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274320" tIns="2286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0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In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patients with previously untreated NSCLC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, ipilimumab with paclitaxel and carboplatin as a phased, but not as a concurrent, regimen significantly improved irPFS and mWHO-PF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0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re was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no apparent impact of ipilimumab on toxicities seen with carboplatin/paclitaxel alon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0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se results provide justification for additional investigation of ipilimumab in combination with chemotherapy for patients with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0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Results in patients with squamous NSCLC warrant further exploration in a larger clinical trial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ynch TJ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30(17):2046-5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182880" tIns="91440" bIns="182880" anchor="t">
            <a:normAutofit fontScale="99000"/>
          </a:bodyPr>
          <a:p>
            <a:pPr marL="342360" indent="-339120"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CTLA-4 — a negative regulator of T-cell activation — is a therapeutic target of interest in many cancer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2360" indent="-339120"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Ipilimumab is a fully human monoclonal antibody that specifically blocks CTLA-4 binding to its ligands, resulting in augmentation of T-cell activation and proliferation and causing tumor infiltration by T cells and tumor regression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2360" indent="-339120"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In recent Phase III trials, ipilimumab demonstrated statistically significant improvements in overall survival (OS) in patients with previously treated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NEJM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 2010;363:711) and untreated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NEJM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 2011;364:2517) melanoma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2360" indent="-339120"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35480" indent="-282960">
              <a:spcBef>
                <a:spcPts val="30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Determine the efficacy and safety of ipilimumab combined or in sequence with paclitaxel and carboplatin as first-line therapy for advanced NSCLC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ynch TJ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30(17):2046-5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825480" y="1703520"/>
          <a:ext cx="2565360" cy="1585800"/>
        </p:xfrm>
        <a:graphic>
          <a:graphicData uri="http://schemas.openxmlformats.org/drawingml/2006/table">
            <a:tbl>
              <a:tblPr/>
              <a:tblGrid>
                <a:gridCol w="2565360"/>
              </a:tblGrid>
              <a:tr h="43632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ligibility (N = 20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1149480">
                <a:tc>
                  <a:txBody>
                    <a:bodyPr lIns="90000" rIns="90000" anchor="ctr">
                      <a:noAutofit/>
                    </a:bodyPr>
                    <a:p>
                      <a:pPr marL="285840" indent="-285840">
                        <a:spcBef>
                          <a:spcPts val="499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Stage IIIB/IV or recurrent NSCL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Bef>
                          <a:spcPts val="499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Previously untre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2" name="Rectangle 31"/>
          <p:cNvSpPr/>
          <p:nvPr/>
        </p:nvSpPr>
        <p:spPr>
          <a:xfrm>
            <a:off x="825480" y="3846600"/>
            <a:ext cx="7705800" cy="17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Concurrent regimen: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4 doses of ipilimumab (10 mg/kg) + paclitaxel (Pac) + carboplatin (Cb) </a:t>
            </a:r>
            <a:r>
              <a:rPr b="0" lang="en-US" sz="1800" spc="-1" strike="noStrike">
                <a:solidFill>
                  <a:srgbClr val="464847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2 doses of placebo + Pac + 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Phased regimen: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2 doses of placebo + Pac + Cb </a:t>
            </a:r>
            <a:r>
              <a:rPr b="0" lang="en-US" sz="1800" spc="-1" strike="noStrike">
                <a:solidFill>
                  <a:srgbClr val="464847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4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doses of ipilimumab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(10 mg/kg)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+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ac + 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Control regimen: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≤6 doses of placebo + Pac + 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Primary endpoint: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Immune-related progression-free survival (irPF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I CA184-041 Study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5140440" y="1290600"/>
          <a:ext cx="3124080" cy="695520"/>
        </p:xfrm>
        <a:graphic>
          <a:graphicData uri="http://schemas.openxmlformats.org/drawingml/2006/table">
            <a:tbl>
              <a:tblPr/>
              <a:tblGrid>
                <a:gridCol w="3124080"/>
              </a:tblGrid>
              <a:tr h="6955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oncurrent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ipilimumab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7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5127480" y="2182680"/>
          <a:ext cx="3140280" cy="695520"/>
        </p:xfrm>
        <a:graphic>
          <a:graphicData uri="http://schemas.openxmlformats.org/drawingml/2006/table">
            <a:tbl>
              <a:tblPr/>
              <a:tblGrid>
                <a:gridCol w="3140280"/>
              </a:tblGrid>
              <a:tr h="695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hased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ipilimumab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6" name="Line 2"/>
          <p:cNvSpPr/>
          <p:nvPr/>
        </p:nvSpPr>
        <p:spPr>
          <a:xfrm>
            <a:off x="3390840" y="2536920"/>
            <a:ext cx="1444680" cy="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3"/>
          <p:cNvGrpSpPr/>
          <p:nvPr/>
        </p:nvGrpSpPr>
        <p:grpSpPr>
          <a:xfrm>
            <a:off x="4818240" y="1653840"/>
            <a:ext cx="322200" cy="655560"/>
            <a:chOff x="4818240" y="1653840"/>
            <a:chExt cx="322200" cy="655560"/>
          </a:xfrm>
        </p:grpSpPr>
        <p:sp>
          <p:nvSpPr>
            <p:cNvPr id="378" name="Line 14"/>
            <p:cNvSpPr/>
            <p:nvPr/>
          </p:nvSpPr>
          <p:spPr>
            <a:xfrm flipV="1">
              <a:off x="4818240" y="1653840"/>
              <a:ext cx="0" cy="65556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5"/>
            <p:cNvSpPr/>
            <p:nvPr/>
          </p:nvSpPr>
          <p:spPr>
            <a:xfrm>
              <a:off x="4818240" y="1654200"/>
              <a:ext cx="3222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16"/>
          <p:cNvGrpSpPr/>
          <p:nvPr/>
        </p:nvGrpSpPr>
        <p:grpSpPr>
          <a:xfrm>
            <a:off x="4818240" y="1854360"/>
            <a:ext cx="322200" cy="677880"/>
            <a:chOff x="4818240" y="1854360"/>
            <a:chExt cx="322200" cy="677880"/>
          </a:xfrm>
        </p:grpSpPr>
        <p:sp>
          <p:nvSpPr>
            <p:cNvPr id="381" name="Line 17"/>
            <p:cNvSpPr/>
            <p:nvPr/>
          </p:nvSpPr>
          <p:spPr>
            <a:xfrm>
              <a:off x="4818240" y="1854360"/>
              <a:ext cx="0" cy="67788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8"/>
            <p:cNvSpPr/>
            <p:nvPr/>
          </p:nvSpPr>
          <p:spPr>
            <a:xfrm>
              <a:off x="4818240" y="2531880"/>
              <a:ext cx="3222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Oval 4"/>
          <p:cNvSpPr/>
          <p:nvPr/>
        </p:nvSpPr>
        <p:spPr>
          <a:xfrm>
            <a:off x="3649680" y="2062080"/>
            <a:ext cx="917640" cy="916200"/>
          </a:xfrm>
          <a:prstGeom prst="ellipse">
            <a:avLst/>
          </a:prstGeom>
          <a:solidFill>
            <a:srgbClr val="db9f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ynch TJ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30(17):2046-5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16"/>
          <p:cNvGrpSpPr/>
          <p:nvPr/>
        </p:nvGrpSpPr>
        <p:grpSpPr>
          <a:xfrm>
            <a:off x="4818240" y="2443320"/>
            <a:ext cx="322200" cy="959760"/>
            <a:chOff x="4818240" y="2443320"/>
            <a:chExt cx="322200" cy="959760"/>
          </a:xfrm>
        </p:grpSpPr>
        <p:sp>
          <p:nvSpPr>
            <p:cNvPr id="386" name="Line 17"/>
            <p:cNvSpPr/>
            <p:nvPr/>
          </p:nvSpPr>
          <p:spPr>
            <a:xfrm>
              <a:off x="4818240" y="2443320"/>
              <a:ext cx="0" cy="95976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8"/>
            <p:cNvSpPr/>
            <p:nvPr/>
          </p:nvSpPr>
          <p:spPr>
            <a:xfrm>
              <a:off x="4818240" y="3403080"/>
              <a:ext cx="3222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88" name=""/>
          <p:cNvGraphicFramePr/>
          <p:nvPr/>
        </p:nvGraphicFramePr>
        <p:xfrm>
          <a:off x="5127480" y="3084480"/>
          <a:ext cx="3140280" cy="695520"/>
        </p:xfrm>
        <a:graphic>
          <a:graphicData uri="http://schemas.openxmlformats.org/drawingml/2006/table">
            <a:tbl>
              <a:tblPr/>
              <a:tblGrid>
                <a:gridCol w="3140280"/>
              </a:tblGrid>
              <a:tr h="697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ont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6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9" name="TextBox 1"/>
          <p:cNvSpPr/>
          <p:nvPr/>
        </p:nvSpPr>
        <p:spPr>
          <a:xfrm>
            <a:off x="3649680" y="308448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(1:1: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0" name=""/>
          <p:cNvGraphicFramePr/>
          <p:nvPr/>
        </p:nvGraphicFramePr>
        <p:xfrm>
          <a:off x="812880" y="1447920"/>
          <a:ext cx="7518240" cy="3467160"/>
        </p:xfrm>
        <a:graphic>
          <a:graphicData uri="http://schemas.openxmlformats.org/drawingml/2006/table">
            <a:tbl>
              <a:tblPr/>
              <a:tblGrid>
                <a:gridCol w="2489040"/>
                <a:gridCol w="1447920"/>
                <a:gridCol w="1460520"/>
                <a:gridCol w="990720"/>
                <a:gridCol w="1130040"/>
              </a:tblGrid>
              <a:tr h="6951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6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523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ir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6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7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7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mWHO-PF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2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1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69552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6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urrent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7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536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ir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6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5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8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mWHO-PF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2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1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ession-Free Survi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ynch TJ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30(17):2046-5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31"/>
          <p:cNvSpPr/>
          <p:nvPr/>
        </p:nvSpPr>
        <p:spPr>
          <a:xfrm>
            <a:off x="812880" y="4994280"/>
            <a:ext cx="765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er modified WHO (mWHO) criteria: Time from randomization to mWHO progression or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"/>
          <p:cNvGraphicFramePr/>
          <p:nvPr/>
        </p:nvGraphicFramePr>
        <p:xfrm>
          <a:off x="825480" y="1434960"/>
          <a:ext cx="7556400" cy="3148200"/>
        </p:xfrm>
        <a:graphic>
          <a:graphicData uri="http://schemas.openxmlformats.org/drawingml/2006/table">
            <a:tbl>
              <a:tblPr/>
              <a:tblGrid>
                <a:gridCol w="3200400"/>
                <a:gridCol w="1952640"/>
                <a:gridCol w="2403360"/>
              </a:tblGrid>
              <a:tr h="69552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d versus contro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rPFS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WHO-PFS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96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quamous hist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nsquamous hist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982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urrent versus contro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500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quamous hist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8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nsquamous hist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et Analyses of irPFS and mWHO-P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31"/>
          <p:cNvSpPr/>
          <p:nvPr/>
        </p:nvSpPr>
        <p:spPr>
          <a:xfrm>
            <a:off x="825480" y="4711680"/>
            <a:ext cx="76834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Of all baseline characteristics, only histology predicted clinical 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HR &lt;1.0 favors improvement in irPFS or mWHO-P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ynch TJ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30(17):2046-5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"/>
          <p:cNvSpPr/>
          <p:nvPr/>
        </p:nvSpPr>
        <p:spPr>
          <a:xfrm>
            <a:off x="825480" y="2146320"/>
            <a:ext cx="7556400" cy="482760"/>
          </a:xfrm>
          <a:prstGeom prst="rect">
            <a:avLst/>
          </a:prstGeom>
          <a:noFill/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9" name=""/>
          <p:cNvGraphicFramePr/>
          <p:nvPr/>
        </p:nvGraphicFramePr>
        <p:xfrm>
          <a:off x="828720" y="1433520"/>
          <a:ext cx="7537320" cy="3952800"/>
        </p:xfrm>
        <a:graphic>
          <a:graphicData uri="http://schemas.openxmlformats.org/drawingml/2006/table">
            <a:tbl>
              <a:tblPr/>
              <a:tblGrid>
                <a:gridCol w="1868400"/>
                <a:gridCol w="1555920"/>
                <a:gridCol w="1584360"/>
                <a:gridCol w="1238040"/>
                <a:gridCol w="1290600"/>
              </a:tblGrid>
              <a:tr h="6951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6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25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.3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2.2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-year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-year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6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urrent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7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2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.3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.7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7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-year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-year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all Survi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ynch TJ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30(17):2046-5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900000" y="1492200"/>
          <a:ext cx="7239240" cy="3267000"/>
        </p:xfrm>
        <a:graphic>
          <a:graphicData uri="http://schemas.openxmlformats.org/drawingml/2006/table">
            <a:tbl>
              <a:tblPr/>
              <a:tblGrid>
                <a:gridCol w="3797280"/>
                <a:gridCol w="3441960"/>
              </a:tblGrid>
              <a:tr h="6224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d versus contro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522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quamous hist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nsquamous hist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5241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urrent versus contro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525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quamous hist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3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nsquamous hist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et Analyses of 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31"/>
          <p:cNvSpPr/>
          <p:nvPr/>
        </p:nvSpPr>
        <p:spPr>
          <a:xfrm>
            <a:off x="922320" y="4991040"/>
            <a:ext cx="779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HR &lt;1.0 favors improvement in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ynch TJ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30(17):2046-5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887400" y="2127240"/>
            <a:ext cx="7251840" cy="482760"/>
          </a:xfrm>
          <a:prstGeom prst="rect">
            <a:avLst/>
          </a:prstGeom>
          <a:noFill/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825480" y="1434960"/>
          <a:ext cx="7493040" cy="3164040"/>
        </p:xfrm>
        <a:graphic>
          <a:graphicData uri="http://schemas.openxmlformats.org/drawingml/2006/table">
            <a:tbl>
              <a:tblPr/>
              <a:tblGrid>
                <a:gridCol w="2068560"/>
                <a:gridCol w="1808280"/>
                <a:gridCol w="1807920"/>
                <a:gridCol w="1808280"/>
              </a:tblGrid>
              <a:tr h="69552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6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urrent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7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09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irBO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12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irP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WHO-BO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11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2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irD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11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WHO-D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mor Response and Disease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31"/>
          <p:cNvSpPr/>
          <p:nvPr/>
        </p:nvSpPr>
        <p:spPr>
          <a:xfrm>
            <a:off x="896760" y="4686480"/>
            <a:ext cx="779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irCR and mWHO-CR: 0% for all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BORR = best overall response rate; PR = partial response; DCR = disease control rate; CR = complete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ynch TJ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30(17):2046-5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825480" y="1473120"/>
          <a:ext cx="7493040" cy="3367080"/>
        </p:xfrm>
        <a:graphic>
          <a:graphicData uri="http://schemas.openxmlformats.org/drawingml/2006/table">
            <a:tbl>
              <a:tblPr/>
              <a:tblGrid>
                <a:gridCol w="2400480"/>
                <a:gridCol w="1663560"/>
                <a:gridCol w="1727280"/>
                <a:gridCol w="1701720"/>
              </a:tblGrid>
              <a:tr h="6976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grade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6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ur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6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79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n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82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lope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2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Thrombocyt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80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eutr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2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Pruri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8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iarrh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R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412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ynch TJ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30(17):2046-5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dverse Events (A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31"/>
          <p:cNvSpPr/>
          <p:nvPr/>
        </p:nvSpPr>
        <p:spPr>
          <a:xfrm>
            <a:off x="955800" y="4962600"/>
            <a:ext cx="63752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7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Incidence of ≥15% in any a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Grade 3 and 4 AEs were infrequ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28:02Z</dcterms:created>
  <dc:creator>Research To Practice</dc:creator>
  <dc:description/>
  <cp:keywords/>
  <dc:language>en-US</dc:language>
  <cp:lastModifiedBy>Silvana Izquierdo</cp:lastModifiedBy>
  <cp:lastPrinted>2013-03-06T20:38:39Z</cp:lastPrinted>
  <dcterms:modified xsi:type="dcterms:W3CDTF">2013-07-22T19:08:44Z</dcterms:modified>
  <cp:revision>705</cp:revision>
  <dc:subject/>
  <dc:title>Research To Practice</dc:title>
</cp:coreProperties>
</file>