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03F-048A-4FD8-870A-18F2028D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6C8-6E25-49AC-81AD-A302CAF5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5C2-AFF7-4866-8A60-BDE01C32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A49-7CA8-4F74-BECC-8256D29E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96D9-3D92-4202-92B0-0DF7BA4D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BFD1-5CFE-4EF6-8EDB-7BE9AC34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59B5-ACDB-4FCE-A30A-265B4CDA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7EEB-DBC8-4FA4-995F-1EED79CD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926B-55C9-49BB-B720-1737A026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2D9C-B54E-47C4-8065-8068D7E5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CE7F-DC04-4407-AA83-22BF70FC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97A-7CFB-4E4B-B2EF-280551AD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5621-67BA-40F4-918B-413D8CA7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AEB6-D1C8-491B-96C9-F9153920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EA97-629E-4499-BFD1-1063F3B8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44B8-CC33-4A68-BA8D-3ECBB46D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F8E3-BAA9-475F-8956-DC72D61D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AE8-755F-4D2B-A35E-A88FE454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D681D-EA48-4B8E-A69E-A8CA273A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DD52-333B-4DDC-89C7-66E8ED7E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601D-C118-4437-AC6F-7D321E00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C0C-160B-4B86-BA0D-2E9F0148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F0E9-B3EE-41DA-ADA2-F359BC53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57F52-AEFD-4599-A708-50C0DD3C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D35B-4FC3-4BB6-AB4C-2713A801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77FE-8B11-4669-A6BA-761A13CA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B9F6E-520E-48FB-BD43-3D16B35A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E33D-D6AF-4199-8757-252E0AC9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7670F-978C-45F9-AC17-23FA8AC1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0580-F78F-4084-AEE5-3429E1E9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20D97-A141-4901-A23C-5F5E0A8B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CCF-4387-430C-8C8D-77B50B44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E10-D7E1-4C43-BE27-4C9C4CAD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A1C0-3B3E-44B8-BC55-E7C48AF3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12AB3-5B62-4BBA-BA3A-4AE4B863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B52EB-2637-4DB6-8444-36B4D375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E7A5D-90DE-4018-B143-AF0D2EEF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4F3BA-27C9-447C-B25A-6F85DF61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B3542-FD06-484E-B6DD-4C3CFCCC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51B79-A3DF-4546-B361-49BF7E6F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FBC61-B357-49CF-AB7B-766F3D97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B340-CB3D-425C-B7D1-89150879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93A-A451-4A16-80F9-37257F48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08949-9345-45D5-B801-796243AA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21FC-D0C1-4782-ADB2-725E5792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CE2FE-8BEE-46D8-BAB7-226E4C5B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3A7-92ED-449E-8A07-374698D5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DDB-7C16-41A4-86C3-70FCF146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675F2-3532-4124-A40E-F690CE6BFE64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582D2-AB61-4B56-984F-A51B721FCE2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F6E91-9E95-4197-90D0-79714ED6D71D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BB0A9-EF91-4020-B78E-D0325C8138D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7B3CB-3175-4E21-BC4D-D72B52DF66C2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5FF69-28FD-4B17-8DE5-51D84EAB2AA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68988-57EB-4FB7-8194-94F62EDFE71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97F6C-6A36-4AE2-9917-208F3A9B9A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mor Response and Toxicity of Neoadjuvant Erlotinib in Patients with Early-Stage Non-Small-Cell Lung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chaake EE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30(22):2731-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163520"/>
            <a:ext cx="8229600" cy="4577040"/>
          </a:xfrm>
          <a:prstGeom prst="rect">
            <a:avLst/>
          </a:prstGeom>
          <a:noFill/>
          <a:ln w="0">
            <a:noFill/>
          </a:ln>
        </p:spPr>
        <p:txBody>
          <a:bodyPr lIns="457200" rIns="274320" tIns="13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  <a:ea typeface="Arial"/>
              </a:rPr>
              <a:t>Pathologic examination after neoadjuvant erlotinib showed &gt;50% necrosis in 23% of the overall population.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5% had more than 95% necrosi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38% pathologic response in the enriched population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10% pathologic response in the unselected population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  <a:ea typeface="Arial"/>
              </a:rPr>
              <a:t>A metabolic response was observed in 27% of the patients, while a radiologic response was observed in 5% of the patient population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  <a:ea typeface="Arial"/>
              </a:rPr>
              <a:t>Neoadjuvant erlotinib was associated with low toxicity (primarily Grade 1 or 2 rash and diarrhea).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12% of patients prematurely discontinued erlotinib due to toxicity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  <a:ea typeface="Arial"/>
              </a:rPr>
              <a:t>Neoadjuvant erlotinib demonstrated sufficient activity to deserve further testing in future studies in an enriched population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15092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ve-year survival rates vary from 36% to 73% after resection of early-stage NSCLC with curative intent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overall survival effect of adjuvant chemotherapy is modest (4% to 8% at 5 years)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 similar magnitude of benefit may be expected in the neoadjuvant setting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ossibilities to improve survival include combinations of standard therapy with a personalized approach based on biomarker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GFR is overexpressed or mutated in NSCLC, and its inhibition with a tyrosine kinase inhibitor such as erlotinib can reduce tumor growth and increase objective response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urrent study objective: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valuate the efficacy and safety of preoperative erlotinib therapy for patients with early-stage resectable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with newly diagnosed resectable NSCLC (n = 60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lected (enriched) population (n = 29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6484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cluding ≥2 of: female, adenocarcinoma, nonsmoker, Asian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Unselected population (n = 31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l patients received 150 mg/d preoperative erlotinib (oral) for 3 weeks; discontinued 72 h before surgery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T and FDG-PET scans performed at 21 d from start of erlotinib; surgery scheduled in week 4 after treatment start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Primary endpoint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Pathologic respons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Secondary endpoints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adiologic (RECIST criteria) and metabolic (EORTC criteria) response; safety; progression-free and overall surviva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914400" y="1689120"/>
          <a:ext cx="7491240" cy="3073320"/>
        </p:xfrm>
        <a:graphic>
          <a:graphicData uri="http://schemas.openxmlformats.org/drawingml/2006/table">
            <a:tbl>
              <a:tblPr/>
              <a:tblGrid>
                <a:gridCol w="2957400"/>
                <a:gridCol w="1511280"/>
                <a:gridCol w="1511280"/>
                <a:gridCol w="1511280"/>
              </a:tblGrid>
              <a:tr h="941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ologic 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ric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sel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33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% nec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50% nec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533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50% nec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re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</a:tr>
            </a:tbl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mor Response: Patholog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4"/>
          <p:cNvSpPr/>
          <p:nvPr/>
        </p:nvSpPr>
        <p:spPr>
          <a:xfrm>
            <a:off x="914400" y="4762440"/>
            <a:ext cx="761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A cutoff of 50% necrosis (with morphologic signs of therapy-induced regression) was used for pathologic respon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914400" y="1384200"/>
          <a:ext cx="7491240" cy="3584520"/>
        </p:xfrm>
        <a:graphic>
          <a:graphicData uri="http://schemas.openxmlformats.org/drawingml/2006/table">
            <a:tbl>
              <a:tblPr/>
              <a:tblGrid>
                <a:gridCol w="3313080"/>
                <a:gridCol w="1486080"/>
                <a:gridCol w="1282680"/>
                <a:gridCol w="1409400"/>
              </a:tblGrid>
              <a:tr h="612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ric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sel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8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change SUV</a:t>
                      </a:r>
                      <a:r>
                        <a:rPr b="0" lang="en-US" sz="1800" spc="-1" strike="noStrike" baseline="-25000">
                          <a:solidFill>
                            <a:srgbClr val="464847"/>
                          </a:solidFill>
                          <a:latin typeface="Arial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tabolic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rtial response (P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disease (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ve disease (P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change in 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diologic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bolic and Radiologic Tumor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914400" y="4994280"/>
            <a:ext cx="7618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DG tumor uptake quantified using SUV</a:t>
            </a:r>
            <a:r>
              <a:rPr b="0" lang="en-US" sz="1600" spc="-1" strike="noStrike" baseline="-25000">
                <a:solidFill>
                  <a:srgbClr val="464847"/>
                </a:solidFill>
                <a:latin typeface="Arial"/>
              </a:rPr>
              <a:t>max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(maximum standardized uptake value)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S = tumor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914400" y="1714680"/>
          <a:ext cx="7491240" cy="3095280"/>
        </p:xfrm>
        <a:graphic>
          <a:graphicData uri="http://schemas.openxmlformats.org/drawingml/2006/table">
            <a:tbl>
              <a:tblPr/>
              <a:tblGrid>
                <a:gridCol w="2957400"/>
                <a:gridCol w="1511280"/>
                <a:gridCol w="1511280"/>
                <a:gridCol w="1511280"/>
              </a:tblGrid>
              <a:tr h="1126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ologic 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GFR mutat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-ras mu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uble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92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% nec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50% nec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92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50% nec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re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mor Response by EGFR Mutation Status: Patholog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914400" y="1434960"/>
          <a:ext cx="7491240" cy="4024440"/>
        </p:xfrm>
        <a:graphic>
          <a:graphicData uri="http://schemas.openxmlformats.org/drawingml/2006/table">
            <a:tbl>
              <a:tblPr/>
              <a:tblGrid>
                <a:gridCol w="2800440"/>
                <a:gridCol w="1563480"/>
                <a:gridCol w="1563840"/>
                <a:gridCol w="1563480"/>
              </a:tblGrid>
              <a:tr h="914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GFR mutat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-ras mutat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uble w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change SUV</a:t>
                      </a:r>
                      <a:r>
                        <a:rPr b="0" lang="en-US" sz="1800" spc="-1" strike="noStrike" baseline="-25000">
                          <a:solidFill>
                            <a:srgbClr val="464847"/>
                          </a:solidFill>
                          <a:latin typeface="Arial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tabolic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change in 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5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diologic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EGFR Mutation Status: Metabolic and Radiologic Tumor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1"/>
          <p:cNvSpPr/>
          <p:nvPr/>
        </p:nvSpPr>
        <p:spPr>
          <a:xfrm>
            <a:off x="914400" y="3741840"/>
            <a:ext cx="736596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10 patients died from P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1 patient died from sepsis after an abdominal infection (13 mo after surg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14400" y="1828800"/>
          <a:ext cx="7365960" cy="1805040"/>
        </p:xfrm>
        <a:graphic>
          <a:graphicData uri="http://schemas.openxmlformats.org/drawingml/2006/table">
            <a:tbl>
              <a:tblPr/>
              <a:tblGrid>
                <a:gridCol w="4290840"/>
                <a:gridCol w="3075120"/>
              </a:tblGrid>
              <a:tr h="6015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01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-year progression-free survi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1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-year overall surviv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Outcome at 24 Months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914400" y="1422360"/>
          <a:ext cx="7238880" cy="3619440"/>
        </p:xfrm>
        <a:graphic>
          <a:graphicData uri="http://schemas.openxmlformats.org/drawingml/2006/table">
            <a:tbl>
              <a:tblPr/>
              <a:tblGrid>
                <a:gridCol w="2984400"/>
                <a:gridCol w="2121120"/>
                <a:gridCol w="2133360"/>
              </a:tblGrid>
              <a:tr h="362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=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1 o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ry s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ry e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ruri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ausea/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ucos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Infection/pneumon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914400" y="51688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Grade 4 AEs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43Z</dcterms:created>
  <dc:creator>Research To Practice</dc:creator>
  <dc:description/>
  <cp:keywords/>
  <dc:language>en-US</dc:language>
  <cp:lastModifiedBy>Silvana Izquierdo</cp:lastModifiedBy>
  <cp:lastPrinted>2013-02-28T16:56:30Z</cp:lastPrinted>
  <dcterms:modified xsi:type="dcterms:W3CDTF">2013-07-22T18:56:39Z</dcterms:modified>
  <cp:revision>618</cp:revision>
  <dc:subject/>
  <dc:title>Research To Practice</dc:title>
</cp:coreProperties>
</file>