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BBBF-DA05-4986-B6EB-FB3076BCE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526F-4A30-4CB3-88C3-0D327BFE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B3380-8EA2-40CA-86C8-3076E7EC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EA8C2-0A61-4AFB-9DCE-4D5B000B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CD493-EAAA-4D4D-8AF5-8BC5C9BE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C4486-83BC-402C-B1E1-1544270E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0F825-BAEB-4482-A104-A784DD69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60FDD-41B4-44D6-B3F6-194A4996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475CA-A5B6-459D-8B8A-2275D300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95923-B699-415B-B886-0636646E9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B66E8-537D-4480-9B67-46026B2FC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E782-F174-420D-9EBD-920110585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4162-ED8C-46CD-9157-71E82297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B828-297E-4829-920C-E5EF97F0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31F9-403C-44F4-89FA-6D3AC642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D107-06BB-4AE0-B2D4-CFD9F56F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3D16-0130-4462-A785-A56EFE2F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EC8E-254E-4DBD-9501-86AF830C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528A-62C7-4BF8-A137-150BD07C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D867-91A4-4BD6-A94C-70B36A41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1347-3D29-452F-B1DF-212D2E21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60BC-C6B0-4F15-AA06-210427A3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3A71-CD53-4150-B3DB-B58DB663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092B-6DDF-457E-90AE-5E0E5A0D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1D52-FB95-44AA-B496-B241C9FB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E59E-C11E-477B-B5D5-65EF6B55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891B3-4F28-4916-9A8A-CAB838587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F04D5-3F61-4A67-921A-5D873471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52F33-8A67-4025-AE67-E292E0B2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475F3-0C88-4A41-B1A5-A224167D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75CD1-14AC-4478-B394-D880FDC6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2FA1-EA28-4535-9EA4-92B2CC4E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FBC10-8CD6-4A8D-B225-3229FE58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33486-6369-4673-B704-498DE4FA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58F4A-1957-40D2-B863-BF7D59DC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6E003-26A6-4507-A548-1073BC44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38687-514E-4AEE-B3A3-03A40A85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CD287-5128-46DF-99C3-8C8EAF9D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11397-6A79-468E-994F-6020C1BE5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587E-AF22-497C-8715-AA5A8DE3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69173-A405-448C-9FE7-A6D1991EB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7512-739E-4A8A-8746-D64F616C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D7EDC-CF74-4EB8-8EF6-0F25E556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8D272-BB5A-4424-86F2-83A3BDB9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75946-D200-4A1F-9ADC-23B24AB4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44D05-1780-4239-801C-49E85717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EC9E2-BBF5-4D8D-80FB-CB972936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03D86-B7C9-40A6-BDAA-2EC2B860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01FD3-938E-4FB9-98D2-4ADAC2FA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D9A4D-1B41-4A9D-B383-374B0ABD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90926-7C87-4209-BC37-AA1A71B2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78EB1-426C-40BA-885E-7C50B253C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F3A2-A18E-4D00-B441-D403F7F4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18833-6636-47BD-9B2E-05C1CAB4B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6C90-83CC-4AE5-969A-4F466E70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77150-7695-4649-8B79-7E5A5CB0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97F65-98B0-4E1C-8A9B-9D795102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9FFAB-3161-4EBF-B9D6-FE653AC9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06A08-A8AE-45E3-A293-2363588B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52F25-4D8E-4446-961A-227758FA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35412-4618-45EE-9CB4-9928B43A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D47AC-E460-453F-B536-985EEBC7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ED77-F03D-455A-B568-E9D69B57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A0CA3-2EC0-4C4C-B43E-316163C2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F3920-2251-4712-9DCA-988907DE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81F16-C079-46A8-B5FC-E8045B16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EE258-F31B-4C95-9875-4BDB57D81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DD5CD-DB1D-4CB3-B976-C2F3F9DD5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4D5F-FAD9-4D5A-BFA3-FEE2F02F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884FB-1AC0-46C8-9239-51B946DB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54484-102B-4DC9-9959-A6BCA42F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B5899-DB9E-4A2D-A3F8-FD64B893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73A3BD-2C63-49D7-B503-8428CE616FB7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51D67A-C44F-4E02-B72D-420FA18FF04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4F99AD-AB76-4A9F-A1FB-7BBABE0A1EDE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F45472-F5C6-491F-80E2-C75E0306B8B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0053F5-4D71-4B63-9B73-FA2BCE63200B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3A0AFD-7D79-4D1F-A40E-CF07C95366DA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59841A-FD75-4413-93B1-7C2AB068B88B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79A306-8C6D-47C6-8357-88C6C7806B9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E25CFA-21DD-4796-A631-E5926D93DC2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8AC264-3202-41AE-A964-C589025788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66C230-3091-41E3-B803-203248A3A70B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EF0D93-DD56-4EDE-899E-2E937D7399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eekly </a:t>
            </a: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nab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-Paclitaxel in Combination with Carboplatin versus Solvent-Based Paclitaxel plus Carboplatin 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s First-Line Therapy in Patients 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ith Advanced Non-Small-Cell Lung Cancer: Final Results of a Phase 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II Tri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ocinski MA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J Clin Oncol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2;30(17):2055-6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9688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standard treatment for advanced non-small cell lung cancer (NSCLC) is a platinum-based regimen, but in a large randomized study of 4 platinum-based regimens none offered a significant clinical advantage over the others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NEJM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02;346:92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olvent-based paclitaxel (sb-P) and carboplatin (sb-PC) is effective against advanced NSCLC and is the most commonly used taxane/platinum regimen in the United State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 dose-finding study of nanoparticle albumin-bound paclitaxel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nab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-P) and carboplatin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nab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-PC) demonstrated promising efficacy and a good safety profile in advanced NSCLC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J Thorac Oncol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010;5:852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Compare the efficacy and safety of 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nab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-PC to sb-PC as first-line therapy for patients with advanced NSCLC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cinski M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30(17):2055-6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914400" y="1339920"/>
          <a:ext cx="3429000" cy="295272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4413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ility (N = 1,05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2511360">
                <a:tc>
                  <a:txBody>
                    <a:bodyPr lIns="90000" rIns="90000" anchor="ctr">
                      <a:noAutofit/>
                    </a:bodyPr>
                    <a:p>
                      <a:pPr marL="114480" indent="-114480">
                        <a:spcBef>
                          <a:spcPts val="60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Histologically/cytologically confirmed unresectable, untreated Stage IIIB-IV NSCL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spcBef>
                          <a:spcPts val="60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No radiation therapy within 4 wk of enroll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spcBef>
                          <a:spcPts val="60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No untreated brain met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spcBef>
                          <a:spcPts val="60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No Grade &gt;1 peripheral neuropath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2" name="Rectangle 31"/>
          <p:cNvSpPr/>
          <p:nvPr/>
        </p:nvSpPr>
        <p:spPr>
          <a:xfrm>
            <a:off x="914400" y="4710240"/>
            <a:ext cx="367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Primary endpoint: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Objective overall response rate (ORR) by independent radiologic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II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6041880" y="1371600"/>
          <a:ext cx="1828800" cy="689040"/>
        </p:xfrm>
        <a:graphic>
          <a:graphicData uri="http://schemas.openxmlformats.org/drawingml/2006/table">
            <a:tbl>
              <a:tblPr/>
              <a:tblGrid>
                <a:gridCol w="1828800"/>
              </a:tblGrid>
              <a:tr h="689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ab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52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6041880" y="2230560"/>
          <a:ext cx="1828800" cy="639720"/>
        </p:xfrm>
        <a:graphic>
          <a:graphicData uri="http://schemas.openxmlformats.org/drawingml/2006/table">
            <a:tbl>
              <a:tblPr/>
              <a:tblGrid>
                <a:gridCol w="182880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b-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53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6" name="Line 2"/>
          <p:cNvSpPr/>
          <p:nvPr/>
        </p:nvSpPr>
        <p:spPr>
          <a:xfrm>
            <a:off x="4338720" y="2143080"/>
            <a:ext cx="1376280" cy="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3"/>
          <p:cNvGrpSpPr/>
          <p:nvPr/>
        </p:nvGrpSpPr>
        <p:grpSpPr>
          <a:xfrm>
            <a:off x="5719680" y="1717560"/>
            <a:ext cx="322200" cy="655920"/>
            <a:chOff x="5719680" y="1717560"/>
            <a:chExt cx="322200" cy="655920"/>
          </a:xfrm>
        </p:grpSpPr>
        <p:sp>
          <p:nvSpPr>
            <p:cNvPr id="378" name="Line 14"/>
            <p:cNvSpPr/>
            <p:nvPr/>
          </p:nvSpPr>
          <p:spPr>
            <a:xfrm flipV="1">
              <a:off x="5719680" y="1717560"/>
              <a:ext cx="0" cy="65592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5"/>
            <p:cNvSpPr/>
            <p:nvPr/>
          </p:nvSpPr>
          <p:spPr>
            <a:xfrm>
              <a:off x="5719680" y="1717560"/>
              <a:ext cx="3222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16"/>
          <p:cNvGrpSpPr/>
          <p:nvPr/>
        </p:nvGrpSpPr>
        <p:grpSpPr>
          <a:xfrm>
            <a:off x="5719680" y="1879560"/>
            <a:ext cx="322200" cy="677880"/>
            <a:chOff x="5719680" y="1879560"/>
            <a:chExt cx="322200" cy="677880"/>
          </a:xfrm>
        </p:grpSpPr>
        <p:sp>
          <p:nvSpPr>
            <p:cNvPr id="381" name="Line 17"/>
            <p:cNvSpPr/>
            <p:nvPr/>
          </p:nvSpPr>
          <p:spPr>
            <a:xfrm>
              <a:off x="5719680" y="1879560"/>
              <a:ext cx="0" cy="67788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8"/>
            <p:cNvSpPr/>
            <p:nvPr/>
          </p:nvSpPr>
          <p:spPr>
            <a:xfrm>
              <a:off x="5719680" y="2557080"/>
              <a:ext cx="3222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Oval 4"/>
          <p:cNvSpPr/>
          <p:nvPr/>
        </p:nvSpPr>
        <p:spPr>
          <a:xfrm>
            <a:off x="4745160" y="1778040"/>
            <a:ext cx="731880" cy="730080"/>
          </a:xfrm>
          <a:prstGeom prst="ellipse">
            <a:avLst/>
          </a:prstGeom>
          <a:solidFill>
            <a:srgbClr val="db9f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1"/>
          <p:cNvSpPr/>
          <p:nvPr/>
        </p:nvSpPr>
        <p:spPr>
          <a:xfrm>
            <a:off x="4444920" y="2978280"/>
            <a:ext cx="424188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464847"/>
                </a:solidFill>
                <a:latin typeface="Arial"/>
              </a:rPr>
              <a:t>nab</a:t>
            </a: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-PC: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100 mg/m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(IV) of 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nab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-P for 30 minutes on d1, 8, 15 followed by carboplatin AUC 6 mg/mL/min on d1 every 3 w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sb-PC: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200 mg/m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(IV) of sb-P for 3 h and carboplatin at AUC 6 mg/mL/min on d1 (both administered every 3 wee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cinski M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30(17):2055-6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1"/>
          <p:cNvSpPr/>
          <p:nvPr/>
        </p:nvSpPr>
        <p:spPr>
          <a:xfrm>
            <a:off x="914400" y="4822920"/>
            <a:ext cx="768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RR = response rate; CR = complete response; PR = partial response;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D = stable disease; PD = progressive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914400" y="1473120"/>
          <a:ext cx="7429680" cy="3222720"/>
        </p:xfrm>
        <a:graphic>
          <a:graphicData uri="http://schemas.openxmlformats.org/drawingml/2006/table">
            <a:tbl>
              <a:tblPr/>
              <a:tblGrid>
                <a:gridCol w="2057400"/>
                <a:gridCol w="1434960"/>
                <a:gridCol w="1371600"/>
                <a:gridCol w="1270080"/>
                <a:gridCol w="1295640"/>
              </a:tblGrid>
              <a:tr h="716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b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52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b-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53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R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500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3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1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lt;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501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1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D (≥16 week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501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R by Independent Review (ITT Popul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cinski M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30(17):2055-6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0" name=""/>
          <p:cNvGraphicFramePr/>
          <p:nvPr/>
        </p:nvGraphicFramePr>
        <p:xfrm>
          <a:off x="914400" y="1473120"/>
          <a:ext cx="7429680" cy="3314880"/>
        </p:xfrm>
        <a:graphic>
          <a:graphicData uri="http://schemas.openxmlformats.org/drawingml/2006/table">
            <a:tbl>
              <a:tblPr/>
              <a:tblGrid>
                <a:gridCol w="2527200"/>
                <a:gridCol w="1206720"/>
                <a:gridCol w="1231920"/>
                <a:gridCol w="1269720"/>
                <a:gridCol w="1194120"/>
              </a:tblGrid>
              <a:tr h="7534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b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b-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R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Squamou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(n = 229, 22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6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lt;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Nonsquamou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(n = 292, 3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0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3ee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Adenocarcinoma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(n = 254, 26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Large cell carcinoma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(n = 9, 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3ee"/>
                    </a:solidFill>
                  </a:tcPr>
                </a:tc>
              </a:tr>
            </a:tbl>
          </a:graphicData>
        </a:graphic>
      </p:graphicFrame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se Rate Based on Histologic Subtype (Independent Analy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cinski M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30(17):2055-6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31"/>
          <p:cNvSpPr/>
          <p:nvPr/>
        </p:nvSpPr>
        <p:spPr>
          <a:xfrm>
            <a:off x="896760" y="4892760"/>
            <a:ext cx="779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NR = not reported; NSD = no significant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31"/>
          <p:cNvSpPr/>
          <p:nvPr/>
        </p:nvSpPr>
        <p:spPr>
          <a:xfrm>
            <a:off x="914400" y="4457880"/>
            <a:ext cx="76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FS and OS in the 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nab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-PC arm were noninferior to the sb-PC a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914400" y="1460520"/>
          <a:ext cx="7378560" cy="2884320"/>
        </p:xfrm>
        <a:graphic>
          <a:graphicData uri="http://schemas.openxmlformats.org/drawingml/2006/table">
            <a:tbl>
              <a:tblPr/>
              <a:tblGrid>
                <a:gridCol w="1917720"/>
                <a:gridCol w="1365120"/>
                <a:gridCol w="1365480"/>
                <a:gridCol w="1365120"/>
                <a:gridCol w="1365120"/>
              </a:tblGrid>
              <a:tr h="640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pat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b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52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b-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53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47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3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8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9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2.1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.2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2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49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quam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2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2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48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6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7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8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.7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.5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2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ession-Free and Overall Survi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cinski M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30(17):2055-6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31"/>
          <p:cNvSpPr/>
          <p:nvPr/>
        </p:nvSpPr>
        <p:spPr>
          <a:xfrm>
            <a:off x="914400" y="4413240"/>
            <a:ext cx="768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hese analyses revealed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a significant improvement in OS in North America (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= 0.008) and in patients aged ≥70 years (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= 0.009) with 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nab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-PC versus sb-P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914400" y="1486080"/>
          <a:ext cx="7365960" cy="2813040"/>
        </p:xfrm>
        <a:graphic>
          <a:graphicData uri="http://schemas.openxmlformats.org/drawingml/2006/table">
            <a:tbl>
              <a:tblPr/>
              <a:tblGrid>
                <a:gridCol w="2705040"/>
                <a:gridCol w="1689120"/>
                <a:gridCol w="1625760"/>
                <a:gridCol w="1346040"/>
              </a:tblGrid>
              <a:tr h="640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ts in North Ame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b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8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b-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8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33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.0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4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6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5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2.7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.8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6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34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ts aged ≥70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34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.0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8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6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9.9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.4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5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group Analyses of Survival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cinski M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30(17):2055-6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838080" y="1409760"/>
          <a:ext cx="7493040" cy="3603600"/>
        </p:xfrm>
        <a:graphic>
          <a:graphicData uri="http://schemas.openxmlformats.org/drawingml/2006/table">
            <a:tbl>
              <a:tblPr/>
              <a:tblGrid>
                <a:gridCol w="2603520"/>
                <a:gridCol w="1282680"/>
                <a:gridCol w="1228680"/>
                <a:gridCol w="1182960"/>
                <a:gridCol w="1195200"/>
              </a:tblGrid>
              <a:tr h="36036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b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PC (n = 51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b-PC (n = 52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60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eutropenia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Thrombocytopenia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0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nemia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lt;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ebrile neutr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lt;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lt;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lt;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0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atig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lt;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lt;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ensory neuropathy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lt;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0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yalgia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lt;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rthralgia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dverse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cinski M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30(17):2055-6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1"/>
          <p:cNvSpPr/>
          <p:nvPr/>
        </p:nvSpPr>
        <p:spPr>
          <a:xfrm>
            <a:off x="914400" y="5054760"/>
            <a:ext cx="72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&lt; 0.05 in favor of 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nab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-PC; 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† 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&lt; 0.05 in favor of sb-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7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The administration of 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nab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-PC as first-line therapy for patients with advanced NSCLC resulted in a significantly improved ORR versus sb-PC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ORR: 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nab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-PC (33%) vs sb-PC (25%); 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 = 0.005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An insignificant improvement was observed in favor of 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nab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-PC for PFS and OS, meeting the noninferiority criteria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Treatment with 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nab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-PC produced less severe neuropathy, myalgia and arthralgia compared to sb-P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The increased risk of thrombocytopenia and anemia in the 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nab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-PC arm was readily manageabl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Nab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-PC has a favorable risk-benefit profile compared to sb-PC as first-line therapy for all patients with advanced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cinski M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30(17):2055-6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8T20:29:42Z</dcterms:created>
  <dc:creator>Research To Practice</dc:creator>
  <dc:description/>
  <cp:keywords/>
  <dc:language>en-US</dc:language>
  <cp:lastModifiedBy>Silvana Izquierdo</cp:lastModifiedBy>
  <cp:lastPrinted>2013-03-06T20:38:39Z</cp:lastPrinted>
  <dcterms:modified xsi:type="dcterms:W3CDTF">2013-07-22T19:09:55Z</dcterms:modified>
  <cp:revision>661</cp:revision>
  <dc:subject/>
  <dc:title>Research To Practice</dc:title>
</cp:coreProperties>
</file>