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48E-8717-4167-A216-E83F90F2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420-41BC-4EDE-839C-94708A3E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77E-D520-4E55-9F42-D8E5860D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37C-FFC8-4685-91B3-1F615580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2A5C-45AF-4EE4-BB5E-24190386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7619-1C0B-45C0-A83B-4F5B8C0B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AC10-EC70-43E3-BF88-98F09EA2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DFBA-3BDF-4EAC-954C-BF6FC001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D2E6-DF34-4457-8941-BF571457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02CE-5B4D-4723-BE27-65FB8542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4610-9BF4-4D12-BF22-7043E508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1B5-34A9-47BE-8381-3AE1B0A6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A221-0B36-4834-B983-D502D643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DE4D-66AB-47AA-B5DE-8D7FF51E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485A-25CD-4262-B835-3AC90CA2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9DA3-BDE7-476C-A59D-E6B26F48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B8F9-1111-4E90-9FE3-ADDC5EA4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C14-477A-4A17-A32A-42C9A65C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81A0-949F-4F0D-9A82-8DC1EEC5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94EF-9BAA-455E-B3C6-FB6DF1AD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095F0-DB3A-48EF-A842-0DB93E52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A7B-2E9F-4E6F-B7E8-C783DDEB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443F-B241-415A-9FDC-9568DA29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3A4E-B3A3-417C-B14B-974F47F8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91F91-7F5A-4DE4-9E76-554A2F4E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C3B5A-51FB-4876-A469-83F0A160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EE72-9B10-44F7-AA8B-46F8F419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0299-DB57-4AEF-ADD7-CA9362C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C33D-14E0-4F33-AEE3-C50188FB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33EF-EAA0-4230-8294-6E37B61A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35FFA-954E-4343-A58A-6A261949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333-7CCA-4A0B-8A78-BE604DA8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E41-6E74-4A28-A619-5D3450E7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4F00F-40C4-4EB1-A339-6FDE1C24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10CB3-8C20-427B-A6D6-59273E83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0313F-037E-44AC-992B-C846A847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FC758-2328-4C66-AAAD-59A337D1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2573E-BE68-4F34-8685-88BD241D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CE233-3847-4578-AF5C-28DEB267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F4E84-4F12-4C38-8836-54F8E508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56D7-E476-48BA-B265-1320E3D8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0CE9D-3556-466A-B8E5-B8557BDB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0F1-B3C7-41AA-B8EB-E05D8A01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5748A-F664-4895-A703-C8FB99F1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21233-E836-435A-8E8F-AEE4D47F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3CC99-BEC1-45C0-9A68-ABB26A53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EFC-9AF4-46B9-8268-9DB19111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CCB-3E47-45A5-BB6E-4976C3DB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5A89F-4C68-413C-8409-7362BF0A18F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ABFBE-657D-453D-8DDE-15B108417A1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D1CED-B8BD-49FE-9D22-94D1A6289399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17E5E-21A1-4372-8810-F28AA4FB7F6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AC3EF-5CDC-400E-9EBB-375855BF46A4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0B57F-C035-4D36-8E9F-2458579007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797A5-E71D-456C-8B79-B1F5F1E98CD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7B00B-685B-4196-9EEC-6792654F7D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ase III Study of Afatinib or Cisplatin plus Pemetrexed in Patients with Metastatic Lung Adenocarcinoma with EGFR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quist LV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[Epub ahead of print]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ung cancer harboring EGFR mutations is highly sensitive to EGFR tyrosine kinase inhibitor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2;13:23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fatinib is a selective, oral, irreversible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inhibitor of the ErbB family with demonstrated efficacy in lung adenocarcinoma with EGFR mutation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2;13:53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isplatin/pemetrexed (CP) is effective and well tolerated as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rst-line therapy for advanced lung adenocarci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vestigate the efficacy and safety of afatinib compared to CP in EGFR mutation-positive advanced lung adenocarcinoma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914400" y="1689120"/>
          <a:ext cx="3460680" cy="1844640"/>
        </p:xfrm>
        <a:graphic>
          <a:graphicData uri="http://schemas.openxmlformats.org/drawingml/2006/table">
            <a:tbl>
              <a:tblPr/>
              <a:tblGrid>
                <a:gridCol w="3460680"/>
              </a:tblGrid>
              <a:tr h="3808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3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 or IV lung adenocarci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utation by central l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Treatment naï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0" name="Rectangle 31"/>
          <p:cNvSpPr/>
          <p:nvPr/>
        </p:nvSpPr>
        <p:spPr>
          <a:xfrm>
            <a:off x="914400" y="4100400"/>
            <a:ext cx="77724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scalated to 50 mg/d if limited toxicity in cycle 1; 10-mg decrements if 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 Grade 3 or prolonged Grade 2 tox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Progression-free survival (PFS) by independen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ere stratified by EGFR mutation type and race (Asian or n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X-Lung 3: Phase I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864400" y="1430280"/>
          <a:ext cx="2560320" cy="779400"/>
        </p:xfrm>
        <a:graphic>
          <a:graphicData uri="http://schemas.openxmlformats.org/drawingml/2006/table">
            <a:tbl>
              <a:tblPr/>
              <a:tblGrid>
                <a:gridCol w="2560320"/>
              </a:tblGrid>
              <a:tr h="779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fatinib (n = 2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40 mg/d PO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864400" y="2403360"/>
          <a:ext cx="2555640" cy="1354320"/>
        </p:xfrm>
        <a:graphic>
          <a:graphicData uri="http://schemas.openxmlformats.org/drawingml/2006/table">
            <a:tbl>
              <a:tblPr/>
              <a:tblGrid>
                <a:gridCol w="2555640"/>
              </a:tblGrid>
              <a:tr h="135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P (n = 1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, 75 mg/m</a:t>
                      </a:r>
                      <a:r>
                        <a:rPr b="0" lang="en-US" sz="1800" spc="-1" strike="noStrike" baseline="30000">
                          <a:solidFill>
                            <a:srgbClr val="333333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(I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, 500 mg/m</a:t>
                      </a:r>
                      <a:r>
                        <a:rPr b="0" lang="en-US" sz="1800" spc="-1" strike="noStrike" baseline="30000">
                          <a:solidFill>
                            <a:srgbClr val="333333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(I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Q3wk up to 6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4" name="Line 2"/>
          <p:cNvSpPr/>
          <p:nvPr/>
        </p:nvSpPr>
        <p:spPr>
          <a:xfrm>
            <a:off x="4381560" y="2460600"/>
            <a:ext cx="115560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5541840" y="1819080"/>
            <a:ext cx="322200" cy="655560"/>
            <a:chOff x="5541840" y="1819080"/>
            <a:chExt cx="322200" cy="655560"/>
          </a:xfrm>
        </p:grpSpPr>
        <p:sp>
          <p:nvSpPr>
            <p:cNvPr id="256" name="Line 14"/>
            <p:cNvSpPr/>
            <p:nvPr/>
          </p:nvSpPr>
          <p:spPr>
            <a:xfrm flipV="1">
              <a:off x="5541840" y="181908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5541840" y="181944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6"/>
          <p:cNvGrpSpPr/>
          <p:nvPr/>
        </p:nvGrpSpPr>
        <p:grpSpPr>
          <a:xfrm>
            <a:off x="5541840" y="2159640"/>
            <a:ext cx="322200" cy="914040"/>
            <a:chOff x="5541840" y="2159640"/>
            <a:chExt cx="322200" cy="914040"/>
          </a:xfrm>
        </p:grpSpPr>
        <p:sp>
          <p:nvSpPr>
            <p:cNvPr id="259" name="Line 17"/>
            <p:cNvSpPr/>
            <p:nvPr/>
          </p:nvSpPr>
          <p:spPr>
            <a:xfrm>
              <a:off x="5541840" y="2159640"/>
              <a:ext cx="0" cy="91404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5541840" y="307332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"/>
          <p:cNvSpPr/>
          <p:nvPr/>
        </p:nvSpPr>
        <p:spPr>
          <a:xfrm>
            <a:off x="4616280" y="2076480"/>
            <a:ext cx="731880" cy="7318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4535640" y="2889360"/>
            <a:ext cx="8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977760" y="1965240"/>
          <a:ext cx="7264440" cy="2316240"/>
        </p:xfrm>
        <a:graphic>
          <a:graphicData uri="http://schemas.openxmlformats.org/drawingml/2006/table">
            <a:tbl>
              <a:tblPr/>
              <a:tblGrid>
                <a:gridCol w="2337120"/>
                <a:gridCol w="1231560"/>
                <a:gridCol w="1231920"/>
                <a:gridCol w="1231920"/>
                <a:gridCol w="1231920"/>
              </a:tblGrid>
              <a:tr h="757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0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mutations (Del 19/L858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0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Endpoint: PFS by Independent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977760" y="1257480"/>
          <a:ext cx="7239240" cy="3168360"/>
        </p:xfrm>
        <a:graphic>
          <a:graphicData uri="http://schemas.openxmlformats.org/drawingml/2006/table">
            <a:tbl>
              <a:tblPr/>
              <a:tblGrid>
                <a:gridCol w="3441960"/>
                <a:gridCol w="2031840"/>
                <a:gridCol w="1765440"/>
              </a:tblGrid>
              <a:tr h="389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89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l patients (n = 3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3-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-Asian (n = 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sian (n = 2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9-1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8-0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1360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tion 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el 19/L858R (n = 3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el 19 (n = 1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858R (n = 1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4-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8-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6-1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: Subgroup Analysis by Independent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977760" y="4473720"/>
            <a:ext cx="7332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azard ratio &lt;1 favors afatini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FS favored afatinib independent of gender, age and ECOG performance status at base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685800" y="1844640"/>
          <a:ext cx="7670880" cy="1763640"/>
        </p:xfrm>
        <a:graphic>
          <a:graphicData uri="http://schemas.openxmlformats.org/drawingml/2006/table">
            <a:tbl>
              <a:tblPr/>
              <a:tblGrid>
                <a:gridCol w="2938320"/>
                <a:gridCol w="1616040"/>
                <a:gridCol w="1617840"/>
                <a:gridCol w="1498680"/>
              </a:tblGrid>
              <a:tr h="6976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32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sease control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 Response Rate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685800" y="3648240"/>
            <a:ext cx="73328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R = not re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duration of response: 11.5 mo (afatinib) vs 5.5 mo (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duration of disease control: 13.6 mo (afatinib) vs 8.1 mo (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977760" y="1257480"/>
          <a:ext cx="7264440" cy="4197240"/>
        </p:xfrm>
        <a:graphic>
          <a:graphicData uri="http://schemas.openxmlformats.org/drawingml/2006/table">
            <a:tbl>
              <a:tblPr/>
              <a:tblGrid>
                <a:gridCol w="2337120"/>
                <a:gridCol w="1231560"/>
                <a:gridCol w="1231920"/>
                <a:gridCol w="1231920"/>
                <a:gridCol w="1231920"/>
              </a:tblGrid>
              <a:tr h="3952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 (n = 2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 (n = 1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gr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≥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gr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≥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5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sh/ac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9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omatitis/mucos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2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ecreased appet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UX-Lung 3 is the largest prospective, randomized trial in advanced EGFR mutation-positive NSCLC and the first study to compare first-line EGFR-targeted tyrosine kinase inhibitor therapy with CP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study showed significant PFS and tumor response benefits with first-line afatinib compared to CP for patients with lung adenocarcinoma who have EGFR mutation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-reported outcomes favored afatinib, with better control of cough, dyspnea and pain (data not shown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fatinib was associated with manageable AEs, and discontinuation due to drug-related AEs was low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52Z</dcterms:created>
  <dc:creator>Research To Practice</dc:creator>
  <dc:description/>
  <cp:keywords/>
  <dc:language>en-US</dc:language>
  <cp:lastModifiedBy>Aura Herrmann</cp:lastModifiedBy>
  <cp:lastPrinted>2013-07-03T17:17:38Z</cp:lastPrinted>
  <dcterms:modified xsi:type="dcterms:W3CDTF">2013-07-22T20:58:23Z</dcterms:modified>
  <cp:revision>655</cp:revision>
  <dc:subject/>
  <dc:title>Research To Practice</dc:title>
</cp:coreProperties>
</file>