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2ED-ABCC-4287-9352-352BBD44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BDE-1BEA-4C9D-BDAC-E373AA4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DF5E-0F1D-42C8-9825-01C141E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C7A0-2D93-40E4-983E-C3762F91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94A8-F694-45E1-A093-BED353A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384C-3098-4EBD-B59F-ADFA9F4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9495-152B-44FE-91FF-79340E6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03D6-1147-4513-A841-7D4ADC6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EE64-0605-43D7-B5E6-C4CCF31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D8344-2E80-423E-8FFF-8FBF858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9A94-F52B-4306-8DCB-93862DE8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C67-B128-4801-8BB2-33889994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6E3-9C7D-48C1-A347-0351CCA1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FF3F-3DA5-4570-A9D3-D4A7E310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373-1274-46AA-B711-6E222238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C7D-F4A7-46C4-BBCE-58E2F24D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CA41-6937-4DF7-9CA1-1F1495E7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C9C-CAA9-490F-A0B8-F513453B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A233-6655-4988-B8F2-6BFF55BB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9A29-BEA3-4D67-8A7B-CFF6EF4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4AD-C69B-4DEB-9D71-03D02130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65C-D96D-4F30-B823-F1EFDC2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A732-31B6-43D6-98ED-FD36802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62B5-EC88-4BC5-A504-B51D25C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9800-C760-4EBE-94AE-3E8CF0E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EC1-CD05-479C-A90F-FDB9DC9A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9C6D-5ADA-43D5-B508-E9E39DAF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D224-779C-4DDE-91BF-7C65F18D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35ED-D0E2-4BE7-8765-713A5ED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4A0D-A2BA-4B88-A158-BCF67AA8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1EA2-2346-4223-8FB6-DC66C53C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D8D-B080-4ACB-B3B9-6537F00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65B2-7C7B-42A2-B0BD-CC1EDDC2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55B6-1AFE-43D7-A6D4-FE0E566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C5EF-2E06-40E0-BD89-452A945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C522-B7C1-40F2-ACE7-4C078B5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F5C3-CCF0-4815-824C-5F947C9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679E-34E3-4BD6-B79D-3D4740EF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BF81-1709-4F61-8B58-6D21C2D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0F1-E544-4FE0-88FC-574460B3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51FF-5010-448E-9F7D-47D63504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FE3-7B31-45CE-82EF-AD2CAFB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D977-25C6-42AA-8D03-469FB459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A687-36C3-4BE6-838A-15F9D37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D7EC-48EC-46E4-B9DE-F7001178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3483-1D2D-4BD4-8A0E-9F9E3580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5C08-5CBE-4B9B-94ED-BEBE6ED3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2FC6-9941-4B5B-8703-64685CAB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BF05-C9A5-46EB-B6B1-6BBB855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4A6D-12F5-4D5B-9B34-F59F02C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56E1-6ED4-465A-B0FB-C42E55F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1B35-322D-426C-BCEB-EC86F73A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6B1-4E5F-462B-ABC6-465F000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16FD-1131-4568-9F61-27D23FCC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5A-D155-4C19-8672-3E827D4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9301-12D3-4887-9B77-9FA2D9CE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FFEC-29BD-481F-A5A1-9502BD9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CAE0-66CE-41BC-A632-17F0653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DD4A-B92A-4DAB-895B-4339109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8F958-377A-4D1C-8CAE-7B6B793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23BAB-7829-4B4A-A4ED-010910D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F94A-E2E5-4139-97BE-AFD7628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C58-32D2-417C-80BE-9F2B868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D0E4-9055-469A-8AEF-C1DB535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E0057-1032-40A6-9E61-5D16775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49FA-D0DD-4408-BFD6-A7E7F6C1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D412-629A-4977-A655-23FA97BA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4C31-D75F-49DC-AD57-FDBEFE3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8C0-1FD0-4FC9-A784-1973DEE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FF96-D166-43FA-90F8-6C3DC12E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9356-00DC-499A-BD40-2BB366E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0C80-8DA9-4CA2-87FB-AC1DA8A3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37008-0CA5-471E-8072-449E1D81CC42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8AB8B-CC6C-49EF-883A-C0526734ED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03616-F3E0-4704-97F4-DDBA6F99F2A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D8B00-6D32-4FC4-8530-8F9278D17C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D5858-525C-43A9-AC6F-8044621291D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184D1-4BD6-4A38-888D-DF0A820B635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EF768-5144-496D-B79A-E947D855E3F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F7E38-16A2-45A4-AD75-44ABBB5358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E9044-3CF4-409F-8739-DE1A065E0CF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AADC2-D068-4910-88D4-17FFAA1B2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2ED8-2371-4583-8552-B13FB4A47B7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67E91-1887-4D79-827A-24546C89A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vity of Afatinib/Cetuximab in Patients (Pts) with EGFR Mutant Non-Small Cell Lung Cancer (NSCLC) and Acquired Resistance (AR) to EGFR Inhibit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Janjigian YY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1227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800" y="1185840"/>
            <a:ext cx="824400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quired resistance to reversible EGFR-specific tyrosine kinase inhibitors (TKIs) in EGFR-mutant NSCLC is associated with exon 20 EGFR T790M mutation in about 50% of cas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NA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09:E212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udies in T790M transgenic murine models showed that combined EFGR targeting with afatinib (A) and cetuximab (C) induced near-complete respons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 Clin Invest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09;119:3000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arly-phase clinical data suggested that the recommended dose combination for A/C is tolerable, with some activity in patients with acquired resistance to EGFR TKIs (ASCO 2011;Abstract 7525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safety and efficacy of A/C in patients with advanced NSCLC with acquired resistance to EGFR TKI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B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800" y="1172880"/>
            <a:ext cx="82440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EGFR-mutant advanced NSCLC with progressive disease on erlotinib or gefitinib within 30 days were includ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o date, n = 100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ere treated within a minimum of 3 days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: 40 mg/d (PO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: Biweekly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prior treatment with EGFR-targeting antibodies was allow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andatory tumor biopsy was conducted after acquire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istance to EGFR TKIs, prior to therapy with A/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Primary endpoints: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Objective response rate (ORR) and progression-free survival (PFS) with imaging at week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, 8 and 12 and then every 8 week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1"/>
          <p:cNvSpPr/>
          <p:nvPr/>
        </p:nvSpPr>
        <p:spPr>
          <a:xfrm>
            <a:off x="914400" y="3257640"/>
            <a:ext cx="7112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otal number of patients treated at maximum tolerated dose = 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duration of treatment: 4.7 months (range: 3-21+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14400" y="1608120"/>
          <a:ext cx="7277040" cy="1333440"/>
        </p:xfrm>
        <a:graphic>
          <a:graphicData uri="http://schemas.openxmlformats.org/drawingml/2006/table">
            <a:tbl>
              <a:tblPr/>
              <a:tblGrid>
                <a:gridCol w="4259160"/>
                <a:gridCol w="3017880"/>
              </a:tblGrid>
              <a:tr h="666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6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914400" y="1320840"/>
          <a:ext cx="7413480" cy="3506760"/>
        </p:xfrm>
        <a:graphic>
          <a:graphicData uri="http://schemas.openxmlformats.org/drawingml/2006/table">
            <a:tbl>
              <a:tblPr/>
              <a:tblGrid>
                <a:gridCol w="2502000"/>
                <a:gridCol w="1854000"/>
                <a:gridCol w="1797120"/>
                <a:gridCol w="12603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 mut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+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firmed 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08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uration of confirmed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3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linical benefit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6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evalu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914400" y="485316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 = partial response; clinical benefit rate = any PR +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914400" y="532296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 patients were EGFR wild type or with T790M status unkn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s by EGFR T790M Mutation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0"/>
          <p:cNvSpPr/>
          <p:nvPr/>
        </p:nvSpPr>
        <p:spPr>
          <a:xfrm>
            <a:off x="3691080" y="2741760"/>
            <a:ext cx="68040" cy="26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6"/>
          <p:cNvSpPr/>
          <p:nvPr/>
        </p:nvSpPr>
        <p:spPr>
          <a:xfrm>
            <a:off x="3089160" y="2757600"/>
            <a:ext cx="73080" cy="93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6"/>
          <p:cNvSpPr/>
          <p:nvPr/>
        </p:nvSpPr>
        <p:spPr>
          <a:xfrm>
            <a:off x="2954160" y="2755800"/>
            <a:ext cx="68400" cy="7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3"/>
          <p:cNvSpPr/>
          <p:nvPr/>
        </p:nvSpPr>
        <p:spPr>
          <a:xfrm>
            <a:off x="4548240" y="2751120"/>
            <a:ext cx="71280" cy="461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3"/>
          <p:cNvSpPr/>
          <p:nvPr/>
        </p:nvSpPr>
        <p:spPr>
          <a:xfrm>
            <a:off x="4019400" y="2752560"/>
            <a:ext cx="73080" cy="32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8"/>
          <p:cNvSpPr/>
          <p:nvPr/>
        </p:nvSpPr>
        <p:spPr>
          <a:xfrm>
            <a:off x="3757680" y="2744640"/>
            <a:ext cx="135000" cy="287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162"/>
          <p:cNvGrpSpPr/>
          <p:nvPr/>
        </p:nvGrpSpPr>
        <p:grpSpPr>
          <a:xfrm>
            <a:off x="1425600" y="1643040"/>
            <a:ext cx="6848280" cy="3524400"/>
            <a:chOff x="1425600" y="1643040"/>
            <a:chExt cx="6848280" cy="3524400"/>
          </a:xfrm>
        </p:grpSpPr>
        <p:sp>
          <p:nvSpPr>
            <p:cNvPr id="391" name="Freeform 7"/>
            <p:cNvSpPr/>
            <p:nvPr/>
          </p:nvSpPr>
          <p:spPr>
            <a:xfrm>
              <a:off x="1504800" y="1643040"/>
              <a:ext cx="6769080" cy="3434400"/>
            </a:xfrm>
            <a:custGeom>
              <a:avLst/>
              <a:gdLst>
                <a:gd name="textAreaLeft" fmla="*/ 0 w 6769080"/>
                <a:gd name="textAreaRight" fmla="*/ 6769440 w 6769080"/>
                <a:gd name="textAreaTop" fmla="*/ 0 h 3434400"/>
                <a:gd name="textAreaBottom" fmla="*/ 3434760 h 3434400"/>
              </a:gdLst>
              <a:ahLst/>
              <a:rect l="textAreaLeft" t="textAreaTop" r="textAreaRight" b="textAreaBottom"/>
              <a:pathLst>
                <a:path w="4264" h="2216">
                  <a:moveTo>
                    <a:pt x="0" y="0"/>
                  </a:moveTo>
                  <a:lnTo>
                    <a:pt x="0" y="2216"/>
                  </a:lnTo>
                  <a:lnTo>
                    <a:pt x="4264" y="221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8"/>
            <p:cNvSpPr/>
            <p:nvPr/>
          </p:nvSpPr>
          <p:spPr>
            <a:xfrm>
              <a:off x="1425600" y="16430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9"/>
            <p:cNvSpPr/>
            <p:nvPr/>
          </p:nvSpPr>
          <p:spPr>
            <a:xfrm>
              <a:off x="1425600" y="18583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0"/>
            <p:cNvSpPr/>
            <p:nvPr/>
          </p:nvSpPr>
          <p:spPr>
            <a:xfrm>
              <a:off x="1425600" y="20707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1"/>
            <p:cNvSpPr/>
            <p:nvPr/>
          </p:nvSpPr>
          <p:spPr>
            <a:xfrm>
              <a:off x="1425600" y="22878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2"/>
            <p:cNvSpPr/>
            <p:nvPr/>
          </p:nvSpPr>
          <p:spPr>
            <a:xfrm>
              <a:off x="1425600" y="25030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"/>
            <p:cNvSpPr/>
            <p:nvPr/>
          </p:nvSpPr>
          <p:spPr>
            <a:xfrm>
              <a:off x="1425600" y="27154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>
              <a:off x="1425600" y="29325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>
              <a:off x="1425600" y="31449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6"/>
            <p:cNvSpPr/>
            <p:nvPr/>
          </p:nvSpPr>
          <p:spPr>
            <a:xfrm>
              <a:off x="1425600" y="33602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1425600" y="35755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8"/>
            <p:cNvSpPr/>
            <p:nvPr/>
          </p:nvSpPr>
          <p:spPr>
            <a:xfrm>
              <a:off x="1425600" y="37879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1425600" y="40050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1425600" y="42174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1425600" y="44326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1425600" y="46497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1425600" y="48621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1425600" y="50774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15793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6"/>
            <p:cNvSpPr/>
            <p:nvPr/>
          </p:nvSpPr>
          <p:spPr>
            <a:xfrm flipV="1">
              <a:off x="1914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 flipV="1">
              <a:off x="22478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 flipV="1">
              <a:off x="25844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9"/>
            <p:cNvSpPr/>
            <p:nvPr/>
          </p:nvSpPr>
          <p:spPr>
            <a:xfrm flipV="1">
              <a:off x="29192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0"/>
            <p:cNvSpPr/>
            <p:nvPr/>
          </p:nvSpPr>
          <p:spPr>
            <a:xfrm flipV="1">
              <a:off x="32526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1"/>
            <p:cNvSpPr/>
            <p:nvPr/>
          </p:nvSpPr>
          <p:spPr>
            <a:xfrm flipV="1">
              <a:off x="35859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 flipV="1">
              <a:off x="39243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 flipV="1">
              <a:off x="42577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45910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5"/>
            <p:cNvSpPr/>
            <p:nvPr/>
          </p:nvSpPr>
          <p:spPr>
            <a:xfrm flipV="1">
              <a:off x="49258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 flipV="1">
              <a:off x="5262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55958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8"/>
            <p:cNvSpPr/>
            <p:nvPr/>
          </p:nvSpPr>
          <p:spPr>
            <a:xfrm flipV="1">
              <a:off x="59310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9"/>
            <p:cNvSpPr/>
            <p:nvPr/>
          </p:nvSpPr>
          <p:spPr>
            <a:xfrm flipV="1">
              <a:off x="62643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 flipV="1">
              <a:off x="66024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69357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2"/>
            <p:cNvSpPr/>
            <p:nvPr/>
          </p:nvSpPr>
          <p:spPr>
            <a:xfrm flipV="1">
              <a:off x="72691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3"/>
            <p:cNvSpPr/>
            <p:nvPr/>
          </p:nvSpPr>
          <p:spPr>
            <a:xfrm flipV="1">
              <a:off x="7602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4"/>
            <p:cNvSpPr/>
            <p:nvPr/>
          </p:nvSpPr>
          <p:spPr>
            <a:xfrm flipV="1">
              <a:off x="79376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45"/>
            <p:cNvSpPr/>
            <p:nvPr/>
          </p:nvSpPr>
          <p:spPr>
            <a:xfrm flipV="1">
              <a:off x="82738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47"/>
          <p:cNvSpPr/>
          <p:nvPr/>
        </p:nvSpPr>
        <p:spPr>
          <a:xfrm>
            <a:off x="1509840" y="2276640"/>
            <a:ext cx="684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1"/>
          <p:cNvSpPr/>
          <p:nvPr/>
        </p:nvSpPr>
        <p:spPr>
          <a:xfrm>
            <a:off x="7351560" y="2741760"/>
            <a:ext cx="66960" cy="1466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2"/>
          <p:cNvSpPr/>
          <p:nvPr/>
        </p:nvSpPr>
        <p:spPr>
          <a:xfrm>
            <a:off x="7832880" y="2741760"/>
            <a:ext cx="79200" cy="21985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1752480" y="2355840"/>
            <a:ext cx="68400" cy="385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2"/>
          <p:cNvSpPr/>
          <p:nvPr/>
        </p:nvSpPr>
        <p:spPr>
          <a:xfrm>
            <a:off x="1887480" y="2422440"/>
            <a:ext cx="68400" cy="319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3"/>
          <p:cNvSpPr/>
          <p:nvPr/>
        </p:nvSpPr>
        <p:spPr>
          <a:xfrm>
            <a:off x="1955880" y="2430360"/>
            <a:ext cx="63360" cy="311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4"/>
          <p:cNvSpPr/>
          <p:nvPr/>
        </p:nvSpPr>
        <p:spPr>
          <a:xfrm>
            <a:off x="2019240" y="2452680"/>
            <a:ext cx="66600" cy="289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5"/>
          <p:cNvSpPr/>
          <p:nvPr/>
        </p:nvSpPr>
        <p:spPr>
          <a:xfrm>
            <a:off x="2085840" y="2498760"/>
            <a:ext cx="68400" cy="2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6"/>
          <p:cNvSpPr/>
          <p:nvPr/>
        </p:nvSpPr>
        <p:spPr>
          <a:xfrm>
            <a:off x="2154240" y="2502000"/>
            <a:ext cx="66600" cy="239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7"/>
          <p:cNvSpPr/>
          <p:nvPr/>
        </p:nvSpPr>
        <p:spPr>
          <a:xfrm>
            <a:off x="2220840" y="2617920"/>
            <a:ext cx="63720" cy="123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8"/>
          <p:cNvSpPr/>
          <p:nvPr/>
        </p:nvSpPr>
        <p:spPr>
          <a:xfrm>
            <a:off x="2622600" y="2741760"/>
            <a:ext cx="68040" cy="4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9"/>
          <p:cNvSpPr/>
          <p:nvPr/>
        </p:nvSpPr>
        <p:spPr>
          <a:xfrm>
            <a:off x="2690640" y="2741760"/>
            <a:ext cx="66960" cy="4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0"/>
          <p:cNvSpPr/>
          <p:nvPr/>
        </p:nvSpPr>
        <p:spPr>
          <a:xfrm>
            <a:off x="2757600" y="2741760"/>
            <a:ext cx="63360" cy="48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4"/>
          <p:cNvSpPr/>
          <p:nvPr/>
        </p:nvSpPr>
        <p:spPr>
          <a:xfrm>
            <a:off x="3294000" y="2741760"/>
            <a:ext cx="63720" cy="153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5"/>
          <p:cNvSpPr/>
          <p:nvPr/>
        </p:nvSpPr>
        <p:spPr>
          <a:xfrm>
            <a:off x="3357720" y="2741760"/>
            <a:ext cx="68040" cy="198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8"/>
          <p:cNvSpPr/>
          <p:nvPr/>
        </p:nvSpPr>
        <p:spPr>
          <a:xfrm>
            <a:off x="3560760" y="2741760"/>
            <a:ext cx="63360" cy="252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9"/>
          <p:cNvSpPr/>
          <p:nvPr/>
        </p:nvSpPr>
        <p:spPr>
          <a:xfrm>
            <a:off x="3957480" y="2741760"/>
            <a:ext cx="68400" cy="31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1"/>
          <p:cNvSpPr/>
          <p:nvPr/>
        </p:nvSpPr>
        <p:spPr>
          <a:xfrm>
            <a:off x="4152960" y="2741760"/>
            <a:ext cx="66600" cy="3794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3"/>
          <p:cNvSpPr/>
          <p:nvPr/>
        </p:nvSpPr>
        <p:spPr>
          <a:xfrm>
            <a:off x="4486320" y="2741760"/>
            <a:ext cx="68040" cy="461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4"/>
          <p:cNvSpPr/>
          <p:nvPr/>
        </p:nvSpPr>
        <p:spPr>
          <a:xfrm>
            <a:off x="4951440" y="2741760"/>
            <a:ext cx="66600" cy="506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5"/>
          <p:cNvSpPr/>
          <p:nvPr/>
        </p:nvSpPr>
        <p:spPr>
          <a:xfrm>
            <a:off x="5086440" y="2741760"/>
            <a:ext cx="66600" cy="536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6"/>
          <p:cNvSpPr/>
          <p:nvPr/>
        </p:nvSpPr>
        <p:spPr>
          <a:xfrm>
            <a:off x="5218200" y="2741760"/>
            <a:ext cx="66600" cy="57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7"/>
          <p:cNvSpPr/>
          <p:nvPr/>
        </p:nvSpPr>
        <p:spPr>
          <a:xfrm>
            <a:off x="5284800" y="2741760"/>
            <a:ext cx="68400" cy="58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8"/>
          <p:cNvSpPr/>
          <p:nvPr/>
        </p:nvSpPr>
        <p:spPr>
          <a:xfrm>
            <a:off x="5419800" y="2741760"/>
            <a:ext cx="63360" cy="591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9"/>
          <p:cNvSpPr/>
          <p:nvPr/>
        </p:nvSpPr>
        <p:spPr>
          <a:xfrm>
            <a:off x="5483160" y="2741760"/>
            <a:ext cx="68400" cy="660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0"/>
          <p:cNvSpPr/>
          <p:nvPr/>
        </p:nvSpPr>
        <p:spPr>
          <a:xfrm>
            <a:off x="5686560" y="2741760"/>
            <a:ext cx="66600" cy="753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1"/>
          <p:cNvSpPr/>
          <p:nvPr/>
        </p:nvSpPr>
        <p:spPr>
          <a:xfrm>
            <a:off x="5952960" y="2741760"/>
            <a:ext cx="66960" cy="784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2"/>
          <p:cNvSpPr/>
          <p:nvPr/>
        </p:nvSpPr>
        <p:spPr>
          <a:xfrm>
            <a:off x="6019920" y="2741760"/>
            <a:ext cx="68040" cy="80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3"/>
          <p:cNvSpPr/>
          <p:nvPr/>
        </p:nvSpPr>
        <p:spPr>
          <a:xfrm>
            <a:off x="6620040" y="2741760"/>
            <a:ext cx="68040" cy="1056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4"/>
          <p:cNvSpPr/>
          <p:nvPr/>
        </p:nvSpPr>
        <p:spPr>
          <a:xfrm>
            <a:off x="6886440" y="2741760"/>
            <a:ext cx="66960" cy="1197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5"/>
          <p:cNvSpPr/>
          <p:nvPr/>
        </p:nvSpPr>
        <p:spPr>
          <a:xfrm>
            <a:off x="7021440" y="2741760"/>
            <a:ext cx="63720" cy="120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6"/>
          <p:cNvSpPr/>
          <p:nvPr/>
        </p:nvSpPr>
        <p:spPr>
          <a:xfrm>
            <a:off x="7288200" y="2741760"/>
            <a:ext cx="63360" cy="13921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7"/>
          <p:cNvSpPr/>
          <p:nvPr/>
        </p:nvSpPr>
        <p:spPr>
          <a:xfrm>
            <a:off x="7418520" y="2741760"/>
            <a:ext cx="68040" cy="1488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8"/>
          <p:cNvSpPr/>
          <p:nvPr/>
        </p:nvSpPr>
        <p:spPr>
          <a:xfrm>
            <a:off x="7621560" y="2741760"/>
            <a:ext cx="63360" cy="1593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9"/>
          <p:cNvSpPr/>
          <p:nvPr/>
        </p:nvSpPr>
        <p:spPr>
          <a:xfrm>
            <a:off x="7756560" y="2741760"/>
            <a:ext cx="76320" cy="2039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3"/>
          <p:cNvSpPr/>
          <p:nvPr/>
        </p:nvSpPr>
        <p:spPr>
          <a:xfrm>
            <a:off x="5753160" y="2741760"/>
            <a:ext cx="65160" cy="772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4"/>
          <p:cNvSpPr/>
          <p:nvPr/>
        </p:nvSpPr>
        <p:spPr>
          <a:xfrm>
            <a:off x="5818320" y="2741760"/>
            <a:ext cx="66600" cy="776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35"/>
          <p:cNvSpPr/>
          <p:nvPr/>
        </p:nvSpPr>
        <p:spPr>
          <a:xfrm>
            <a:off x="2889360" y="2741760"/>
            <a:ext cx="66600" cy="79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6"/>
          <p:cNvSpPr/>
          <p:nvPr/>
        </p:nvSpPr>
        <p:spPr>
          <a:xfrm>
            <a:off x="3021120" y="2741760"/>
            <a:ext cx="66600" cy="93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620720" y="1755720"/>
            <a:ext cx="63720" cy="986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684440" y="2317680"/>
            <a:ext cx="68040" cy="42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820880" y="2397240"/>
            <a:ext cx="66600" cy="344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2820960" y="2741760"/>
            <a:ext cx="6840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2"/>
          <p:cNvSpPr/>
          <p:nvPr/>
        </p:nvSpPr>
        <p:spPr>
          <a:xfrm>
            <a:off x="3159000" y="2741760"/>
            <a:ext cx="66960" cy="131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3"/>
          <p:cNvSpPr/>
          <p:nvPr/>
        </p:nvSpPr>
        <p:spPr>
          <a:xfrm>
            <a:off x="3225960" y="2741760"/>
            <a:ext cx="68040" cy="131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6"/>
          <p:cNvSpPr/>
          <p:nvPr/>
        </p:nvSpPr>
        <p:spPr>
          <a:xfrm>
            <a:off x="3425760" y="2741760"/>
            <a:ext cx="666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7"/>
          <p:cNvSpPr/>
          <p:nvPr/>
        </p:nvSpPr>
        <p:spPr>
          <a:xfrm>
            <a:off x="3492360" y="2741760"/>
            <a:ext cx="684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9"/>
          <p:cNvSpPr/>
          <p:nvPr/>
        </p:nvSpPr>
        <p:spPr>
          <a:xfrm>
            <a:off x="3624120" y="2741760"/>
            <a:ext cx="66960" cy="258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1"/>
          <p:cNvSpPr/>
          <p:nvPr/>
        </p:nvSpPr>
        <p:spPr>
          <a:xfrm>
            <a:off x="3825720" y="2741760"/>
            <a:ext cx="68400" cy="29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2"/>
          <p:cNvSpPr/>
          <p:nvPr/>
        </p:nvSpPr>
        <p:spPr>
          <a:xfrm>
            <a:off x="3894120" y="2741760"/>
            <a:ext cx="63360" cy="29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3"/>
          <p:cNvSpPr/>
          <p:nvPr/>
        </p:nvSpPr>
        <p:spPr>
          <a:xfrm>
            <a:off x="4084560" y="2741760"/>
            <a:ext cx="6840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4"/>
          <p:cNvSpPr/>
          <p:nvPr/>
        </p:nvSpPr>
        <p:spPr>
          <a:xfrm>
            <a:off x="4219560" y="2741760"/>
            <a:ext cx="6336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5"/>
          <p:cNvSpPr/>
          <p:nvPr/>
        </p:nvSpPr>
        <p:spPr>
          <a:xfrm>
            <a:off x="4282920" y="2741760"/>
            <a:ext cx="68400" cy="409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6"/>
          <p:cNvSpPr/>
          <p:nvPr/>
        </p:nvSpPr>
        <p:spPr>
          <a:xfrm>
            <a:off x="4351320" y="2741760"/>
            <a:ext cx="6660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7"/>
          <p:cNvSpPr/>
          <p:nvPr/>
        </p:nvSpPr>
        <p:spPr>
          <a:xfrm>
            <a:off x="4417920" y="2741760"/>
            <a:ext cx="68400" cy="434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8"/>
          <p:cNvSpPr/>
          <p:nvPr/>
        </p:nvSpPr>
        <p:spPr>
          <a:xfrm>
            <a:off x="4618080" y="2741760"/>
            <a:ext cx="66600" cy="47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9"/>
          <p:cNvSpPr/>
          <p:nvPr/>
        </p:nvSpPr>
        <p:spPr>
          <a:xfrm>
            <a:off x="4684680" y="2741760"/>
            <a:ext cx="68400" cy="47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0"/>
          <p:cNvSpPr/>
          <p:nvPr/>
        </p:nvSpPr>
        <p:spPr>
          <a:xfrm>
            <a:off x="4753080" y="2741760"/>
            <a:ext cx="66600" cy="48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1"/>
          <p:cNvSpPr/>
          <p:nvPr/>
        </p:nvSpPr>
        <p:spPr>
          <a:xfrm>
            <a:off x="4819680" y="2741760"/>
            <a:ext cx="63360" cy="49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2"/>
          <p:cNvSpPr/>
          <p:nvPr/>
        </p:nvSpPr>
        <p:spPr>
          <a:xfrm>
            <a:off x="4883040" y="2741760"/>
            <a:ext cx="68400" cy="498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3"/>
          <p:cNvSpPr/>
          <p:nvPr/>
        </p:nvSpPr>
        <p:spPr>
          <a:xfrm>
            <a:off x="5018040" y="2741760"/>
            <a:ext cx="68400" cy="51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4"/>
          <p:cNvSpPr/>
          <p:nvPr/>
        </p:nvSpPr>
        <p:spPr>
          <a:xfrm>
            <a:off x="5153040" y="2741760"/>
            <a:ext cx="65160" cy="57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5"/>
          <p:cNvSpPr/>
          <p:nvPr/>
        </p:nvSpPr>
        <p:spPr>
          <a:xfrm>
            <a:off x="5353200" y="2741760"/>
            <a:ext cx="66600" cy="588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6"/>
          <p:cNvSpPr/>
          <p:nvPr/>
        </p:nvSpPr>
        <p:spPr>
          <a:xfrm>
            <a:off x="5551560" y="2741760"/>
            <a:ext cx="66600" cy="704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7"/>
          <p:cNvSpPr/>
          <p:nvPr/>
        </p:nvSpPr>
        <p:spPr>
          <a:xfrm>
            <a:off x="5618160" y="2741760"/>
            <a:ext cx="68400" cy="715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8"/>
          <p:cNvSpPr/>
          <p:nvPr/>
        </p:nvSpPr>
        <p:spPr>
          <a:xfrm>
            <a:off x="5884920" y="2741760"/>
            <a:ext cx="68040" cy="780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9"/>
          <p:cNvSpPr/>
          <p:nvPr/>
        </p:nvSpPr>
        <p:spPr>
          <a:xfrm>
            <a:off x="6087960" y="2741760"/>
            <a:ext cx="6372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0"/>
          <p:cNvSpPr/>
          <p:nvPr/>
        </p:nvSpPr>
        <p:spPr>
          <a:xfrm>
            <a:off x="6151680" y="2741760"/>
            <a:ext cx="66600" cy="8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1"/>
          <p:cNvSpPr/>
          <p:nvPr/>
        </p:nvSpPr>
        <p:spPr>
          <a:xfrm>
            <a:off x="6218280" y="2741760"/>
            <a:ext cx="68400" cy="86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2"/>
          <p:cNvSpPr/>
          <p:nvPr/>
        </p:nvSpPr>
        <p:spPr>
          <a:xfrm>
            <a:off x="6286680" y="2741760"/>
            <a:ext cx="66600" cy="880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3"/>
          <p:cNvSpPr/>
          <p:nvPr/>
        </p:nvSpPr>
        <p:spPr>
          <a:xfrm>
            <a:off x="6353280" y="2741760"/>
            <a:ext cx="65160" cy="88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4"/>
          <p:cNvSpPr/>
          <p:nvPr/>
        </p:nvSpPr>
        <p:spPr>
          <a:xfrm>
            <a:off x="6418440" y="2741760"/>
            <a:ext cx="66600" cy="896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6485040" y="2741760"/>
            <a:ext cx="68040" cy="938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6"/>
          <p:cNvSpPr/>
          <p:nvPr/>
        </p:nvSpPr>
        <p:spPr>
          <a:xfrm>
            <a:off x="6553080" y="2741760"/>
            <a:ext cx="66960" cy="98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7"/>
          <p:cNvSpPr/>
          <p:nvPr/>
        </p:nvSpPr>
        <p:spPr>
          <a:xfrm>
            <a:off x="6688080" y="2741760"/>
            <a:ext cx="63720" cy="1174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8"/>
          <p:cNvSpPr/>
          <p:nvPr/>
        </p:nvSpPr>
        <p:spPr>
          <a:xfrm>
            <a:off x="6751800" y="2741760"/>
            <a:ext cx="66600" cy="1185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9"/>
          <p:cNvSpPr/>
          <p:nvPr/>
        </p:nvSpPr>
        <p:spPr>
          <a:xfrm>
            <a:off x="6818400" y="2741760"/>
            <a:ext cx="68040" cy="1191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0"/>
          <p:cNvSpPr/>
          <p:nvPr/>
        </p:nvSpPr>
        <p:spPr>
          <a:xfrm>
            <a:off x="6953400" y="2741760"/>
            <a:ext cx="68040" cy="119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1"/>
          <p:cNvSpPr/>
          <p:nvPr/>
        </p:nvSpPr>
        <p:spPr>
          <a:xfrm>
            <a:off x="7085160" y="2741760"/>
            <a:ext cx="68040" cy="128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2"/>
          <p:cNvSpPr/>
          <p:nvPr/>
        </p:nvSpPr>
        <p:spPr>
          <a:xfrm>
            <a:off x="7153200" y="2741760"/>
            <a:ext cx="66600" cy="1293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3"/>
          <p:cNvSpPr/>
          <p:nvPr/>
        </p:nvSpPr>
        <p:spPr>
          <a:xfrm>
            <a:off x="7219800" y="2741760"/>
            <a:ext cx="68400" cy="1328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4"/>
          <p:cNvSpPr/>
          <p:nvPr/>
        </p:nvSpPr>
        <p:spPr>
          <a:xfrm>
            <a:off x="7486560" y="2741760"/>
            <a:ext cx="66600" cy="152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5"/>
          <p:cNvSpPr/>
          <p:nvPr/>
        </p:nvSpPr>
        <p:spPr>
          <a:xfrm>
            <a:off x="7553160" y="2741760"/>
            <a:ext cx="684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6"/>
          <p:cNvSpPr/>
          <p:nvPr/>
        </p:nvSpPr>
        <p:spPr>
          <a:xfrm>
            <a:off x="7684920" y="2741760"/>
            <a:ext cx="76320" cy="171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7"/>
          <p:cNvSpPr/>
          <p:nvPr/>
        </p:nvSpPr>
        <p:spPr>
          <a:xfrm>
            <a:off x="7910640" y="2741760"/>
            <a:ext cx="79200" cy="219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7"/>
          <p:cNvSpPr/>
          <p:nvPr/>
        </p:nvSpPr>
        <p:spPr>
          <a:xfrm>
            <a:off x="2284560" y="2693880"/>
            <a:ext cx="68040" cy="47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38"/>
          <p:cNvSpPr/>
          <p:nvPr/>
        </p:nvSpPr>
        <p:spPr>
          <a:xfrm>
            <a:off x="1512720" y="2741760"/>
            <a:ext cx="684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87"/>
          <p:cNvSpPr/>
          <p:nvPr/>
        </p:nvSpPr>
        <p:spPr>
          <a:xfrm>
            <a:off x="880560" y="1484280"/>
            <a:ext cx="57708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88"/>
          <p:cNvSpPr/>
          <p:nvPr/>
        </p:nvSpPr>
        <p:spPr>
          <a:xfrm>
            <a:off x="1446120" y="5137200"/>
            <a:ext cx="726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2680"/>
                <a:tab algn="ctr" pos="714240"/>
                <a:tab algn="ctr" pos="1052640"/>
                <a:tab algn="ctr" pos="1384200"/>
                <a:tab algn="ctr" pos="1722600"/>
                <a:tab algn="ctr" pos="2054160"/>
                <a:tab algn="ctr" pos="2392200"/>
                <a:tab algn="ctr" pos="2724120"/>
                <a:tab algn="ctr" pos="3056040"/>
                <a:tab algn="ctr" pos="3394080"/>
                <a:tab algn="ctr" pos="3726000"/>
                <a:tab algn="ctr" pos="4064040"/>
                <a:tab algn="ctr" pos="4397400"/>
                <a:tab algn="ctr" pos="4729320"/>
                <a:tab algn="ctr" pos="5067360"/>
                <a:tab algn="ctr" pos="5411880"/>
                <a:tab algn="ctr" pos="5737320"/>
                <a:tab algn="ctr" pos="6075360"/>
                <a:tab algn="ctr" pos="6407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89"/>
          <p:cNvSpPr/>
          <p:nvPr/>
        </p:nvSpPr>
        <p:spPr>
          <a:xfrm>
            <a:off x="8039520" y="5137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382680"/>
                <a:tab algn="ctr" pos="714240"/>
                <a:tab algn="ctr" pos="1052640"/>
                <a:tab algn="ctr" pos="1384200"/>
                <a:tab algn="ctr" pos="1722600"/>
                <a:tab algn="ctr" pos="2054160"/>
                <a:tab algn="ctr" pos="2392200"/>
                <a:tab algn="ctr" pos="2724120"/>
                <a:tab algn="ctr" pos="3056040"/>
                <a:tab algn="ctr" pos="3394080"/>
                <a:tab algn="ctr" pos="3726000"/>
                <a:tab algn="ctr" pos="4064040"/>
                <a:tab algn="ctr" pos="4397400"/>
                <a:tab algn="ctr" pos="4729320"/>
                <a:tab algn="ctr" pos="5067360"/>
                <a:tab algn="ctr" pos="5411880"/>
                <a:tab algn="ctr" pos="5737320"/>
                <a:tab algn="ctr" pos="6075360"/>
                <a:tab algn="ctr" pos="6407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90"/>
          <p:cNvSpPr/>
          <p:nvPr/>
        </p:nvSpPr>
        <p:spPr>
          <a:xfrm>
            <a:off x="2901240" y="5381640"/>
            <a:ext cx="40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Patient index sorted by maximum %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91"/>
          <p:cNvSpPr/>
          <p:nvPr/>
        </p:nvSpPr>
        <p:spPr>
          <a:xfrm rot="16200000">
            <a:off x="-726480" y="3098880"/>
            <a:ext cx="287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Maximum percentage decreas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baselin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2"/>
          <p:cNvSpPr/>
          <p:nvPr/>
        </p:nvSpPr>
        <p:spPr>
          <a:xfrm>
            <a:off x="2234520" y="170496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T790M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93"/>
          <p:cNvSpPr/>
          <p:nvPr/>
        </p:nvSpPr>
        <p:spPr>
          <a:xfrm>
            <a:off x="3443400" y="17049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T790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94"/>
          <p:cNvSpPr/>
          <p:nvPr/>
        </p:nvSpPr>
        <p:spPr>
          <a:xfrm>
            <a:off x="4614480" y="170496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EGFR 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95"/>
          <p:cNvSpPr/>
          <p:nvPr/>
        </p:nvSpPr>
        <p:spPr>
          <a:xfrm>
            <a:off x="6058080" y="170496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Uninformative for T79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6"/>
          <p:cNvSpPr/>
          <p:nvPr/>
        </p:nvSpPr>
        <p:spPr>
          <a:xfrm>
            <a:off x="2138400" y="1785960"/>
            <a:ext cx="142920" cy="14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97"/>
          <p:cNvSpPr/>
          <p:nvPr/>
        </p:nvSpPr>
        <p:spPr>
          <a:xfrm>
            <a:off x="3352680" y="1785960"/>
            <a:ext cx="142920" cy="142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98"/>
          <p:cNvSpPr/>
          <p:nvPr/>
        </p:nvSpPr>
        <p:spPr>
          <a:xfrm>
            <a:off x="4513320" y="1785960"/>
            <a:ext cx="14292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9"/>
          <p:cNvSpPr/>
          <p:nvPr/>
        </p:nvSpPr>
        <p:spPr>
          <a:xfrm>
            <a:off x="5961240" y="1785960"/>
            <a:ext cx="14256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6"/>
          <p:cNvSpPr/>
          <p:nvPr/>
        </p:nvSpPr>
        <p:spPr>
          <a:xfrm>
            <a:off x="1512720" y="3357720"/>
            <a:ext cx="684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046920"/>
            <a:ext cx="86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914400" y="1486080"/>
          <a:ext cx="7162920" cy="348912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421920">
                <a:tc>
                  <a:txBody>
                    <a:bodyPr lIns="90000" rIns="900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s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ash/ac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e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il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914400" y="502920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eatment discontinuation due to: disease progression (n = 63); adverse events (n = 19); other reasons (n =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42800" y="1172880"/>
            <a:ext cx="810432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demonstrated a confirmed response rate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0% in patients with heavily pretreated T790M-posit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d nega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5% of the patients experienced partial response/stabl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isease with a median duration of response of 8 month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are ongoing efforts to elucidate the mechanisms underlying tumor regression and eventual diseas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ogression on combination therapy with afatinib and cetuxima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bination therapy with afatinib and cetuximab should undergo further evalu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16:39Z</cp:lastPrinted>
  <dcterms:modified xsi:type="dcterms:W3CDTF">2013-07-22T18:59:39Z</dcterms:modified>
  <cp:revision>634</cp:revision>
  <dc:subject/>
  <dc:title>Research To Practice</dc:title>
</cp:coreProperties>
</file>