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158-0D48-4FCA-8FB1-2DA47339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C5D-C377-4A3A-A0E1-201372CB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28831-616B-468E-AFF5-6B6200C3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6F72-E265-4229-B7A6-584AA0A4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0ED5C-B85C-4EA1-BE4F-755D6CD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5B44F-6E7D-40D1-A5BB-79DC32A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69D6-A518-4EAB-B2C5-EAA7DF68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E063-B0D4-4D46-B43A-B4E663FB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CD8DD-D2DE-498D-96C3-26E2E6F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1309-379F-4F27-A26B-10701749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BEA8-0C17-4F2E-8D31-F3B027F3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F36-C5CA-4FB0-BF95-2612AEDD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548-C0A0-4524-8ED0-B8E09EB7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BE8E-FD97-4BB4-9876-851066CD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C0A2-B918-463B-A0CE-0E0B7DF7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BE47-0A4E-4011-84FF-E646A38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2729-14EC-43E7-A83B-D13956D6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160C-910B-4A53-A4BC-B25004D2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10A4-0B6D-4C11-8993-2CD4F0D6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9BDC-506D-434D-BA0F-9A1B9E6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1DC-41E7-4904-8F31-3039EFED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DD9A-58EB-4075-AEB2-D0E9D35C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252D-7E20-4D34-81AA-E339766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239D-7817-4FC8-8CDC-70194CC5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36B2-2105-44D4-9279-85D2E8A5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1B76-A3DA-4ECA-9E4E-08A5569D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E305-CD7B-4A50-9BBA-76A7FA5F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D847-31EE-4CFE-AD4D-254219F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9787-766C-4AFC-B83D-22042AB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D703-20D6-43F0-A4B1-C645CDB1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1DC8-803C-4FF1-A286-BF83C30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D43-8CC7-4450-A09F-48D663E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E6FD-BB6C-4C37-ADAD-7DB023E6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E5D5-B31C-455A-B825-7DA75AA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5138-85EE-446E-816A-E74274D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2BAB-C75D-488A-AC3D-2D829F4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4909-07C3-404A-9C1D-1F694FD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E2DD-20C9-46B7-BC42-5F18E42B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8A06-322E-415E-B5DB-C38E1716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ADC-328E-493E-A768-1AA4A76A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0319-C586-4DEF-8D81-20BFA1A6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402-C946-4FB9-AFC5-8466F23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5E08-DD09-4CEA-8CC8-699DC6B5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DB48-5028-4530-A655-79082D68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8EFE-7670-4FC3-898C-2DD151F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6A40-A5C5-412E-AC9F-63093C8F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9D0B-083C-4267-A226-EBE624A2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6DD1-3BFE-4C86-96AB-346131E9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FA145-A9C2-498C-9D7B-190D16D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E184-A678-4E48-A561-65B2FD8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7FE8-9E71-45FF-A004-703A2AF7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C11E-F747-452D-83E0-67B2FC7B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82A-FA42-4427-95E0-DE6EA00A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A729F-1485-426E-BD2A-BA39CEDD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302-B272-4D84-BD01-674164DD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FDDDC-4AF2-429D-A368-73D6B7CA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35B2-64B4-4979-BF6C-7A303D3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F46B2-580D-43CB-A82A-7D581737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A2DB-5E34-4B81-BB00-857135D6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7E07-9C01-4956-8DD4-03DA13D5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B644-9480-4716-A147-B4D9DE6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4FB3-2157-43BA-A3C7-EF79A49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37C-0212-461A-BAB6-C8F0CE6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B1A4-A5BE-478A-B316-367D88F6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EA3DF-D7BD-49F7-ADFB-9B70798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ADD0-A944-425C-A241-E592845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891AB-B4F3-4AD8-9C76-DBA5F7C9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BF204-1C30-49F0-B9DD-BABA6D38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C00-5E60-4F8B-BFC9-4DD7CAC9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377B-A5F1-43F8-900C-B061E2C5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8388A-7425-40A3-8D01-6C4A57AA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2E68-3C8E-4D55-90BF-CDF85406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8E5A6-92BC-4CCC-AA18-E2E9D7AB7DE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14564-E0DA-4FAB-81D6-1B7942B21F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3C3B9-C016-4461-820F-1D7518F7F2D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ACF62-1AC6-4BE4-BE52-0F98FA99A32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DB698-0B7A-4D1A-862B-7A39E75B6C8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8154E-3330-449B-B7EC-86A48AFF4C7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88A02-8A9D-4C76-93F2-BE30470F454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74B6A-1B97-466C-9D56-80B5007A38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7DB8A-B5E4-4942-AEBE-8E4AFE3D568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3D3C5-52EB-4BD1-B51B-F3885D64C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1DCD2-EE68-4E95-865E-0041EDEFC45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3B8E3-5DE7-4580-B00B-CFA4D7DE2D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7012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metrexed-Based Chemotherapy in Patients with Advanced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K-Positive Non-Small Cel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An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24(1):59-6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Anaplastic lymphoma kinase (ALK) gene rearrangements define one of the newest molecular subsets of non-small cell lung cancer (NSCLC) and are detected in 3% to 5% of patients with NSCLC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Patients with ALK-positive (ALK+), advanced NSCLC are responsive (overall response rate: 56%, median progression-free survival [PFS]: 10 months) to the dual ALK/MET tyrosine kinase inhibitor (TKI) crizotinib (</a:t>
            </a: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NEJM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 2010;363:1693)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Crizotinib has become a standard treatment for ALK+, advanced NSCLC. 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At some point, the disease will progress and patients will receive a standard chemotherapuetic agent.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Two retrospective studies suggested that ALK+ NSCLC may be responsive to pemetrexed (Pem) (</a:t>
            </a: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J Thorac Oncol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2011;6:1474; </a:t>
            </a:r>
            <a:br>
              <a:rPr sz="1700"/>
            </a:b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J Thorac Oncol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2011;6:774)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Current study objective: 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Determine whether advanced ALK+ NSCLC is sensitive to Pem in a multicenter retrospective study.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9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with ALK+ NSCLC were enrolled from 5 international cancer centers (n =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2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ith ALK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negative (ALK-) NSCLC were enrolled from Massachusetts General Hospital (n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= 266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l patients had biopsy-proven EGFR mutation-negative, advanced NSCLC and had received a Pem-based regime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LK status was determined using the standard break-apart FISH assa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09;27:424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LK- cases were tested for mutations in EGFR, K-ras and other cancer-related genes using SNaPsho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FS was measured from day 1 of Pem until either radiologic/clinical disease progression or death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876240" y="1384200"/>
          <a:ext cx="7556400" cy="4129200"/>
        </p:xfrm>
        <a:graphic>
          <a:graphicData uri="http://schemas.openxmlformats.org/drawingml/2006/table">
            <a:tbl>
              <a:tblPr/>
              <a:tblGrid>
                <a:gridCol w="3733920"/>
                <a:gridCol w="1371600"/>
                <a:gridCol w="1434960"/>
                <a:gridCol w="1015920"/>
              </a:tblGrid>
              <a:tr h="3747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/WT/W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-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85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any lin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0, 112, 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first lin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56, 104, 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5 m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platinum/Pem or single-agent Pem, any line (n = 51, 75, 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ingle-agent Pem, second/third line (n = 31, 39, 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: ALK+ versus ALK- NSCL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876240" y="2705040"/>
            <a:ext cx="7556400" cy="939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914400" y="1486080"/>
          <a:ext cx="7416720" cy="3047760"/>
        </p:xfrm>
        <a:graphic>
          <a:graphicData uri="http://schemas.openxmlformats.org/drawingml/2006/table">
            <a:tbl>
              <a:tblPr/>
              <a:tblGrid>
                <a:gridCol w="3797280"/>
                <a:gridCol w="1181160"/>
                <a:gridCol w="1257120"/>
                <a:gridCol w="1181160"/>
              </a:tblGrid>
              <a:tr h="560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/W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6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any line (n = 64, 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first line (n = 53,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platinum/Pem or SA Pem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line (n = 44, 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A Pem, any line (n = 30, 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for Patients with Never/Light Smoking History: ALK+ vs 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EGFR WT (WT/W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/>
          <p:cNvSpPr/>
          <p:nvPr/>
        </p:nvSpPr>
        <p:spPr>
          <a:xfrm>
            <a:off x="914400" y="4649760"/>
            <a:ext cx="75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elative to other never/light smokers, patients with ALK+ NSCLC do not have a prolonged PFS when treated with Pem-based chemo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multicenter study is the largest retrospective analysis of patients with advanced ALK+ and ALK- NSCLC treated with Pem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do not have a longer PFS on Pem-based chemotherapy, except perhaps in the setting of first-line platinum/Pem combin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difference in PFS between patients with ALK+ and ALK- disease treated with nonplatinum/Pem combinations or single-agent Pem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t is unlikely that Pem-based chemotherapy will be equivalent in efficacy to crizotini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wo ongoing Phase III trials will compare crizotinib to Pem-based chemotherapy in the first-line and second-line setting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00:25:42Z</dcterms:created>
  <dc:creator>Research To Practice</dc:creator>
  <dc:description/>
  <cp:keywords/>
  <dc:language>en-US</dc:language>
  <cp:lastModifiedBy>Silvana Izquierdo</cp:lastModifiedBy>
  <cp:lastPrinted>2013-05-10T00:29:30Z</cp:lastPrinted>
  <dcterms:modified xsi:type="dcterms:W3CDTF">2013-07-22T18:55:05Z</dcterms:modified>
  <cp:revision>645</cp:revision>
  <dc:subject/>
  <dc:title>Research To Practice</dc:title>
</cp:coreProperties>
</file>