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4464-50D7-45A0-8EE2-5BCF44BF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69EE-ABA6-498D-89D2-440020C9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F3768-0621-4013-8407-BB0F0201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D4657-6D9A-4679-A092-20930BF4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7BE7A-9048-43D7-8C6F-71F3C620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8A2CF-6CE3-4CEA-8226-14EF0654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AB66B-DFD3-4F2B-9137-4E6D2BA9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7F446-822E-43EA-ABE9-ED29C4C9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0CA4B-D3EB-469B-9C55-4CC8CE6D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5D2BB-0A9B-4455-B776-1D68ED71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7CEB6-301E-4102-80F2-9BB505C4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230D-B800-41B2-8D4B-9D1848B7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13BB-2ACD-4821-A772-40B8451FA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7038-3571-4014-9C76-7FD8F696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73C1-9F2E-4A1A-B4DA-E0055415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BED8-52D1-4A0D-B6B7-34D5DAC1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AD47-ADE7-4C04-B58F-9B36A7CF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60FF-05DF-46FB-951C-E5BA2D26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6717-2761-4309-932A-9D770D51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CC28-440E-4FA0-9344-782A4B18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44B4-955F-49BE-B817-49F5BB15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88C7-7CA8-44B3-AE4F-EFE05B3A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EF84-87F9-4973-BABC-B194D410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D1B6-9A96-4DEE-9FEF-4A02AD04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12F9-5DB0-42D7-BD8B-0EB7132CF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03C4-9DD4-4E2C-82B6-4A0FC10B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0E1DB-A8C0-42FB-9E4B-F0B99C68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63FA1-663A-4C39-B738-67AAF62A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153C6-A10E-4E3E-82F1-81374968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D2354-2526-432D-AF20-41D39644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C8278-96DF-4CD7-93B8-82897364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0087-0C53-4E14-B844-6CFAE823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5D31F-BB73-4A8B-B818-52470998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68222-8F9B-44BA-A8CA-AF32A767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C5875-8E91-4E78-B777-E79F165F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FEC32-3208-4EBC-AFED-63AC1009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2AE9A-E1FE-4634-8CEE-820A7097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9BE1D-DA06-4917-85A0-4C00F4C4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BD136-0896-420B-921A-77E40840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0F8A-3EF4-41AB-9801-7016A3CD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2E00F-B8C2-4912-BEE9-64959FE4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F70A-20AD-4718-B47F-2B2E1175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8913E-31B6-40B6-ABD9-3B8D5311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EA9C3-EE4A-4C81-B881-8893E827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EAB75-FE25-4D6F-9F8E-B62726E0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84D8D-8B18-438F-8625-151E4891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04B7B-70ED-4D8E-B76C-60D913A4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DDB01-EF03-4DA3-B4A1-2F763F71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CEC1F-9EBC-4A2D-91D0-46C78961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4849B-7D0C-499D-A9AE-5D5F7C07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83324-1F20-485F-BC59-6A68CEBE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19B39-15ED-4F5B-B637-E479924D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E2DD-D19F-46DF-8431-FDA4B6CE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26CFD-67D2-477F-A89E-E6D5FE68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DBF9-169D-451F-91F6-43168C3F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7050D-E025-42C0-AC96-D0EB42D4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E1BC6-97A0-4259-A29B-3B6620FD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F8E29-B435-4D27-8521-95633848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342DA-8E59-4490-86B1-09BA5ABE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AFBDD-1D87-4D72-90E3-17C4A2E4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D94F8-A443-4F1C-B83F-E3A52948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D20B7-41B9-486D-938F-B170F6C4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48F2-86B0-4229-8252-BF15332A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C1B86-7FCF-4BD5-9444-D461B051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F1FC4-F3AF-4640-B916-B8ACFE0A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9A032-9026-44FF-A650-AF80B9E3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6CB82-18E1-453A-BC88-465B0433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3DFE3-38B4-4F2D-8BEE-DA8D940C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615A-6AF7-4654-BF1A-50249E8D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B0046-9F19-497F-B2E5-2856CE82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B4DF8-ED68-4F7D-88DA-0A8010B6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15C71-9A01-43D6-B621-FF142896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FE7905-712F-4F77-9543-ABD4A769A46C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1AD00F-AFCF-4792-A97D-6D6F78C8025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339863-F76C-45D1-9F80-B5A9EDDC6E58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17C9C-82B7-4BC2-840E-19602A5B552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BA9275-19B3-4DEE-8C2D-550BC9834E90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6B581-48DF-4C7C-B632-7EF8893013D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9DB732-2B19-4EF9-B4F3-39D01B66AC0F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45FE01-DB02-42F0-84F3-FED5AFD4A42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00CEC7-D058-4937-A70C-7B3D1C43578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CBFFA5-49BA-4AFE-9DF0-974352CF4F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9E061A-F6D6-4FFA-B611-E703CEC9BF78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D19709-3628-494A-A739-6D6D9AC8E9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covery of Recurrent KIF5B-RET Fusions and Other Targetable Alterations from Clinical NSCLC Specim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apelletti M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2;Abstract 751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 non-small cell lung cancer (NSCLC), drivers of oncogenic alterations include EGFR, KRAS, BRAF, PIK3CA, MET and fusion oncogenes such as ALK, ROS1 and RET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Because EGFR and ALK are validated clinical targets in NSCLC, clinically effective agents targeting these genes have proved to be more effective and better tolerated than chemotherap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refore, a method of identifying a broad range of genomic alterations, including mutations, copy number gains and rearrangements, in clinical samples is needed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dentify and validate new genomic alterations in formalin-fixed, paraffin-embedded (FFPE) NSCLC tumor samples as potential drug targets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Capelletti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Abstract 75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15"/>
          <p:cNvSpPr/>
          <p:nvPr/>
        </p:nvSpPr>
        <p:spPr>
          <a:xfrm>
            <a:off x="4395960" y="3294000"/>
            <a:ext cx="0" cy="374760"/>
          </a:xfrm>
          <a:prstGeom prst="line">
            <a:avLst/>
          </a:prstGeom>
          <a:ln w="25560">
            <a:solidFill>
              <a:srgbClr val="464847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8"/>
          <p:cNvSpPr/>
          <p:nvPr/>
        </p:nvSpPr>
        <p:spPr>
          <a:xfrm>
            <a:off x="6983280" y="2308320"/>
            <a:ext cx="0" cy="358560"/>
          </a:xfrm>
          <a:prstGeom prst="line">
            <a:avLst/>
          </a:prstGeom>
          <a:ln w="25560">
            <a:solidFill>
              <a:srgbClr val="464847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6000840" y="1360440"/>
          <a:ext cx="1908000" cy="1023840"/>
        </p:xfrm>
        <a:graphic>
          <a:graphicData uri="http://schemas.openxmlformats.org/drawingml/2006/table">
            <a:tbl>
              <a:tblPr/>
              <a:tblGrid>
                <a:gridCol w="1908000"/>
              </a:tblGrid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xt-gen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equenc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G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5" name="Line 18"/>
          <p:cNvSpPr/>
          <p:nvPr/>
        </p:nvSpPr>
        <p:spPr>
          <a:xfrm>
            <a:off x="2851200" y="1793880"/>
            <a:ext cx="425520" cy="0"/>
          </a:xfrm>
          <a:prstGeom prst="line">
            <a:avLst/>
          </a:prstGeom>
          <a:ln w="25560">
            <a:solidFill>
              <a:srgbClr val="464847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Capelletti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Abstract 75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098720" y="1357200"/>
          <a:ext cx="1752480" cy="96840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971280"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SCLC FFPE s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3276720" y="1357200"/>
          <a:ext cx="2298600" cy="1024200"/>
        </p:xfrm>
        <a:graphic>
          <a:graphicData uri="http://schemas.openxmlformats.org/drawingml/2006/table">
            <a:tbl>
              <a:tblPr/>
              <a:tblGrid>
                <a:gridCol w="2298600"/>
              </a:tblGrid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NA extraction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library construction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ybrid cap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1392120" y="2676600"/>
          <a:ext cx="6324840" cy="695160"/>
        </p:xfrm>
        <a:graphic>
          <a:graphicData uri="http://schemas.openxmlformats.org/drawingml/2006/table">
            <a:tbl>
              <a:tblPr/>
              <a:tblGrid>
                <a:gridCol w="6324840"/>
              </a:tblGrid>
              <a:tr h="697680">
                <a:tc>
                  <a:txBody>
                    <a:bodyPr lIns="90000" rIns="90000" anchor="ctr">
                      <a:noAutofit/>
                    </a:bodyPr>
                    <a:p>
                      <a:pPr marL="285840" indent="-285840">
                        <a:spcBef>
                          <a:spcPts val="45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,574 coding exons of 145 cancer-related g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Bef>
                          <a:spcPts val="45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7 introns from 14 frequently rearranged genes in can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2851200" y="3679920"/>
          <a:ext cx="3112920" cy="1722240"/>
        </p:xfrm>
        <a:graphic>
          <a:graphicData uri="http://schemas.openxmlformats.org/drawingml/2006/table">
            <a:tbl>
              <a:tblPr/>
              <a:tblGrid>
                <a:gridCol w="3112920"/>
              </a:tblGrid>
              <a:tr h="1722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464847"/>
                          </a:solidFill>
                          <a:uFillTx/>
                          <a:latin typeface="Arial"/>
                        </a:rPr>
                        <a:t>Data analysis for</a:t>
                      </a: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oint mu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nsertions/dele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py number alt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earrang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1" name="Line 18"/>
          <p:cNvSpPr/>
          <p:nvPr/>
        </p:nvSpPr>
        <p:spPr>
          <a:xfrm>
            <a:off x="5575320" y="1784520"/>
            <a:ext cx="425520" cy="0"/>
          </a:xfrm>
          <a:prstGeom prst="line">
            <a:avLst/>
          </a:prstGeom>
          <a:ln w="25560">
            <a:solidFill>
              <a:srgbClr val="464847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6438960" y="3882960"/>
          <a:ext cx="1752480" cy="118908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eclinical and clinical validation stu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3" name="Line 18"/>
          <p:cNvSpPr/>
          <p:nvPr/>
        </p:nvSpPr>
        <p:spPr>
          <a:xfrm>
            <a:off x="5963400" y="4487760"/>
            <a:ext cx="474840" cy="0"/>
          </a:xfrm>
          <a:prstGeom prst="line">
            <a:avLst/>
          </a:prstGeom>
          <a:ln w="25560">
            <a:solidFill>
              <a:srgbClr val="464847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"/>
          <p:cNvSpPr/>
          <p:nvPr/>
        </p:nvSpPr>
        <p:spPr>
          <a:xfrm>
            <a:off x="914400" y="540216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Tumors from 643 additional patients were genotyped for KIF5B-R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957240" y="1477800"/>
          <a:ext cx="7327800" cy="2684520"/>
        </p:xfrm>
        <a:graphic>
          <a:graphicData uri="http://schemas.openxmlformats.org/drawingml/2006/table">
            <a:tbl>
              <a:tblPr/>
              <a:tblGrid>
                <a:gridCol w="1219320"/>
                <a:gridCol w="2781360"/>
                <a:gridCol w="3327120"/>
              </a:tblGrid>
              <a:tr h="4827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. of mutated s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tential therapeutic T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001880">
                <a:tc>
                  <a:txBody>
                    <a:bodyPr lIns="90000" rIns="90000" anchor="ctr">
                      <a:noAutofit/>
                    </a:bodyPr>
                    <a:p>
                      <a:pPr marL="554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K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Resistant to EGFR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kinase inhibitors, trials of PI3K and MEK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anchor="ctr">
                      <a:noAutofit/>
                    </a:bodyPr>
                    <a:p>
                      <a:pPr marL="554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EGF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Erlotinib, gefi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9960">
                <a:tc>
                  <a:txBody>
                    <a:bodyPr lIns="90000" rIns="90000" anchor="ctr">
                      <a:noAutofit/>
                    </a:bodyPr>
                    <a:p>
                      <a:pPr marL="554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17375e"/>
                          </a:solidFill>
                          <a:latin typeface="Arial"/>
                          <a:ea typeface="Arial"/>
                        </a:rPr>
                        <a:t>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17375e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17375e"/>
                          </a:solidFill>
                          <a:latin typeface="Arial"/>
                          <a:ea typeface="Arial"/>
                        </a:rPr>
                        <a:t>Sorafenib, suni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anchor="ctr">
                      <a:noAutofit/>
                    </a:bodyPr>
                    <a:p>
                      <a:pPr marL="554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CDK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Palbociclib (PD-03329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s Mutated in 24 FFPE S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31"/>
          <p:cNvSpPr/>
          <p:nvPr/>
        </p:nvSpPr>
        <p:spPr>
          <a:xfrm>
            <a:off x="912960" y="4222800"/>
            <a:ext cx="7773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Other mutated genes included: STK11, JAK2, BRAF, CDKN2A, CTNNB1, MDM2, PIK3CA, ATM, TSC1, CCNE1, MLH1, NF1, RB1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nd MSH6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50 alterations identified in 21 genes with at least 1 in 83% (20/24) of tum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2000" spc="-1" strike="noStrike">
                <a:solidFill>
                  <a:srgbClr val="93cddd"/>
                </a:solidFill>
                <a:latin typeface="Arial"/>
              </a:rPr>
              <a:t>Lipson D et al. </a:t>
            </a:r>
            <a:r>
              <a:rPr b="0" i="1" lang="da-DK" sz="2000" spc="-1" strike="noStrike">
                <a:solidFill>
                  <a:srgbClr val="93cddd"/>
                </a:solidFill>
                <a:latin typeface="Arial"/>
              </a:rPr>
              <a:t>Nat Med </a:t>
            </a:r>
            <a:r>
              <a:rPr b="0" lang="da-DK" sz="2000" spc="-1" strike="noStrike">
                <a:solidFill>
                  <a:srgbClr val="93cddd"/>
                </a:solidFill>
                <a:latin typeface="Arial"/>
              </a:rPr>
              <a:t>2012;18(3):382;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Capelletti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Abstract 75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880920" y="1523880"/>
          <a:ext cx="7444080" cy="3694320"/>
        </p:xfrm>
        <a:graphic>
          <a:graphicData uri="http://schemas.openxmlformats.org/drawingml/2006/table">
            <a:tbl>
              <a:tblPr/>
              <a:tblGrid>
                <a:gridCol w="3152880"/>
                <a:gridCol w="1924200"/>
                <a:gridCol w="2367000"/>
              </a:tblGrid>
              <a:tr h="45900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ered g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ian (n = 4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casian (n = 1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04640">
                <a:tc>
                  <a:txBody>
                    <a:bodyPr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GF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200">
                <a:tc>
                  <a:txBody>
                    <a:bodyPr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ML4-AL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05000">
                <a:tc>
                  <a:txBody>
                    <a:bodyPr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K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E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05000">
                <a:tc>
                  <a:txBody>
                    <a:bodyPr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BR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200">
                <a:tc>
                  <a:txBody>
                    <a:bodyPr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D74-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04640">
                <a:tc>
                  <a:txBody>
                    <a:bodyPr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KIF5B-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2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000">
                <a:tc>
                  <a:txBody>
                    <a:bodyPr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Un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idence of Genomic Alterations in Never/Former Light Smokers with NS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Capelletti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Abstract 75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KIF5B-RET is oncogenic in vitro and in vivo and requires kinase activity to function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 preclinical studies, the wild-type form of KIF5B-RET is sensitive to several RET inhibitors, including sunitinib, sorafenib,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regorafenib, ponatinib, HG7-85-1 and cabozantinib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onatinib and HG7-85-1 exhibited the greatest potency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However, mutated KIF5B-RET was sensitive only to sunitinib, ponatinib and HG7-85-1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ISH analysis can be used to detect RET rearrangement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Capelletti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Abstract 75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stics of KIF5B-RET 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457200" y="1176480"/>
            <a:ext cx="8229600" cy="456696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Evaluate responders and nonresponders with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unitinib,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sorafenib, cabozantinib and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vandetanib, keeping in mind that sensitivity may not be solely due to RET inhibition, especially with pan-RET inhibitor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erform a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prospective clinical trial for patients, including those with known KIF5B-RET rearrangement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Capelletti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Abstract 75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s to Validate KIF5B-RET as a Therapeutic Target in NS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Line 2"/>
          <p:cNvSpPr/>
          <p:nvPr/>
        </p:nvSpPr>
        <p:spPr>
          <a:xfrm>
            <a:off x="6769080" y="2911320"/>
            <a:ext cx="0" cy="444600"/>
          </a:xfrm>
          <a:prstGeom prst="line">
            <a:avLst/>
          </a:prstGeom>
          <a:ln w="28440">
            <a:solidFill>
              <a:srgbClr val="4648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"/>
          <p:cNvSpPr/>
          <p:nvPr/>
        </p:nvSpPr>
        <p:spPr>
          <a:xfrm>
            <a:off x="4025880" y="2549520"/>
            <a:ext cx="1266840" cy="0"/>
          </a:xfrm>
          <a:prstGeom prst="line">
            <a:avLst/>
          </a:prstGeom>
          <a:ln w="28440">
            <a:solidFill>
              <a:srgbClr val="464847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995400" y="1998720"/>
          <a:ext cx="3187800" cy="2492280"/>
        </p:xfrm>
        <a:graphic>
          <a:graphicData uri="http://schemas.openxmlformats.org/drawingml/2006/table">
            <a:tbl>
              <a:tblPr/>
              <a:tblGrid>
                <a:gridCol w="3187800"/>
              </a:tblGrid>
              <a:tr h="4500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10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accrual (N = 3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2042280">
                <a:tc>
                  <a:txBody>
                    <a:bodyPr lIns="90000" rIns="90000" anchor="t">
                      <a:noAutofit/>
                    </a:bodyPr>
                    <a:p>
                      <a:pPr marL="235080" indent="-179640">
                        <a:spcBef>
                          <a:spcPts val="799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dvanced NSC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179640">
                        <a:spcBef>
                          <a:spcPts val="799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≥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 prior chemo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179640">
                        <a:spcBef>
                          <a:spcPts val="799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GFR, KRAS, ALK wild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179640">
                        <a:spcBef>
                          <a:spcPts val="799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ver smoker or known RET rearran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1" name="Rectangle 31"/>
          <p:cNvSpPr/>
          <p:nvPr/>
        </p:nvSpPr>
        <p:spPr>
          <a:xfrm>
            <a:off x="888840" y="4632480"/>
            <a:ext cx="765684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rimary endpoint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Overall respons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Secondary endpoints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nclude the determination of activity in subsets of patients with RET rearrang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ned Phase II Trial of Sunitinib for Never Smokers with NS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5292720" y="2043000"/>
          <a:ext cx="2924280" cy="1090800"/>
        </p:xfrm>
        <a:graphic>
          <a:graphicData uri="http://schemas.openxmlformats.org/drawingml/2006/table">
            <a:tbl>
              <a:tblPr/>
              <a:tblGrid>
                <a:gridCol w="2924280"/>
              </a:tblGrid>
              <a:tr h="1090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uni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0 mg/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4 weeks on, 2 weeks of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5292720" y="3398760"/>
          <a:ext cx="2924280" cy="997200"/>
        </p:xfrm>
        <a:graphic>
          <a:graphicData uri="http://schemas.openxmlformats.org/drawingml/2006/table">
            <a:tbl>
              <a:tblPr/>
              <a:tblGrid>
                <a:gridCol w="2924280"/>
              </a:tblGrid>
              <a:tr h="99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olecular comparison of responders versus nonrespon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5" name="Rectangle 31"/>
          <p:cNvSpPr/>
          <p:nvPr/>
        </p:nvSpPr>
        <p:spPr>
          <a:xfrm>
            <a:off x="957240" y="126036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Trial Identifier: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CT01829217 (not yet recrui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Capelletti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Abstract 75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57200" y="1172880"/>
            <a:ext cx="822960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New-generation sequencing can identify known and newly discovered drug-sensitive genomic alterations in NSCLC on paraffin-embedded tissue blocks, including mutations, copy number gains and rearrangement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KIF5B-RET fusion was found in 2.3% of Asians and 0.5%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f Caucasians and warrants a prospective clinical trial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evaluating RET inhibitors in this subset of NSCLC patient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Capelletti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Abstract 75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Research To Practice</dc:creator>
  <dc:description/>
  <cp:keywords/>
  <dc:language>en-US</dc:language>
  <cp:lastModifiedBy>Silvana Izquierdo</cp:lastModifiedBy>
  <cp:lastPrinted>2013-03-06T20:38:39Z</cp:lastPrinted>
  <dcterms:modified xsi:type="dcterms:W3CDTF">2013-07-22T19:06:07Z</dcterms:modified>
  <cp:revision>721</cp:revision>
  <dc:subject/>
  <dc:title>Research To Practice</dc:title>
</cp:coreProperties>
</file>