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6C6-7D59-4E52-B97C-BC62C122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2F5-0387-4481-805B-3453B0B4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6B76D-9BF1-4C43-8BA8-1BBFF5AE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026EF-66B9-424B-9C7D-9AE6970E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8FBA-E22D-42C2-9495-C54B95A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9222B-168C-4C03-A576-9AA8D81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E639-A33C-4C26-A966-5FA55A90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1708-1C97-4D2E-A9D3-8BC7A062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2C729-9408-402B-93B9-8BC28742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8982E-672A-4B47-AEFB-C2FBEECB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58DAE-DD67-45EB-872E-EDE36895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F91-99A7-45D9-8AB3-0DB7A6B5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017-BDDD-4F14-9E53-B606FEC5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4C7E-A554-44B7-B662-2DC91DF8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C347-A2CB-4EC7-8C6D-52C11CCC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2E98-4A32-4CAA-82A9-037BFAAD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A535-50EB-48C5-A1D0-21E38D40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1EE7-6488-4E8D-8CB6-9AFDC877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35DC-28E2-4AB6-A5C9-4F97971C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4B43-EFAA-4A44-91F7-A2C631E2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A78-3741-4559-B88C-898547BA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6892-F637-40BF-82F9-7892487A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4158-DFCA-4C17-81E4-1052495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BE89-5124-4599-823B-4749F22E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95D-662D-4B78-A185-C2CB60DB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1904-1285-4921-BE4D-E56BE7D7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715D-FD0D-4671-9365-E3D41DAB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C1DE-07CD-41AE-B05A-12D90869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E340-A8D7-43DB-84DC-71D979B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868D-BCEF-401F-9EED-F2703E10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ED0B-917D-47A0-BA66-05A663FC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E0D-0F9A-486E-873E-35FA237E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9E27-0748-4050-A5D7-6FC23D68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2733-B1C5-4908-B18E-2D6C60A8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7A30-058A-496F-82F3-06B5FF15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D2C3-34C5-44E8-B434-A262781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4476-0884-4858-AB18-C5FEC30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36DA-0737-401D-9184-7FD73A25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CDFD-85B6-4101-95F4-77748A57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082-F21E-4FA2-A690-12506DE5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DA26-598A-4458-817E-3424D98F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74B-36E3-49A8-B493-350B8F44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85A5-3133-44A7-8AD1-4ADABA7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54DE-2C85-4D1C-A396-EDC683B5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A183-9852-45EA-9209-3AEEF88B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3EAB-2A3E-4946-A298-2741170C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25A1-A043-4A2E-BA19-B8D787AD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7283-E003-4D05-BD4E-F1ED29A6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B77C-1894-4F6E-B698-406F753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56B9-C2A4-4207-A379-0F630FDB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8E45-CAFC-4E20-BA90-3E7C2B3F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65144-45F3-4925-8B5C-D45C035E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564-5305-4359-AFFE-3E81E9B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92B5-41BC-42F5-B5F2-D8114AEB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C80-4DAB-470D-B717-107D13E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E2E17-B9CD-41BD-8EED-E49D09A2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5F29-1939-4D05-BBC9-2E1A397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E9E36-BE4B-4465-98E5-9C2B9E9B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DA1A8-7B3B-41FB-B3CA-CC8055BD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075A-44FD-43F8-8E55-CE659B44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49DB0-0270-47FB-9AFB-132C9C1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1E05-C640-4096-A41D-27D7A7F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6B4-C09F-4282-A09E-AC3BE280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935DF-5D32-4D82-B868-9EFB4A3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926ED-CE8F-442E-B1F7-38741669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F6EA5-F99C-4792-8999-28D0F251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C85E3-ECB5-409C-BC13-577EF2A3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9C03-DD7F-4028-8DCB-9FD59EE3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05B-2B23-496C-8D70-F6F5AAA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3F825-625B-48AE-814C-E30398DF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25510-E21A-4AB7-9A2C-C8E370ED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44D88-1FA7-4C85-A6FA-FE00E103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97866-901A-4791-A7BE-1280482A2D1B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186E9-7F77-4DBF-99A1-F3D7A9238C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03EBA-D893-424B-ADF1-C78C4B86396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6D53D-B918-4F1B-82E0-FC87041E714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3C0B7-E79E-41EC-B98F-C70004DF854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2D012-FEAE-46E3-BD06-2F711BCB2AF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6A13B-2F9D-4138-9301-88034556C433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2C9CB-1FCE-4FBB-88E0-C1AD4E44F3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914F9-7DA9-4C07-8470-9061402E106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FF9B6-0022-48FB-AB1E-6940CD3ECA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295BD-E607-4D54-8B94-C285214679B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5D58D-FD45-4F3A-8097-FC0A0FBC0B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nical Activity and Safety of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i-PD-1 (BMS-936558, MDX-1106) in Patients with Advanced Non-Small-Cell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Brahmer JR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75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creased expression of programmed death-1 (PD-1) and its ligand (PD-L1) on tumor-infiltrating lymphocytes has been associated with impaired immune function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Cell Mol Immun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0;7:38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DX-1106 (BMS-936558) is a fully human monoclonal antibody that inhibits PD-1 and its ligands, PD-L1 and PD-L2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eliminary studies demonstrated that MDX-1106 blocks the PD-1 checkpoint, is well tolerated and is associated with antitumor activit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0;28:316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etermine the clinical activity and safety of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DX-1106 in th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Phase I study subgroup of patients with heavily pretreate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advanced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0"/>
          <p:cNvSpPr/>
          <p:nvPr/>
        </p:nvSpPr>
        <p:spPr>
          <a:xfrm>
            <a:off x="4173480" y="3147840"/>
            <a:ext cx="179064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9"/>
          <p:cNvSpPr/>
          <p:nvPr/>
        </p:nvSpPr>
        <p:spPr>
          <a:xfrm>
            <a:off x="4173480" y="2316240"/>
            <a:ext cx="179064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4173480" y="1441440"/>
            <a:ext cx="179064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1"/>
          <p:cNvSpPr/>
          <p:nvPr/>
        </p:nvSpPr>
        <p:spPr>
          <a:xfrm>
            <a:off x="914400" y="4417920"/>
            <a:ext cx="777240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Eligibility: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Advanced melanoma, renal cell carcinoma, NSCLC, colorectal cancer or castration-resistant prostate cancer with progressive disease after 1 to 5 systemic thera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Doses of MDX-1106 tested for NSCLC: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1, 3 and 10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1200240" y="1241280"/>
            <a:ext cx="68007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4272120" y="2406600"/>
            <a:ext cx="1407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Unacceptable toxi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3"/>
          <p:cNvSpPr/>
          <p:nvPr/>
        </p:nvSpPr>
        <p:spPr>
          <a:xfrm>
            <a:off x="1204920" y="2536920"/>
            <a:ext cx="2533680" cy="11268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152" h="72">
                <a:moveTo>
                  <a:pt x="0" y="24"/>
                </a:moveTo>
                <a:lnTo>
                  <a:pt x="1092" y="24"/>
                </a:lnTo>
                <a:lnTo>
                  <a:pt x="1092" y="32"/>
                </a:lnTo>
                <a:lnTo>
                  <a:pt x="0" y="32"/>
                </a:lnTo>
                <a:lnTo>
                  <a:pt x="0" y="24"/>
                </a:lnTo>
                <a:close/>
                <a:moveTo>
                  <a:pt x="0" y="40"/>
                </a:moveTo>
                <a:lnTo>
                  <a:pt x="1092" y="40"/>
                </a:lnTo>
                <a:lnTo>
                  <a:pt x="1092" y="48"/>
                </a:lnTo>
                <a:lnTo>
                  <a:pt x="0" y="48"/>
                </a:lnTo>
                <a:lnTo>
                  <a:pt x="0" y="40"/>
                </a:lnTo>
                <a:close/>
                <a:moveTo>
                  <a:pt x="1080" y="0"/>
                </a:moveTo>
                <a:lnTo>
                  <a:pt x="1152" y="36"/>
                </a:lnTo>
                <a:lnTo>
                  <a:pt x="1080" y="72"/>
                </a:lnTo>
                <a:lnTo>
                  <a:pt x="1080" y="0"/>
                </a:lnTo>
                <a:close/>
              </a:path>
            </a:pathLst>
          </a:custGeom>
          <a:solidFill>
            <a:srgbClr val="464847"/>
          </a:solidFill>
          <a:ln w="3816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 flipH="1">
            <a:off x="1192320" y="2368440"/>
            <a:ext cx="33120" cy="225360"/>
          </a:xfrm>
          <a:prstGeom prst="rect">
            <a:avLst/>
          </a:prstGeom>
          <a:solidFill>
            <a:srgbClr val="464847"/>
          </a:solidFill>
          <a:ln w="1908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819000" y="279720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985680" y="2733840"/>
            <a:ext cx="332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ay 1*    15*     29*     43*    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0"/>
          <p:cNvSpPr/>
          <p:nvPr/>
        </p:nvSpPr>
        <p:spPr>
          <a:xfrm>
            <a:off x="6353280" y="2247840"/>
            <a:ext cx="14396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llow-up every 8 wk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x 6 (48 w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5"/>
          <p:cNvSpPr/>
          <p:nvPr/>
        </p:nvSpPr>
        <p:spPr>
          <a:xfrm>
            <a:off x="1204920" y="1305000"/>
            <a:ext cx="2590920" cy="50004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422" h="336">
                <a:moveTo>
                  <a:pt x="0" y="0"/>
                </a:moveTo>
                <a:lnTo>
                  <a:pt x="1067" y="0"/>
                </a:lnTo>
                <a:lnTo>
                  <a:pt x="1422" y="168"/>
                </a:lnTo>
                <a:lnTo>
                  <a:pt x="1067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solidFill>
            <a:srgbClr val="16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6"/>
          <p:cNvSpPr/>
          <p:nvPr/>
        </p:nvSpPr>
        <p:spPr>
          <a:xfrm>
            <a:off x="1204920" y="1301760"/>
            <a:ext cx="2590920" cy="5032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32" h="342">
                <a:moveTo>
                  <a:pt x="0" y="0"/>
                </a:moveTo>
                <a:lnTo>
                  <a:pt x="1071" y="0"/>
                </a:lnTo>
                <a:lnTo>
                  <a:pt x="1432" y="171"/>
                </a:lnTo>
                <a:lnTo>
                  <a:pt x="1071" y="342"/>
                </a:lnTo>
                <a:lnTo>
                  <a:pt x="0" y="342"/>
                </a:lnTo>
                <a:lnTo>
                  <a:pt x="0" y="0"/>
                </a:lnTo>
                <a:close/>
                <a:moveTo>
                  <a:pt x="6" y="339"/>
                </a:moveTo>
                <a:lnTo>
                  <a:pt x="3" y="336"/>
                </a:lnTo>
                <a:lnTo>
                  <a:pt x="1070" y="336"/>
                </a:lnTo>
                <a:lnTo>
                  <a:pt x="1069" y="336"/>
                </a:lnTo>
                <a:lnTo>
                  <a:pt x="1424" y="168"/>
                </a:lnTo>
                <a:lnTo>
                  <a:pt x="1424" y="174"/>
                </a:lnTo>
                <a:lnTo>
                  <a:pt x="1069" y="6"/>
                </a:lnTo>
                <a:lnTo>
                  <a:pt x="1070" y="6"/>
                </a:lnTo>
                <a:lnTo>
                  <a:pt x="3" y="6"/>
                </a:lnTo>
                <a:lnTo>
                  <a:pt x="6" y="3"/>
                </a:lnTo>
                <a:lnTo>
                  <a:pt x="6" y="339"/>
                </a:lnTo>
                <a:close/>
              </a:path>
            </a:pathLst>
          </a:custGeom>
          <a:solidFill>
            <a:srgbClr val="16375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8"/>
          <p:cNvSpPr/>
          <p:nvPr/>
        </p:nvSpPr>
        <p:spPr>
          <a:xfrm>
            <a:off x="1320120" y="1390680"/>
            <a:ext cx="20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-wk treat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0"/>
          <p:cNvSpPr/>
          <p:nvPr/>
        </p:nvSpPr>
        <p:spPr>
          <a:xfrm>
            <a:off x="3213360" y="3017880"/>
            <a:ext cx="76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SCA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5"/>
          <p:cNvSpPr/>
          <p:nvPr/>
        </p:nvSpPr>
        <p:spPr>
          <a:xfrm>
            <a:off x="4516560" y="319392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8"/>
          <p:cNvSpPr/>
          <p:nvPr/>
        </p:nvSpPr>
        <p:spPr>
          <a:xfrm>
            <a:off x="4272120" y="3218040"/>
            <a:ext cx="14698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CR/PR/SD </a:t>
            </a:r>
            <a:br>
              <a:rPr sz="1700"/>
            </a:b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or PD but clinically s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1"/>
          <p:cNvSpPr/>
          <p:nvPr/>
        </p:nvSpPr>
        <p:spPr>
          <a:xfrm>
            <a:off x="4272120" y="1531800"/>
            <a:ext cx="1717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Rapid PD or clin. deterio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3"/>
          <p:cNvSpPr/>
          <p:nvPr/>
        </p:nvSpPr>
        <p:spPr>
          <a:xfrm>
            <a:off x="6353280" y="3214800"/>
            <a:ext cx="221940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reat to confirmed CR, worsening PD, unacceptable toxicity or 12 cycles (96 w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1"/>
          <p:cNvSpPr/>
          <p:nvPr/>
        </p:nvSpPr>
        <p:spPr>
          <a:xfrm>
            <a:off x="6356880" y="1592280"/>
            <a:ext cx="9165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ff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2"/>
          <p:cNvSpPr/>
          <p:nvPr/>
        </p:nvSpPr>
        <p:spPr>
          <a:xfrm>
            <a:off x="5977080" y="3519360"/>
            <a:ext cx="280800" cy="57240"/>
          </a:xfrm>
          <a:custGeom>
            <a:avLst/>
            <a:gdLst>
              <a:gd name="textAreaLeft" fmla="*/ 0 w 280800"/>
              <a:gd name="textAreaRight" fmla="*/ 281160 w 280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40" h="48">
                <a:moveTo>
                  <a:pt x="0" y="21"/>
                </a:moveTo>
                <a:lnTo>
                  <a:pt x="200" y="21"/>
                </a:lnTo>
                <a:lnTo>
                  <a:pt x="20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192" y="0"/>
                </a:moveTo>
                <a:lnTo>
                  <a:pt x="240" y="24"/>
                </a:lnTo>
                <a:lnTo>
                  <a:pt x="192" y="48"/>
                </a:lnTo>
                <a:lnTo>
                  <a:pt x="192" y="0"/>
                </a:lnTo>
                <a:close/>
              </a:path>
            </a:pathLst>
          </a:custGeom>
          <a:solidFill>
            <a:srgbClr val="464847"/>
          </a:solidFill>
          <a:ln w="3816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63"/>
          <p:cNvSpPr/>
          <p:nvPr/>
        </p:nvSpPr>
        <p:spPr>
          <a:xfrm>
            <a:off x="5977080" y="2619360"/>
            <a:ext cx="280800" cy="55440"/>
          </a:xfrm>
          <a:custGeom>
            <a:avLst/>
            <a:gdLst>
              <a:gd name="textAreaLeft" fmla="*/ 0 w 280800"/>
              <a:gd name="textAreaRight" fmla="*/ 281160 w 280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40" h="48">
                <a:moveTo>
                  <a:pt x="0" y="21"/>
                </a:moveTo>
                <a:lnTo>
                  <a:pt x="200" y="21"/>
                </a:lnTo>
                <a:lnTo>
                  <a:pt x="20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192" y="0"/>
                </a:moveTo>
                <a:lnTo>
                  <a:pt x="240" y="24"/>
                </a:lnTo>
                <a:lnTo>
                  <a:pt x="192" y="48"/>
                </a:lnTo>
                <a:lnTo>
                  <a:pt x="192" y="0"/>
                </a:lnTo>
                <a:close/>
              </a:path>
            </a:pathLst>
          </a:custGeom>
          <a:solidFill>
            <a:srgbClr val="464847"/>
          </a:solidFill>
          <a:ln w="3816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64"/>
          <p:cNvSpPr/>
          <p:nvPr/>
        </p:nvSpPr>
        <p:spPr>
          <a:xfrm>
            <a:off x="5977080" y="1701720"/>
            <a:ext cx="280800" cy="57240"/>
          </a:xfrm>
          <a:custGeom>
            <a:avLst/>
            <a:gdLst>
              <a:gd name="textAreaLeft" fmla="*/ 0 w 280800"/>
              <a:gd name="textAreaRight" fmla="*/ 281160 w 280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40" h="48">
                <a:moveTo>
                  <a:pt x="0" y="21"/>
                </a:moveTo>
                <a:lnTo>
                  <a:pt x="200" y="21"/>
                </a:lnTo>
                <a:lnTo>
                  <a:pt x="20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192" y="0"/>
                </a:moveTo>
                <a:lnTo>
                  <a:pt x="240" y="24"/>
                </a:lnTo>
                <a:lnTo>
                  <a:pt x="192" y="48"/>
                </a:lnTo>
                <a:lnTo>
                  <a:pt x="192" y="0"/>
                </a:lnTo>
                <a:close/>
              </a:path>
            </a:pathLst>
          </a:custGeom>
          <a:solidFill>
            <a:srgbClr val="464847"/>
          </a:solidFill>
          <a:ln w="3816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65"/>
          <p:cNvSpPr/>
          <p:nvPr/>
        </p:nvSpPr>
        <p:spPr>
          <a:xfrm>
            <a:off x="3757680" y="1682640"/>
            <a:ext cx="412560" cy="941400"/>
          </a:xfrm>
          <a:custGeom>
            <a:avLst/>
            <a:gdLst>
              <a:gd name="textAreaLeft" fmla="*/ 0 w 412560"/>
              <a:gd name="textAreaRight" fmla="*/ 412920 w 41256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352" h="803">
                <a:moveTo>
                  <a:pt x="0" y="793"/>
                </a:moveTo>
                <a:lnTo>
                  <a:pt x="313" y="51"/>
                </a:lnTo>
                <a:lnTo>
                  <a:pt x="320" y="54"/>
                </a:lnTo>
                <a:lnTo>
                  <a:pt x="8" y="796"/>
                </a:lnTo>
                <a:lnTo>
                  <a:pt x="0" y="793"/>
                </a:lnTo>
                <a:close/>
                <a:moveTo>
                  <a:pt x="15" y="800"/>
                </a:moveTo>
                <a:lnTo>
                  <a:pt x="328" y="57"/>
                </a:lnTo>
                <a:lnTo>
                  <a:pt x="335" y="60"/>
                </a:lnTo>
                <a:lnTo>
                  <a:pt x="22" y="803"/>
                </a:lnTo>
                <a:lnTo>
                  <a:pt x="15" y="800"/>
                </a:lnTo>
                <a:close/>
                <a:moveTo>
                  <a:pt x="286" y="52"/>
                </a:moveTo>
                <a:lnTo>
                  <a:pt x="347" y="0"/>
                </a:lnTo>
                <a:lnTo>
                  <a:pt x="352" y="81"/>
                </a:lnTo>
                <a:lnTo>
                  <a:pt x="286" y="52"/>
                </a:lnTo>
                <a:close/>
              </a:path>
            </a:pathLst>
          </a:custGeom>
          <a:solidFill>
            <a:srgbClr val="464847"/>
          </a:solidFill>
          <a:ln w="0">
            <a:solidFill>
              <a:srgbClr val="46484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66"/>
          <p:cNvSpPr/>
          <p:nvPr/>
        </p:nvSpPr>
        <p:spPr>
          <a:xfrm>
            <a:off x="3759120" y="2598840"/>
            <a:ext cx="414360" cy="822240"/>
          </a:xfrm>
          <a:custGeom>
            <a:avLst/>
            <a:gdLst>
              <a:gd name="textAreaLeft" fmla="*/ 0 w 414360"/>
              <a:gd name="textAreaRight" fmla="*/ 414720 w 41436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353" h="701">
                <a:moveTo>
                  <a:pt x="21" y="0"/>
                </a:moveTo>
                <a:lnTo>
                  <a:pt x="337" y="642"/>
                </a:lnTo>
                <a:lnTo>
                  <a:pt x="329" y="645"/>
                </a:lnTo>
                <a:lnTo>
                  <a:pt x="14" y="3"/>
                </a:lnTo>
                <a:lnTo>
                  <a:pt x="21" y="0"/>
                </a:lnTo>
                <a:close/>
                <a:moveTo>
                  <a:pt x="7" y="7"/>
                </a:moveTo>
                <a:lnTo>
                  <a:pt x="322" y="649"/>
                </a:lnTo>
                <a:lnTo>
                  <a:pt x="315" y="653"/>
                </a:lnTo>
                <a:lnTo>
                  <a:pt x="0" y="11"/>
                </a:lnTo>
                <a:lnTo>
                  <a:pt x="7" y="7"/>
                </a:lnTo>
                <a:close/>
                <a:moveTo>
                  <a:pt x="353" y="621"/>
                </a:moveTo>
                <a:lnTo>
                  <a:pt x="352" y="701"/>
                </a:lnTo>
                <a:lnTo>
                  <a:pt x="288" y="652"/>
                </a:lnTo>
                <a:lnTo>
                  <a:pt x="353" y="621"/>
                </a:lnTo>
                <a:close/>
              </a:path>
            </a:pathLst>
          </a:custGeom>
          <a:solidFill>
            <a:srgbClr val="464847"/>
          </a:solidFill>
          <a:ln w="0">
            <a:solidFill>
              <a:srgbClr val="46484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67"/>
          <p:cNvSpPr/>
          <p:nvPr/>
        </p:nvSpPr>
        <p:spPr>
          <a:xfrm>
            <a:off x="3770280" y="2562120"/>
            <a:ext cx="395280" cy="84240"/>
          </a:xfrm>
          <a:custGeom>
            <a:avLst/>
            <a:gdLst>
              <a:gd name="textAreaLeft" fmla="*/ 0 w 395280"/>
              <a:gd name="textAreaRight" fmla="*/ 395640 w 395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36" h="72">
                <a:moveTo>
                  <a:pt x="0" y="24"/>
                </a:moveTo>
                <a:lnTo>
                  <a:pt x="276" y="24"/>
                </a:lnTo>
                <a:lnTo>
                  <a:pt x="276" y="32"/>
                </a:lnTo>
                <a:lnTo>
                  <a:pt x="0" y="32"/>
                </a:lnTo>
                <a:lnTo>
                  <a:pt x="0" y="24"/>
                </a:lnTo>
                <a:close/>
                <a:moveTo>
                  <a:pt x="0" y="40"/>
                </a:moveTo>
                <a:lnTo>
                  <a:pt x="276" y="40"/>
                </a:lnTo>
                <a:lnTo>
                  <a:pt x="276" y="48"/>
                </a:lnTo>
                <a:lnTo>
                  <a:pt x="0" y="48"/>
                </a:lnTo>
                <a:lnTo>
                  <a:pt x="0" y="40"/>
                </a:lnTo>
                <a:close/>
                <a:moveTo>
                  <a:pt x="264" y="0"/>
                </a:moveTo>
                <a:lnTo>
                  <a:pt x="336" y="36"/>
                </a:lnTo>
                <a:lnTo>
                  <a:pt x="264" y="72"/>
                </a:lnTo>
                <a:lnTo>
                  <a:pt x="264" y="0"/>
                </a:lnTo>
                <a:close/>
              </a:path>
            </a:pathLst>
          </a:custGeom>
          <a:solidFill>
            <a:srgbClr val="464847"/>
          </a:solidFill>
          <a:ln w="0">
            <a:solidFill>
              <a:srgbClr val="46484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7"/>
          <p:cNvSpPr/>
          <p:nvPr/>
        </p:nvSpPr>
        <p:spPr>
          <a:xfrm>
            <a:off x="914400" y="3903840"/>
            <a:ext cx="36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administered IV q2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5"/>
          <p:cNvSpPr/>
          <p:nvPr/>
        </p:nvSpPr>
        <p:spPr>
          <a:xfrm flipH="1">
            <a:off x="1928880" y="2336760"/>
            <a:ext cx="33120" cy="225360"/>
          </a:xfrm>
          <a:prstGeom prst="rect">
            <a:avLst/>
          </a:prstGeom>
          <a:solidFill>
            <a:srgbClr val="464847"/>
          </a:solidFill>
          <a:ln w="1908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5"/>
          <p:cNvSpPr/>
          <p:nvPr/>
        </p:nvSpPr>
        <p:spPr>
          <a:xfrm flipH="1">
            <a:off x="2499480" y="2336760"/>
            <a:ext cx="33480" cy="225360"/>
          </a:xfrm>
          <a:prstGeom prst="rect">
            <a:avLst/>
          </a:prstGeom>
          <a:solidFill>
            <a:srgbClr val="464847"/>
          </a:solidFill>
          <a:ln w="1908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5"/>
          <p:cNvSpPr/>
          <p:nvPr/>
        </p:nvSpPr>
        <p:spPr>
          <a:xfrm flipH="1">
            <a:off x="3083760" y="2336760"/>
            <a:ext cx="33480" cy="225360"/>
          </a:xfrm>
          <a:prstGeom prst="rect">
            <a:avLst/>
          </a:prstGeom>
          <a:solidFill>
            <a:srgbClr val="464847"/>
          </a:solidFill>
          <a:ln w="1908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749160" y="1727280"/>
          <a:ext cx="7645680" cy="2719440"/>
        </p:xfrm>
        <a:graphic>
          <a:graphicData uri="http://schemas.openxmlformats.org/drawingml/2006/table">
            <a:tbl>
              <a:tblPr/>
              <a:tblGrid>
                <a:gridCol w="1676520"/>
                <a:gridCol w="977760"/>
                <a:gridCol w="1714680"/>
                <a:gridCol w="1434960"/>
                <a:gridCol w="18417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e 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e of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R (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 ≥24 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R at 24 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10 (n = 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+ to 30.8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n =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n = 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+ to 30.8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 (n = 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7 to 14.8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ctivity in Patients with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914400" y="4545000"/>
            <a:ext cx="748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RR = overall response rate; DoR = duration of response; SD = stable disease; PFSR = progression-free survival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60240" y="1371600"/>
          <a:ext cx="7759800" cy="3714840"/>
        </p:xfrm>
        <a:graphic>
          <a:graphicData uri="http://schemas.openxmlformats.org/drawingml/2006/table">
            <a:tbl>
              <a:tblPr/>
              <a:tblGrid>
                <a:gridCol w="3670560"/>
                <a:gridCol w="1104840"/>
                <a:gridCol w="1066680"/>
                <a:gridCol w="1193760"/>
                <a:gridCol w="723960"/>
              </a:tblGrid>
              <a:tr h="412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5, 6, 7,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12, 13, 31, 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 ≥24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5, 6, 7,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12, 13, 31, 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R at 24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5, 6, 7,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12, 13, 31, 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ctivity of Varying MDX-1106 Doses by NSCLC His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Topalian S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66(26):2443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"/>
          <p:cNvSpPr/>
          <p:nvPr/>
        </p:nvSpPr>
        <p:spPr>
          <a:xfrm>
            <a:off x="1175760" y="5207040"/>
            <a:ext cx="12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ll d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IJournal_Brahmer_Curve1.png"/>
          <p:cNvPicPr/>
          <p:nvPr/>
        </p:nvPicPr>
        <p:blipFill>
          <a:blip r:embed="rId1"/>
          <a:stretch/>
        </p:blipFill>
        <p:spPr>
          <a:xfrm>
            <a:off x="952560" y="1405080"/>
            <a:ext cx="7467480" cy="3913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Target Lesions at 3 mg/kg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457200" y="6046920"/>
            <a:ext cx="836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5257800" y="1442880"/>
            <a:ext cx="3086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irst occurrence of new le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atient of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on-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1359000" y="5318280"/>
            <a:ext cx="673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</a:rPr>
              <a:t>Weeks Since Treatment Initi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 rot="16200000">
            <a:off x="-1389960" y="3143880"/>
            <a:ext cx="435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</a:rPr>
              <a:t>Change in Target Lesions From Baseline (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0" descr="IJournal_Brahmer_Curve2.png"/>
          <p:cNvPicPr/>
          <p:nvPr/>
        </p:nvPicPr>
        <p:blipFill>
          <a:blip r:embed="rId1"/>
          <a:stretch/>
        </p:blipFill>
        <p:spPr>
          <a:xfrm>
            <a:off x="927000" y="1405080"/>
            <a:ext cx="7493040" cy="39337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Target Lesions at 10 mg/kg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457200" y="6046920"/>
            <a:ext cx="83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1359000" y="5318280"/>
            <a:ext cx="673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</a:rPr>
              <a:t>Weeks Since Treatment Initi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 rot="16200000">
            <a:off x="-1389960" y="3143880"/>
            <a:ext cx="435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</a:rPr>
              <a:t>Change in Target Lesions From Baseline (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5257800" y="1773360"/>
            <a:ext cx="308628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irst occurrence of new le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atient of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on-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1003320" y="1486080"/>
          <a:ext cx="7175520" cy="3292200"/>
        </p:xfrm>
        <a:graphic>
          <a:graphicData uri="http://schemas.openxmlformats.org/drawingml/2006/table">
            <a:tbl>
              <a:tblPr/>
              <a:tblGrid>
                <a:gridCol w="2260440"/>
                <a:gridCol w="2502000"/>
                <a:gridCol w="241308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ny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ppet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ts (AEs)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 in NSCLC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(N = 12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1"/>
          <p:cNvSpPr/>
          <p:nvPr/>
        </p:nvSpPr>
        <p:spPr>
          <a:xfrm>
            <a:off x="914400" y="4848120"/>
            <a:ext cx="74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ost common Grade 3/4 AEs were fatigue, pneumonitis and elevated AST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(2 patients e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DX-1106 can be safely administered in an outpatient setting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o patients with heavily pretreat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urable clinical benefit was seen in squamous and nonsquamous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findings support the importance of the PD-1 pathway in NSCLC therapy across different histologi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eliminary data correlating PD-L1 expression in pretreatment tumor biopsies with clinical outcomes will be further explor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Phase III trial of MDX-1106 versus docetaxel in previously treated advanced or metastatic nonsquamous NSCLC is ongoing (NCT0167386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28Z</dcterms:created>
  <dc:creator>Research To Practice</dc:creator>
  <dc:description/>
  <cp:keywords/>
  <dc:language>en-US</dc:language>
  <cp:lastModifiedBy>Silvana Izquierdo</cp:lastModifiedBy>
  <cp:lastPrinted>2013-04-30T18:50:39Z</cp:lastPrinted>
  <dcterms:modified xsi:type="dcterms:W3CDTF">2013-07-22T19:09:41Z</dcterms:modified>
  <cp:revision>721</cp:revision>
  <dc:subject/>
  <dc:title>Research To Practice</dc:title>
</cp:coreProperties>
</file>