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D2D-234F-44AF-92A2-FE70E69F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13B-1266-4930-9711-8286DE14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18B08-A040-478F-BE35-CAEC429E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D0581-5352-484E-B0B8-3B5181C9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F4F05-0F98-4DAA-88D1-B8FE4956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43B72-900F-4E54-8742-827FF7A2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DE7A5-AC9C-497F-9689-AC98021E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16B47-C897-459A-A8CF-764D8A66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6ADE9-B911-4B6B-90DD-3275687F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C9C29-21D3-46C6-BE8C-D18A8CC4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4AB0F-D83C-4E91-A065-6A7FA852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CF5-4540-4A61-831E-7A47EFCC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246-FA88-41D6-97DD-144416B6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A3E2-CA08-4D5F-B2B7-8312A20E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A803-8C28-45E5-95A2-89F50466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3086-AA72-464C-A2CB-F7335973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BD77-D10F-4857-8D97-B8F92976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4E29-007A-49C6-BEE9-43B2EC59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1669-9F3D-4D58-9C2E-F8EE7493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1466-913A-448B-89D5-BE6CAF4A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DC1-D1B1-4B9D-A762-27D6873F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3C9B-DECD-40A6-95F5-1F078AEF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9D67-AF62-4E1E-8CAC-EDDCD9D9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9714-FC56-4E15-A5DB-29CD4FF6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5280-4873-47E1-80DC-A3FC541E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DD79-3C47-44FD-AD39-CF57E1C1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93B88-F914-402B-BF91-471B1E67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FD47-1048-4F3E-BC04-A3CF3C10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A0EF-3CB2-4D6A-8F8B-DB80B925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A0137-DBF6-4061-8AE1-34E617F1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B991-CA55-471C-A3DB-C35F63A0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AED-C937-48BD-8546-7B085129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509D-9E11-44AD-8466-0448F3B5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51DA-EC38-4F2F-95F3-EBEC352B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5526-10C3-4F88-A168-C02EA8FE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5CD7-28F6-4F1A-9769-BC041778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3AE3-D417-4748-86DD-5E22073C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8C56-5200-4F1E-AEFB-CEA6F2DE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DC6A-9F73-4CAB-9157-C8825926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076-7804-4565-B1D2-8E99395D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D216C-6EBA-4295-8990-17E9AB08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708-67DD-46CE-A32D-EB472B9C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07F9E-C151-4081-A13A-3BD5172F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568A-0EC0-4383-ADF6-B1759345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8E584-AAFB-4B69-B338-2E49E8C3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FE1B5-2180-40A6-B1FF-EAC7E118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CECF9-5B2D-4FCD-923C-DBBDC506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28A65-7FA9-43C5-85AD-056C8D55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180B4-BD64-4248-99DF-680F3B6E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98A17-8BC7-4364-ABE4-1F9DCD53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303E-B827-4A24-A056-C2548096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C0E4E-3E8C-465C-841F-CB1DCA47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76F-C610-4402-93EF-54A53C86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2735-ABE3-41DD-9427-2AE402CB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D43-A1B3-4002-9E9B-F9EAC21C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A8DD4-49CD-4EB7-9EB5-C9A86957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61A05-DE43-4917-843C-E0534857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726CF-859B-4049-992A-88FF53F1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FF34F-6F27-4A05-A296-690F3905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A7511-E1EC-43F8-A47A-902EB2FC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B258-1D18-4EB4-8473-276EFEE0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B8E97-BD8B-4223-91C5-2A6BF515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512-67DB-44C0-84E2-4FF636B6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078D4-5C27-4A3E-B484-6BEE2C83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20FC1-9826-4984-A25C-F55A04A1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C494B-013B-4139-B64F-1E5BF9EA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D9708-2050-4A3A-B6F0-FE447EA1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3BF4-A7BD-42A7-97F3-4B622F38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4D1-582D-4178-B942-CB0BE612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3C3F5-97EC-4FFC-BEC2-E7934F4F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3953E-DAA9-4E51-836F-437BB917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8DE34-DB08-4DB4-8792-9C1DEA21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30FE9-DBB9-460A-9D5E-9F7EA0A6E3E3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17891-750A-431A-A6BB-42EB3DE5C5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A4AEB-61FE-447E-9795-D48897DFBF7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99557-BA08-4313-BC93-1AA3E7E4275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4A3A7-999E-4D12-A66E-39609A7821F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CA26C-C766-415E-8122-FCA468B22EB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FF73A-06AA-497D-9C3D-AC3634A3536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58C1A-EF5D-4791-B972-90B119FA18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B6CE6-E524-4A1F-9DD2-2F510658F0D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B28FD-C8E0-4F5A-B4C7-E891E749B9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4D521-6E59-42AB-8B3A-02840E37BED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7E445-6581-4D0E-AA0B-D36F7E9CAD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ndomized Phase II Study of Dacomitinib (PF-00299804), an Irreversible Pan-Human Epidermal Growth Factor Receptor Inhibitor,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ersus Erlotinib in Patients with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vanced Non-Small-Cell Lung Canc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Ramalingam SS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30(27):3337-4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18288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Agents such as erlotinib and gefitinib that target a single member of the human epidermal growth factor receptor (HER) family inhibit signaling through competitive, reversible binding at the EGFR tyrosine kinase domain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In contrast, dacomitinib is a pan-HER inhibitor that binds irreversibly to the ATP domain of HER1, HER2 and HER4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In Phase I/II trials, dacomitinib showed antitumor activity in patients with progressive NSCLC after treatment with an EGFR inhibitor and ≥1 chemotherapy regimen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J Thorac Oncol 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2010;5:S371)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dacomitinib to erlotinib as second- or third-line therapy for advanced 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851040" y="1698480"/>
          <a:ext cx="3517920" cy="2367000"/>
        </p:xfrm>
        <a:graphic>
          <a:graphicData uri="http://schemas.openxmlformats.org/drawingml/2006/table">
            <a:tbl>
              <a:tblPr/>
              <a:tblGrid>
                <a:gridCol w="3517920"/>
              </a:tblGrid>
              <a:tr h="4222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18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944720">
                <a:tc>
                  <a:txBody>
                    <a:bodyPr lIns="90000" rIns="90000" anchor="t">
                      <a:noAutofit/>
                    </a:bodyPr>
                    <a:p>
                      <a:pPr marL="343080" indent="-279720"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istologically confirmed advanced 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79720"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on after 1-2 prior chemotherapy regime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79720"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vailable tumor tissu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79720"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prior EGFR inhibit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749160" y="4221000"/>
            <a:ext cx="78091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Progression-free survival (P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tratification by smoking status, race and histologic subtype prior to rand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176880" y="1690560"/>
          <a:ext cx="2162160" cy="1025640"/>
        </p:xfrm>
        <a:graphic>
          <a:graphicData uri="http://schemas.openxmlformats.org/drawingml/2006/table">
            <a:tbl>
              <a:tblPr/>
              <a:tblGrid>
                <a:gridCol w="2162160"/>
              </a:tblGrid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0 mg/d 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5" name="Line 2"/>
          <p:cNvSpPr/>
          <p:nvPr/>
        </p:nvSpPr>
        <p:spPr>
          <a:xfrm>
            <a:off x="4368960" y="2932200"/>
            <a:ext cx="1503360" cy="468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5854680" y="2053800"/>
            <a:ext cx="322200" cy="655560"/>
            <a:chOff x="5854680" y="2053800"/>
            <a:chExt cx="322200" cy="655560"/>
          </a:xfrm>
        </p:grpSpPr>
        <p:sp>
          <p:nvSpPr>
            <p:cNvPr id="377" name="Line 14"/>
            <p:cNvSpPr/>
            <p:nvPr/>
          </p:nvSpPr>
          <p:spPr>
            <a:xfrm flipV="1">
              <a:off x="5854680" y="205380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>
              <a:off x="5854680" y="205416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17"/>
          <p:cNvSpPr/>
          <p:nvPr/>
        </p:nvSpPr>
        <p:spPr>
          <a:xfrm>
            <a:off x="5854680" y="2253600"/>
            <a:ext cx="0" cy="67788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"/>
          <p:cNvSpPr/>
          <p:nvPr/>
        </p:nvSpPr>
        <p:spPr>
          <a:xfrm>
            <a:off x="4724280" y="2546280"/>
            <a:ext cx="782640" cy="78264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6"/>
          <p:cNvGrpSpPr/>
          <p:nvPr/>
        </p:nvGrpSpPr>
        <p:grpSpPr>
          <a:xfrm>
            <a:off x="5854680" y="2844000"/>
            <a:ext cx="322200" cy="960120"/>
            <a:chOff x="5854680" y="2844000"/>
            <a:chExt cx="322200" cy="960120"/>
          </a:xfrm>
        </p:grpSpPr>
        <p:sp>
          <p:nvSpPr>
            <p:cNvPr id="382" name="Line 17"/>
            <p:cNvSpPr/>
            <p:nvPr/>
          </p:nvSpPr>
          <p:spPr>
            <a:xfrm>
              <a:off x="5854680" y="2844000"/>
              <a:ext cx="0" cy="9601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8"/>
            <p:cNvSpPr/>
            <p:nvPr/>
          </p:nvSpPr>
          <p:spPr>
            <a:xfrm>
              <a:off x="5854680" y="380376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4" name=""/>
          <p:cNvGraphicFramePr/>
          <p:nvPr/>
        </p:nvGraphicFramePr>
        <p:xfrm>
          <a:off x="6164280" y="3130560"/>
          <a:ext cx="2173320" cy="1049400"/>
        </p:xfrm>
        <a:graphic>
          <a:graphicData uri="http://schemas.openxmlformats.org/drawingml/2006/table">
            <a:tbl>
              <a:tblPr/>
              <a:tblGrid>
                <a:gridCol w="2173320"/>
              </a:tblGrid>
              <a:tr h="1049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acom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 mg/d 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4622760" y="212724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(1: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812880" y="1676520"/>
          <a:ext cx="7607160" cy="1226880"/>
        </p:xfrm>
        <a:graphic>
          <a:graphicData uri="http://schemas.openxmlformats.org/drawingml/2006/table">
            <a:tbl>
              <a:tblPr/>
              <a:tblGrid>
                <a:gridCol w="2235240"/>
                <a:gridCol w="1619280"/>
                <a:gridCol w="1536480"/>
                <a:gridCol w="1057320"/>
                <a:gridCol w="115884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comitinib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9032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8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9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42800" y="2930400"/>
            <a:ext cx="822636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182880" tIns="13716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Overall improvement in PFS was observed in several clinical and molecular subsets, including the following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KRAS wild type/EGFR any status (n = 121), HR = 0.55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 = 0.00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KRAS wild type/EGFR wild type (n = 90), HR = 0.61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 = 0.04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EGFR mutant (n = 30), HR = 0.46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 = 0.09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825480" y="1655640"/>
          <a:ext cx="7556400" cy="2768760"/>
        </p:xfrm>
        <a:graphic>
          <a:graphicData uri="http://schemas.openxmlformats.org/drawingml/2006/table">
            <a:tbl>
              <a:tblPr/>
              <a:tblGrid>
                <a:gridCol w="1854360"/>
                <a:gridCol w="1676160"/>
                <a:gridCol w="1676520"/>
                <a:gridCol w="1168560"/>
                <a:gridCol w="118080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comi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0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. of 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5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4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2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1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 (OS) and Response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31"/>
          <p:cNvSpPr/>
          <p:nvPr/>
        </p:nvSpPr>
        <p:spPr>
          <a:xfrm>
            <a:off x="825480" y="4589640"/>
            <a:ext cx="779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RR = objective response rate; CBR = clinical benefit rate (ORR + stable disease at ≥24 weeks); DoR = duration of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901800" y="1498680"/>
          <a:ext cx="7429320" cy="3821040"/>
        </p:xfrm>
        <a:graphic>
          <a:graphicData uri="http://schemas.openxmlformats.org/drawingml/2006/table">
            <a:tbl>
              <a:tblPr/>
              <a:tblGrid>
                <a:gridCol w="2527200"/>
                <a:gridCol w="1244520"/>
                <a:gridCol w="1181160"/>
                <a:gridCol w="1193760"/>
                <a:gridCol w="128268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comitinib (n = 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0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rmatitis acnei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oma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3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onych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ry s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xfoliative 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nd-foot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acomitinib demonstrated significant improvements in PF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versus erlotinib with acceptable toxicity for patients with advanc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nefit in progression-free survival was observed in most clinical and molecular subsets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K-ras wild-type/EGFR any status NSCL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K-ras wild-type/EGFR wild-type NSCL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GFR-mutant NSCL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ailure to demonstrate improvement in OS may be due to lack of power and/or imbalance in poststudy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ngoing Phase III ARCHER study is under way to confirm these finding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6-11T14:12:37Z</cp:lastPrinted>
  <dcterms:modified xsi:type="dcterms:W3CDTF">2013-07-22T18:56:25Z</dcterms:modified>
  <cp:revision>721</cp:revision>
  <dc:subject/>
  <dc:title>Research To Practice</dc:title>
</cp:coreProperties>
</file>