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2A7-3AB3-4FB5-98E9-0D584EE6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0DA-C53F-4C26-ABA6-1242B0FA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1809B-125D-40E6-9A5B-F634529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3E4DE-B7FA-48DC-BDA8-8AB36FA5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CB80-DE9D-4B36-AC0A-8A2EECA4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4D25-1961-4E1D-A3B1-2A1343D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2A6A-028F-4D6C-BA3B-78AAAA98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492E-A1E7-4576-8E18-0ABFA31F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810EC-F23D-4D10-9DF6-3670DF4A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F67D-60DC-496E-B43B-18BC4D71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0DD5-36C8-4810-8FA4-F1B75A7B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288-D253-4C73-97DD-E8F00CCA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AEE-56A4-494F-8893-198054DF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648B-0699-4EF1-82AD-ED1F6AA9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A9E9-9F79-4E72-8140-BA839343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D939-FB00-46F5-BE37-3AB91A9B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ED4A-A024-4821-A6D8-F57EA93C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C3B5-A78D-46AA-A83F-87EF7C93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954D-A79F-492B-AE80-8E8E777E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B8B1-3D3C-41D3-B56E-D9235B6E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7CE-5045-4727-8849-CBCF7C16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2F1C-BA7D-4607-9712-DAD4CC50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FA5C-F965-4660-AA20-C341538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9E12-7CC7-44B2-A56D-14AC0EE8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BDC4-2F13-4004-9C56-EF8AF180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C81D-8C17-4301-A6F2-91E5E462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FF9E-0834-4D40-9F9D-0D62E517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AE75-075E-48D3-B0E0-C4EE269C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CA97-978D-40FA-9E6D-DD875A72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C117-2C1D-41E4-9B3E-4E5474CA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A5F0-75EC-4021-B936-AE6CEE5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579-48CD-47F5-B4DE-DD5F838A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60F1-B5FA-4337-8D29-26B3D035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CE4E-6F06-4692-B955-DDE4D97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D2E8-7886-4060-A68A-075E7CA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34B5-67DF-47D2-95F9-C2EA91B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AE48-547D-4CAE-A389-692E3473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8FBB2-1ABB-4193-8068-E70858AA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C1F1-F6EB-4AC4-87AF-618E539A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DF8-B8D2-4956-AF52-A56EE8D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39455-6E98-4691-B613-6E456DB9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065-D48A-48CA-82BE-0CCCC28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2B2FE-D1B5-49C8-BEA9-914195BB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E0B1-432E-41E9-A2D2-016C6724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AD7B-52F1-4655-8A80-5A58B5B0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4575-569F-4104-A888-0C220090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3F2D-836B-43AD-BDBE-612ADA00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15A4-FA3A-42CC-87FB-5D66775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7EEE-8D37-4FB3-A331-5C87E46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42D1-9F51-4409-B4BD-099A33B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B3AB-DBC8-424C-9E5B-35DFD024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F0F76-BCA1-4719-876E-F24CB7BE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480-0F14-4F57-9822-A62453A6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B50A-6EA6-463C-9980-CD421E6F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F2C-556E-4203-BB1A-A67E298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85142-E525-4C7F-80E0-14BD5F33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5BC00-40D4-4BF5-A04B-500A8C1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4C96-4244-4FEA-9EB3-CCFD38EF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37FC5-9108-4E0C-B8B0-7FBF97A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67AB-134B-48D0-80E0-04CFDFFB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B5D0-1BBD-48A4-A142-89970AAF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B80B1-D69C-4282-97DA-A8C8320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F88-0FF2-47C7-8A97-3984C68F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45F4-29C0-4DE6-9811-6BD30E0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9F73E-50E3-4748-9699-7E8F0E5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799A-7F43-4BC5-97FA-EABBCB22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2796E-F1B9-427E-AA3E-6628575A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0FDAE-6B5D-4690-8FAD-63157782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161-F0B0-4C9B-830A-9474B7F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A87AB-F5BE-4DE0-8431-9965A695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226E-2B1C-4D20-AAFD-84489A80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5DF7B-E2A3-46A2-B79F-3A4849E1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1CAC0-81C7-42FB-B1FA-19E53F372F7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CD605-4A16-478A-AD28-D4DB8D4043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6627D-6BB2-468E-9644-A5ADAEE30FB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4BEB1-BD97-4DAC-B16E-C2F53C5336A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B9B72-F48F-4DA7-B10E-06C767A3213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A2D9F-46F9-4EC5-9E6D-78E1C4BE7F2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2759E-E267-48EB-8FD3-752C075AF81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55B6F-0D38-4D7B-B4AB-5B55EA6420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666D6-B964-49FB-B6A1-A94A58AA4FD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5AFA6-FCF2-44D2-A604-59514B502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4C56E-EFD6-494F-87F9-E408AFE0026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2A9B7-656C-446E-9355-48BB70BA4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pping the Hallmark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ung Adenocarcinoma with Massively Parallel Seque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Imielinski M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Cell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 2012;150(6):1107-2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represents a significant advance toward the complete characterization of the genomic alterations in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data are a testament to the power of unbiased, large-scale next-generation sequencing technology to expand our understanding of tumor biolog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novel mutated genes identified in this study warrant further investigation to determine their biologic, prognostic and/or therapeutic significance in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novel mutated genes have the potential to lead to clinical translation and improved outcomes for patients with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ral trials demonstrated superior efficacy of targeted kinase inhibitors compared to standard chemotherapy in lung adenocarcinoma harboring EGFR mutations or ALK fus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ctivating mutations, such as K-ras and BRAF, or translocations in RET and ROS1 are being pursued as clinical targets in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ung adenocarcinomas often express loss-of-function (LOF) mutations and deletions in several tumor suppressor genes, but such alterations are difficult to exploit therapeuticall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erify previously identified genes with frequent somatic alteration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dentify novel mutated genes that may contribute to the pathogenesis of lung adenocarcinoma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ext-generation sequencing was used to sequence DNA samples from lung adenocarcinomas (n = 183)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hemotherapy-naïve, primary resection specimens (n = 182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tchemotherapy, metastatic tumor specimen from a never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moker (n = 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rmal tissues wer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matched to tumor sampl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l tumor/normal pairs with a combination of whole-exome sequencing (WES) or whole-genome sequencing (WGS) were examined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WES (n = 159); WES and WGS (n = 23); WGS (n = 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plementary SNP array analysis was used to detect genome-wide somatic copy number alter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812880" y="1409760"/>
          <a:ext cx="7581960" cy="3378240"/>
        </p:xfrm>
        <a:graphic>
          <a:graphicData uri="http://schemas.openxmlformats.org/drawingml/2006/table">
            <a:tbl>
              <a:tblPr/>
              <a:tblGrid>
                <a:gridCol w="4884480"/>
                <a:gridCol w="2697480"/>
              </a:tblGrid>
              <a:tr h="482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2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 at surgery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6 (36-87)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2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ver smo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ight smokers (≤10 pack-y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2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avy smokers (&gt;10 pack-y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 smoking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Features of Study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31"/>
          <p:cNvSpPr/>
          <p:nvPr/>
        </p:nvSpPr>
        <p:spPr>
          <a:xfrm>
            <a:off x="825480" y="4917960"/>
            <a:ext cx="765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e cohort included: Stage I (n = 90), Stage II (n = 36), Stage III (n = 22), Stage IV (n = 10) and unknown stage of lung adenocarcinoma (n = 2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omatic substitutions and indels (small insertions and deletions) were identifi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77,736 events were identified within the exon regions of gene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of 8.1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utations/megabase of DNA (Mb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an of 11.9 mutations/Mb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mutations were comprised of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issense (43,813), silent (14,801), nonsense (3,504), splice site (1,460), deletions (2,310), insertions (839) and other mutations predominantly residing in the 5’ and 3’ untranslated regions (11,009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any of the indels are predicted to have a functional consequence on protein sequenc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Comparison of Paired Tumor/Normal Sequenc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73152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a significantly higher exonic mutation rate in tumors from smokers compared to those of never smoke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an: 12.9/Mb (smokers) vs 2.9/Mb (never smokers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all 183 examined case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most frequent somatic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utation signatures were C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T base substitution in the CpG dinucleotide setting (CpG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T) and C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A base substitut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The least frequent mutation type was A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C base substitut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Differentiation of smokers and nonsmokers was evident from comparison of mutation count from the CpG </a:t>
            </a:r>
            <a:r>
              <a:rPr b="0" lang="en-US" sz="20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T and C </a:t>
            </a:r>
            <a:r>
              <a:rPr b="0" lang="en-US" sz="20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A signatur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Genetic Signatures of Smok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us Nonsmo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he study cohort, there were gains i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ERT (42%), MYC (31%), EGFR (22%) and NKX2-1 (18%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ere frequent losses i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P53 (18%), CDKN2A (24%), SMAD4, KEAP1 and SMARCA4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GFR mutations were significantly anticorrelated with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K-ras mutation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3.3 x 10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omatic mutation rate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5.9 x 10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GFR mutations were significantly correlated with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ever/light smoking statu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2.0 x 10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mputed never/light smoking statu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1.5 x 10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utations in U2AF1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0.00011) and TP53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0.0014) were associated with significantly reduced progression-free surviv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393840" y="201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Correlations Among 25 Significantly Mutated Genes and Clinicopathologic and Genomic Fea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1500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2AF1, an RNA binding protein, was one of the most significantly mutated gen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2.0 x 10</a:t>
            </a:r>
            <a:r>
              <a:rPr b="0" lang="en-US" sz="2000" spc="-1" strike="noStrike" baseline="30000">
                <a:solidFill>
                  <a:srgbClr val="464847"/>
                </a:solidFill>
                <a:latin typeface="Arial"/>
              </a:rPr>
              <a:t>-6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BM10, an RNA binding protein, was frequently mutated in 12/183 (7%) ca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RID1A, which encodes a key protein in the SWI/SNF chromatin-remodeling complex, was mutated in 8% of ca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393480" y="2016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mination of Candidate Lung Adenocarcinoma 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gene with the highest rate of rearrangements for its size was CDKN2A (4.3/sequenced Mb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vel discoveries included 2 exon deletions in EGFR. Similar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deletions were previously shown to be oncogenic in glioblastoma multiform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id not identify any in-frame rearrangements involving kinase fusion targets in lung adenocarcinoma ALK, RET1 and ROS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 out-of-frame ROS1-CD74 translocation was identified in a single pati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393480" y="2016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ation of Novel and Recurrent Structural Variants in Lung Adenocarci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6-11T14:06:43Z</cp:lastPrinted>
  <dcterms:modified xsi:type="dcterms:W3CDTF">2013-07-22T19:06:47Z</dcterms:modified>
  <cp:revision>748</cp:revision>
  <dc:subject/>
  <dc:title>Research To Practice</dc:title>
</cp:coreProperties>
</file>