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2E6-CE2E-4F34-B0DF-96218CB6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5E6-9022-4082-BEE2-693CAC05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F66-AABF-445B-AC95-E5C6D35E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7AB-624D-4BAE-8BE3-825F052B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D32F-D5F8-4A01-AF11-A4A3B50D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C4A9-EE53-497A-B084-8C422B73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37EF-FCB6-4A54-B978-747A06D1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B86B-E62B-4C0B-8BC9-0D4E172B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99DE-13A2-4EC9-BD19-E277CF8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977C-8F37-4F24-89EE-6B95B4B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A317-22E3-4882-9DFA-B1130C5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577-9F57-409C-AA33-0F1C5EDE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DC4C-3A80-48A7-A03F-E8C8A65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2F7-47DF-443B-AF53-C1207B4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ED48-8392-4EB0-B67E-DEF21171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3AC-5F5F-4B0B-9380-657DF42E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0C6D-29F2-4F34-9AC2-D9DC0456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6E4-5386-4AC9-B0F9-0EC87E44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7881-4BB1-4AF6-898F-B0845B91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CA23-8873-475E-ACB3-FEF7E171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0588-2FD9-4F1C-9557-5419992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D05-E8F9-4691-882A-00179800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4F8B-AE9B-456F-A186-D0430DBC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D8C9-2DB6-4A0B-97B0-A179A585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17CF-4144-41D0-8DB0-7D30B51C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11A2-6FA8-41E8-B6E2-E2E2833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4EB2-0A22-463D-9BD2-EDD5ED3E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BBAF-D635-4D4E-B3EA-02842CC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35C9-3DA7-4412-85FB-45230B26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4199-24E0-435E-9DC1-C7A986D8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D438-B60F-48E1-BC6E-D695B046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C87-D66F-48A0-9E81-4334219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16D-E3C3-4E85-9B5A-D1B0CCAE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E162-84D3-4F64-AD66-2AF8AFC8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D847-78D0-4E36-8AE5-51B48E0C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BEE6-AE2A-4E46-B90D-9CF4D12D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FF8D-3164-4126-BB7C-78218B4C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132D-D520-4C51-B4F4-7B3386CB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ABF49-8625-4010-A0E1-84102645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FF25-1A74-4829-A4D2-F05ADBF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B014D-E8EF-445B-A46D-DD98DC8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C88A-7F3E-4320-A57C-1E7CA28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524-E52A-4724-ABFC-773BFC8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62BC-9C7A-4FDB-A5C7-6211AC5F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EA10-DE45-4589-92A9-6F086A43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2255-AF0B-4FF2-AA9A-64C11CC1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D27-9F7D-4643-BDD9-A811969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1DA-4F00-4B7C-BB6C-0265836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CE55B-2B29-4C75-ACD4-8A1D2B5794C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F1217-37C6-4F64-BF09-47110D4336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2B4B-A439-4C09-9EAF-7B5927C6B7D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B018D-7286-4F13-9740-1965208565F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D402E-2060-4CD5-9AF8-F9517DEBCB8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31A46-06AE-4222-80DB-0B5ADC048A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41F9D-0FD5-42CD-B0C6-3D3FBFF8FDF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1568C-B4B8-4757-A1A5-D75B3F456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domized Phase III Trial of Single-Agent Pemetrexed versus Carboplatin and Pemetrexed in Patients with Advanced Non-Small-Cell Lung Cancer and Eastern Cooperative Oncology Group Performance Status of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Zukin M et 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[Epub ahead of print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688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is currently no standard treatment for patients with advanced NSCLC and a performance status (PS) of 2, and clinical practice ranges from best supportive care to combination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sults from several Phase III trials have suggested that patients with advanced NSCLC with a PS of 2 may have a superior outcome with platinum-based combinations versus single-agent chemotherap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5;23:190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27:5808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of single-agent pemetrexed to that of combination chemotherapy with pemetrexed/carboplatin as first-line therapy for patients with advanced NSCLC and a PS of 2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38080" y="1574640"/>
          <a:ext cx="3036960" cy="2374920"/>
        </p:xfrm>
        <a:graphic>
          <a:graphicData uri="http://schemas.openxmlformats.org/drawingml/2006/table">
            <a:tbl>
              <a:tblPr/>
              <a:tblGrid>
                <a:gridCol w="3036960"/>
              </a:tblGrid>
              <a:tr h="395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97964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-IV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histology, amended to nonsquamous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CNS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31"/>
          <p:cNvSpPr/>
          <p:nvPr/>
        </p:nvSpPr>
        <p:spPr>
          <a:xfrm>
            <a:off x="876240" y="4191120"/>
            <a:ext cx="76201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 Overall survival (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Secondary endpoints included: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rogression-free survival (PFS), overall response rate (ORR) and safe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60840" y="1523880"/>
          <a:ext cx="2921040" cy="914400"/>
        </p:xfrm>
        <a:graphic>
          <a:graphicData uri="http://schemas.openxmlformats.org/drawingml/2006/table">
            <a:tbl>
              <a:tblPr/>
              <a:tblGrid>
                <a:gridCol w="2921040"/>
              </a:tblGrid>
              <a:tr h="91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emetrex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00 mg/m</a:t>
                      </a:r>
                      <a:r>
                        <a:rPr b="0" lang="pl-PL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(IV)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(n = 1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460840" y="2917800"/>
          <a:ext cx="2921040" cy="1189080"/>
        </p:xfrm>
        <a:graphic>
          <a:graphicData uri="http://schemas.openxmlformats.org/drawingml/2006/table">
            <a:tbl>
              <a:tblPr/>
              <a:tblGrid>
                <a:gridCol w="29210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emetrexed </a:t>
                      </a: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0 mg/m</a:t>
                      </a:r>
                      <a:r>
                        <a:rPr b="0" lang="pl-PL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(IV) q3wk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+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UC 5 (IV)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(n =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3" name="Line 2"/>
          <p:cNvSpPr/>
          <p:nvPr/>
        </p:nvSpPr>
        <p:spPr>
          <a:xfrm>
            <a:off x="3875040" y="284148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3"/>
          <p:cNvGrpSpPr/>
          <p:nvPr/>
        </p:nvGrpSpPr>
        <p:grpSpPr>
          <a:xfrm>
            <a:off x="5130720" y="1984320"/>
            <a:ext cx="322200" cy="1036080"/>
            <a:chOff x="5130720" y="1984320"/>
            <a:chExt cx="322200" cy="1036080"/>
          </a:xfrm>
        </p:grpSpPr>
        <p:sp>
          <p:nvSpPr>
            <p:cNvPr id="255" name="Line 14"/>
            <p:cNvSpPr/>
            <p:nvPr/>
          </p:nvSpPr>
          <p:spPr>
            <a:xfrm flipV="1">
              <a:off x="5130720" y="236484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5"/>
            <p:cNvSpPr/>
            <p:nvPr/>
          </p:nvSpPr>
          <p:spPr>
            <a:xfrm>
              <a:off x="5130720" y="19843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6"/>
          <p:cNvGrpSpPr/>
          <p:nvPr/>
        </p:nvGrpSpPr>
        <p:grpSpPr>
          <a:xfrm>
            <a:off x="5130720" y="1984320"/>
            <a:ext cx="322200" cy="1563840"/>
            <a:chOff x="5130720" y="1984320"/>
            <a:chExt cx="322200" cy="1563840"/>
          </a:xfrm>
        </p:grpSpPr>
        <p:sp>
          <p:nvSpPr>
            <p:cNvPr id="258" name="Line 17"/>
            <p:cNvSpPr/>
            <p:nvPr/>
          </p:nvSpPr>
          <p:spPr>
            <a:xfrm>
              <a:off x="5130720" y="1984320"/>
              <a:ext cx="0" cy="156384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8"/>
            <p:cNvSpPr/>
            <p:nvPr/>
          </p:nvSpPr>
          <p:spPr>
            <a:xfrm>
              <a:off x="5130720" y="35481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Oval 4"/>
          <p:cNvSpPr/>
          <p:nvPr/>
        </p:nvSpPr>
        <p:spPr>
          <a:xfrm>
            <a:off x="4110120" y="2473200"/>
            <a:ext cx="731880" cy="7318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5452920" y="2463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x ≤4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14400" y="1341360"/>
          <a:ext cx="7345440" cy="3583080"/>
        </p:xfrm>
        <a:graphic>
          <a:graphicData uri="http://schemas.openxmlformats.org/drawingml/2006/table">
            <a:tbl>
              <a:tblPr/>
              <a:tblGrid>
                <a:gridCol w="2084400"/>
                <a:gridCol w="1343160"/>
                <a:gridCol w="1469880"/>
                <a:gridCol w="1179360"/>
                <a:gridCol w="1268640"/>
              </a:tblGrid>
              <a:tr h="615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-month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-month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utcomes: A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914400" y="5018040"/>
            <a:ext cx="734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 = pemetrexed; PC = pemetrexed + carboplatin; HR = hazard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follow-up: 27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1"/>
          <p:cNvSpPr/>
          <p:nvPr/>
        </p:nvSpPr>
        <p:spPr>
          <a:xfrm>
            <a:off x="914400" y="4292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favors superiority of combination regimen;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xploratory analysis, no significant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4400" y="1501920"/>
          <a:ext cx="7345440" cy="2684160"/>
        </p:xfrm>
        <a:graphic>
          <a:graphicData uri="http://schemas.openxmlformats.org/drawingml/2006/table">
            <a:tbl>
              <a:tblPr/>
              <a:tblGrid>
                <a:gridCol w="3208320"/>
                <a:gridCol w="1379520"/>
                <a:gridCol w="1378080"/>
                <a:gridCol w="1379520"/>
              </a:tblGrid>
              <a:tr h="914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ding squamous cell/unknown histology (n = 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P vs P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PF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O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no. of comorbidities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5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Analysis by Histology and Number of Comorbid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i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41240" y="1498680"/>
          <a:ext cx="7683480" cy="3706560"/>
        </p:xfrm>
        <a:graphic>
          <a:graphicData uri="http://schemas.openxmlformats.org/drawingml/2006/table">
            <a:tbl>
              <a:tblPr/>
              <a:tblGrid>
                <a:gridCol w="2452680"/>
                <a:gridCol w="1452600"/>
                <a:gridCol w="1452600"/>
                <a:gridCol w="1163520"/>
                <a:gridCol w="1162080"/>
              </a:tblGrid>
              <a:tr h="438120">
                <a:tc>
                  <a:txBody>
                    <a:bodyPr tIns="43560" bIns="435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(n = 3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(n = 3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280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lderly patients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3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.9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6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6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316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ounger pati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9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tIns="43560" bIns="435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280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ver smok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.2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.4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316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1092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ctive/former smok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6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5" name="Rectangle 31"/>
          <p:cNvSpPr/>
          <p:nvPr/>
        </p:nvSpPr>
        <p:spPr>
          <a:xfrm>
            <a:off x="914400" y="52624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≥70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1"/>
          <p:cNvSpPr/>
          <p:nvPr/>
        </p:nvSpPr>
        <p:spPr>
          <a:xfrm>
            <a:off x="914400" y="34974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i="1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= 0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1501920"/>
          <a:ext cx="7345440" cy="1868400"/>
        </p:xfrm>
        <a:graphic>
          <a:graphicData uri="http://schemas.openxmlformats.org/drawingml/2006/table">
            <a:tbl>
              <a:tblPr/>
              <a:tblGrid>
                <a:gridCol w="3384720"/>
                <a:gridCol w="1981080"/>
                <a:gridCol w="1979640"/>
              </a:tblGrid>
              <a:tr h="587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0440">
                <a:tc>
                  <a:txBody>
                    <a:bodyPr lIns="27432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valuable patient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67; 79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27432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ll patients in randomiza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102;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901800" y="1282680"/>
          <a:ext cx="7340400" cy="3371760"/>
        </p:xfrm>
        <a:graphic>
          <a:graphicData uri="http://schemas.openxmlformats.org/drawingml/2006/table">
            <a:tbl>
              <a:tblPr/>
              <a:tblGrid>
                <a:gridCol w="2520720"/>
                <a:gridCol w="1517760"/>
                <a:gridCol w="1758960"/>
                <a:gridCol w="1542960"/>
              </a:tblGrid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(n = 1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(n =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/em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ys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/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1"/>
          <p:cNvSpPr/>
          <p:nvPr/>
        </p:nvSpPr>
        <p:spPr>
          <a:xfrm>
            <a:off x="812880" y="470844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rade 5 AE rates were 0% vs 3.9% (P vs PC arms) and included renal failure, sepsis, pneumonia and thrombo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bination chemotherapy with pemetrexed/carboplatin significantly improves survival compared to single-agent pemetrexed for patients with advanced NSCLC and ECOG PS 2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though comorbidity data were not uniformly collected in this study, no major difference was observed in outcome based on the presence or number of comorbidit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fore, it is suggested that future trials for patients with ECOG PS 2 use a formal comorbidity analysis as a stratification factor to further elucidate this issu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5Z</dcterms:created>
  <dc:creator>Research To Practice</dc:creator>
  <dc:description/>
  <cp:keywords/>
  <dc:language>en-US</dc:language>
  <cp:lastModifiedBy>Silvana Izquierdo</cp:lastModifiedBy>
  <cp:lastPrinted>2013-06-11T14:02:20Z</cp:lastPrinted>
  <dcterms:modified xsi:type="dcterms:W3CDTF">2013-07-22T19:10:41Z</dcterms:modified>
  <cp:revision>684</cp:revision>
  <dc:subject/>
  <dc:title>Research To Practice</dc:title>
</cp:coreProperties>
</file>