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7.png" ContentType="image/png"/>
  <Override PartName="/ppt/media/image37.png" ContentType="image/png"/>
  <Override PartName="/ppt/media/image28.png" ContentType="image/png"/>
  <Override PartName="/ppt/media/image30.png" ContentType="image/png"/>
  <Override PartName="/ppt/media/image9.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5.png" ContentType="image/png"/>
  <Override PartName="/ppt/media/image35.png" ContentType="image/png"/>
  <Override PartName="/ppt/media/image8.jpeg" ContentType="image/jpeg"/>
  <Override PartName="/ppt/media/image38.png" ContentType="image/pn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 id="272" r:id="rId67"/>
    <p:sldId id="273" r:id="rId68"/>
    <p:sldId id="274" r:id="rId69"/>
    <p:sldId id="275" r:id="rId70"/>
    <p:sldId id="276" r:id="rId71"/>
    <p:sldId id="277" r:id="rId72"/>
    <p:sldId id="278" r:id="rId73"/>
    <p:sldId id="279" r:id="rId74"/>
    <p:sldId id="280" r:id="rId75"/>
    <p:sldId id="281"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slide" Target="slides/slide17.xml"/><Relationship Id="rId68" Type="http://schemas.openxmlformats.org/officeDocument/2006/relationships/slide" Target="slides/slide18.xml"/><Relationship Id="rId69" Type="http://schemas.openxmlformats.org/officeDocument/2006/relationships/slide" Target="slides/slide19.xml"/><Relationship Id="rId70" Type="http://schemas.openxmlformats.org/officeDocument/2006/relationships/slide" Target="slides/slide20.xml"/><Relationship Id="rId71" Type="http://schemas.openxmlformats.org/officeDocument/2006/relationships/slide" Target="slides/slide21.xml"/><Relationship Id="rId72" Type="http://schemas.openxmlformats.org/officeDocument/2006/relationships/slide" Target="slides/slide22.xml"/><Relationship Id="rId73" Type="http://schemas.openxmlformats.org/officeDocument/2006/relationships/slide" Target="slides/slide23.xml"/><Relationship Id="rId74" Type="http://schemas.openxmlformats.org/officeDocument/2006/relationships/slide" Target="slides/slide24.xml"/><Relationship Id="rId75" Type="http://schemas.openxmlformats.org/officeDocument/2006/relationships/slide" Target="slides/slide25.xml"/><Relationship Id="rId76" Type="http://schemas.openxmlformats.org/officeDocument/2006/relationships/slide" Target="slides/slide26.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0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0" name="PlaceHolder 2"/>
          <p:cNvSpPr>
            <a:spLocks noGrp="1"/>
          </p:cNvSpPr>
          <p:nvPr>
            <p:ph type="dt" idx="1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33" name="PlaceHolder 5"/>
          <p:cNvSpPr>
            <a:spLocks noGrp="1"/>
          </p:cNvSpPr>
          <p:nvPr>
            <p:ph type="ftr" idx="1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4" name="PlaceHolder 6"/>
          <p:cNvSpPr>
            <a:spLocks noGrp="1"/>
          </p:cNvSpPr>
          <p:nvPr>
            <p:ph type="sldNum" idx="1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AF84-5FCB-4066-9187-5C506A6F9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sldImg"/>
          </p:nvPr>
        </p:nvSpPr>
        <p:spPr>
          <a:xfrm>
            <a:off x="1143000" y="685800"/>
            <a:ext cx="4572000" cy="3429000"/>
          </a:xfrm>
          <a:prstGeom prst="rect">
            <a:avLst/>
          </a:prstGeom>
          <a:ln w="0">
            <a:noFill/>
          </a:ln>
        </p:spPr>
      </p:sp>
      <p:sp>
        <p:nvSpPr>
          <p:cNvPr id="2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10CC-9E65-44A3-9C40-93161FCDF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sldImg"/>
          </p:nvPr>
        </p:nvSpPr>
        <p:spPr>
          <a:xfrm>
            <a:off x="1143000" y="685800"/>
            <a:ext cx="4572000" cy="3429000"/>
          </a:xfrm>
          <a:prstGeom prst="rect">
            <a:avLst/>
          </a:prstGeom>
          <a:ln w="0">
            <a:noFill/>
          </a:ln>
        </p:spPr>
      </p:sp>
      <p:sp>
        <p:nvSpPr>
          <p:cNvPr id="2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3DDB-D34C-4736-88A5-EEBE9CEC4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143000" y="685800"/>
            <a:ext cx="4572000" cy="3429000"/>
          </a:xfrm>
          <a:prstGeom prst="rect">
            <a:avLst/>
          </a:prstGeom>
          <a:ln w="0">
            <a:noFill/>
          </a:ln>
        </p:spPr>
      </p:sp>
      <p:sp>
        <p:nvSpPr>
          <p:cNvPr id="2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BC09-14DE-4989-9087-D10729147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sldImg"/>
          </p:nvPr>
        </p:nvSpPr>
        <p:spPr>
          <a:xfrm>
            <a:off x="1143000" y="685800"/>
            <a:ext cx="4572000" cy="3429000"/>
          </a:xfrm>
          <a:prstGeom prst="rect">
            <a:avLst/>
          </a:prstGeom>
          <a:ln w="0">
            <a:noFill/>
          </a:ln>
        </p:spPr>
      </p:sp>
      <p:sp>
        <p:nvSpPr>
          <p:cNvPr id="2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168D-12CC-42A6-882A-28AA8E3CB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143000" y="685800"/>
            <a:ext cx="4572000" cy="3429000"/>
          </a:xfrm>
          <a:prstGeom prst="rect">
            <a:avLst/>
          </a:prstGeom>
          <a:ln w="0">
            <a:noFill/>
          </a:ln>
        </p:spPr>
      </p:sp>
      <p:sp>
        <p:nvSpPr>
          <p:cNvPr id="2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A37C-3F1C-4B11-829B-D2A0B338A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sldImg"/>
          </p:nvPr>
        </p:nvSpPr>
        <p:spPr>
          <a:xfrm>
            <a:off x="1143000" y="685800"/>
            <a:ext cx="4572000" cy="3429000"/>
          </a:xfrm>
          <a:prstGeom prst="rect">
            <a:avLst/>
          </a:prstGeom>
          <a:ln w="0">
            <a:noFill/>
          </a:ln>
        </p:spPr>
      </p:sp>
      <p:sp>
        <p:nvSpPr>
          <p:cNvPr id="2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CB95-10B6-4C44-9177-202B72C6B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143000" y="685800"/>
            <a:ext cx="4572000" cy="3429000"/>
          </a:xfrm>
          <a:prstGeom prst="rect">
            <a:avLst/>
          </a:prstGeom>
          <a:ln w="0">
            <a:noFill/>
          </a:ln>
        </p:spPr>
      </p:sp>
      <p:sp>
        <p:nvSpPr>
          <p:cNvPr id="2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9C0A-D69E-4979-A905-AEE1CDB4A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sldImg"/>
          </p:nvPr>
        </p:nvSpPr>
        <p:spPr>
          <a:xfrm>
            <a:off x="1143000" y="685800"/>
            <a:ext cx="4572000" cy="3429000"/>
          </a:xfrm>
          <a:prstGeom prst="rect">
            <a:avLst/>
          </a:prstGeom>
          <a:ln w="0">
            <a:noFill/>
          </a:ln>
        </p:spPr>
      </p:sp>
      <p:sp>
        <p:nvSpPr>
          <p:cNvPr id="2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E42E-3B3F-44B3-9B68-C11786232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143000" y="685800"/>
            <a:ext cx="4572000" cy="3429000"/>
          </a:xfrm>
          <a:prstGeom prst="rect">
            <a:avLst/>
          </a:prstGeom>
          <a:ln w="0">
            <a:noFill/>
          </a:ln>
        </p:spPr>
      </p:sp>
      <p:sp>
        <p:nvSpPr>
          <p:cNvPr id="2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B2FF-8221-4223-A40E-9BB4E5BA7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sldImg"/>
          </p:nvPr>
        </p:nvSpPr>
        <p:spPr>
          <a:xfrm>
            <a:off x="1143000" y="685800"/>
            <a:ext cx="4572000" cy="3429000"/>
          </a:xfrm>
          <a:prstGeom prst="rect">
            <a:avLst/>
          </a:prstGeom>
          <a:ln w="0">
            <a:noFill/>
          </a:ln>
        </p:spPr>
      </p:sp>
      <p:sp>
        <p:nvSpPr>
          <p:cNvPr id="2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CBB5-978D-4C9E-888F-8634265BA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PlaceHolder 1"/>
          <p:cNvSpPr>
            <a:spLocks noGrp="1"/>
          </p:cNvSpPr>
          <p:nvPr>
            <p:ph type="sldImg"/>
          </p:nvPr>
        </p:nvSpPr>
        <p:spPr>
          <a:xfrm>
            <a:off x="1143000" y="685800"/>
            <a:ext cx="4572000" cy="3429000"/>
          </a:xfrm>
          <a:prstGeom prst="rect">
            <a:avLst/>
          </a:prstGeom>
          <a:ln w="0">
            <a:noFill/>
          </a:ln>
        </p:spPr>
      </p:sp>
      <p:sp>
        <p:nvSpPr>
          <p:cNvPr id="2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ED4E-128C-4CF5-AF96-449B7C473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143000" y="685800"/>
            <a:ext cx="4572000" cy="3429000"/>
          </a:xfrm>
          <a:prstGeom prst="rect">
            <a:avLst/>
          </a:prstGeom>
          <a:ln w="0">
            <a:noFill/>
          </a:ln>
        </p:spPr>
      </p:sp>
      <p:sp>
        <p:nvSpPr>
          <p:cNvPr id="2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44C6-1F6A-447E-9F77-EB6C17B9F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PlaceHolder 1"/>
          <p:cNvSpPr>
            <a:spLocks noGrp="1"/>
          </p:cNvSpPr>
          <p:nvPr>
            <p:ph type="sldImg"/>
          </p:nvPr>
        </p:nvSpPr>
        <p:spPr>
          <a:xfrm>
            <a:off x="1143000" y="685800"/>
            <a:ext cx="4572000" cy="3429000"/>
          </a:xfrm>
          <a:prstGeom prst="rect">
            <a:avLst/>
          </a:prstGeom>
          <a:ln w="0">
            <a:noFill/>
          </a:ln>
        </p:spPr>
      </p:sp>
      <p:sp>
        <p:nvSpPr>
          <p:cNvPr id="2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1039-38C9-4B73-8E06-73B12A1FC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143000" y="685800"/>
            <a:ext cx="4572000" cy="3429000"/>
          </a:xfrm>
          <a:prstGeom prst="rect">
            <a:avLst/>
          </a:prstGeom>
          <a:ln w="0">
            <a:noFill/>
          </a:ln>
        </p:spPr>
      </p:sp>
      <p:sp>
        <p:nvSpPr>
          <p:cNvPr id="2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DB61-4A57-49E7-86CB-250C228BA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3" name="PlaceHolder 1"/>
          <p:cNvSpPr>
            <a:spLocks noGrp="1"/>
          </p:cNvSpPr>
          <p:nvPr>
            <p:ph type="sldImg"/>
          </p:nvPr>
        </p:nvSpPr>
        <p:spPr>
          <a:xfrm>
            <a:off x="1143000" y="685800"/>
            <a:ext cx="4572000" cy="3429000"/>
          </a:xfrm>
          <a:prstGeom prst="rect">
            <a:avLst/>
          </a:prstGeom>
          <a:ln w="0">
            <a:noFill/>
          </a:ln>
        </p:spPr>
      </p:sp>
      <p:sp>
        <p:nvSpPr>
          <p:cNvPr id="2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B6CD-541A-4C05-B605-42295D389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143000" y="685800"/>
            <a:ext cx="4572000" cy="3429000"/>
          </a:xfrm>
          <a:prstGeom prst="rect">
            <a:avLst/>
          </a:prstGeom>
          <a:ln w="0">
            <a:noFill/>
          </a:ln>
        </p:spPr>
      </p:sp>
      <p:sp>
        <p:nvSpPr>
          <p:cNvPr id="2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C246-B0AA-44E0-B697-2EA17714C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sldImg"/>
          </p:nvPr>
        </p:nvSpPr>
        <p:spPr>
          <a:xfrm>
            <a:off x="1143000" y="685800"/>
            <a:ext cx="4572000" cy="3429000"/>
          </a:xfrm>
          <a:prstGeom prst="rect">
            <a:avLst/>
          </a:prstGeom>
          <a:ln w="0">
            <a:noFill/>
          </a:ln>
        </p:spPr>
      </p:sp>
      <p:sp>
        <p:nvSpPr>
          <p:cNvPr id="2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71EE-CD97-4DEB-A925-5D473BFD0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PlaceHolder 1"/>
          <p:cNvSpPr>
            <a:spLocks noGrp="1"/>
          </p:cNvSpPr>
          <p:nvPr>
            <p:ph type="sldImg"/>
          </p:nvPr>
        </p:nvSpPr>
        <p:spPr>
          <a:xfrm>
            <a:off x="1143000" y="685800"/>
            <a:ext cx="4572000" cy="3429000"/>
          </a:xfrm>
          <a:prstGeom prst="rect">
            <a:avLst/>
          </a:prstGeom>
          <a:ln w="0">
            <a:noFill/>
          </a:ln>
        </p:spPr>
      </p:sp>
      <p:sp>
        <p:nvSpPr>
          <p:cNvPr id="2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1E46-1E3B-4BD4-8BF2-5118A420D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143000" y="685800"/>
            <a:ext cx="4572000" cy="3429000"/>
          </a:xfrm>
          <a:prstGeom prst="rect">
            <a:avLst/>
          </a:prstGeom>
          <a:ln w="0">
            <a:noFill/>
          </a:ln>
        </p:spPr>
      </p:sp>
      <p:sp>
        <p:nvSpPr>
          <p:cNvPr id="2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E142-FCD9-41A4-9F24-E9F5BE574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1143000" y="685800"/>
            <a:ext cx="4572000" cy="3429000"/>
          </a:xfrm>
          <a:prstGeom prst="rect">
            <a:avLst/>
          </a:prstGeom>
          <a:ln w="0">
            <a:noFill/>
          </a:ln>
        </p:spPr>
      </p:sp>
      <p:sp>
        <p:nvSpPr>
          <p:cNvPr id="2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22EE-F0D4-40DA-9BEA-7F71CFEEB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143000" y="685800"/>
            <a:ext cx="4572000" cy="3429000"/>
          </a:xfrm>
          <a:prstGeom prst="rect">
            <a:avLst/>
          </a:prstGeom>
          <a:ln w="0">
            <a:noFill/>
          </a:ln>
        </p:spPr>
      </p:sp>
      <p:sp>
        <p:nvSpPr>
          <p:cNvPr id="2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8D2C-D149-47B1-BA62-D16F87886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C37D-4CF3-498C-AFF8-D4DFBC197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8AF5-314F-4397-A564-29E012410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7FBC1-C137-4D74-9531-AD9F8542A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E393-4D30-45BC-B47D-287238281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7A4439-C92B-4EFB-91F9-0F1B0CECAF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06A4A-82C8-47AC-B0E1-1112A01F4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F3DF8E-39EB-4D6B-A834-ADEF38837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6632E2-2BC2-43E8-AA3F-09A6EE2A6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A8B54-15AA-454D-B89F-3A1AC11D6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CDA99A-FC23-485F-81DC-4E0A9C6CD5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78482-6A47-4BFB-8563-B8784225F0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620AE-5D70-47B8-9003-7FE8B2F06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08754-64E5-46DB-84B1-F2E4E411A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ACFC2-804F-4576-B7DC-DB7CBAD80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8DEC8-E7B0-4711-B125-1EEAD32C8E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17DFA7-CC2F-47F6-8080-904F427B4A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2129D-8C05-4AE7-B10A-7387B6181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94524B-1936-4642-A475-C481A7D991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91FB69-5413-4328-8EAF-8AC1FB0088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04FFB-17BE-4453-A028-22B8502C94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2F23A7-0D26-488B-87EF-C1AD9499BA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C828D3-E676-4BC4-BD79-4F54FD8A5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D3F7F-D03D-4DF4-9270-FF9C8A8D5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532C81-41A6-411F-8822-8A380B261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98221-8BB4-4C84-BFFD-1992437F4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04736-B76F-4B0B-A1C8-6A312A9D0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21A89-5C5B-42DB-A8A3-66DFFEE0C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D422F-8D23-4D32-813A-7F629CF45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38D67-8444-4CA5-9129-290D408E6F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FC953F-988D-4D7B-AC90-D72CC8413F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BB07FE-643F-46D1-AFDB-21755FA1BE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B0F007-9B78-419A-A790-C3135C6B36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46587-6DCB-4A2C-883F-8B3E439107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319B8E-23B8-4496-A2E6-BCA2260836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6E179-91DF-4F3E-BE7C-EFEC698CA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F03B6-472F-4FD5-B21D-67CDE9A69B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2B44F-5A6D-40E5-B4BC-E162349ED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559F9-62F5-42E1-B5B3-1B2D6772E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FC1F2-F468-452D-9188-B846E5C44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0DB1E-60AE-45F3-8BB0-FFCB13BBA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0501C-11A3-4216-B772-71C36347E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04BC6E-EE48-48D0-8C4A-D17EE53186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EB3B56-266A-4A12-8D7D-73C40B0634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B33DDB-07D1-43AB-8DBC-AADA578BE9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0A98D7-903E-4C05-8EDF-212BCE854A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F403EB-1567-4561-BD92-EE6D3CFC1B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E05ED-4716-4401-8AE1-C3CBD5A611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791EA-C901-433B-B87F-C65CDBB7AC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79D88E-9537-46BB-8084-092ACB8869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2D00C-A248-4878-BD69-05413A749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0552B-1925-4695-A2BB-2148FA71F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8D5878-5975-448D-A1B1-5C18E23830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F0DB1-0765-4375-BCDA-A6110D0C9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6D514-5D99-4872-ADE4-63B1304D36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02C9B0-C814-439D-AB86-949BD3E20C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E5FC4E-32D5-4EC2-8738-D55F49D29E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C9050D-DB32-45CC-A088-789086775F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E86664-CA5C-40F3-82A0-0FA6332F8A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004FD1-8FDF-401F-B658-5DB079222D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A44799-6BF3-4D41-B4F6-19EA5FE5C2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A86C0-321C-4CBC-A802-A79761F39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53AC09-8B63-4A87-BC50-ECCCCB850C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F43C31-E1CE-4C65-9324-CFB44D0A9B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97C747-BD83-4D7A-AD0E-F8276D3489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018895-BB7E-44EB-9FDD-9FB277AC46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DF16D2-7607-438A-9CEF-BA80BE28E9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AF197D-6648-43BB-A8BF-5C839966D6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927FED-A73E-4790-8829-5B4151DAE8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EE955C-C7D0-4CBA-AC0C-FBFC673575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A2800A-D541-49AF-B420-85CF84B266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C7769B-DF8F-4C96-B656-E645C3E667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10C2C-E634-4B57-AE2C-3F7C2B3A1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927833-D465-41BF-87CC-4C9EF2A175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F27817-99E2-4969-A765-D8BE898087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BF5D43-DD38-4C04-B12B-F34A5D6C8E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0F7773-94CF-4891-82EA-6FE0DCE596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82E2AE-77CE-41B4-97D9-2A56AC9FFD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033A14-B503-4A94-823B-36AD000FE8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1D79FE-C0A9-460D-B461-972D8DDECF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4901DF-E9EC-4848-A0A9-88797641C6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86C4EA-7DC8-40AD-8266-0D30983590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83B31B-9F12-4CD1-9585-F98D396EAB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0CBAD-BABC-4A3C-94F4-C9CB6B2AC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2CE36E-8918-4CD4-8D6F-EE8C609DB0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1F1377-05B9-443A-A5E9-A589AA8EE1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BA4658-4CA5-4488-AF43-844B8E6E7B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A535B7-BF15-4BAC-A169-1BC36CF4A0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FC66C6-C1CD-4AFB-8E80-585C5F7413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80F61B-2F98-4F11-ADE8-A0D27774DC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CA9271-E8C2-4CA3-9A63-58ABB31FCA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9BDF8D-6786-4804-9587-707195A451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971327-5039-4C9A-AB02-F2A8456A2E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1BF983-9B52-496B-B893-DC6BD3E96E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D9B64-7C17-40F0-A444-76FA33222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20D30E-32E7-4045-ACFC-BD62A27CB4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4506EF-E8BB-471D-B76F-78E8A8A0DF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DFD183-7648-4115-853B-3C0FBB6DB9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37C417-19AF-4874-822F-8110DDF064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8E1E06-FCA7-4AB5-A1B8-02C0AC4919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99B93E-89A3-403A-BB9A-06A3E71FDA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E7EB86-3FEF-4EC0-81A0-1C137D5E64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1E489B-F99C-4CC8-9074-709D6CF2D7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C1CDA2-A1AE-4C97-8444-BBE8FE0D9C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536B2B-FA25-4D93-8244-E0D61086EA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5B90-AFB8-4AA6-8C54-160CC41E4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6EDF4-6879-4DD6-ABC3-C57448B74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3E5CE9-080F-4198-98DA-9C80F96AB3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284D5A-BBEA-4014-9C66-03C11E2B94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954735-5983-4AAD-B5AC-DE99153394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25782A-D5D9-4C88-BFE1-77532FBE61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3B7D433-E594-4409-8223-497AFD7DEB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B72C20-7B81-48BD-8110-5323ACB0B1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53D449-B250-4EF0-9ADE-A1173CE42A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7019AF-4603-44AD-905B-B177ACC30C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B5703E-02D8-4982-A4C8-161CB85BCD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1797EB-8A8D-4173-B831-ED198FBCE3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EA170-C3AC-49C4-987B-BF4DA2D76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918EBB-6359-4B9A-BD68-7FE44E69B7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0421A8-782E-48CE-9A1B-34E46405C9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5E71E4-0122-4649-9404-414849E3FB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26C022-F00F-4B73-9A8D-A6DC933D8A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5D0586-3490-4ED6-A026-2EC4A3279B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F8D3FB7-495C-408A-96D2-064914975A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E74784-7412-4F28-B90F-F49FEA940AD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8AD21B4-F17A-4B89-B3DD-282FCB72343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8F3603-9F52-4128-BE04-03A8EA02B1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B81F28-6B2A-4BCE-8B92-BD58D9C4C2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B881C-C4AA-460D-809B-DEA3EDAEE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AD7536-C4E1-4297-81F0-DC961BEADC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A1B011-FDCE-40DB-AE4E-3B5E4D7805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B42DA4-45DE-487F-B24A-873C865AE2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149CA4-DF58-424C-B45C-E905E0445A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C62255-9EC4-4F4D-81F3-26B697BE6F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6F3942-5C6D-4AA4-BAF0-91DFA622CD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CF4C6AA-B53C-4A7C-885F-D39D988D3D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4C875C3-9A74-49AA-A25C-26961BCC782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E2222C3-2CBB-4D4D-9281-17E404346DD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B25EA84-729C-4467-9707-F893E95914E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21554-C3D5-4EBD-BF2A-5EF3CA5C4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8F3E32-1853-4F92-853B-21F4A5B6D3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873F419-8EC8-44B8-998E-B92CF08263D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5C6624E-F4B4-4D15-9F34-3B653190C0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2B084F-BF09-4619-BF5A-B83797DFEE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7C6104-21D6-4101-A37D-C9D492F5F3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82B985-053F-45C5-AAAA-EE308052D8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065448-25D8-4C9F-A556-FFF2DC46CB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9047F9-E32D-433B-8DE3-84D6BD62D5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785FF2-F387-4D30-9992-8814945351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E0A23A9-6E3A-42A1-B9AD-C21B33EC9A6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C4FDB-04AE-4719-8AD3-46D65AE2E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814A914-932D-4343-9194-194ECD657C9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EC9E0A8-CDA9-40F3-934C-7A71E3D4180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A85FED-67C4-4C16-8F7E-A1A4D1B524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CA3D7B-A484-4C32-8837-47FE37CAA6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5740EC-1380-4B28-93BA-051156DD34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C431E43-0EAA-434B-B58A-F0407068DD8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1D351E-06B6-42EF-A9AB-D6277EC26B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924DE5-E162-438F-8B71-3B5528FC90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43B0D9-1BE9-410D-824B-BBAEA64AC8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D9D989-C89D-4CCD-BE23-60CF38B15D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E5CF0B-602D-4F47-8A83-A1DD2288DE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1D43A5-2455-42DC-B140-2BEB59D2CD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A573DB3-7D05-4AF8-9CA1-D07E1FD1935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9919E89-B518-4ED8-B00C-AA1FF7B9BA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7046698-C4D2-43F4-A040-34DDEA06D3C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DA8702-BAEA-47DE-9F64-8D2B8F13BF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49A8D19-870F-43CD-90D0-C05DA013EF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16AF2C5-FFBF-4AEE-8B3B-099AD61AFFF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43C9D37-16AA-4F54-9E14-4A6BEE1BBEC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CC5164-8C31-4312-A392-5088B4FE48A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03B333E-1AEA-4195-A0AF-E2589BF0C1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B0643-A32C-4AB0-A522-1EDF90B54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17EC01-6C98-427F-B6DD-6DCF702992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83E2D1-E81B-41DD-B807-B469C29909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BF3820-1E5F-4CFD-A630-FCE42F9D81E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5E32312-5A5C-4E73-9AA5-80714DA2017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B3A1596-B9D1-4AFE-85DB-9900B1C5D43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093DE88-B49C-4F3B-A270-BADA975BAE3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6E39505-5D48-4244-A2D2-4BC3BE041E7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5B9824-C190-4A67-B149-221C61B8FD9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0A0C681-2916-4667-8AF1-EF645AE9E4C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4863969-B3A9-42B0-AEDB-2EFE16C520D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30593-ED5A-4AC4-94B0-9EA3E7FFD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46EF6B-2735-4A70-9C86-B781759DAC1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882822-F314-4C84-A939-404B1B71D02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6A6D71-E6C7-4642-BDEE-42C1675F18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AD8D5B6-D864-434E-BA33-80A018E2CC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7F97CD1-3479-42AD-9283-B94B6C80A0F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B71454B-9313-4139-A961-3ACD6F5D7B6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AE66792-C5D2-4BF1-A0A3-3576A357679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91144E4-EF8D-40D6-AF96-BA80637E794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2C5337E-F628-4AC4-A3F2-BA5354C0A57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43E8A6F-4878-469B-B561-55ACBDA9021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DFBAA-A90E-4244-88BD-3CA693F3A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44A91FC-B4C8-413C-A492-5241C68A491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56C8702-872C-47A8-8D1B-3E6CFA7DD65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E02E042-D651-4D9B-9D85-46E935B000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4D67CAC-DDF4-411A-A3C2-1AEAD4CC17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92B351-F1B8-4059-81C4-62DA45C1ED7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877024-A932-4A67-BC1B-DBCA8F33D7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E469FD-65D3-4E29-9054-2E946C53584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B2B9EB9-37AE-4B19-B93E-69C186634CA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989E806-D7AE-4A5C-93EE-BEE5CC1FB92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449639C-AB21-40DB-AD4A-6EBC9A9CB04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E005F-E7D0-4061-99BE-27282822C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536EF1E-2B18-46FA-934D-390D5572951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E7042CB-ECE4-46B9-8789-85A80A5B209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B5136DC-7744-49CD-BC16-3D9994D361D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FDAFCE4-353C-4F0B-9313-49F0AA8C7AC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22B49D1-5102-4B2A-A3AB-DBB44A45782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CB568F6-BA87-44AA-9C79-32D523A8304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E3172D3-6EDA-485C-A99C-94CDC1923D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B5D3B31-0AFE-4AA1-AAED-086A800E3A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F379E50-D260-4EF4-983F-A3276EDB5F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6DB2D4D-F576-432F-B58C-5999A08C923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A1350-1AD2-42B6-946E-D1A4E968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D6B7BF-882A-4F9A-9EE7-1C1EA6781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EB72D79-82E8-46CE-A378-88407EFE3C3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9EC4E7F-ED2E-47C2-85E7-AFCFDE64C96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F1CE516-2584-4486-982D-30D3CE9B3C1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018D7ED-8216-4059-86B5-1AEC81E6975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9108B16-EB46-46C8-8E13-4F860928D4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F8A9589-1456-4F6F-9DD5-C039C09E123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1C7230B-959B-4E2F-B23A-78266422AED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B37BB78-FAEA-4588-95E6-C7BD973E7BC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DB829D3-6A0E-4252-BD08-B35D1F78A89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343C0B-01E1-4F9F-9EB0-FEF6ABC1FEA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3A815-C433-4C8F-8F2A-30CE740F1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7F23470-1DD2-4762-8844-B368C1CFDAB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A14E472-CBE9-4F83-AD56-F1D9AB493EF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16E5D02-A1D9-4CC6-A10E-109A03AA7B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19FAD93-68E8-4916-AC9A-67E13B4392A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C97C6AC-9840-4A21-95F1-5FB24395B4E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A9E0CBA-FFE1-4FF2-B5A2-D591B605360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2738DD2-5C83-4AEE-8155-C6DD0E46060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6DF481E-FC24-4A60-AD9F-D18671B9E97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E39FBF8-AB5F-4D0C-8E4E-BCB8A8511DA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8A0D2D-68C2-4228-9EAA-DFE7DC6C996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55312-640C-409C-AC46-20691C964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0571CB-8604-46A1-B84D-92DB2A903DD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92DAA4D-032C-41CE-BA6D-1F7C9B8393C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5318398-C59C-455D-ACE1-19B203F42E4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EAABB65-30BC-4CC0-80A7-F2B096E9700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BA7227B-024D-4194-9327-D63045504CB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3FC9560-FB87-4E8C-8D7F-1588B9EA2AB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CEAFE45-1724-4987-95D9-8EE552D6ED8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A2A124E-E7FD-4D61-A26E-7401754E869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EE40C4E-7C55-44D7-AE44-D772E19D17E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4BC4DA9-BD44-4F32-84D7-D0D1BDFF1DF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B4509-D93E-4F7E-9B27-82548A2D7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7FB6A0E-3A8C-459D-9FEE-D14FD96826C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8B32E63-BEB3-4A1F-A116-AE1BA57A2C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A1C3325-611F-45C6-908F-26C85A9878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6F237CC-5820-4B59-B3C9-B87BDD98A55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4E7227A-F29C-4DC9-9F44-EE55041E00C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1A9A2DF-50F2-4C9A-9F38-89FC16BFD93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30F88A2-FB57-495A-BCE1-3F2156CC36B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D49345E-DEBE-4BB5-88E9-2BB564922F0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71AE86D-E960-4483-B99B-4F28D758D28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71EA069-0FC4-4F0C-8436-55E6CB4231F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FCADB-3B1A-41AA-B784-3DE3746A1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CC45234-1EA5-4564-92E3-90EA5959E19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D179FA6-CF58-4B6F-AD1F-A91A153AF25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C66EA5C-5C98-4A03-989C-AC09150BEF6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9D5713E-BBB9-4A7B-B805-7BE705936B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4D70470-36FB-4D4E-B822-CC0C3CDD3AF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282159-3584-484D-B283-D069678F57C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F09FF73-7A9B-4230-AFA8-CF86CB7A253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598DF0A-ACF5-4290-ABE8-D121A54D9ED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6B07482-B0AF-40BA-9785-DC1BAB738D5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DCA84F2-FEFF-4415-A223-58E6DB2B646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2B5112-A4DE-4F8D-BAC6-815D10FE97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FA06962-02B9-48A7-8033-863E5BC7792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CEBB1D6-7C98-4EF0-9CE9-D5AAC983A23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A6FEE8E-C20D-4769-818E-D97844C15E3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7057DE6-E06E-4ECD-8EA7-CABEFD7B7F5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D627694-F7AB-4263-AFDC-70EB88FA08C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D523B75-4135-48FB-95E0-C833FB063C8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73EB22D-2B79-4619-9E3E-3492DF4607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3269485-3FBB-4D6E-A833-93387714218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CE2809F-D240-4A0F-A10C-2EE6BBDB515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5E0C996-4782-478E-9DB6-752CCD98071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F5567-6577-4AFA-B1D8-3EEBFCCC74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EE4D129-F5B0-443C-A02C-9D4F019F2D5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70BC34B-B530-40FF-A690-A1E2186757B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9EE98EA-D2C7-45A1-A8AF-C99D3191E2C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FF81A52-1166-414C-BC1E-BAF3937782C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45A38BD-9940-4B34-B9B0-1D2CAA1ABF3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8754F9E-5B08-4026-8DA0-DCD850586FF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6A3B070-765B-4BC5-9D6D-5166CB26C57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9892129-B1A0-4A3F-B8A1-04CF18DFB6E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1651F5F-8094-4FA2-A8AB-04CCF2486D3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4BF92F-40ED-4D27-8B2A-5F84F47FE95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1AF8BC3-16EF-4552-A454-FE5F783BEC4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FF75B89-6495-4842-AD0E-6912F283832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B757987-3ADA-4DE1-97B5-496B4FD6D8B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73C3CF9-6CED-469E-B8F9-84CE428257E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7C70F013-4406-4E8A-8893-323D62F3DCE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CE716E29-3E38-4E0A-B456-4436F8CEE4A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25005962-CC2E-4C73-9A54-6DD67163409D}"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2"/>
          </p:nvPr>
        </p:nvSpPr>
        <p:spPr/>
        <p:txBody>
          <a:bodyPr/>
          <a:p>
            <a:fld id="{E73F9B47-1328-4D44-9236-B14E5729C12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2"/>
          </p:nvPr>
        </p:nvSpPr>
        <p:spPr/>
        <p:txBody>
          <a:bodyPr/>
          <a:p>
            <a:fld id="{765A4992-19B5-41E9-9F28-4D4F0636EF1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2"/>
          </p:nvPr>
        </p:nvSpPr>
        <p:spPr/>
        <p:txBody>
          <a:bodyPr/>
          <a:p>
            <a:fld id="{0B4767A2-6A6F-4FB1-A751-B052771B213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61289F37-0D18-443B-A11E-4D06A3E329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8346814-79C2-4E90-A8CC-FDB9610F0E84}"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A2EC343E-1C45-4B54-9E48-86B2E4C6F65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59C0F0A4-AA23-40BA-844C-44A75C818ED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2"/>
          </p:nvPr>
        </p:nvSpPr>
        <p:spPr/>
        <p:txBody>
          <a:bodyPr/>
          <a:p>
            <a:fld id="{F5C34D36-C0D7-4585-BA44-B25DF18D92AB}"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2"/>
          </p:nvPr>
        </p:nvSpPr>
        <p:spPr/>
        <p:txBody>
          <a:bodyPr/>
          <a:p>
            <a:fld id="{36A915D4-96AB-426E-8A5F-9096545E452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2"/>
          </p:nvPr>
        </p:nvSpPr>
        <p:spPr/>
        <p:txBody>
          <a:bodyPr/>
          <a:p>
            <a:fld id="{377006DD-57AC-4D33-9F28-7D757D32A74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9FDA1E4C-F8FA-474D-847C-5CF4CCDB18D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9FD844D0-B1C3-4BAF-A2B8-0100365F52A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A7B97404-4355-415B-9064-2AA8AAE6E59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31C7E283-2805-4D45-81AD-B58F0A0F59A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434E2EF4-AA03-45DC-990A-CD5B71AF05C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8AE3A6A-7BE4-4A92-A817-8D5C14988388}"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C1B21A3D-0060-4973-9FFA-BCC5DF1764D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8F5C2F89-EF25-4167-8DCA-736F0680678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46BFE569-EE81-4C1E-9890-5FD441AAC5D4}"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00F32244-15DC-44A1-B232-04962D2A050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C33BABA0-F8E8-462C-9430-38284B30085B}"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1B848D77-EC91-4E60-A488-8897694A88E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75C34700-FBE5-4636-8187-01264E54459A}"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dt" idx="8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304B-644E-4C5C-A669-929538EE4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406F99B-AF20-47D2-8E6B-A0F7F3F6275A}"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dt" idx="8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dt" idx="8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dt" idx="8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31A295F6-B65F-4EC9-B5B3-BD8F72932B96}"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dt" idx="8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dt" idx="8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dt" idx="8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dt" idx="8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dt" idx="8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dt" idx="8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dt" idx="8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13A6D52-26D8-4912-8E78-27316D81544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dt" idx="8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dt" idx="8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dt" idx="8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dt" idx="8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dt" idx="8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dt" idx="8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dt" idx="8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9FEA784-0560-4ACF-9F55-5D65651A1D17}"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dt" idx="8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dt" idx="8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dt" idx="8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9791608-C079-41C9-BED0-8D662193B67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dt" idx="9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EC24A18-D86D-4DF2-8EA8-AE4CA6E65AD9}"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dt" idx="9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dt" idx="9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44AE1F13-B01B-41C5-9FAE-D0BED52FE98B}"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4867B9D9-459D-4EED-8866-4260B2DF2D74}"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4043165E-5202-467F-88C2-55FCB9FACF2D}"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43BD67B-6633-42D6-BE01-7E4297D53B20}"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FAFD0442-FA3B-40CD-96DF-0B1FACB2F235}"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488D8211-F464-424D-B6FD-7318CA842713}"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C92A1CBD-2FEC-4BC1-8CBB-F40CE9461061}"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F8AA4A76-44A9-4799-B530-9A51C8D12C88}"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7264E555-6F68-4B59-824C-4C83908AFFE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979A1F4A-8636-4C0A-B088-A011074EA804}"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35BE1019-21F4-49DD-9382-199A9C880B06}"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82AEF126-4A0A-40E5-A059-AE6AC706B513}"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B2DEA94D-4B47-415E-A8BD-B41DF81B51AA}"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403303CA-0356-494D-B057-6A8EB2EDC5FB}"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84F850F-ED46-4E48-9605-A535C8A9E78A}"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E2E1C795-C4AD-408C-BC71-1731D7667C10}"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06505FAD-9632-4525-BD0E-2E599F22E557}"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948DFD5C-8140-41FD-AA1D-CEB7D7AC1CEF}"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8CFFBCE0-D5D8-46D2-B94E-9A32DF44BB30}"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93BFBB91-59B2-431E-8AAB-395C7CAE37F0}"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C49D55B7-F811-4F15-B2DE-C073136657C4}"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8730E13-E484-432E-B089-16CC250CFCEE}"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B0E656F-9157-467A-B2FD-3C2F279C7EC7}"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6D3537DF-6583-4508-8196-53A979F3D486}"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D19CCD6F-0750-484B-A5F7-D2D07F2E11C7}"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85B6A29-A3FF-4139-AA7A-8DE92002617B}"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C372E837-5A2B-4689-8CA2-8EA25015DA8E}"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97952953-938B-4D45-9C18-D86EB4137998}"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C6988823-71D4-48C0-A9BB-AC479D859F4A}"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BCC6B5D3-760C-46B4-89D2-B91C6200A434}"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504D75ED-92CE-4913-9740-435F90853779}"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1A522311-FC36-4A0D-95CD-DA08F052154D}"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3A4894C9-D860-494F-AF6C-ACAE958587C6}"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0E46A2D0-B608-48FC-AB2E-033E2E3A4FAC}"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E137688B-ED97-432F-BC78-AAE67F17DCC5}"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46139990-305D-4491-BFA3-B10C172D3412}"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D1593586-C9B2-4E8C-AF2B-701539E936B6}"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9AAED2E0-46A5-40FC-BD59-02417B5D1F9F}"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BEF749E4-D1F1-47C2-BA74-BC6952E07B93}"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22E0B890-9C4E-4C20-9886-510678B5BC97}"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E88255B4-D630-4FCB-97CB-77E432615FF4}"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C52F8D36-7A23-467C-8E25-685348E32B9C}"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6347F257-5D57-4B9D-8CA1-E61CDCB049B2}"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F5BEF545-F8EF-4675-B532-4E87C1B4D04F}"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7070DAE6-F863-4F7B-80F5-AC0F1E26BD8B}"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82F780F0-D2D0-4C89-A0A4-F4CF9958D6F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A9BED-F08B-43E6-916E-D232FDCD8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3E10C0F3-B7DB-4042-809C-7D207204FD2B}"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172AD355-1047-459E-B485-33549E797605}"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47023E6C-6B49-4C81-B09F-4C0143C60C60}"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D10F8CE0-0108-4E30-A6C9-10DBDF973C43}"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5EC831FB-D55F-48F3-991B-768826D8B016}"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402542F6-A121-464F-BB62-9EFB0437D582}"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24560FCC-0D13-454C-AA5E-2C2B84CBB1DF}"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012290DC-5DE8-4D6E-95FA-A069F03538C2}"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8157D67E-4444-4FD1-80C7-8E4B67A9EB34}"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38B603CB-295A-4C52-B441-7CCFA54FCA6F}"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D241DB40-43AF-43C1-85E1-8B9073CC8A5B}"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C550E35D-510E-4055-9B67-30D79F462858}"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B1C70246-48A0-4480-A3FA-C35F63697A7E}"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D26CB14C-09B7-4EED-9581-C8C05CB49047}"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F5285787-94A2-45F5-AB31-8685C7D7AA93}"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5AE0B738-73E6-43E5-BD80-FC24AE1CCE44}"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00EF8071-7D74-47F0-A0B7-69591566015F}"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1EAF6493-2DA8-4DC0-BD3B-688B6F3ACD09}"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13259868-4167-4DCA-92B6-1F6BBB21509A}"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CD3F3555-AA8A-4D32-9614-502F2CFD3DAC}"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1A5B6B9F-CCEC-4EAF-8BA4-9D53E2C549E8}"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91B5958E-777E-46B3-8164-80C6C8B74D04}"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FDE9DF5C-7DA2-4972-9707-0F2A622570F6}"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506366A7-82B0-4937-BEC3-C4DE4B7055B0}"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6DFDAA9B-C3AA-4F9E-8FE0-5676DB2DA1DE}"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CE28D0CE-67F6-4371-B5D9-10DB4328B674}"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6DCFFB1C-73AE-4E4C-BDFF-8E24EF14285E}"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FED2F7B7-FEA3-4334-8A7A-24B6B9C0A6E1}"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8A5F9F5F-B579-4AAE-87F2-DC76D67D069D}"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1828E946-9FDA-4E82-95F9-B1097394A8D3}"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62808A3C-36E6-493B-A2EC-594DD7B5CE07}"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46B475A2-160E-4860-A432-46FEC655E014}"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B67DF46A-6A7B-4839-9E67-7E0A94511519}"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EBA080C5-EA44-40D2-8834-FC749D6C534F}"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613E186B-3E86-4658-A391-860BC7532B1E}"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C3A8823A-DA58-474D-A931-CC28CC9148BE}"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361D7E2E-883B-40B9-A93D-B3BA0F15F2DA}"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376E26FD-9689-4128-80C9-B9AA7744FB73}"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E8F6F369-2EB0-43B9-A8DB-8292A0BECFA2}"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79A4AE64-02CF-4D6A-A612-6AA33F8A68E6}"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C87A974F-479B-4C30-BA33-FE3291AF4B23}"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961775B1-C487-40C2-8B3B-FCE8235740C5}"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9FD283A0-0D6F-4626-A114-0AEB75239574}"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A2FCA13A-6EC2-4308-9AFB-2DB34F32ECDE}"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32B9F028-A068-43D3-96DF-27325A2A3FF1}"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53F36F10-19FC-4518-B930-DB61F8B43ABA}"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4FD44559-00D6-4F28-9ABF-8FCAA0916310}"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3E0206B9-389E-49C9-88DC-0B136A449A4E}"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682BBA02-02F5-46F2-894B-33766FCF9FDF}"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CE49628A-F525-42FD-84E0-C75B8EDCEE6F}"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3F22FA24-5E65-48B2-9983-A153CA0935D3}"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1915C036-94FD-45B1-B81E-0428A337526C}"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4D5173A1-7545-49A3-A48A-1BA4FC531B9E}"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5D5D-3DEE-48D3-948E-C3C49E437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EB677-2397-4263-9EF3-3107612445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28A08-F4E1-412A-8216-0E98FD93B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557CE-C3D2-4E69-8A99-52F9CF59F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87BEB-8DBE-4F13-9CC8-20757722D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7C8BE-8563-4FAC-A54F-C1584E501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92777-D970-422C-8729-A4AE96C26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C9C4F-5A6F-4C1A-AD3F-7A3F28621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72780-832E-42F3-9AAC-579E1F841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9A5E8-C638-4D8D-BE59-05A297AF5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7E41-9A1D-4DDD-AEAD-1181312E1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FF6041-CA03-48CD-BB34-CDE8622A57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8EB217-FE88-493B-BC62-7059CA59E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3DF885-9F50-4B0D-900D-9E132B8873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DF5C-38DB-4BFE-B558-8A1DF01F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AC3B4-7749-42AE-B559-800AF8146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9941-F2C3-43F4-9582-84FA685B29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8" name="Picture 2" descr=""/>
          <p:cNvPicPr/>
          <p:nvPr/>
        </p:nvPicPr>
        <p:blipFill>
          <a:blip r:embed="rId2"/>
          <a:stretch/>
        </p:blipFill>
        <p:spPr>
          <a:xfrm>
            <a:off x="0" y="6114960"/>
            <a:ext cx="1523880" cy="743040"/>
          </a:xfrm>
          <a:prstGeom prst="rect">
            <a:avLst/>
          </a:prstGeom>
          <a:ln w="0">
            <a:noFill/>
          </a:ln>
        </p:spPr>
      </p:pic>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FC65-3194-4784-8313-D068DE8D65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C6F6-B93E-451D-B509-6A14D60A72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D1DB-3D1B-4E02-AE45-F8F9DC38F6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30BB-FB9A-4840-A96D-72BA852210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4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C809-B455-440A-A163-399809208E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C1C2-F572-424B-82CF-A269F1D4E2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2F74-4903-463E-BE0A-BCF291D2B8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8" name="Picture 2" descr=""/>
          <p:cNvPicPr/>
          <p:nvPr/>
        </p:nvPicPr>
        <p:blipFill>
          <a:blip r:embed="rId2"/>
          <a:stretch/>
        </p:blipFill>
        <p:spPr>
          <a:xfrm>
            <a:off x="0" y="6114960"/>
            <a:ext cx="1523880" cy="743040"/>
          </a:xfrm>
          <a:prstGeom prst="rect">
            <a:avLst/>
          </a:prstGeom>
          <a:ln w="0">
            <a:noFill/>
          </a:ln>
        </p:spPr>
      </p:pic>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72"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3"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1BCF-18BB-43EF-AB43-5616A2039D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1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294F-DD58-4480-9D6F-2E68966EF7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7"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58"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7143-AA2F-4090-A8A3-1326CF094B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1F30-3305-4B8C-9870-3BA3B52447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0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36C2-FDAD-4A7A-8B1B-CEF4B8B57B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4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2156-6392-4B6D-8543-2260C46400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8C6D-2A21-4172-B837-0770CFEB03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0A67-972E-40E5-B88E-626E222DF2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8" name="Picture 2" descr=""/>
          <p:cNvPicPr/>
          <p:nvPr/>
        </p:nvPicPr>
        <p:blipFill>
          <a:blip r:embed="rId2"/>
          <a:stretch/>
        </p:blipFill>
        <p:spPr>
          <a:xfrm>
            <a:off x="0" y="6114960"/>
            <a:ext cx="1523880" cy="743040"/>
          </a:xfrm>
          <a:prstGeom prst="rect">
            <a:avLst/>
          </a:prstGeom>
          <a:ln w="0">
            <a:noFill/>
          </a:ln>
        </p:spPr>
      </p:pic>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7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F035-03DB-4530-B23C-9727764E30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01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03AF-E028-41A7-866F-749C783E4D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05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42FA-89F5-4AFD-A3CE-A41A1A5E90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101"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168B-5D6D-41E2-B0A7-91EB3E1E13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14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A92C-BC85-4403-830C-02BD432296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1018-49E8-4BC0-9823-856C4C23F6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0EF3-5CB2-4D59-856D-AB573DE56F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DEB2-11AE-41D7-98FA-DBCF10ABCF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266"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Straight Connector 9"/>
          <p:cNvSpPr/>
          <p:nvPr/>
        </p:nvSpPr>
        <p:spPr>
          <a:xfrm>
            <a:off x="934920" y="3736800"/>
            <a:ext cx="727560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1270"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71"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72" name="PlaceHolder 3"/>
          <p:cNvSpPr>
            <a:spLocks noGrp="1"/>
          </p:cNvSpPr>
          <p:nvPr>
            <p:ph type="dt" idx="7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PlaceHolder 5"/>
          <p:cNvSpPr>
            <a:spLocks noGrp="1"/>
          </p:cNvSpPr>
          <p:nvPr>
            <p:ph type="sldNum" idx="81"/>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887E-9B6C-47E6-95B6-5C1EAFF7E78E}"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311"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15"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16" name="PlaceHolder 3"/>
          <p:cNvSpPr>
            <a:spLocks noGrp="1"/>
          </p:cNvSpPr>
          <p:nvPr>
            <p:ph type="sldNum" idx="82"/>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1A0E-9F7A-47A4-83BD-5A5A4773DD03}"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353"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5"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6" name="Rectangle 6"/>
          <p:cNvSpPr/>
          <p:nvPr/>
        </p:nvSpPr>
        <p:spPr>
          <a:xfrm>
            <a:off x="7277040" y="6562800"/>
            <a:ext cx="1866960" cy="447480"/>
          </a:xfrm>
          <a:prstGeom prst="rect">
            <a:avLst/>
          </a:prstGeom>
          <a:noFill/>
          <a:ln w="0">
            <a:noFill/>
          </a:ln>
        </p:spPr>
        <p:style>
          <a:lnRef idx="0"/>
          <a:fillRef idx="0"/>
          <a:effectRef idx="0"/>
          <a:fontRef idx="minor"/>
        </p:style>
        <p:txBody>
          <a:bodyPr lIns="89640" rIns="89640" tIns="44640" bIns="44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BA42-B01A-44CD-9F9C-55757A8190B5}"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
        <p:nvSpPr>
          <p:cNvPr id="1357"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58"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59" name="PlaceHolder 3"/>
          <p:cNvSpPr>
            <a:spLocks noGrp="1"/>
          </p:cNvSpPr>
          <p:nvPr>
            <p:ph type="sldNum" idx="83"/>
          </p:nvPr>
        </p:nvSpPr>
        <p:spPr>
          <a:xfrm>
            <a:off x="0" y="1271160"/>
            <a:ext cx="533520" cy="24444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35A4-2527-4EFB-8500-AE89744C0EDA}" type="slidenum">
              <a:rPr b="0" lang="en-US" sz="1200" spc="-1" strike="noStrike">
                <a:solidFill>
                  <a:srgbClr val="ffffff"/>
                </a:solidFill>
                <a:latin typeface="Arial"/>
                <a:ea typeface="MS PGothic"/>
              </a:rPr>
              <a:t>&lt;number&gt;</a:t>
            </a:fld>
            <a:endParaRPr b="0" lang="en-US" sz="1200" spc="-1" strike="noStrike">
              <a:solidFill>
                <a:srgbClr val="000000"/>
              </a:solidFill>
              <a:latin typeface="Arial"/>
            </a:endParaRPr>
          </a:p>
        </p:txBody>
      </p:sp>
      <p:sp>
        <p:nvSpPr>
          <p:cNvPr id="1360" name="PlaceHolder 4"/>
          <p:cNvSpPr>
            <a:spLocks noGrp="1"/>
          </p:cNvSpPr>
          <p:nvPr>
            <p:ph type="ftr" idx="84"/>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9" name="Picture 2" descr=""/>
          <p:cNvPicPr/>
          <p:nvPr/>
        </p:nvPicPr>
        <p:blipFill>
          <a:blip r:embed="rId2"/>
          <a:stretch/>
        </p:blipFill>
        <p:spPr>
          <a:xfrm>
            <a:off x="0" y="6114960"/>
            <a:ext cx="1523880" cy="743040"/>
          </a:xfrm>
          <a:prstGeom prst="rect">
            <a:avLst/>
          </a:prstGeom>
          <a:ln w="0">
            <a:noFill/>
          </a:ln>
        </p:spPr>
      </p:pic>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A44D-D374-4B9F-BC4D-EBE206C672BF}" type="datetime">
              <a:rPr b="0" lang="en-US" sz="1200" spc="-1" strike="noStrike">
                <a:solidFill>
                  <a:srgbClr val="898989"/>
                </a:solidFill>
                <a:latin typeface="Arial"/>
                <a:ea typeface="MS PGothic"/>
              </a:rPr>
              <a:t>07/30/26</a:t>
            </a:fld>
            <a:endParaRPr b="0" lang="en-US" sz="1200" spc="-1" strike="noStrike">
              <a:solidFill>
                <a:srgbClr val="000000"/>
              </a:solidFill>
              <a:latin typeface="Arial"/>
            </a:endParaRPr>
          </a:p>
        </p:txBody>
      </p:sp>
      <p:sp>
        <p:nvSpPr>
          <p:cNvPr id="140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4"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3270-AA09-42CA-A367-FEA1D70F7626}" type="datetime">
              <a:rPr b="0" lang="en-US" sz="1200" spc="-1" strike="noStrike">
                <a:solidFill>
                  <a:srgbClr val="898989"/>
                </a:solidFill>
                <a:latin typeface="Arial"/>
                <a:ea typeface="MS PGothic"/>
              </a:rPr>
              <a:t>07/30/26</a:t>
            </a:fld>
            <a:endParaRPr b="0" lang="en-US" sz="1200" spc="-1" strike="noStrike">
              <a:solidFill>
                <a:srgbClr val="000000"/>
              </a:solidFill>
              <a:latin typeface="Arial"/>
            </a:endParaRPr>
          </a:p>
        </p:txBody>
      </p:sp>
      <p:sp>
        <p:nvSpPr>
          <p:cNvPr id="1445"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6" name="PlaceHolder 3"/>
          <p:cNvSpPr>
            <a:spLocks noGrp="1"/>
          </p:cNvSpPr>
          <p:nvPr>
            <p:ph type="dt" idx="8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7792-46B5-489C-BF3F-39798B480000}" type="datetime">
              <a:rPr b="0" lang="en-US" sz="1200" spc="-1" strike="noStrike">
                <a:solidFill>
                  <a:srgbClr val="898989"/>
                </a:solidFill>
                <a:latin typeface="Arial"/>
                <a:ea typeface="MS PGothic"/>
              </a:rPr>
              <a:t>07/30/26</a:t>
            </a:fld>
            <a:endParaRPr b="0" lang="en-US" sz="1200" spc="-1" strike="noStrike">
              <a:solidFill>
                <a:srgbClr val="000000"/>
              </a:solidFill>
              <a:latin typeface="Arial"/>
            </a:endParaRPr>
          </a:p>
        </p:txBody>
      </p:sp>
      <p:sp>
        <p:nvSpPr>
          <p:cNvPr id="1487" name="PlaceHolder 4"/>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5"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8"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1D03-E47A-4810-9B8E-FE06A5C01729}" type="datetime">
              <a:rPr b="0" lang="en-US" sz="1200" spc="-1" strike="noStrike">
                <a:solidFill>
                  <a:srgbClr val="898989"/>
                </a:solidFill>
                <a:latin typeface="Arial"/>
                <a:ea typeface="MS PGothic"/>
              </a:rPr>
              <a:t>07/30/26</a:t>
            </a:fld>
            <a:endParaRPr b="0" lang="en-US" sz="1200" spc="-1" strike="noStrike">
              <a:solidFill>
                <a:srgbClr val="000000"/>
              </a:solidFill>
              <a:latin typeface="Arial"/>
            </a:endParaRPr>
          </a:p>
        </p:txBody>
      </p:sp>
      <p:sp>
        <p:nvSpPr>
          <p:cNvPr id="1529"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7" name="Rectangle 7"/>
          <p:cNvSpPr/>
          <p:nvPr/>
        </p:nvSpPr>
        <p:spPr>
          <a:xfrm>
            <a:off x="76320" y="1371600"/>
            <a:ext cx="9067680" cy="7632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0"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0355-5733-4292-B871-97C81F271C65}" type="datetime">
              <a:rPr b="0" lang="en-US" sz="1200" spc="-1" strike="noStrike">
                <a:solidFill>
                  <a:srgbClr val="898989"/>
                </a:solidFill>
                <a:latin typeface="Arial"/>
                <a:ea typeface="MS PGothic"/>
              </a:rPr>
              <a:t>07/30/26</a:t>
            </a:fld>
            <a:endParaRPr b="0" lang="en-US" sz="1200" spc="-1" strike="noStrike">
              <a:solidFill>
                <a:srgbClr val="000000"/>
              </a:solidFill>
              <a:latin typeface="Arial"/>
            </a:endParaRPr>
          </a:p>
        </p:txBody>
      </p:sp>
      <p:sp>
        <p:nvSpPr>
          <p:cNvPr id="1571"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9"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0" name="Picture 2" descr=""/>
          <p:cNvPicPr/>
          <p:nvPr/>
        </p:nvPicPr>
        <p:blipFill>
          <a:blip r:embed="rId2"/>
          <a:stretch/>
        </p:blipFill>
        <p:spPr>
          <a:xfrm>
            <a:off x="0" y="6114960"/>
            <a:ext cx="1523880" cy="743040"/>
          </a:xfrm>
          <a:prstGeom prst="rect">
            <a:avLst/>
          </a:prstGeom>
          <a:ln w="0">
            <a:noFill/>
          </a:ln>
        </p:spPr>
      </p:pic>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3" name="PlaceHolder 3"/>
          <p:cNvSpPr>
            <a:spLocks noGrp="1"/>
          </p:cNvSpPr>
          <p:nvPr>
            <p:ph type="dt" idx="9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14" name="PlaceHolder 4"/>
          <p:cNvSpPr>
            <a:spLocks noGrp="1"/>
          </p:cNvSpPr>
          <p:nvPr>
            <p:ph type="ftr" idx="9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5" name="PlaceHolder 5"/>
          <p:cNvSpPr>
            <a:spLocks noGrp="1"/>
          </p:cNvSpPr>
          <p:nvPr>
            <p:ph type="sldNum" idx="9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B539-BECD-4FFA-8CDB-B1449DC8D1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26"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9"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0"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type="sldNum" idx="10"/>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5CA2-02C9-4A59-840C-37E93A5F7438}"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3"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6" name="PlaceHolder 3"/>
          <p:cNvSpPr>
            <a:spLocks noGrp="1"/>
          </p:cNvSpPr>
          <p:nvPr>
            <p:ph type="dt" idx="9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57" name="PlaceHolder 4"/>
          <p:cNvSpPr>
            <a:spLocks noGrp="1"/>
          </p:cNvSpPr>
          <p:nvPr>
            <p:ph type="ftr" idx="9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8" name="PlaceHolder 5"/>
          <p:cNvSpPr>
            <a:spLocks noGrp="1"/>
          </p:cNvSpPr>
          <p:nvPr>
            <p:ph type="sldNum" idx="10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DA6F-FFA1-4725-961C-711F1E590F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6"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9"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00"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1"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FFB3-C68A-4A45-8EC8-CE0B22B080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9"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2"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43"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4"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A8D3-00A9-4DA6-AF75-66E4D54A7F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2"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5"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86"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7"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D76C-1EAF-4A57-B124-2D83208CCA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7"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8"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9"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5E3C-B491-4CD8-B68C-16BC95EB11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9" name="PlaceHolder 3"/>
          <p:cNvSpPr>
            <a:spLocks noGrp="1"/>
          </p:cNvSpPr>
          <p:nvPr>
            <p:ph type="dt" idx="1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0" name="PlaceHolder 4"/>
          <p:cNvSpPr>
            <a:spLocks noGrp="1"/>
          </p:cNvSpPr>
          <p:nvPr>
            <p:ph type="ftr" idx="1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1" name="PlaceHolder 5"/>
          <p:cNvSpPr>
            <a:spLocks noGrp="1"/>
          </p:cNvSpPr>
          <p:nvPr>
            <p:ph type="sldNum" idx="1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6F88-2388-4E99-962F-E618704FC2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1"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2"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3"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509F-3F26-473A-8DAA-EFE389FD07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0" name="Picture 3" descr="RTP_SlideBackground-ONS13_v1fr-title.jpg"/>
          <p:cNvPicPr/>
          <p:nvPr/>
        </p:nvPicPr>
        <p:blipFill>
          <a:blip r:embed="rId3"/>
          <a:stretch/>
        </p:blipFill>
        <p:spPr>
          <a:xfrm>
            <a:off x="0" y="0"/>
            <a:ext cx="9144000" cy="6858000"/>
          </a:xfrm>
          <a:prstGeom prst="rect">
            <a:avLst/>
          </a:prstGeom>
          <a:ln w="0">
            <a:noFill/>
          </a:ln>
        </p:spPr>
      </p:pic>
      <p:sp>
        <p:nvSpPr>
          <p:cNvPr id="195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95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9" name="Picture 4" descr="RTP_SlideBackground-ASCO-GI-13_v1fr-Title.png"/>
          <p:cNvPicPr/>
          <p:nvPr/>
        </p:nvPicPr>
        <p:blipFill>
          <a:blip r:embed="rId2"/>
          <a:stretch/>
        </p:blipFill>
        <p:spPr>
          <a:xfrm>
            <a:off x="0" y="0"/>
            <a:ext cx="9144000" cy="6858000"/>
          </a:xfrm>
          <a:prstGeom prst="rect">
            <a:avLst/>
          </a:prstGeom>
          <a:ln w="0">
            <a:noFill/>
          </a:ln>
        </p:spPr>
      </p:pic>
      <p:sp>
        <p:nvSpPr>
          <p:cNvPr id="19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9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E835-4B84-4612-8FC8-243034056C4D}" type="datetime">
              <a:rPr b="0" lang="en-US" sz="1200" spc="-1" strike="noStrike">
                <a:solidFill>
                  <a:srgbClr val="898989"/>
                </a:solidFill>
                <a:latin typeface="Arial"/>
                <a:ea typeface="MS PGothic"/>
              </a:rPr>
              <a:t>07/30/26</a:t>
            </a:fld>
            <a:endParaRPr b="0" lang="en-US" sz="1200" spc="-1" strike="noStrike">
              <a:solidFill>
                <a:srgbClr val="000000"/>
              </a:solidFill>
              <a:latin typeface="Arial"/>
            </a:endParaRPr>
          </a:p>
        </p:txBody>
      </p:sp>
      <p:sp>
        <p:nvSpPr>
          <p:cNvPr id="171"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1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D4CE-ED05-41B3-AB4C-371C9B8040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 descr="RTP_SlideBackground-YiR_v3fr-bulleted.png"/>
          <p:cNvPicPr/>
          <p:nvPr/>
        </p:nvPicPr>
        <p:blipFill>
          <a:blip r:embed="rId2"/>
          <a:stretch/>
        </p:blipFill>
        <p:spPr>
          <a:xfrm>
            <a:off x="0" y="0"/>
            <a:ext cx="9144000" cy="6858000"/>
          </a:xfrm>
          <a:prstGeom prst="rect">
            <a:avLst/>
          </a:prstGeom>
          <a:ln w="0">
            <a:noFill/>
          </a:ln>
        </p:spPr>
      </p:pic>
      <p:sp>
        <p:nvSpPr>
          <p:cNvPr id="3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2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09.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09.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4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09.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hyperlink" Target="http://clinicaltrials.gov/ct/show/NCT01107626" TargetMode="External"/><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slideLayout" Target="../slideLayouts/slideLayout19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4" name="PlaceHolder 1"/>
          <p:cNvSpPr>
            <a:spLocks noGrp="1"/>
          </p:cNvSpPr>
          <p:nvPr>
            <p:ph type="title"/>
          </p:nvPr>
        </p:nvSpPr>
        <p:spPr>
          <a:xfrm>
            <a:off x="441360" y="490320"/>
            <a:ext cx="8012160" cy="579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n otherwise healthy 50-yo with </a:t>
            </a:r>
            <a:br>
              <a:rPr sz="3200"/>
            </a:br>
            <a:r>
              <a:rPr b="1" lang="en-US" sz="3200" spc="-1" strike="noStrike">
                <a:solidFill>
                  <a:srgbClr val="ecbb33"/>
                </a:solidFill>
                <a:latin typeface="Arial"/>
              </a:rPr>
              <a:t>PWT adeno experiences a partial response to your recommended </a:t>
            </a:r>
            <a:br>
              <a:rPr sz="3200"/>
            </a:br>
            <a:r>
              <a:rPr b="1" lang="en-US" sz="3200" spc="-1" strike="noStrike">
                <a:solidFill>
                  <a:srgbClr val="ecbb33"/>
                </a:solidFill>
                <a:latin typeface="Arial"/>
              </a:rPr>
              <a:t>first-line treatment. Which maintenance therapy, if any, would you likely use?</a:t>
            </a:r>
            <a:endParaRPr b="1" lang="en-US" sz="3200" spc="-1" strike="noStrike">
              <a:solidFill>
                <a:srgbClr val="ecbb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therwise healthy 50-yo with PWT adeno experiences a partial response to your recommended </a:t>
            </a:r>
            <a:br>
              <a:rPr sz="2400"/>
            </a:br>
            <a:r>
              <a:rPr b="1" lang="en-US" sz="2400" spc="-1" strike="noStrike">
                <a:solidFill>
                  <a:srgbClr val="ffffff"/>
                </a:solidFill>
                <a:latin typeface="Arial"/>
              </a:rPr>
              <a:t>first-line treatment. Which maintenance therapy, if any, would you likely use?</a:t>
            </a:r>
            <a:endParaRPr b="0" lang="en-US" sz="2400" spc="-1" strike="noStrike">
              <a:solidFill>
                <a:srgbClr val="000000"/>
              </a:solidFill>
              <a:latin typeface="Arial"/>
            </a:endParaRPr>
          </a:p>
        </p:txBody>
      </p:sp>
      <p:pic>
        <p:nvPicPr>
          <p:cNvPr id="2056" name="Chart 3" descr=""/>
          <p:cNvPicPr/>
          <p:nvPr/>
        </p:nvPicPr>
        <p:blipFill>
          <a:blip r:embed="rId1"/>
          <a:stretch/>
        </p:blipFill>
        <p:spPr>
          <a:xfrm>
            <a:off x="482760" y="2293920"/>
            <a:ext cx="8254800" cy="444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41360" y="490320"/>
            <a:ext cx="8012160" cy="5762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Do you use maintenance therapy </a:t>
            </a:r>
            <a:br>
              <a:rPr sz="3200"/>
            </a:br>
            <a:r>
              <a:rPr b="1" lang="en-US" sz="3200" spc="-1" strike="noStrike">
                <a:solidFill>
                  <a:srgbClr val="ecbb33"/>
                </a:solidFill>
                <a:latin typeface="Arial"/>
              </a:rPr>
              <a:t>for your patients with metastatic </a:t>
            </a:r>
            <a:r>
              <a:rPr b="1" lang="en-US" sz="3200" spc="-1" strike="noStrike" u="sng">
                <a:solidFill>
                  <a:srgbClr val="ecbb33"/>
                </a:solidFill>
                <a:uFillTx/>
                <a:latin typeface="Arial"/>
              </a:rPr>
              <a:t>squamous cell</a:t>
            </a:r>
            <a:r>
              <a:rPr b="1" lang="en-US" sz="3200" spc="-1" strike="noStrike">
                <a:solidFill>
                  <a:srgbClr val="ecbb33"/>
                </a:solidFill>
                <a:latin typeface="Arial"/>
              </a:rPr>
              <a:t> lung cancer?</a:t>
            </a:r>
            <a:endParaRPr b="1" lang="en-US" sz="3200" spc="-1" strike="noStrike">
              <a:solidFill>
                <a:srgbClr val="ecbb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use maintenance therapy for your patients with metastatic squamous cell carcinoma?</a:t>
            </a:r>
            <a:endParaRPr b="0" lang="en-US" sz="2400" spc="-1" strike="noStrike">
              <a:solidFill>
                <a:srgbClr val="000000"/>
              </a:solidFill>
              <a:latin typeface="Arial"/>
            </a:endParaRPr>
          </a:p>
        </p:txBody>
      </p:sp>
      <p:pic>
        <p:nvPicPr>
          <p:cNvPr id="2059" name="Chart 3" descr=""/>
          <p:cNvPicPr/>
          <p:nvPr/>
        </p:nvPicPr>
        <p:blipFill>
          <a:blip r:embed="rId1"/>
          <a:stretch/>
        </p:blipFill>
        <p:spPr>
          <a:xfrm>
            <a:off x="482760" y="2082960"/>
            <a:ext cx="8254800" cy="4444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title"/>
          </p:nvPr>
        </p:nvSpPr>
        <p:spPr>
          <a:xfrm>
            <a:off x="26028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decisions: choices for maintenance therapy in lung adenocarcinoma</a:t>
            </a:r>
            <a:endParaRPr b="0" lang="en-US" sz="2800" spc="-1" strike="noStrike">
              <a:solidFill>
                <a:srgbClr val="000000"/>
              </a:solidFill>
              <a:latin typeface="Arial"/>
            </a:endParaRPr>
          </a:p>
        </p:txBody>
      </p:sp>
      <p:grpSp>
        <p:nvGrpSpPr>
          <p:cNvPr id="2061" name="TextBox 3"/>
          <p:cNvGrpSpPr/>
          <p:nvPr/>
        </p:nvGrpSpPr>
        <p:grpSpPr>
          <a:xfrm>
            <a:off x="92160" y="3571920"/>
            <a:ext cx="2022480" cy="1755720"/>
            <a:chOff x="92160" y="3571920"/>
            <a:chExt cx="2022480" cy="1755720"/>
          </a:xfrm>
        </p:grpSpPr>
        <p:pic>
          <p:nvPicPr>
            <p:cNvPr id="2062" name="TextBox 3" descr=""/>
            <p:cNvPicPr/>
            <p:nvPr/>
          </p:nvPicPr>
          <p:blipFill>
            <a:blip r:embed="rId1"/>
            <a:stretch/>
          </p:blipFill>
          <p:spPr>
            <a:xfrm>
              <a:off x="92160" y="3571920"/>
              <a:ext cx="2022480" cy="1755720"/>
            </a:xfrm>
            <a:prstGeom prst="rect">
              <a:avLst/>
            </a:prstGeom>
            <a:ln w="0">
              <a:noFill/>
            </a:ln>
          </p:spPr>
        </p:pic>
        <p:sp>
          <p:nvSpPr>
            <p:cNvPr id="2063" name=""/>
            <p:cNvSpPr/>
            <p:nvPr/>
          </p:nvSpPr>
          <p:spPr>
            <a:xfrm>
              <a:off x="152280" y="3606840"/>
              <a:ext cx="19051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ction che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 cycles), +/- B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th non-PD</a:t>
              </a:r>
              <a:endParaRPr b="0" lang="en-US" sz="2000" spc="-1" strike="noStrike">
                <a:solidFill>
                  <a:srgbClr val="000000"/>
                </a:solidFill>
                <a:latin typeface="Arial"/>
              </a:endParaRPr>
            </a:p>
          </p:txBody>
        </p:sp>
      </p:grpSp>
      <p:grpSp>
        <p:nvGrpSpPr>
          <p:cNvPr id="2064" name="TextBox 40"/>
          <p:cNvGrpSpPr/>
          <p:nvPr/>
        </p:nvGrpSpPr>
        <p:grpSpPr>
          <a:xfrm>
            <a:off x="2998800" y="2152800"/>
            <a:ext cx="1938240" cy="577800"/>
            <a:chOff x="2998800" y="2152800"/>
            <a:chExt cx="1938240" cy="577800"/>
          </a:xfrm>
        </p:grpSpPr>
        <p:pic>
          <p:nvPicPr>
            <p:cNvPr id="2065" name="TextBox 40" descr=""/>
            <p:cNvPicPr/>
            <p:nvPr/>
          </p:nvPicPr>
          <p:blipFill>
            <a:blip r:embed="rId2"/>
            <a:stretch/>
          </p:blipFill>
          <p:spPr>
            <a:xfrm>
              <a:off x="2998800" y="2152800"/>
              <a:ext cx="1938240" cy="577800"/>
            </a:xfrm>
            <a:prstGeom prst="rect">
              <a:avLst/>
            </a:prstGeom>
            <a:ln w="0">
              <a:noFill/>
            </a:ln>
          </p:spPr>
        </p:pic>
        <p:sp>
          <p:nvSpPr>
            <p:cNvPr id="2066" name=""/>
            <p:cNvSpPr/>
            <p:nvPr/>
          </p:nvSpPr>
          <p:spPr>
            <a:xfrm>
              <a:off x="3059280" y="2181240"/>
              <a:ext cx="1817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a:t>
              </a:r>
              <a:endParaRPr b="0" lang="en-US" sz="2400" spc="-1" strike="noStrike">
                <a:solidFill>
                  <a:srgbClr val="000000"/>
                </a:solidFill>
                <a:latin typeface="Arial"/>
              </a:endParaRPr>
            </a:p>
          </p:txBody>
        </p:sp>
      </p:grpSp>
      <p:cxnSp>
        <p:nvCxnSpPr>
          <p:cNvPr id="2067" name="Straight Arrow Connector 45"/>
          <p:cNvCxnSpPr/>
          <p:nvPr/>
        </p:nvCxnSpPr>
        <p:spPr>
          <a:xfrm flipV="1">
            <a:off x="2133720" y="3104640"/>
            <a:ext cx="838800" cy="1239120"/>
          </a:xfrm>
          <a:prstGeom prst="straightConnector1">
            <a:avLst/>
          </a:prstGeom>
          <a:ln w="57240">
            <a:solidFill>
              <a:srgbClr val="002060"/>
            </a:solidFill>
            <a:miter/>
            <a:tailEnd len="med" type="triangle" w="med"/>
          </a:ln>
        </p:spPr>
      </p:cxnSp>
      <p:grpSp>
        <p:nvGrpSpPr>
          <p:cNvPr id="2068" name="Group 8"/>
          <p:cNvGrpSpPr/>
          <p:nvPr/>
        </p:nvGrpSpPr>
        <p:grpSpPr>
          <a:xfrm>
            <a:off x="2133720" y="4262400"/>
            <a:ext cx="2732040" cy="484920"/>
            <a:chOff x="2133720" y="4262400"/>
            <a:chExt cx="2732040" cy="484920"/>
          </a:xfrm>
        </p:grpSpPr>
        <p:grpSp>
          <p:nvGrpSpPr>
            <p:cNvPr id="2069" name="TextBox 41"/>
            <p:cNvGrpSpPr/>
            <p:nvPr/>
          </p:nvGrpSpPr>
          <p:grpSpPr>
            <a:xfrm>
              <a:off x="2968920" y="4262400"/>
              <a:ext cx="1896840" cy="484920"/>
              <a:chOff x="2968920" y="4262400"/>
              <a:chExt cx="1896840" cy="484920"/>
            </a:xfrm>
          </p:grpSpPr>
          <p:pic>
            <p:nvPicPr>
              <p:cNvPr id="2070" name="TextBox 41" descr=""/>
              <p:cNvPicPr/>
              <p:nvPr/>
            </p:nvPicPr>
            <p:blipFill>
              <a:blip r:embed="rId3"/>
              <a:stretch/>
            </p:blipFill>
            <p:spPr>
              <a:xfrm>
                <a:off x="2968920" y="4262400"/>
                <a:ext cx="1896840" cy="461880"/>
              </a:xfrm>
              <a:prstGeom prst="rect">
                <a:avLst/>
              </a:prstGeom>
              <a:ln w="0">
                <a:noFill/>
              </a:ln>
            </p:spPr>
          </p:pic>
          <p:sp>
            <p:nvSpPr>
              <p:cNvPr id="2071" name=""/>
              <p:cNvSpPr/>
              <p:nvPr/>
            </p:nvSpPr>
            <p:spPr>
              <a:xfrm>
                <a:off x="3028320" y="4287600"/>
                <a:ext cx="1778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a:t>
                </a:r>
                <a:endParaRPr b="0" lang="en-US" sz="2400" spc="-1" strike="noStrike">
                  <a:solidFill>
                    <a:srgbClr val="000000"/>
                  </a:solidFill>
                  <a:latin typeface="Arial"/>
                </a:endParaRPr>
              </a:p>
            </p:txBody>
          </p:sp>
        </p:grpSp>
        <p:cxnSp>
          <p:nvCxnSpPr>
            <p:cNvPr id="2072" name="Straight Arrow Connector 47"/>
            <p:cNvCxnSpPr/>
            <p:nvPr/>
          </p:nvCxnSpPr>
          <p:spPr>
            <a:xfrm>
              <a:off x="2133720" y="4411440"/>
              <a:ext cx="820800" cy="1800"/>
            </a:xfrm>
            <a:prstGeom prst="straightConnector1">
              <a:avLst/>
            </a:prstGeom>
            <a:ln w="57240">
              <a:solidFill>
                <a:srgbClr val="002060"/>
              </a:solidFill>
              <a:miter/>
              <a:tailEnd len="med" type="triangle" w="med"/>
            </a:ln>
          </p:spPr>
        </p:cxnSp>
      </p:grpSp>
      <p:grpSp>
        <p:nvGrpSpPr>
          <p:cNvPr id="2073" name="Group 7"/>
          <p:cNvGrpSpPr/>
          <p:nvPr/>
        </p:nvGrpSpPr>
        <p:grpSpPr>
          <a:xfrm>
            <a:off x="5029200" y="1523880"/>
            <a:ext cx="3980160" cy="1847880"/>
            <a:chOff x="5029200" y="1523880"/>
            <a:chExt cx="3980160" cy="1847880"/>
          </a:xfrm>
        </p:grpSpPr>
        <p:cxnSp>
          <p:nvCxnSpPr>
            <p:cNvPr id="2074" name="Straight Arrow Connector 21"/>
            <p:cNvCxnSpPr/>
            <p:nvPr/>
          </p:nvCxnSpPr>
          <p:spPr>
            <a:xfrm flipV="1">
              <a:off x="5029200" y="1856520"/>
              <a:ext cx="838800" cy="502920"/>
            </a:xfrm>
            <a:prstGeom prst="straightConnector1">
              <a:avLst/>
            </a:prstGeom>
            <a:ln w="57240">
              <a:solidFill>
                <a:srgbClr val="002060"/>
              </a:solidFill>
              <a:miter/>
              <a:tailEnd len="med" type="triangle" w="med"/>
            </a:ln>
          </p:spPr>
        </p:cxnSp>
        <p:cxnSp>
          <p:nvCxnSpPr>
            <p:cNvPr id="2075" name="Straight Arrow Connector 23"/>
            <p:cNvCxnSpPr/>
            <p:nvPr/>
          </p:nvCxnSpPr>
          <p:spPr>
            <a:xfrm>
              <a:off x="5029200" y="2502720"/>
              <a:ext cx="838800" cy="502920"/>
            </a:xfrm>
            <a:prstGeom prst="straightConnector1">
              <a:avLst/>
            </a:prstGeom>
            <a:ln w="57240">
              <a:solidFill>
                <a:srgbClr val="002060"/>
              </a:solidFill>
              <a:miter/>
              <a:tailEnd len="med" type="triangle" w="med"/>
            </a:ln>
          </p:spPr>
        </p:cxnSp>
        <p:cxnSp>
          <p:nvCxnSpPr>
            <p:cNvPr id="2076" name="Straight Arrow Connector 24"/>
            <p:cNvCxnSpPr/>
            <p:nvPr/>
          </p:nvCxnSpPr>
          <p:spPr>
            <a:xfrm>
              <a:off x="5029200" y="2430000"/>
              <a:ext cx="838800" cy="2160"/>
            </a:xfrm>
            <a:prstGeom prst="straightConnector1">
              <a:avLst/>
            </a:prstGeom>
            <a:ln w="57240">
              <a:solidFill>
                <a:srgbClr val="002060"/>
              </a:solidFill>
              <a:miter/>
              <a:tailEnd len="med" type="triangle" w="med"/>
            </a:ln>
          </p:spPr>
        </p:cxnSp>
        <p:grpSp>
          <p:nvGrpSpPr>
            <p:cNvPr id="2077" name="TextBox 26"/>
            <p:cNvGrpSpPr/>
            <p:nvPr/>
          </p:nvGrpSpPr>
          <p:grpSpPr>
            <a:xfrm>
              <a:off x="5882400" y="1523880"/>
              <a:ext cx="2255400" cy="487800"/>
              <a:chOff x="5882400" y="1523880"/>
              <a:chExt cx="2255400" cy="487800"/>
            </a:xfrm>
          </p:grpSpPr>
          <p:pic>
            <p:nvPicPr>
              <p:cNvPr id="2078" name="TextBox 26" descr=""/>
              <p:cNvPicPr/>
              <p:nvPr/>
            </p:nvPicPr>
            <p:blipFill>
              <a:blip r:embed="rId4"/>
              <a:stretch/>
            </p:blipFill>
            <p:spPr>
              <a:xfrm>
                <a:off x="5882400" y="1523880"/>
                <a:ext cx="2255400" cy="487800"/>
              </a:xfrm>
              <a:prstGeom prst="rect">
                <a:avLst/>
              </a:prstGeom>
              <a:ln w="0">
                <a:noFill/>
              </a:ln>
            </p:spPr>
          </p:pic>
          <p:sp>
            <p:nvSpPr>
              <p:cNvPr id="2079" name=""/>
              <p:cNvSpPr/>
              <p:nvPr/>
            </p:nvSpPr>
            <p:spPr>
              <a:xfrm>
                <a:off x="5943240" y="1552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a:t>
                </a:r>
                <a:endParaRPr b="0" lang="en-US" sz="2000" spc="-1" strike="noStrike">
                  <a:solidFill>
                    <a:srgbClr val="000000"/>
                  </a:solidFill>
                  <a:latin typeface="Arial"/>
                </a:endParaRPr>
              </a:p>
            </p:txBody>
          </p:sp>
        </p:grpSp>
        <p:grpSp>
          <p:nvGrpSpPr>
            <p:cNvPr id="2080" name="TextBox 29"/>
            <p:cNvGrpSpPr/>
            <p:nvPr/>
          </p:nvGrpSpPr>
          <p:grpSpPr>
            <a:xfrm>
              <a:off x="5882400" y="2166480"/>
              <a:ext cx="2255400" cy="487800"/>
              <a:chOff x="5882400" y="2166480"/>
              <a:chExt cx="2255400" cy="487800"/>
            </a:xfrm>
          </p:grpSpPr>
          <p:pic>
            <p:nvPicPr>
              <p:cNvPr id="2081" name="TextBox 29" descr=""/>
              <p:cNvPicPr/>
              <p:nvPr/>
            </p:nvPicPr>
            <p:blipFill>
              <a:blip r:embed="rId5"/>
              <a:stretch/>
            </p:blipFill>
            <p:spPr>
              <a:xfrm>
                <a:off x="5882400" y="2166480"/>
                <a:ext cx="2255400" cy="487800"/>
              </a:xfrm>
              <a:prstGeom prst="rect">
                <a:avLst/>
              </a:prstGeom>
              <a:ln w="0">
                <a:noFill/>
              </a:ln>
            </p:spPr>
          </p:pic>
          <p:sp>
            <p:nvSpPr>
              <p:cNvPr id="2082" name=""/>
              <p:cNvSpPr/>
              <p:nvPr/>
            </p:nvSpPr>
            <p:spPr>
              <a:xfrm>
                <a:off x="5943240" y="21949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083" name="TextBox 30"/>
            <p:cNvGrpSpPr/>
            <p:nvPr/>
          </p:nvGrpSpPr>
          <p:grpSpPr>
            <a:xfrm>
              <a:off x="5882400" y="2883960"/>
              <a:ext cx="2255400" cy="487800"/>
              <a:chOff x="5882400" y="2883960"/>
              <a:chExt cx="2255400" cy="487800"/>
            </a:xfrm>
          </p:grpSpPr>
          <p:pic>
            <p:nvPicPr>
              <p:cNvPr id="2084" name="TextBox 30" descr=""/>
              <p:cNvPicPr/>
              <p:nvPr/>
            </p:nvPicPr>
            <p:blipFill>
              <a:blip r:embed="rId6"/>
              <a:stretch/>
            </p:blipFill>
            <p:spPr>
              <a:xfrm>
                <a:off x="5882400" y="2883960"/>
                <a:ext cx="2255400" cy="487800"/>
              </a:xfrm>
              <a:prstGeom prst="rect">
                <a:avLst/>
              </a:prstGeom>
              <a:ln w="0">
                <a:noFill/>
              </a:ln>
            </p:spPr>
          </p:pic>
          <p:sp>
            <p:nvSpPr>
              <p:cNvPr id="2085" name=""/>
              <p:cNvSpPr/>
              <p:nvPr/>
            </p:nvSpPr>
            <p:spPr>
              <a:xfrm>
                <a:off x="5943240" y="291528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Pem</a:t>
                </a:r>
                <a:endParaRPr b="0" lang="en-US" sz="2000" spc="-1" strike="noStrike">
                  <a:solidFill>
                    <a:srgbClr val="000000"/>
                  </a:solidFill>
                  <a:latin typeface="Arial"/>
                </a:endParaRPr>
              </a:p>
            </p:txBody>
          </p:sp>
        </p:grpSp>
        <p:sp>
          <p:nvSpPr>
            <p:cNvPr id="2086" name="TextBox 6"/>
            <p:cNvSpPr/>
            <p:nvPr/>
          </p:nvSpPr>
          <p:spPr>
            <a:xfrm>
              <a:off x="8078760" y="1624320"/>
              <a:ext cx="62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4599</a:t>
              </a:r>
              <a:endParaRPr b="0" lang="en-US" sz="1200" spc="-1" strike="noStrike">
                <a:solidFill>
                  <a:srgbClr val="000000"/>
                </a:solidFill>
                <a:latin typeface="Arial"/>
              </a:endParaRPr>
            </a:p>
          </p:txBody>
        </p:sp>
        <p:sp>
          <p:nvSpPr>
            <p:cNvPr id="2087" name="TextBox 48"/>
            <p:cNvSpPr/>
            <p:nvPr/>
          </p:nvSpPr>
          <p:spPr>
            <a:xfrm>
              <a:off x="8080200" y="226692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ount</a:t>
              </a:r>
              <a:endParaRPr b="0" lang="en-US" sz="1200" spc="-1" strike="noStrike">
                <a:solidFill>
                  <a:srgbClr val="000000"/>
                </a:solidFill>
                <a:latin typeface="Arial"/>
              </a:endParaRPr>
            </a:p>
          </p:txBody>
        </p:sp>
        <p:sp>
          <p:nvSpPr>
            <p:cNvPr id="2088" name="TextBox 49"/>
            <p:cNvSpPr/>
            <p:nvPr/>
          </p:nvSpPr>
          <p:spPr>
            <a:xfrm>
              <a:off x="8080200" y="291276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Break</a:t>
              </a:r>
              <a:endParaRPr b="0" lang="en-US" sz="1200" spc="-1" strike="noStrike">
                <a:solidFill>
                  <a:srgbClr val="000000"/>
                </a:solidFill>
                <a:latin typeface="Arial"/>
              </a:endParaRPr>
            </a:p>
          </p:txBody>
        </p:sp>
      </p:grpSp>
      <p:grpSp>
        <p:nvGrpSpPr>
          <p:cNvPr id="2089" name="Group 9"/>
          <p:cNvGrpSpPr/>
          <p:nvPr/>
        </p:nvGrpSpPr>
        <p:grpSpPr>
          <a:xfrm>
            <a:off x="5029200" y="3562200"/>
            <a:ext cx="3854160" cy="1847880"/>
            <a:chOff x="5029200" y="3562200"/>
            <a:chExt cx="3854160" cy="1847880"/>
          </a:xfrm>
        </p:grpSpPr>
        <p:cxnSp>
          <p:nvCxnSpPr>
            <p:cNvPr id="2090" name="Straight Arrow Connector 19"/>
            <p:cNvCxnSpPr/>
            <p:nvPr/>
          </p:nvCxnSpPr>
          <p:spPr>
            <a:xfrm flipV="1">
              <a:off x="5029200" y="3896280"/>
              <a:ext cx="838800" cy="501120"/>
            </a:xfrm>
            <a:prstGeom prst="straightConnector1">
              <a:avLst/>
            </a:prstGeom>
            <a:ln w="57240">
              <a:solidFill>
                <a:srgbClr val="002060"/>
              </a:solidFill>
              <a:miter/>
              <a:tailEnd len="med" type="triangle" w="med"/>
            </a:ln>
          </p:spPr>
        </p:cxnSp>
        <p:cxnSp>
          <p:nvCxnSpPr>
            <p:cNvPr id="2091" name="Straight Arrow Connector 20"/>
            <p:cNvCxnSpPr/>
            <p:nvPr/>
          </p:nvCxnSpPr>
          <p:spPr>
            <a:xfrm>
              <a:off x="5029200" y="4540320"/>
              <a:ext cx="838800" cy="501120"/>
            </a:xfrm>
            <a:prstGeom prst="straightConnector1">
              <a:avLst/>
            </a:prstGeom>
            <a:ln w="57240">
              <a:solidFill>
                <a:srgbClr val="002060"/>
              </a:solidFill>
              <a:miter/>
              <a:tailEnd len="med" type="triangle" w="med"/>
            </a:ln>
          </p:spPr>
        </p:cxnSp>
        <p:cxnSp>
          <p:nvCxnSpPr>
            <p:cNvPr id="2092" name="Straight Arrow Connector 22"/>
            <p:cNvCxnSpPr/>
            <p:nvPr/>
          </p:nvCxnSpPr>
          <p:spPr>
            <a:xfrm>
              <a:off x="5029200" y="4467600"/>
              <a:ext cx="838800" cy="2160"/>
            </a:xfrm>
            <a:prstGeom prst="straightConnector1">
              <a:avLst/>
            </a:prstGeom>
            <a:ln w="57240">
              <a:solidFill>
                <a:srgbClr val="002060"/>
              </a:solidFill>
              <a:miter/>
              <a:tailEnd len="med" type="triangle" w="med"/>
            </a:ln>
          </p:spPr>
        </p:cxnSp>
        <p:grpSp>
          <p:nvGrpSpPr>
            <p:cNvPr id="2093" name="TextBox 25"/>
            <p:cNvGrpSpPr/>
            <p:nvPr/>
          </p:nvGrpSpPr>
          <p:grpSpPr>
            <a:xfrm>
              <a:off x="5882400" y="3562200"/>
              <a:ext cx="2255400" cy="486360"/>
              <a:chOff x="5882400" y="3562200"/>
              <a:chExt cx="2255400" cy="486360"/>
            </a:xfrm>
          </p:grpSpPr>
          <p:pic>
            <p:nvPicPr>
              <p:cNvPr id="2094" name="TextBox 25" descr=""/>
              <p:cNvPicPr/>
              <p:nvPr/>
            </p:nvPicPr>
            <p:blipFill>
              <a:blip r:embed="rId7"/>
              <a:stretch/>
            </p:blipFill>
            <p:spPr>
              <a:xfrm>
                <a:off x="5882400" y="3562200"/>
                <a:ext cx="2255400" cy="486360"/>
              </a:xfrm>
              <a:prstGeom prst="rect">
                <a:avLst/>
              </a:prstGeom>
              <a:ln w="0">
                <a:noFill/>
              </a:ln>
            </p:spPr>
          </p:pic>
          <p:sp>
            <p:nvSpPr>
              <p:cNvPr id="2095" name=""/>
              <p:cNvSpPr/>
              <p:nvPr/>
            </p:nvSpPr>
            <p:spPr>
              <a:xfrm>
                <a:off x="5943240" y="35928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096" name="TextBox 32"/>
            <p:cNvGrpSpPr/>
            <p:nvPr/>
          </p:nvGrpSpPr>
          <p:grpSpPr>
            <a:xfrm>
              <a:off x="5882400" y="4203000"/>
              <a:ext cx="2255400" cy="486360"/>
              <a:chOff x="5882400" y="4203000"/>
              <a:chExt cx="2255400" cy="486360"/>
            </a:xfrm>
          </p:grpSpPr>
          <p:pic>
            <p:nvPicPr>
              <p:cNvPr id="2097" name="TextBox 32" descr=""/>
              <p:cNvPicPr/>
              <p:nvPr/>
            </p:nvPicPr>
            <p:blipFill>
              <a:blip r:embed="rId8"/>
              <a:stretch/>
            </p:blipFill>
            <p:spPr>
              <a:xfrm>
                <a:off x="5882400" y="4203000"/>
                <a:ext cx="2255400" cy="486360"/>
              </a:xfrm>
              <a:prstGeom prst="rect">
                <a:avLst/>
              </a:prstGeom>
              <a:ln w="0">
                <a:noFill/>
              </a:ln>
            </p:spPr>
          </p:pic>
          <p:sp>
            <p:nvSpPr>
              <p:cNvPr id="2098" name=""/>
              <p:cNvSpPr/>
              <p:nvPr/>
            </p:nvSpPr>
            <p:spPr>
              <a:xfrm>
                <a:off x="5943240" y="42336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o</a:t>
                </a:r>
                <a:endParaRPr b="0" lang="en-US" sz="2000" spc="-1" strike="noStrike">
                  <a:solidFill>
                    <a:srgbClr val="000000"/>
                  </a:solidFill>
                  <a:latin typeface="Arial"/>
                </a:endParaRPr>
              </a:p>
            </p:txBody>
          </p:sp>
        </p:grpSp>
        <p:grpSp>
          <p:nvGrpSpPr>
            <p:cNvPr id="2099" name="TextBox 33"/>
            <p:cNvGrpSpPr/>
            <p:nvPr/>
          </p:nvGrpSpPr>
          <p:grpSpPr>
            <a:xfrm>
              <a:off x="5882400" y="4923720"/>
              <a:ext cx="2255400" cy="486360"/>
              <a:chOff x="5882400" y="4923720"/>
              <a:chExt cx="2255400" cy="486360"/>
            </a:xfrm>
          </p:grpSpPr>
          <p:pic>
            <p:nvPicPr>
              <p:cNvPr id="2100" name="TextBox 33" descr=""/>
              <p:cNvPicPr/>
              <p:nvPr/>
            </p:nvPicPr>
            <p:blipFill>
              <a:blip r:embed="rId9"/>
              <a:stretch/>
            </p:blipFill>
            <p:spPr>
              <a:xfrm>
                <a:off x="5882400" y="4923720"/>
                <a:ext cx="2255400" cy="486360"/>
              </a:xfrm>
              <a:prstGeom prst="rect">
                <a:avLst/>
              </a:prstGeom>
              <a:ln w="0">
                <a:noFill/>
              </a:ln>
            </p:spPr>
          </p:pic>
          <p:sp>
            <p:nvSpPr>
              <p:cNvPr id="2101" name=""/>
              <p:cNvSpPr/>
              <p:nvPr/>
            </p:nvSpPr>
            <p:spPr>
              <a:xfrm>
                <a:off x="5943240" y="495144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m</a:t>
                </a:r>
                <a:endParaRPr b="0" lang="en-US" sz="2000" spc="-1" strike="noStrike">
                  <a:solidFill>
                    <a:srgbClr val="000000"/>
                  </a:solidFill>
                  <a:latin typeface="Arial"/>
                </a:endParaRPr>
              </a:p>
            </p:txBody>
          </p:sp>
        </p:grpSp>
        <p:sp>
          <p:nvSpPr>
            <p:cNvPr id="2102" name="TextBox 50"/>
            <p:cNvSpPr/>
            <p:nvPr/>
          </p:nvSpPr>
          <p:spPr>
            <a:xfrm>
              <a:off x="8081280" y="361080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EN</a:t>
              </a:r>
              <a:endParaRPr b="0" lang="en-US" sz="1200" spc="-1" strike="noStrike">
                <a:solidFill>
                  <a:srgbClr val="000000"/>
                </a:solidFill>
                <a:latin typeface="Arial"/>
              </a:endParaRPr>
            </a:p>
          </p:txBody>
        </p:sp>
        <p:sp>
          <p:nvSpPr>
            <p:cNvPr id="2103" name="TextBox 51"/>
            <p:cNvSpPr/>
            <p:nvPr/>
          </p:nvSpPr>
          <p:spPr>
            <a:xfrm>
              <a:off x="8076240" y="425160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p:txBody>
        </p:sp>
        <p:sp>
          <p:nvSpPr>
            <p:cNvPr id="2104" name="TextBox 52"/>
            <p:cNvSpPr/>
            <p:nvPr/>
          </p:nvSpPr>
          <p:spPr>
            <a:xfrm>
              <a:off x="8081280" y="496980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CT</a:t>
              </a:r>
              <a:endParaRPr b="0" lang="en-US" sz="1200" spc="-1" strike="noStrike">
                <a:solidFill>
                  <a:srgbClr val="000000"/>
                </a:solidFill>
                <a:latin typeface="Arial"/>
              </a:endParaRPr>
            </a:p>
          </p:txBody>
        </p:sp>
      </p:grpSp>
      <p:grpSp>
        <p:nvGrpSpPr>
          <p:cNvPr id="2105" name="Group 10"/>
          <p:cNvGrpSpPr/>
          <p:nvPr/>
        </p:nvGrpSpPr>
        <p:grpSpPr>
          <a:xfrm>
            <a:off x="2133720" y="4495320"/>
            <a:ext cx="6606360" cy="1905480"/>
            <a:chOff x="2133720" y="4495320"/>
            <a:chExt cx="6606360" cy="1905480"/>
          </a:xfrm>
        </p:grpSpPr>
        <p:cxnSp>
          <p:nvCxnSpPr>
            <p:cNvPr id="2106" name="Straight Arrow Connector 36"/>
            <p:cNvCxnSpPr/>
            <p:nvPr/>
          </p:nvCxnSpPr>
          <p:spPr>
            <a:xfrm>
              <a:off x="4952880" y="6171840"/>
              <a:ext cx="838800" cy="2160"/>
            </a:xfrm>
            <a:prstGeom prst="straightConnector1">
              <a:avLst/>
            </a:prstGeom>
            <a:ln w="57240">
              <a:solidFill>
                <a:srgbClr val="002060"/>
              </a:solidFill>
              <a:miter/>
              <a:tailEnd len="med" type="triangle" w="med"/>
            </a:ln>
          </p:spPr>
        </p:cxnSp>
        <p:grpSp>
          <p:nvGrpSpPr>
            <p:cNvPr id="2107" name="TextBox 43"/>
            <p:cNvGrpSpPr/>
            <p:nvPr/>
          </p:nvGrpSpPr>
          <p:grpSpPr>
            <a:xfrm>
              <a:off x="2986920" y="5846400"/>
              <a:ext cx="1938240" cy="554400"/>
              <a:chOff x="2986920" y="5846400"/>
              <a:chExt cx="1938240" cy="554400"/>
            </a:xfrm>
          </p:grpSpPr>
          <p:pic>
            <p:nvPicPr>
              <p:cNvPr id="2108" name="TextBox 43" descr=""/>
              <p:cNvPicPr/>
              <p:nvPr/>
            </p:nvPicPr>
            <p:blipFill>
              <a:blip r:embed="rId10"/>
              <a:stretch/>
            </p:blipFill>
            <p:spPr>
              <a:xfrm>
                <a:off x="2986920" y="5846400"/>
                <a:ext cx="1938240" cy="554400"/>
              </a:xfrm>
              <a:prstGeom prst="rect">
                <a:avLst/>
              </a:prstGeom>
              <a:ln w="0">
                <a:noFill/>
              </a:ln>
            </p:spPr>
          </p:pic>
          <p:sp>
            <p:nvSpPr>
              <p:cNvPr id="2109" name=""/>
              <p:cNvSpPr/>
              <p:nvPr/>
            </p:nvSpPr>
            <p:spPr>
              <a:xfrm>
                <a:off x="3047760" y="5877000"/>
                <a:ext cx="181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a:t>
                </a:r>
                <a:endParaRPr b="0" lang="en-US" sz="2400" spc="-1" strike="noStrike">
                  <a:solidFill>
                    <a:srgbClr val="000000"/>
                  </a:solidFill>
                  <a:latin typeface="Arial"/>
                </a:endParaRPr>
              </a:p>
            </p:txBody>
          </p:sp>
        </p:grpSp>
        <p:grpSp>
          <p:nvGrpSpPr>
            <p:cNvPr id="2110" name="TextBox 44"/>
            <p:cNvGrpSpPr/>
            <p:nvPr/>
          </p:nvGrpSpPr>
          <p:grpSpPr>
            <a:xfrm>
              <a:off x="5895000" y="5852520"/>
              <a:ext cx="1938240" cy="495720"/>
              <a:chOff x="5895000" y="5852520"/>
              <a:chExt cx="1938240" cy="495720"/>
            </a:xfrm>
          </p:grpSpPr>
          <p:pic>
            <p:nvPicPr>
              <p:cNvPr id="2111" name="TextBox 44" descr=""/>
              <p:cNvPicPr/>
              <p:nvPr/>
            </p:nvPicPr>
            <p:blipFill>
              <a:blip r:embed="rId11"/>
              <a:stretch/>
            </p:blipFill>
            <p:spPr>
              <a:xfrm>
                <a:off x="5895000" y="5852520"/>
                <a:ext cx="1938240" cy="495720"/>
              </a:xfrm>
              <a:prstGeom prst="rect">
                <a:avLst/>
              </a:prstGeom>
              <a:ln w="0">
                <a:noFill/>
              </a:ln>
            </p:spPr>
          </p:pic>
          <p:sp>
            <p:nvSpPr>
              <p:cNvPr id="2112" name=""/>
              <p:cNvSpPr/>
              <p:nvPr/>
            </p:nvSpPr>
            <p:spPr>
              <a:xfrm>
                <a:off x="5954760" y="5881680"/>
                <a:ext cx="1817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o to BV</a:t>
                </a:r>
                <a:endParaRPr b="0" lang="en-US" sz="2000" spc="-1" strike="noStrike">
                  <a:solidFill>
                    <a:srgbClr val="000000"/>
                  </a:solidFill>
                  <a:latin typeface="Arial"/>
                </a:endParaRPr>
              </a:p>
            </p:txBody>
          </p:sp>
        </p:grpSp>
        <p:cxnSp>
          <p:nvCxnSpPr>
            <p:cNvPr id="2113" name="Straight Arrow Connector 46"/>
            <p:cNvCxnSpPr/>
            <p:nvPr/>
          </p:nvCxnSpPr>
          <p:spPr>
            <a:xfrm>
              <a:off x="2133720" y="4495320"/>
              <a:ext cx="838800" cy="1532520"/>
            </a:xfrm>
            <a:prstGeom prst="straightConnector1">
              <a:avLst/>
            </a:prstGeom>
            <a:ln w="57240">
              <a:solidFill>
                <a:srgbClr val="002060"/>
              </a:solidFill>
              <a:miter/>
              <a:tailEnd len="med" type="triangle" w="med"/>
            </a:ln>
          </p:spPr>
        </p:cxnSp>
        <p:sp>
          <p:nvSpPr>
            <p:cNvPr id="2114" name="TextBox 53"/>
            <p:cNvSpPr/>
            <p:nvPr/>
          </p:nvSpPr>
          <p:spPr>
            <a:xfrm>
              <a:off x="8074800" y="58788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S</a:t>
              </a:r>
              <a:endParaRPr b="0" lang="en-US" sz="12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Straight Connector 5"/>
          <p:cNvSpPr/>
          <p:nvPr/>
        </p:nvSpPr>
        <p:spPr>
          <a:xfrm flipV="1">
            <a:off x="2819520" y="2139480"/>
            <a:ext cx="304560" cy="3049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6" name="Straight Connector 26"/>
          <p:cNvSpPr/>
          <p:nvPr/>
        </p:nvSpPr>
        <p:spPr>
          <a:xfrm>
            <a:off x="2819520" y="2597040"/>
            <a:ext cx="304560" cy="3049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7" name="Straight Connector 32"/>
          <p:cNvSpPr/>
          <p:nvPr/>
        </p:nvSpPr>
        <p:spPr>
          <a:xfrm>
            <a:off x="4038480" y="2057400"/>
            <a:ext cx="3812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8" name="Straight Connector 35"/>
          <p:cNvSpPr/>
          <p:nvPr/>
        </p:nvSpPr>
        <p:spPr>
          <a:xfrm>
            <a:off x="4038480" y="2978280"/>
            <a:ext cx="3812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9" name="Straight Connector 36"/>
          <p:cNvSpPr/>
          <p:nvPr/>
        </p:nvSpPr>
        <p:spPr>
          <a:xfrm>
            <a:off x="5334120" y="2978280"/>
            <a:ext cx="380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20" name="Straight Connector 37"/>
          <p:cNvSpPr/>
          <p:nvPr/>
        </p:nvSpPr>
        <p:spPr>
          <a:xfrm>
            <a:off x="5334120" y="2057400"/>
            <a:ext cx="380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atory analysis of BV maintenance from E4599</a:t>
            </a:r>
            <a:endParaRPr b="0" lang="en-US" sz="4400" spc="-1" strike="noStrike">
              <a:solidFill>
                <a:srgbClr val="000000"/>
              </a:solidFill>
              <a:latin typeface="Arial"/>
            </a:endParaRPr>
          </a:p>
        </p:txBody>
      </p:sp>
      <p:sp>
        <p:nvSpPr>
          <p:cNvPr id="2122" name="TextBox 3"/>
          <p:cNvSpPr/>
          <p:nvPr/>
        </p:nvSpPr>
        <p:spPr>
          <a:xfrm>
            <a:off x="6593760" y="645948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pez-Chavez, JTO, 2012</a:t>
            </a:r>
            <a:endParaRPr b="0" lang="en-US" sz="1600" spc="-1" strike="noStrike">
              <a:solidFill>
                <a:srgbClr val="000000"/>
              </a:solidFill>
              <a:latin typeface="Arial"/>
            </a:endParaRPr>
          </a:p>
        </p:txBody>
      </p:sp>
      <p:sp>
        <p:nvSpPr>
          <p:cNvPr id="2123" name="Rounded Rectangle 2"/>
          <p:cNvSpPr/>
          <p:nvPr/>
        </p:nvSpPr>
        <p:spPr>
          <a:xfrm>
            <a:off x="3124080" y="1828800"/>
            <a:ext cx="914400" cy="53352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4" name="TextBox 1"/>
          <p:cNvSpPr/>
          <p:nvPr/>
        </p:nvSpPr>
        <p:spPr>
          <a:xfrm>
            <a:off x="3124080" y="1870200"/>
            <a:ext cx="9144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 BV</a:t>
            </a:r>
            <a:br>
              <a:rPr sz="1300"/>
            </a:br>
            <a:r>
              <a:rPr b="0" lang="en-US" sz="1300" spc="-1" strike="noStrike">
                <a:solidFill>
                  <a:srgbClr val="ffffff"/>
                </a:solidFill>
                <a:latin typeface="Arial"/>
              </a:rPr>
              <a:t>n = 429</a:t>
            </a:r>
            <a:endParaRPr b="0" lang="en-US" sz="1300" spc="-1" strike="noStrike">
              <a:solidFill>
                <a:srgbClr val="000000"/>
              </a:solidFill>
              <a:latin typeface="Arial"/>
            </a:endParaRPr>
          </a:p>
        </p:txBody>
      </p:sp>
      <p:sp>
        <p:nvSpPr>
          <p:cNvPr id="2125" name="Rounded Rectangle 10"/>
          <p:cNvSpPr/>
          <p:nvPr/>
        </p:nvSpPr>
        <p:spPr>
          <a:xfrm>
            <a:off x="4495680" y="1711440"/>
            <a:ext cx="9144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6" name="TextBox 11"/>
          <p:cNvSpPr/>
          <p:nvPr/>
        </p:nvSpPr>
        <p:spPr>
          <a:xfrm>
            <a:off x="4495680" y="1676520"/>
            <a:ext cx="9144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 BV</a:t>
            </a:r>
            <a:br>
              <a:rPr sz="1300"/>
            </a:br>
            <a:r>
              <a:rPr b="0" lang="en-US" sz="1300" spc="-1" strike="noStrike">
                <a:solidFill>
                  <a:srgbClr val="ffffff"/>
                </a:solidFill>
                <a:latin typeface="Arial"/>
              </a:rPr>
              <a:t>n = 258</a:t>
            </a:r>
            <a:br>
              <a:rPr sz="1300"/>
            </a:br>
            <a:r>
              <a:rPr b="0" lang="en-US" sz="1300" spc="-1" strike="noStrike">
                <a:solidFill>
                  <a:srgbClr val="ffffff"/>
                </a:solidFill>
                <a:latin typeface="Arial"/>
              </a:rPr>
              <a:t>(60%)</a:t>
            </a:r>
            <a:endParaRPr b="0" lang="en-US" sz="1300" spc="-1" strike="noStrike">
              <a:solidFill>
                <a:srgbClr val="000000"/>
              </a:solidFill>
              <a:latin typeface="Arial"/>
            </a:endParaRPr>
          </a:p>
        </p:txBody>
      </p:sp>
      <p:sp>
        <p:nvSpPr>
          <p:cNvPr id="2127" name="Rounded Rectangle 12"/>
          <p:cNvSpPr/>
          <p:nvPr/>
        </p:nvSpPr>
        <p:spPr>
          <a:xfrm>
            <a:off x="5715000" y="1711440"/>
            <a:ext cx="167652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8" name="TextBox 13"/>
          <p:cNvSpPr/>
          <p:nvPr/>
        </p:nvSpPr>
        <p:spPr>
          <a:xfrm>
            <a:off x="5715000" y="1676520"/>
            <a:ext cx="16765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V maintenance</a:t>
            </a:r>
            <a:br>
              <a:rPr sz="1300"/>
            </a:br>
            <a:r>
              <a:rPr b="0" lang="en-US" sz="1300" spc="-1" strike="noStrike">
                <a:solidFill>
                  <a:srgbClr val="ffffff"/>
                </a:solidFill>
                <a:latin typeface="Arial"/>
              </a:rPr>
              <a:t>n = 217</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1%)</a:t>
            </a:r>
            <a:endParaRPr b="0" lang="en-US" sz="1300" spc="-1" strike="noStrike">
              <a:solidFill>
                <a:srgbClr val="000000"/>
              </a:solidFill>
              <a:latin typeface="Arial"/>
            </a:endParaRPr>
          </a:p>
        </p:txBody>
      </p:sp>
      <p:sp>
        <p:nvSpPr>
          <p:cNvPr id="2129" name="Rounded Rectangle 14"/>
          <p:cNvSpPr/>
          <p:nvPr/>
        </p:nvSpPr>
        <p:spPr>
          <a:xfrm>
            <a:off x="3124080" y="2673360"/>
            <a:ext cx="914400" cy="53352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0" name="TextBox 15"/>
          <p:cNvSpPr/>
          <p:nvPr/>
        </p:nvSpPr>
        <p:spPr>
          <a:xfrm>
            <a:off x="3124080" y="2714760"/>
            <a:ext cx="9144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a:t>
            </a:r>
            <a:br>
              <a:rPr sz="1300"/>
            </a:br>
            <a:r>
              <a:rPr b="0" lang="en-US" sz="1300" spc="-1" strike="noStrike">
                <a:solidFill>
                  <a:srgbClr val="ffffff"/>
                </a:solidFill>
                <a:latin typeface="Arial"/>
              </a:rPr>
              <a:t>n = 440</a:t>
            </a:r>
            <a:endParaRPr b="0" lang="en-US" sz="1300" spc="-1" strike="noStrike">
              <a:solidFill>
                <a:srgbClr val="000000"/>
              </a:solidFill>
              <a:latin typeface="Arial"/>
            </a:endParaRPr>
          </a:p>
        </p:txBody>
      </p:sp>
      <p:sp>
        <p:nvSpPr>
          <p:cNvPr id="2131" name="Rounded Rectangle 16"/>
          <p:cNvSpPr/>
          <p:nvPr/>
        </p:nvSpPr>
        <p:spPr>
          <a:xfrm>
            <a:off x="4495680" y="2556000"/>
            <a:ext cx="9144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2" name="TextBox 17"/>
          <p:cNvSpPr/>
          <p:nvPr/>
        </p:nvSpPr>
        <p:spPr>
          <a:xfrm>
            <a:off x="4495680" y="2521080"/>
            <a:ext cx="9144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a:t>
            </a:r>
            <a:br>
              <a:rPr sz="1300"/>
            </a:br>
            <a:r>
              <a:rPr b="0" lang="en-US" sz="1300" spc="-1" strike="noStrike">
                <a:solidFill>
                  <a:srgbClr val="ffffff"/>
                </a:solidFill>
                <a:latin typeface="Arial"/>
              </a:rPr>
              <a:t>n = 194</a:t>
            </a:r>
            <a:br>
              <a:rPr sz="1300"/>
            </a:br>
            <a:r>
              <a:rPr b="0" lang="en-US" sz="1300" spc="-1" strike="noStrike">
                <a:solidFill>
                  <a:srgbClr val="ffffff"/>
                </a:solidFill>
                <a:latin typeface="Arial"/>
              </a:rPr>
              <a:t>(44%)</a:t>
            </a:r>
            <a:endParaRPr b="0" lang="en-US" sz="1300" spc="-1" strike="noStrike">
              <a:solidFill>
                <a:srgbClr val="000000"/>
              </a:solidFill>
              <a:latin typeface="Arial"/>
            </a:endParaRPr>
          </a:p>
        </p:txBody>
      </p:sp>
      <p:sp>
        <p:nvSpPr>
          <p:cNvPr id="2133" name="Rounded Rectangle 18"/>
          <p:cNvSpPr/>
          <p:nvPr/>
        </p:nvSpPr>
        <p:spPr>
          <a:xfrm>
            <a:off x="5715000" y="2556000"/>
            <a:ext cx="167652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4" name="TextBox 19"/>
          <p:cNvSpPr/>
          <p:nvPr/>
        </p:nvSpPr>
        <p:spPr>
          <a:xfrm>
            <a:off x="5715000" y="2521080"/>
            <a:ext cx="16765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nonprogressors</a:t>
            </a:r>
            <a:br>
              <a:rPr sz="1300"/>
            </a:br>
            <a:r>
              <a:rPr b="0" lang="en-US" sz="1300" spc="-1" strike="noStrike">
                <a:solidFill>
                  <a:srgbClr val="ffffff"/>
                </a:solidFill>
                <a:latin typeface="Arial"/>
              </a:rPr>
              <a:t>n = 134</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0%)</a:t>
            </a:r>
            <a:endParaRPr b="0" lang="en-US" sz="1300" spc="-1" strike="noStrike">
              <a:solidFill>
                <a:srgbClr val="000000"/>
              </a:solidFill>
              <a:latin typeface="Arial"/>
            </a:endParaRPr>
          </a:p>
        </p:txBody>
      </p:sp>
      <p:sp>
        <p:nvSpPr>
          <p:cNvPr id="2135" name="Rounded Rectangle 20"/>
          <p:cNvSpPr/>
          <p:nvPr/>
        </p:nvSpPr>
        <p:spPr>
          <a:xfrm>
            <a:off x="1676520" y="2139840"/>
            <a:ext cx="11430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6" name="TextBox 21"/>
          <p:cNvSpPr/>
          <p:nvPr/>
        </p:nvSpPr>
        <p:spPr>
          <a:xfrm>
            <a:off x="1676520" y="2104920"/>
            <a:ext cx="11430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tients in</a:t>
            </a:r>
            <a:br>
              <a:rPr sz="1300"/>
            </a:br>
            <a:r>
              <a:rPr b="0" lang="en-US" sz="1300" spc="-1" strike="noStrike">
                <a:solidFill>
                  <a:srgbClr val="ffffff"/>
                </a:solidFill>
                <a:latin typeface="Arial"/>
              </a:rPr>
              <a:t>ECOG 4599</a:t>
            </a:r>
            <a:br>
              <a:rPr sz="1300"/>
            </a:br>
            <a:r>
              <a:rPr b="0" lang="en-US" sz="1300" spc="-1" strike="noStrike">
                <a:solidFill>
                  <a:srgbClr val="ffffff"/>
                </a:solidFill>
                <a:latin typeface="Arial"/>
              </a:rPr>
              <a:t>n = 869</a:t>
            </a:r>
            <a:endParaRPr b="0" lang="en-US" sz="1300" spc="-1" strike="noStrike">
              <a:solidFill>
                <a:srgbClr val="000000"/>
              </a:solidFill>
              <a:latin typeface="Arial"/>
            </a:endParaRPr>
          </a:p>
        </p:txBody>
      </p:sp>
      <p:sp>
        <p:nvSpPr>
          <p:cNvPr id="2137" name="TextBox 30"/>
          <p:cNvSpPr/>
          <p:nvPr/>
        </p:nvSpPr>
        <p:spPr>
          <a:xfrm>
            <a:off x="274320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6 cycles</a:t>
            </a:r>
            <a:endParaRPr b="0" lang="en-US" sz="1200" spc="-1" strike="noStrike">
              <a:solidFill>
                <a:srgbClr val="000000"/>
              </a:solidFill>
              <a:latin typeface="Arial"/>
            </a:endParaRPr>
          </a:p>
        </p:txBody>
      </p:sp>
      <p:sp>
        <p:nvSpPr>
          <p:cNvPr id="2138" name="TextBox 39"/>
          <p:cNvSpPr/>
          <p:nvPr/>
        </p:nvSpPr>
        <p:spPr>
          <a:xfrm>
            <a:off x="419112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d 6 cycles</a:t>
            </a:r>
            <a:endParaRPr b="0" lang="en-US" sz="1200" spc="-1" strike="noStrike">
              <a:solidFill>
                <a:srgbClr val="000000"/>
              </a:solidFill>
              <a:latin typeface="Arial"/>
            </a:endParaRPr>
          </a:p>
        </p:txBody>
      </p:sp>
      <p:sp>
        <p:nvSpPr>
          <p:cNvPr id="2139" name="TextBox 40"/>
          <p:cNvSpPr/>
          <p:nvPr/>
        </p:nvSpPr>
        <p:spPr>
          <a:xfrm>
            <a:off x="579132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population</a:t>
            </a:r>
            <a:endParaRPr b="0" lang="en-US" sz="1200" spc="-1" strike="noStrike">
              <a:solidFill>
                <a:srgbClr val="000000"/>
              </a:solidFill>
              <a:latin typeface="Arial"/>
            </a:endParaRPr>
          </a:p>
        </p:txBody>
      </p:sp>
      <p:graphicFrame>
        <p:nvGraphicFramePr>
          <p:cNvPr id="2140" name=""/>
          <p:cNvGraphicFramePr/>
          <p:nvPr/>
        </p:nvGraphicFramePr>
        <p:xfrm>
          <a:off x="762120" y="3581280"/>
          <a:ext cx="7543800" cy="2259000"/>
        </p:xfrm>
        <a:graphic>
          <a:graphicData uri="http://schemas.openxmlformats.org/drawingml/2006/table">
            <a:tbl>
              <a:tblPr/>
              <a:tblGrid>
                <a:gridCol w="2590560"/>
                <a:gridCol w="2797200"/>
                <a:gridCol w="2156040"/>
              </a:tblGrid>
              <a:tr h="822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ival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 + bev induction followed by bev maintenance (n = 217)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P induction </a:t>
                      </a:r>
                      <a:br>
                        <a:rPr sz="1600"/>
                      </a:br>
                      <a:r>
                        <a:rPr b="1" lang="en-US" sz="1600" spc="-1" strike="noStrike">
                          <a:solidFill>
                            <a:srgbClr val="000000"/>
                          </a:solidFill>
                          <a:latin typeface="Arial"/>
                        </a:rPr>
                        <a:t>+ no maintenance </a:t>
                      </a:r>
                      <a:br>
                        <a:rPr sz="1600"/>
                      </a:br>
                      <a:r>
                        <a:rPr b="1" lang="en-US" sz="1600" spc="-1" strike="noStrike">
                          <a:solidFill>
                            <a:srgbClr val="000000"/>
                          </a:solidFill>
                          <a:latin typeface="Arial"/>
                        </a:rPr>
                        <a:t>(n = 134)</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3585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overall survival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4.4 mo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8 mo</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3603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R = 0.75, </a:t>
                      </a:r>
                      <a:r>
                        <a:rPr b="0" i="1" lang="en-US" sz="1600" spc="-1" strike="noStrike">
                          <a:solidFill>
                            <a:srgbClr val="000000"/>
                          </a:solidFill>
                          <a:latin typeface="Arial"/>
                        </a:rPr>
                        <a:t>p</a:t>
                      </a:r>
                      <a:r>
                        <a:rPr b="0" lang="en-US" sz="1600" spc="-1" strike="noStrike">
                          <a:solidFill>
                            <a:srgbClr val="000000"/>
                          </a:solidFill>
                          <a:latin typeface="Arial"/>
                        </a:rPr>
                        <a:t> = 0.03</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progression-free survival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2.4 mo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2 mo</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58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 = 0.64, </a:t>
                      </a:r>
                      <a:r>
                        <a:rPr b="0" i="1" lang="en-US" sz="1600" spc="-1" strike="noStrike">
                          <a:solidFill>
                            <a:srgbClr val="000000"/>
                          </a:solidFill>
                          <a:latin typeface="Arial"/>
                        </a:rPr>
                        <a:t>p</a:t>
                      </a:r>
                      <a:r>
                        <a:rPr b="0" lang="en-US" sz="1600" spc="-1" strike="noStrike">
                          <a:solidFill>
                            <a:srgbClr val="000000"/>
                          </a:solidFill>
                          <a:latin typeface="Arial"/>
                        </a:rPr>
                        <a:t> &lt; 0.001</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OUNT: Phase III study of maintenance pem vs BSC after Pem/Cis induction </a:t>
            </a:r>
            <a:endParaRPr b="0" lang="en-US" sz="3200" spc="-1" strike="noStrike">
              <a:solidFill>
                <a:srgbClr val="000000"/>
              </a:solidFill>
              <a:latin typeface="Arial"/>
            </a:endParaRPr>
          </a:p>
        </p:txBody>
      </p:sp>
      <p:sp>
        <p:nvSpPr>
          <p:cNvPr id="2142" name="TextBox 3"/>
          <p:cNvSpPr/>
          <p:nvPr/>
        </p:nvSpPr>
        <p:spPr>
          <a:xfrm>
            <a:off x="4884840" y="6400800"/>
            <a:ext cx="365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z-Ares et al, Lancet Oncology, 2012</a:t>
            </a:r>
            <a:endParaRPr b="0" lang="en-US" sz="1600" spc="-1" strike="noStrike">
              <a:solidFill>
                <a:srgbClr val="000000"/>
              </a:solidFill>
              <a:latin typeface="Arial"/>
            </a:endParaRPr>
          </a:p>
        </p:txBody>
      </p:sp>
      <p:graphicFrame>
        <p:nvGraphicFramePr>
          <p:cNvPr id="2143" name=""/>
          <p:cNvGraphicFramePr/>
          <p:nvPr/>
        </p:nvGraphicFramePr>
        <p:xfrm>
          <a:off x="609480" y="2286000"/>
          <a:ext cx="8153640" cy="1981080"/>
        </p:xfrm>
        <a:graphic>
          <a:graphicData uri="http://schemas.openxmlformats.org/drawingml/2006/table">
            <a:tbl>
              <a:tblPr/>
              <a:tblGrid>
                <a:gridCol w="2210040"/>
                <a:gridCol w="1600200"/>
                <a:gridCol w="1447560"/>
                <a:gridCol w="1447920"/>
                <a:gridCol w="1447920"/>
              </a:tblGrid>
              <a:tr h="10080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ival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metrexed + BSC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cebo + BSC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g-rank p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R (95% CI)</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973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PFS (95% CI)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1 mo (3.2-4.6)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 mo (2.6-3.1)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0.0001</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2 (0.49-0.79)</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44" name="Straight Arrow Connector 14"/>
          <p:cNvCxnSpPr/>
          <p:nvPr/>
        </p:nvCxnSpPr>
        <p:spPr>
          <a:xfrm>
            <a:off x="3200400" y="2501640"/>
            <a:ext cx="991440" cy="1080"/>
          </a:xfrm>
          <a:prstGeom prst="straightConnector1">
            <a:avLst/>
          </a:prstGeom>
          <a:ln w="57240">
            <a:solidFill>
              <a:srgbClr val="002060"/>
            </a:solidFill>
            <a:miter/>
            <a:tailEnd len="med" type="triangle" w="med"/>
          </a:ln>
        </p:spPr>
      </p:cxnSp>
      <p:sp>
        <p:nvSpPr>
          <p:cNvPr id="2145"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MEN Phase III trial of </a:t>
            </a:r>
            <a:r>
              <a:rPr b="0" lang="ja-JP" sz="3200" spc="-1" strike="noStrike">
                <a:solidFill>
                  <a:srgbClr val="000000"/>
                </a:solidFill>
                <a:latin typeface="Arial"/>
              </a:rPr>
              <a:t>“</a:t>
            </a:r>
            <a:r>
              <a:rPr b="0" lang="en-US" sz="3200" spc="-1" strike="noStrike">
                <a:solidFill>
                  <a:srgbClr val="000000"/>
                </a:solidFill>
                <a:latin typeface="Arial"/>
              </a:rPr>
              <a:t>switch</a:t>
            </a:r>
            <a:r>
              <a:rPr b="0" lang="ja-JP" sz="3200" spc="-1" strike="noStrike">
                <a:solidFill>
                  <a:srgbClr val="000000"/>
                </a:solidFill>
                <a:latin typeface="Arial"/>
              </a:rPr>
              <a:t>”</a:t>
            </a:r>
            <a:r>
              <a:rPr b="0" lang="en-US" sz="3200" spc="-1" strike="noStrike">
                <a:solidFill>
                  <a:srgbClr val="000000"/>
                </a:solidFill>
                <a:latin typeface="Arial"/>
              </a:rPr>
              <a:t> maintenance for NSCLC (non-squamous subset)</a:t>
            </a:r>
            <a:endParaRPr b="0" lang="en-US" sz="3200" spc="-1" strike="noStrike">
              <a:solidFill>
                <a:srgbClr val="000000"/>
              </a:solidFill>
              <a:latin typeface="Arial"/>
            </a:endParaRPr>
          </a:p>
        </p:txBody>
      </p:sp>
      <p:grpSp>
        <p:nvGrpSpPr>
          <p:cNvPr id="2146" name="TextBox 18"/>
          <p:cNvGrpSpPr/>
          <p:nvPr/>
        </p:nvGrpSpPr>
        <p:grpSpPr>
          <a:xfrm>
            <a:off x="853920" y="1779480"/>
            <a:ext cx="2919600" cy="1354320"/>
            <a:chOff x="853920" y="1779480"/>
            <a:chExt cx="2919600" cy="1354320"/>
          </a:xfrm>
        </p:grpSpPr>
        <p:pic>
          <p:nvPicPr>
            <p:cNvPr id="2147" name="TextBox 18" descr=""/>
            <p:cNvPicPr/>
            <p:nvPr/>
          </p:nvPicPr>
          <p:blipFill>
            <a:blip r:embed="rId1"/>
            <a:stretch/>
          </p:blipFill>
          <p:spPr>
            <a:xfrm>
              <a:off x="853920" y="1779480"/>
              <a:ext cx="2919600" cy="1354320"/>
            </a:xfrm>
            <a:prstGeom prst="rect">
              <a:avLst/>
            </a:prstGeom>
            <a:ln w="0">
              <a:noFill/>
            </a:ln>
          </p:spPr>
        </p:pic>
        <p:sp>
          <p:nvSpPr>
            <p:cNvPr id="2148" name=""/>
            <p:cNvSpPr/>
            <p:nvPr/>
          </p:nvSpPr>
          <p:spPr>
            <a:xfrm>
              <a:off x="914400" y="1812960"/>
              <a:ext cx="2800440" cy="122004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ge IIIB/IV NSCLC</a:t>
              </a:r>
              <a:endParaRPr b="0" lang="en-US" sz="1600" spc="-1" strike="noStrike">
                <a:solidFill>
                  <a:srgbClr val="000000"/>
                </a:solidFill>
                <a:latin typeface="Arial"/>
              </a:endParaRPr>
            </a:p>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ycles of gem, doc, or tax + cis/carb, w/ non-PD</a:t>
              </a:r>
              <a:endParaRPr b="0" lang="en-US" sz="1600" spc="-1" strike="noStrike">
                <a:solidFill>
                  <a:srgbClr val="000000"/>
                </a:solidFill>
                <a:latin typeface="Arial"/>
              </a:endParaRPr>
            </a:p>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endpoint: PFS</a:t>
              </a:r>
              <a:endParaRPr b="0" lang="en-US" sz="1600" spc="-1" strike="noStrike">
                <a:solidFill>
                  <a:srgbClr val="000000"/>
                </a:solidFill>
                <a:latin typeface="Arial"/>
              </a:endParaRPr>
            </a:p>
          </p:txBody>
        </p:sp>
      </p:grpSp>
      <p:cxnSp>
        <p:nvCxnSpPr>
          <p:cNvPr id="2149" name="Straight Arrow Connector 21"/>
          <p:cNvCxnSpPr/>
          <p:nvPr/>
        </p:nvCxnSpPr>
        <p:spPr>
          <a:xfrm flipV="1">
            <a:off x="5029200" y="1901520"/>
            <a:ext cx="838800" cy="534240"/>
          </a:xfrm>
          <a:prstGeom prst="straightConnector1">
            <a:avLst/>
          </a:prstGeom>
          <a:ln w="57240">
            <a:solidFill>
              <a:srgbClr val="002060"/>
            </a:solidFill>
            <a:miter/>
            <a:tailEnd len="med" type="triangle" w="med"/>
          </a:ln>
        </p:spPr>
      </p:cxnSp>
      <p:cxnSp>
        <p:nvCxnSpPr>
          <p:cNvPr id="2150" name="Straight Arrow Connector 23"/>
          <p:cNvCxnSpPr/>
          <p:nvPr/>
        </p:nvCxnSpPr>
        <p:spPr>
          <a:xfrm>
            <a:off x="5029200" y="2587680"/>
            <a:ext cx="838800" cy="534240"/>
          </a:xfrm>
          <a:prstGeom prst="straightConnector1">
            <a:avLst/>
          </a:prstGeom>
          <a:ln w="57240">
            <a:solidFill>
              <a:srgbClr val="002060"/>
            </a:solidFill>
            <a:miter/>
            <a:tailEnd len="med" type="triangle" w="med"/>
          </a:ln>
        </p:spPr>
      </p:cxnSp>
      <p:grpSp>
        <p:nvGrpSpPr>
          <p:cNvPr id="2151" name="TextBox 26"/>
          <p:cNvGrpSpPr/>
          <p:nvPr/>
        </p:nvGrpSpPr>
        <p:grpSpPr>
          <a:xfrm>
            <a:off x="5883120" y="1494000"/>
            <a:ext cx="2406960" cy="1029960"/>
            <a:chOff x="5883120" y="1494000"/>
            <a:chExt cx="2406960" cy="1029960"/>
          </a:xfrm>
        </p:grpSpPr>
        <p:pic>
          <p:nvPicPr>
            <p:cNvPr id="2152" name="TextBox 26" descr=""/>
            <p:cNvPicPr/>
            <p:nvPr/>
          </p:nvPicPr>
          <p:blipFill>
            <a:blip r:embed="rId2"/>
            <a:stretch/>
          </p:blipFill>
          <p:spPr>
            <a:xfrm>
              <a:off x="5883120" y="1494000"/>
              <a:ext cx="2406960" cy="1029960"/>
            </a:xfrm>
            <a:prstGeom prst="rect">
              <a:avLst/>
            </a:prstGeom>
            <a:ln w="0">
              <a:noFill/>
            </a:ln>
          </p:spPr>
        </p:pic>
        <p:sp>
          <p:nvSpPr>
            <p:cNvPr id="2153" name=""/>
            <p:cNvSpPr/>
            <p:nvPr/>
          </p:nvSpPr>
          <p:spPr>
            <a:xfrm>
              <a:off x="5943600" y="1523880"/>
              <a:ext cx="2286000" cy="9061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metrexed </a:t>
              </a:r>
              <a:endParaRPr b="0" lang="en-US" sz="1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 mg/m</a:t>
              </a:r>
              <a:r>
                <a:rPr b="0" lang="en-US" sz="1600" spc="-1" strike="noStrike" baseline="30000">
                  <a:solidFill>
                    <a:srgbClr val="000000"/>
                  </a:solidFill>
                  <a:latin typeface="Arial"/>
                </a:rPr>
                <a:t>2</a:t>
              </a:r>
              <a:r>
                <a:rPr b="0" lang="en-US" sz="1600" spc="-1" strike="noStrike">
                  <a:solidFill>
                    <a:srgbClr val="000000"/>
                  </a:solidFill>
                  <a:latin typeface="Arial"/>
                </a:rPr>
                <a:t>, q21d</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41)</a:t>
              </a:r>
              <a:endParaRPr b="0" lang="en-US" sz="1600" spc="-1" strike="noStrike">
                <a:solidFill>
                  <a:srgbClr val="000000"/>
                </a:solidFill>
                <a:latin typeface="Arial"/>
              </a:endParaRPr>
            </a:p>
          </p:txBody>
        </p:sp>
      </p:grpSp>
      <p:grpSp>
        <p:nvGrpSpPr>
          <p:cNvPr id="2154" name="TextBox 37"/>
          <p:cNvGrpSpPr/>
          <p:nvPr/>
        </p:nvGrpSpPr>
        <p:grpSpPr>
          <a:xfrm>
            <a:off x="5883120" y="2798640"/>
            <a:ext cx="2327400" cy="487440"/>
            <a:chOff x="5883120" y="2798640"/>
            <a:chExt cx="2327400" cy="487440"/>
          </a:xfrm>
        </p:grpSpPr>
        <p:pic>
          <p:nvPicPr>
            <p:cNvPr id="2155" name="TextBox 37" descr=""/>
            <p:cNvPicPr/>
            <p:nvPr/>
          </p:nvPicPr>
          <p:blipFill>
            <a:blip r:embed="rId3"/>
            <a:stretch/>
          </p:blipFill>
          <p:spPr>
            <a:xfrm>
              <a:off x="5883120" y="2798640"/>
              <a:ext cx="2327400" cy="487440"/>
            </a:xfrm>
            <a:prstGeom prst="rect">
              <a:avLst/>
            </a:prstGeom>
            <a:ln w="0">
              <a:noFill/>
            </a:ln>
          </p:spPr>
        </p:pic>
        <p:sp>
          <p:nvSpPr>
            <p:cNvPr id="2156" name=""/>
            <p:cNvSpPr/>
            <p:nvPr/>
          </p:nvSpPr>
          <p:spPr>
            <a:xfrm>
              <a:off x="5943600" y="282744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bo (N=222)</a:t>
              </a:r>
              <a:endParaRPr b="0" lang="en-US" sz="1800" spc="-1" strike="noStrike">
                <a:solidFill>
                  <a:srgbClr val="000000"/>
                </a:solidFill>
                <a:latin typeface="Arial"/>
              </a:endParaRPr>
            </a:p>
          </p:txBody>
        </p:sp>
      </p:grpSp>
      <p:sp>
        <p:nvSpPr>
          <p:cNvPr id="2157" name="TextBox 19"/>
          <p:cNvSpPr/>
          <p:nvPr/>
        </p:nvSpPr>
        <p:spPr>
          <a:xfrm>
            <a:off x="4956480" y="6519960"/>
            <a:ext cx="240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uleanu et al, Lancet, 2009</a:t>
            </a:r>
            <a:endParaRPr b="0" lang="en-US" sz="1400" spc="-1" strike="noStrike">
              <a:solidFill>
                <a:srgbClr val="000000"/>
              </a:solidFill>
              <a:latin typeface="Arial"/>
            </a:endParaRPr>
          </a:p>
        </p:txBody>
      </p:sp>
      <p:grpSp>
        <p:nvGrpSpPr>
          <p:cNvPr id="2158" name="TextBox 13"/>
          <p:cNvGrpSpPr/>
          <p:nvPr/>
        </p:nvGrpSpPr>
        <p:grpSpPr>
          <a:xfrm>
            <a:off x="4206960" y="2023920"/>
            <a:ext cx="955440" cy="944640"/>
            <a:chOff x="4206960" y="2023920"/>
            <a:chExt cx="955440" cy="944640"/>
          </a:xfrm>
        </p:grpSpPr>
        <p:pic>
          <p:nvPicPr>
            <p:cNvPr id="2159" name="TextBox 13" descr=""/>
            <p:cNvPicPr/>
            <p:nvPr/>
          </p:nvPicPr>
          <p:blipFill>
            <a:blip r:embed="rId4"/>
            <a:stretch/>
          </p:blipFill>
          <p:spPr>
            <a:xfrm>
              <a:off x="4206960" y="2023920"/>
              <a:ext cx="955440" cy="944640"/>
            </a:xfrm>
            <a:prstGeom prst="rect">
              <a:avLst/>
            </a:prstGeom>
            <a:ln w="0">
              <a:noFill/>
            </a:ln>
          </p:spPr>
        </p:pic>
        <p:sp>
          <p:nvSpPr>
            <p:cNvPr id="2160" name=""/>
            <p:cNvSpPr/>
            <p:nvPr/>
          </p:nvSpPr>
          <p:spPr>
            <a:xfrm>
              <a:off x="4389480" y="2178000"/>
              <a:ext cx="593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p:txBody>
        </p:sp>
      </p:grpSp>
      <p:graphicFrame>
        <p:nvGraphicFramePr>
          <p:cNvPr id="2161" name=""/>
          <p:cNvGraphicFramePr/>
          <p:nvPr/>
        </p:nvGraphicFramePr>
        <p:xfrm>
          <a:off x="609480" y="3581280"/>
          <a:ext cx="8153640" cy="2133720"/>
        </p:xfrm>
        <a:graphic>
          <a:graphicData uri="http://schemas.openxmlformats.org/drawingml/2006/table">
            <a:tbl>
              <a:tblPr/>
              <a:tblGrid>
                <a:gridCol w="3048120"/>
                <a:gridCol w="1523880"/>
                <a:gridCol w="1219320"/>
                <a:gridCol w="1143000"/>
                <a:gridCol w="1219320"/>
              </a:tblGrid>
              <a:tr h="6858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fficacy parameter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metrex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326)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 = 156)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azard rati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value</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762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FS</a:t>
                      </a:r>
                      <a:br>
                        <a:rPr sz="1800"/>
                      </a:br>
                      <a:r>
                        <a:rPr b="0" lang="en-US" sz="1800" spc="-1" strike="noStrike">
                          <a:solidFill>
                            <a:srgbClr val="000000"/>
                          </a:solidFill>
                          <a:latin typeface="Arial"/>
                        </a:rPr>
                        <a:t>    Nonsquamous</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5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44</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0.0001</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6858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Nonsquamous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5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3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70</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title"/>
          </p:nvPr>
        </p:nvSpPr>
        <p:spPr>
          <a:xfrm>
            <a:off x="456840" y="380520"/>
            <a:ext cx="8434440" cy="5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hase III IFCT-GFPC 0502 results: </a:t>
            </a:r>
            <a:br>
              <a:rPr sz="4000"/>
            </a:br>
            <a:r>
              <a:rPr b="0" lang="en-GB" sz="4000" spc="-1" strike="noStrike">
                <a:solidFill>
                  <a:srgbClr val="000000"/>
                </a:solidFill>
                <a:latin typeface="Arial"/>
              </a:rPr>
              <a:t>gem maintenance prolongs PFS </a:t>
            </a:r>
            <a:endParaRPr b="0" lang="en-US" sz="4000" spc="-1" strike="noStrike">
              <a:solidFill>
                <a:srgbClr val="000000"/>
              </a:solidFill>
              <a:latin typeface="Arial"/>
            </a:endParaRPr>
          </a:p>
        </p:txBody>
      </p:sp>
      <p:sp>
        <p:nvSpPr>
          <p:cNvPr id="2163" name="Rectangle 5"/>
          <p:cNvSpPr/>
          <p:nvPr/>
        </p:nvSpPr>
        <p:spPr>
          <a:xfrm>
            <a:off x="108000" y="6535800"/>
            <a:ext cx="871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Perol M. </a:t>
            </a:r>
            <a:r>
              <a:rPr b="0" i="1" lang="en-IE" sz="1200" spc="-1" strike="noStrike">
                <a:solidFill>
                  <a:srgbClr val="000000"/>
                </a:solidFill>
                <a:latin typeface="Arial"/>
              </a:rPr>
              <a:t>J Clin Oncol </a:t>
            </a:r>
            <a:r>
              <a:rPr b="0" lang="en-IE" sz="1200" spc="-1" strike="noStrike">
                <a:solidFill>
                  <a:srgbClr val="000000"/>
                </a:solidFill>
                <a:latin typeface="Arial"/>
              </a:rPr>
              <a:t>2010;28:15s (suppl; abstr 7507)</a:t>
            </a:r>
            <a:endParaRPr b="0" lang="en-US" sz="1200" spc="-1" strike="noStrike">
              <a:solidFill>
                <a:srgbClr val="000000"/>
              </a:solidFill>
              <a:latin typeface="Arial"/>
            </a:endParaRPr>
          </a:p>
        </p:txBody>
      </p:sp>
      <p:sp>
        <p:nvSpPr>
          <p:cNvPr id="2164" name="Content Placeholder 2"/>
          <p:cNvSpPr/>
          <p:nvPr/>
        </p:nvSpPr>
        <p:spPr>
          <a:xfrm>
            <a:off x="1476360" y="1484280"/>
            <a:ext cx="6912000" cy="865080"/>
          </a:xfrm>
          <a:prstGeom prst="rect">
            <a:avLst/>
          </a:prstGeom>
          <a:noFill/>
          <a:ln w="0">
            <a:noFill/>
          </a:ln>
        </p:spPr>
        <p:style>
          <a:lnRef idx="0"/>
          <a:fillRef idx="0"/>
          <a:effectRef idx="0"/>
          <a:fontRef idx="minor"/>
        </p:style>
        <p:txBody>
          <a:bodyPr lIns="270000" rIns="90000" tIns="46800" bIns="46800" anchor="t">
            <a:noAutofit/>
          </a:bodyPr>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enance therapy with gemcitabine significantly delayed disease progression compared with the observation arm</a:t>
            </a:r>
            <a:endParaRPr b="0" lang="en-US" sz="2000" spc="-1" strike="noStrike">
              <a:solidFill>
                <a:srgbClr val="000000"/>
              </a:solidFill>
              <a:latin typeface="Arial"/>
            </a:endParaRPr>
          </a:p>
        </p:txBody>
      </p:sp>
      <p:sp>
        <p:nvSpPr>
          <p:cNvPr id="2165" name="TextBox 137"/>
          <p:cNvSpPr/>
          <p:nvPr/>
        </p:nvSpPr>
        <p:spPr>
          <a:xfrm flipH="1">
            <a:off x="5784120" y="6362640"/>
            <a:ext cx="322596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FS is measured from time of randomization into the maintenance phase</a:t>
            </a:r>
            <a:endParaRPr b="0" lang="en-US" sz="1200" spc="-1" strike="noStrike">
              <a:solidFill>
                <a:srgbClr val="000000"/>
              </a:solidFill>
              <a:latin typeface="Arial"/>
            </a:endParaRPr>
          </a:p>
        </p:txBody>
      </p:sp>
      <p:sp>
        <p:nvSpPr>
          <p:cNvPr id="2166" name="TextBox 150"/>
          <p:cNvSpPr/>
          <p:nvPr/>
        </p:nvSpPr>
        <p:spPr>
          <a:xfrm>
            <a:off x="1476360" y="2492280"/>
            <a:ext cx="680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FS by independent review: gemcitabine versus observation</a:t>
            </a:r>
            <a:endParaRPr b="0" lang="en-US" sz="1600" spc="-1" strike="noStrike">
              <a:solidFill>
                <a:srgbClr val="000000"/>
              </a:solidFill>
              <a:latin typeface="Arial"/>
            </a:endParaRPr>
          </a:p>
        </p:txBody>
      </p:sp>
      <p:sp>
        <p:nvSpPr>
          <p:cNvPr id="2167" name="TextBox 132"/>
          <p:cNvSpPr/>
          <p:nvPr/>
        </p:nvSpPr>
        <p:spPr>
          <a:xfrm flipH="1">
            <a:off x="914400" y="5486400"/>
            <a:ext cx="32004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R=0.55 (0.43–0.7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g-rank test, p&lt;0.0001</a:t>
            </a:r>
            <a:endParaRPr b="0" lang="en-US" sz="1600" spc="-1" strike="noStrike">
              <a:solidFill>
                <a:srgbClr val="000000"/>
              </a:solidFill>
              <a:latin typeface="Arial"/>
            </a:endParaRPr>
          </a:p>
        </p:txBody>
      </p:sp>
      <p:graphicFrame>
        <p:nvGraphicFramePr>
          <p:cNvPr id="2168" name=""/>
          <p:cNvGraphicFramePr/>
          <p:nvPr/>
        </p:nvGraphicFramePr>
        <p:xfrm>
          <a:off x="838080" y="3276720"/>
          <a:ext cx="7239240" cy="2133360"/>
        </p:xfrm>
        <a:graphic>
          <a:graphicData uri="http://schemas.openxmlformats.org/drawingml/2006/table">
            <a:tbl>
              <a:tblPr/>
              <a:tblGrid>
                <a:gridCol w="3084480"/>
                <a:gridCol w="2086200"/>
                <a:gridCol w="2068560"/>
              </a:tblGrid>
              <a:tr h="7617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bservation </a:t>
                      </a:r>
                      <a:br>
                        <a:rPr sz="1800"/>
                      </a:br>
                      <a:r>
                        <a:rPr b="1" lang="en-GB" sz="1800" spc="-1" strike="noStrike">
                          <a:solidFill>
                            <a:srgbClr val="000000"/>
                          </a:solidFill>
                          <a:latin typeface="Arial"/>
                        </a:rPr>
                        <a:t>n=152</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mcitabine </a:t>
                      </a:r>
                      <a:br>
                        <a:rPr sz="1800"/>
                      </a:br>
                      <a:r>
                        <a:rPr b="1" lang="en-GB" sz="1800" spc="-1" strike="noStrike">
                          <a:solidFill>
                            <a:srgbClr val="000000"/>
                          </a:solidFill>
                          <a:latin typeface="Arial"/>
                        </a:rPr>
                        <a:t>n=149</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n PFS, months</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8</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FS at 3 months, %</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3</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5.0</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FS at 6 months, %</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6</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1</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LAS – maintenance erlotinib prolongs PFS in combination with BV</a:t>
            </a:r>
            <a:endParaRPr b="0" lang="en-US" sz="3600" spc="-1" strike="noStrike">
              <a:solidFill>
                <a:srgbClr val="000000"/>
              </a:solidFill>
              <a:latin typeface="Arial"/>
            </a:endParaRPr>
          </a:p>
        </p:txBody>
      </p:sp>
      <p:sp>
        <p:nvSpPr>
          <p:cNvPr id="2170" name="Rectangle 8"/>
          <p:cNvSpPr/>
          <p:nvPr/>
        </p:nvSpPr>
        <p:spPr>
          <a:xfrm>
            <a:off x="34920" y="652464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With permission from Miller VA, </a:t>
            </a:r>
            <a:r>
              <a:rPr b="0" i="1" lang="en-IE" sz="1200" spc="-1" strike="noStrike">
                <a:solidFill>
                  <a:srgbClr val="000000"/>
                </a:solidFill>
                <a:latin typeface="Arial"/>
                <a:ea typeface="Arial"/>
              </a:rPr>
              <a:t>et al. J Clin Oncol </a:t>
            </a:r>
            <a:r>
              <a:rPr b="0" lang="en-IE" sz="1200" spc="-1" strike="noStrike">
                <a:solidFill>
                  <a:srgbClr val="000000"/>
                </a:solidFill>
                <a:latin typeface="Arial"/>
                <a:ea typeface="Arial"/>
              </a:rPr>
              <a:t>2009;27(Suppl 1):Abstract LBA8002</a:t>
            </a:r>
            <a:endParaRPr b="0" lang="en-US" sz="1200" spc="-1" strike="noStrike">
              <a:solidFill>
                <a:srgbClr val="000000"/>
              </a:solidFill>
              <a:latin typeface="Arial"/>
            </a:endParaRPr>
          </a:p>
        </p:txBody>
      </p:sp>
      <p:sp>
        <p:nvSpPr>
          <p:cNvPr id="2171" name="Text Box 5"/>
          <p:cNvSpPr/>
          <p:nvPr/>
        </p:nvSpPr>
        <p:spPr>
          <a:xfrm>
            <a:off x="1889280" y="5713560"/>
            <a:ext cx="677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3</a:t>
            </a:r>
            <a:endParaRPr b="0" lang="en-US" sz="1600" spc="-1" strike="noStrike">
              <a:solidFill>
                <a:srgbClr val="000000"/>
              </a:solidFill>
              <a:latin typeface="Arial"/>
            </a:endParaRPr>
          </a:p>
        </p:txBody>
      </p:sp>
      <p:sp>
        <p:nvSpPr>
          <p:cNvPr id="2172" name="Text Box 6"/>
          <p:cNvSpPr/>
          <p:nvPr/>
        </p:nvSpPr>
        <p:spPr>
          <a:xfrm>
            <a:off x="2662200" y="5713560"/>
            <a:ext cx="5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2</a:t>
            </a:r>
            <a:endParaRPr b="0" lang="en-US" sz="1600" spc="-1" strike="noStrike">
              <a:solidFill>
                <a:srgbClr val="000000"/>
              </a:solidFill>
              <a:latin typeface="Arial"/>
            </a:endParaRPr>
          </a:p>
        </p:txBody>
      </p:sp>
      <p:sp>
        <p:nvSpPr>
          <p:cNvPr id="2173" name="Text Box 7"/>
          <p:cNvSpPr/>
          <p:nvPr/>
        </p:nvSpPr>
        <p:spPr>
          <a:xfrm>
            <a:off x="343368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p:txBody>
      </p:sp>
      <p:sp>
        <p:nvSpPr>
          <p:cNvPr id="2174" name="Text Box 8"/>
          <p:cNvSpPr/>
          <p:nvPr/>
        </p:nvSpPr>
        <p:spPr>
          <a:xfrm>
            <a:off x="4159080" y="5713560"/>
            <a:ext cx="41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p:txBody>
      </p:sp>
      <p:sp>
        <p:nvSpPr>
          <p:cNvPr id="2175" name="Text Box 9"/>
          <p:cNvSpPr/>
          <p:nvPr/>
        </p:nvSpPr>
        <p:spPr>
          <a:xfrm>
            <a:off x="48769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p:txBody>
      </p:sp>
      <p:sp>
        <p:nvSpPr>
          <p:cNvPr id="2176" name="Text Box 10"/>
          <p:cNvSpPr/>
          <p:nvPr/>
        </p:nvSpPr>
        <p:spPr>
          <a:xfrm>
            <a:off x="558324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177" name="Text Box 11"/>
          <p:cNvSpPr/>
          <p:nvPr/>
        </p:nvSpPr>
        <p:spPr>
          <a:xfrm>
            <a:off x="63277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178" name="Text Box 12"/>
          <p:cNvSpPr/>
          <p:nvPr/>
        </p:nvSpPr>
        <p:spPr>
          <a:xfrm>
            <a:off x="70279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179" name="Text Box 15"/>
          <p:cNvSpPr/>
          <p:nvPr/>
        </p:nvSpPr>
        <p:spPr>
          <a:xfrm>
            <a:off x="1952640" y="5973840"/>
            <a:ext cx="5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0</a:t>
            </a:r>
            <a:endParaRPr b="0" lang="en-US" sz="1600" spc="-1" strike="noStrike">
              <a:solidFill>
                <a:srgbClr val="000000"/>
              </a:solidFill>
              <a:latin typeface="Arial"/>
            </a:endParaRPr>
          </a:p>
        </p:txBody>
      </p:sp>
      <p:sp>
        <p:nvSpPr>
          <p:cNvPr id="2180" name="Text Box 16"/>
          <p:cNvSpPr/>
          <p:nvPr/>
        </p:nvSpPr>
        <p:spPr>
          <a:xfrm>
            <a:off x="2662200" y="5973840"/>
            <a:ext cx="552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8</a:t>
            </a:r>
            <a:endParaRPr b="0" lang="en-US" sz="1600" spc="-1" strike="noStrike">
              <a:solidFill>
                <a:srgbClr val="000000"/>
              </a:solidFill>
              <a:latin typeface="Arial"/>
            </a:endParaRPr>
          </a:p>
        </p:txBody>
      </p:sp>
      <p:sp>
        <p:nvSpPr>
          <p:cNvPr id="2181" name="Text Box 17"/>
          <p:cNvSpPr/>
          <p:nvPr/>
        </p:nvSpPr>
        <p:spPr>
          <a:xfrm>
            <a:off x="343368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a:t>
            </a:r>
            <a:endParaRPr b="0" lang="en-US" sz="1600" spc="-1" strike="noStrike">
              <a:solidFill>
                <a:srgbClr val="000000"/>
              </a:solidFill>
              <a:latin typeface="Arial"/>
            </a:endParaRPr>
          </a:p>
        </p:txBody>
      </p:sp>
      <p:sp>
        <p:nvSpPr>
          <p:cNvPr id="2182" name="Text Box 18"/>
          <p:cNvSpPr/>
          <p:nvPr/>
        </p:nvSpPr>
        <p:spPr>
          <a:xfrm>
            <a:off x="4159080" y="5973840"/>
            <a:ext cx="41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p:txBody>
      </p:sp>
      <p:sp>
        <p:nvSpPr>
          <p:cNvPr id="2183" name="Text Box 19"/>
          <p:cNvSpPr/>
          <p:nvPr/>
        </p:nvSpPr>
        <p:spPr>
          <a:xfrm>
            <a:off x="4876920" y="597708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2184" name="Text Box 20"/>
          <p:cNvSpPr/>
          <p:nvPr/>
        </p:nvSpPr>
        <p:spPr>
          <a:xfrm>
            <a:off x="5583240" y="597708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185" name="Text Box 21"/>
          <p:cNvSpPr/>
          <p:nvPr/>
        </p:nvSpPr>
        <p:spPr>
          <a:xfrm>
            <a:off x="632772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186" name="Text Box 22"/>
          <p:cNvSpPr/>
          <p:nvPr/>
        </p:nvSpPr>
        <p:spPr>
          <a:xfrm>
            <a:off x="702792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187" name="Text Box 24"/>
          <p:cNvSpPr/>
          <p:nvPr/>
        </p:nvSpPr>
        <p:spPr>
          <a:xfrm>
            <a:off x="453960" y="5413320"/>
            <a:ext cx="2746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f patients at risk:</a:t>
            </a:r>
            <a:endParaRPr b="0" lang="en-US" sz="1600" spc="-1" strike="noStrike">
              <a:solidFill>
                <a:srgbClr val="000000"/>
              </a:solidFill>
              <a:latin typeface="Arial"/>
            </a:endParaRPr>
          </a:p>
        </p:txBody>
      </p:sp>
      <p:sp>
        <p:nvSpPr>
          <p:cNvPr id="2188" name="Text Box 25"/>
          <p:cNvSpPr/>
          <p:nvPr/>
        </p:nvSpPr>
        <p:spPr>
          <a:xfrm>
            <a:off x="453960" y="5708520"/>
            <a:ext cx="186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a:rPr>
              <a:t>Bev + placebo</a:t>
            </a:r>
            <a:endParaRPr b="0" lang="en-US" sz="1600" spc="-1" strike="noStrike">
              <a:solidFill>
                <a:srgbClr val="000000"/>
              </a:solidFill>
              <a:latin typeface="Arial"/>
            </a:endParaRPr>
          </a:p>
        </p:txBody>
      </p:sp>
      <p:sp>
        <p:nvSpPr>
          <p:cNvPr id="2189" name="Text Box 26"/>
          <p:cNvSpPr/>
          <p:nvPr/>
        </p:nvSpPr>
        <p:spPr>
          <a:xfrm>
            <a:off x="453960" y="5981760"/>
            <a:ext cx="151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d0ff"/>
                </a:solidFill>
                <a:latin typeface="Arial"/>
              </a:rPr>
              <a:t>Bev + erlotinib</a:t>
            </a:r>
            <a:endParaRPr b="0" lang="en-US" sz="1600" spc="-1" strike="noStrike">
              <a:solidFill>
                <a:srgbClr val="000000"/>
              </a:solidFill>
              <a:latin typeface="Arial"/>
            </a:endParaRPr>
          </a:p>
        </p:txBody>
      </p:sp>
      <p:sp>
        <p:nvSpPr>
          <p:cNvPr id="2190" name="Text Box 27"/>
          <p:cNvSpPr/>
          <p:nvPr/>
        </p:nvSpPr>
        <p:spPr>
          <a:xfrm>
            <a:off x="2533680" y="5118120"/>
            <a:ext cx="4467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ion-free survival (months)</a:t>
            </a:r>
            <a:endParaRPr b="0" lang="en-US" sz="1400" spc="-1" strike="noStrike">
              <a:solidFill>
                <a:srgbClr val="000000"/>
              </a:solidFill>
              <a:latin typeface="Arial"/>
            </a:endParaRPr>
          </a:p>
        </p:txBody>
      </p:sp>
      <p:grpSp>
        <p:nvGrpSpPr>
          <p:cNvPr id="2191" name="Group 87"/>
          <p:cNvGrpSpPr/>
          <p:nvPr/>
        </p:nvGrpSpPr>
        <p:grpSpPr>
          <a:xfrm>
            <a:off x="1028520" y="1547640"/>
            <a:ext cx="6483600" cy="3639600"/>
            <a:chOff x="1028520" y="1547640"/>
            <a:chExt cx="6483600" cy="3639600"/>
          </a:xfrm>
        </p:grpSpPr>
        <p:pic>
          <p:nvPicPr>
            <p:cNvPr id="2192" name="Picture 50" descr="10302_geneta_ATLAS PFS.png"/>
            <p:cNvPicPr/>
            <p:nvPr/>
          </p:nvPicPr>
          <p:blipFill>
            <a:blip r:embed="rId1"/>
            <a:srcRect l="0" t="0" r="19434" b="0"/>
            <a:stretch/>
          </p:blipFill>
          <p:spPr>
            <a:xfrm>
              <a:off x="1972440" y="1671120"/>
              <a:ext cx="5405760" cy="3193560"/>
            </a:xfrm>
            <a:prstGeom prst="rect">
              <a:avLst/>
            </a:prstGeom>
            <a:ln w="0">
              <a:noFill/>
            </a:ln>
          </p:spPr>
        </p:pic>
        <p:sp>
          <p:nvSpPr>
            <p:cNvPr id="2193" name="Text Box 28"/>
            <p:cNvSpPr/>
            <p:nvPr/>
          </p:nvSpPr>
          <p:spPr>
            <a:xfrm>
              <a:off x="200196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194" name="Text Box 29"/>
            <p:cNvSpPr/>
            <p:nvPr/>
          </p:nvSpPr>
          <p:spPr>
            <a:xfrm>
              <a:off x="2720880" y="4869000"/>
              <a:ext cx="43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195" name="Text Box 30"/>
            <p:cNvSpPr/>
            <p:nvPr/>
          </p:nvSpPr>
          <p:spPr>
            <a:xfrm>
              <a:off x="343080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2196" name="Text Box 31"/>
            <p:cNvSpPr/>
            <p:nvPr/>
          </p:nvSpPr>
          <p:spPr>
            <a:xfrm>
              <a:off x="414972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2197" name="Text Box 32"/>
            <p:cNvSpPr/>
            <p:nvPr/>
          </p:nvSpPr>
          <p:spPr>
            <a:xfrm>
              <a:off x="4848480" y="4869000"/>
              <a:ext cx="43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198" name="Text Box 33"/>
            <p:cNvSpPr/>
            <p:nvPr/>
          </p:nvSpPr>
          <p:spPr>
            <a:xfrm>
              <a:off x="558648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2199" name="Text Box 34"/>
            <p:cNvSpPr/>
            <p:nvPr/>
          </p:nvSpPr>
          <p:spPr>
            <a:xfrm>
              <a:off x="6296400" y="488016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200" name="Text Box 35"/>
            <p:cNvSpPr/>
            <p:nvPr/>
          </p:nvSpPr>
          <p:spPr>
            <a:xfrm>
              <a:off x="7015320" y="488016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2201" name="Text Box 38"/>
            <p:cNvSpPr/>
            <p:nvPr/>
          </p:nvSpPr>
          <p:spPr>
            <a:xfrm>
              <a:off x="1373040" y="4497480"/>
              <a:ext cx="63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p:txBody>
        </p:sp>
        <p:sp>
          <p:nvSpPr>
            <p:cNvPr id="2202" name="Text Box 39"/>
            <p:cNvSpPr/>
            <p:nvPr/>
          </p:nvSpPr>
          <p:spPr>
            <a:xfrm>
              <a:off x="1357200" y="3894120"/>
              <a:ext cx="653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2203" name="Text Box 40"/>
            <p:cNvSpPr/>
            <p:nvPr/>
          </p:nvSpPr>
          <p:spPr>
            <a:xfrm>
              <a:off x="1301760" y="3265560"/>
              <a:ext cx="7095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Arial"/>
              </a:endParaRPr>
            </a:p>
          </p:txBody>
        </p:sp>
        <p:sp>
          <p:nvSpPr>
            <p:cNvPr id="2204" name="Text Box 41"/>
            <p:cNvSpPr/>
            <p:nvPr/>
          </p:nvSpPr>
          <p:spPr>
            <a:xfrm>
              <a:off x="1386000" y="2711160"/>
              <a:ext cx="6253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Arial"/>
              </a:endParaRPr>
            </a:p>
          </p:txBody>
        </p:sp>
        <p:sp>
          <p:nvSpPr>
            <p:cNvPr id="2205" name="Text Box 42"/>
            <p:cNvSpPr/>
            <p:nvPr/>
          </p:nvSpPr>
          <p:spPr>
            <a:xfrm>
              <a:off x="1343160" y="2153880"/>
              <a:ext cx="6681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2206" name="Text Box 43"/>
            <p:cNvSpPr/>
            <p:nvPr/>
          </p:nvSpPr>
          <p:spPr>
            <a:xfrm>
              <a:off x="1314360" y="1549080"/>
              <a:ext cx="696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207" name="Text Box 48"/>
            <p:cNvSpPr/>
            <p:nvPr/>
          </p:nvSpPr>
          <p:spPr>
            <a:xfrm rot="10800000">
              <a:off x="1028520" y="1547640"/>
              <a:ext cx="393480" cy="3330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rtion without event</a:t>
              </a:r>
              <a:endParaRPr b="0" lang="en-US" sz="1400" spc="-1" strike="noStrike">
                <a:solidFill>
                  <a:srgbClr val="000000"/>
                </a:solidFill>
                <a:latin typeface="Arial"/>
              </a:endParaRPr>
            </a:p>
          </p:txBody>
        </p:sp>
        <p:sp>
          <p:nvSpPr>
            <p:cNvPr id="2208" name="Text Box 55"/>
            <p:cNvSpPr/>
            <p:nvPr/>
          </p:nvSpPr>
          <p:spPr>
            <a:xfrm>
              <a:off x="4402440" y="2712960"/>
              <a:ext cx="3109680" cy="5853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0.722 (</a:t>
              </a:r>
              <a:r>
                <a:rPr b="1" lang="en-US" sz="1600" spc="-1" strike="noStrike">
                  <a:solidFill>
                    <a:srgbClr val="000000"/>
                  </a:solidFill>
                  <a:latin typeface="Arial"/>
                </a:rPr>
                <a:t>0.592–0.881</a:t>
              </a:r>
              <a:r>
                <a:rPr b="1" lang="en-US" sz="1800" spc="-1" strike="noStrike">
                  <a:solidFill>
                    <a:srgbClr val="000000"/>
                  </a:solidFill>
                  <a:latin typeface="Arial"/>
                </a:rPr>
                <a:t>)</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rank p=0.0012</a:t>
              </a:r>
              <a:endParaRPr b="0" lang="en-US" sz="1600" spc="-1" strike="noStrike">
                <a:solidFill>
                  <a:srgbClr val="000000"/>
                </a:solidFill>
                <a:latin typeface="Arial"/>
              </a:endParaRPr>
            </a:p>
          </p:txBody>
        </p:sp>
        <p:grpSp>
          <p:nvGrpSpPr>
            <p:cNvPr id="2209" name="Group 88"/>
            <p:cNvGrpSpPr/>
            <p:nvPr/>
          </p:nvGrpSpPr>
          <p:grpSpPr>
            <a:xfrm>
              <a:off x="4663080" y="1805040"/>
              <a:ext cx="2724120" cy="698400"/>
              <a:chOff x="4663080" y="1805040"/>
              <a:chExt cx="2724120" cy="698400"/>
            </a:xfrm>
          </p:grpSpPr>
          <p:sp>
            <p:nvSpPr>
              <p:cNvPr id="2210" name="Rectangle 14"/>
              <p:cNvSpPr/>
              <p:nvPr/>
            </p:nvSpPr>
            <p:spPr>
              <a:xfrm>
                <a:off x="4663080" y="1805040"/>
                <a:ext cx="2724120" cy="69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GB" sz="1400" spc="-1" strike="noStrike">
                    <a:solidFill>
                      <a:srgbClr val="000000"/>
                    </a:solidFill>
                    <a:latin typeface="Arial"/>
                  </a:rPr>
                  <a:t>Bevacizumab + placebo </a:t>
                </a:r>
                <a:r>
                  <a:rPr b="0" lang="en-GB" sz="1400" spc="-1" strike="noStrike">
                    <a:solidFill>
                      <a:srgbClr val="000000"/>
                    </a:solidFill>
                    <a:latin typeface="Arial"/>
                  </a:rPr>
                  <a:t>(n=373)</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1" lang="en-GB" sz="1400" spc="-1" strike="noStrike">
                    <a:solidFill>
                      <a:srgbClr val="000000"/>
                    </a:solidFill>
                    <a:latin typeface="Arial"/>
                  </a:rPr>
                  <a:t>Bevacizumab + erlotinib </a:t>
                </a:r>
                <a:r>
                  <a:rPr b="0" lang="en-GB" sz="1400" spc="-1" strike="noStrike">
                    <a:solidFill>
                      <a:srgbClr val="000000"/>
                    </a:solidFill>
                    <a:latin typeface="Arial"/>
                  </a:rPr>
                  <a:t>(n=370)</a:t>
                </a:r>
                <a:endParaRPr b="0" lang="en-US" sz="1400" spc="-1" strike="noStrike">
                  <a:solidFill>
                    <a:srgbClr val="000000"/>
                  </a:solidFill>
                  <a:latin typeface="Arial"/>
                </a:endParaRPr>
              </a:p>
            </p:txBody>
          </p:sp>
          <p:sp>
            <p:nvSpPr>
              <p:cNvPr id="2211" name="Line 8"/>
              <p:cNvSpPr/>
              <p:nvPr/>
            </p:nvSpPr>
            <p:spPr>
              <a:xfrm>
                <a:off x="4880520" y="2293920"/>
                <a:ext cx="215640" cy="0"/>
              </a:xfrm>
              <a:prstGeom prst="line">
                <a:avLst/>
              </a:prstGeom>
              <a:ln cap="rnd" w="31680">
                <a:solidFill>
                  <a:srgbClr val="00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2" name="Line 10"/>
              <p:cNvSpPr/>
              <p:nvPr/>
            </p:nvSpPr>
            <p:spPr>
              <a:xfrm>
                <a:off x="4880520" y="2014560"/>
                <a:ext cx="215640" cy="0"/>
              </a:xfrm>
              <a:prstGeom prst="line">
                <a:avLst/>
              </a:prstGeom>
              <a:ln cap="rnd" w="31680">
                <a:solidFill>
                  <a:srgbClr val="ff35d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213" name="Straight Connector 106"/>
            <p:cNvSpPr/>
            <p:nvPr/>
          </p:nvSpPr>
          <p:spPr>
            <a:xfrm>
              <a:off x="2085840" y="1706040"/>
              <a:ext cx="0" cy="30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4" name="Straight Connector 107"/>
            <p:cNvSpPr/>
            <p:nvPr/>
          </p:nvSpPr>
          <p:spPr>
            <a:xfrm flipH="1">
              <a:off x="2011320" y="404820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5" name="Straight Connector 108"/>
            <p:cNvSpPr/>
            <p:nvPr/>
          </p:nvSpPr>
          <p:spPr>
            <a:xfrm flipH="1">
              <a:off x="2011320" y="34282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6" name="Straight Connector 109"/>
            <p:cNvSpPr/>
            <p:nvPr/>
          </p:nvSpPr>
          <p:spPr>
            <a:xfrm flipH="1">
              <a:off x="2011320" y="28720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7" name="Straight Connector 110"/>
            <p:cNvSpPr/>
            <p:nvPr/>
          </p:nvSpPr>
          <p:spPr>
            <a:xfrm flipH="1">
              <a:off x="2011320" y="23014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8" name="Straight Connector 111"/>
            <p:cNvSpPr/>
            <p:nvPr/>
          </p:nvSpPr>
          <p:spPr>
            <a:xfrm flipH="1">
              <a:off x="2011320" y="17074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9" name="Straight Connector 112"/>
            <p:cNvSpPr/>
            <p:nvPr/>
          </p:nvSpPr>
          <p:spPr>
            <a:xfrm flipH="1">
              <a:off x="2011320" y="467532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0" name="Straight Connector 113"/>
            <p:cNvSpPr/>
            <p:nvPr/>
          </p:nvSpPr>
          <p:spPr>
            <a:xfrm>
              <a:off x="2084040" y="4768560"/>
              <a:ext cx="537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1" name="Straight Connector 114"/>
            <p:cNvSpPr/>
            <p:nvPr/>
          </p:nvSpPr>
          <p:spPr>
            <a:xfrm flipV="1">
              <a:off x="222048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2" name="Straight Connector 115"/>
            <p:cNvSpPr/>
            <p:nvPr/>
          </p:nvSpPr>
          <p:spPr>
            <a:xfrm flipV="1">
              <a:off x="29408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3" name="Straight Connector 116"/>
            <p:cNvSpPr/>
            <p:nvPr/>
          </p:nvSpPr>
          <p:spPr>
            <a:xfrm flipV="1">
              <a:off x="36392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4" name="Straight Connector 117"/>
            <p:cNvSpPr/>
            <p:nvPr/>
          </p:nvSpPr>
          <p:spPr>
            <a:xfrm flipV="1">
              <a:off x="43639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5" name="Straight Connector 118"/>
            <p:cNvSpPr/>
            <p:nvPr/>
          </p:nvSpPr>
          <p:spPr>
            <a:xfrm flipV="1">
              <a:off x="508428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6" name="Straight Connector 119"/>
            <p:cNvSpPr/>
            <p:nvPr/>
          </p:nvSpPr>
          <p:spPr>
            <a:xfrm flipV="1">
              <a:off x="57830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7" name="Straight Connector 120"/>
            <p:cNvSpPr/>
            <p:nvPr/>
          </p:nvSpPr>
          <p:spPr>
            <a:xfrm flipV="1">
              <a:off x="65293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8" name="Straight Connector 121"/>
            <p:cNvSpPr/>
            <p:nvPr/>
          </p:nvSpPr>
          <p:spPr>
            <a:xfrm flipV="1">
              <a:off x="72277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Rectangle 3"/>
          <p:cNvSpPr/>
          <p:nvPr/>
        </p:nvSpPr>
        <p:spPr>
          <a:xfrm>
            <a:off x="0" y="0"/>
            <a:ext cx="2895480" cy="6858000"/>
          </a:xfrm>
          <a:prstGeom prst="rect">
            <a:avLst/>
          </a:prstGeom>
          <a:solidFill>
            <a:srgbClr val="000000"/>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7" name="Picture 4" descr=""/>
          <p:cNvPicPr/>
          <p:nvPr/>
        </p:nvPicPr>
        <p:blipFill>
          <a:blip r:embed="rId1"/>
          <a:stretch/>
        </p:blipFill>
        <p:spPr>
          <a:xfrm>
            <a:off x="201600" y="378000"/>
            <a:ext cx="2533680" cy="2176200"/>
          </a:xfrm>
          <a:prstGeom prst="rect">
            <a:avLst/>
          </a:prstGeom>
          <a:ln cap="sq" w="25560">
            <a:solidFill>
              <a:srgbClr val="000000"/>
            </a:solidFill>
            <a:miter/>
          </a:ln>
          <a:effectLst>
            <a:outerShdw dist="50911" dir="2700000" blurRad="0" rotWithShape="0">
              <a:srgbClr val="808080">
                <a:alpha val="40000"/>
              </a:srgbClr>
            </a:outerShdw>
          </a:effectLst>
        </p:spPr>
      </p:pic>
      <p:pic>
        <p:nvPicPr>
          <p:cNvPr id="2038" name="Picture 6" descr="MDACC_Rev_PMS_TC_tag_V.png"/>
          <p:cNvPicPr/>
          <p:nvPr/>
        </p:nvPicPr>
        <p:blipFill>
          <a:blip r:embed="rId2"/>
          <a:stretch/>
        </p:blipFill>
        <p:spPr>
          <a:xfrm>
            <a:off x="243000" y="5403960"/>
            <a:ext cx="2428920" cy="1185840"/>
          </a:xfrm>
          <a:prstGeom prst="rect">
            <a:avLst/>
          </a:prstGeom>
          <a:ln w="0">
            <a:noFill/>
          </a:ln>
        </p:spPr>
      </p:pic>
      <p:sp>
        <p:nvSpPr>
          <p:cNvPr id="2039" name="TextBox 6"/>
          <p:cNvSpPr/>
          <p:nvPr/>
        </p:nvSpPr>
        <p:spPr>
          <a:xfrm>
            <a:off x="3048120" y="1735200"/>
            <a:ext cx="59436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Therapy in the Management of NSCLC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hn Heymach, M.D., Ph.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ir, Department of Thoracic/Head &amp; Neck Medical Onc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D Anderson Cancer C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earch To Practice Mee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31, 2013</a:t>
            </a:r>
            <a:endParaRPr b="0" lang="en-US" sz="2400" spc="-1" strike="noStrike">
              <a:solidFill>
                <a:srgbClr val="000000"/>
              </a:solidFill>
              <a:latin typeface="Arial"/>
            </a:endParaRPr>
          </a:p>
        </p:txBody>
      </p:sp>
      <p:sp>
        <p:nvSpPr>
          <p:cNvPr id="2040" name="Straight Connector 9"/>
          <p:cNvSpPr/>
          <p:nvPr/>
        </p:nvSpPr>
        <p:spPr>
          <a:xfrm>
            <a:off x="2895480" y="0"/>
            <a:ext cx="0" cy="685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PointBreak (JMHD): </a:t>
            </a:r>
            <a:br>
              <a:rPr sz="4400"/>
            </a:br>
            <a:r>
              <a:rPr b="0" lang="en-US" sz="4400" spc="-1" strike="noStrike">
                <a:solidFill>
                  <a:srgbClr val="000000"/>
                </a:solidFill>
                <a:latin typeface="Arial"/>
                <a:ea typeface="MS PGothic"/>
              </a:rPr>
              <a:t>Phase III Study Design </a:t>
            </a:r>
            <a:endParaRPr b="0" lang="en-US" sz="4400" spc="-1" strike="noStrike">
              <a:solidFill>
                <a:srgbClr val="000000"/>
              </a:solidFill>
              <a:latin typeface="Arial"/>
            </a:endParaRPr>
          </a:p>
        </p:txBody>
      </p:sp>
      <p:sp>
        <p:nvSpPr>
          <p:cNvPr id="223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543D-284D-4B11-AA90-B74A7F66F4B7}" type="slidenum">
              <a:rPr b="0" lang="en-US" sz="1200" spc="-1" strike="noStrike">
                <a:solidFill>
                  <a:srgbClr val="ffffff"/>
                </a:solidFill>
                <a:latin typeface="Arial"/>
                <a:ea typeface="MS PGothic"/>
              </a:rPr>
              <a:t>&lt;number&gt;</a:t>
            </a:fld>
            <a:endParaRPr b="0" lang="en-US" sz="1200" spc="-1" strike="noStrike">
              <a:solidFill>
                <a:srgbClr val="000000"/>
              </a:solidFill>
              <a:latin typeface="Arial"/>
            </a:endParaRPr>
          </a:p>
        </p:txBody>
      </p:sp>
      <p:sp>
        <p:nvSpPr>
          <p:cNvPr id="2231" name="Rectangle 19"/>
          <p:cNvSpPr/>
          <p:nvPr/>
        </p:nvSpPr>
        <p:spPr>
          <a:xfrm>
            <a:off x="5530680" y="5202360"/>
            <a:ext cx="3216600" cy="91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uperiority Trial</a:t>
            </a:r>
            <a:endParaRPr b="0" lang="en-US" sz="18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endpoint</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OS</a:t>
            </a:r>
            <a:endParaRPr b="0" lang="en-US" sz="18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endpoint</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PFS</a:t>
            </a:r>
            <a:endParaRPr b="0" lang="en-US" sz="1800" spc="-1" strike="noStrike">
              <a:solidFill>
                <a:srgbClr val="000000"/>
              </a:solidFill>
              <a:latin typeface="Arial"/>
            </a:endParaRPr>
          </a:p>
        </p:txBody>
      </p:sp>
      <p:cxnSp>
        <p:nvCxnSpPr>
          <p:cNvPr id="2232" name="Elbow Connector 26"/>
          <p:cNvCxnSpPr/>
          <p:nvPr/>
        </p:nvCxnSpPr>
        <p:spPr>
          <a:xfrm flipV="1">
            <a:off x="3357720" y="2296440"/>
            <a:ext cx="497520" cy="910440"/>
          </a:xfrm>
          <a:prstGeom prst="bentConnector3">
            <a:avLst>
              <a:gd name="adj1" fmla="val 49963"/>
            </a:avLst>
          </a:prstGeom>
          <a:ln w="38160">
            <a:solidFill>
              <a:srgbClr val="000000"/>
            </a:solidFill>
            <a:miter/>
            <a:tailEnd len="med" type="triangle" w="med"/>
          </a:ln>
        </p:spPr>
      </p:cxnSp>
      <p:cxnSp>
        <p:nvCxnSpPr>
          <p:cNvPr id="2233" name="Elbow Connector 30"/>
          <p:cNvCxnSpPr/>
          <p:nvPr/>
        </p:nvCxnSpPr>
        <p:spPr>
          <a:xfrm>
            <a:off x="3357720" y="3206520"/>
            <a:ext cx="497520" cy="973800"/>
          </a:xfrm>
          <a:prstGeom prst="bentConnector3">
            <a:avLst>
              <a:gd name="adj1" fmla="val 49963"/>
            </a:avLst>
          </a:prstGeom>
          <a:ln w="38160">
            <a:solidFill>
              <a:srgbClr val="000000"/>
            </a:solidFill>
            <a:miter/>
            <a:tailEnd len="med" type="triangle" w="med"/>
          </a:ln>
        </p:spPr>
      </p:cxnSp>
      <p:cxnSp>
        <p:nvCxnSpPr>
          <p:cNvPr id="2234" name="Elbow Connector 7"/>
          <p:cNvCxnSpPr/>
          <p:nvPr/>
        </p:nvCxnSpPr>
        <p:spPr>
          <a:xfrm flipH="1" rot="16200000">
            <a:off x="7909560" y="2370600"/>
            <a:ext cx="516600" cy="1010160"/>
          </a:xfrm>
          <a:prstGeom prst="bentConnector3">
            <a:avLst>
              <a:gd name="adj1" fmla="val 50000"/>
            </a:avLst>
          </a:prstGeom>
          <a:ln w="38160">
            <a:solidFill>
              <a:srgbClr val="000000"/>
            </a:solidFill>
            <a:miter/>
            <a:tailEnd len="med" type="triangle" w="med"/>
          </a:ln>
        </p:spPr>
      </p:cxnSp>
      <p:grpSp>
        <p:nvGrpSpPr>
          <p:cNvPr id="2235" name="Group 39"/>
          <p:cNvGrpSpPr/>
          <p:nvPr/>
        </p:nvGrpSpPr>
        <p:grpSpPr>
          <a:xfrm>
            <a:off x="2362320" y="2305800"/>
            <a:ext cx="6615000" cy="1880280"/>
            <a:chOff x="2362320" y="2305800"/>
            <a:chExt cx="6615000" cy="1880280"/>
          </a:xfrm>
        </p:grpSpPr>
        <p:cxnSp>
          <p:nvCxnSpPr>
            <p:cNvPr id="2236" name="Straight Arrow Connector 17"/>
            <p:cNvCxnSpPr/>
            <p:nvPr/>
          </p:nvCxnSpPr>
          <p:spPr>
            <a:xfrm>
              <a:off x="2362320" y="3206160"/>
              <a:ext cx="422640" cy="1080"/>
            </a:xfrm>
            <a:prstGeom prst="straightConnector1">
              <a:avLst/>
            </a:prstGeom>
            <a:ln w="38160">
              <a:solidFill>
                <a:srgbClr val="000000"/>
              </a:solidFill>
              <a:miter/>
              <a:tailEnd len="med" type="triangle" w="med"/>
            </a:ln>
          </p:spPr>
        </p:cxnSp>
        <p:cxnSp>
          <p:nvCxnSpPr>
            <p:cNvPr id="2237" name="Straight Arrow Connector 23"/>
            <p:cNvCxnSpPr/>
            <p:nvPr/>
          </p:nvCxnSpPr>
          <p:spPr>
            <a:xfrm flipV="1">
              <a:off x="6153480" y="2305800"/>
              <a:ext cx="614160" cy="10440"/>
            </a:xfrm>
            <a:prstGeom prst="straightConnector1">
              <a:avLst/>
            </a:prstGeom>
            <a:ln w="38160">
              <a:solidFill>
                <a:srgbClr val="000000"/>
              </a:solidFill>
              <a:miter/>
              <a:tailEnd len="med" type="triangle" w="med"/>
            </a:ln>
          </p:spPr>
        </p:cxnSp>
        <p:cxnSp>
          <p:nvCxnSpPr>
            <p:cNvPr id="2238" name="Straight Arrow Connector 23"/>
            <p:cNvCxnSpPr/>
            <p:nvPr/>
          </p:nvCxnSpPr>
          <p:spPr>
            <a:xfrm flipV="1">
              <a:off x="6153480" y="4180680"/>
              <a:ext cx="637920" cy="5760"/>
            </a:xfrm>
            <a:prstGeom prst="straightConnector1">
              <a:avLst/>
            </a:prstGeom>
            <a:ln w="38160">
              <a:solidFill>
                <a:srgbClr val="000000"/>
              </a:solidFill>
              <a:miter/>
              <a:tailEnd len="med" type="triangle" w="med"/>
            </a:ln>
          </p:spPr>
        </p:cxnSp>
        <p:grpSp>
          <p:nvGrpSpPr>
            <p:cNvPr id="2239" name="AutoShape 8"/>
            <p:cNvGrpSpPr/>
            <p:nvPr/>
          </p:nvGrpSpPr>
          <p:grpSpPr>
            <a:xfrm>
              <a:off x="8310240" y="3102840"/>
              <a:ext cx="667080" cy="365760"/>
              <a:chOff x="8310240" y="3102840"/>
              <a:chExt cx="667080" cy="365760"/>
            </a:xfrm>
          </p:grpSpPr>
          <p:pic>
            <p:nvPicPr>
              <p:cNvPr id="2240" name="AutoShape 8" descr=""/>
              <p:cNvPicPr/>
              <p:nvPr/>
            </p:nvPicPr>
            <p:blipFill>
              <a:blip r:embed="rId1"/>
              <a:stretch/>
            </p:blipFill>
            <p:spPr>
              <a:xfrm>
                <a:off x="8310240" y="3102840"/>
                <a:ext cx="667080" cy="365760"/>
              </a:xfrm>
              <a:prstGeom prst="rect">
                <a:avLst/>
              </a:prstGeom>
              <a:ln w="0">
                <a:noFill/>
              </a:ln>
            </p:spPr>
          </p:pic>
          <p:sp>
            <p:nvSpPr>
              <p:cNvPr id="2241" name=""/>
              <p:cNvSpPr/>
              <p:nvPr/>
            </p:nvSpPr>
            <p:spPr>
              <a:xfrm>
                <a:off x="8353080" y="3148560"/>
                <a:ext cx="577080" cy="27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400" spc="-1" strike="noStrike">
                    <a:solidFill>
                      <a:srgbClr val="ffffff"/>
                    </a:solidFill>
                    <a:latin typeface="Arial"/>
                  </a:rPr>
                  <a:t>PD</a:t>
                </a:r>
                <a:endParaRPr b="0" lang="en-US" sz="1400" spc="-1" strike="noStrike">
                  <a:solidFill>
                    <a:srgbClr val="000000"/>
                  </a:solidFill>
                  <a:latin typeface="Arial"/>
                </a:endParaRPr>
              </a:p>
            </p:txBody>
          </p:sp>
        </p:grpSp>
        <p:sp>
          <p:nvSpPr>
            <p:cNvPr id="2242" name="TextBox 30"/>
            <p:cNvSpPr/>
            <p:nvPr/>
          </p:nvSpPr>
          <p:spPr>
            <a:xfrm>
              <a:off x="3589920" y="3062880"/>
              <a:ext cx="530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1</a:t>
              </a:r>
              <a:endParaRPr b="0" lang="en-US" sz="1400" spc="-1" strike="noStrike">
                <a:solidFill>
                  <a:srgbClr val="000000"/>
                </a:solidFill>
                <a:latin typeface="Arial"/>
              </a:endParaRPr>
            </a:p>
          </p:txBody>
        </p:sp>
      </p:grpSp>
      <p:cxnSp>
        <p:nvCxnSpPr>
          <p:cNvPr id="2243" name="Elbow Connector 9"/>
          <p:cNvCxnSpPr/>
          <p:nvPr/>
        </p:nvCxnSpPr>
        <p:spPr>
          <a:xfrm flipH="1" flipV="1" rot="5400000">
            <a:off x="7911000" y="3189600"/>
            <a:ext cx="513720" cy="1010160"/>
          </a:xfrm>
          <a:prstGeom prst="bentConnector3">
            <a:avLst>
              <a:gd name="adj1" fmla="val 50000"/>
            </a:avLst>
          </a:prstGeom>
          <a:ln w="38160">
            <a:solidFill>
              <a:srgbClr val="000000"/>
            </a:solidFill>
            <a:miter/>
            <a:tailEnd len="med" type="triangle" w="med"/>
          </a:ln>
        </p:spPr>
      </p:cxnSp>
      <p:sp>
        <p:nvSpPr>
          <p:cNvPr id="2244" name="TextBox 18"/>
          <p:cNvSpPr/>
          <p:nvPr/>
        </p:nvSpPr>
        <p:spPr>
          <a:xfrm>
            <a:off x="1108080" y="4818240"/>
            <a:ext cx="41464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Unicode MS"/>
              </a:rPr>
              <a:t>Stratified for:</a:t>
            </a:r>
            <a:r>
              <a:rPr b="0" lang="en-US" sz="1600" spc="-1" strike="noStrike">
                <a:solidFill>
                  <a:srgbClr val="000000"/>
                </a:solidFill>
                <a:latin typeface="Arial"/>
                <a:ea typeface="Arial Unicode MS"/>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PS (0 vs 1)</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Sex (M vs 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Disease stage (IIIB vs IV)</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Measurable vs nonmeasurable disease</a:t>
            </a:r>
            <a:endParaRPr b="0" lang="en-US" sz="1600" spc="-1" strike="noStrike">
              <a:solidFill>
                <a:srgbClr val="000000"/>
              </a:solidFill>
              <a:latin typeface="Arial"/>
            </a:endParaRPr>
          </a:p>
        </p:txBody>
      </p:sp>
      <p:sp>
        <p:nvSpPr>
          <p:cNvPr id="2245" name="Text Box 15"/>
          <p:cNvSpPr/>
          <p:nvPr/>
        </p:nvSpPr>
        <p:spPr>
          <a:xfrm>
            <a:off x="5462640" y="6454440"/>
            <a:ext cx="335268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atel, et al. Presented at IASLC. 2012 (abstr LBPL1).</a:t>
            </a:r>
            <a:endParaRPr b="0" lang="en-US" sz="1000" spc="-1" strike="noStrike">
              <a:solidFill>
                <a:srgbClr val="000000"/>
              </a:solidFill>
              <a:latin typeface="Arial"/>
            </a:endParaRPr>
          </a:p>
        </p:txBody>
      </p:sp>
      <p:grpSp>
        <p:nvGrpSpPr>
          <p:cNvPr id="2246" name="TextBox 20"/>
          <p:cNvGrpSpPr/>
          <p:nvPr/>
        </p:nvGrpSpPr>
        <p:grpSpPr>
          <a:xfrm>
            <a:off x="66600" y="1805040"/>
            <a:ext cx="2511360" cy="2797200"/>
            <a:chOff x="66600" y="1805040"/>
            <a:chExt cx="2511360" cy="2797200"/>
          </a:xfrm>
        </p:grpSpPr>
        <p:pic>
          <p:nvPicPr>
            <p:cNvPr id="2247" name="TextBox 20" descr=""/>
            <p:cNvPicPr/>
            <p:nvPr/>
          </p:nvPicPr>
          <p:blipFill>
            <a:blip r:embed="rId2"/>
            <a:stretch/>
          </p:blipFill>
          <p:spPr>
            <a:xfrm>
              <a:off x="66600" y="1805040"/>
              <a:ext cx="2511360" cy="2797200"/>
            </a:xfrm>
            <a:prstGeom prst="rect">
              <a:avLst/>
            </a:prstGeom>
            <a:ln w="0">
              <a:noFill/>
            </a:ln>
          </p:spPr>
        </p:pic>
        <p:sp>
          <p:nvSpPr>
            <p:cNvPr id="2248" name=""/>
            <p:cNvSpPr/>
            <p:nvPr/>
          </p:nvSpPr>
          <p:spPr>
            <a:xfrm>
              <a:off x="123840" y="1836720"/>
              <a:ext cx="2395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ligibility</a:t>
              </a:r>
              <a:endParaRPr b="0" lang="en-US" sz="24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III/IV NSCLC </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quamous</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ior systemic therapy</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0/1</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brain metastases </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939)</a:t>
              </a:r>
              <a:endParaRPr b="0" lang="en-US" sz="1800" spc="-1" strike="noStrike">
                <a:solidFill>
                  <a:srgbClr val="000000"/>
                </a:solidFill>
                <a:latin typeface="Arial"/>
              </a:endParaRPr>
            </a:p>
          </p:txBody>
        </p:sp>
      </p:grpSp>
      <p:grpSp>
        <p:nvGrpSpPr>
          <p:cNvPr id="2249" name="TextBox 21"/>
          <p:cNvGrpSpPr/>
          <p:nvPr/>
        </p:nvGrpSpPr>
        <p:grpSpPr>
          <a:xfrm>
            <a:off x="2682720" y="2908440"/>
            <a:ext cx="730440" cy="682560"/>
            <a:chOff x="2682720" y="2908440"/>
            <a:chExt cx="730440" cy="682560"/>
          </a:xfrm>
        </p:grpSpPr>
        <p:pic>
          <p:nvPicPr>
            <p:cNvPr id="2250" name="TextBox 21" descr=""/>
            <p:cNvPicPr/>
            <p:nvPr/>
          </p:nvPicPr>
          <p:blipFill>
            <a:blip r:embed="rId3"/>
            <a:stretch/>
          </p:blipFill>
          <p:spPr>
            <a:xfrm>
              <a:off x="2682720" y="2908440"/>
              <a:ext cx="730440" cy="682560"/>
            </a:xfrm>
            <a:prstGeom prst="rect">
              <a:avLst/>
            </a:prstGeom>
            <a:ln w="0">
              <a:noFill/>
            </a:ln>
          </p:spPr>
        </p:pic>
        <p:sp>
          <p:nvSpPr>
            <p:cNvPr id="2251" name=""/>
            <p:cNvSpPr/>
            <p:nvPr/>
          </p:nvSpPr>
          <p:spPr>
            <a:xfrm>
              <a:off x="2832120" y="3024360"/>
              <a:ext cx="43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grpSp>
      <p:grpSp>
        <p:nvGrpSpPr>
          <p:cNvPr id="2252" name="TextBox 22"/>
          <p:cNvGrpSpPr/>
          <p:nvPr/>
        </p:nvGrpSpPr>
        <p:grpSpPr>
          <a:xfrm>
            <a:off x="3803760" y="1620720"/>
            <a:ext cx="2425680" cy="1446480"/>
            <a:chOff x="3803760" y="1620720"/>
            <a:chExt cx="2425680" cy="1446480"/>
          </a:xfrm>
        </p:grpSpPr>
        <p:pic>
          <p:nvPicPr>
            <p:cNvPr id="2253" name="TextBox 22" descr=""/>
            <p:cNvPicPr/>
            <p:nvPr/>
          </p:nvPicPr>
          <p:blipFill>
            <a:blip r:embed="rId4"/>
            <a:stretch/>
          </p:blipFill>
          <p:spPr>
            <a:xfrm>
              <a:off x="3803760" y="1620720"/>
              <a:ext cx="2425680" cy="1446480"/>
            </a:xfrm>
            <a:prstGeom prst="rect">
              <a:avLst/>
            </a:prstGeom>
            <a:ln w="0">
              <a:noFill/>
            </a:ln>
          </p:spPr>
        </p:pic>
        <p:sp>
          <p:nvSpPr>
            <p:cNvPr id="2254" name=""/>
            <p:cNvSpPr/>
            <p:nvPr/>
          </p:nvSpPr>
          <p:spPr>
            <a:xfrm>
              <a:off x="3862440" y="1655640"/>
              <a:ext cx="23097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metrexed/ Carboplati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vacizumab 15 mg/kg q3w × up to 4 cycles</a:t>
              </a:r>
              <a:endParaRPr b="0" lang="en-US" sz="1600" spc="-1" strike="noStrike">
                <a:solidFill>
                  <a:srgbClr val="000000"/>
                </a:solidFill>
                <a:latin typeface="Arial"/>
              </a:endParaRPr>
            </a:p>
          </p:txBody>
        </p:sp>
      </p:grpSp>
      <p:grpSp>
        <p:nvGrpSpPr>
          <p:cNvPr id="2255" name="TextBox 23"/>
          <p:cNvGrpSpPr/>
          <p:nvPr/>
        </p:nvGrpSpPr>
        <p:grpSpPr>
          <a:xfrm>
            <a:off x="3797280" y="3614760"/>
            <a:ext cx="2432160" cy="1195200"/>
            <a:chOff x="3797280" y="3614760"/>
            <a:chExt cx="2432160" cy="1195200"/>
          </a:xfrm>
        </p:grpSpPr>
        <p:pic>
          <p:nvPicPr>
            <p:cNvPr id="2256" name="TextBox 23" descr=""/>
            <p:cNvPicPr/>
            <p:nvPr/>
          </p:nvPicPr>
          <p:blipFill>
            <a:blip r:embed="rId5"/>
            <a:stretch/>
          </p:blipFill>
          <p:spPr>
            <a:xfrm>
              <a:off x="3797280" y="3614760"/>
              <a:ext cx="2432160" cy="1195200"/>
            </a:xfrm>
            <a:prstGeom prst="rect">
              <a:avLst/>
            </a:prstGeom>
            <a:ln w="0">
              <a:noFill/>
            </a:ln>
          </p:spPr>
        </p:pic>
        <p:sp>
          <p:nvSpPr>
            <p:cNvPr id="2257" name=""/>
            <p:cNvSpPr/>
            <p:nvPr/>
          </p:nvSpPr>
          <p:spPr>
            <a:xfrm>
              <a:off x="3854520" y="3646440"/>
              <a:ext cx="23176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litaxel/Carboplatin + Bevacizumab 15 mg/k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w × up to 4 cycles</a:t>
              </a:r>
              <a:endParaRPr b="0" lang="en-US" sz="1600" spc="-1" strike="noStrike">
                <a:solidFill>
                  <a:srgbClr val="000000"/>
                </a:solidFill>
                <a:latin typeface="Arial"/>
              </a:endParaRPr>
            </a:p>
          </p:txBody>
        </p:sp>
      </p:grpSp>
      <p:grpSp>
        <p:nvGrpSpPr>
          <p:cNvPr id="2258" name="TextBox 24"/>
          <p:cNvGrpSpPr/>
          <p:nvPr/>
        </p:nvGrpSpPr>
        <p:grpSpPr>
          <a:xfrm>
            <a:off x="6729480" y="1981080"/>
            <a:ext cx="2000160" cy="706680"/>
            <a:chOff x="6729480" y="1981080"/>
            <a:chExt cx="2000160" cy="706680"/>
          </a:xfrm>
        </p:grpSpPr>
        <p:pic>
          <p:nvPicPr>
            <p:cNvPr id="2259" name="TextBox 24" descr=""/>
            <p:cNvPicPr/>
            <p:nvPr/>
          </p:nvPicPr>
          <p:blipFill>
            <a:blip r:embed="rId6"/>
            <a:stretch/>
          </p:blipFill>
          <p:spPr>
            <a:xfrm>
              <a:off x="6729480" y="1981080"/>
              <a:ext cx="2000160" cy="706680"/>
            </a:xfrm>
            <a:prstGeom prst="rect">
              <a:avLst/>
            </a:prstGeom>
            <a:ln w="0">
              <a:noFill/>
            </a:ln>
          </p:spPr>
        </p:pic>
        <p:sp>
          <p:nvSpPr>
            <p:cNvPr id="2260" name=""/>
            <p:cNvSpPr/>
            <p:nvPr/>
          </p:nvSpPr>
          <p:spPr>
            <a:xfrm>
              <a:off x="6789600" y="2014560"/>
              <a:ext cx="1882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Pemetrexed +</a:t>
              </a:r>
              <a:endParaRPr b="0" lang="en-US" sz="16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Bevacizumab</a:t>
              </a:r>
              <a:endParaRPr b="0" lang="en-US" sz="1600" spc="-1" strike="noStrike">
                <a:solidFill>
                  <a:srgbClr val="000000"/>
                </a:solidFill>
                <a:latin typeface="Arial"/>
              </a:endParaRPr>
            </a:p>
          </p:txBody>
        </p:sp>
      </p:grpSp>
      <p:grpSp>
        <p:nvGrpSpPr>
          <p:cNvPr id="2261" name="TextBox 25"/>
          <p:cNvGrpSpPr/>
          <p:nvPr/>
        </p:nvGrpSpPr>
        <p:grpSpPr>
          <a:xfrm>
            <a:off x="6729480" y="3981600"/>
            <a:ext cx="2000160" cy="457200"/>
            <a:chOff x="6729480" y="3981600"/>
            <a:chExt cx="2000160" cy="457200"/>
          </a:xfrm>
        </p:grpSpPr>
        <p:pic>
          <p:nvPicPr>
            <p:cNvPr id="2262" name="TextBox 25" descr=""/>
            <p:cNvPicPr/>
            <p:nvPr/>
          </p:nvPicPr>
          <p:blipFill>
            <a:blip r:embed="rId7"/>
            <a:stretch/>
          </p:blipFill>
          <p:spPr>
            <a:xfrm>
              <a:off x="6729480" y="3981600"/>
              <a:ext cx="2000160" cy="457200"/>
            </a:xfrm>
            <a:prstGeom prst="rect">
              <a:avLst/>
            </a:prstGeom>
            <a:ln w="0">
              <a:noFill/>
            </a:ln>
          </p:spPr>
        </p:pic>
        <p:sp>
          <p:nvSpPr>
            <p:cNvPr id="2263" name=""/>
            <p:cNvSpPr/>
            <p:nvPr/>
          </p:nvSpPr>
          <p:spPr>
            <a:xfrm>
              <a:off x="6789600" y="4010040"/>
              <a:ext cx="1882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Bevacizumab</a:t>
              </a:r>
              <a:endParaRPr b="0" lang="en-US" sz="16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4" name="Group 103"/>
          <p:cNvGrpSpPr/>
          <p:nvPr/>
        </p:nvGrpSpPr>
        <p:grpSpPr>
          <a:xfrm>
            <a:off x="160200" y="457200"/>
            <a:ext cx="8823600" cy="6754680"/>
            <a:chOff x="160200" y="457200"/>
            <a:chExt cx="8823600" cy="6754680"/>
          </a:xfrm>
        </p:grpSpPr>
        <p:sp>
          <p:nvSpPr>
            <p:cNvPr id="2265" name="AutoShape 5"/>
            <p:cNvSpPr/>
            <p:nvPr/>
          </p:nvSpPr>
          <p:spPr>
            <a:xfrm>
              <a:off x="160200" y="457200"/>
              <a:ext cx="8823600" cy="6754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6" name="Rectangle 7"/>
            <p:cNvSpPr/>
            <p:nvPr/>
          </p:nvSpPr>
          <p:spPr>
            <a:xfrm>
              <a:off x="161640" y="458640"/>
              <a:ext cx="8820720" cy="67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7" name="Rectangle 8"/>
            <p:cNvSpPr/>
            <p:nvPr/>
          </p:nvSpPr>
          <p:spPr>
            <a:xfrm>
              <a:off x="902880" y="1577880"/>
              <a:ext cx="7793280" cy="36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8" name="Line 9"/>
            <p:cNvSpPr/>
            <p:nvPr/>
          </p:nvSpPr>
          <p:spPr>
            <a:xfrm>
              <a:off x="902880" y="5267160"/>
              <a:ext cx="779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9" name="Line 10"/>
            <p:cNvSpPr/>
            <p:nvPr/>
          </p:nvSpPr>
          <p:spPr>
            <a:xfrm flipV="1">
              <a:off x="902880" y="5266800"/>
              <a:ext cx="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0" name="Line 11"/>
            <p:cNvSpPr/>
            <p:nvPr/>
          </p:nvSpPr>
          <p:spPr>
            <a:xfrm flipV="1">
              <a:off x="155088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1" name="Line 12"/>
            <p:cNvSpPr/>
            <p:nvPr/>
          </p:nvSpPr>
          <p:spPr>
            <a:xfrm flipV="1">
              <a:off x="220176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2" name="Line 13"/>
            <p:cNvSpPr/>
            <p:nvPr/>
          </p:nvSpPr>
          <p:spPr>
            <a:xfrm flipV="1">
              <a:off x="285120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3" name="Line 14"/>
            <p:cNvSpPr/>
            <p:nvPr/>
          </p:nvSpPr>
          <p:spPr>
            <a:xfrm flipV="1">
              <a:off x="350028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4" name="Line 15"/>
            <p:cNvSpPr/>
            <p:nvPr/>
          </p:nvSpPr>
          <p:spPr>
            <a:xfrm flipV="1">
              <a:off x="41497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5" name="Line 16"/>
            <p:cNvSpPr/>
            <p:nvPr/>
          </p:nvSpPr>
          <p:spPr>
            <a:xfrm flipV="1">
              <a:off x="479916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6" name="Line 17"/>
            <p:cNvSpPr/>
            <p:nvPr/>
          </p:nvSpPr>
          <p:spPr>
            <a:xfrm flipV="1">
              <a:off x="544824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7" name="Line 18"/>
            <p:cNvSpPr/>
            <p:nvPr/>
          </p:nvSpPr>
          <p:spPr>
            <a:xfrm flipV="1">
              <a:off x="60991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8" name="Line 19"/>
            <p:cNvSpPr/>
            <p:nvPr/>
          </p:nvSpPr>
          <p:spPr>
            <a:xfrm flipV="1">
              <a:off x="67471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9" name="Line 20"/>
            <p:cNvSpPr/>
            <p:nvPr/>
          </p:nvSpPr>
          <p:spPr>
            <a:xfrm flipV="1">
              <a:off x="739800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0" name="Line 21"/>
            <p:cNvSpPr/>
            <p:nvPr/>
          </p:nvSpPr>
          <p:spPr>
            <a:xfrm flipV="1">
              <a:off x="804744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1" name="Line 22"/>
            <p:cNvSpPr/>
            <p:nvPr/>
          </p:nvSpPr>
          <p:spPr>
            <a:xfrm flipV="1">
              <a:off x="8696520" y="5266800"/>
              <a:ext cx="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2" name="Line 23"/>
            <p:cNvSpPr/>
            <p:nvPr/>
          </p:nvSpPr>
          <p:spPr>
            <a:xfrm flipV="1">
              <a:off x="11174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3" name="Line 24"/>
            <p:cNvSpPr/>
            <p:nvPr/>
          </p:nvSpPr>
          <p:spPr>
            <a:xfrm flipV="1">
              <a:off x="13348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4" name="Line 25"/>
            <p:cNvSpPr/>
            <p:nvPr/>
          </p:nvSpPr>
          <p:spPr>
            <a:xfrm flipV="1">
              <a:off x="17683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5" name="Line 26"/>
            <p:cNvSpPr/>
            <p:nvPr/>
          </p:nvSpPr>
          <p:spPr>
            <a:xfrm flipV="1">
              <a:off x="19843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6" name="Line 27"/>
            <p:cNvSpPr/>
            <p:nvPr/>
          </p:nvSpPr>
          <p:spPr>
            <a:xfrm flipV="1">
              <a:off x="24177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7" name="Line 28"/>
            <p:cNvSpPr/>
            <p:nvPr/>
          </p:nvSpPr>
          <p:spPr>
            <a:xfrm flipV="1">
              <a:off x="26334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8" name="Line 29"/>
            <p:cNvSpPr/>
            <p:nvPr/>
          </p:nvSpPr>
          <p:spPr>
            <a:xfrm flipV="1">
              <a:off x="30668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9" name="Line 30"/>
            <p:cNvSpPr/>
            <p:nvPr/>
          </p:nvSpPr>
          <p:spPr>
            <a:xfrm flipV="1">
              <a:off x="3284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0" name="Line 31"/>
            <p:cNvSpPr/>
            <p:nvPr/>
          </p:nvSpPr>
          <p:spPr>
            <a:xfrm flipV="1">
              <a:off x="3716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1" name="Line 32"/>
            <p:cNvSpPr/>
            <p:nvPr/>
          </p:nvSpPr>
          <p:spPr>
            <a:xfrm flipV="1">
              <a:off x="3932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2" name="Line 33"/>
            <p:cNvSpPr/>
            <p:nvPr/>
          </p:nvSpPr>
          <p:spPr>
            <a:xfrm flipV="1">
              <a:off x="43657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3" name="Line 34"/>
            <p:cNvSpPr/>
            <p:nvPr/>
          </p:nvSpPr>
          <p:spPr>
            <a:xfrm flipV="1">
              <a:off x="45831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4" name="Line 35"/>
            <p:cNvSpPr/>
            <p:nvPr/>
          </p:nvSpPr>
          <p:spPr>
            <a:xfrm flipV="1">
              <a:off x="50148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5" name="Line 36"/>
            <p:cNvSpPr/>
            <p:nvPr/>
          </p:nvSpPr>
          <p:spPr>
            <a:xfrm flipV="1">
              <a:off x="52326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6" name="Line 37"/>
            <p:cNvSpPr/>
            <p:nvPr/>
          </p:nvSpPr>
          <p:spPr>
            <a:xfrm flipV="1">
              <a:off x="56660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7" name="Line 38"/>
            <p:cNvSpPr/>
            <p:nvPr/>
          </p:nvSpPr>
          <p:spPr>
            <a:xfrm flipV="1">
              <a:off x="58816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8" name="Line 39"/>
            <p:cNvSpPr/>
            <p:nvPr/>
          </p:nvSpPr>
          <p:spPr>
            <a:xfrm flipV="1">
              <a:off x="63151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9" name="Line 40"/>
            <p:cNvSpPr/>
            <p:nvPr/>
          </p:nvSpPr>
          <p:spPr>
            <a:xfrm flipV="1">
              <a:off x="65311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0" name="Line 41"/>
            <p:cNvSpPr/>
            <p:nvPr/>
          </p:nvSpPr>
          <p:spPr>
            <a:xfrm flipV="1">
              <a:off x="69645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1" name="Line 42"/>
            <p:cNvSpPr/>
            <p:nvPr/>
          </p:nvSpPr>
          <p:spPr>
            <a:xfrm flipV="1">
              <a:off x="71805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2" name="Line 43"/>
            <p:cNvSpPr/>
            <p:nvPr/>
          </p:nvSpPr>
          <p:spPr>
            <a:xfrm flipV="1">
              <a:off x="76140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3" name="Line 44"/>
            <p:cNvSpPr/>
            <p:nvPr/>
          </p:nvSpPr>
          <p:spPr>
            <a:xfrm flipV="1">
              <a:off x="78296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4" name="Line 45"/>
            <p:cNvSpPr/>
            <p:nvPr/>
          </p:nvSpPr>
          <p:spPr>
            <a:xfrm flipV="1">
              <a:off x="82630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5" name="Line 46"/>
            <p:cNvSpPr/>
            <p:nvPr/>
          </p:nvSpPr>
          <p:spPr>
            <a:xfrm flipV="1">
              <a:off x="84808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6" name="Rectangle 47"/>
            <p:cNvSpPr/>
            <p:nvPr/>
          </p:nvSpPr>
          <p:spPr>
            <a:xfrm>
              <a:off x="86184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307" name="Rectangle 48"/>
            <p:cNvSpPr/>
            <p:nvPr/>
          </p:nvSpPr>
          <p:spPr>
            <a:xfrm>
              <a:off x="151092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308" name="Rectangle 49"/>
            <p:cNvSpPr/>
            <p:nvPr/>
          </p:nvSpPr>
          <p:spPr>
            <a:xfrm>
              <a:off x="216216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2309" name="Rectangle 50"/>
            <p:cNvSpPr/>
            <p:nvPr/>
          </p:nvSpPr>
          <p:spPr>
            <a:xfrm>
              <a:off x="280980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310" name="Rectangle 51"/>
            <p:cNvSpPr/>
            <p:nvPr/>
          </p:nvSpPr>
          <p:spPr>
            <a:xfrm>
              <a:off x="341856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311" name="Rectangle 52"/>
            <p:cNvSpPr/>
            <p:nvPr/>
          </p:nvSpPr>
          <p:spPr>
            <a:xfrm>
              <a:off x="40680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312" name="Rectangle 53"/>
            <p:cNvSpPr/>
            <p:nvPr/>
          </p:nvSpPr>
          <p:spPr>
            <a:xfrm>
              <a:off x="471744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2313" name="Rectangle 54"/>
            <p:cNvSpPr/>
            <p:nvPr/>
          </p:nvSpPr>
          <p:spPr>
            <a:xfrm>
              <a:off x="536652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2314" name="Rectangle 55"/>
            <p:cNvSpPr/>
            <p:nvPr/>
          </p:nvSpPr>
          <p:spPr>
            <a:xfrm>
              <a:off x="601596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315" name="Rectangle 56"/>
            <p:cNvSpPr/>
            <p:nvPr/>
          </p:nvSpPr>
          <p:spPr>
            <a:xfrm>
              <a:off x="66654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316" name="Rectangle 57"/>
            <p:cNvSpPr/>
            <p:nvPr/>
          </p:nvSpPr>
          <p:spPr>
            <a:xfrm>
              <a:off x="731628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p:txBody>
        </p:sp>
        <p:sp>
          <p:nvSpPr>
            <p:cNvPr id="2317" name="Rectangle 58"/>
            <p:cNvSpPr/>
            <p:nvPr/>
          </p:nvSpPr>
          <p:spPr>
            <a:xfrm>
              <a:off x="796572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Arial"/>
              </a:endParaRPr>
            </a:p>
          </p:txBody>
        </p:sp>
        <p:sp>
          <p:nvSpPr>
            <p:cNvPr id="2318" name="Rectangle 59"/>
            <p:cNvSpPr/>
            <p:nvPr/>
          </p:nvSpPr>
          <p:spPr>
            <a:xfrm>
              <a:off x="86148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2319" name="Line 60"/>
            <p:cNvSpPr/>
            <p:nvPr/>
          </p:nvSpPr>
          <p:spPr>
            <a:xfrm flipV="1">
              <a:off x="902880" y="1577880"/>
              <a:ext cx="0" cy="368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0" name="Line 61"/>
            <p:cNvSpPr/>
            <p:nvPr/>
          </p:nvSpPr>
          <p:spPr>
            <a:xfrm>
              <a:off x="848880" y="5195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1" name="Line 62"/>
            <p:cNvSpPr/>
            <p:nvPr/>
          </p:nvSpPr>
          <p:spPr>
            <a:xfrm>
              <a:off x="848880" y="48340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2" name="Line 63"/>
            <p:cNvSpPr/>
            <p:nvPr/>
          </p:nvSpPr>
          <p:spPr>
            <a:xfrm>
              <a:off x="848880" y="44719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3" name="Line 64"/>
            <p:cNvSpPr/>
            <p:nvPr/>
          </p:nvSpPr>
          <p:spPr>
            <a:xfrm>
              <a:off x="848880" y="41101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4" name="Line 65"/>
            <p:cNvSpPr/>
            <p:nvPr/>
          </p:nvSpPr>
          <p:spPr>
            <a:xfrm>
              <a:off x="848880" y="37479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5" name="Line 66"/>
            <p:cNvSpPr/>
            <p:nvPr/>
          </p:nvSpPr>
          <p:spPr>
            <a:xfrm>
              <a:off x="848880" y="3386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6" name="Line 67"/>
            <p:cNvSpPr/>
            <p:nvPr/>
          </p:nvSpPr>
          <p:spPr>
            <a:xfrm>
              <a:off x="848880" y="30240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7" name="Line 68"/>
            <p:cNvSpPr/>
            <p:nvPr/>
          </p:nvSpPr>
          <p:spPr>
            <a:xfrm>
              <a:off x="848880" y="2663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8" name="Line 69"/>
            <p:cNvSpPr/>
            <p:nvPr/>
          </p:nvSpPr>
          <p:spPr>
            <a:xfrm>
              <a:off x="848880" y="23018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9" name="Line 70"/>
            <p:cNvSpPr/>
            <p:nvPr/>
          </p:nvSpPr>
          <p:spPr>
            <a:xfrm>
              <a:off x="848880" y="19396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0" name="Line 71"/>
            <p:cNvSpPr/>
            <p:nvPr/>
          </p:nvSpPr>
          <p:spPr>
            <a:xfrm>
              <a:off x="848880" y="1577880"/>
              <a:ext cx="5364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1" name="Line 72"/>
            <p:cNvSpPr/>
            <p:nvPr/>
          </p:nvSpPr>
          <p:spPr>
            <a:xfrm>
              <a:off x="871200" y="50133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2" name="Line 73"/>
            <p:cNvSpPr/>
            <p:nvPr/>
          </p:nvSpPr>
          <p:spPr>
            <a:xfrm>
              <a:off x="871200" y="46530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3" name="Line 74"/>
            <p:cNvSpPr/>
            <p:nvPr/>
          </p:nvSpPr>
          <p:spPr>
            <a:xfrm>
              <a:off x="871200" y="42908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4" name="Line 75"/>
            <p:cNvSpPr/>
            <p:nvPr/>
          </p:nvSpPr>
          <p:spPr>
            <a:xfrm>
              <a:off x="871200" y="39290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5" name="Line 76"/>
            <p:cNvSpPr/>
            <p:nvPr/>
          </p:nvSpPr>
          <p:spPr>
            <a:xfrm>
              <a:off x="871200" y="35668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6" name="Line 77"/>
            <p:cNvSpPr/>
            <p:nvPr/>
          </p:nvSpPr>
          <p:spPr>
            <a:xfrm>
              <a:off x="871200" y="32065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7" name="Line 78"/>
            <p:cNvSpPr/>
            <p:nvPr/>
          </p:nvSpPr>
          <p:spPr>
            <a:xfrm>
              <a:off x="871200" y="28432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8" name="Line 79"/>
            <p:cNvSpPr/>
            <p:nvPr/>
          </p:nvSpPr>
          <p:spPr>
            <a:xfrm>
              <a:off x="871200" y="24811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9" name="Line 80"/>
            <p:cNvSpPr/>
            <p:nvPr/>
          </p:nvSpPr>
          <p:spPr>
            <a:xfrm>
              <a:off x="871200" y="21207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0" name="Line 81"/>
            <p:cNvSpPr/>
            <p:nvPr/>
          </p:nvSpPr>
          <p:spPr>
            <a:xfrm>
              <a:off x="871200" y="17589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1" name="Rectangle 82"/>
            <p:cNvSpPr/>
            <p:nvPr/>
          </p:nvSpPr>
          <p:spPr>
            <a:xfrm>
              <a:off x="573840" y="5113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2342" name="Rectangle 83"/>
            <p:cNvSpPr/>
            <p:nvPr/>
          </p:nvSpPr>
          <p:spPr>
            <a:xfrm>
              <a:off x="573840" y="47512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p:txBody>
        </p:sp>
        <p:sp>
          <p:nvSpPr>
            <p:cNvPr id="2343" name="Rectangle 84"/>
            <p:cNvSpPr/>
            <p:nvPr/>
          </p:nvSpPr>
          <p:spPr>
            <a:xfrm>
              <a:off x="573840" y="43894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p:txBody>
        </p:sp>
        <p:sp>
          <p:nvSpPr>
            <p:cNvPr id="2344" name="Rectangle 85"/>
            <p:cNvSpPr/>
            <p:nvPr/>
          </p:nvSpPr>
          <p:spPr>
            <a:xfrm>
              <a:off x="573840" y="40273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Arial"/>
              </a:endParaRPr>
            </a:p>
          </p:txBody>
        </p:sp>
        <p:sp>
          <p:nvSpPr>
            <p:cNvPr id="2345" name="Rectangle 86"/>
            <p:cNvSpPr/>
            <p:nvPr/>
          </p:nvSpPr>
          <p:spPr>
            <a:xfrm>
              <a:off x="573840" y="36655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Arial"/>
              </a:endParaRPr>
            </a:p>
          </p:txBody>
        </p:sp>
        <p:sp>
          <p:nvSpPr>
            <p:cNvPr id="2346" name="Rectangle 87"/>
            <p:cNvSpPr/>
            <p:nvPr/>
          </p:nvSpPr>
          <p:spPr>
            <a:xfrm>
              <a:off x="573840" y="33033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000000"/>
                </a:solidFill>
                <a:latin typeface="Arial"/>
              </a:endParaRPr>
            </a:p>
          </p:txBody>
        </p:sp>
        <p:sp>
          <p:nvSpPr>
            <p:cNvPr id="2347" name="Rectangle 88"/>
            <p:cNvSpPr/>
            <p:nvPr/>
          </p:nvSpPr>
          <p:spPr>
            <a:xfrm>
              <a:off x="573840" y="29415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Arial"/>
              </a:endParaRPr>
            </a:p>
          </p:txBody>
        </p:sp>
        <p:sp>
          <p:nvSpPr>
            <p:cNvPr id="2348" name="Rectangle 89"/>
            <p:cNvSpPr/>
            <p:nvPr/>
          </p:nvSpPr>
          <p:spPr>
            <a:xfrm>
              <a:off x="573840" y="25794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p:txBody>
        </p:sp>
        <p:sp>
          <p:nvSpPr>
            <p:cNvPr id="2349" name="Rectangle 90"/>
            <p:cNvSpPr/>
            <p:nvPr/>
          </p:nvSpPr>
          <p:spPr>
            <a:xfrm>
              <a:off x="573840" y="22190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Arial"/>
              </a:endParaRPr>
            </a:p>
          </p:txBody>
        </p:sp>
        <p:sp>
          <p:nvSpPr>
            <p:cNvPr id="2350" name="Rectangle 91"/>
            <p:cNvSpPr/>
            <p:nvPr/>
          </p:nvSpPr>
          <p:spPr>
            <a:xfrm>
              <a:off x="573840" y="1857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9</a:t>
              </a:r>
              <a:endParaRPr b="0" lang="en-US" sz="1200" spc="-1" strike="noStrike">
                <a:solidFill>
                  <a:srgbClr val="000000"/>
                </a:solidFill>
                <a:latin typeface="Arial"/>
              </a:endParaRPr>
            </a:p>
          </p:txBody>
        </p:sp>
        <p:sp>
          <p:nvSpPr>
            <p:cNvPr id="2351" name="Rectangle 92"/>
            <p:cNvSpPr/>
            <p:nvPr/>
          </p:nvSpPr>
          <p:spPr>
            <a:xfrm>
              <a:off x="573840" y="1495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352" name="Freeform 93"/>
            <p:cNvSpPr/>
            <p:nvPr/>
          </p:nvSpPr>
          <p:spPr>
            <a:xfrm flipV="1">
              <a:off x="902880" y="1577520"/>
              <a:ext cx="7261560" cy="3504960"/>
            </a:xfrm>
            <a:custGeom>
              <a:avLst/>
              <a:gdLst/>
              <a:ahLst/>
              <a:rect l="l" t="t" r="r" b="b"/>
              <a:pathLst>
                <a:path w="6870" h="3325">
                  <a:moveTo>
                    <a:pt x="0" y="3325"/>
                  </a:moveTo>
                  <a:lnTo>
                    <a:pt x="6" y="3325"/>
                  </a:lnTo>
                  <a:lnTo>
                    <a:pt x="60" y="3325"/>
                  </a:lnTo>
                  <a:lnTo>
                    <a:pt x="60" y="3310"/>
                  </a:lnTo>
                  <a:lnTo>
                    <a:pt x="67" y="3310"/>
                  </a:lnTo>
                  <a:lnTo>
                    <a:pt x="67" y="3302"/>
                  </a:lnTo>
                  <a:lnTo>
                    <a:pt x="94" y="3302"/>
                  </a:lnTo>
                  <a:lnTo>
                    <a:pt x="94" y="3294"/>
                  </a:lnTo>
                  <a:lnTo>
                    <a:pt x="107" y="3294"/>
                  </a:lnTo>
                  <a:lnTo>
                    <a:pt x="107" y="3286"/>
                  </a:lnTo>
                  <a:lnTo>
                    <a:pt x="114" y="3286"/>
                  </a:lnTo>
                  <a:lnTo>
                    <a:pt x="114" y="3278"/>
                  </a:lnTo>
                  <a:lnTo>
                    <a:pt x="127" y="3278"/>
                  </a:lnTo>
                  <a:lnTo>
                    <a:pt x="127" y="3263"/>
                  </a:lnTo>
                  <a:lnTo>
                    <a:pt x="141" y="3263"/>
                  </a:lnTo>
                  <a:lnTo>
                    <a:pt x="141" y="3255"/>
                  </a:lnTo>
                  <a:lnTo>
                    <a:pt x="154" y="3255"/>
                  </a:lnTo>
                  <a:lnTo>
                    <a:pt x="154" y="3247"/>
                  </a:lnTo>
                  <a:lnTo>
                    <a:pt x="161" y="3247"/>
                  </a:lnTo>
                  <a:lnTo>
                    <a:pt x="161" y="3239"/>
                  </a:lnTo>
                  <a:lnTo>
                    <a:pt x="168" y="3239"/>
                  </a:lnTo>
                  <a:lnTo>
                    <a:pt x="168" y="3231"/>
                  </a:lnTo>
                  <a:lnTo>
                    <a:pt x="188" y="3231"/>
                  </a:lnTo>
                  <a:lnTo>
                    <a:pt x="188" y="3215"/>
                  </a:lnTo>
                  <a:lnTo>
                    <a:pt x="195" y="3215"/>
                  </a:lnTo>
                  <a:lnTo>
                    <a:pt x="195" y="3207"/>
                  </a:lnTo>
                  <a:lnTo>
                    <a:pt x="201" y="3207"/>
                  </a:lnTo>
                  <a:lnTo>
                    <a:pt x="201" y="3200"/>
                  </a:lnTo>
                  <a:lnTo>
                    <a:pt x="208" y="3200"/>
                  </a:lnTo>
                  <a:lnTo>
                    <a:pt x="208" y="3192"/>
                  </a:lnTo>
                  <a:lnTo>
                    <a:pt x="215" y="3192"/>
                  </a:lnTo>
                  <a:lnTo>
                    <a:pt x="215" y="3184"/>
                  </a:lnTo>
                  <a:lnTo>
                    <a:pt x="235" y="3184"/>
                  </a:lnTo>
                  <a:lnTo>
                    <a:pt x="235" y="3176"/>
                  </a:lnTo>
                  <a:lnTo>
                    <a:pt x="242" y="3176"/>
                  </a:lnTo>
                  <a:lnTo>
                    <a:pt x="242" y="3168"/>
                  </a:lnTo>
                  <a:lnTo>
                    <a:pt x="248" y="3168"/>
                  </a:lnTo>
                  <a:lnTo>
                    <a:pt x="248" y="3144"/>
                  </a:lnTo>
                  <a:lnTo>
                    <a:pt x="255" y="3144"/>
                  </a:lnTo>
                  <a:lnTo>
                    <a:pt x="255" y="3113"/>
                  </a:lnTo>
                  <a:lnTo>
                    <a:pt x="262" y="3113"/>
                  </a:lnTo>
                  <a:lnTo>
                    <a:pt x="262" y="3081"/>
                  </a:lnTo>
                  <a:lnTo>
                    <a:pt x="269" y="3081"/>
                  </a:lnTo>
                  <a:lnTo>
                    <a:pt x="269" y="3073"/>
                  </a:lnTo>
                  <a:lnTo>
                    <a:pt x="275" y="3073"/>
                  </a:lnTo>
                  <a:lnTo>
                    <a:pt x="275" y="3049"/>
                  </a:lnTo>
                  <a:lnTo>
                    <a:pt x="282" y="3049"/>
                  </a:lnTo>
                  <a:lnTo>
                    <a:pt x="282" y="3001"/>
                  </a:lnTo>
                  <a:lnTo>
                    <a:pt x="289" y="3001"/>
                  </a:lnTo>
                  <a:lnTo>
                    <a:pt x="289" y="2961"/>
                  </a:lnTo>
                  <a:lnTo>
                    <a:pt x="296" y="2961"/>
                  </a:lnTo>
                  <a:lnTo>
                    <a:pt x="296" y="2953"/>
                  </a:lnTo>
                  <a:lnTo>
                    <a:pt x="302" y="2953"/>
                  </a:lnTo>
                  <a:lnTo>
                    <a:pt x="302" y="2945"/>
                  </a:lnTo>
                  <a:lnTo>
                    <a:pt x="309" y="2945"/>
                  </a:lnTo>
                  <a:lnTo>
                    <a:pt x="309" y="2912"/>
                  </a:lnTo>
                  <a:lnTo>
                    <a:pt x="316" y="2912"/>
                  </a:lnTo>
                  <a:lnTo>
                    <a:pt x="316" y="2904"/>
                  </a:lnTo>
                  <a:lnTo>
                    <a:pt x="322" y="2904"/>
                  </a:lnTo>
                  <a:lnTo>
                    <a:pt x="322" y="2888"/>
                  </a:lnTo>
                  <a:lnTo>
                    <a:pt x="329" y="2888"/>
                  </a:lnTo>
                  <a:lnTo>
                    <a:pt x="329" y="2880"/>
                  </a:lnTo>
                  <a:lnTo>
                    <a:pt x="336" y="2880"/>
                  </a:lnTo>
                  <a:lnTo>
                    <a:pt x="336" y="2872"/>
                  </a:lnTo>
                  <a:lnTo>
                    <a:pt x="343" y="2872"/>
                  </a:lnTo>
                  <a:lnTo>
                    <a:pt x="343" y="2864"/>
                  </a:lnTo>
                  <a:lnTo>
                    <a:pt x="349" y="2864"/>
                  </a:lnTo>
                  <a:lnTo>
                    <a:pt x="349" y="2847"/>
                  </a:lnTo>
                  <a:lnTo>
                    <a:pt x="397" y="2847"/>
                  </a:lnTo>
                  <a:lnTo>
                    <a:pt x="397" y="2831"/>
                  </a:lnTo>
                  <a:lnTo>
                    <a:pt x="403" y="2831"/>
                  </a:lnTo>
                  <a:lnTo>
                    <a:pt x="417" y="2831"/>
                  </a:lnTo>
                  <a:lnTo>
                    <a:pt x="417" y="2823"/>
                  </a:lnTo>
                  <a:lnTo>
                    <a:pt x="423" y="2823"/>
                  </a:lnTo>
                  <a:lnTo>
                    <a:pt x="423" y="2807"/>
                  </a:lnTo>
                  <a:lnTo>
                    <a:pt x="444" y="2807"/>
                  </a:lnTo>
                  <a:lnTo>
                    <a:pt x="444" y="2798"/>
                  </a:lnTo>
                  <a:lnTo>
                    <a:pt x="450" y="2798"/>
                  </a:lnTo>
                  <a:lnTo>
                    <a:pt x="450" y="2790"/>
                  </a:lnTo>
                  <a:lnTo>
                    <a:pt x="464" y="2790"/>
                  </a:lnTo>
                  <a:lnTo>
                    <a:pt x="464" y="2766"/>
                  </a:lnTo>
                  <a:lnTo>
                    <a:pt x="477" y="2766"/>
                  </a:lnTo>
                  <a:lnTo>
                    <a:pt x="477" y="2757"/>
                  </a:lnTo>
                  <a:lnTo>
                    <a:pt x="484" y="2757"/>
                  </a:lnTo>
                  <a:lnTo>
                    <a:pt x="484" y="2749"/>
                  </a:lnTo>
                  <a:lnTo>
                    <a:pt x="511" y="2749"/>
                  </a:lnTo>
                  <a:lnTo>
                    <a:pt x="511" y="2741"/>
                  </a:lnTo>
                  <a:lnTo>
                    <a:pt x="524" y="2741"/>
                  </a:lnTo>
                  <a:lnTo>
                    <a:pt x="524" y="2716"/>
                  </a:lnTo>
                  <a:lnTo>
                    <a:pt x="531" y="2716"/>
                  </a:lnTo>
                  <a:lnTo>
                    <a:pt x="531" y="2700"/>
                  </a:lnTo>
                  <a:lnTo>
                    <a:pt x="538" y="2700"/>
                  </a:lnTo>
                  <a:lnTo>
                    <a:pt x="538" y="2683"/>
                  </a:lnTo>
                  <a:lnTo>
                    <a:pt x="545" y="2683"/>
                  </a:lnTo>
                  <a:lnTo>
                    <a:pt x="545" y="2675"/>
                  </a:lnTo>
                  <a:lnTo>
                    <a:pt x="551" y="2675"/>
                  </a:lnTo>
                  <a:lnTo>
                    <a:pt x="551" y="2659"/>
                  </a:lnTo>
                  <a:lnTo>
                    <a:pt x="558" y="2659"/>
                  </a:lnTo>
                  <a:lnTo>
                    <a:pt x="558" y="2642"/>
                  </a:lnTo>
                  <a:lnTo>
                    <a:pt x="565" y="2642"/>
                  </a:lnTo>
                  <a:lnTo>
                    <a:pt x="565" y="2625"/>
                  </a:lnTo>
                  <a:lnTo>
                    <a:pt x="571" y="2625"/>
                  </a:lnTo>
                  <a:lnTo>
                    <a:pt x="571" y="2601"/>
                  </a:lnTo>
                  <a:lnTo>
                    <a:pt x="578" y="2601"/>
                  </a:lnTo>
                  <a:lnTo>
                    <a:pt x="578" y="2592"/>
                  </a:lnTo>
                  <a:lnTo>
                    <a:pt x="585" y="2592"/>
                  </a:lnTo>
                  <a:lnTo>
                    <a:pt x="585" y="2576"/>
                  </a:lnTo>
                  <a:lnTo>
                    <a:pt x="592" y="2576"/>
                  </a:lnTo>
                  <a:lnTo>
                    <a:pt x="592" y="2567"/>
                  </a:lnTo>
                  <a:lnTo>
                    <a:pt x="598" y="2567"/>
                  </a:lnTo>
                  <a:lnTo>
                    <a:pt x="598" y="2559"/>
                  </a:lnTo>
                  <a:lnTo>
                    <a:pt x="612" y="2559"/>
                  </a:lnTo>
                  <a:lnTo>
                    <a:pt x="612" y="2542"/>
                  </a:lnTo>
                  <a:lnTo>
                    <a:pt x="619" y="2542"/>
                  </a:lnTo>
                  <a:lnTo>
                    <a:pt x="619" y="2517"/>
                  </a:lnTo>
                  <a:lnTo>
                    <a:pt x="625" y="2517"/>
                  </a:lnTo>
                  <a:lnTo>
                    <a:pt x="625" y="2509"/>
                  </a:lnTo>
                  <a:lnTo>
                    <a:pt x="632" y="2509"/>
                  </a:lnTo>
                  <a:lnTo>
                    <a:pt x="632" y="2492"/>
                  </a:lnTo>
                  <a:lnTo>
                    <a:pt x="652" y="2492"/>
                  </a:lnTo>
                  <a:lnTo>
                    <a:pt x="652" y="2467"/>
                  </a:lnTo>
                  <a:lnTo>
                    <a:pt x="659" y="2467"/>
                  </a:lnTo>
                  <a:lnTo>
                    <a:pt x="659" y="2459"/>
                  </a:lnTo>
                  <a:lnTo>
                    <a:pt x="666" y="2459"/>
                  </a:lnTo>
                  <a:lnTo>
                    <a:pt x="666" y="2426"/>
                  </a:lnTo>
                  <a:lnTo>
                    <a:pt x="672" y="2426"/>
                  </a:lnTo>
                  <a:lnTo>
                    <a:pt x="672" y="2417"/>
                  </a:lnTo>
                  <a:lnTo>
                    <a:pt x="686" y="2417"/>
                  </a:lnTo>
                  <a:lnTo>
                    <a:pt x="686" y="2392"/>
                  </a:lnTo>
                  <a:lnTo>
                    <a:pt x="706" y="2392"/>
                  </a:lnTo>
                  <a:lnTo>
                    <a:pt x="706" y="2384"/>
                  </a:lnTo>
                  <a:lnTo>
                    <a:pt x="713" y="2384"/>
                  </a:lnTo>
                  <a:lnTo>
                    <a:pt x="713" y="2375"/>
                  </a:lnTo>
                  <a:lnTo>
                    <a:pt x="753" y="2375"/>
                  </a:lnTo>
                  <a:lnTo>
                    <a:pt x="753" y="2367"/>
                  </a:lnTo>
                  <a:lnTo>
                    <a:pt x="760" y="2367"/>
                  </a:lnTo>
                  <a:lnTo>
                    <a:pt x="760" y="2359"/>
                  </a:lnTo>
                  <a:lnTo>
                    <a:pt x="767" y="2359"/>
                  </a:lnTo>
                  <a:lnTo>
                    <a:pt x="767" y="2350"/>
                  </a:lnTo>
                  <a:lnTo>
                    <a:pt x="773" y="2350"/>
                  </a:lnTo>
                  <a:lnTo>
                    <a:pt x="773" y="2342"/>
                  </a:lnTo>
                  <a:lnTo>
                    <a:pt x="787" y="2342"/>
                  </a:lnTo>
                  <a:lnTo>
                    <a:pt x="787" y="2333"/>
                  </a:lnTo>
                  <a:lnTo>
                    <a:pt x="794" y="2333"/>
                  </a:lnTo>
                  <a:lnTo>
                    <a:pt x="794" y="2317"/>
                  </a:lnTo>
                  <a:lnTo>
                    <a:pt x="800" y="2317"/>
                  </a:lnTo>
                  <a:lnTo>
                    <a:pt x="800" y="2300"/>
                  </a:lnTo>
                  <a:lnTo>
                    <a:pt x="814" y="2300"/>
                  </a:lnTo>
                  <a:lnTo>
                    <a:pt x="814" y="2292"/>
                  </a:lnTo>
                  <a:lnTo>
                    <a:pt x="820" y="2292"/>
                  </a:lnTo>
                  <a:lnTo>
                    <a:pt x="820" y="2266"/>
                  </a:lnTo>
                  <a:lnTo>
                    <a:pt x="834" y="2266"/>
                  </a:lnTo>
                  <a:lnTo>
                    <a:pt x="834" y="2250"/>
                  </a:lnTo>
                  <a:lnTo>
                    <a:pt x="841" y="2250"/>
                  </a:lnTo>
                  <a:lnTo>
                    <a:pt x="841" y="2233"/>
                  </a:lnTo>
                  <a:lnTo>
                    <a:pt x="847" y="2233"/>
                  </a:lnTo>
                  <a:lnTo>
                    <a:pt x="847" y="2199"/>
                  </a:lnTo>
                  <a:lnTo>
                    <a:pt x="854" y="2199"/>
                  </a:lnTo>
                  <a:lnTo>
                    <a:pt x="854" y="2157"/>
                  </a:lnTo>
                  <a:lnTo>
                    <a:pt x="861" y="2157"/>
                  </a:lnTo>
                  <a:lnTo>
                    <a:pt x="861" y="2148"/>
                  </a:lnTo>
                  <a:lnTo>
                    <a:pt x="868" y="2148"/>
                  </a:lnTo>
                  <a:lnTo>
                    <a:pt x="868" y="2140"/>
                  </a:lnTo>
                  <a:lnTo>
                    <a:pt x="874" y="2140"/>
                  </a:lnTo>
                  <a:lnTo>
                    <a:pt x="874" y="2131"/>
                  </a:lnTo>
                  <a:lnTo>
                    <a:pt x="881" y="2131"/>
                  </a:lnTo>
                  <a:lnTo>
                    <a:pt x="881" y="2123"/>
                  </a:lnTo>
                  <a:lnTo>
                    <a:pt x="888" y="2123"/>
                  </a:lnTo>
                  <a:lnTo>
                    <a:pt x="888" y="2106"/>
                  </a:lnTo>
                  <a:lnTo>
                    <a:pt x="894" y="2106"/>
                  </a:lnTo>
                  <a:lnTo>
                    <a:pt x="894" y="2089"/>
                  </a:lnTo>
                  <a:lnTo>
                    <a:pt x="901" y="2089"/>
                  </a:lnTo>
                  <a:lnTo>
                    <a:pt x="901" y="2063"/>
                  </a:lnTo>
                  <a:lnTo>
                    <a:pt x="908" y="2063"/>
                  </a:lnTo>
                  <a:lnTo>
                    <a:pt x="908" y="2054"/>
                  </a:lnTo>
                  <a:lnTo>
                    <a:pt x="921" y="2054"/>
                  </a:lnTo>
                  <a:lnTo>
                    <a:pt x="921" y="2046"/>
                  </a:lnTo>
                  <a:lnTo>
                    <a:pt x="935" y="2046"/>
                  </a:lnTo>
                  <a:lnTo>
                    <a:pt x="935" y="2037"/>
                  </a:lnTo>
                  <a:lnTo>
                    <a:pt x="942" y="2037"/>
                  </a:lnTo>
                  <a:lnTo>
                    <a:pt x="942" y="2011"/>
                  </a:lnTo>
                  <a:lnTo>
                    <a:pt x="948" y="2011"/>
                  </a:lnTo>
                  <a:lnTo>
                    <a:pt x="948" y="2002"/>
                  </a:lnTo>
                  <a:lnTo>
                    <a:pt x="955" y="2002"/>
                  </a:lnTo>
                  <a:lnTo>
                    <a:pt x="955" y="1985"/>
                  </a:lnTo>
                  <a:lnTo>
                    <a:pt x="968" y="1985"/>
                  </a:lnTo>
                  <a:lnTo>
                    <a:pt x="968" y="1951"/>
                  </a:lnTo>
                  <a:lnTo>
                    <a:pt x="975" y="1951"/>
                  </a:lnTo>
                  <a:lnTo>
                    <a:pt x="982" y="1951"/>
                  </a:lnTo>
                  <a:lnTo>
                    <a:pt x="982" y="1942"/>
                  </a:lnTo>
                  <a:lnTo>
                    <a:pt x="1002" y="1942"/>
                  </a:lnTo>
                  <a:lnTo>
                    <a:pt x="1029" y="1942"/>
                  </a:lnTo>
                  <a:lnTo>
                    <a:pt x="1029" y="1933"/>
                  </a:lnTo>
                  <a:lnTo>
                    <a:pt x="1036" y="1933"/>
                  </a:lnTo>
                  <a:lnTo>
                    <a:pt x="1036" y="1924"/>
                  </a:lnTo>
                  <a:lnTo>
                    <a:pt x="1043" y="1924"/>
                  </a:lnTo>
                  <a:lnTo>
                    <a:pt x="1049" y="1924"/>
                  </a:lnTo>
                  <a:lnTo>
                    <a:pt x="1049" y="1916"/>
                  </a:lnTo>
                  <a:lnTo>
                    <a:pt x="1076" y="1916"/>
                  </a:lnTo>
                  <a:lnTo>
                    <a:pt x="1076" y="1907"/>
                  </a:lnTo>
                  <a:lnTo>
                    <a:pt x="1090" y="1907"/>
                  </a:lnTo>
                  <a:lnTo>
                    <a:pt x="1090" y="1898"/>
                  </a:lnTo>
                  <a:lnTo>
                    <a:pt x="1096" y="1898"/>
                  </a:lnTo>
                  <a:lnTo>
                    <a:pt x="1096" y="1889"/>
                  </a:lnTo>
                  <a:lnTo>
                    <a:pt x="1103" y="1889"/>
                  </a:lnTo>
                  <a:lnTo>
                    <a:pt x="1103" y="1880"/>
                  </a:lnTo>
                  <a:lnTo>
                    <a:pt x="1110" y="1880"/>
                  </a:lnTo>
                  <a:lnTo>
                    <a:pt x="1110" y="1872"/>
                  </a:lnTo>
                  <a:lnTo>
                    <a:pt x="1117" y="1872"/>
                  </a:lnTo>
                  <a:lnTo>
                    <a:pt x="1117" y="1854"/>
                  </a:lnTo>
                  <a:lnTo>
                    <a:pt x="1123" y="1854"/>
                  </a:lnTo>
                  <a:lnTo>
                    <a:pt x="1123" y="1836"/>
                  </a:lnTo>
                  <a:lnTo>
                    <a:pt x="1130" y="1836"/>
                  </a:lnTo>
                  <a:lnTo>
                    <a:pt x="1130" y="1801"/>
                  </a:lnTo>
                  <a:lnTo>
                    <a:pt x="1137" y="1801"/>
                  </a:lnTo>
                  <a:lnTo>
                    <a:pt x="1137" y="1774"/>
                  </a:lnTo>
                  <a:lnTo>
                    <a:pt x="1143" y="1774"/>
                  </a:lnTo>
                  <a:lnTo>
                    <a:pt x="1143" y="1757"/>
                  </a:lnTo>
                  <a:lnTo>
                    <a:pt x="1150" y="1757"/>
                  </a:lnTo>
                  <a:lnTo>
                    <a:pt x="1157" y="1757"/>
                  </a:lnTo>
                  <a:lnTo>
                    <a:pt x="1157" y="1721"/>
                  </a:lnTo>
                  <a:lnTo>
                    <a:pt x="1170" y="1721"/>
                  </a:lnTo>
                  <a:lnTo>
                    <a:pt x="1170" y="1694"/>
                  </a:lnTo>
                  <a:lnTo>
                    <a:pt x="1177" y="1694"/>
                  </a:lnTo>
                  <a:lnTo>
                    <a:pt x="1177" y="1676"/>
                  </a:lnTo>
                  <a:lnTo>
                    <a:pt x="1184" y="1676"/>
                  </a:lnTo>
                  <a:lnTo>
                    <a:pt x="1184" y="1658"/>
                  </a:lnTo>
                  <a:lnTo>
                    <a:pt x="1191" y="1658"/>
                  </a:lnTo>
                  <a:lnTo>
                    <a:pt x="1191" y="1631"/>
                  </a:lnTo>
                  <a:lnTo>
                    <a:pt x="1211" y="1631"/>
                  </a:lnTo>
                  <a:lnTo>
                    <a:pt x="1211" y="1622"/>
                  </a:lnTo>
                  <a:lnTo>
                    <a:pt x="1217" y="1622"/>
                  </a:lnTo>
                  <a:lnTo>
                    <a:pt x="1224" y="1622"/>
                  </a:lnTo>
                  <a:lnTo>
                    <a:pt x="1224" y="1613"/>
                  </a:lnTo>
                  <a:lnTo>
                    <a:pt x="1238" y="1613"/>
                  </a:lnTo>
                  <a:lnTo>
                    <a:pt x="1238" y="1595"/>
                  </a:lnTo>
                  <a:lnTo>
                    <a:pt x="1251" y="1595"/>
                  </a:lnTo>
                  <a:lnTo>
                    <a:pt x="1251" y="1586"/>
                  </a:lnTo>
                  <a:lnTo>
                    <a:pt x="1265" y="1586"/>
                  </a:lnTo>
                  <a:lnTo>
                    <a:pt x="1271" y="1586"/>
                  </a:lnTo>
                  <a:lnTo>
                    <a:pt x="1271" y="1577"/>
                  </a:lnTo>
                  <a:lnTo>
                    <a:pt x="1278" y="1577"/>
                  </a:lnTo>
                  <a:lnTo>
                    <a:pt x="1278" y="1568"/>
                  </a:lnTo>
                  <a:lnTo>
                    <a:pt x="1291" y="1568"/>
                  </a:lnTo>
                  <a:lnTo>
                    <a:pt x="1291" y="1558"/>
                  </a:lnTo>
                  <a:lnTo>
                    <a:pt x="1298" y="1558"/>
                  </a:lnTo>
                  <a:lnTo>
                    <a:pt x="1298" y="1549"/>
                  </a:lnTo>
                  <a:lnTo>
                    <a:pt x="1305" y="1549"/>
                  </a:lnTo>
                  <a:lnTo>
                    <a:pt x="1305" y="1540"/>
                  </a:lnTo>
                  <a:lnTo>
                    <a:pt x="1312" y="1540"/>
                  </a:lnTo>
                  <a:lnTo>
                    <a:pt x="1312" y="1531"/>
                  </a:lnTo>
                  <a:lnTo>
                    <a:pt x="1325" y="1531"/>
                  </a:lnTo>
                  <a:lnTo>
                    <a:pt x="1325" y="1513"/>
                  </a:lnTo>
                  <a:lnTo>
                    <a:pt x="1372" y="1513"/>
                  </a:lnTo>
                  <a:lnTo>
                    <a:pt x="1372" y="1494"/>
                  </a:lnTo>
                  <a:lnTo>
                    <a:pt x="1379" y="1494"/>
                  </a:lnTo>
                  <a:lnTo>
                    <a:pt x="1379" y="1485"/>
                  </a:lnTo>
                  <a:lnTo>
                    <a:pt x="1386" y="1485"/>
                  </a:lnTo>
                  <a:lnTo>
                    <a:pt x="1386" y="1457"/>
                  </a:lnTo>
                  <a:lnTo>
                    <a:pt x="1392" y="1457"/>
                  </a:lnTo>
                  <a:lnTo>
                    <a:pt x="1392" y="1448"/>
                  </a:lnTo>
                  <a:lnTo>
                    <a:pt x="1406" y="1448"/>
                  </a:lnTo>
                  <a:lnTo>
                    <a:pt x="1406" y="1438"/>
                  </a:lnTo>
                  <a:lnTo>
                    <a:pt x="1413" y="1438"/>
                  </a:lnTo>
                  <a:lnTo>
                    <a:pt x="1413" y="1429"/>
                  </a:lnTo>
                  <a:lnTo>
                    <a:pt x="1419" y="1429"/>
                  </a:lnTo>
                  <a:lnTo>
                    <a:pt x="1419" y="1401"/>
                  </a:lnTo>
                  <a:lnTo>
                    <a:pt x="1426" y="1401"/>
                  </a:lnTo>
                  <a:lnTo>
                    <a:pt x="1426" y="1392"/>
                  </a:lnTo>
                  <a:lnTo>
                    <a:pt x="1440" y="1392"/>
                  </a:lnTo>
                  <a:lnTo>
                    <a:pt x="1440" y="1373"/>
                  </a:lnTo>
                  <a:lnTo>
                    <a:pt x="1446" y="1373"/>
                  </a:lnTo>
                  <a:lnTo>
                    <a:pt x="1446" y="1363"/>
                  </a:lnTo>
                  <a:lnTo>
                    <a:pt x="1453" y="1363"/>
                  </a:lnTo>
                  <a:lnTo>
                    <a:pt x="1453" y="1354"/>
                  </a:lnTo>
                  <a:lnTo>
                    <a:pt x="1460" y="1354"/>
                  </a:lnTo>
                  <a:lnTo>
                    <a:pt x="1460" y="1344"/>
                  </a:lnTo>
                  <a:lnTo>
                    <a:pt x="1466" y="1344"/>
                  </a:lnTo>
                  <a:lnTo>
                    <a:pt x="1466" y="1335"/>
                  </a:lnTo>
                  <a:lnTo>
                    <a:pt x="1473" y="1335"/>
                  </a:lnTo>
                  <a:lnTo>
                    <a:pt x="1473" y="1326"/>
                  </a:lnTo>
                  <a:lnTo>
                    <a:pt x="1480" y="1326"/>
                  </a:lnTo>
                  <a:lnTo>
                    <a:pt x="1480" y="1316"/>
                  </a:lnTo>
                  <a:lnTo>
                    <a:pt x="1487" y="1316"/>
                  </a:lnTo>
                  <a:lnTo>
                    <a:pt x="1487" y="1297"/>
                  </a:lnTo>
                  <a:lnTo>
                    <a:pt x="1514" y="1297"/>
                  </a:lnTo>
                  <a:lnTo>
                    <a:pt x="1514" y="1288"/>
                  </a:lnTo>
                  <a:lnTo>
                    <a:pt x="1520" y="1288"/>
                  </a:lnTo>
                  <a:lnTo>
                    <a:pt x="1520" y="1278"/>
                  </a:lnTo>
                  <a:lnTo>
                    <a:pt x="1527" y="1278"/>
                  </a:lnTo>
                  <a:lnTo>
                    <a:pt x="1527" y="1269"/>
                  </a:lnTo>
                  <a:lnTo>
                    <a:pt x="1534" y="1269"/>
                  </a:lnTo>
                  <a:lnTo>
                    <a:pt x="1534" y="1259"/>
                  </a:lnTo>
                  <a:lnTo>
                    <a:pt x="1540" y="1259"/>
                  </a:lnTo>
                  <a:lnTo>
                    <a:pt x="1540" y="1250"/>
                  </a:lnTo>
                  <a:lnTo>
                    <a:pt x="1561" y="1250"/>
                  </a:lnTo>
                  <a:lnTo>
                    <a:pt x="1561" y="1240"/>
                  </a:lnTo>
                  <a:lnTo>
                    <a:pt x="1581" y="1240"/>
                  </a:lnTo>
                  <a:lnTo>
                    <a:pt x="1588" y="1240"/>
                  </a:lnTo>
                  <a:lnTo>
                    <a:pt x="1588" y="1230"/>
                  </a:lnTo>
                  <a:lnTo>
                    <a:pt x="1641" y="1230"/>
                  </a:lnTo>
                  <a:lnTo>
                    <a:pt x="1641" y="1221"/>
                  </a:lnTo>
                  <a:lnTo>
                    <a:pt x="1648" y="1221"/>
                  </a:lnTo>
                  <a:lnTo>
                    <a:pt x="1648" y="1211"/>
                  </a:lnTo>
                  <a:lnTo>
                    <a:pt x="1655" y="1211"/>
                  </a:lnTo>
                  <a:lnTo>
                    <a:pt x="1662" y="1211"/>
                  </a:lnTo>
                  <a:lnTo>
                    <a:pt x="1662" y="1202"/>
                  </a:lnTo>
                  <a:lnTo>
                    <a:pt x="1682" y="1202"/>
                  </a:lnTo>
                  <a:lnTo>
                    <a:pt x="1682" y="1182"/>
                  </a:lnTo>
                  <a:lnTo>
                    <a:pt x="1695" y="1182"/>
                  </a:lnTo>
                  <a:lnTo>
                    <a:pt x="1695" y="1172"/>
                  </a:lnTo>
                  <a:lnTo>
                    <a:pt x="1702" y="1172"/>
                  </a:lnTo>
                  <a:lnTo>
                    <a:pt x="1702" y="1163"/>
                  </a:lnTo>
                  <a:lnTo>
                    <a:pt x="1709" y="1163"/>
                  </a:lnTo>
                  <a:lnTo>
                    <a:pt x="1709" y="1153"/>
                  </a:lnTo>
                  <a:lnTo>
                    <a:pt x="1722" y="1153"/>
                  </a:lnTo>
                  <a:lnTo>
                    <a:pt x="1742" y="1153"/>
                  </a:lnTo>
                  <a:lnTo>
                    <a:pt x="1742" y="1133"/>
                  </a:lnTo>
                  <a:lnTo>
                    <a:pt x="1749" y="1133"/>
                  </a:lnTo>
                  <a:lnTo>
                    <a:pt x="1756" y="1133"/>
                  </a:lnTo>
                  <a:lnTo>
                    <a:pt x="1756" y="1123"/>
                  </a:lnTo>
                  <a:lnTo>
                    <a:pt x="1763" y="1123"/>
                  </a:lnTo>
                  <a:lnTo>
                    <a:pt x="1763" y="1114"/>
                  </a:lnTo>
                  <a:lnTo>
                    <a:pt x="1769" y="1114"/>
                  </a:lnTo>
                  <a:lnTo>
                    <a:pt x="1769" y="1104"/>
                  </a:lnTo>
                  <a:lnTo>
                    <a:pt x="1789" y="1104"/>
                  </a:lnTo>
                  <a:lnTo>
                    <a:pt x="1789" y="1094"/>
                  </a:lnTo>
                  <a:lnTo>
                    <a:pt x="1803" y="1094"/>
                  </a:lnTo>
                  <a:lnTo>
                    <a:pt x="1803" y="1064"/>
                  </a:lnTo>
                  <a:lnTo>
                    <a:pt x="1810" y="1064"/>
                  </a:lnTo>
                  <a:lnTo>
                    <a:pt x="1810" y="1054"/>
                  </a:lnTo>
                  <a:lnTo>
                    <a:pt x="1816" y="1054"/>
                  </a:lnTo>
                  <a:lnTo>
                    <a:pt x="1816" y="1034"/>
                  </a:lnTo>
                  <a:lnTo>
                    <a:pt x="1823" y="1034"/>
                  </a:lnTo>
                  <a:lnTo>
                    <a:pt x="1823" y="1024"/>
                  </a:lnTo>
                  <a:lnTo>
                    <a:pt x="1843" y="1024"/>
                  </a:lnTo>
                  <a:lnTo>
                    <a:pt x="1870" y="1024"/>
                  </a:lnTo>
                  <a:lnTo>
                    <a:pt x="1884" y="1024"/>
                  </a:lnTo>
                  <a:lnTo>
                    <a:pt x="1884" y="1014"/>
                  </a:lnTo>
                  <a:lnTo>
                    <a:pt x="1917" y="1014"/>
                  </a:lnTo>
                  <a:lnTo>
                    <a:pt x="1917" y="1004"/>
                  </a:lnTo>
                  <a:lnTo>
                    <a:pt x="1931" y="1004"/>
                  </a:lnTo>
                  <a:lnTo>
                    <a:pt x="1931" y="994"/>
                  </a:lnTo>
                  <a:lnTo>
                    <a:pt x="1937" y="994"/>
                  </a:lnTo>
                  <a:lnTo>
                    <a:pt x="1937" y="984"/>
                  </a:lnTo>
                  <a:lnTo>
                    <a:pt x="1944" y="984"/>
                  </a:lnTo>
                  <a:lnTo>
                    <a:pt x="1944" y="973"/>
                  </a:lnTo>
                  <a:lnTo>
                    <a:pt x="1951" y="973"/>
                  </a:lnTo>
                  <a:lnTo>
                    <a:pt x="1951" y="963"/>
                  </a:lnTo>
                  <a:lnTo>
                    <a:pt x="1964" y="963"/>
                  </a:lnTo>
                  <a:lnTo>
                    <a:pt x="1964" y="953"/>
                  </a:lnTo>
                  <a:lnTo>
                    <a:pt x="1985" y="953"/>
                  </a:lnTo>
                  <a:lnTo>
                    <a:pt x="1985" y="942"/>
                  </a:lnTo>
                  <a:lnTo>
                    <a:pt x="2018" y="942"/>
                  </a:lnTo>
                  <a:lnTo>
                    <a:pt x="2018" y="932"/>
                  </a:lnTo>
                  <a:lnTo>
                    <a:pt x="2032" y="932"/>
                  </a:lnTo>
                  <a:lnTo>
                    <a:pt x="2032" y="912"/>
                  </a:lnTo>
                  <a:lnTo>
                    <a:pt x="2038" y="912"/>
                  </a:lnTo>
                  <a:lnTo>
                    <a:pt x="2038" y="901"/>
                  </a:lnTo>
                  <a:lnTo>
                    <a:pt x="2092" y="901"/>
                  </a:lnTo>
                  <a:lnTo>
                    <a:pt x="2092" y="891"/>
                  </a:lnTo>
                  <a:lnTo>
                    <a:pt x="2106" y="891"/>
                  </a:lnTo>
                  <a:lnTo>
                    <a:pt x="2106" y="881"/>
                  </a:lnTo>
                  <a:lnTo>
                    <a:pt x="2133" y="881"/>
                  </a:lnTo>
                  <a:lnTo>
                    <a:pt x="2133" y="871"/>
                  </a:lnTo>
                  <a:lnTo>
                    <a:pt x="2180" y="871"/>
                  </a:lnTo>
                  <a:lnTo>
                    <a:pt x="2180" y="860"/>
                  </a:lnTo>
                  <a:lnTo>
                    <a:pt x="2200" y="860"/>
                  </a:lnTo>
                  <a:lnTo>
                    <a:pt x="2200" y="850"/>
                  </a:lnTo>
                  <a:lnTo>
                    <a:pt x="2234" y="850"/>
                  </a:lnTo>
                  <a:lnTo>
                    <a:pt x="2234" y="840"/>
                  </a:lnTo>
                  <a:lnTo>
                    <a:pt x="2240" y="840"/>
                  </a:lnTo>
                  <a:lnTo>
                    <a:pt x="2240" y="829"/>
                  </a:lnTo>
                  <a:lnTo>
                    <a:pt x="2247" y="829"/>
                  </a:lnTo>
                  <a:lnTo>
                    <a:pt x="2247" y="809"/>
                  </a:lnTo>
                  <a:lnTo>
                    <a:pt x="2267" y="809"/>
                  </a:lnTo>
                  <a:lnTo>
                    <a:pt x="2281" y="809"/>
                  </a:lnTo>
                  <a:lnTo>
                    <a:pt x="2314" y="809"/>
                  </a:lnTo>
                  <a:lnTo>
                    <a:pt x="2314" y="798"/>
                  </a:lnTo>
                  <a:lnTo>
                    <a:pt x="2334" y="798"/>
                  </a:lnTo>
                  <a:lnTo>
                    <a:pt x="2334" y="777"/>
                  </a:lnTo>
                  <a:lnTo>
                    <a:pt x="2382" y="777"/>
                  </a:lnTo>
                  <a:lnTo>
                    <a:pt x="2382" y="767"/>
                  </a:lnTo>
                  <a:lnTo>
                    <a:pt x="2388" y="767"/>
                  </a:lnTo>
                  <a:lnTo>
                    <a:pt x="2388" y="756"/>
                  </a:lnTo>
                  <a:lnTo>
                    <a:pt x="2395" y="756"/>
                  </a:lnTo>
                  <a:lnTo>
                    <a:pt x="2395" y="746"/>
                  </a:lnTo>
                  <a:lnTo>
                    <a:pt x="2402" y="746"/>
                  </a:lnTo>
                  <a:lnTo>
                    <a:pt x="2402" y="735"/>
                  </a:lnTo>
                  <a:lnTo>
                    <a:pt x="2409" y="735"/>
                  </a:lnTo>
                  <a:lnTo>
                    <a:pt x="2409" y="724"/>
                  </a:lnTo>
                  <a:lnTo>
                    <a:pt x="2456" y="724"/>
                  </a:lnTo>
                  <a:lnTo>
                    <a:pt x="2456" y="713"/>
                  </a:lnTo>
                  <a:lnTo>
                    <a:pt x="2483" y="713"/>
                  </a:lnTo>
                  <a:lnTo>
                    <a:pt x="2483" y="702"/>
                  </a:lnTo>
                  <a:lnTo>
                    <a:pt x="2509" y="702"/>
                  </a:lnTo>
                  <a:lnTo>
                    <a:pt x="2509" y="670"/>
                  </a:lnTo>
                  <a:lnTo>
                    <a:pt x="2550" y="670"/>
                  </a:lnTo>
                  <a:lnTo>
                    <a:pt x="2550" y="649"/>
                  </a:lnTo>
                  <a:lnTo>
                    <a:pt x="2563" y="649"/>
                  </a:lnTo>
                  <a:lnTo>
                    <a:pt x="2563" y="638"/>
                  </a:lnTo>
                  <a:lnTo>
                    <a:pt x="2583" y="638"/>
                  </a:lnTo>
                  <a:lnTo>
                    <a:pt x="2583" y="627"/>
                  </a:lnTo>
                  <a:lnTo>
                    <a:pt x="2590" y="627"/>
                  </a:lnTo>
                  <a:lnTo>
                    <a:pt x="2590" y="616"/>
                  </a:lnTo>
                  <a:lnTo>
                    <a:pt x="2597" y="616"/>
                  </a:lnTo>
                  <a:lnTo>
                    <a:pt x="2597" y="605"/>
                  </a:lnTo>
                  <a:lnTo>
                    <a:pt x="2644" y="605"/>
                  </a:lnTo>
                  <a:lnTo>
                    <a:pt x="2664" y="605"/>
                  </a:lnTo>
                  <a:lnTo>
                    <a:pt x="2664" y="594"/>
                  </a:lnTo>
                  <a:lnTo>
                    <a:pt x="2684" y="594"/>
                  </a:lnTo>
                  <a:lnTo>
                    <a:pt x="2738" y="594"/>
                  </a:lnTo>
                  <a:lnTo>
                    <a:pt x="2738" y="583"/>
                  </a:lnTo>
                  <a:lnTo>
                    <a:pt x="2745" y="583"/>
                  </a:lnTo>
                  <a:lnTo>
                    <a:pt x="2745" y="572"/>
                  </a:lnTo>
                  <a:lnTo>
                    <a:pt x="2785" y="572"/>
                  </a:lnTo>
                  <a:lnTo>
                    <a:pt x="2792" y="572"/>
                  </a:lnTo>
                  <a:lnTo>
                    <a:pt x="2826" y="572"/>
                  </a:lnTo>
                  <a:lnTo>
                    <a:pt x="2826" y="561"/>
                  </a:lnTo>
                  <a:lnTo>
                    <a:pt x="2832" y="561"/>
                  </a:lnTo>
                  <a:lnTo>
                    <a:pt x="2832" y="549"/>
                  </a:lnTo>
                  <a:lnTo>
                    <a:pt x="2839" y="549"/>
                  </a:lnTo>
                  <a:lnTo>
                    <a:pt x="2839" y="538"/>
                  </a:lnTo>
                  <a:lnTo>
                    <a:pt x="2846" y="538"/>
                  </a:lnTo>
                  <a:lnTo>
                    <a:pt x="2846" y="526"/>
                  </a:lnTo>
                  <a:lnTo>
                    <a:pt x="2853" y="526"/>
                  </a:lnTo>
                  <a:lnTo>
                    <a:pt x="2853" y="515"/>
                  </a:lnTo>
                  <a:lnTo>
                    <a:pt x="2880" y="515"/>
                  </a:lnTo>
                  <a:lnTo>
                    <a:pt x="2880" y="503"/>
                  </a:lnTo>
                  <a:lnTo>
                    <a:pt x="2906" y="503"/>
                  </a:lnTo>
                  <a:lnTo>
                    <a:pt x="2906" y="492"/>
                  </a:lnTo>
                  <a:lnTo>
                    <a:pt x="2947" y="492"/>
                  </a:lnTo>
                  <a:lnTo>
                    <a:pt x="2947" y="480"/>
                  </a:lnTo>
                  <a:lnTo>
                    <a:pt x="2974" y="480"/>
                  </a:lnTo>
                  <a:lnTo>
                    <a:pt x="2974" y="469"/>
                  </a:lnTo>
                  <a:lnTo>
                    <a:pt x="3068" y="469"/>
                  </a:lnTo>
                  <a:lnTo>
                    <a:pt x="3068" y="457"/>
                  </a:lnTo>
                  <a:lnTo>
                    <a:pt x="3081" y="457"/>
                  </a:lnTo>
                  <a:lnTo>
                    <a:pt x="3135" y="457"/>
                  </a:lnTo>
                  <a:lnTo>
                    <a:pt x="3135" y="446"/>
                  </a:lnTo>
                  <a:lnTo>
                    <a:pt x="3189" y="446"/>
                  </a:lnTo>
                  <a:lnTo>
                    <a:pt x="3189" y="434"/>
                  </a:lnTo>
                  <a:lnTo>
                    <a:pt x="3256" y="434"/>
                  </a:lnTo>
                  <a:lnTo>
                    <a:pt x="3256" y="422"/>
                  </a:lnTo>
                  <a:lnTo>
                    <a:pt x="3297" y="422"/>
                  </a:lnTo>
                  <a:lnTo>
                    <a:pt x="3297" y="410"/>
                  </a:lnTo>
                  <a:lnTo>
                    <a:pt x="3357" y="410"/>
                  </a:lnTo>
                  <a:lnTo>
                    <a:pt x="3357" y="399"/>
                  </a:lnTo>
                  <a:lnTo>
                    <a:pt x="3378" y="399"/>
                  </a:lnTo>
                  <a:lnTo>
                    <a:pt x="3378" y="375"/>
                  </a:lnTo>
                  <a:lnTo>
                    <a:pt x="3398" y="375"/>
                  </a:lnTo>
                  <a:lnTo>
                    <a:pt x="3398" y="363"/>
                  </a:lnTo>
                  <a:lnTo>
                    <a:pt x="3411" y="363"/>
                  </a:lnTo>
                  <a:lnTo>
                    <a:pt x="3411" y="352"/>
                  </a:lnTo>
                  <a:lnTo>
                    <a:pt x="3438" y="352"/>
                  </a:lnTo>
                  <a:lnTo>
                    <a:pt x="3505" y="352"/>
                  </a:lnTo>
                  <a:lnTo>
                    <a:pt x="3505" y="340"/>
                  </a:lnTo>
                  <a:lnTo>
                    <a:pt x="3519" y="340"/>
                  </a:lnTo>
                  <a:lnTo>
                    <a:pt x="3600" y="340"/>
                  </a:lnTo>
                  <a:lnTo>
                    <a:pt x="3613" y="340"/>
                  </a:lnTo>
                  <a:lnTo>
                    <a:pt x="3613" y="327"/>
                  </a:lnTo>
                  <a:lnTo>
                    <a:pt x="3620" y="327"/>
                  </a:lnTo>
                  <a:lnTo>
                    <a:pt x="3680" y="327"/>
                  </a:lnTo>
                  <a:lnTo>
                    <a:pt x="3714" y="327"/>
                  </a:lnTo>
                  <a:lnTo>
                    <a:pt x="3714" y="313"/>
                  </a:lnTo>
                  <a:lnTo>
                    <a:pt x="3761" y="313"/>
                  </a:lnTo>
                  <a:lnTo>
                    <a:pt x="3761" y="286"/>
                  </a:lnTo>
                  <a:lnTo>
                    <a:pt x="3808" y="286"/>
                  </a:lnTo>
                  <a:lnTo>
                    <a:pt x="3808" y="257"/>
                  </a:lnTo>
                  <a:lnTo>
                    <a:pt x="3835" y="257"/>
                  </a:lnTo>
                  <a:lnTo>
                    <a:pt x="3923" y="257"/>
                  </a:lnTo>
                  <a:lnTo>
                    <a:pt x="3956" y="257"/>
                  </a:lnTo>
                  <a:lnTo>
                    <a:pt x="4084" y="257"/>
                  </a:lnTo>
                  <a:lnTo>
                    <a:pt x="4252" y="257"/>
                  </a:lnTo>
                  <a:lnTo>
                    <a:pt x="4340" y="257"/>
                  </a:lnTo>
                  <a:lnTo>
                    <a:pt x="4340" y="239"/>
                  </a:lnTo>
                  <a:lnTo>
                    <a:pt x="4360" y="239"/>
                  </a:lnTo>
                  <a:lnTo>
                    <a:pt x="4360" y="221"/>
                  </a:lnTo>
                  <a:lnTo>
                    <a:pt x="4407" y="221"/>
                  </a:lnTo>
                  <a:lnTo>
                    <a:pt x="4488" y="221"/>
                  </a:lnTo>
                  <a:lnTo>
                    <a:pt x="4488" y="202"/>
                  </a:lnTo>
                  <a:lnTo>
                    <a:pt x="4508" y="202"/>
                  </a:lnTo>
                  <a:lnTo>
                    <a:pt x="4508" y="183"/>
                  </a:lnTo>
                  <a:lnTo>
                    <a:pt x="4521" y="183"/>
                  </a:lnTo>
                  <a:lnTo>
                    <a:pt x="4521" y="163"/>
                  </a:lnTo>
                  <a:lnTo>
                    <a:pt x="4548" y="163"/>
                  </a:lnTo>
                  <a:lnTo>
                    <a:pt x="4548" y="144"/>
                  </a:lnTo>
                  <a:lnTo>
                    <a:pt x="4717" y="144"/>
                  </a:lnTo>
                  <a:lnTo>
                    <a:pt x="4717" y="125"/>
                  </a:lnTo>
                  <a:lnTo>
                    <a:pt x="4777" y="125"/>
                  </a:lnTo>
                  <a:lnTo>
                    <a:pt x="4777" y="106"/>
                  </a:lnTo>
                  <a:lnTo>
                    <a:pt x="4811" y="106"/>
                  </a:lnTo>
                  <a:lnTo>
                    <a:pt x="4912" y="106"/>
                  </a:lnTo>
                  <a:lnTo>
                    <a:pt x="5033" y="106"/>
                  </a:lnTo>
                  <a:lnTo>
                    <a:pt x="5060" y="106"/>
                  </a:lnTo>
                  <a:lnTo>
                    <a:pt x="5134" y="106"/>
                  </a:lnTo>
                  <a:lnTo>
                    <a:pt x="5167" y="106"/>
                  </a:lnTo>
                  <a:lnTo>
                    <a:pt x="5450" y="106"/>
                  </a:lnTo>
                  <a:lnTo>
                    <a:pt x="5612" y="106"/>
                  </a:lnTo>
                  <a:lnTo>
                    <a:pt x="5847" y="106"/>
                  </a:lnTo>
                  <a:lnTo>
                    <a:pt x="6224" y="106"/>
                  </a:lnTo>
                  <a:lnTo>
                    <a:pt x="6224" y="0"/>
                  </a:lnTo>
                  <a:lnTo>
                    <a:pt x="687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3" name="Freeform 94"/>
            <p:cNvSpPr/>
            <p:nvPr/>
          </p:nvSpPr>
          <p:spPr>
            <a:xfrm flipV="1">
              <a:off x="902880" y="1577520"/>
              <a:ext cx="6990120" cy="3618000"/>
            </a:xfrm>
            <a:custGeom>
              <a:avLst/>
              <a:gdLst/>
              <a:ahLst/>
              <a:rect l="l" t="t" r="r" b="b"/>
              <a:pathLst>
                <a:path w="6614" h="3431">
                  <a:moveTo>
                    <a:pt x="0" y="3431"/>
                  </a:moveTo>
                  <a:lnTo>
                    <a:pt x="6" y="3431"/>
                  </a:lnTo>
                  <a:lnTo>
                    <a:pt x="67" y="3431"/>
                  </a:lnTo>
                  <a:lnTo>
                    <a:pt x="67" y="3423"/>
                  </a:lnTo>
                  <a:lnTo>
                    <a:pt x="74" y="3423"/>
                  </a:lnTo>
                  <a:lnTo>
                    <a:pt x="74" y="3415"/>
                  </a:lnTo>
                  <a:lnTo>
                    <a:pt x="107" y="3415"/>
                  </a:lnTo>
                  <a:lnTo>
                    <a:pt x="107" y="3407"/>
                  </a:lnTo>
                  <a:lnTo>
                    <a:pt x="114" y="3407"/>
                  </a:lnTo>
                  <a:lnTo>
                    <a:pt x="114" y="3399"/>
                  </a:lnTo>
                  <a:lnTo>
                    <a:pt x="121" y="3399"/>
                  </a:lnTo>
                  <a:lnTo>
                    <a:pt x="121" y="3383"/>
                  </a:lnTo>
                  <a:lnTo>
                    <a:pt x="134" y="3383"/>
                  </a:lnTo>
                  <a:lnTo>
                    <a:pt x="134" y="3367"/>
                  </a:lnTo>
                  <a:lnTo>
                    <a:pt x="141" y="3367"/>
                  </a:lnTo>
                  <a:lnTo>
                    <a:pt x="141" y="3359"/>
                  </a:lnTo>
                  <a:lnTo>
                    <a:pt x="148" y="3359"/>
                  </a:lnTo>
                  <a:lnTo>
                    <a:pt x="148" y="3343"/>
                  </a:lnTo>
                  <a:lnTo>
                    <a:pt x="168" y="3343"/>
                  </a:lnTo>
                  <a:lnTo>
                    <a:pt x="168" y="3335"/>
                  </a:lnTo>
                  <a:lnTo>
                    <a:pt x="174" y="3335"/>
                  </a:lnTo>
                  <a:lnTo>
                    <a:pt x="174" y="3327"/>
                  </a:lnTo>
                  <a:lnTo>
                    <a:pt x="195" y="3327"/>
                  </a:lnTo>
                  <a:lnTo>
                    <a:pt x="195" y="3310"/>
                  </a:lnTo>
                  <a:lnTo>
                    <a:pt x="215" y="3310"/>
                  </a:lnTo>
                  <a:lnTo>
                    <a:pt x="215" y="3302"/>
                  </a:lnTo>
                  <a:lnTo>
                    <a:pt x="222" y="3302"/>
                  </a:lnTo>
                  <a:lnTo>
                    <a:pt x="222" y="3286"/>
                  </a:lnTo>
                  <a:lnTo>
                    <a:pt x="228" y="3286"/>
                  </a:lnTo>
                  <a:lnTo>
                    <a:pt x="228" y="3278"/>
                  </a:lnTo>
                  <a:lnTo>
                    <a:pt x="235" y="3278"/>
                  </a:lnTo>
                  <a:lnTo>
                    <a:pt x="235" y="3270"/>
                  </a:lnTo>
                  <a:lnTo>
                    <a:pt x="242" y="3270"/>
                  </a:lnTo>
                  <a:lnTo>
                    <a:pt x="242" y="3254"/>
                  </a:lnTo>
                  <a:lnTo>
                    <a:pt x="248" y="3254"/>
                  </a:lnTo>
                  <a:lnTo>
                    <a:pt x="248" y="3237"/>
                  </a:lnTo>
                  <a:lnTo>
                    <a:pt x="255" y="3237"/>
                  </a:lnTo>
                  <a:lnTo>
                    <a:pt x="255" y="3221"/>
                  </a:lnTo>
                  <a:lnTo>
                    <a:pt x="262" y="3221"/>
                  </a:lnTo>
                  <a:lnTo>
                    <a:pt x="262" y="3196"/>
                  </a:lnTo>
                  <a:lnTo>
                    <a:pt x="269" y="3196"/>
                  </a:lnTo>
                  <a:lnTo>
                    <a:pt x="275" y="3196"/>
                  </a:lnTo>
                  <a:lnTo>
                    <a:pt x="275" y="3147"/>
                  </a:lnTo>
                  <a:lnTo>
                    <a:pt x="282" y="3147"/>
                  </a:lnTo>
                  <a:lnTo>
                    <a:pt x="282" y="3131"/>
                  </a:lnTo>
                  <a:lnTo>
                    <a:pt x="289" y="3131"/>
                  </a:lnTo>
                  <a:lnTo>
                    <a:pt x="289" y="3122"/>
                  </a:lnTo>
                  <a:lnTo>
                    <a:pt x="296" y="3122"/>
                  </a:lnTo>
                  <a:lnTo>
                    <a:pt x="296" y="3106"/>
                  </a:lnTo>
                  <a:lnTo>
                    <a:pt x="302" y="3106"/>
                  </a:lnTo>
                  <a:lnTo>
                    <a:pt x="302" y="3089"/>
                  </a:lnTo>
                  <a:lnTo>
                    <a:pt x="316" y="3089"/>
                  </a:lnTo>
                  <a:lnTo>
                    <a:pt x="316" y="3073"/>
                  </a:lnTo>
                  <a:lnTo>
                    <a:pt x="322" y="3073"/>
                  </a:lnTo>
                  <a:lnTo>
                    <a:pt x="322" y="3056"/>
                  </a:lnTo>
                  <a:lnTo>
                    <a:pt x="329" y="3056"/>
                  </a:lnTo>
                  <a:lnTo>
                    <a:pt x="329" y="3048"/>
                  </a:lnTo>
                  <a:lnTo>
                    <a:pt x="336" y="3048"/>
                  </a:lnTo>
                  <a:lnTo>
                    <a:pt x="336" y="3023"/>
                  </a:lnTo>
                  <a:lnTo>
                    <a:pt x="343" y="3023"/>
                  </a:lnTo>
                  <a:lnTo>
                    <a:pt x="343" y="3015"/>
                  </a:lnTo>
                  <a:lnTo>
                    <a:pt x="349" y="3015"/>
                  </a:lnTo>
                  <a:lnTo>
                    <a:pt x="349" y="3006"/>
                  </a:lnTo>
                  <a:lnTo>
                    <a:pt x="383" y="3006"/>
                  </a:lnTo>
                  <a:lnTo>
                    <a:pt x="383" y="2973"/>
                  </a:lnTo>
                  <a:lnTo>
                    <a:pt x="417" y="2973"/>
                  </a:lnTo>
                  <a:lnTo>
                    <a:pt x="417" y="2965"/>
                  </a:lnTo>
                  <a:lnTo>
                    <a:pt x="450" y="2965"/>
                  </a:lnTo>
                  <a:lnTo>
                    <a:pt x="450" y="2956"/>
                  </a:lnTo>
                  <a:lnTo>
                    <a:pt x="464" y="2956"/>
                  </a:lnTo>
                  <a:lnTo>
                    <a:pt x="464" y="2940"/>
                  </a:lnTo>
                  <a:lnTo>
                    <a:pt x="511" y="2940"/>
                  </a:lnTo>
                  <a:lnTo>
                    <a:pt x="518" y="2940"/>
                  </a:lnTo>
                  <a:lnTo>
                    <a:pt x="518" y="2931"/>
                  </a:lnTo>
                  <a:lnTo>
                    <a:pt x="531" y="2931"/>
                  </a:lnTo>
                  <a:lnTo>
                    <a:pt x="531" y="2923"/>
                  </a:lnTo>
                  <a:lnTo>
                    <a:pt x="538" y="2923"/>
                  </a:lnTo>
                  <a:lnTo>
                    <a:pt x="538" y="2914"/>
                  </a:lnTo>
                  <a:lnTo>
                    <a:pt x="551" y="2914"/>
                  </a:lnTo>
                  <a:lnTo>
                    <a:pt x="551" y="2906"/>
                  </a:lnTo>
                  <a:lnTo>
                    <a:pt x="558" y="2906"/>
                  </a:lnTo>
                  <a:lnTo>
                    <a:pt x="565" y="2906"/>
                  </a:lnTo>
                  <a:lnTo>
                    <a:pt x="565" y="2889"/>
                  </a:lnTo>
                  <a:lnTo>
                    <a:pt x="571" y="2889"/>
                  </a:lnTo>
                  <a:lnTo>
                    <a:pt x="571" y="2872"/>
                  </a:lnTo>
                  <a:lnTo>
                    <a:pt x="578" y="2872"/>
                  </a:lnTo>
                  <a:lnTo>
                    <a:pt x="578" y="2855"/>
                  </a:lnTo>
                  <a:lnTo>
                    <a:pt x="585" y="2855"/>
                  </a:lnTo>
                  <a:lnTo>
                    <a:pt x="585" y="2830"/>
                  </a:lnTo>
                  <a:lnTo>
                    <a:pt x="592" y="2830"/>
                  </a:lnTo>
                  <a:lnTo>
                    <a:pt x="592" y="2821"/>
                  </a:lnTo>
                  <a:lnTo>
                    <a:pt x="598" y="2821"/>
                  </a:lnTo>
                  <a:lnTo>
                    <a:pt x="598" y="2796"/>
                  </a:lnTo>
                  <a:lnTo>
                    <a:pt x="605" y="2796"/>
                  </a:lnTo>
                  <a:lnTo>
                    <a:pt x="605" y="2778"/>
                  </a:lnTo>
                  <a:lnTo>
                    <a:pt x="612" y="2778"/>
                  </a:lnTo>
                  <a:lnTo>
                    <a:pt x="612" y="2753"/>
                  </a:lnTo>
                  <a:lnTo>
                    <a:pt x="619" y="2753"/>
                  </a:lnTo>
                  <a:lnTo>
                    <a:pt x="619" y="2736"/>
                  </a:lnTo>
                  <a:lnTo>
                    <a:pt x="632" y="2736"/>
                  </a:lnTo>
                  <a:lnTo>
                    <a:pt x="639" y="2736"/>
                  </a:lnTo>
                  <a:lnTo>
                    <a:pt x="652" y="2736"/>
                  </a:lnTo>
                  <a:lnTo>
                    <a:pt x="652" y="2718"/>
                  </a:lnTo>
                  <a:lnTo>
                    <a:pt x="659" y="2718"/>
                  </a:lnTo>
                  <a:lnTo>
                    <a:pt x="659" y="2710"/>
                  </a:lnTo>
                  <a:lnTo>
                    <a:pt x="666" y="2710"/>
                  </a:lnTo>
                  <a:lnTo>
                    <a:pt x="666" y="2701"/>
                  </a:lnTo>
                  <a:lnTo>
                    <a:pt x="672" y="2701"/>
                  </a:lnTo>
                  <a:lnTo>
                    <a:pt x="672" y="2692"/>
                  </a:lnTo>
                  <a:lnTo>
                    <a:pt x="679" y="2692"/>
                  </a:lnTo>
                  <a:lnTo>
                    <a:pt x="679" y="2683"/>
                  </a:lnTo>
                  <a:lnTo>
                    <a:pt x="693" y="2683"/>
                  </a:lnTo>
                  <a:lnTo>
                    <a:pt x="693" y="2675"/>
                  </a:lnTo>
                  <a:lnTo>
                    <a:pt x="713" y="2675"/>
                  </a:lnTo>
                  <a:lnTo>
                    <a:pt x="713" y="2666"/>
                  </a:lnTo>
                  <a:lnTo>
                    <a:pt x="726" y="2666"/>
                  </a:lnTo>
                  <a:lnTo>
                    <a:pt x="726" y="2657"/>
                  </a:lnTo>
                  <a:lnTo>
                    <a:pt x="740" y="2657"/>
                  </a:lnTo>
                  <a:lnTo>
                    <a:pt x="740" y="2640"/>
                  </a:lnTo>
                  <a:lnTo>
                    <a:pt x="746" y="2640"/>
                  </a:lnTo>
                  <a:lnTo>
                    <a:pt x="746" y="2623"/>
                  </a:lnTo>
                  <a:lnTo>
                    <a:pt x="753" y="2623"/>
                  </a:lnTo>
                  <a:lnTo>
                    <a:pt x="753" y="2614"/>
                  </a:lnTo>
                  <a:lnTo>
                    <a:pt x="767" y="2614"/>
                  </a:lnTo>
                  <a:lnTo>
                    <a:pt x="767" y="2605"/>
                  </a:lnTo>
                  <a:lnTo>
                    <a:pt x="773" y="2605"/>
                  </a:lnTo>
                  <a:lnTo>
                    <a:pt x="773" y="2597"/>
                  </a:lnTo>
                  <a:lnTo>
                    <a:pt x="787" y="2597"/>
                  </a:lnTo>
                  <a:lnTo>
                    <a:pt x="794" y="2597"/>
                  </a:lnTo>
                  <a:lnTo>
                    <a:pt x="794" y="2588"/>
                  </a:lnTo>
                  <a:lnTo>
                    <a:pt x="800" y="2588"/>
                  </a:lnTo>
                  <a:lnTo>
                    <a:pt x="800" y="2570"/>
                  </a:lnTo>
                  <a:lnTo>
                    <a:pt x="807" y="2570"/>
                  </a:lnTo>
                  <a:lnTo>
                    <a:pt x="807" y="2553"/>
                  </a:lnTo>
                  <a:lnTo>
                    <a:pt x="814" y="2553"/>
                  </a:lnTo>
                  <a:lnTo>
                    <a:pt x="814" y="2526"/>
                  </a:lnTo>
                  <a:lnTo>
                    <a:pt x="820" y="2526"/>
                  </a:lnTo>
                  <a:lnTo>
                    <a:pt x="820" y="2491"/>
                  </a:lnTo>
                  <a:lnTo>
                    <a:pt x="827" y="2491"/>
                  </a:lnTo>
                  <a:lnTo>
                    <a:pt x="827" y="2465"/>
                  </a:lnTo>
                  <a:lnTo>
                    <a:pt x="841" y="2465"/>
                  </a:lnTo>
                  <a:lnTo>
                    <a:pt x="841" y="2420"/>
                  </a:lnTo>
                  <a:lnTo>
                    <a:pt x="847" y="2420"/>
                  </a:lnTo>
                  <a:lnTo>
                    <a:pt x="847" y="2403"/>
                  </a:lnTo>
                  <a:lnTo>
                    <a:pt x="854" y="2403"/>
                  </a:lnTo>
                  <a:lnTo>
                    <a:pt x="854" y="2358"/>
                  </a:lnTo>
                  <a:lnTo>
                    <a:pt x="861" y="2358"/>
                  </a:lnTo>
                  <a:lnTo>
                    <a:pt x="861" y="2305"/>
                  </a:lnTo>
                  <a:lnTo>
                    <a:pt x="874" y="2305"/>
                  </a:lnTo>
                  <a:lnTo>
                    <a:pt x="874" y="2278"/>
                  </a:lnTo>
                  <a:lnTo>
                    <a:pt x="881" y="2278"/>
                  </a:lnTo>
                  <a:lnTo>
                    <a:pt x="881" y="2260"/>
                  </a:lnTo>
                  <a:lnTo>
                    <a:pt x="888" y="2260"/>
                  </a:lnTo>
                  <a:lnTo>
                    <a:pt x="888" y="2242"/>
                  </a:lnTo>
                  <a:lnTo>
                    <a:pt x="894" y="2242"/>
                  </a:lnTo>
                  <a:lnTo>
                    <a:pt x="894" y="2215"/>
                  </a:lnTo>
                  <a:lnTo>
                    <a:pt x="901" y="2215"/>
                  </a:lnTo>
                  <a:lnTo>
                    <a:pt x="901" y="2197"/>
                  </a:lnTo>
                  <a:lnTo>
                    <a:pt x="908" y="2197"/>
                  </a:lnTo>
                  <a:lnTo>
                    <a:pt x="908" y="2170"/>
                  </a:lnTo>
                  <a:lnTo>
                    <a:pt x="915" y="2170"/>
                  </a:lnTo>
                  <a:lnTo>
                    <a:pt x="915" y="2161"/>
                  </a:lnTo>
                  <a:lnTo>
                    <a:pt x="921" y="2161"/>
                  </a:lnTo>
                  <a:lnTo>
                    <a:pt x="921" y="2125"/>
                  </a:lnTo>
                  <a:lnTo>
                    <a:pt x="928" y="2125"/>
                  </a:lnTo>
                  <a:lnTo>
                    <a:pt x="928" y="2098"/>
                  </a:lnTo>
                  <a:lnTo>
                    <a:pt x="935" y="2098"/>
                  </a:lnTo>
                  <a:lnTo>
                    <a:pt x="935" y="2089"/>
                  </a:lnTo>
                  <a:lnTo>
                    <a:pt x="942" y="2089"/>
                  </a:lnTo>
                  <a:lnTo>
                    <a:pt x="942" y="2071"/>
                  </a:lnTo>
                  <a:lnTo>
                    <a:pt x="948" y="2071"/>
                  </a:lnTo>
                  <a:lnTo>
                    <a:pt x="948" y="2052"/>
                  </a:lnTo>
                  <a:lnTo>
                    <a:pt x="955" y="2052"/>
                  </a:lnTo>
                  <a:lnTo>
                    <a:pt x="968" y="2052"/>
                  </a:lnTo>
                  <a:lnTo>
                    <a:pt x="968" y="2043"/>
                  </a:lnTo>
                  <a:lnTo>
                    <a:pt x="995" y="2043"/>
                  </a:lnTo>
                  <a:lnTo>
                    <a:pt x="995" y="2034"/>
                  </a:lnTo>
                  <a:lnTo>
                    <a:pt x="1009" y="2034"/>
                  </a:lnTo>
                  <a:lnTo>
                    <a:pt x="1009" y="2025"/>
                  </a:lnTo>
                  <a:lnTo>
                    <a:pt x="1022" y="2025"/>
                  </a:lnTo>
                  <a:lnTo>
                    <a:pt x="1022" y="2016"/>
                  </a:lnTo>
                  <a:lnTo>
                    <a:pt x="1029" y="2016"/>
                  </a:lnTo>
                  <a:lnTo>
                    <a:pt x="1029" y="2007"/>
                  </a:lnTo>
                  <a:lnTo>
                    <a:pt x="1036" y="2007"/>
                  </a:lnTo>
                  <a:lnTo>
                    <a:pt x="1036" y="1998"/>
                  </a:lnTo>
                  <a:lnTo>
                    <a:pt x="1043" y="1998"/>
                  </a:lnTo>
                  <a:lnTo>
                    <a:pt x="1043" y="1979"/>
                  </a:lnTo>
                  <a:lnTo>
                    <a:pt x="1069" y="1979"/>
                  </a:lnTo>
                  <a:lnTo>
                    <a:pt x="1069" y="1961"/>
                  </a:lnTo>
                  <a:lnTo>
                    <a:pt x="1076" y="1961"/>
                  </a:lnTo>
                  <a:lnTo>
                    <a:pt x="1076" y="1952"/>
                  </a:lnTo>
                  <a:lnTo>
                    <a:pt x="1083" y="1952"/>
                  </a:lnTo>
                  <a:lnTo>
                    <a:pt x="1083" y="1933"/>
                  </a:lnTo>
                  <a:lnTo>
                    <a:pt x="1096" y="1933"/>
                  </a:lnTo>
                  <a:lnTo>
                    <a:pt x="1096" y="1906"/>
                  </a:lnTo>
                  <a:lnTo>
                    <a:pt x="1103" y="1906"/>
                  </a:lnTo>
                  <a:lnTo>
                    <a:pt x="1103" y="1851"/>
                  </a:lnTo>
                  <a:lnTo>
                    <a:pt x="1110" y="1851"/>
                  </a:lnTo>
                  <a:lnTo>
                    <a:pt x="1110" y="1832"/>
                  </a:lnTo>
                  <a:lnTo>
                    <a:pt x="1117" y="1832"/>
                  </a:lnTo>
                  <a:lnTo>
                    <a:pt x="1117" y="1814"/>
                  </a:lnTo>
                  <a:lnTo>
                    <a:pt x="1123" y="1814"/>
                  </a:lnTo>
                  <a:lnTo>
                    <a:pt x="1123" y="1786"/>
                  </a:lnTo>
                  <a:lnTo>
                    <a:pt x="1130" y="1786"/>
                  </a:lnTo>
                  <a:lnTo>
                    <a:pt x="1130" y="1740"/>
                  </a:lnTo>
                  <a:lnTo>
                    <a:pt x="1137" y="1740"/>
                  </a:lnTo>
                  <a:lnTo>
                    <a:pt x="1137" y="1684"/>
                  </a:lnTo>
                  <a:lnTo>
                    <a:pt x="1143" y="1684"/>
                  </a:lnTo>
                  <a:lnTo>
                    <a:pt x="1143" y="1656"/>
                  </a:lnTo>
                  <a:lnTo>
                    <a:pt x="1157" y="1656"/>
                  </a:lnTo>
                  <a:lnTo>
                    <a:pt x="1157" y="1628"/>
                  </a:lnTo>
                  <a:lnTo>
                    <a:pt x="1164" y="1628"/>
                  </a:lnTo>
                  <a:lnTo>
                    <a:pt x="1164" y="1619"/>
                  </a:lnTo>
                  <a:lnTo>
                    <a:pt x="1184" y="1619"/>
                  </a:lnTo>
                  <a:lnTo>
                    <a:pt x="1184" y="1609"/>
                  </a:lnTo>
                  <a:lnTo>
                    <a:pt x="1191" y="1609"/>
                  </a:lnTo>
                  <a:lnTo>
                    <a:pt x="1191" y="1581"/>
                  </a:lnTo>
                  <a:lnTo>
                    <a:pt x="1197" y="1581"/>
                  </a:lnTo>
                  <a:lnTo>
                    <a:pt x="1197" y="1572"/>
                  </a:lnTo>
                  <a:lnTo>
                    <a:pt x="1217" y="1572"/>
                  </a:lnTo>
                  <a:lnTo>
                    <a:pt x="1217" y="1562"/>
                  </a:lnTo>
                  <a:lnTo>
                    <a:pt x="1224" y="1562"/>
                  </a:lnTo>
                  <a:lnTo>
                    <a:pt x="1224" y="1543"/>
                  </a:lnTo>
                  <a:lnTo>
                    <a:pt x="1231" y="1543"/>
                  </a:lnTo>
                  <a:lnTo>
                    <a:pt x="1231" y="1534"/>
                  </a:lnTo>
                  <a:lnTo>
                    <a:pt x="1238" y="1534"/>
                  </a:lnTo>
                  <a:lnTo>
                    <a:pt x="1238" y="1515"/>
                  </a:lnTo>
                  <a:lnTo>
                    <a:pt x="1244" y="1515"/>
                  </a:lnTo>
                  <a:lnTo>
                    <a:pt x="1244" y="1506"/>
                  </a:lnTo>
                  <a:lnTo>
                    <a:pt x="1265" y="1506"/>
                  </a:lnTo>
                  <a:lnTo>
                    <a:pt x="1265" y="1496"/>
                  </a:lnTo>
                  <a:lnTo>
                    <a:pt x="1278" y="1496"/>
                  </a:lnTo>
                  <a:lnTo>
                    <a:pt x="1278" y="1478"/>
                  </a:lnTo>
                  <a:lnTo>
                    <a:pt x="1285" y="1478"/>
                  </a:lnTo>
                  <a:lnTo>
                    <a:pt x="1285" y="1468"/>
                  </a:lnTo>
                  <a:lnTo>
                    <a:pt x="1291" y="1468"/>
                  </a:lnTo>
                  <a:lnTo>
                    <a:pt x="1291" y="1459"/>
                  </a:lnTo>
                  <a:lnTo>
                    <a:pt x="1312" y="1459"/>
                  </a:lnTo>
                  <a:lnTo>
                    <a:pt x="1312" y="1449"/>
                  </a:lnTo>
                  <a:lnTo>
                    <a:pt x="1325" y="1449"/>
                  </a:lnTo>
                  <a:lnTo>
                    <a:pt x="1325" y="1430"/>
                  </a:lnTo>
                  <a:lnTo>
                    <a:pt x="1372" y="1430"/>
                  </a:lnTo>
                  <a:lnTo>
                    <a:pt x="1372" y="1421"/>
                  </a:lnTo>
                  <a:lnTo>
                    <a:pt x="1386" y="1421"/>
                  </a:lnTo>
                  <a:lnTo>
                    <a:pt x="1386" y="1411"/>
                  </a:lnTo>
                  <a:lnTo>
                    <a:pt x="1392" y="1411"/>
                  </a:lnTo>
                  <a:lnTo>
                    <a:pt x="1392" y="1402"/>
                  </a:lnTo>
                  <a:lnTo>
                    <a:pt x="1406" y="1402"/>
                  </a:lnTo>
                  <a:lnTo>
                    <a:pt x="1406" y="1373"/>
                  </a:lnTo>
                  <a:lnTo>
                    <a:pt x="1413" y="1373"/>
                  </a:lnTo>
                  <a:lnTo>
                    <a:pt x="1413" y="1345"/>
                  </a:lnTo>
                  <a:lnTo>
                    <a:pt x="1419" y="1345"/>
                  </a:lnTo>
                  <a:lnTo>
                    <a:pt x="1419" y="1316"/>
                  </a:lnTo>
                  <a:lnTo>
                    <a:pt x="1426" y="1316"/>
                  </a:lnTo>
                  <a:lnTo>
                    <a:pt x="1426" y="1297"/>
                  </a:lnTo>
                  <a:lnTo>
                    <a:pt x="1433" y="1297"/>
                  </a:lnTo>
                  <a:lnTo>
                    <a:pt x="1433" y="1288"/>
                  </a:lnTo>
                  <a:lnTo>
                    <a:pt x="1440" y="1288"/>
                  </a:lnTo>
                  <a:lnTo>
                    <a:pt x="1440" y="1269"/>
                  </a:lnTo>
                  <a:lnTo>
                    <a:pt x="1446" y="1269"/>
                  </a:lnTo>
                  <a:lnTo>
                    <a:pt x="1446" y="1249"/>
                  </a:lnTo>
                  <a:lnTo>
                    <a:pt x="1453" y="1249"/>
                  </a:lnTo>
                  <a:lnTo>
                    <a:pt x="1453" y="1230"/>
                  </a:lnTo>
                  <a:lnTo>
                    <a:pt x="1460" y="1230"/>
                  </a:lnTo>
                  <a:lnTo>
                    <a:pt x="1460" y="1221"/>
                  </a:lnTo>
                  <a:lnTo>
                    <a:pt x="1466" y="1221"/>
                  </a:lnTo>
                  <a:lnTo>
                    <a:pt x="1466" y="1202"/>
                  </a:lnTo>
                  <a:lnTo>
                    <a:pt x="1487" y="1202"/>
                  </a:lnTo>
                  <a:lnTo>
                    <a:pt x="1487" y="1173"/>
                  </a:lnTo>
                  <a:lnTo>
                    <a:pt x="1500" y="1173"/>
                  </a:lnTo>
                  <a:lnTo>
                    <a:pt x="1500" y="1164"/>
                  </a:lnTo>
                  <a:lnTo>
                    <a:pt x="1507" y="1164"/>
                  </a:lnTo>
                  <a:lnTo>
                    <a:pt x="1507" y="1135"/>
                  </a:lnTo>
                  <a:lnTo>
                    <a:pt x="1514" y="1135"/>
                  </a:lnTo>
                  <a:lnTo>
                    <a:pt x="1514" y="1126"/>
                  </a:lnTo>
                  <a:lnTo>
                    <a:pt x="1527" y="1126"/>
                  </a:lnTo>
                  <a:lnTo>
                    <a:pt x="1534" y="1126"/>
                  </a:lnTo>
                  <a:lnTo>
                    <a:pt x="1534" y="1116"/>
                  </a:lnTo>
                  <a:lnTo>
                    <a:pt x="1540" y="1116"/>
                  </a:lnTo>
                  <a:lnTo>
                    <a:pt x="1540" y="1106"/>
                  </a:lnTo>
                  <a:lnTo>
                    <a:pt x="1547" y="1106"/>
                  </a:lnTo>
                  <a:lnTo>
                    <a:pt x="1547" y="1096"/>
                  </a:lnTo>
                  <a:lnTo>
                    <a:pt x="1554" y="1096"/>
                  </a:lnTo>
                  <a:lnTo>
                    <a:pt x="1554" y="1087"/>
                  </a:lnTo>
                  <a:lnTo>
                    <a:pt x="1581" y="1087"/>
                  </a:lnTo>
                  <a:lnTo>
                    <a:pt x="1581" y="1077"/>
                  </a:lnTo>
                  <a:lnTo>
                    <a:pt x="1608" y="1077"/>
                  </a:lnTo>
                  <a:lnTo>
                    <a:pt x="1608" y="1067"/>
                  </a:lnTo>
                  <a:lnTo>
                    <a:pt x="1621" y="1067"/>
                  </a:lnTo>
                  <a:lnTo>
                    <a:pt x="1621" y="1057"/>
                  </a:lnTo>
                  <a:lnTo>
                    <a:pt x="1655" y="1057"/>
                  </a:lnTo>
                  <a:lnTo>
                    <a:pt x="1655" y="1047"/>
                  </a:lnTo>
                  <a:lnTo>
                    <a:pt x="1662" y="1047"/>
                  </a:lnTo>
                  <a:lnTo>
                    <a:pt x="1662" y="1028"/>
                  </a:lnTo>
                  <a:lnTo>
                    <a:pt x="1682" y="1028"/>
                  </a:lnTo>
                  <a:lnTo>
                    <a:pt x="1682" y="1018"/>
                  </a:lnTo>
                  <a:lnTo>
                    <a:pt x="1689" y="1018"/>
                  </a:lnTo>
                  <a:lnTo>
                    <a:pt x="1689" y="1008"/>
                  </a:lnTo>
                  <a:lnTo>
                    <a:pt x="1695" y="1008"/>
                  </a:lnTo>
                  <a:lnTo>
                    <a:pt x="1695" y="998"/>
                  </a:lnTo>
                  <a:lnTo>
                    <a:pt x="1709" y="998"/>
                  </a:lnTo>
                  <a:lnTo>
                    <a:pt x="1709" y="988"/>
                  </a:lnTo>
                  <a:lnTo>
                    <a:pt x="1715" y="988"/>
                  </a:lnTo>
                  <a:lnTo>
                    <a:pt x="1715" y="968"/>
                  </a:lnTo>
                  <a:lnTo>
                    <a:pt x="1742" y="968"/>
                  </a:lnTo>
                  <a:lnTo>
                    <a:pt x="1742" y="918"/>
                  </a:lnTo>
                  <a:lnTo>
                    <a:pt x="1756" y="918"/>
                  </a:lnTo>
                  <a:lnTo>
                    <a:pt x="1756" y="888"/>
                  </a:lnTo>
                  <a:lnTo>
                    <a:pt x="1763" y="888"/>
                  </a:lnTo>
                  <a:lnTo>
                    <a:pt x="1763" y="878"/>
                  </a:lnTo>
                  <a:lnTo>
                    <a:pt x="1796" y="878"/>
                  </a:lnTo>
                  <a:lnTo>
                    <a:pt x="1796" y="858"/>
                  </a:lnTo>
                  <a:lnTo>
                    <a:pt x="1803" y="858"/>
                  </a:lnTo>
                  <a:lnTo>
                    <a:pt x="1803" y="848"/>
                  </a:lnTo>
                  <a:lnTo>
                    <a:pt x="1810" y="848"/>
                  </a:lnTo>
                  <a:lnTo>
                    <a:pt x="1810" y="838"/>
                  </a:lnTo>
                  <a:lnTo>
                    <a:pt x="1823" y="838"/>
                  </a:lnTo>
                  <a:lnTo>
                    <a:pt x="1823" y="828"/>
                  </a:lnTo>
                  <a:lnTo>
                    <a:pt x="1837" y="828"/>
                  </a:lnTo>
                  <a:lnTo>
                    <a:pt x="1837" y="817"/>
                  </a:lnTo>
                  <a:lnTo>
                    <a:pt x="1850" y="817"/>
                  </a:lnTo>
                  <a:lnTo>
                    <a:pt x="1850" y="807"/>
                  </a:lnTo>
                  <a:lnTo>
                    <a:pt x="1870" y="807"/>
                  </a:lnTo>
                  <a:lnTo>
                    <a:pt x="1870" y="797"/>
                  </a:lnTo>
                  <a:lnTo>
                    <a:pt x="1877" y="797"/>
                  </a:lnTo>
                  <a:lnTo>
                    <a:pt x="1877" y="787"/>
                  </a:lnTo>
                  <a:lnTo>
                    <a:pt x="1917" y="787"/>
                  </a:lnTo>
                  <a:lnTo>
                    <a:pt x="1917" y="777"/>
                  </a:lnTo>
                  <a:lnTo>
                    <a:pt x="1924" y="777"/>
                  </a:lnTo>
                  <a:lnTo>
                    <a:pt x="1924" y="767"/>
                  </a:lnTo>
                  <a:lnTo>
                    <a:pt x="1944" y="767"/>
                  </a:lnTo>
                  <a:lnTo>
                    <a:pt x="1944" y="757"/>
                  </a:lnTo>
                  <a:lnTo>
                    <a:pt x="1951" y="757"/>
                  </a:lnTo>
                  <a:lnTo>
                    <a:pt x="1951" y="737"/>
                  </a:lnTo>
                  <a:lnTo>
                    <a:pt x="1971" y="737"/>
                  </a:lnTo>
                  <a:lnTo>
                    <a:pt x="1971" y="727"/>
                  </a:lnTo>
                  <a:lnTo>
                    <a:pt x="1978" y="727"/>
                  </a:lnTo>
                  <a:lnTo>
                    <a:pt x="1978" y="717"/>
                  </a:lnTo>
                  <a:lnTo>
                    <a:pt x="2005" y="717"/>
                  </a:lnTo>
                  <a:lnTo>
                    <a:pt x="2005" y="706"/>
                  </a:lnTo>
                  <a:lnTo>
                    <a:pt x="2018" y="706"/>
                  </a:lnTo>
                  <a:lnTo>
                    <a:pt x="2018" y="696"/>
                  </a:lnTo>
                  <a:lnTo>
                    <a:pt x="2059" y="696"/>
                  </a:lnTo>
                  <a:lnTo>
                    <a:pt x="2059" y="686"/>
                  </a:lnTo>
                  <a:lnTo>
                    <a:pt x="2072" y="686"/>
                  </a:lnTo>
                  <a:lnTo>
                    <a:pt x="2072" y="676"/>
                  </a:lnTo>
                  <a:lnTo>
                    <a:pt x="2086" y="676"/>
                  </a:lnTo>
                  <a:lnTo>
                    <a:pt x="2086" y="666"/>
                  </a:lnTo>
                  <a:lnTo>
                    <a:pt x="2133" y="666"/>
                  </a:lnTo>
                  <a:lnTo>
                    <a:pt x="2133" y="656"/>
                  </a:lnTo>
                  <a:lnTo>
                    <a:pt x="2213" y="656"/>
                  </a:lnTo>
                  <a:lnTo>
                    <a:pt x="2213" y="646"/>
                  </a:lnTo>
                  <a:lnTo>
                    <a:pt x="2247" y="646"/>
                  </a:lnTo>
                  <a:lnTo>
                    <a:pt x="2247" y="636"/>
                  </a:lnTo>
                  <a:lnTo>
                    <a:pt x="2260" y="636"/>
                  </a:lnTo>
                  <a:lnTo>
                    <a:pt x="2260" y="626"/>
                  </a:lnTo>
                  <a:lnTo>
                    <a:pt x="2267" y="626"/>
                  </a:lnTo>
                  <a:lnTo>
                    <a:pt x="2267" y="606"/>
                  </a:lnTo>
                  <a:lnTo>
                    <a:pt x="2274" y="606"/>
                  </a:lnTo>
                  <a:lnTo>
                    <a:pt x="2274" y="585"/>
                  </a:lnTo>
                  <a:lnTo>
                    <a:pt x="2301" y="585"/>
                  </a:lnTo>
                  <a:lnTo>
                    <a:pt x="2301" y="575"/>
                  </a:lnTo>
                  <a:lnTo>
                    <a:pt x="2308" y="575"/>
                  </a:lnTo>
                  <a:lnTo>
                    <a:pt x="2375" y="575"/>
                  </a:lnTo>
                  <a:lnTo>
                    <a:pt x="2375" y="554"/>
                  </a:lnTo>
                  <a:lnTo>
                    <a:pt x="2382" y="554"/>
                  </a:lnTo>
                  <a:lnTo>
                    <a:pt x="2382" y="543"/>
                  </a:lnTo>
                  <a:lnTo>
                    <a:pt x="2388" y="543"/>
                  </a:lnTo>
                  <a:lnTo>
                    <a:pt x="2388" y="533"/>
                  </a:lnTo>
                  <a:lnTo>
                    <a:pt x="2409" y="533"/>
                  </a:lnTo>
                  <a:lnTo>
                    <a:pt x="2409" y="523"/>
                  </a:lnTo>
                  <a:lnTo>
                    <a:pt x="2516" y="523"/>
                  </a:lnTo>
                  <a:lnTo>
                    <a:pt x="2516" y="502"/>
                  </a:lnTo>
                  <a:lnTo>
                    <a:pt x="2530" y="502"/>
                  </a:lnTo>
                  <a:lnTo>
                    <a:pt x="2536" y="502"/>
                  </a:lnTo>
                  <a:lnTo>
                    <a:pt x="2536" y="491"/>
                  </a:lnTo>
                  <a:lnTo>
                    <a:pt x="2563" y="491"/>
                  </a:lnTo>
                  <a:lnTo>
                    <a:pt x="2563" y="480"/>
                  </a:lnTo>
                  <a:lnTo>
                    <a:pt x="2577" y="480"/>
                  </a:lnTo>
                  <a:lnTo>
                    <a:pt x="2577" y="470"/>
                  </a:lnTo>
                  <a:lnTo>
                    <a:pt x="2583" y="470"/>
                  </a:lnTo>
                  <a:lnTo>
                    <a:pt x="2583" y="459"/>
                  </a:lnTo>
                  <a:lnTo>
                    <a:pt x="2590" y="459"/>
                  </a:lnTo>
                  <a:lnTo>
                    <a:pt x="2590" y="438"/>
                  </a:lnTo>
                  <a:lnTo>
                    <a:pt x="2678" y="438"/>
                  </a:lnTo>
                  <a:lnTo>
                    <a:pt x="2678" y="427"/>
                  </a:lnTo>
                  <a:lnTo>
                    <a:pt x="2691" y="427"/>
                  </a:lnTo>
                  <a:lnTo>
                    <a:pt x="2691" y="406"/>
                  </a:lnTo>
                  <a:lnTo>
                    <a:pt x="2846" y="406"/>
                  </a:lnTo>
                  <a:lnTo>
                    <a:pt x="2866" y="406"/>
                  </a:lnTo>
                  <a:lnTo>
                    <a:pt x="2866" y="394"/>
                  </a:lnTo>
                  <a:lnTo>
                    <a:pt x="2947" y="394"/>
                  </a:lnTo>
                  <a:lnTo>
                    <a:pt x="2947" y="383"/>
                  </a:lnTo>
                  <a:lnTo>
                    <a:pt x="3014" y="383"/>
                  </a:lnTo>
                  <a:lnTo>
                    <a:pt x="3021" y="383"/>
                  </a:lnTo>
                  <a:lnTo>
                    <a:pt x="3021" y="371"/>
                  </a:lnTo>
                  <a:lnTo>
                    <a:pt x="3061" y="371"/>
                  </a:lnTo>
                  <a:lnTo>
                    <a:pt x="3061" y="360"/>
                  </a:lnTo>
                  <a:lnTo>
                    <a:pt x="3075" y="360"/>
                  </a:lnTo>
                  <a:lnTo>
                    <a:pt x="3075" y="348"/>
                  </a:lnTo>
                  <a:lnTo>
                    <a:pt x="3081" y="348"/>
                  </a:lnTo>
                  <a:lnTo>
                    <a:pt x="3081" y="337"/>
                  </a:lnTo>
                  <a:lnTo>
                    <a:pt x="3129" y="337"/>
                  </a:lnTo>
                  <a:lnTo>
                    <a:pt x="3169" y="337"/>
                  </a:lnTo>
                  <a:lnTo>
                    <a:pt x="3169" y="313"/>
                  </a:lnTo>
                  <a:lnTo>
                    <a:pt x="3263" y="313"/>
                  </a:lnTo>
                  <a:lnTo>
                    <a:pt x="3263" y="301"/>
                  </a:lnTo>
                  <a:lnTo>
                    <a:pt x="3324" y="301"/>
                  </a:lnTo>
                  <a:lnTo>
                    <a:pt x="3324" y="289"/>
                  </a:lnTo>
                  <a:lnTo>
                    <a:pt x="3344" y="289"/>
                  </a:lnTo>
                  <a:lnTo>
                    <a:pt x="3344" y="277"/>
                  </a:lnTo>
                  <a:lnTo>
                    <a:pt x="3364" y="277"/>
                  </a:lnTo>
                  <a:lnTo>
                    <a:pt x="3364" y="265"/>
                  </a:lnTo>
                  <a:lnTo>
                    <a:pt x="3512" y="265"/>
                  </a:lnTo>
                  <a:lnTo>
                    <a:pt x="3512" y="253"/>
                  </a:lnTo>
                  <a:lnTo>
                    <a:pt x="3606" y="253"/>
                  </a:lnTo>
                  <a:lnTo>
                    <a:pt x="3606" y="241"/>
                  </a:lnTo>
                  <a:lnTo>
                    <a:pt x="3667" y="241"/>
                  </a:lnTo>
                  <a:lnTo>
                    <a:pt x="3667" y="228"/>
                  </a:lnTo>
                  <a:lnTo>
                    <a:pt x="3680" y="228"/>
                  </a:lnTo>
                  <a:lnTo>
                    <a:pt x="3680" y="204"/>
                  </a:lnTo>
                  <a:lnTo>
                    <a:pt x="3721" y="204"/>
                  </a:lnTo>
                  <a:lnTo>
                    <a:pt x="3721" y="192"/>
                  </a:lnTo>
                  <a:lnTo>
                    <a:pt x="3761" y="192"/>
                  </a:lnTo>
                  <a:lnTo>
                    <a:pt x="3761" y="180"/>
                  </a:lnTo>
                  <a:lnTo>
                    <a:pt x="3855" y="180"/>
                  </a:lnTo>
                  <a:lnTo>
                    <a:pt x="3875" y="180"/>
                  </a:lnTo>
                  <a:lnTo>
                    <a:pt x="3875" y="168"/>
                  </a:lnTo>
                  <a:lnTo>
                    <a:pt x="4091" y="168"/>
                  </a:lnTo>
                  <a:lnTo>
                    <a:pt x="4091" y="155"/>
                  </a:lnTo>
                  <a:lnTo>
                    <a:pt x="4259" y="155"/>
                  </a:lnTo>
                  <a:lnTo>
                    <a:pt x="4447" y="155"/>
                  </a:lnTo>
                  <a:lnTo>
                    <a:pt x="4447" y="141"/>
                  </a:lnTo>
                  <a:lnTo>
                    <a:pt x="4582" y="141"/>
                  </a:lnTo>
                  <a:lnTo>
                    <a:pt x="4582" y="127"/>
                  </a:lnTo>
                  <a:lnTo>
                    <a:pt x="4609" y="127"/>
                  </a:lnTo>
                  <a:lnTo>
                    <a:pt x="4730" y="127"/>
                  </a:lnTo>
                  <a:lnTo>
                    <a:pt x="4730" y="111"/>
                  </a:lnTo>
                  <a:lnTo>
                    <a:pt x="4737" y="111"/>
                  </a:lnTo>
                  <a:lnTo>
                    <a:pt x="4737" y="95"/>
                  </a:lnTo>
                  <a:lnTo>
                    <a:pt x="4797" y="95"/>
                  </a:lnTo>
                  <a:lnTo>
                    <a:pt x="4804" y="95"/>
                  </a:lnTo>
                  <a:lnTo>
                    <a:pt x="5551" y="95"/>
                  </a:lnTo>
                  <a:lnTo>
                    <a:pt x="5847" y="95"/>
                  </a:lnTo>
                  <a:lnTo>
                    <a:pt x="5955" y="95"/>
                  </a:lnTo>
                  <a:lnTo>
                    <a:pt x="5955" y="48"/>
                  </a:lnTo>
                  <a:lnTo>
                    <a:pt x="6614" y="48"/>
                  </a:lnTo>
                  <a:lnTo>
                    <a:pt x="6614"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4" name="Rectangle 95"/>
            <p:cNvSpPr/>
            <p:nvPr/>
          </p:nvSpPr>
          <p:spPr>
            <a:xfrm>
              <a:off x="3793320" y="575640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355" name="Rectangle 96"/>
            <p:cNvSpPr/>
            <p:nvPr/>
          </p:nvSpPr>
          <p:spPr>
            <a:xfrm rot="16200000">
              <a:off x="-422280" y="322344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
        <p:nvSpPr>
          <p:cNvPr id="2356" name="PlaceHolder 1"/>
          <p:cNvSpPr>
            <a:spLocks noGrp="1"/>
          </p:cNvSpPr>
          <p:nvPr>
            <p:ph type="title"/>
          </p:nvPr>
        </p:nvSpPr>
        <p:spPr>
          <a:xfrm>
            <a:off x="0" y="22824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PointBreak: PFS from </a:t>
            </a:r>
            <a:br>
              <a:rPr sz="4000"/>
            </a:br>
            <a:r>
              <a:rPr b="0" lang="en-US" sz="4000" spc="-1" strike="noStrike">
                <a:solidFill>
                  <a:srgbClr val="000000"/>
                </a:solidFill>
                <a:latin typeface="Arial"/>
                <a:ea typeface="MS PGothic"/>
              </a:rPr>
              <a:t>Randomization (ITT)</a:t>
            </a:r>
            <a:endParaRPr b="0" lang="en-US" sz="4000" spc="-1" strike="noStrike">
              <a:solidFill>
                <a:srgbClr val="000000"/>
              </a:solidFill>
              <a:latin typeface="Arial"/>
            </a:endParaRPr>
          </a:p>
        </p:txBody>
      </p:sp>
      <p:sp>
        <p:nvSpPr>
          <p:cNvPr id="2357" name="Text Box 15"/>
          <p:cNvSpPr/>
          <p:nvPr/>
        </p:nvSpPr>
        <p:spPr>
          <a:xfrm>
            <a:off x="1828800" y="5987880"/>
            <a:ext cx="6858000" cy="7938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Unicode MS"/>
              </a:rPr>
              <a:t>a</a:t>
            </a:r>
            <a:r>
              <a:rPr b="0" lang="en-US" sz="1200" spc="-1" strike="noStrike">
                <a:solidFill>
                  <a:srgbClr val="000000"/>
                </a:solidFill>
                <a:latin typeface="Arial"/>
                <a:ea typeface="Arial Unicode MS"/>
              </a:rPr>
              <a:t>Exploratory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ensoring rate for Pem + Cb + Bev was 26.9; for Pac + Cb + Bev was 23.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TPD=time to progressive dise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358" name=""/>
          <p:cNvGraphicFramePr/>
          <p:nvPr/>
        </p:nvGraphicFramePr>
        <p:xfrm>
          <a:off x="3822840" y="1913040"/>
          <a:ext cx="4984560" cy="2411280"/>
        </p:xfrm>
        <a:graphic>
          <a:graphicData uri="http://schemas.openxmlformats.org/drawingml/2006/table">
            <a:tbl>
              <a:tblPr/>
              <a:tblGrid>
                <a:gridCol w="2070000"/>
                <a:gridCol w="1495440"/>
                <a:gridCol w="1419120"/>
              </a:tblGrid>
              <a:tr h="2775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txBody>
                  <a:tcPr anchor="t">
                    <a:lnL w="5760">
                      <a:solidFill>
                        <a:srgbClr val="000000"/>
                      </a:solidFill>
                    </a:lnL>
                    <a:lnR>
                      <a:noFill/>
                    </a:lnR>
                    <a:lnT w="13680">
                      <a:solidFill>
                        <a:srgbClr val="000000"/>
                      </a:solidFill>
                    </a:lnT>
                    <a:lnB w="13680">
                      <a:solidFill>
                        <a:srgbClr val="000000"/>
                      </a:solidFill>
                    </a:lnB>
                    <a:noFill/>
                  </a:tcPr>
                </a:tc>
              </a:tr>
              <a:tr h="3193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F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0</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5.6</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27756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3 (0.71, 0.96); </a:t>
                      </a:r>
                      <a:r>
                        <a:rPr b="0" i="1" lang="en-US" sz="1400" spc="-1" strike="noStrike">
                          <a:solidFill>
                            <a:srgbClr val="000000"/>
                          </a:solidFill>
                          <a:latin typeface="Arial"/>
                        </a:rPr>
                        <a:t>P</a:t>
                      </a:r>
                      <a:r>
                        <a:rPr b="0" lang="en-US" sz="1400" spc="-1" strike="noStrike">
                          <a:solidFill>
                            <a:srgbClr val="000000"/>
                          </a:solidFill>
                          <a:latin typeface="Arial"/>
                        </a:rPr>
                        <a:t>=</a:t>
                      </a:r>
                      <a:r>
                        <a:rPr b="0" lang="en-US" sz="1400" spc="-1" strike="noStrike">
                          <a:solidFill>
                            <a:srgbClr val="000000"/>
                          </a:solidFill>
                          <a:latin typeface="Arial"/>
                          <a:ea typeface="Arial Unicode MS"/>
                        </a:rPr>
                        <a:t>0.012</a:t>
                      </a:r>
                      <a:r>
                        <a:rPr b="0" lang="en-US" sz="1400" spc="-1" strike="noStrike">
                          <a:solidFill>
                            <a:srgbClr val="000000"/>
                          </a:solidFill>
                          <a:latin typeface="Arial"/>
                        </a:rPr>
                        <a:t>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TPD, months</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7.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76120">
                <a:tc>
                  <a:txBody>
                    <a:bodyPr lIns="0" rIns="0" tIns="0" bIns="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a:t>
                      </a:r>
                      <a:r>
                        <a:rPr b="0" i="1" lang="en-US" sz="1400" spc="-1" strike="noStrike">
                          <a:solidFill>
                            <a:srgbClr val="000000"/>
                          </a:solidFill>
                          <a:latin typeface="Arial"/>
                          <a:ea typeface="Arial Unicode MS"/>
                        </a:rPr>
                        <a:t>); 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9 (0.67, 0.94); </a:t>
                      </a:r>
                      <a:r>
                        <a:rPr b="0" i="1" lang="en-US" sz="1400" spc="-1" strike="noStrike">
                          <a:solidFill>
                            <a:srgbClr val="000000"/>
                          </a:solidFill>
                          <a:latin typeface="Arial"/>
                          <a:ea typeface="Arial"/>
                        </a:rPr>
                        <a:t>P</a:t>
                      </a:r>
                      <a:r>
                        <a:rPr b="0" lang="en-US" sz="1400" spc="-1" strike="noStrike">
                          <a:solidFill>
                            <a:srgbClr val="000000"/>
                          </a:solidFill>
                          <a:latin typeface="Arial"/>
                          <a:ea typeface="Arial"/>
                        </a:rPr>
                        <a:t>=0.006</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RR, %</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3.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4269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G4 PFS</a:t>
                      </a:r>
                      <a:r>
                        <a:rPr b="0" lang="en-US" sz="1400" spc="-1" strike="noStrike" baseline="30000">
                          <a:solidFill>
                            <a:srgbClr val="000000"/>
                          </a:solidFill>
                          <a:latin typeface="Arial"/>
                          <a:ea typeface="Arial Unicode MS"/>
                        </a:rPr>
                        <a:t>a</a:t>
                      </a:r>
                      <a:r>
                        <a:rPr b="0" lang="en-US" sz="1400" spc="-1" strike="noStrike">
                          <a:solidFill>
                            <a:srgbClr val="000000"/>
                          </a:solidFill>
                          <a:latin typeface="Arial"/>
                          <a:ea typeface="Arial Unicode MS"/>
                        </a:rPr>
                        <a:t> median, months</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4.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7792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0.74 (0.64, 0.86); </a:t>
                      </a:r>
                      <a:r>
                        <a:rPr b="0" i="1" lang="en-US" sz="1400" spc="-1" strike="noStrike">
                          <a:solidFill>
                            <a:srgbClr val="000000"/>
                          </a:solidFill>
                          <a:latin typeface="Arial"/>
                        </a:rPr>
                        <a:t>P</a:t>
                      </a:r>
                      <a:r>
                        <a:rPr b="0" lang="en-US" sz="1400" spc="-1" strike="noStrike">
                          <a:solidFill>
                            <a:srgbClr val="000000"/>
                          </a:solidFill>
                          <a:latin typeface="Arial"/>
                        </a:rPr>
                        <a:t>&lt;0.001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PointBreak: OS From Randomization (ITT)</a:t>
            </a:r>
            <a:endParaRPr b="0" lang="en-US" sz="3600" spc="-1" strike="noStrike">
              <a:solidFill>
                <a:srgbClr val="000000"/>
              </a:solidFill>
              <a:latin typeface="Arial"/>
            </a:endParaRPr>
          </a:p>
        </p:txBody>
      </p:sp>
      <p:graphicFrame>
        <p:nvGraphicFramePr>
          <p:cNvPr id="2360" name=""/>
          <p:cNvGraphicFramePr/>
          <p:nvPr/>
        </p:nvGraphicFramePr>
        <p:xfrm>
          <a:off x="4343400" y="1752480"/>
          <a:ext cx="4687920" cy="1712880"/>
        </p:xfrm>
        <a:graphic>
          <a:graphicData uri="http://schemas.openxmlformats.org/drawingml/2006/table">
            <a:tbl>
              <a:tblPr/>
              <a:tblGrid>
                <a:gridCol w="1741320"/>
                <a:gridCol w="1473480"/>
                <a:gridCol w="1473120"/>
              </a:tblGrid>
              <a:tr h="25740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25704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3.4</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42696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0.86, 1.16); </a:t>
                      </a:r>
                      <a:r>
                        <a:rPr b="0" i="1" lang="en-US" sz="1400" spc="-1" strike="noStrike">
                          <a:solidFill>
                            <a:srgbClr val="000000"/>
                          </a:solidFill>
                          <a:latin typeface="Arial"/>
                          <a:ea typeface="Arial Unicode MS"/>
                        </a:rPr>
                        <a:t>P</a:t>
                      </a:r>
                      <a:r>
                        <a:rPr b="0" lang="en-US" sz="1400" spc="-1" strike="noStrike">
                          <a:solidFill>
                            <a:srgbClr val="000000"/>
                          </a:solidFill>
                          <a:latin typeface="Arial"/>
                          <a:ea typeface="Arial Unicode MS"/>
                        </a:rPr>
                        <a:t>=0.949</a:t>
                      </a:r>
                      <a:r>
                        <a:rPr b="0" lang="en-US" sz="1400" spc="-1" strike="noStrike">
                          <a:solidFill>
                            <a:srgbClr val="000000"/>
                          </a:solidFill>
                          <a:latin typeface="Arial"/>
                        </a:rPr>
                        <a:t>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57400">
                <a:tc gridSpan="3">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urvival rate, % </a:t>
                      </a:r>
                      <a:endParaRPr b="0" lang="en-US" sz="14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5704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year</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5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54.1</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5704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2-year</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24.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21.2</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
        <p:nvSpPr>
          <p:cNvPr id="2361" name="Text Box 15"/>
          <p:cNvSpPr/>
          <p:nvPr/>
        </p:nvSpPr>
        <p:spPr>
          <a:xfrm>
            <a:off x="2133720" y="6387120"/>
            <a:ext cx="6019560" cy="413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Censoring rate for Pem + Cb + Bev was 27.8; for Pac + Cb + Bev was 27.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sp>
        <p:nvSpPr>
          <p:cNvPr id="2362" name="AutoShape 99"/>
          <p:cNvSpPr/>
          <p:nvPr/>
        </p:nvSpPr>
        <p:spPr>
          <a:xfrm>
            <a:off x="87480" y="100080"/>
            <a:ext cx="8969040" cy="66625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3" name="Rectangle 101"/>
          <p:cNvSpPr/>
          <p:nvPr/>
        </p:nvSpPr>
        <p:spPr>
          <a:xfrm>
            <a:off x="87480" y="100080"/>
            <a:ext cx="8969040" cy="66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64" name="Group 134276"/>
          <p:cNvGrpSpPr/>
          <p:nvPr/>
        </p:nvGrpSpPr>
        <p:grpSpPr>
          <a:xfrm>
            <a:off x="281160" y="1770120"/>
            <a:ext cx="8549640" cy="4417560"/>
            <a:chOff x="281160" y="1770120"/>
            <a:chExt cx="8549640" cy="4417560"/>
          </a:xfrm>
        </p:grpSpPr>
        <p:sp>
          <p:nvSpPr>
            <p:cNvPr id="2365" name="Rectangle 102"/>
            <p:cNvSpPr/>
            <p:nvPr/>
          </p:nvSpPr>
          <p:spPr>
            <a:xfrm>
              <a:off x="831960" y="1850760"/>
              <a:ext cx="7924680" cy="364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6" name="Line 103"/>
            <p:cNvSpPr/>
            <p:nvPr/>
          </p:nvSpPr>
          <p:spPr>
            <a:xfrm>
              <a:off x="831960" y="5492880"/>
              <a:ext cx="7924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7" name="Line 104"/>
            <p:cNvSpPr/>
            <p:nvPr/>
          </p:nvSpPr>
          <p:spPr>
            <a:xfrm flipV="1">
              <a:off x="8319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68" name="Line 105"/>
            <p:cNvSpPr/>
            <p:nvPr/>
          </p:nvSpPr>
          <p:spPr>
            <a:xfrm flipV="1">
              <a:off x="14400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69" name="Line 106"/>
            <p:cNvSpPr/>
            <p:nvPr/>
          </p:nvSpPr>
          <p:spPr>
            <a:xfrm flipV="1">
              <a:off x="20494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0" name="Line 107"/>
            <p:cNvSpPr/>
            <p:nvPr/>
          </p:nvSpPr>
          <p:spPr>
            <a:xfrm flipV="1">
              <a:off x="26589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1" name="Line 108"/>
            <p:cNvSpPr/>
            <p:nvPr/>
          </p:nvSpPr>
          <p:spPr>
            <a:xfrm flipV="1">
              <a:off x="32688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2" name="Line 109"/>
            <p:cNvSpPr/>
            <p:nvPr/>
          </p:nvSpPr>
          <p:spPr>
            <a:xfrm flipV="1">
              <a:off x="387972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3" name="Line 110"/>
            <p:cNvSpPr/>
            <p:nvPr/>
          </p:nvSpPr>
          <p:spPr>
            <a:xfrm flipV="1">
              <a:off x="44895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4" name="Line 111"/>
            <p:cNvSpPr/>
            <p:nvPr/>
          </p:nvSpPr>
          <p:spPr>
            <a:xfrm flipV="1">
              <a:off x="50976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5" name="Line 112"/>
            <p:cNvSpPr/>
            <p:nvPr/>
          </p:nvSpPr>
          <p:spPr>
            <a:xfrm flipV="1">
              <a:off x="57070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6" name="Line 113"/>
            <p:cNvSpPr/>
            <p:nvPr/>
          </p:nvSpPr>
          <p:spPr>
            <a:xfrm flipV="1">
              <a:off x="63183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7" name="Line 114"/>
            <p:cNvSpPr/>
            <p:nvPr/>
          </p:nvSpPr>
          <p:spPr>
            <a:xfrm flipV="1">
              <a:off x="692784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8" name="Line 115"/>
            <p:cNvSpPr/>
            <p:nvPr/>
          </p:nvSpPr>
          <p:spPr>
            <a:xfrm flipV="1">
              <a:off x="75376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9" name="Line 116"/>
            <p:cNvSpPr/>
            <p:nvPr/>
          </p:nvSpPr>
          <p:spPr>
            <a:xfrm flipV="1">
              <a:off x="81471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80" name="Line 117"/>
            <p:cNvSpPr/>
            <p:nvPr/>
          </p:nvSpPr>
          <p:spPr>
            <a:xfrm flipV="1">
              <a:off x="875664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81" name="Line 118"/>
            <p:cNvSpPr/>
            <p:nvPr/>
          </p:nvSpPr>
          <p:spPr>
            <a:xfrm flipV="1">
              <a:off x="10350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2" name="Line 119"/>
            <p:cNvSpPr/>
            <p:nvPr/>
          </p:nvSpPr>
          <p:spPr>
            <a:xfrm flipV="1">
              <a:off x="1236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3" name="Line 120"/>
            <p:cNvSpPr/>
            <p:nvPr/>
          </p:nvSpPr>
          <p:spPr>
            <a:xfrm flipV="1">
              <a:off x="16430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4" name="Line 121"/>
            <p:cNvSpPr/>
            <p:nvPr/>
          </p:nvSpPr>
          <p:spPr>
            <a:xfrm flipV="1">
              <a:off x="18464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5" name="Line 122"/>
            <p:cNvSpPr/>
            <p:nvPr/>
          </p:nvSpPr>
          <p:spPr>
            <a:xfrm flipV="1">
              <a:off x="22525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6" name="Line 123"/>
            <p:cNvSpPr/>
            <p:nvPr/>
          </p:nvSpPr>
          <p:spPr>
            <a:xfrm flipV="1">
              <a:off x="24559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7" name="Line 124"/>
            <p:cNvSpPr/>
            <p:nvPr/>
          </p:nvSpPr>
          <p:spPr>
            <a:xfrm flipV="1">
              <a:off x="28623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8" name="Line 125"/>
            <p:cNvSpPr/>
            <p:nvPr/>
          </p:nvSpPr>
          <p:spPr>
            <a:xfrm flipV="1">
              <a:off x="30654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9" name="Line 126"/>
            <p:cNvSpPr/>
            <p:nvPr/>
          </p:nvSpPr>
          <p:spPr>
            <a:xfrm flipV="1">
              <a:off x="34736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0" name="Line 127"/>
            <p:cNvSpPr/>
            <p:nvPr/>
          </p:nvSpPr>
          <p:spPr>
            <a:xfrm flipV="1">
              <a:off x="36766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1" name="Line 128"/>
            <p:cNvSpPr/>
            <p:nvPr/>
          </p:nvSpPr>
          <p:spPr>
            <a:xfrm flipV="1">
              <a:off x="40831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2" name="Line 129"/>
            <p:cNvSpPr/>
            <p:nvPr/>
          </p:nvSpPr>
          <p:spPr>
            <a:xfrm flipV="1">
              <a:off x="42861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3" name="Line 130"/>
            <p:cNvSpPr/>
            <p:nvPr/>
          </p:nvSpPr>
          <p:spPr>
            <a:xfrm flipV="1">
              <a:off x="4692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4" name="Line 131"/>
            <p:cNvSpPr/>
            <p:nvPr/>
          </p:nvSpPr>
          <p:spPr>
            <a:xfrm flipV="1">
              <a:off x="48960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5" name="Line 132"/>
            <p:cNvSpPr/>
            <p:nvPr/>
          </p:nvSpPr>
          <p:spPr>
            <a:xfrm flipV="1">
              <a:off x="53006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6" name="Line 133"/>
            <p:cNvSpPr/>
            <p:nvPr/>
          </p:nvSpPr>
          <p:spPr>
            <a:xfrm flipV="1">
              <a:off x="55040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7" name="Line 134"/>
            <p:cNvSpPr/>
            <p:nvPr/>
          </p:nvSpPr>
          <p:spPr>
            <a:xfrm flipV="1">
              <a:off x="59104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8" name="Line 135"/>
            <p:cNvSpPr/>
            <p:nvPr/>
          </p:nvSpPr>
          <p:spPr>
            <a:xfrm flipV="1">
              <a:off x="61149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9" name="Line 136"/>
            <p:cNvSpPr/>
            <p:nvPr/>
          </p:nvSpPr>
          <p:spPr>
            <a:xfrm flipV="1">
              <a:off x="65214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0" name="Line 137"/>
            <p:cNvSpPr/>
            <p:nvPr/>
          </p:nvSpPr>
          <p:spPr>
            <a:xfrm flipV="1">
              <a:off x="67248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1" name="Line 138"/>
            <p:cNvSpPr/>
            <p:nvPr/>
          </p:nvSpPr>
          <p:spPr>
            <a:xfrm flipV="1">
              <a:off x="71312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2" name="Line 139"/>
            <p:cNvSpPr/>
            <p:nvPr/>
          </p:nvSpPr>
          <p:spPr>
            <a:xfrm flipV="1">
              <a:off x="73342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3" name="Line 140"/>
            <p:cNvSpPr/>
            <p:nvPr/>
          </p:nvSpPr>
          <p:spPr>
            <a:xfrm flipV="1">
              <a:off x="77407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4" name="Line 141"/>
            <p:cNvSpPr/>
            <p:nvPr/>
          </p:nvSpPr>
          <p:spPr>
            <a:xfrm flipV="1">
              <a:off x="79437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5" name="Line 142"/>
            <p:cNvSpPr/>
            <p:nvPr/>
          </p:nvSpPr>
          <p:spPr>
            <a:xfrm flipV="1">
              <a:off x="83502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6" name="Line 143"/>
            <p:cNvSpPr/>
            <p:nvPr/>
          </p:nvSpPr>
          <p:spPr>
            <a:xfrm flipV="1">
              <a:off x="8553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7" name="Rectangle 144"/>
            <p:cNvSpPr/>
            <p:nvPr/>
          </p:nvSpPr>
          <p:spPr>
            <a:xfrm>
              <a:off x="79020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408" name="Rectangle 145"/>
            <p:cNvSpPr/>
            <p:nvPr/>
          </p:nvSpPr>
          <p:spPr>
            <a:xfrm>
              <a:off x="139968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2409" name="Rectangle 146"/>
            <p:cNvSpPr/>
            <p:nvPr/>
          </p:nvSpPr>
          <p:spPr>
            <a:xfrm>
              <a:off x="200952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2410" name="Rectangle 147"/>
            <p:cNvSpPr/>
            <p:nvPr/>
          </p:nvSpPr>
          <p:spPr>
            <a:xfrm>
              <a:off x="261756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2411" name="Rectangle 148"/>
            <p:cNvSpPr/>
            <p:nvPr/>
          </p:nvSpPr>
          <p:spPr>
            <a:xfrm>
              <a:off x="31863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000000"/>
                </a:solidFill>
                <a:latin typeface="Arial"/>
              </a:endParaRPr>
            </a:p>
          </p:txBody>
        </p:sp>
        <p:sp>
          <p:nvSpPr>
            <p:cNvPr id="2412" name="Rectangle 149"/>
            <p:cNvSpPr/>
            <p:nvPr/>
          </p:nvSpPr>
          <p:spPr>
            <a:xfrm>
              <a:off x="379764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Arial"/>
              </a:endParaRPr>
            </a:p>
          </p:txBody>
        </p:sp>
        <p:sp>
          <p:nvSpPr>
            <p:cNvPr id="2413" name="Rectangle 150"/>
            <p:cNvSpPr/>
            <p:nvPr/>
          </p:nvSpPr>
          <p:spPr>
            <a:xfrm>
              <a:off x="44056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a:t>
              </a:r>
              <a:endParaRPr b="0" lang="en-US" sz="1100" spc="-1" strike="noStrike">
                <a:solidFill>
                  <a:srgbClr val="000000"/>
                </a:solidFill>
                <a:latin typeface="Arial"/>
              </a:endParaRPr>
            </a:p>
          </p:txBody>
        </p:sp>
        <p:sp>
          <p:nvSpPr>
            <p:cNvPr id="2414" name="Rectangle 151"/>
            <p:cNvSpPr/>
            <p:nvPr/>
          </p:nvSpPr>
          <p:spPr>
            <a:xfrm>
              <a:off x="50151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a:t>
              </a:r>
              <a:endParaRPr b="0" lang="en-US" sz="1100" spc="-1" strike="noStrike">
                <a:solidFill>
                  <a:srgbClr val="000000"/>
                </a:solidFill>
                <a:latin typeface="Arial"/>
              </a:endParaRPr>
            </a:p>
          </p:txBody>
        </p:sp>
        <p:sp>
          <p:nvSpPr>
            <p:cNvPr id="2415" name="Rectangle 152"/>
            <p:cNvSpPr/>
            <p:nvPr/>
          </p:nvSpPr>
          <p:spPr>
            <a:xfrm>
              <a:off x="562500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a:t>
              </a:r>
              <a:endParaRPr b="0" lang="en-US" sz="1100" spc="-1" strike="noStrike">
                <a:solidFill>
                  <a:srgbClr val="000000"/>
                </a:solidFill>
                <a:latin typeface="Arial"/>
              </a:endParaRPr>
            </a:p>
          </p:txBody>
        </p:sp>
        <p:sp>
          <p:nvSpPr>
            <p:cNvPr id="2416" name="Rectangle 153"/>
            <p:cNvSpPr/>
            <p:nvPr/>
          </p:nvSpPr>
          <p:spPr>
            <a:xfrm>
              <a:off x="62362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7</a:t>
              </a:r>
              <a:endParaRPr b="0" lang="en-US" sz="1100" spc="-1" strike="noStrike">
                <a:solidFill>
                  <a:srgbClr val="000000"/>
                </a:solidFill>
                <a:latin typeface="Arial"/>
              </a:endParaRPr>
            </a:p>
          </p:txBody>
        </p:sp>
        <p:sp>
          <p:nvSpPr>
            <p:cNvPr id="2417" name="Rectangle 154"/>
            <p:cNvSpPr/>
            <p:nvPr/>
          </p:nvSpPr>
          <p:spPr>
            <a:xfrm>
              <a:off x="68457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418" name="Rectangle 155"/>
            <p:cNvSpPr/>
            <p:nvPr/>
          </p:nvSpPr>
          <p:spPr>
            <a:xfrm>
              <a:off x="745524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a:t>
              </a:r>
              <a:endParaRPr b="0" lang="en-US" sz="1100" spc="-1" strike="noStrike">
                <a:solidFill>
                  <a:srgbClr val="000000"/>
                </a:solidFill>
                <a:latin typeface="Arial"/>
              </a:endParaRPr>
            </a:p>
          </p:txBody>
        </p:sp>
        <p:sp>
          <p:nvSpPr>
            <p:cNvPr id="2419" name="Rectangle 156"/>
            <p:cNvSpPr/>
            <p:nvPr/>
          </p:nvSpPr>
          <p:spPr>
            <a:xfrm>
              <a:off x="80632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6</a:t>
              </a:r>
              <a:endParaRPr b="0" lang="en-US" sz="1100" spc="-1" strike="noStrike">
                <a:solidFill>
                  <a:srgbClr val="000000"/>
                </a:solidFill>
                <a:latin typeface="Arial"/>
              </a:endParaRPr>
            </a:p>
          </p:txBody>
        </p:sp>
        <p:sp>
          <p:nvSpPr>
            <p:cNvPr id="2420" name="Rectangle 157"/>
            <p:cNvSpPr/>
            <p:nvPr/>
          </p:nvSpPr>
          <p:spPr>
            <a:xfrm>
              <a:off x="86745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9</a:t>
              </a:r>
              <a:endParaRPr b="0" lang="en-US" sz="1100" spc="-1" strike="noStrike">
                <a:solidFill>
                  <a:srgbClr val="000000"/>
                </a:solidFill>
                <a:latin typeface="Arial"/>
              </a:endParaRPr>
            </a:p>
          </p:txBody>
        </p:sp>
        <p:sp>
          <p:nvSpPr>
            <p:cNvPr id="2421" name="Line 158"/>
            <p:cNvSpPr/>
            <p:nvPr/>
          </p:nvSpPr>
          <p:spPr>
            <a:xfrm flipV="1">
              <a:off x="831960" y="1850400"/>
              <a:ext cx="0" cy="364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2" name="Line 159"/>
            <p:cNvSpPr/>
            <p:nvPr/>
          </p:nvSpPr>
          <p:spPr>
            <a:xfrm>
              <a:off x="777960" y="54216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3" name="Line 160"/>
            <p:cNvSpPr/>
            <p:nvPr/>
          </p:nvSpPr>
          <p:spPr>
            <a:xfrm>
              <a:off x="777960" y="50644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4" name="Line 161"/>
            <p:cNvSpPr/>
            <p:nvPr/>
          </p:nvSpPr>
          <p:spPr>
            <a:xfrm>
              <a:off x="777960" y="47070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5" name="Line 162"/>
            <p:cNvSpPr/>
            <p:nvPr/>
          </p:nvSpPr>
          <p:spPr>
            <a:xfrm>
              <a:off x="777960" y="4349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6" name="Line 163"/>
            <p:cNvSpPr/>
            <p:nvPr/>
          </p:nvSpPr>
          <p:spPr>
            <a:xfrm>
              <a:off x="777960" y="39927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7" name="Line 164"/>
            <p:cNvSpPr/>
            <p:nvPr/>
          </p:nvSpPr>
          <p:spPr>
            <a:xfrm>
              <a:off x="777960" y="36352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8" name="Line 165"/>
            <p:cNvSpPr/>
            <p:nvPr/>
          </p:nvSpPr>
          <p:spPr>
            <a:xfrm>
              <a:off x="777960" y="3278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9" name="Line 166"/>
            <p:cNvSpPr/>
            <p:nvPr/>
          </p:nvSpPr>
          <p:spPr>
            <a:xfrm>
              <a:off x="777960" y="29210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0" name="Line 167"/>
            <p:cNvSpPr/>
            <p:nvPr/>
          </p:nvSpPr>
          <p:spPr>
            <a:xfrm>
              <a:off x="777960" y="25653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1" name="Line 168"/>
            <p:cNvSpPr/>
            <p:nvPr/>
          </p:nvSpPr>
          <p:spPr>
            <a:xfrm>
              <a:off x="777960" y="22082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2" name="Line 169"/>
            <p:cNvSpPr/>
            <p:nvPr/>
          </p:nvSpPr>
          <p:spPr>
            <a:xfrm>
              <a:off x="777960" y="18507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3" name="Line 170"/>
            <p:cNvSpPr/>
            <p:nvPr/>
          </p:nvSpPr>
          <p:spPr>
            <a:xfrm>
              <a:off x="798480" y="52423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4" name="Line 171"/>
            <p:cNvSpPr/>
            <p:nvPr/>
          </p:nvSpPr>
          <p:spPr>
            <a:xfrm>
              <a:off x="798480" y="488484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5" name="Line 172"/>
            <p:cNvSpPr/>
            <p:nvPr/>
          </p:nvSpPr>
          <p:spPr>
            <a:xfrm>
              <a:off x="798480" y="45277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6" name="Line 173"/>
            <p:cNvSpPr/>
            <p:nvPr/>
          </p:nvSpPr>
          <p:spPr>
            <a:xfrm>
              <a:off x="798480" y="417204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7" name="Line 174"/>
            <p:cNvSpPr/>
            <p:nvPr/>
          </p:nvSpPr>
          <p:spPr>
            <a:xfrm>
              <a:off x="798480" y="38149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8" name="Line 175"/>
            <p:cNvSpPr/>
            <p:nvPr/>
          </p:nvSpPr>
          <p:spPr>
            <a:xfrm>
              <a:off x="798480" y="34578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9" name="Line 176"/>
            <p:cNvSpPr/>
            <p:nvPr/>
          </p:nvSpPr>
          <p:spPr>
            <a:xfrm>
              <a:off x="798480" y="30988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0" name="Line 177"/>
            <p:cNvSpPr/>
            <p:nvPr/>
          </p:nvSpPr>
          <p:spPr>
            <a:xfrm>
              <a:off x="798480" y="27432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1" name="Line 178"/>
            <p:cNvSpPr/>
            <p:nvPr/>
          </p:nvSpPr>
          <p:spPr>
            <a:xfrm>
              <a:off x="798480" y="23860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2" name="Line 179"/>
            <p:cNvSpPr/>
            <p:nvPr/>
          </p:nvSpPr>
          <p:spPr>
            <a:xfrm>
              <a:off x="798480" y="20286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3" name="Rectangle 180"/>
            <p:cNvSpPr/>
            <p:nvPr/>
          </p:nvSpPr>
          <p:spPr>
            <a:xfrm>
              <a:off x="496440" y="53406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0</a:t>
              </a:r>
              <a:endParaRPr b="0" lang="en-US" sz="1100" spc="-1" strike="noStrike">
                <a:solidFill>
                  <a:srgbClr val="000000"/>
                </a:solidFill>
                <a:latin typeface="Arial"/>
              </a:endParaRPr>
            </a:p>
          </p:txBody>
        </p:sp>
        <p:sp>
          <p:nvSpPr>
            <p:cNvPr id="2444" name="Rectangle 181"/>
            <p:cNvSpPr/>
            <p:nvPr/>
          </p:nvSpPr>
          <p:spPr>
            <a:xfrm>
              <a:off x="496440" y="4983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1</a:t>
              </a:r>
              <a:endParaRPr b="0" lang="en-US" sz="1100" spc="-1" strike="noStrike">
                <a:solidFill>
                  <a:srgbClr val="000000"/>
                </a:solidFill>
                <a:latin typeface="Arial"/>
              </a:endParaRPr>
            </a:p>
          </p:txBody>
        </p:sp>
        <p:sp>
          <p:nvSpPr>
            <p:cNvPr id="2445" name="Rectangle 182"/>
            <p:cNvSpPr/>
            <p:nvPr/>
          </p:nvSpPr>
          <p:spPr>
            <a:xfrm>
              <a:off x="496440" y="46260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2</a:t>
              </a:r>
              <a:endParaRPr b="0" lang="en-US" sz="1100" spc="-1" strike="noStrike">
                <a:solidFill>
                  <a:srgbClr val="000000"/>
                </a:solidFill>
                <a:latin typeface="Arial"/>
              </a:endParaRPr>
            </a:p>
          </p:txBody>
        </p:sp>
        <p:sp>
          <p:nvSpPr>
            <p:cNvPr id="2446" name="Rectangle 183"/>
            <p:cNvSpPr/>
            <p:nvPr/>
          </p:nvSpPr>
          <p:spPr>
            <a:xfrm>
              <a:off x="496440" y="42688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3</a:t>
              </a:r>
              <a:endParaRPr b="0" lang="en-US" sz="1100" spc="-1" strike="noStrike">
                <a:solidFill>
                  <a:srgbClr val="000000"/>
                </a:solidFill>
                <a:latin typeface="Arial"/>
              </a:endParaRPr>
            </a:p>
          </p:txBody>
        </p:sp>
        <p:sp>
          <p:nvSpPr>
            <p:cNvPr id="2447" name="Rectangle 184"/>
            <p:cNvSpPr/>
            <p:nvPr/>
          </p:nvSpPr>
          <p:spPr>
            <a:xfrm>
              <a:off x="496440" y="39117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4</a:t>
              </a:r>
              <a:endParaRPr b="0" lang="en-US" sz="1100" spc="-1" strike="noStrike">
                <a:solidFill>
                  <a:srgbClr val="000000"/>
                </a:solidFill>
                <a:latin typeface="Arial"/>
              </a:endParaRPr>
            </a:p>
          </p:txBody>
        </p:sp>
        <p:sp>
          <p:nvSpPr>
            <p:cNvPr id="2448" name="Rectangle 185"/>
            <p:cNvSpPr/>
            <p:nvPr/>
          </p:nvSpPr>
          <p:spPr>
            <a:xfrm>
              <a:off x="496440" y="35546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Arial"/>
              </a:endParaRPr>
            </a:p>
          </p:txBody>
        </p:sp>
        <p:sp>
          <p:nvSpPr>
            <p:cNvPr id="2449" name="Rectangle 186"/>
            <p:cNvSpPr/>
            <p:nvPr/>
          </p:nvSpPr>
          <p:spPr>
            <a:xfrm>
              <a:off x="496440" y="31989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a:t>
              </a:r>
              <a:endParaRPr b="0" lang="en-US" sz="1100" spc="-1" strike="noStrike">
                <a:solidFill>
                  <a:srgbClr val="000000"/>
                </a:solidFill>
                <a:latin typeface="Arial"/>
              </a:endParaRPr>
            </a:p>
          </p:txBody>
        </p:sp>
        <p:sp>
          <p:nvSpPr>
            <p:cNvPr id="2450" name="Rectangle 187"/>
            <p:cNvSpPr/>
            <p:nvPr/>
          </p:nvSpPr>
          <p:spPr>
            <a:xfrm>
              <a:off x="496440" y="2841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7</a:t>
              </a:r>
              <a:endParaRPr b="0" lang="en-US" sz="1100" spc="-1" strike="noStrike">
                <a:solidFill>
                  <a:srgbClr val="000000"/>
                </a:solidFill>
                <a:latin typeface="Arial"/>
              </a:endParaRPr>
            </a:p>
          </p:txBody>
        </p:sp>
        <p:sp>
          <p:nvSpPr>
            <p:cNvPr id="2451" name="Rectangle 188"/>
            <p:cNvSpPr/>
            <p:nvPr/>
          </p:nvSpPr>
          <p:spPr>
            <a:xfrm>
              <a:off x="496440" y="24843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8</a:t>
              </a:r>
              <a:endParaRPr b="0" lang="en-US" sz="1100" spc="-1" strike="noStrike">
                <a:solidFill>
                  <a:srgbClr val="000000"/>
                </a:solidFill>
                <a:latin typeface="Arial"/>
              </a:endParaRPr>
            </a:p>
          </p:txBody>
        </p:sp>
        <p:sp>
          <p:nvSpPr>
            <p:cNvPr id="2452" name="Rectangle 189"/>
            <p:cNvSpPr/>
            <p:nvPr/>
          </p:nvSpPr>
          <p:spPr>
            <a:xfrm>
              <a:off x="496440" y="21272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a:t>
              </a:r>
              <a:endParaRPr b="0" lang="en-US" sz="1100" spc="-1" strike="noStrike">
                <a:solidFill>
                  <a:srgbClr val="000000"/>
                </a:solidFill>
                <a:latin typeface="Arial"/>
              </a:endParaRPr>
            </a:p>
          </p:txBody>
        </p:sp>
        <p:sp>
          <p:nvSpPr>
            <p:cNvPr id="2453" name="Rectangle 190"/>
            <p:cNvSpPr/>
            <p:nvPr/>
          </p:nvSpPr>
          <p:spPr>
            <a:xfrm>
              <a:off x="496440" y="17701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454" name="Freeform 191"/>
            <p:cNvSpPr/>
            <p:nvPr/>
          </p:nvSpPr>
          <p:spPr>
            <a:xfrm flipV="1">
              <a:off x="831960" y="1849680"/>
              <a:ext cx="7529400" cy="3195720"/>
            </a:xfrm>
            <a:custGeom>
              <a:avLst/>
              <a:gdLst/>
              <a:ahLst/>
              <a:rect l="l" t="t" r="r" b="b"/>
              <a:pathLst>
                <a:path w="7006" h="3072">
                  <a:moveTo>
                    <a:pt x="0" y="3072"/>
                  </a:moveTo>
                  <a:lnTo>
                    <a:pt x="6" y="3072"/>
                  </a:lnTo>
                  <a:lnTo>
                    <a:pt x="24" y="3072"/>
                  </a:lnTo>
                  <a:lnTo>
                    <a:pt x="43" y="3072"/>
                  </a:lnTo>
                  <a:lnTo>
                    <a:pt x="55" y="3072"/>
                  </a:lnTo>
                  <a:lnTo>
                    <a:pt x="55" y="3065"/>
                  </a:lnTo>
                  <a:lnTo>
                    <a:pt x="62" y="3065"/>
                  </a:lnTo>
                  <a:lnTo>
                    <a:pt x="62" y="3058"/>
                  </a:lnTo>
                  <a:lnTo>
                    <a:pt x="68" y="3058"/>
                  </a:lnTo>
                  <a:lnTo>
                    <a:pt x="68" y="3051"/>
                  </a:lnTo>
                  <a:lnTo>
                    <a:pt x="86" y="3051"/>
                  </a:lnTo>
                  <a:lnTo>
                    <a:pt x="86" y="3043"/>
                  </a:lnTo>
                  <a:lnTo>
                    <a:pt x="99" y="3043"/>
                  </a:lnTo>
                  <a:lnTo>
                    <a:pt x="99" y="3036"/>
                  </a:lnTo>
                  <a:lnTo>
                    <a:pt x="105" y="3036"/>
                  </a:lnTo>
                  <a:lnTo>
                    <a:pt x="105" y="3029"/>
                  </a:lnTo>
                  <a:lnTo>
                    <a:pt x="118" y="3029"/>
                  </a:lnTo>
                  <a:lnTo>
                    <a:pt x="118" y="3021"/>
                  </a:lnTo>
                  <a:lnTo>
                    <a:pt x="130" y="3021"/>
                  </a:lnTo>
                  <a:lnTo>
                    <a:pt x="130" y="3014"/>
                  </a:lnTo>
                  <a:lnTo>
                    <a:pt x="142" y="3014"/>
                  </a:lnTo>
                  <a:lnTo>
                    <a:pt x="142" y="3007"/>
                  </a:lnTo>
                  <a:lnTo>
                    <a:pt x="149" y="3007"/>
                  </a:lnTo>
                  <a:lnTo>
                    <a:pt x="149" y="2999"/>
                  </a:lnTo>
                  <a:lnTo>
                    <a:pt x="161" y="2999"/>
                  </a:lnTo>
                  <a:lnTo>
                    <a:pt x="161" y="2992"/>
                  </a:lnTo>
                  <a:lnTo>
                    <a:pt x="167" y="2992"/>
                  </a:lnTo>
                  <a:lnTo>
                    <a:pt x="167" y="2985"/>
                  </a:lnTo>
                  <a:lnTo>
                    <a:pt x="173" y="2985"/>
                  </a:lnTo>
                  <a:lnTo>
                    <a:pt x="173" y="2970"/>
                  </a:lnTo>
                  <a:lnTo>
                    <a:pt x="180" y="2970"/>
                  </a:lnTo>
                  <a:lnTo>
                    <a:pt x="180" y="2963"/>
                  </a:lnTo>
                  <a:lnTo>
                    <a:pt x="186" y="2963"/>
                  </a:lnTo>
                  <a:lnTo>
                    <a:pt x="186" y="2955"/>
                  </a:lnTo>
                  <a:lnTo>
                    <a:pt x="198" y="2955"/>
                  </a:lnTo>
                  <a:lnTo>
                    <a:pt x="198" y="2948"/>
                  </a:lnTo>
                  <a:lnTo>
                    <a:pt x="211" y="2948"/>
                  </a:lnTo>
                  <a:lnTo>
                    <a:pt x="211" y="2941"/>
                  </a:lnTo>
                  <a:lnTo>
                    <a:pt x="223" y="2941"/>
                  </a:lnTo>
                  <a:lnTo>
                    <a:pt x="223" y="2926"/>
                  </a:lnTo>
                  <a:lnTo>
                    <a:pt x="229" y="2926"/>
                  </a:lnTo>
                  <a:lnTo>
                    <a:pt x="229" y="2919"/>
                  </a:lnTo>
                  <a:lnTo>
                    <a:pt x="254" y="2919"/>
                  </a:lnTo>
                  <a:lnTo>
                    <a:pt x="254" y="2911"/>
                  </a:lnTo>
                  <a:lnTo>
                    <a:pt x="260" y="2911"/>
                  </a:lnTo>
                  <a:lnTo>
                    <a:pt x="260" y="2897"/>
                  </a:lnTo>
                  <a:lnTo>
                    <a:pt x="267" y="2897"/>
                  </a:lnTo>
                  <a:lnTo>
                    <a:pt x="267" y="2882"/>
                  </a:lnTo>
                  <a:lnTo>
                    <a:pt x="285" y="2882"/>
                  </a:lnTo>
                  <a:lnTo>
                    <a:pt x="285" y="2867"/>
                  </a:lnTo>
                  <a:lnTo>
                    <a:pt x="291" y="2867"/>
                  </a:lnTo>
                  <a:lnTo>
                    <a:pt x="298" y="2867"/>
                  </a:lnTo>
                  <a:lnTo>
                    <a:pt x="298" y="2860"/>
                  </a:lnTo>
                  <a:lnTo>
                    <a:pt x="304" y="2860"/>
                  </a:lnTo>
                  <a:lnTo>
                    <a:pt x="310" y="2860"/>
                  </a:lnTo>
                  <a:lnTo>
                    <a:pt x="310" y="2852"/>
                  </a:lnTo>
                  <a:lnTo>
                    <a:pt x="316" y="2852"/>
                  </a:lnTo>
                  <a:lnTo>
                    <a:pt x="316" y="2845"/>
                  </a:lnTo>
                  <a:lnTo>
                    <a:pt x="322" y="2845"/>
                  </a:lnTo>
                  <a:lnTo>
                    <a:pt x="366" y="2845"/>
                  </a:lnTo>
                  <a:lnTo>
                    <a:pt x="366" y="2823"/>
                  </a:lnTo>
                  <a:lnTo>
                    <a:pt x="372" y="2823"/>
                  </a:lnTo>
                  <a:lnTo>
                    <a:pt x="372" y="2815"/>
                  </a:lnTo>
                  <a:lnTo>
                    <a:pt x="385" y="2815"/>
                  </a:lnTo>
                  <a:lnTo>
                    <a:pt x="385" y="2801"/>
                  </a:lnTo>
                  <a:lnTo>
                    <a:pt x="391" y="2801"/>
                  </a:lnTo>
                  <a:lnTo>
                    <a:pt x="391" y="2786"/>
                  </a:lnTo>
                  <a:lnTo>
                    <a:pt x="409" y="2786"/>
                  </a:lnTo>
                  <a:lnTo>
                    <a:pt x="409" y="2778"/>
                  </a:lnTo>
                  <a:lnTo>
                    <a:pt x="428" y="2778"/>
                  </a:lnTo>
                  <a:lnTo>
                    <a:pt x="428" y="2763"/>
                  </a:lnTo>
                  <a:lnTo>
                    <a:pt x="434" y="2763"/>
                  </a:lnTo>
                  <a:lnTo>
                    <a:pt x="434" y="2756"/>
                  </a:lnTo>
                  <a:lnTo>
                    <a:pt x="447" y="2756"/>
                  </a:lnTo>
                  <a:lnTo>
                    <a:pt x="447" y="2749"/>
                  </a:lnTo>
                  <a:lnTo>
                    <a:pt x="459" y="2749"/>
                  </a:lnTo>
                  <a:lnTo>
                    <a:pt x="472" y="2749"/>
                  </a:lnTo>
                  <a:lnTo>
                    <a:pt x="472" y="2734"/>
                  </a:lnTo>
                  <a:lnTo>
                    <a:pt x="478" y="2734"/>
                  </a:lnTo>
                  <a:lnTo>
                    <a:pt x="484" y="2734"/>
                  </a:lnTo>
                  <a:lnTo>
                    <a:pt x="484" y="2726"/>
                  </a:lnTo>
                  <a:lnTo>
                    <a:pt x="490" y="2726"/>
                  </a:lnTo>
                  <a:lnTo>
                    <a:pt x="490" y="2719"/>
                  </a:lnTo>
                  <a:lnTo>
                    <a:pt x="509" y="2719"/>
                  </a:lnTo>
                  <a:lnTo>
                    <a:pt x="509" y="2711"/>
                  </a:lnTo>
                  <a:lnTo>
                    <a:pt x="515" y="2711"/>
                  </a:lnTo>
                  <a:lnTo>
                    <a:pt x="534" y="2711"/>
                  </a:lnTo>
                  <a:lnTo>
                    <a:pt x="540" y="2711"/>
                  </a:lnTo>
                  <a:lnTo>
                    <a:pt x="540" y="2696"/>
                  </a:lnTo>
                  <a:lnTo>
                    <a:pt x="552" y="2696"/>
                  </a:lnTo>
                  <a:lnTo>
                    <a:pt x="559" y="2696"/>
                  </a:lnTo>
                  <a:lnTo>
                    <a:pt x="559" y="2689"/>
                  </a:lnTo>
                  <a:lnTo>
                    <a:pt x="571" y="2689"/>
                  </a:lnTo>
                  <a:lnTo>
                    <a:pt x="571" y="2681"/>
                  </a:lnTo>
                  <a:lnTo>
                    <a:pt x="577" y="2681"/>
                  </a:lnTo>
                  <a:lnTo>
                    <a:pt x="577" y="2674"/>
                  </a:lnTo>
                  <a:lnTo>
                    <a:pt x="583" y="2674"/>
                  </a:lnTo>
                  <a:lnTo>
                    <a:pt x="596" y="2674"/>
                  </a:lnTo>
                  <a:lnTo>
                    <a:pt x="596" y="2666"/>
                  </a:lnTo>
                  <a:lnTo>
                    <a:pt x="602" y="2666"/>
                  </a:lnTo>
                  <a:lnTo>
                    <a:pt x="602" y="2651"/>
                  </a:lnTo>
                  <a:lnTo>
                    <a:pt x="614" y="2651"/>
                  </a:lnTo>
                  <a:lnTo>
                    <a:pt x="614" y="2636"/>
                  </a:lnTo>
                  <a:lnTo>
                    <a:pt x="627" y="2636"/>
                  </a:lnTo>
                  <a:lnTo>
                    <a:pt x="627" y="2629"/>
                  </a:lnTo>
                  <a:lnTo>
                    <a:pt x="633" y="2629"/>
                  </a:lnTo>
                  <a:lnTo>
                    <a:pt x="633" y="2614"/>
                  </a:lnTo>
                  <a:lnTo>
                    <a:pt x="670" y="2614"/>
                  </a:lnTo>
                  <a:lnTo>
                    <a:pt x="670" y="2606"/>
                  </a:lnTo>
                  <a:lnTo>
                    <a:pt x="677" y="2606"/>
                  </a:lnTo>
                  <a:lnTo>
                    <a:pt x="701" y="2606"/>
                  </a:lnTo>
                  <a:lnTo>
                    <a:pt x="701" y="2576"/>
                  </a:lnTo>
                  <a:lnTo>
                    <a:pt x="708" y="2576"/>
                  </a:lnTo>
                  <a:lnTo>
                    <a:pt x="714" y="2576"/>
                  </a:lnTo>
                  <a:lnTo>
                    <a:pt x="714" y="2561"/>
                  </a:lnTo>
                  <a:lnTo>
                    <a:pt x="720" y="2561"/>
                  </a:lnTo>
                  <a:lnTo>
                    <a:pt x="720" y="2553"/>
                  </a:lnTo>
                  <a:lnTo>
                    <a:pt x="726" y="2553"/>
                  </a:lnTo>
                  <a:lnTo>
                    <a:pt x="726" y="2546"/>
                  </a:lnTo>
                  <a:lnTo>
                    <a:pt x="732" y="2546"/>
                  </a:lnTo>
                  <a:lnTo>
                    <a:pt x="732" y="2538"/>
                  </a:lnTo>
                  <a:lnTo>
                    <a:pt x="745" y="2538"/>
                  </a:lnTo>
                  <a:lnTo>
                    <a:pt x="745" y="2523"/>
                  </a:lnTo>
                  <a:lnTo>
                    <a:pt x="751" y="2523"/>
                  </a:lnTo>
                  <a:lnTo>
                    <a:pt x="751" y="2516"/>
                  </a:lnTo>
                  <a:lnTo>
                    <a:pt x="764" y="2516"/>
                  </a:lnTo>
                  <a:lnTo>
                    <a:pt x="764" y="2493"/>
                  </a:lnTo>
                  <a:lnTo>
                    <a:pt x="776" y="2493"/>
                  </a:lnTo>
                  <a:lnTo>
                    <a:pt x="776" y="2485"/>
                  </a:lnTo>
                  <a:lnTo>
                    <a:pt x="782" y="2485"/>
                  </a:lnTo>
                  <a:lnTo>
                    <a:pt x="782" y="2478"/>
                  </a:lnTo>
                  <a:lnTo>
                    <a:pt x="788" y="2478"/>
                  </a:lnTo>
                  <a:lnTo>
                    <a:pt x="788" y="2470"/>
                  </a:lnTo>
                  <a:lnTo>
                    <a:pt x="807" y="2470"/>
                  </a:lnTo>
                  <a:lnTo>
                    <a:pt x="807" y="2463"/>
                  </a:lnTo>
                  <a:lnTo>
                    <a:pt x="819" y="2463"/>
                  </a:lnTo>
                  <a:lnTo>
                    <a:pt x="819" y="2455"/>
                  </a:lnTo>
                  <a:lnTo>
                    <a:pt x="832" y="2455"/>
                  </a:lnTo>
                  <a:lnTo>
                    <a:pt x="832" y="2440"/>
                  </a:lnTo>
                  <a:lnTo>
                    <a:pt x="838" y="2440"/>
                  </a:lnTo>
                  <a:lnTo>
                    <a:pt x="838" y="2432"/>
                  </a:lnTo>
                  <a:lnTo>
                    <a:pt x="844" y="2432"/>
                  </a:lnTo>
                  <a:lnTo>
                    <a:pt x="844" y="2425"/>
                  </a:lnTo>
                  <a:lnTo>
                    <a:pt x="869" y="2425"/>
                  </a:lnTo>
                  <a:lnTo>
                    <a:pt x="888" y="2425"/>
                  </a:lnTo>
                  <a:lnTo>
                    <a:pt x="888" y="2417"/>
                  </a:lnTo>
                  <a:lnTo>
                    <a:pt x="900" y="2417"/>
                  </a:lnTo>
                  <a:lnTo>
                    <a:pt x="900" y="2410"/>
                  </a:lnTo>
                  <a:lnTo>
                    <a:pt x="906" y="2410"/>
                  </a:lnTo>
                  <a:lnTo>
                    <a:pt x="906" y="2402"/>
                  </a:lnTo>
                  <a:lnTo>
                    <a:pt x="913" y="2402"/>
                  </a:lnTo>
                  <a:lnTo>
                    <a:pt x="913" y="2394"/>
                  </a:lnTo>
                  <a:lnTo>
                    <a:pt x="919" y="2394"/>
                  </a:lnTo>
                  <a:lnTo>
                    <a:pt x="919" y="2387"/>
                  </a:lnTo>
                  <a:lnTo>
                    <a:pt x="925" y="2387"/>
                  </a:lnTo>
                  <a:lnTo>
                    <a:pt x="925" y="2379"/>
                  </a:lnTo>
                  <a:lnTo>
                    <a:pt x="931" y="2379"/>
                  </a:lnTo>
                  <a:lnTo>
                    <a:pt x="931" y="2372"/>
                  </a:lnTo>
                  <a:lnTo>
                    <a:pt x="937" y="2372"/>
                  </a:lnTo>
                  <a:lnTo>
                    <a:pt x="937" y="2364"/>
                  </a:lnTo>
                  <a:lnTo>
                    <a:pt x="956" y="2364"/>
                  </a:lnTo>
                  <a:lnTo>
                    <a:pt x="956" y="2356"/>
                  </a:lnTo>
                  <a:lnTo>
                    <a:pt x="987" y="2356"/>
                  </a:lnTo>
                  <a:lnTo>
                    <a:pt x="987" y="2349"/>
                  </a:lnTo>
                  <a:lnTo>
                    <a:pt x="993" y="2349"/>
                  </a:lnTo>
                  <a:lnTo>
                    <a:pt x="993" y="2334"/>
                  </a:lnTo>
                  <a:lnTo>
                    <a:pt x="1018" y="2334"/>
                  </a:lnTo>
                  <a:lnTo>
                    <a:pt x="1018" y="2318"/>
                  </a:lnTo>
                  <a:lnTo>
                    <a:pt x="1024" y="2318"/>
                  </a:lnTo>
                  <a:lnTo>
                    <a:pt x="1024" y="2311"/>
                  </a:lnTo>
                  <a:lnTo>
                    <a:pt x="1031" y="2311"/>
                  </a:lnTo>
                  <a:lnTo>
                    <a:pt x="1031" y="2303"/>
                  </a:lnTo>
                  <a:lnTo>
                    <a:pt x="1037" y="2303"/>
                  </a:lnTo>
                  <a:lnTo>
                    <a:pt x="1037" y="2296"/>
                  </a:lnTo>
                  <a:lnTo>
                    <a:pt x="1043" y="2296"/>
                  </a:lnTo>
                  <a:lnTo>
                    <a:pt x="1043" y="2288"/>
                  </a:lnTo>
                  <a:lnTo>
                    <a:pt x="1062" y="2288"/>
                  </a:lnTo>
                  <a:lnTo>
                    <a:pt x="1062" y="2280"/>
                  </a:lnTo>
                  <a:lnTo>
                    <a:pt x="1080" y="2280"/>
                  </a:lnTo>
                  <a:lnTo>
                    <a:pt x="1080" y="2265"/>
                  </a:lnTo>
                  <a:lnTo>
                    <a:pt x="1099" y="2265"/>
                  </a:lnTo>
                  <a:lnTo>
                    <a:pt x="1118" y="2265"/>
                  </a:lnTo>
                  <a:lnTo>
                    <a:pt x="1118" y="2258"/>
                  </a:lnTo>
                  <a:lnTo>
                    <a:pt x="1124" y="2258"/>
                  </a:lnTo>
                  <a:lnTo>
                    <a:pt x="1124" y="2242"/>
                  </a:lnTo>
                  <a:lnTo>
                    <a:pt x="1142" y="2242"/>
                  </a:lnTo>
                  <a:lnTo>
                    <a:pt x="1142" y="2235"/>
                  </a:lnTo>
                  <a:lnTo>
                    <a:pt x="1192" y="2235"/>
                  </a:lnTo>
                  <a:lnTo>
                    <a:pt x="1192" y="2212"/>
                  </a:lnTo>
                  <a:lnTo>
                    <a:pt x="1198" y="2212"/>
                  </a:lnTo>
                  <a:lnTo>
                    <a:pt x="1198" y="2204"/>
                  </a:lnTo>
                  <a:lnTo>
                    <a:pt x="1205" y="2204"/>
                  </a:lnTo>
                  <a:lnTo>
                    <a:pt x="1205" y="2189"/>
                  </a:lnTo>
                  <a:lnTo>
                    <a:pt x="1229" y="2189"/>
                  </a:lnTo>
                  <a:lnTo>
                    <a:pt x="1229" y="2181"/>
                  </a:lnTo>
                  <a:lnTo>
                    <a:pt x="1236" y="2181"/>
                  </a:lnTo>
                  <a:lnTo>
                    <a:pt x="1236" y="2166"/>
                  </a:lnTo>
                  <a:lnTo>
                    <a:pt x="1248" y="2166"/>
                  </a:lnTo>
                  <a:lnTo>
                    <a:pt x="1248" y="2158"/>
                  </a:lnTo>
                  <a:lnTo>
                    <a:pt x="1254" y="2158"/>
                  </a:lnTo>
                  <a:lnTo>
                    <a:pt x="1254" y="2151"/>
                  </a:lnTo>
                  <a:lnTo>
                    <a:pt x="1267" y="2151"/>
                  </a:lnTo>
                  <a:lnTo>
                    <a:pt x="1310" y="2151"/>
                  </a:lnTo>
                  <a:lnTo>
                    <a:pt x="1310" y="2135"/>
                  </a:lnTo>
                  <a:lnTo>
                    <a:pt x="1316" y="2135"/>
                  </a:lnTo>
                  <a:lnTo>
                    <a:pt x="1316" y="2120"/>
                  </a:lnTo>
                  <a:lnTo>
                    <a:pt x="1341" y="2120"/>
                  </a:lnTo>
                  <a:lnTo>
                    <a:pt x="1341" y="2105"/>
                  </a:lnTo>
                  <a:lnTo>
                    <a:pt x="1347" y="2105"/>
                  </a:lnTo>
                  <a:lnTo>
                    <a:pt x="1347" y="2097"/>
                  </a:lnTo>
                  <a:lnTo>
                    <a:pt x="1354" y="2097"/>
                  </a:lnTo>
                  <a:lnTo>
                    <a:pt x="1354" y="2089"/>
                  </a:lnTo>
                  <a:lnTo>
                    <a:pt x="1360" y="2089"/>
                  </a:lnTo>
                  <a:lnTo>
                    <a:pt x="1372" y="2089"/>
                  </a:lnTo>
                  <a:lnTo>
                    <a:pt x="1372" y="2082"/>
                  </a:lnTo>
                  <a:lnTo>
                    <a:pt x="1378" y="2082"/>
                  </a:lnTo>
                  <a:lnTo>
                    <a:pt x="1378" y="2074"/>
                  </a:lnTo>
                  <a:lnTo>
                    <a:pt x="1385" y="2074"/>
                  </a:lnTo>
                  <a:lnTo>
                    <a:pt x="1385" y="2066"/>
                  </a:lnTo>
                  <a:lnTo>
                    <a:pt x="1403" y="2066"/>
                  </a:lnTo>
                  <a:lnTo>
                    <a:pt x="1403" y="2058"/>
                  </a:lnTo>
                  <a:lnTo>
                    <a:pt x="1410" y="2058"/>
                  </a:lnTo>
                  <a:lnTo>
                    <a:pt x="1410" y="2051"/>
                  </a:lnTo>
                  <a:lnTo>
                    <a:pt x="1422" y="2051"/>
                  </a:lnTo>
                  <a:lnTo>
                    <a:pt x="1422" y="2043"/>
                  </a:lnTo>
                  <a:lnTo>
                    <a:pt x="1434" y="2043"/>
                  </a:lnTo>
                  <a:lnTo>
                    <a:pt x="1434" y="2035"/>
                  </a:lnTo>
                  <a:lnTo>
                    <a:pt x="1459" y="2035"/>
                  </a:lnTo>
                  <a:lnTo>
                    <a:pt x="1459" y="2020"/>
                  </a:lnTo>
                  <a:lnTo>
                    <a:pt x="1465" y="2020"/>
                  </a:lnTo>
                  <a:lnTo>
                    <a:pt x="1465" y="2012"/>
                  </a:lnTo>
                  <a:lnTo>
                    <a:pt x="1490" y="2012"/>
                  </a:lnTo>
                  <a:lnTo>
                    <a:pt x="1490" y="2004"/>
                  </a:lnTo>
                  <a:lnTo>
                    <a:pt x="1496" y="2004"/>
                  </a:lnTo>
                  <a:lnTo>
                    <a:pt x="1496" y="1997"/>
                  </a:lnTo>
                  <a:lnTo>
                    <a:pt x="1515" y="1997"/>
                  </a:lnTo>
                  <a:lnTo>
                    <a:pt x="1515" y="1989"/>
                  </a:lnTo>
                  <a:lnTo>
                    <a:pt x="1540" y="1989"/>
                  </a:lnTo>
                  <a:lnTo>
                    <a:pt x="1540" y="1973"/>
                  </a:lnTo>
                  <a:lnTo>
                    <a:pt x="1546" y="1973"/>
                  </a:lnTo>
                  <a:lnTo>
                    <a:pt x="1546" y="1966"/>
                  </a:lnTo>
                  <a:lnTo>
                    <a:pt x="1571" y="1966"/>
                  </a:lnTo>
                  <a:lnTo>
                    <a:pt x="1571" y="1950"/>
                  </a:lnTo>
                  <a:lnTo>
                    <a:pt x="1590" y="1950"/>
                  </a:lnTo>
                  <a:lnTo>
                    <a:pt x="1590" y="1935"/>
                  </a:lnTo>
                  <a:lnTo>
                    <a:pt x="1608" y="1935"/>
                  </a:lnTo>
                  <a:lnTo>
                    <a:pt x="1608" y="1927"/>
                  </a:lnTo>
                  <a:lnTo>
                    <a:pt x="1621" y="1927"/>
                  </a:lnTo>
                  <a:lnTo>
                    <a:pt x="1621" y="1919"/>
                  </a:lnTo>
                  <a:lnTo>
                    <a:pt x="1646" y="1919"/>
                  </a:lnTo>
                  <a:lnTo>
                    <a:pt x="1652" y="1919"/>
                  </a:lnTo>
                  <a:lnTo>
                    <a:pt x="1652" y="1911"/>
                  </a:lnTo>
                  <a:lnTo>
                    <a:pt x="1658" y="1911"/>
                  </a:lnTo>
                  <a:lnTo>
                    <a:pt x="1664" y="1911"/>
                  </a:lnTo>
                  <a:lnTo>
                    <a:pt x="1664" y="1904"/>
                  </a:lnTo>
                  <a:lnTo>
                    <a:pt x="1670" y="1904"/>
                  </a:lnTo>
                  <a:lnTo>
                    <a:pt x="1670" y="1896"/>
                  </a:lnTo>
                  <a:lnTo>
                    <a:pt x="1677" y="1896"/>
                  </a:lnTo>
                  <a:lnTo>
                    <a:pt x="1677" y="1880"/>
                  </a:lnTo>
                  <a:lnTo>
                    <a:pt x="1683" y="1880"/>
                  </a:lnTo>
                  <a:lnTo>
                    <a:pt x="1683" y="1857"/>
                  </a:lnTo>
                  <a:lnTo>
                    <a:pt x="1701" y="1857"/>
                  </a:lnTo>
                  <a:lnTo>
                    <a:pt x="1701" y="1849"/>
                  </a:lnTo>
                  <a:lnTo>
                    <a:pt x="1720" y="1849"/>
                  </a:lnTo>
                  <a:lnTo>
                    <a:pt x="1720" y="1841"/>
                  </a:lnTo>
                  <a:lnTo>
                    <a:pt x="1739" y="1841"/>
                  </a:lnTo>
                  <a:lnTo>
                    <a:pt x="1739" y="1833"/>
                  </a:lnTo>
                  <a:lnTo>
                    <a:pt x="1745" y="1833"/>
                  </a:lnTo>
                  <a:lnTo>
                    <a:pt x="1745" y="1810"/>
                  </a:lnTo>
                  <a:lnTo>
                    <a:pt x="1757" y="1810"/>
                  </a:lnTo>
                  <a:lnTo>
                    <a:pt x="1757" y="1802"/>
                  </a:lnTo>
                  <a:lnTo>
                    <a:pt x="1770" y="1802"/>
                  </a:lnTo>
                  <a:lnTo>
                    <a:pt x="1770" y="1794"/>
                  </a:lnTo>
                  <a:lnTo>
                    <a:pt x="1776" y="1794"/>
                  </a:lnTo>
                  <a:lnTo>
                    <a:pt x="1776" y="1786"/>
                  </a:lnTo>
                  <a:lnTo>
                    <a:pt x="1782" y="1786"/>
                  </a:lnTo>
                  <a:lnTo>
                    <a:pt x="1782" y="1778"/>
                  </a:lnTo>
                  <a:lnTo>
                    <a:pt x="1788" y="1778"/>
                  </a:lnTo>
                  <a:lnTo>
                    <a:pt x="1788" y="1771"/>
                  </a:lnTo>
                  <a:lnTo>
                    <a:pt x="1795" y="1771"/>
                  </a:lnTo>
                  <a:lnTo>
                    <a:pt x="1795" y="1747"/>
                  </a:lnTo>
                  <a:lnTo>
                    <a:pt x="1807" y="1747"/>
                  </a:lnTo>
                  <a:lnTo>
                    <a:pt x="1807" y="1739"/>
                  </a:lnTo>
                  <a:lnTo>
                    <a:pt x="1813" y="1739"/>
                  </a:lnTo>
                  <a:lnTo>
                    <a:pt x="1813" y="1731"/>
                  </a:lnTo>
                  <a:lnTo>
                    <a:pt x="1819" y="1731"/>
                  </a:lnTo>
                  <a:lnTo>
                    <a:pt x="1819" y="1724"/>
                  </a:lnTo>
                  <a:lnTo>
                    <a:pt x="1826" y="1724"/>
                  </a:lnTo>
                  <a:lnTo>
                    <a:pt x="1826" y="1716"/>
                  </a:lnTo>
                  <a:lnTo>
                    <a:pt x="1838" y="1716"/>
                  </a:lnTo>
                  <a:lnTo>
                    <a:pt x="1838" y="1708"/>
                  </a:lnTo>
                  <a:lnTo>
                    <a:pt x="1869" y="1708"/>
                  </a:lnTo>
                  <a:lnTo>
                    <a:pt x="1869" y="1700"/>
                  </a:lnTo>
                  <a:lnTo>
                    <a:pt x="1882" y="1700"/>
                  </a:lnTo>
                  <a:lnTo>
                    <a:pt x="1882" y="1685"/>
                  </a:lnTo>
                  <a:lnTo>
                    <a:pt x="1913" y="1685"/>
                  </a:lnTo>
                  <a:lnTo>
                    <a:pt x="1913" y="1677"/>
                  </a:lnTo>
                  <a:lnTo>
                    <a:pt x="1925" y="1677"/>
                  </a:lnTo>
                  <a:lnTo>
                    <a:pt x="1925" y="1661"/>
                  </a:lnTo>
                  <a:lnTo>
                    <a:pt x="1931" y="1661"/>
                  </a:lnTo>
                  <a:lnTo>
                    <a:pt x="1931" y="1653"/>
                  </a:lnTo>
                  <a:lnTo>
                    <a:pt x="1969" y="1653"/>
                  </a:lnTo>
                  <a:lnTo>
                    <a:pt x="1969" y="1645"/>
                  </a:lnTo>
                  <a:lnTo>
                    <a:pt x="1975" y="1645"/>
                  </a:lnTo>
                  <a:lnTo>
                    <a:pt x="1975" y="1638"/>
                  </a:lnTo>
                  <a:lnTo>
                    <a:pt x="1987" y="1638"/>
                  </a:lnTo>
                  <a:lnTo>
                    <a:pt x="1987" y="1606"/>
                  </a:lnTo>
                  <a:lnTo>
                    <a:pt x="2000" y="1606"/>
                  </a:lnTo>
                  <a:lnTo>
                    <a:pt x="2000" y="1598"/>
                  </a:lnTo>
                  <a:lnTo>
                    <a:pt x="2006" y="1598"/>
                  </a:lnTo>
                  <a:lnTo>
                    <a:pt x="2006" y="1591"/>
                  </a:lnTo>
                  <a:lnTo>
                    <a:pt x="2012" y="1591"/>
                  </a:lnTo>
                  <a:lnTo>
                    <a:pt x="2012" y="1583"/>
                  </a:lnTo>
                  <a:lnTo>
                    <a:pt x="2024" y="1583"/>
                  </a:lnTo>
                  <a:lnTo>
                    <a:pt x="2037" y="1583"/>
                  </a:lnTo>
                  <a:lnTo>
                    <a:pt x="2037" y="1567"/>
                  </a:lnTo>
                  <a:lnTo>
                    <a:pt x="2068" y="1567"/>
                  </a:lnTo>
                  <a:lnTo>
                    <a:pt x="2068" y="1559"/>
                  </a:lnTo>
                  <a:lnTo>
                    <a:pt x="2080" y="1559"/>
                  </a:lnTo>
                  <a:lnTo>
                    <a:pt x="2080" y="1551"/>
                  </a:lnTo>
                  <a:lnTo>
                    <a:pt x="2093" y="1551"/>
                  </a:lnTo>
                  <a:lnTo>
                    <a:pt x="2093" y="1543"/>
                  </a:lnTo>
                  <a:lnTo>
                    <a:pt x="2099" y="1543"/>
                  </a:lnTo>
                  <a:lnTo>
                    <a:pt x="2099" y="1536"/>
                  </a:lnTo>
                  <a:lnTo>
                    <a:pt x="2130" y="1536"/>
                  </a:lnTo>
                  <a:lnTo>
                    <a:pt x="2130" y="1520"/>
                  </a:lnTo>
                  <a:lnTo>
                    <a:pt x="2136" y="1520"/>
                  </a:lnTo>
                  <a:lnTo>
                    <a:pt x="2136" y="1512"/>
                  </a:lnTo>
                  <a:lnTo>
                    <a:pt x="2155" y="1512"/>
                  </a:lnTo>
                  <a:lnTo>
                    <a:pt x="2155" y="1504"/>
                  </a:lnTo>
                  <a:lnTo>
                    <a:pt x="2205" y="1504"/>
                  </a:lnTo>
                  <a:lnTo>
                    <a:pt x="2205" y="1496"/>
                  </a:lnTo>
                  <a:lnTo>
                    <a:pt x="2211" y="1496"/>
                  </a:lnTo>
                  <a:lnTo>
                    <a:pt x="2211" y="1481"/>
                  </a:lnTo>
                  <a:lnTo>
                    <a:pt x="2223" y="1481"/>
                  </a:lnTo>
                  <a:lnTo>
                    <a:pt x="2236" y="1481"/>
                  </a:lnTo>
                  <a:lnTo>
                    <a:pt x="2236" y="1473"/>
                  </a:lnTo>
                  <a:lnTo>
                    <a:pt x="2242" y="1473"/>
                  </a:lnTo>
                  <a:lnTo>
                    <a:pt x="2242" y="1457"/>
                  </a:lnTo>
                  <a:lnTo>
                    <a:pt x="2267" y="1457"/>
                  </a:lnTo>
                  <a:lnTo>
                    <a:pt x="2267" y="1449"/>
                  </a:lnTo>
                  <a:lnTo>
                    <a:pt x="2273" y="1449"/>
                  </a:lnTo>
                  <a:lnTo>
                    <a:pt x="2273" y="1433"/>
                  </a:lnTo>
                  <a:lnTo>
                    <a:pt x="2279" y="1433"/>
                  </a:lnTo>
                  <a:lnTo>
                    <a:pt x="2279" y="1425"/>
                  </a:lnTo>
                  <a:lnTo>
                    <a:pt x="2285" y="1425"/>
                  </a:lnTo>
                  <a:lnTo>
                    <a:pt x="2285" y="1409"/>
                  </a:lnTo>
                  <a:lnTo>
                    <a:pt x="2310" y="1409"/>
                  </a:lnTo>
                  <a:lnTo>
                    <a:pt x="2310" y="1402"/>
                  </a:lnTo>
                  <a:lnTo>
                    <a:pt x="2316" y="1402"/>
                  </a:lnTo>
                  <a:lnTo>
                    <a:pt x="2316" y="1394"/>
                  </a:lnTo>
                  <a:lnTo>
                    <a:pt x="2323" y="1394"/>
                  </a:lnTo>
                  <a:lnTo>
                    <a:pt x="2323" y="1386"/>
                  </a:lnTo>
                  <a:lnTo>
                    <a:pt x="2329" y="1386"/>
                  </a:lnTo>
                  <a:lnTo>
                    <a:pt x="2341" y="1386"/>
                  </a:lnTo>
                  <a:lnTo>
                    <a:pt x="2341" y="1378"/>
                  </a:lnTo>
                  <a:lnTo>
                    <a:pt x="2354" y="1378"/>
                  </a:lnTo>
                  <a:lnTo>
                    <a:pt x="2354" y="1370"/>
                  </a:lnTo>
                  <a:lnTo>
                    <a:pt x="2360" y="1370"/>
                  </a:lnTo>
                  <a:lnTo>
                    <a:pt x="2360" y="1362"/>
                  </a:lnTo>
                  <a:lnTo>
                    <a:pt x="2372" y="1362"/>
                  </a:lnTo>
                  <a:lnTo>
                    <a:pt x="2372" y="1354"/>
                  </a:lnTo>
                  <a:lnTo>
                    <a:pt x="2391" y="1354"/>
                  </a:lnTo>
                  <a:lnTo>
                    <a:pt x="2391" y="1346"/>
                  </a:lnTo>
                  <a:lnTo>
                    <a:pt x="2403" y="1346"/>
                  </a:lnTo>
                  <a:lnTo>
                    <a:pt x="2403" y="1338"/>
                  </a:lnTo>
                  <a:lnTo>
                    <a:pt x="2416" y="1338"/>
                  </a:lnTo>
                  <a:lnTo>
                    <a:pt x="2416" y="1314"/>
                  </a:lnTo>
                  <a:lnTo>
                    <a:pt x="2428" y="1314"/>
                  </a:lnTo>
                  <a:lnTo>
                    <a:pt x="2428" y="1307"/>
                  </a:lnTo>
                  <a:lnTo>
                    <a:pt x="2447" y="1307"/>
                  </a:lnTo>
                  <a:lnTo>
                    <a:pt x="2447" y="1299"/>
                  </a:lnTo>
                  <a:lnTo>
                    <a:pt x="2465" y="1299"/>
                  </a:lnTo>
                  <a:lnTo>
                    <a:pt x="2465" y="1291"/>
                  </a:lnTo>
                  <a:lnTo>
                    <a:pt x="2478" y="1291"/>
                  </a:lnTo>
                  <a:lnTo>
                    <a:pt x="2478" y="1283"/>
                  </a:lnTo>
                  <a:lnTo>
                    <a:pt x="2490" y="1283"/>
                  </a:lnTo>
                  <a:lnTo>
                    <a:pt x="2490" y="1267"/>
                  </a:lnTo>
                  <a:lnTo>
                    <a:pt x="2503" y="1267"/>
                  </a:lnTo>
                  <a:lnTo>
                    <a:pt x="2503" y="1259"/>
                  </a:lnTo>
                  <a:lnTo>
                    <a:pt x="2509" y="1259"/>
                  </a:lnTo>
                  <a:lnTo>
                    <a:pt x="2509" y="1251"/>
                  </a:lnTo>
                  <a:lnTo>
                    <a:pt x="2515" y="1251"/>
                  </a:lnTo>
                  <a:lnTo>
                    <a:pt x="2515" y="1243"/>
                  </a:lnTo>
                  <a:lnTo>
                    <a:pt x="2521" y="1243"/>
                  </a:lnTo>
                  <a:lnTo>
                    <a:pt x="2521" y="1235"/>
                  </a:lnTo>
                  <a:lnTo>
                    <a:pt x="2534" y="1235"/>
                  </a:lnTo>
                  <a:lnTo>
                    <a:pt x="2534" y="1227"/>
                  </a:lnTo>
                  <a:lnTo>
                    <a:pt x="2552" y="1227"/>
                  </a:lnTo>
                  <a:lnTo>
                    <a:pt x="2552" y="1219"/>
                  </a:lnTo>
                  <a:lnTo>
                    <a:pt x="2559" y="1219"/>
                  </a:lnTo>
                  <a:lnTo>
                    <a:pt x="2559" y="1211"/>
                  </a:lnTo>
                  <a:lnTo>
                    <a:pt x="2565" y="1211"/>
                  </a:lnTo>
                  <a:lnTo>
                    <a:pt x="2627" y="1211"/>
                  </a:lnTo>
                  <a:lnTo>
                    <a:pt x="2627" y="1203"/>
                  </a:lnTo>
                  <a:lnTo>
                    <a:pt x="2652" y="1203"/>
                  </a:lnTo>
                  <a:lnTo>
                    <a:pt x="2652" y="1187"/>
                  </a:lnTo>
                  <a:lnTo>
                    <a:pt x="2664" y="1187"/>
                  </a:lnTo>
                  <a:lnTo>
                    <a:pt x="2683" y="1187"/>
                  </a:lnTo>
                  <a:lnTo>
                    <a:pt x="2683" y="1179"/>
                  </a:lnTo>
                  <a:lnTo>
                    <a:pt x="2695" y="1179"/>
                  </a:lnTo>
                  <a:lnTo>
                    <a:pt x="2714" y="1179"/>
                  </a:lnTo>
                  <a:lnTo>
                    <a:pt x="2714" y="1171"/>
                  </a:lnTo>
                  <a:lnTo>
                    <a:pt x="2733" y="1171"/>
                  </a:lnTo>
                  <a:lnTo>
                    <a:pt x="2733" y="1163"/>
                  </a:lnTo>
                  <a:lnTo>
                    <a:pt x="2751" y="1163"/>
                  </a:lnTo>
                  <a:lnTo>
                    <a:pt x="2751" y="1155"/>
                  </a:lnTo>
                  <a:lnTo>
                    <a:pt x="2801" y="1155"/>
                  </a:lnTo>
                  <a:lnTo>
                    <a:pt x="2801" y="1146"/>
                  </a:lnTo>
                  <a:lnTo>
                    <a:pt x="2807" y="1146"/>
                  </a:lnTo>
                  <a:lnTo>
                    <a:pt x="2807" y="1138"/>
                  </a:lnTo>
                  <a:lnTo>
                    <a:pt x="2813" y="1138"/>
                  </a:lnTo>
                  <a:lnTo>
                    <a:pt x="2813" y="1130"/>
                  </a:lnTo>
                  <a:lnTo>
                    <a:pt x="2826" y="1130"/>
                  </a:lnTo>
                  <a:lnTo>
                    <a:pt x="2826" y="1122"/>
                  </a:lnTo>
                  <a:lnTo>
                    <a:pt x="2832" y="1122"/>
                  </a:lnTo>
                  <a:lnTo>
                    <a:pt x="2838" y="1122"/>
                  </a:lnTo>
                  <a:lnTo>
                    <a:pt x="2838" y="1114"/>
                  </a:lnTo>
                  <a:lnTo>
                    <a:pt x="2844" y="1114"/>
                  </a:lnTo>
                  <a:lnTo>
                    <a:pt x="2844" y="1106"/>
                  </a:lnTo>
                  <a:lnTo>
                    <a:pt x="2857" y="1106"/>
                  </a:lnTo>
                  <a:lnTo>
                    <a:pt x="2857" y="1097"/>
                  </a:lnTo>
                  <a:lnTo>
                    <a:pt x="2863" y="1097"/>
                  </a:lnTo>
                  <a:lnTo>
                    <a:pt x="2863" y="1089"/>
                  </a:lnTo>
                  <a:lnTo>
                    <a:pt x="2882" y="1089"/>
                  </a:lnTo>
                  <a:lnTo>
                    <a:pt x="2882" y="1081"/>
                  </a:lnTo>
                  <a:lnTo>
                    <a:pt x="2888" y="1081"/>
                  </a:lnTo>
                  <a:lnTo>
                    <a:pt x="2888" y="1073"/>
                  </a:lnTo>
                  <a:lnTo>
                    <a:pt x="2906" y="1073"/>
                  </a:lnTo>
                  <a:lnTo>
                    <a:pt x="2906" y="1065"/>
                  </a:lnTo>
                  <a:lnTo>
                    <a:pt x="2919" y="1065"/>
                  </a:lnTo>
                  <a:lnTo>
                    <a:pt x="2919" y="1057"/>
                  </a:lnTo>
                  <a:lnTo>
                    <a:pt x="2944" y="1057"/>
                  </a:lnTo>
                  <a:lnTo>
                    <a:pt x="2944" y="1048"/>
                  </a:lnTo>
                  <a:lnTo>
                    <a:pt x="2950" y="1048"/>
                  </a:lnTo>
                  <a:lnTo>
                    <a:pt x="2950" y="1040"/>
                  </a:lnTo>
                  <a:lnTo>
                    <a:pt x="2969" y="1040"/>
                  </a:lnTo>
                  <a:lnTo>
                    <a:pt x="2969" y="1032"/>
                  </a:lnTo>
                  <a:lnTo>
                    <a:pt x="3012" y="1032"/>
                  </a:lnTo>
                  <a:lnTo>
                    <a:pt x="3012" y="1024"/>
                  </a:lnTo>
                  <a:lnTo>
                    <a:pt x="3024" y="1024"/>
                  </a:lnTo>
                  <a:lnTo>
                    <a:pt x="3024" y="1016"/>
                  </a:lnTo>
                  <a:lnTo>
                    <a:pt x="3043" y="1016"/>
                  </a:lnTo>
                  <a:lnTo>
                    <a:pt x="3043" y="1007"/>
                  </a:lnTo>
                  <a:lnTo>
                    <a:pt x="3093" y="1007"/>
                  </a:lnTo>
                  <a:lnTo>
                    <a:pt x="3093" y="999"/>
                  </a:lnTo>
                  <a:lnTo>
                    <a:pt x="3136" y="999"/>
                  </a:lnTo>
                  <a:lnTo>
                    <a:pt x="3136" y="991"/>
                  </a:lnTo>
                  <a:lnTo>
                    <a:pt x="3143" y="991"/>
                  </a:lnTo>
                  <a:lnTo>
                    <a:pt x="3143" y="983"/>
                  </a:lnTo>
                  <a:lnTo>
                    <a:pt x="3149" y="983"/>
                  </a:lnTo>
                  <a:lnTo>
                    <a:pt x="3149" y="975"/>
                  </a:lnTo>
                  <a:lnTo>
                    <a:pt x="3155" y="975"/>
                  </a:lnTo>
                  <a:lnTo>
                    <a:pt x="3155" y="967"/>
                  </a:lnTo>
                  <a:lnTo>
                    <a:pt x="3161" y="967"/>
                  </a:lnTo>
                  <a:lnTo>
                    <a:pt x="3161" y="950"/>
                  </a:lnTo>
                  <a:lnTo>
                    <a:pt x="3186" y="950"/>
                  </a:lnTo>
                  <a:lnTo>
                    <a:pt x="3186" y="942"/>
                  </a:lnTo>
                  <a:lnTo>
                    <a:pt x="3192" y="942"/>
                  </a:lnTo>
                  <a:lnTo>
                    <a:pt x="3192" y="934"/>
                  </a:lnTo>
                  <a:lnTo>
                    <a:pt x="3205" y="934"/>
                  </a:lnTo>
                  <a:lnTo>
                    <a:pt x="3205" y="926"/>
                  </a:lnTo>
                  <a:lnTo>
                    <a:pt x="3211" y="926"/>
                  </a:lnTo>
                  <a:lnTo>
                    <a:pt x="3211" y="917"/>
                  </a:lnTo>
                  <a:lnTo>
                    <a:pt x="3261" y="917"/>
                  </a:lnTo>
                  <a:lnTo>
                    <a:pt x="3261" y="909"/>
                  </a:lnTo>
                  <a:lnTo>
                    <a:pt x="3273" y="909"/>
                  </a:lnTo>
                  <a:lnTo>
                    <a:pt x="3273" y="893"/>
                  </a:lnTo>
                  <a:lnTo>
                    <a:pt x="3335" y="893"/>
                  </a:lnTo>
                  <a:lnTo>
                    <a:pt x="3335" y="877"/>
                  </a:lnTo>
                  <a:lnTo>
                    <a:pt x="3354" y="877"/>
                  </a:lnTo>
                  <a:lnTo>
                    <a:pt x="3354" y="860"/>
                  </a:lnTo>
                  <a:lnTo>
                    <a:pt x="3385" y="860"/>
                  </a:lnTo>
                  <a:lnTo>
                    <a:pt x="3385" y="852"/>
                  </a:lnTo>
                  <a:lnTo>
                    <a:pt x="3403" y="852"/>
                  </a:lnTo>
                  <a:lnTo>
                    <a:pt x="3422" y="852"/>
                  </a:lnTo>
                  <a:lnTo>
                    <a:pt x="3441" y="852"/>
                  </a:lnTo>
                  <a:lnTo>
                    <a:pt x="3447" y="852"/>
                  </a:lnTo>
                  <a:lnTo>
                    <a:pt x="3453" y="852"/>
                  </a:lnTo>
                  <a:lnTo>
                    <a:pt x="3453" y="844"/>
                  </a:lnTo>
                  <a:lnTo>
                    <a:pt x="3472" y="844"/>
                  </a:lnTo>
                  <a:lnTo>
                    <a:pt x="3472" y="835"/>
                  </a:lnTo>
                  <a:lnTo>
                    <a:pt x="3484" y="835"/>
                  </a:lnTo>
                  <a:lnTo>
                    <a:pt x="3509" y="835"/>
                  </a:lnTo>
                  <a:lnTo>
                    <a:pt x="3540" y="835"/>
                  </a:lnTo>
                  <a:lnTo>
                    <a:pt x="3552" y="835"/>
                  </a:lnTo>
                  <a:lnTo>
                    <a:pt x="3552" y="826"/>
                  </a:lnTo>
                  <a:lnTo>
                    <a:pt x="3565" y="826"/>
                  </a:lnTo>
                  <a:lnTo>
                    <a:pt x="3565" y="818"/>
                  </a:lnTo>
                  <a:lnTo>
                    <a:pt x="3571" y="818"/>
                  </a:lnTo>
                  <a:lnTo>
                    <a:pt x="3584" y="818"/>
                  </a:lnTo>
                  <a:lnTo>
                    <a:pt x="3584" y="809"/>
                  </a:lnTo>
                  <a:lnTo>
                    <a:pt x="3596" y="809"/>
                  </a:lnTo>
                  <a:lnTo>
                    <a:pt x="3608" y="809"/>
                  </a:lnTo>
                  <a:lnTo>
                    <a:pt x="3621" y="809"/>
                  </a:lnTo>
                  <a:lnTo>
                    <a:pt x="3621" y="800"/>
                  </a:lnTo>
                  <a:lnTo>
                    <a:pt x="3627" y="800"/>
                  </a:lnTo>
                  <a:lnTo>
                    <a:pt x="3627" y="791"/>
                  </a:lnTo>
                  <a:lnTo>
                    <a:pt x="3639" y="791"/>
                  </a:lnTo>
                  <a:lnTo>
                    <a:pt x="3652" y="791"/>
                  </a:lnTo>
                  <a:lnTo>
                    <a:pt x="3652" y="782"/>
                  </a:lnTo>
                  <a:lnTo>
                    <a:pt x="3664" y="782"/>
                  </a:lnTo>
                  <a:lnTo>
                    <a:pt x="3670" y="782"/>
                  </a:lnTo>
                  <a:lnTo>
                    <a:pt x="3670" y="773"/>
                  </a:lnTo>
                  <a:lnTo>
                    <a:pt x="3702" y="773"/>
                  </a:lnTo>
                  <a:lnTo>
                    <a:pt x="3702" y="764"/>
                  </a:lnTo>
                  <a:lnTo>
                    <a:pt x="3720" y="764"/>
                  </a:lnTo>
                  <a:lnTo>
                    <a:pt x="3720" y="755"/>
                  </a:lnTo>
                  <a:lnTo>
                    <a:pt x="3733" y="755"/>
                  </a:lnTo>
                  <a:lnTo>
                    <a:pt x="3733" y="746"/>
                  </a:lnTo>
                  <a:lnTo>
                    <a:pt x="3739" y="746"/>
                  </a:lnTo>
                  <a:lnTo>
                    <a:pt x="3745" y="746"/>
                  </a:lnTo>
                  <a:lnTo>
                    <a:pt x="3757" y="746"/>
                  </a:lnTo>
                  <a:lnTo>
                    <a:pt x="3776" y="746"/>
                  </a:lnTo>
                  <a:lnTo>
                    <a:pt x="3776" y="736"/>
                  </a:lnTo>
                  <a:lnTo>
                    <a:pt x="3788" y="736"/>
                  </a:lnTo>
                  <a:lnTo>
                    <a:pt x="3795" y="736"/>
                  </a:lnTo>
                  <a:lnTo>
                    <a:pt x="3795" y="727"/>
                  </a:lnTo>
                  <a:lnTo>
                    <a:pt x="3813" y="727"/>
                  </a:lnTo>
                  <a:lnTo>
                    <a:pt x="3813" y="717"/>
                  </a:lnTo>
                  <a:lnTo>
                    <a:pt x="3820" y="717"/>
                  </a:lnTo>
                  <a:lnTo>
                    <a:pt x="3826" y="717"/>
                  </a:lnTo>
                  <a:lnTo>
                    <a:pt x="3826" y="698"/>
                  </a:lnTo>
                  <a:lnTo>
                    <a:pt x="3844" y="698"/>
                  </a:lnTo>
                  <a:lnTo>
                    <a:pt x="3869" y="698"/>
                  </a:lnTo>
                  <a:lnTo>
                    <a:pt x="3869" y="688"/>
                  </a:lnTo>
                  <a:lnTo>
                    <a:pt x="3875" y="688"/>
                  </a:lnTo>
                  <a:lnTo>
                    <a:pt x="3875" y="678"/>
                  </a:lnTo>
                  <a:lnTo>
                    <a:pt x="3900" y="678"/>
                  </a:lnTo>
                  <a:lnTo>
                    <a:pt x="3925" y="678"/>
                  </a:lnTo>
                  <a:lnTo>
                    <a:pt x="3944" y="678"/>
                  </a:lnTo>
                  <a:lnTo>
                    <a:pt x="3956" y="678"/>
                  </a:lnTo>
                  <a:lnTo>
                    <a:pt x="3956" y="668"/>
                  </a:lnTo>
                  <a:lnTo>
                    <a:pt x="3969" y="668"/>
                  </a:lnTo>
                  <a:lnTo>
                    <a:pt x="3969" y="647"/>
                  </a:lnTo>
                  <a:lnTo>
                    <a:pt x="3975" y="647"/>
                  </a:lnTo>
                  <a:lnTo>
                    <a:pt x="3975" y="637"/>
                  </a:lnTo>
                  <a:lnTo>
                    <a:pt x="3981" y="637"/>
                  </a:lnTo>
                  <a:lnTo>
                    <a:pt x="3981" y="626"/>
                  </a:lnTo>
                  <a:lnTo>
                    <a:pt x="3987" y="626"/>
                  </a:lnTo>
                  <a:lnTo>
                    <a:pt x="3987" y="616"/>
                  </a:lnTo>
                  <a:lnTo>
                    <a:pt x="4006" y="616"/>
                  </a:lnTo>
                  <a:lnTo>
                    <a:pt x="4025" y="616"/>
                  </a:lnTo>
                  <a:lnTo>
                    <a:pt x="4080" y="616"/>
                  </a:lnTo>
                  <a:lnTo>
                    <a:pt x="4080" y="606"/>
                  </a:lnTo>
                  <a:lnTo>
                    <a:pt x="4087" y="606"/>
                  </a:lnTo>
                  <a:lnTo>
                    <a:pt x="4105" y="606"/>
                  </a:lnTo>
                  <a:lnTo>
                    <a:pt x="4111" y="606"/>
                  </a:lnTo>
                  <a:lnTo>
                    <a:pt x="4130" y="606"/>
                  </a:lnTo>
                  <a:lnTo>
                    <a:pt x="4136" y="606"/>
                  </a:lnTo>
                  <a:lnTo>
                    <a:pt x="4143" y="606"/>
                  </a:lnTo>
                  <a:lnTo>
                    <a:pt x="4143" y="595"/>
                  </a:lnTo>
                  <a:lnTo>
                    <a:pt x="4155" y="595"/>
                  </a:lnTo>
                  <a:lnTo>
                    <a:pt x="4161" y="595"/>
                  </a:lnTo>
                  <a:lnTo>
                    <a:pt x="4161" y="583"/>
                  </a:lnTo>
                  <a:lnTo>
                    <a:pt x="4174" y="583"/>
                  </a:lnTo>
                  <a:lnTo>
                    <a:pt x="4174" y="572"/>
                  </a:lnTo>
                  <a:lnTo>
                    <a:pt x="4180" y="572"/>
                  </a:lnTo>
                  <a:lnTo>
                    <a:pt x="4192" y="572"/>
                  </a:lnTo>
                  <a:lnTo>
                    <a:pt x="4198" y="572"/>
                  </a:lnTo>
                  <a:lnTo>
                    <a:pt x="4198" y="560"/>
                  </a:lnTo>
                  <a:lnTo>
                    <a:pt x="4217" y="560"/>
                  </a:lnTo>
                  <a:lnTo>
                    <a:pt x="4217" y="549"/>
                  </a:lnTo>
                  <a:lnTo>
                    <a:pt x="4230" y="549"/>
                  </a:lnTo>
                  <a:lnTo>
                    <a:pt x="4230" y="537"/>
                  </a:lnTo>
                  <a:lnTo>
                    <a:pt x="4236" y="537"/>
                  </a:lnTo>
                  <a:lnTo>
                    <a:pt x="4236" y="525"/>
                  </a:lnTo>
                  <a:lnTo>
                    <a:pt x="4242" y="525"/>
                  </a:lnTo>
                  <a:lnTo>
                    <a:pt x="4242" y="514"/>
                  </a:lnTo>
                  <a:lnTo>
                    <a:pt x="4292" y="514"/>
                  </a:lnTo>
                  <a:lnTo>
                    <a:pt x="4316" y="514"/>
                  </a:lnTo>
                  <a:lnTo>
                    <a:pt x="4335" y="514"/>
                  </a:lnTo>
                  <a:lnTo>
                    <a:pt x="4335" y="502"/>
                  </a:lnTo>
                  <a:lnTo>
                    <a:pt x="4341" y="502"/>
                  </a:lnTo>
                  <a:lnTo>
                    <a:pt x="4341" y="490"/>
                  </a:lnTo>
                  <a:lnTo>
                    <a:pt x="4354" y="490"/>
                  </a:lnTo>
                  <a:lnTo>
                    <a:pt x="4391" y="490"/>
                  </a:lnTo>
                  <a:lnTo>
                    <a:pt x="4391" y="478"/>
                  </a:lnTo>
                  <a:lnTo>
                    <a:pt x="4416" y="478"/>
                  </a:lnTo>
                  <a:lnTo>
                    <a:pt x="4546" y="478"/>
                  </a:lnTo>
                  <a:lnTo>
                    <a:pt x="4546" y="465"/>
                  </a:lnTo>
                  <a:lnTo>
                    <a:pt x="4553" y="465"/>
                  </a:lnTo>
                  <a:lnTo>
                    <a:pt x="4577" y="465"/>
                  </a:lnTo>
                  <a:lnTo>
                    <a:pt x="4602" y="465"/>
                  </a:lnTo>
                  <a:lnTo>
                    <a:pt x="4621" y="465"/>
                  </a:lnTo>
                  <a:lnTo>
                    <a:pt x="4646" y="465"/>
                  </a:lnTo>
                  <a:lnTo>
                    <a:pt x="4652" y="465"/>
                  </a:lnTo>
                  <a:lnTo>
                    <a:pt x="4658" y="465"/>
                  </a:lnTo>
                  <a:lnTo>
                    <a:pt x="4658" y="452"/>
                  </a:lnTo>
                  <a:lnTo>
                    <a:pt x="4677" y="452"/>
                  </a:lnTo>
                  <a:lnTo>
                    <a:pt x="4689" y="452"/>
                  </a:lnTo>
                  <a:lnTo>
                    <a:pt x="4689" y="438"/>
                  </a:lnTo>
                  <a:lnTo>
                    <a:pt x="4695" y="438"/>
                  </a:lnTo>
                  <a:lnTo>
                    <a:pt x="4695" y="424"/>
                  </a:lnTo>
                  <a:lnTo>
                    <a:pt x="4726" y="424"/>
                  </a:lnTo>
                  <a:lnTo>
                    <a:pt x="4739" y="424"/>
                  </a:lnTo>
                  <a:lnTo>
                    <a:pt x="4751" y="424"/>
                  </a:lnTo>
                  <a:lnTo>
                    <a:pt x="4757" y="424"/>
                  </a:lnTo>
                  <a:lnTo>
                    <a:pt x="4764" y="424"/>
                  </a:lnTo>
                  <a:lnTo>
                    <a:pt x="4764" y="408"/>
                  </a:lnTo>
                  <a:lnTo>
                    <a:pt x="4776" y="408"/>
                  </a:lnTo>
                  <a:lnTo>
                    <a:pt x="4801" y="408"/>
                  </a:lnTo>
                  <a:lnTo>
                    <a:pt x="4838" y="408"/>
                  </a:lnTo>
                  <a:lnTo>
                    <a:pt x="4851" y="408"/>
                  </a:lnTo>
                  <a:lnTo>
                    <a:pt x="4851" y="392"/>
                  </a:lnTo>
                  <a:lnTo>
                    <a:pt x="4882" y="392"/>
                  </a:lnTo>
                  <a:lnTo>
                    <a:pt x="4900" y="392"/>
                  </a:lnTo>
                  <a:lnTo>
                    <a:pt x="4913" y="392"/>
                  </a:lnTo>
                  <a:lnTo>
                    <a:pt x="4925" y="392"/>
                  </a:lnTo>
                  <a:lnTo>
                    <a:pt x="4931" y="392"/>
                  </a:lnTo>
                  <a:lnTo>
                    <a:pt x="4956" y="392"/>
                  </a:lnTo>
                  <a:lnTo>
                    <a:pt x="4956" y="354"/>
                  </a:lnTo>
                  <a:lnTo>
                    <a:pt x="4962" y="354"/>
                  </a:lnTo>
                  <a:lnTo>
                    <a:pt x="4962" y="336"/>
                  </a:lnTo>
                  <a:lnTo>
                    <a:pt x="5062" y="336"/>
                  </a:lnTo>
                  <a:lnTo>
                    <a:pt x="5062" y="317"/>
                  </a:lnTo>
                  <a:lnTo>
                    <a:pt x="5093" y="317"/>
                  </a:lnTo>
                  <a:lnTo>
                    <a:pt x="5143" y="317"/>
                  </a:lnTo>
                  <a:lnTo>
                    <a:pt x="5174" y="317"/>
                  </a:lnTo>
                  <a:lnTo>
                    <a:pt x="5242" y="317"/>
                  </a:lnTo>
                  <a:lnTo>
                    <a:pt x="5273" y="317"/>
                  </a:lnTo>
                  <a:lnTo>
                    <a:pt x="5317" y="317"/>
                  </a:lnTo>
                  <a:lnTo>
                    <a:pt x="5335" y="317"/>
                  </a:lnTo>
                  <a:lnTo>
                    <a:pt x="5435" y="317"/>
                  </a:lnTo>
                  <a:lnTo>
                    <a:pt x="5435" y="294"/>
                  </a:lnTo>
                  <a:lnTo>
                    <a:pt x="5490" y="294"/>
                  </a:lnTo>
                  <a:lnTo>
                    <a:pt x="5503" y="294"/>
                  </a:lnTo>
                  <a:lnTo>
                    <a:pt x="5509" y="294"/>
                  </a:lnTo>
                  <a:lnTo>
                    <a:pt x="5534" y="294"/>
                  </a:lnTo>
                  <a:lnTo>
                    <a:pt x="5540" y="294"/>
                  </a:lnTo>
                  <a:lnTo>
                    <a:pt x="5584" y="294"/>
                  </a:lnTo>
                  <a:lnTo>
                    <a:pt x="5584" y="264"/>
                  </a:lnTo>
                  <a:lnTo>
                    <a:pt x="5627" y="264"/>
                  </a:lnTo>
                  <a:lnTo>
                    <a:pt x="5671" y="264"/>
                  </a:lnTo>
                  <a:lnTo>
                    <a:pt x="5671" y="233"/>
                  </a:lnTo>
                  <a:lnTo>
                    <a:pt x="5714" y="233"/>
                  </a:lnTo>
                  <a:lnTo>
                    <a:pt x="5714" y="202"/>
                  </a:lnTo>
                  <a:lnTo>
                    <a:pt x="5745" y="202"/>
                  </a:lnTo>
                  <a:lnTo>
                    <a:pt x="5776" y="202"/>
                  </a:lnTo>
                  <a:lnTo>
                    <a:pt x="5782" y="202"/>
                  </a:lnTo>
                  <a:lnTo>
                    <a:pt x="5826" y="202"/>
                  </a:lnTo>
                  <a:lnTo>
                    <a:pt x="5826" y="164"/>
                  </a:lnTo>
                  <a:lnTo>
                    <a:pt x="5863" y="164"/>
                  </a:lnTo>
                  <a:lnTo>
                    <a:pt x="5969" y="164"/>
                  </a:lnTo>
                  <a:lnTo>
                    <a:pt x="5994" y="164"/>
                  </a:lnTo>
                  <a:lnTo>
                    <a:pt x="6012" y="164"/>
                  </a:lnTo>
                  <a:lnTo>
                    <a:pt x="6049" y="164"/>
                  </a:lnTo>
                  <a:lnTo>
                    <a:pt x="6136" y="164"/>
                  </a:lnTo>
                  <a:lnTo>
                    <a:pt x="6391" y="164"/>
                  </a:lnTo>
                  <a:lnTo>
                    <a:pt x="6466" y="164"/>
                  </a:lnTo>
                  <a:lnTo>
                    <a:pt x="6466" y="90"/>
                  </a:lnTo>
                  <a:lnTo>
                    <a:pt x="6490" y="90"/>
                  </a:lnTo>
                  <a:lnTo>
                    <a:pt x="6559" y="90"/>
                  </a:lnTo>
                  <a:lnTo>
                    <a:pt x="6559" y="0"/>
                  </a:lnTo>
                  <a:lnTo>
                    <a:pt x="6664" y="0"/>
                  </a:lnTo>
                  <a:lnTo>
                    <a:pt x="6683" y="0"/>
                  </a:lnTo>
                  <a:lnTo>
                    <a:pt x="6714" y="0"/>
                  </a:lnTo>
                  <a:lnTo>
                    <a:pt x="70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55" name="Freeform 192"/>
            <p:cNvSpPr/>
            <p:nvPr/>
          </p:nvSpPr>
          <p:spPr>
            <a:xfrm flipV="1">
              <a:off x="831960" y="1849680"/>
              <a:ext cx="7202520" cy="3148200"/>
            </a:xfrm>
            <a:custGeom>
              <a:avLst/>
              <a:gdLst/>
              <a:ahLst/>
              <a:rect l="l" t="t" r="r" b="b"/>
              <a:pathLst>
                <a:path w="6702" h="3025">
                  <a:moveTo>
                    <a:pt x="0" y="3025"/>
                  </a:moveTo>
                  <a:lnTo>
                    <a:pt x="6" y="3025"/>
                  </a:lnTo>
                  <a:lnTo>
                    <a:pt x="12" y="3025"/>
                  </a:lnTo>
                  <a:lnTo>
                    <a:pt x="18" y="3025"/>
                  </a:lnTo>
                  <a:lnTo>
                    <a:pt x="55" y="3025"/>
                  </a:lnTo>
                  <a:lnTo>
                    <a:pt x="62" y="3025"/>
                  </a:lnTo>
                  <a:lnTo>
                    <a:pt x="62" y="3018"/>
                  </a:lnTo>
                  <a:lnTo>
                    <a:pt x="68" y="3018"/>
                  </a:lnTo>
                  <a:lnTo>
                    <a:pt x="68" y="3003"/>
                  </a:lnTo>
                  <a:lnTo>
                    <a:pt x="86" y="3003"/>
                  </a:lnTo>
                  <a:lnTo>
                    <a:pt x="86" y="2996"/>
                  </a:lnTo>
                  <a:lnTo>
                    <a:pt x="99" y="2996"/>
                  </a:lnTo>
                  <a:lnTo>
                    <a:pt x="99" y="2988"/>
                  </a:lnTo>
                  <a:lnTo>
                    <a:pt x="105" y="2988"/>
                  </a:lnTo>
                  <a:lnTo>
                    <a:pt x="105" y="2981"/>
                  </a:lnTo>
                  <a:lnTo>
                    <a:pt x="111" y="2981"/>
                  </a:lnTo>
                  <a:lnTo>
                    <a:pt x="111" y="2966"/>
                  </a:lnTo>
                  <a:lnTo>
                    <a:pt x="118" y="2966"/>
                  </a:lnTo>
                  <a:lnTo>
                    <a:pt x="124" y="2966"/>
                  </a:lnTo>
                  <a:lnTo>
                    <a:pt x="124" y="2951"/>
                  </a:lnTo>
                  <a:lnTo>
                    <a:pt x="130" y="2951"/>
                  </a:lnTo>
                  <a:lnTo>
                    <a:pt x="136" y="2951"/>
                  </a:lnTo>
                  <a:lnTo>
                    <a:pt x="136" y="2944"/>
                  </a:lnTo>
                  <a:lnTo>
                    <a:pt x="142" y="2944"/>
                  </a:lnTo>
                  <a:lnTo>
                    <a:pt x="149" y="2944"/>
                  </a:lnTo>
                  <a:lnTo>
                    <a:pt x="149" y="2936"/>
                  </a:lnTo>
                  <a:lnTo>
                    <a:pt x="155" y="2936"/>
                  </a:lnTo>
                  <a:lnTo>
                    <a:pt x="155" y="2921"/>
                  </a:lnTo>
                  <a:lnTo>
                    <a:pt x="167" y="2921"/>
                  </a:lnTo>
                  <a:lnTo>
                    <a:pt x="180" y="2921"/>
                  </a:lnTo>
                  <a:lnTo>
                    <a:pt x="180" y="2914"/>
                  </a:lnTo>
                  <a:lnTo>
                    <a:pt x="204" y="2914"/>
                  </a:lnTo>
                  <a:lnTo>
                    <a:pt x="204" y="2898"/>
                  </a:lnTo>
                  <a:lnTo>
                    <a:pt x="211" y="2898"/>
                  </a:lnTo>
                  <a:lnTo>
                    <a:pt x="211" y="2891"/>
                  </a:lnTo>
                  <a:lnTo>
                    <a:pt x="217" y="2891"/>
                  </a:lnTo>
                  <a:lnTo>
                    <a:pt x="217" y="2883"/>
                  </a:lnTo>
                  <a:lnTo>
                    <a:pt x="242" y="2883"/>
                  </a:lnTo>
                  <a:lnTo>
                    <a:pt x="242" y="2876"/>
                  </a:lnTo>
                  <a:lnTo>
                    <a:pt x="310" y="2876"/>
                  </a:lnTo>
                  <a:lnTo>
                    <a:pt x="310" y="2868"/>
                  </a:lnTo>
                  <a:lnTo>
                    <a:pt x="322" y="2868"/>
                  </a:lnTo>
                  <a:lnTo>
                    <a:pt x="322" y="2861"/>
                  </a:lnTo>
                  <a:lnTo>
                    <a:pt x="341" y="2861"/>
                  </a:lnTo>
                  <a:lnTo>
                    <a:pt x="341" y="2853"/>
                  </a:lnTo>
                  <a:lnTo>
                    <a:pt x="354" y="2853"/>
                  </a:lnTo>
                  <a:lnTo>
                    <a:pt x="354" y="2823"/>
                  </a:lnTo>
                  <a:lnTo>
                    <a:pt x="385" y="2823"/>
                  </a:lnTo>
                  <a:lnTo>
                    <a:pt x="385" y="2815"/>
                  </a:lnTo>
                  <a:lnTo>
                    <a:pt x="416" y="2815"/>
                  </a:lnTo>
                  <a:lnTo>
                    <a:pt x="416" y="2808"/>
                  </a:lnTo>
                  <a:lnTo>
                    <a:pt x="428" y="2808"/>
                  </a:lnTo>
                  <a:lnTo>
                    <a:pt x="428" y="2800"/>
                  </a:lnTo>
                  <a:lnTo>
                    <a:pt x="441" y="2800"/>
                  </a:lnTo>
                  <a:lnTo>
                    <a:pt x="441" y="2785"/>
                  </a:lnTo>
                  <a:lnTo>
                    <a:pt x="465" y="2785"/>
                  </a:lnTo>
                  <a:lnTo>
                    <a:pt x="465" y="2777"/>
                  </a:lnTo>
                  <a:lnTo>
                    <a:pt x="521" y="2777"/>
                  </a:lnTo>
                  <a:lnTo>
                    <a:pt x="521" y="2770"/>
                  </a:lnTo>
                  <a:lnTo>
                    <a:pt x="540" y="2770"/>
                  </a:lnTo>
                  <a:lnTo>
                    <a:pt x="540" y="2755"/>
                  </a:lnTo>
                  <a:lnTo>
                    <a:pt x="552" y="2755"/>
                  </a:lnTo>
                  <a:lnTo>
                    <a:pt x="552" y="2732"/>
                  </a:lnTo>
                  <a:lnTo>
                    <a:pt x="565" y="2732"/>
                  </a:lnTo>
                  <a:lnTo>
                    <a:pt x="565" y="2724"/>
                  </a:lnTo>
                  <a:lnTo>
                    <a:pt x="571" y="2724"/>
                  </a:lnTo>
                  <a:lnTo>
                    <a:pt x="571" y="2702"/>
                  </a:lnTo>
                  <a:lnTo>
                    <a:pt x="577" y="2702"/>
                  </a:lnTo>
                  <a:lnTo>
                    <a:pt x="577" y="2694"/>
                  </a:lnTo>
                  <a:lnTo>
                    <a:pt x="596" y="2694"/>
                  </a:lnTo>
                  <a:lnTo>
                    <a:pt x="596" y="2687"/>
                  </a:lnTo>
                  <a:lnTo>
                    <a:pt x="602" y="2687"/>
                  </a:lnTo>
                  <a:lnTo>
                    <a:pt x="602" y="2672"/>
                  </a:lnTo>
                  <a:lnTo>
                    <a:pt x="608" y="2672"/>
                  </a:lnTo>
                  <a:lnTo>
                    <a:pt x="608" y="2664"/>
                  </a:lnTo>
                  <a:lnTo>
                    <a:pt x="614" y="2664"/>
                  </a:lnTo>
                  <a:lnTo>
                    <a:pt x="627" y="2664"/>
                  </a:lnTo>
                  <a:lnTo>
                    <a:pt x="627" y="2656"/>
                  </a:lnTo>
                  <a:lnTo>
                    <a:pt x="633" y="2656"/>
                  </a:lnTo>
                  <a:lnTo>
                    <a:pt x="633" y="2641"/>
                  </a:lnTo>
                  <a:lnTo>
                    <a:pt x="639" y="2641"/>
                  </a:lnTo>
                  <a:lnTo>
                    <a:pt x="639" y="2634"/>
                  </a:lnTo>
                  <a:lnTo>
                    <a:pt x="652" y="2634"/>
                  </a:lnTo>
                  <a:lnTo>
                    <a:pt x="652" y="2626"/>
                  </a:lnTo>
                  <a:lnTo>
                    <a:pt x="664" y="2626"/>
                  </a:lnTo>
                  <a:lnTo>
                    <a:pt x="664" y="2611"/>
                  </a:lnTo>
                  <a:lnTo>
                    <a:pt x="689" y="2611"/>
                  </a:lnTo>
                  <a:lnTo>
                    <a:pt x="689" y="2603"/>
                  </a:lnTo>
                  <a:lnTo>
                    <a:pt x="708" y="2603"/>
                  </a:lnTo>
                  <a:lnTo>
                    <a:pt x="708" y="2596"/>
                  </a:lnTo>
                  <a:lnTo>
                    <a:pt x="714" y="2596"/>
                  </a:lnTo>
                  <a:lnTo>
                    <a:pt x="714" y="2588"/>
                  </a:lnTo>
                  <a:lnTo>
                    <a:pt x="720" y="2588"/>
                  </a:lnTo>
                  <a:lnTo>
                    <a:pt x="720" y="2573"/>
                  </a:lnTo>
                  <a:lnTo>
                    <a:pt x="739" y="2573"/>
                  </a:lnTo>
                  <a:lnTo>
                    <a:pt x="739" y="2565"/>
                  </a:lnTo>
                  <a:lnTo>
                    <a:pt x="757" y="2565"/>
                  </a:lnTo>
                  <a:lnTo>
                    <a:pt x="757" y="2542"/>
                  </a:lnTo>
                  <a:lnTo>
                    <a:pt x="776" y="2542"/>
                  </a:lnTo>
                  <a:lnTo>
                    <a:pt x="776" y="2527"/>
                  </a:lnTo>
                  <a:lnTo>
                    <a:pt x="788" y="2527"/>
                  </a:lnTo>
                  <a:lnTo>
                    <a:pt x="788" y="2519"/>
                  </a:lnTo>
                  <a:lnTo>
                    <a:pt x="795" y="2519"/>
                  </a:lnTo>
                  <a:lnTo>
                    <a:pt x="795" y="2504"/>
                  </a:lnTo>
                  <a:lnTo>
                    <a:pt x="801" y="2504"/>
                  </a:lnTo>
                  <a:lnTo>
                    <a:pt x="813" y="2504"/>
                  </a:lnTo>
                  <a:lnTo>
                    <a:pt x="813" y="2489"/>
                  </a:lnTo>
                  <a:lnTo>
                    <a:pt x="826" y="2489"/>
                  </a:lnTo>
                  <a:lnTo>
                    <a:pt x="826" y="2481"/>
                  </a:lnTo>
                  <a:lnTo>
                    <a:pt x="850" y="2481"/>
                  </a:lnTo>
                  <a:lnTo>
                    <a:pt x="850" y="2473"/>
                  </a:lnTo>
                  <a:lnTo>
                    <a:pt x="875" y="2473"/>
                  </a:lnTo>
                  <a:lnTo>
                    <a:pt x="875" y="2466"/>
                  </a:lnTo>
                  <a:lnTo>
                    <a:pt x="882" y="2466"/>
                  </a:lnTo>
                  <a:lnTo>
                    <a:pt x="882" y="2458"/>
                  </a:lnTo>
                  <a:lnTo>
                    <a:pt x="888" y="2458"/>
                  </a:lnTo>
                  <a:lnTo>
                    <a:pt x="888" y="2450"/>
                  </a:lnTo>
                  <a:lnTo>
                    <a:pt x="894" y="2450"/>
                  </a:lnTo>
                  <a:lnTo>
                    <a:pt x="894" y="2443"/>
                  </a:lnTo>
                  <a:lnTo>
                    <a:pt x="900" y="2443"/>
                  </a:lnTo>
                  <a:lnTo>
                    <a:pt x="900" y="2435"/>
                  </a:lnTo>
                  <a:lnTo>
                    <a:pt x="913" y="2435"/>
                  </a:lnTo>
                  <a:lnTo>
                    <a:pt x="913" y="2427"/>
                  </a:lnTo>
                  <a:lnTo>
                    <a:pt x="937" y="2427"/>
                  </a:lnTo>
                  <a:lnTo>
                    <a:pt x="937" y="2420"/>
                  </a:lnTo>
                  <a:lnTo>
                    <a:pt x="956" y="2420"/>
                  </a:lnTo>
                  <a:lnTo>
                    <a:pt x="956" y="2412"/>
                  </a:lnTo>
                  <a:lnTo>
                    <a:pt x="962" y="2412"/>
                  </a:lnTo>
                  <a:lnTo>
                    <a:pt x="968" y="2412"/>
                  </a:lnTo>
                  <a:lnTo>
                    <a:pt x="968" y="2404"/>
                  </a:lnTo>
                  <a:lnTo>
                    <a:pt x="981" y="2404"/>
                  </a:lnTo>
                  <a:lnTo>
                    <a:pt x="1000" y="2404"/>
                  </a:lnTo>
                  <a:lnTo>
                    <a:pt x="1000" y="2389"/>
                  </a:lnTo>
                  <a:lnTo>
                    <a:pt x="1024" y="2389"/>
                  </a:lnTo>
                  <a:lnTo>
                    <a:pt x="1024" y="2381"/>
                  </a:lnTo>
                  <a:lnTo>
                    <a:pt x="1037" y="2381"/>
                  </a:lnTo>
                  <a:lnTo>
                    <a:pt x="1037" y="2366"/>
                  </a:lnTo>
                  <a:lnTo>
                    <a:pt x="1049" y="2366"/>
                  </a:lnTo>
                  <a:lnTo>
                    <a:pt x="1049" y="2350"/>
                  </a:lnTo>
                  <a:lnTo>
                    <a:pt x="1055" y="2350"/>
                  </a:lnTo>
                  <a:lnTo>
                    <a:pt x="1068" y="2350"/>
                  </a:lnTo>
                  <a:lnTo>
                    <a:pt x="1074" y="2350"/>
                  </a:lnTo>
                  <a:lnTo>
                    <a:pt x="1074" y="2343"/>
                  </a:lnTo>
                  <a:lnTo>
                    <a:pt x="1087" y="2343"/>
                  </a:lnTo>
                  <a:lnTo>
                    <a:pt x="1087" y="2335"/>
                  </a:lnTo>
                  <a:lnTo>
                    <a:pt x="1105" y="2335"/>
                  </a:lnTo>
                  <a:lnTo>
                    <a:pt x="1105" y="2320"/>
                  </a:lnTo>
                  <a:lnTo>
                    <a:pt x="1111" y="2320"/>
                  </a:lnTo>
                  <a:lnTo>
                    <a:pt x="1111" y="2312"/>
                  </a:lnTo>
                  <a:lnTo>
                    <a:pt x="1118" y="2312"/>
                  </a:lnTo>
                  <a:lnTo>
                    <a:pt x="1118" y="2304"/>
                  </a:lnTo>
                  <a:lnTo>
                    <a:pt x="1136" y="2304"/>
                  </a:lnTo>
                  <a:lnTo>
                    <a:pt x="1136" y="2296"/>
                  </a:lnTo>
                  <a:lnTo>
                    <a:pt x="1142" y="2296"/>
                  </a:lnTo>
                  <a:lnTo>
                    <a:pt x="1142" y="2289"/>
                  </a:lnTo>
                  <a:lnTo>
                    <a:pt x="1149" y="2289"/>
                  </a:lnTo>
                  <a:lnTo>
                    <a:pt x="1149" y="2281"/>
                  </a:lnTo>
                  <a:lnTo>
                    <a:pt x="1155" y="2281"/>
                  </a:lnTo>
                  <a:lnTo>
                    <a:pt x="1155" y="2273"/>
                  </a:lnTo>
                  <a:lnTo>
                    <a:pt x="1161" y="2273"/>
                  </a:lnTo>
                  <a:lnTo>
                    <a:pt x="1161" y="2265"/>
                  </a:lnTo>
                  <a:lnTo>
                    <a:pt x="1167" y="2265"/>
                  </a:lnTo>
                  <a:lnTo>
                    <a:pt x="1167" y="2250"/>
                  </a:lnTo>
                  <a:lnTo>
                    <a:pt x="1173" y="2250"/>
                  </a:lnTo>
                  <a:lnTo>
                    <a:pt x="1173" y="2227"/>
                  </a:lnTo>
                  <a:lnTo>
                    <a:pt x="1186" y="2227"/>
                  </a:lnTo>
                  <a:lnTo>
                    <a:pt x="1186" y="2219"/>
                  </a:lnTo>
                  <a:lnTo>
                    <a:pt x="1205" y="2219"/>
                  </a:lnTo>
                  <a:lnTo>
                    <a:pt x="1205" y="2211"/>
                  </a:lnTo>
                  <a:lnTo>
                    <a:pt x="1229" y="2211"/>
                  </a:lnTo>
                  <a:lnTo>
                    <a:pt x="1242" y="2211"/>
                  </a:lnTo>
                  <a:lnTo>
                    <a:pt x="1242" y="2196"/>
                  </a:lnTo>
                  <a:lnTo>
                    <a:pt x="1248" y="2196"/>
                  </a:lnTo>
                  <a:lnTo>
                    <a:pt x="1248" y="2188"/>
                  </a:lnTo>
                  <a:lnTo>
                    <a:pt x="1260" y="2188"/>
                  </a:lnTo>
                  <a:lnTo>
                    <a:pt x="1260" y="2180"/>
                  </a:lnTo>
                  <a:lnTo>
                    <a:pt x="1273" y="2180"/>
                  </a:lnTo>
                  <a:lnTo>
                    <a:pt x="1273" y="2172"/>
                  </a:lnTo>
                  <a:lnTo>
                    <a:pt x="1285" y="2172"/>
                  </a:lnTo>
                  <a:lnTo>
                    <a:pt x="1285" y="2165"/>
                  </a:lnTo>
                  <a:lnTo>
                    <a:pt x="1304" y="2165"/>
                  </a:lnTo>
                  <a:lnTo>
                    <a:pt x="1304" y="2157"/>
                  </a:lnTo>
                  <a:lnTo>
                    <a:pt x="1310" y="2157"/>
                  </a:lnTo>
                  <a:lnTo>
                    <a:pt x="1310" y="2141"/>
                  </a:lnTo>
                  <a:lnTo>
                    <a:pt x="1316" y="2141"/>
                  </a:lnTo>
                  <a:lnTo>
                    <a:pt x="1329" y="2141"/>
                  </a:lnTo>
                  <a:lnTo>
                    <a:pt x="1329" y="2133"/>
                  </a:lnTo>
                  <a:lnTo>
                    <a:pt x="1341" y="2133"/>
                  </a:lnTo>
                  <a:lnTo>
                    <a:pt x="1341" y="2126"/>
                  </a:lnTo>
                  <a:lnTo>
                    <a:pt x="1347" y="2126"/>
                  </a:lnTo>
                  <a:lnTo>
                    <a:pt x="1347" y="2118"/>
                  </a:lnTo>
                  <a:lnTo>
                    <a:pt x="1366" y="2118"/>
                  </a:lnTo>
                  <a:lnTo>
                    <a:pt x="1366" y="2110"/>
                  </a:lnTo>
                  <a:lnTo>
                    <a:pt x="1378" y="2110"/>
                  </a:lnTo>
                  <a:lnTo>
                    <a:pt x="1378" y="2102"/>
                  </a:lnTo>
                  <a:lnTo>
                    <a:pt x="1397" y="2102"/>
                  </a:lnTo>
                  <a:lnTo>
                    <a:pt x="1397" y="2094"/>
                  </a:lnTo>
                  <a:lnTo>
                    <a:pt x="1403" y="2094"/>
                  </a:lnTo>
                  <a:lnTo>
                    <a:pt x="1403" y="2086"/>
                  </a:lnTo>
                  <a:lnTo>
                    <a:pt x="1410" y="2086"/>
                  </a:lnTo>
                  <a:lnTo>
                    <a:pt x="1410" y="2079"/>
                  </a:lnTo>
                  <a:lnTo>
                    <a:pt x="1416" y="2079"/>
                  </a:lnTo>
                  <a:lnTo>
                    <a:pt x="1416" y="2071"/>
                  </a:lnTo>
                  <a:lnTo>
                    <a:pt x="1422" y="2071"/>
                  </a:lnTo>
                  <a:lnTo>
                    <a:pt x="1428" y="2071"/>
                  </a:lnTo>
                  <a:lnTo>
                    <a:pt x="1428" y="2063"/>
                  </a:lnTo>
                  <a:lnTo>
                    <a:pt x="1434" y="2063"/>
                  </a:lnTo>
                  <a:lnTo>
                    <a:pt x="1434" y="2055"/>
                  </a:lnTo>
                  <a:lnTo>
                    <a:pt x="1441" y="2055"/>
                  </a:lnTo>
                  <a:lnTo>
                    <a:pt x="1441" y="2047"/>
                  </a:lnTo>
                  <a:lnTo>
                    <a:pt x="1447" y="2047"/>
                  </a:lnTo>
                  <a:lnTo>
                    <a:pt x="1447" y="2039"/>
                  </a:lnTo>
                  <a:lnTo>
                    <a:pt x="1459" y="2039"/>
                  </a:lnTo>
                  <a:lnTo>
                    <a:pt x="1459" y="2031"/>
                  </a:lnTo>
                  <a:lnTo>
                    <a:pt x="1472" y="2031"/>
                  </a:lnTo>
                  <a:lnTo>
                    <a:pt x="1472" y="2016"/>
                  </a:lnTo>
                  <a:lnTo>
                    <a:pt x="1496" y="2016"/>
                  </a:lnTo>
                  <a:lnTo>
                    <a:pt x="1496" y="2008"/>
                  </a:lnTo>
                  <a:lnTo>
                    <a:pt x="1509" y="2008"/>
                  </a:lnTo>
                  <a:lnTo>
                    <a:pt x="1509" y="2000"/>
                  </a:lnTo>
                  <a:lnTo>
                    <a:pt x="1515" y="2000"/>
                  </a:lnTo>
                  <a:lnTo>
                    <a:pt x="1515" y="1992"/>
                  </a:lnTo>
                  <a:lnTo>
                    <a:pt x="1521" y="1992"/>
                  </a:lnTo>
                  <a:lnTo>
                    <a:pt x="1521" y="1984"/>
                  </a:lnTo>
                  <a:lnTo>
                    <a:pt x="1552" y="1984"/>
                  </a:lnTo>
                  <a:lnTo>
                    <a:pt x="1552" y="1976"/>
                  </a:lnTo>
                  <a:lnTo>
                    <a:pt x="1565" y="1976"/>
                  </a:lnTo>
                  <a:lnTo>
                    <a:pt x="1583" y="1976"/>
                  </a:lnTo>
                  <a:lnTo>
                    <a:pt x="1583" y="1969"/>
                  </a:lnTo>
                  <a:lnTo>
                    <a:pt x="1596" y="1969"/>
                  </a:lnTo>
                  <a:lnTo>
                    <a:pt x="1596" y="1953"/>
                  </a:lnTo>
                  <a:lnTo>
                    <a:pt x="1621" y="1953"/>
                  </a:lnTo>
                  <a:lnTo>
                    <a:pt x="1621" y="1945"/>
                  </a:lnTo>
                  <a:lnTo>
                    <a:pt x="1627" y="1945"/>
                  </a:lnTo>
                  <a:lnTo>
                    <a:pt x="1627" y="1929"/>
                  </a:lnTo>
                  <a:lnTo>
                    <a:pt x="1633" y="1929"/>
                  </a:lnTo>
                  <a:lnTo>
                    <a:pt x="1633" y="1921"/>
                  </a:lnTo>
                  <a:lnTo>
                    <a:pt x="1664" y="1921"/>
                  </a:lnTo>
                  <a:lnTo>
                    <a:pt x="1664" y="1913"/>
                  </a:lnTo>
                  <a:lnTo>
                    <a:pt x="1670" y="1913"/>
                  </a:lnTo>
                  <a:lnTo>
                    <a:pt x="1670" y="1905"/>
                  </a:lnTo>
                  <a:lnTo>
                    <a:pt x="1677" y="1905"/>
                  </a:lnTo>
                  <a:lnTo>
                    <a:pt x="1677" y="1897"/>
                  </a:lnTo>
                  <a:lnTo>
                    <a:pt x="1689" y="1897"/>
                  </a:lnTo>
                  <a:lnTo>
                    <a:pt x="1689" y="1889"/>
                  </a:lnTo>
                  <a:lnTo>
                    <a:pt x="1701" y="1889"/>
                  </a:lnTo>
                  <a:lnTo>
                    <a:pt x="1701" y="1881"/>
                  </a:lnTo>
                  <a:lnTo>
                    <a:pt x="1708" y="1881"/>
                  </a:lnTo>
                  <a:lnTo>
                    <a:pt x="1708" y="1873"/>
                  </a:lnTo>
                  <a:lnTo>
                    <a:pt x="1714" y="1873"/>
                  </a:lnTo>
                  <a:lnTo>
                    <a:pt x="1714" y="1865"/>
                  </a:lnTo>
                  <a:lnTo>
                    <a:pt x="1720" y="1865"/>
                  </a:lnTo>
                  <a:lnTo>
                    <a:pt x="1720" y="1857"/>
                  </a:lnTo>
                  <a:lnTo>
                    <a:pt x="1745" y="1857"/>
                  </a:lnTo>
                  <a:lnTo>
                    <a:pt x="1745" y="1849"/>
                  </a:lnTo>
                  <a:lnTo>
                    <a:pt x="1751" y="1849"/>
                  </a:lnTo>
                  <a:lnTo>
                    <a:pt x="1751" y="1842"/>
                  </a:lnTo>
                  <a:lnTo>
                    <a:pt x="1757" y="1842"/>
                  </a:lnTo>
                  <a:lnTo>
                    <a:pt x="1757" y="1826"/>
                  </a:lnTo>
                  <a:lnTo>
                    <a:pt x="1782" y="1826"/>
                  </a:lnTo>
                  <a:lnTo>
                    <a:pt x="1782" y="1818"/>
                  </a:lnTo>
                  <a:lnTo>
                    <a:pt x="1795" y="1818"/>
                  </a:lnTo>
                  <a:lnTo>
                    <a:pt x="1795" y="1810"/>
                  </a:lnTo>
                  <a:lnTo>
                    <a:pt x="1801" y="1810"/>
                  </a:lnTo>
                  <a:lnTo>
                    <a:pt x="1801" y="1786"/>
                  </a:lnTo>
                  <a:lnTo>
                    <a:pt x="1807" y="1786"/>
                  </a:lnTo>
                  <a:lnTo>
                    <a:pt x="1807" y="1778"/>
                  </a:lnTo>
                  <a:lnTo>
                    <a:pt x="1819" y="1778"/>
                  </a:lnTo>
                  <a:lnTo>
                    <a:pt x="1819" y="1762"/>
                  </a:lnTo>
                  <a:lnTo>
                    <a:pt x="1838" y="1762"/>
                  </a:lnTo>
                  <a:lnTo>
                    <a:pt x="1838" y="1746"/>
                  </a:lnTo>
                  <a:lnTo>
                    <a:pt x="1844" y="1746"/>
                  </a:lnTo>
                  <a:lnTo>
                    <a:pt x="1844" y="1738"/>
                  </a:lnTo>
                  <a:lnTo>
                    <a:pt x="1857" y="1738"/>
                  </a:lnTo>
                  <a:lnTo>
                    <a:pt x="1857" y="1730"/>
                  </a:lnTo>
                  <a:lnTo>
                    <a:pt x="1863" y="1730"/>
                  </a:lnTo>
                  <a:lnTo>
                    <a:pt x="1863" y="1722"/>
                  </a:lnTo>
                  <a:lnTo>
                    <a:pt x="1906" y="1722"/>
                  </a:lnTo>
                  <a:lnTo>
                    <a:pt x="1906" y="1714"/>
                  </a:lnTo>
                  <a:lnTo>
                    <a:pt x="1913" y="1714"/>
                  </a:lnTo>
                  <a:lnTo>
                    <a:pt x="1913" y="1707"/>
                  </a:lnTo>
                  <a:lnTo>
                    <a:pt x="1925" y="1707"/>
                  </a:lnTo>
                  <a:lnTo>
                    <a:pt x="1925" y="1699"/>
                  </a:lnTo>
                  <a:lnTo>
                    <a:pt x="1931" y="1699"/>
                  </a:lnTo>
                  <a:lnTo>
                    <a:pt x="1931" y="1691"/>
                  </a:lnTo>
                  <a:lnTo>
                    <a:pt x="1962" y="1691"/>
                  </a:lnTo>
                  <a:lnTo>
                    <a:pt x="1962" y="1683"/>
                  </a:lnTo>
                  <a:lnTo>
                    <a:pt x="1975" y="1683"/>
                  </a:lnTo>
                  <a:lnTo>
                    <a:pt x="1975" y="1675"/>
                  </a:lnTo>
                  <a:lnTo>
                    <a:pt x="2006" y="1675"/>
                  </a:lnTo>
                  <a:lnTo>
                    <a:pt x="2006" y="1667"/>
                  </a:lnTo>
                  <a:lnTo>
                    <a:pt x="2018" y="1667"/>
                  </a:lnTo>
                  <a:lnTo>
                    <a:pt x="2018" y="1659"/>
                  </a:lnTo>
                  <a:lnTo>
                    <a:pt x="2031" y="1659"/>
                  </a:lnTo>
                  <a:lnTo>
                    <a:pt x="2031" y="1651"/>
                  </a:lnTo>
                  <a:lnTo>
                    <a:pt x="2043" y="1651"/>
                  </a:lnTo>
                  <a:lnTo>
                    <a:pt x="2043" y="1643"/>
                  </a:lnTo>
                  <a:lnTo>
                    <a:pt x="2055" y="1643"/>
                  </a:lnTo>
                  <a:lnTo>
                    <a:pt x="2055" y="1635"/>
                  </a:lnTo>
                  <a:lnTo>
                    <a:pt x="2062" y="1635"/>
                  </a:lnTo>
                  <a:lnTo>
                    <a:pt x="2062" y="1619"/>
                  </a:lnTo>
                  <a:lnTo>
                    <a:pt x="2074" y="1619"/>
                  </a:lnTo>
                  <a:lnTo>
                    <a:pt x="2074" y="1611"/>
                  </a:lnTo>
                  <a:lnTo>
                    <a:pt x="2080" y="1611"/>
                  </a:lnTo>
                  <a:lnTo>
                    <a:pt x="2080" y="1603"/>
                  </a:lnTo>
                  <a:lnTo>
                    <a:pt x="2087" y="1603"/>
                  </a:lnTo>
                  <a:lnTo>
                    <a:pt x="2087" y="1595"/>
                  </a:lnTo>
                  <a:lnTo>
                    <a:pt x="2111" y="1595"/>
                  </a:lnTo>
                  <a:lnTo>
                    <a:pt x="2111" y="1587"/>
                  </a:lnTo>
                  <a:lnTo>
                    <a:pt x="2118" y="1587"/>
                  </a:lnTo>
                  <a:lnTo>
                    <a:pt x="2118" y="1579"/>
                  </a:lnTo>
                  <a:lnTo>
                    <a:pt x="2124" y="1579"/>
                  </a:lnTo>
                  <a:lnTo>
                    <a:pt x="2124" y="1563"/>
                  </a:lnTo>
                  <a:lnTo>
                    <a:pt x="2130" y="1563"/>
                  </a:lnTo>
                  <a:lnTo>
                    <a:pt x="2130" y="1547"/>
                  </a:lnTo>
                  <a:lnTo>
                    <a:pt x="2142" y="1547"/>
                  </a:lnTo>
                  <a:lnTo>
                    <a:pt x="2142" y="1539"/>
                  </a:lnTo>
                  <a:lnTo>
                    <a:pt x="2149" y="1539"/>
                  </a:lnTo>
                  <a:lnTo>
                    <a:pt x="2149" y="1531"/>
                  </a:lnTo>
                  <a:lnTo>
                    <a:pt x="2167" y="1531"/>
                  </a:lnTo>
                  <a:lnTo>
                    <a:pt x="2167" y="1523"/>
                  </a:lnTo>
                  <a:lnTo>
                    <a:pt x="2186" y="1523"/>
                  </a:lnTo>
                  <a:lnTo>
                    <a:pt x="2205" y="1523"/>
                  </a:lnTo>
                  <a:lnTo>
                    <a:pt x="2205" y="1515"/>
                  </a:lnTo>
                  <a:lnTo>
                    <a:pt x="2211" y="1515"/>
                  </a:lnTo>
                  <a:lnTo>
                    <a:pt x="2211" y="1507"/>
                  </a:lnTo>
                  <a:lnTo>
                    <a:pt x="2217" y="1507"/>
                  </a:lnTo>
                  <a:lnTo>
                    <a:pt x="2223" y="1507"/>
                  </a:lnTo>
                  <a:lnTo>
                    <a:pt x="2223" y="1499"/>
                  </a:lnTo>
                  <a:lnTo>
                    <a:pt x="2229" y="1499"/>
                  </a:lnTo>
                  <a:lnTo>
                    <a:pt x="2229" y="1491"/>
                  </a:lnTo>
                  <a:lnTo>
                    <a:pt x="2236" y="1491"/>
                  </a:lnTo>
                  <a:lnTo>
                    <a:pt x="2236" y="1483"/>
                  </a:lnTo>
                  <a:lnTo>
                    <a:pt x="2242" y="1483"/>
                  </a:lnTo>
                  <a:lnTo>
                    <a:pt x="2242" y="1467"/>
                  </a:lnTo>
                  <a:lnTo>
                    <a:pt x="2254" y="1467"/>
                  </a:lnTo>
                  <a:lnTo>
                    <a:pt x="2254" y="1459"/>
                  </a:lnTo>
                  <a:lnTo>
                    <a:pt x="2260" y="1459"/>
                  </a:lnTo>
                  <a:lnTo>
                    <a:pt x="2260" y="1451"/>
                  </a:lnTo>
                  <a:lnTo>
                    <a:pt x="2292" y="1451"/>
                  </a:lnTo>
                  <a:lnTo>
                    <a:pt x="2292" y="1435"/>
                  </a:lnTo>
                  <a:lnTo>
                    <a:pt x="2298" y="1435"/>
                  </a:lnTo>
                  <a:lnTo>
                    <a:pt x="2298" y="1427"/>
                  </a:lnTo>
                  <a:lnTo>
                    <a:pt x="2310" y="1427"/>
                  </a:lnTo>
                  <a:lnTo>
                    <a:pt x="2323" y="1427"/>
                  </a:lnTo>
                  <a:lnTo>
                    <a:pt x="2323" y="1419"/>
                  </a:lnTo>
                  <a:lnTo>
                    <a:pt x="2335" y="1419"/>
                  </a:lnTo>
                  <a:lnTo>
                    <a:pt x="2335" y="1411"/>
                  </a:lnTo>
                  <a:lnTo>
                    <a:pt x="2347" y="1411"/>
                  </a:lnTo>
                  <a:lnTo>
                    <a:pt x="2347" y="1386"/>
                  </a:lnTo>
                  <a:lnTo>
                    <a:pt x="2391" y="1386"/>
                  </a:lnTo>
                  <a:lnTo>
                    <a:pt x="2391" y="1378"/>
                  </a:lnTo>
                  <a:lnTo>
                    <a:pt x="2416" y="1378"/>
                  </a:lnTo>
                  <a:lnTo>
                    <a:pt x="2416" y="1370"/>
                  </a:lnTo>
                  <a:lnTo>
                    <a:pt x="2434" y="1370"/>
                  </a:lnTo>
                  <a:lnTo>
                    <a:pt x="2434" y="1362"/>
                  </a:lnTo>
                  <a:lnTo>
                    <a:pt x="2472" y="1362"/>
                  </a:lnTo>
                  <a:lnTo>
                    <a:pt x="2472" y="1354"/>
                  </a:lnTo>
                  <a:lnTo>
                    <a:pt x="2478" y="1354"/>
                  </a:lnTo>
                  <a:lnTo>
                    <a:pt x="2478" y="1346"/>
                  </a:lnTo>
                  <a:lnTo>
                    <a:pt x="2484" y="1346"/>
                  </a:lnTo>
                  <a:lnTo>
                    <a:pt x="2484" y="1338"/>
                  </a:lnTo>
                  <a:lnTo>
                    <a:pt x="2528" y="1338"/>
                  </a:lnTo>
                  <a:lnTo>
                    <a:pt x="2528" y="1321"/>
                  </a:lnTo>
                  <a:lnTo>
                    <a:pt x="2534" y="1321"/>
                  </a:lnTo>
                  <a:lnTo>
                    <a:pt x="2534" y="1305"/>
                  </a:lnTo>
                  <a:lnTo>
                    <a:pt x="2559" y="1305"/>
                  </a:lnTo>
                  <a:lnTo>
                    <a:pt x="2577" y="1305"/>
                  </a:lnTo>
                  <a:lnTo>
                    <a:pt x="2577" y="1297"/>
                  </a:lnTo>
                  <a:lnTo>
                    <a:pt x="2583" y="1297"/>
                  </a:lnTo>
                  <a:lnTo>
                    <a:pt x="2583" y="1289"/>
                  </a:lnTo>
                  <a:lnTo>
                    <a:pt x="2602" y="1289"/>
                  </a:lnTo>
                  <a:lnTo>
                    <a:pt x="2602" y="1281"/>
                  </a:lnTo>
                  <a:lnTo>
                    <a:pt x="2608" y="1281"/>
                  </a:lnTo>
                  <a:lnTo>
                    <a:pt x="2608" y="1273"/>
                  </a:lnTo>
                  <a:lnTo>
                    <a:pt x="2621" y="1273"/>
                  </a:lnTo>
                  <a:lnTo>
                    <a:pt x="2621" y="1264"/>
                  </a:lnTo>
                  <a:lnTo>
                    <a:pt x="2633" y="1264"/>
                  </a:lnTo>
                  <a:lnTo>
                    <a:pt x="2633" y="1256"/>
                  </a:lnTo>
                  <a:lnTo>
                    <a:pt x="2646" y="1256"/>
                  </a:lnTo>
                  <a:lnTo>
                    <a:pt x="2646" y="1240"/>
                  </a:lnTo>
                  <a:lnTo>
                    <a:pt x="2664" y="1240"/>
                  </a:lnTo>
                  <a:lnTo>
                    <a:pt x="2683" y="1240"/>
                  </a:lnTo>
                  <a:lnTo>
                    <a:pt x="2683" y="1232"/>
                  </a:lnTo>
                  <a:lnTo>
                    <a:pt x="2695" y="1232"/>
                  </a:lnTo>
                  <a:lnTo>
                    <a:pt x="2695" y="1224"/>
                  </a:lnTo>
                  <a:lnTo>
                    <a:pt x="2701" y="1224"/>
                  </a:lnTo>
                  <a:lnTo>
                    <a:pt x="2701" y="1215"/>
                  </a:lnTo>
                  <a:lnTo>
                    <a:pt x="2708" y="1215"/>
                  </a:lnTo>
                  <a:lnTo>
                    <a:pt x="2708" y="1207"/>
                  </a:lnTo>
                  <a:lnTo>
                    <a:pt x="2720" y="1207"/>
                  </a:lnTo>
                  <a:lnTo>
                    <a:pt x="2720" y="1191"/>
                  </a:lnTo>
                  <a:lnTo>
                    <a:pt x="2726" y="1191"/>
                  </a:lnTo>
                  <a:lnTo>
                    <a:pt x="2726" y="1183"/>
                  </a:lnTo>
                  <a:lnTo>
                    <a:pt x="2745" y="1183"/>
                  </a:lnTo>
                  <a:lnTo>
                    <a:pt x="2745" y="1174"/>
                  </a:lnTo>
                  <a:lnTo>
                    <a:pt x="2764" y="1174"/>
                  </a:lnTo>
                  <a:lnTo>
                    <a:pt x="2764" y="1166"/>
                  </a:lnTo>
                  <a:lnTo>
                    <a:pt x="2776" y="1166"/>
                  </a:lnTo>
                  <a:lnTo>
                    <a:pt x="2776" y="1150"/>
                  </a:lnTo>
                  <a:lnTo>
                    <a:pt x="2820" y="1150"/>
                  </a:lnTo>
                  <a:lnTo>
                    <a:pt x="2820" y="1134"/>
                  </a:lnTo>
                  <a:lnTo>
                    <a:pt x="2838" y="1134"/>
                  </a:lnTo>
                  <a:lnTo>
                    <a:pt x="2838" y="1109"/>
                  </a:lnTo>
                  <a:lnTo>
                    <a:pt x="2844" y="1109"/>
                  </a:lnTo>
                  <a:lnTo>
                    <a:pt x="2844" y="1101"/>
                  </a:lnTo>
                  <a:lnTo>
                    <a:pt x="2851" y="1101"/>
                  </a:lnTo>
                  <a:lnTo>
                    <a:pt x="2851" y="1084"/>
                  </a:lnTo>
                  <a:lnTo>
                    <a:pt x="2875" y="1084"/>
                  </a:lnTo>
                  <a:lnTo>
                    <a:pt x="2875" y="1068"/>
                  </a:lnTo>
                  <a:lnTo>
                    <a:pt x="2888" y="1068"/>
                  </a:lnTo>
                  <a:lnTo>
                    <a:pt x="2888" y="1060"/>
                  </a:lnTo>
                  <a:lnTo>
                    <a:pt x="2900" y="1060"/>
                  </a:lnTo>
                  <a:lnTo>
                    <a:pt x="2900" y="1052"/>
                  </a:lnTo>
                  <a:lnTo>
                    <a:pt x="2906" y="1052"/>
                  </a:lnTo>
                  <a:lnTo>
                    <a:pt x="2906" y="1043"/>
                  </a:lnTo>
                  <a:lnTo>
                    <a:pt x="2919" y="1043"/>
                  </a:lnTo>
                  <a:lnTo>
                    <a:pt x="2919" y="1035"/>
                  </a:lnTo>
                  <a:lnTo>
                    <a:pt x="2931" y="1035"/>
                  </a:lnTo>
                  <a:lnTo>
                    <a:pt x="2931" y="1019"/>
                  </a:lnTo>
                  <a:lnTo>
                    <a:pt x="2938" y="1019"/>
                  </a:lnTo>
                  <a:lnTo>
                    <a:pt x="2938" y="1002"/>
                  </a:lnTo>
                  <a:lnTo>
                    <a:pt x="2950" y="1002"/>
                  </a:lnTo>
                  <a:lnTo>
                    <a:pt x="2950" y="994"/>
                  </a:lnTo>
                  <a:lnTo>
                    <a:pt x="2962" y="994"/>
                  </a:lnTo>
                  <a:lnTo>
                    <a:pt x="2962" y="986"/>
                  </a:lnTo>
                  <a:lnTo>
                    <a:pt x="2969" y="986"/>
                  </a:lnTo>
                  <a:lnTo>
                    <a:pt x="2969" y="978"/>
                  </a:lnTo>
                  <a:lnTo>
                    <a:pt x="2975" y="978"/>
                  </a:lnTo>
                  <a:lnTo>
                    <a:pt x="2975" y="970"/>
                  </a:lnTo>
                  <a:lnTo>
                    <a:pt x="3000" y="970"/>
                  </a:lnTo>
                  <a:lnTo>
                    <a:pt x="3000" y="962"/>
                  </a:lnTo>
                  <a:lnTo>
                    <a:pt x="3006" y="962"/>
                  </a:lnTo>
                  <a:lnTo>
                    <a:pt x="3006" y="953"/>
                  </a:lnTo>
                  <a:lnTo>
                    <a:pt x="3018" y="953"/>
                  </a:lnTo>
                  <a:lnTo>
                    <a:pt x="3018" y="945"/>
                  </a:lnTo>
                  <a:lnTo>
                    <a:pt x="3031" y="945"/>
                  </a:lnTo>
                  <a:lnTo>
                    <a:pt x="3031" y="937"/>
                  </a:lnTo>
                  <a:lnTo>
                    <a:pt x="3049" y="937"/>
                  </a:lnTo>
                  <a:lnTo>
                    <a:pt x="3049" y="921"/>
                  </a:lnTo>
                  <a:lnTo>
                    <a:pt x="3080" y="921"/>
                  </a:lnTo>
                  <a:lnTo>
                    <a:pt x="3080" y="912"/>
                  </a:lnTo>
                  <a:lnTo>
                    <a:pt x="3087" y="912"/>
                  </a:lnTo>
                  <a:lnTo>
                    <a:pt x="3087" y="888"/>
                  </a:lnTo>
                  <a:lnTo>
                    <a:pt x="3111" y="888"/>
                  </a:lnTo>
                  <a:lnTo>
                    <a:pt x="3111" y="880"/>
                  </a:lnTo>
                  <a:lnTo>
                    <a:pt x="3118" y="880"/>
                  </a:lnTo>
                  <a:lnTo>
                    <a:pt x="3118" y="871"/>
                  </a:lnTo>
                  <a:lnTo>
                    <a:pt x="3124" y="871"/>
                  </a:lnTo>
                  <a:lnTo>
                    <a:pt x="3124" y="863"/>
                  </a:lnTo>
                  <a:lnTo>
                    <a:pt x="3136" y="863"/>
                  </a:lnTo>
                  <a:lnTo>
                    <a:pt x="3205" y="863"/>
                  </a:lnTo>
                  <a:lnTo>
                    <a:pt x="3205" y="855"/>
                  </a:lnTo>
                  <a:lnTo>
                    <a:pt x="3217" y="855"/>
                  </a:lnTo>
                  <a:lnTo>
                    <a:pt x="3217" y="847"/>
                  </a:lnTo>
                  <a:lnTo>
                    <a:pt x="3223" y="847"/>
                  </a:lnTo>
                  <a:lnTo>
                    <a:pt x="3223" y="839"/>
                  </a:lnTo>
                  <a:lnTo>
                    <a:pt x="3229" y="839"/>
                  </a:lnTo>
                  <a:lnTo>
                    <a:pt x="3229" y="830"/>
                  </a:lnTo>
                  <a:lnTo>
                    <a:pt x="3236" y="830"/>
                  </a:lnTo>
                  <a:lnTo>
                    <a:pt x="3236" y="822"/>
                  </a:lnTo>
                  <a:lnTo>
                    <a:pt x="3242" y="822"/>
                  </a:lnTo>
                  <a:lnTo>
                    <a:pt x="3242" y="814"/>
                  </a:lnTo>
                  <a:lnTo>
                    <a:pt x="3254" y="814"/>
                  </a:lnTo>
                  <a:lnTo>
                    <a:pt x="3254" y="806"/>
                  </a:lnTo>
                  <a:lnTo>
                    <a:pt x="3335" y="806"/>
                  </a:lnTo>
                  <a:lnTo>
                    <a:pt x="3335" y="797"/>
                  </a:lnTo>
                  <a:lnTo>
                    <a:pt x="3341" y="797"/>
                  </a:lnTo>
                  <a:lnTo>
                    <a:pt x="3341" y="789"/>
                  </a:lnTo>
                  <a:lnTo>
                    <a:pt x="3347" y="789"/>
                  </a:lnTo>
                  <a:lnTo>
                    <a:pt x="3347" y="773"/>
                  </a:lnTo>
                  <a:lnTo>
                    <a:pt x="3360" y="773"/>
                  </a:lnTo>
                  <a:lnTo>
                    <a:pt x="3360" y="764"/>
                  </a:lnTo>
                  <a:lnTo>
                    <a:pt x="3366" y="764"/>
                  </a:lnTo>
                  <a:lnTo>
                    <a:pt x="3366" y="748"/>
                  </a:lnTo>
                  <a:lnTo>
                    <a:pt x="3372" y="748"/>
                  </a:lnTo>
                  <a:lnTo>
                    <a:pt x="3379" y="748"/>
                  </a:lnTo>
                  <a:lnTo>
                    <a:pt x="3379" y="739"/>
                  </a:lnTo>
                  <a:lnTo>
                    <a:pt x="3385" y="739"/>
                  </a:lnTo>
                  <a:lnTo>
                    <a:pt x="3385" y="731"/>
                  </a:lnTo>
                  <a:lnTo>
                    <a:pt x="3397" y="731"/>
                  </a:lnTo>
                  <a:lnTo>
                    <a:pt x="3397" y="722"/>
                  </a:lnTo>
                  <a:lnTo>
                    <a:pt x="3403" y="722"/>
                  </a:lnTo>
                  <a:lnTo>
                    <a:pt x="3416" y="722"/>
                  </a:lnTo>
                  <a:lnTo>
                    <a:pt x="3416" y="714"/>
                  </a:lnTo>
                  <a:lnTo>
                    <a:pt x="3434" y="714"/>
                  </a:lnTo>
                  <a:lnTo>
                    <a:pt x="3434" y="705"/>
                  </a:lnTo>
                  <a:lnTo>
                    <a:pt x="3472" y="705"/>
                  </a:lnTo>
                  <a:lnTo>
                    <a:pt x="3490" y="705"/>
                  </a:lnTo>
                  <a:lnTo>
                    <a:pt x="3497" y="705"/>
                  </a:lnTo>
                  <a:lnTo>
                    <a:pt x="3497" y="696"/>
                  </a:lnTo>
                  <a:lnTo>
                    <a:pt x="3509" y="696"/>
                  </a:lnTo>
                  <a:lnTo>
                    <a:pt x="3528" y="696"/>
                  </a:lnTo>
                  <a:lnTo>
                    <a:pt x="3528" y="688"/>
                  </a:lnTo>
                  <a:lnTo>
                    <a:pt x="3571" y="688"/>
                  </a:lnTo>
                  <a:lnTo>
                    <a:pt x="3571" y="679"/>
                  </a:lnTo>
                  <a:lnTo>
                    <a:pt x="3577" y="679"/>
                  </a:lnTo>
                  <a:lnTo>
                    <a:pt x="3584" y="679"/>
                  </a:lnTo>
                  <a:lnTo>
                    <a:pt x="3602" y="679"/>
                  </a:lnTo>
                  <a:lnTo>
                    <a:pt x="3615" y="679"/>
                  </a:lnTo>
                  <a:lnTo>
                    <a:pt x="3633" y="679"/>
                  </a:lnTo>
                  <a:lnTo>
                    <a:pt x="3633" y="669"/>
                  </a:lnTo>
                  <a:lnTo>
                    <a:pt x="3658" y="669"/>
                  </a:lnTo>
                  <a:lnTo>
                    <a:pt x="3670" y="669"/>
                  </a:lnTo>
                  <a:lnTo>
                    <a:pt x="3683" y="669"/>
                  </a:lnTo>
                  <a:lnTo>
                    <a:pt x="3683" y="660"/>
                  </a:lnTo>
                  <a:lnTo>
                    <a:pt x="3689" y="660"/>
                  </a:lnTo>
                  <a:lnTo>
                    <a:pt x="3689" y="651"/>
                  </a:lnTo>
                  <a:lnTo>
                    <a:pt x="3702" y="651"/>
                  </a:lnTo>
                  <a:lnTo>
                    <a:pt x="3702" y="641"/>
                  </a:lnTo>
                  <a:lnTo>
                    <a:pt x="3708" y="641"/>
                  </a:lnTo>
                  <a:lnTo>
                    <a:pt x="3708" y="631"/>
                  </a:lnTo>
                  <a:lnTo>
                    <a:pt x="3726" y="631"/>
                  </a:lnTo>
                  <a:lnTo>
                    <a:pt x="3726" y="622"/>
                  </a:lnTo>
                  <a:lnTo>
                    <a:pt x="3745" y="622"/>
                  </a:lnTo>
                  <a:lnTo>
                    <a:pt x="3751" y="622"/>
                  </a:lnTo>
                  <a:lnTo>
                    <a:pt x="3751" y="612"/>
                  </a:lnTo>
                  <a:lnTo>
                    <a:pt x="3770" y="612"/>
                  </a:lnTo>
                  <a:lnTo>
                    <a:pt x="3770" y="602"/>
                  </a:lnTo>
                  <a:lnTo>
                    <a:pt x="3795" y="602"/>
                  </a:lnTo>
                  <a:lnTo>
                    <a:pt x="3795" y="593"/>
                  </a:lnTo>
                  <a:lnTo>
                    <a:pt x="3807" y="593"/>
                  </a:lnTo>
                  <a:lnTo>
                    <a:pt x="3807" y="583"/>
                  </a:lnTo>
                  <a:lnTo>
                    <a:pt x="3832" y="583"/>
                  </a:lnTo>
                  <a:lnTo>
                    <a:pt x="3832" y="573"/>
                  </a:lnTo>
                  <a:lnTo>
                    <a:pt x="3888" y="573"/>
                  </a:lnTo>
                  <a:lnTo>
                    <a:pt x="3888" y="554"/>
                  </a:lnTo>
                  <a:lnTo>
                    <a:pt x="3900" y="554"/>
                  </a:lnTo>
                  <a:lnTo>
                    <a:pt x="3900" y="544"/>
                  </a:lnTo>
                  <a:lnTo>
                    <a:pt x="3907" y="544"/>
                  </a:lnTo>
                  <a:lnTo>
                    <a:pt x="3907" y="534"/>
                  </a:lnTo>
                  <a:lnTo>
                    <a:pt x="3913" y="534"/>
                  </a:lnTo>
                  <a:lnTo>
                    <a:pt x="3925" y="534"/>
                  </a:lnTo>
                  <a:lnTo>
                    <a:pt x="3931" y="534"/>
                  </a:lnTo>
                  <a:lnTo>
                    <a:pt x="3931" y="524"/>
                  </a:lnTo>
                  <a:lnTo>
                    <a:pt x="3962" y="524"/>
                  </a:lnTo>
                  <a:lnTo>
                    <a:pt x="3975" y="524"/>
                  </a:lnTo>
                  <a:lnTo>
                    <a:pt x="3975" y="513"/>
                  </a:lnTo>
                  <a:lnTo>
                    <a:pt x="3987" y="513"/>
                  </a:lnTo>
                  <a:lnTo>
                    <a:pt x="3987" y="503"/>
                  </a:lnTo>
                  <a:lnTo>
                    <a:pt x="4018" y="503"/>
                  </a:lnTo>
                  <a:lnTo>
                    <a:pt x="4018" y="493"/>
                  </a:lnTo>
                  <a:lnTo>
                    <a:pt x="4056" y="493"/>
                  </a:lnTo>
                  <a:lnTo>
                    <a:pt x="4056" y="482"/>
                  </a:lnTo>
                  <a:lnTo>
                    <a:pt x="4062" y="482"/>
                  </a:lnTo>
                  <a:lnTo>
                    <a:pt x="4062" y="472"/>
                  </a:lnTo>
                  <a:lnTo>
                    <a:pt x="4068" y="472"/>
                  </a:lnTo>
                  <a:lnTo>
                    <a:pt x="4105" y="472"/>
                  </a:lnTo>
                  <a:lnTo>
                    <a:pt x="4105" y="461"/>
                  </a:lnTo>
                  <a:lnTo>
                    <a:pt x="4143" y="461"/>
                  </a:lnTo>
                  <a:lnTo>
                    <a:pt x="4161" y="461"/>
                  </a:lnTo>
                  <a:lnTo>
                    <a:pt x="4161" y="450"/>
                  </a:lnTo>
                  <a:lnTo>
                    <a:pt x="4174" y="450"/>
                  </a:lnTo>
                  <a:lnTo>
                    <a:pt x="4174" y="439"/>
                  </a:lnTo>
                  <a:lnTo>
                    <a:pt x="4198" y="439"/>
                  </a:lnTo>
                  <a:lnTo>
                    <a:pt x="4217" y="439"/>
                  </a:lnTo>
                  <a:lnTo>
                    <a:pt x="4217" y="405"/>
                  </a:lnTo>
                  <a:lnTo>
                    <a:pt x="4254" y="405"/>
                  </a:lnTo>
                  <a:lnTo>
                    <a:pt x="4254" y="394"/>
                  </a:lnTo>
                  <a:lnTo>
                    <a:pt x="4267" y="394"/>
                  </a:lnTo>
                  <a:lnTo>
                    <a:pt x="4267" y="383"/>
                  </a:lnTo>
                  <a:lnTo>
                    <a:pt x="4292" y="383"/>
                  </a:lnTo>
                  <a:lnTo>
                    <a:pt x="4298" y="383"/>
                  </a:lnTo>
                  <a:lnTo>
                    <a:pt x="4310" y="383"/>
                  </a:lnTo>
                  <a:lnTo>
                    <a:pt x="4310" y="371"/>
                  </a:lnTo>
                  <a:lnTo>
                    <a:pt x="4329" y="371"/>
                  </a:lnTo>
                  <a:lnTo>
                    <a:pt x="4329" y="359"/>
                  </a:lnTo>
                  <a:lnTo>
                    <a:pt x="4348" y="359"/>
                  </a:lnTo>
                  <a:lnTo>
                    <a:pt x="4422" y="359"/>
                  </a:lnTo>
                  <a:lnTo>
                    <a:pt x="4441" y="359"/>
                  </a:lnTo>
                  <a:lnTo>
                    <a:pt x="4459" y="359"/>
                  </a:lnTo>
                  <a:lnTo>
                    <a:pt x="4478" y="359"/>
                  </a:lnTo>
                  <a:lnTo>
                    <a:pt x="4478" y="347"/>
                  </a:lnTo>
                  <a:lnTo>
                    <a:pt x="4484" y="347"/>
                  </a:lnTo>
                  <a:lnTo>
                    <a:pt x="4484" y="335"/>
                  </a:lnTo>
                  <a:lnTo>
                    <a:pt x="4515" y="335"/>
                  </a:lnTo>
                  <a:lnTo>
                    <a:pt x="4515" y="322"/>
                  </a:lnTo>
                  <a:lnTo>
                    <a:pt x="4540" y="322"/>
                  </a:lnTo>
                  <a:lnTo>
                    <a:pt x="4553" y="322"/>
                  </a:lnTo>
                  <a:lnTo>
                    <a:pt x="4577" y="322"/>
                  </a:lnTo>
                  <a:lnTo>
                    <a:pt x="4584" y="322"/>
                  </a:lnTo>
                  <a:lnTo>
                    <a:pt x="4590" y="322"/>
                  </a:lnTo>
                  <a:lnTo>
                    <a:pt x="4608" y="322"/>
                  </a:lnTo>
                  <a:lnTo>
                    <a:pt x="4627" y="322"/>
                  </a:lnTo>
                  <a:lnTo>
                    <a:pt x="4627" y="309"/>
                  </a:lnTo>
                  <a:lnTo>
                    <a:pt x="4652" y="309"/>
                  </a:lnTo>
                  <a:lnTo>
                    <a:pt x="4664" y="309"/>
                  </a:lnTo>
                  <a:lnTo>
                    <a:pt x="4677" y="309"/>
                  </a:lnTo>
                  <a:lnTo>
                    <a:pt x="4708" y="309"/>
                  </a:lnTo>
                  <a:lnTo>
                    <a:pt x="4726" y="309"/>
                  </a:lnTo>
                  <a:lnTo>
                    <a:pt x="4745" y="309"/>
                  </a:lnTo>
                  <a:lnTo>
                    <a:pt x="4813" y="309"/>
                  </a:lnTo>
                  <a:lnTo>
                    <a:pt x="4813" y="293"/>
                  </a:lnTo>
                  <a:lnTo>
                    <a:pt x="4826" y="293"/>
                  </a:lnTo>
                  <a:lnTo>
                    <a:pt x="4863" y="293"/>
                  </a:lnTo>
                  <a:lnTo>
                    <a:pt x="4875" y="293"/>
                  </a:lnTo>
                  <a:lnTo>
                    <a:pt x="4919" y="293"/>
                  </a:lnTo>
                  <a:lnTo>
                    <a:pt x="4919" y="276"/>
                  </a:lnTo>
                  <a:lnTo>
                    <a:pt x="4925" y="276"/>
                  </a:lnTo>
                  <a:lnTo>
                    <a:pt x="4950" y="276"/>
                  </a:lnTo>
                  <a:lnTo>
                    <a:pt x="4950" y="259"/>
                  </a:lnTo>
                  <a:lnTo>
                    <a:pt x="5018" y="259"/>
                  </a:lnTo>
                  <a:lnTo>
                    <a:pt x="5037" y="259"/>
                  </a:lnTo>
                  <a:lnTo>
                    <a:pt x="5043" y="259"/>
                  </a:lnTo>
                  <a:lnTo>
                    <a:pt x="5099" y="259"/>
                  </a:lnTo>
                  <a:lnTo>
                    <a:pt x="5124" y="259"/>
                  </a:lnTo>
                  <a:lnTo>
                    <a:pt x="5136" y="259"/>
                  </a:lnTo>
                  <a:lnTo>
                    <a:pt x="5161" y="259"/>
                  </a:lnTo>
                  <a:lnTo>
                    <a:pt x="5186" y="259"/>
                  </a:lnTo>
                  <a:lnTo>
                    <a:pt x="5230" y="259"/>
                  </a:lnTo>
                  <a:lnTo>
                    <a:pt x="5248" y="259"/>
                  </a:lnTo>
                  <a:lnTo>
                    <a:pt x="5248" y="237"/>
                  </a:lnTo>
                  <a:lnTo>
                    <a:pt x="5254" y="237"/>
                  </a:lnTo>
                  <a:lnTo>
                    <a:pt x="5261" y="237"/>
                  </a:lnTo>
                  <a:lnTo>
                    <a:pt x="5273" y="237"/>
                  </a:lnTo>
                  <a:lnTo>
                    <a:pt x="5279" y="237"/>
                  </a:lnTo>
                  <a:lnTo>
                    <a:pt x="5285" y="237"/>
                  </a:lnTo>
                  <a:lnTo>
                    <a:pt x="5304" y="237"/>
                  </a:lnTo>
                  <a:lnTo>
                    <a:pt x="5304" y="209"/>
                  </a:lnTo>
                  <a:lnTo>
                    <a:pt x="5323" y="209"/>
                  </a:lnTo>
                  <a:lnTo>
                    <a:pt x="5379" y="209"/>
                  </a:lnTo>
                  <a:lnTo>
                    <a:pt x="5422" y="209"/>
                  </a:lnTo>
                  <a:lnTo>
                    <a:pt x="5497" y="209"/>
                  </a:lnTo>
                  <a:lnTo>
                    <a:pt x="5540" y="209"/>
                  </a:lnTo>
                  <a:lnTo>
                    <a:pt x="5689" y="209"/>
                  </a:lnTo>
                  <a:lnTo>
                    <a:pt x="5726" y="209"/>
                  </a:lnTo>
                  <a:lnTo>
                    <a:pt x="5764" y="209"/>
                  </a:lnTo>
                  <a:lnTo>
                    <a:pt x="5838" y="209"/>
                  </a:lnTo>
                  <a:lnTo>
                    <a:pt x="5975" y="209"/>
                  </a:lnTo>
                  <a:lnTo>
                    <a:pt x="5975" y="158"/>
                  </a:lnTo>
                  <a:lnTo>
                    <a:pt x="5987" y="158"/>
                  </a:lnTo>
                  <a:lnTo>
                    <a:pt x="6105" y="158"/>
                  </a:lnTo>
                  <a:lnTo>
                    <a:pt x="6105" y="102"/>
                  </a:lnTo>
                  <a:lnTo>
                    <a:pt x="6112" y="102"/>
                  </a:lnTo>
                  <a:lnTo>
                    <a:pt x="6180" y="102"/>
                  </a:lnTo>
                  <a:lnTo>
                    <a:pt x="6192" y="102"/>
                  </a:lnTo>
                  <a:lnTo>
                    <a:pt x="6205" y="102"/>
                  </a:lnTo>
                  <a:lnTo>
                    <a:pt x="6273" y="102"/>
                  </a:lnTo>
                  <a:lnTo>
                    <a:pt x="6273" y="0"/>
                  </a:lnTo>
                  <a:lnTo>
                    <a:pt x="6385" y="0"/>
                  </a:lnTo>
                  <a:lnTo>
                    <a:pt x="6478" y="0"/>
                  </a:lnTo>
                  <a:lnTo>
                    <a:pt x="6509" y="0"/>
                  </a:lnTo>
                  <a:lnTo>
                    <a:pt x="6702"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56" name="Rectangle 193"/>
            <p:cNvSpPr/>
            <p:nvPr/>
          </p:nvSpPr>
          <p:spPr>
            <a:xfrm>
              <a:off x="3771360" y="597420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457" name="Rectangle 194"/>
            <p:cNvSpPr/>
            <p:nvPr/>
          </p:nvSpPr>
          <p:spPr>
            <a:xfrm rot="16200000">
              <a:off x="-445680" y="356472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Break Prespecified Analysis: PFS From Randomization (Maintenance Group)</a:t>
            </a:r>
            <a:endParaRPr b="0" lang="en-US" sz="3200" spc="-1" strike="noStrike">
              <a:solidFill>
                <a:srgbClr val="000000"/>
              </a:solidFill>
              <a:latin typeface="Arial"/>
            </a:endParaRPr>
          </a:p>
        </p:txBody>
      </p:sp>
      <p:sp>
        <p:nvSpPr>
          <p:cNvPr id="2459" name="Text Box 15"/>
          <p:cNvSpPr/>
          <p:nvPr/>
        </p:nvSpPr>
        <p:spPr>
          <a:xfrm>
            <a:off x="2133720" y="6232320"/>
            <a:ext cx="5708520" cy="611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respecified exploratory noncomparative subgroup analy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ensoring rate for Pem + Cb + Bev was 24.7; for Pac + Cb + Bev was 14.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460" name=""/>
          <p:cNvGraphicFramePr/>
          <p:nvPr/>
        </p:nvGraphicFramePr>
        <p:xfrm>
          <a:off x="4343400" y="1717560"/>
          <a:ext cx="4251240" cy="1067040"/>
        </p:xfrm>
        <a:graphic>
          <a:graphicData uri="http://schemas.openxmlformats.org/drawingml/2006/table">
            <a:tbl>
              <a:tblPr/>
              <a:tblGrid>
                <a:gridCol w="1528920"/>
                <a:gridCol w="1511280"/>
                <a:gridCol w="1211040"/>
              </a:tblGrid>
              <a:tr h="6397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n=2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n=298)</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4273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F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8.6</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9</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bl>
          </a:graphicData>
        </a:graphic>
      </p:graphicFrame>
      <p:grpSp>
        <p:nvGrpSpPr>
          <p:cNvPr id="2461" name="Group 135234"/>
          <p:cNvGrpSpPr/>
          <p:nvPr/>
        </p:nvGrpSpPr>
        <p:grpSpPr>
          <a:xfrm>
            <a:off x="270000" y="638280"/>
            <a:ext cx="8673840" cy="7567560"/>
            <a:chOff x="270000" y="638280"/>
            <a:chExt cx="8673840" cy="7567560"/>
          </a:xfrm>
        </p:grpSpPr>
        <p:sp>
          <p:nvSpPr>
            <p:cNvPr id="2462" name="AutoShape 4"/>
            <p:cNvSpPr/>
            <p:nvPr/>
          </p:nvSpPr>
          <p:spPr>
            <a:xfrm>
              <a:off x="293760" y="1543680"/>
              <a:ext cx="8650080" cy="666216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63" name="Rectangle 6"/>
            <p:cNvSpPr/>
            <p:nvPr/>
          </p:nvSpPr>
          <p:spPr>
            <a:xfrm>
              <a:off x="270000" y="638280"/>
              <a:ext cx="8650080" cy="66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4" name="Rectangle 7"/>
            <p:cNvSpPr/>
            <p:nvPr/>
          </p:nvSpPr>
          <p:spPr>
            <a:xfrm>
              <a:off x="946080" y="1742760"/>
              <a:ext cx="7692840" cy="364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5" name="Line 8"/>
            <p:cNvSpPr/>
            <p:nvPr/>
          </p:nvSpPr>
          <p:spPr>
            <a:xfrm>
              <a:off x="946080" y="5384520"/>
              <a:ext cx="769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66" name="Line 9"/>
            <p:cNvSpPr/>
            <p:nvPr/>
          </p:nvSpPr>
          <p:spPr>
            <a:xfrm flipV="1">
              <a:off x="9460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7" name="Line 10"/>
            <p:cNvSpPr/>
            <p:nvPr/>
          </p:nvSpPr>
          <p:spPr>
            <a:xfrm flipV="1">
              <a:off x="158760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8" name="Line 11"/>
            <p:cNvSpPr/>
            <p:nvPr/>
          </p:nvSpPr>
          <p:spPr>
            <a:xfrm flipV="1">
              <a:off x="22287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9" name="Line 12"/>
            <p:cNvSpPr/>
            <p:nvPr/>
          </p:nvSpPr>
          <p:spPr>
            <a:xfrm flipV="1">
              <a:off x="28684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0" name="Line 13"/>
            <p:cNvSpPr/>
            <p:nvPr/>
          </p:nvSpPr>
          <p:spPr>
            <a:xfrm flipV="1">
              <a:off x="351144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1" name="Line 14"/>
            <p:cNvSpPr/>
            <p:nvPr/>
          </p:nvSpPr>
          <p:spPr>
            <a:xfrm flipV="1">
              <a:off x="41511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2" name="Line 15"/>
            <p:cNvSpPr/>
            <p:nvPr/>
          </p:nvSpPr>
          <p:spPr>
            <a:xfrm flipV="1">
              <a:off x="47926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3" name="Line 16"/>
            <p:cNvSpPr/>
            <p:nvPr/>
          </p:nvSpPr>
          <p:spPr>
            <a:xfrm flipV="1">
              <a:off x="543384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4" name="Line 17"/>
            <p:cNvSpPr/>
            <p:nvPr/>
          </p:nvSpPr>
          <p:spPr>
            <a:xfrm flipV="1">
              <a:off x="60753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5" name="Line 18"/>
            <p:cNvSpPr/>
            <p:nvPr/>
          </p:nvSpPr>
          <p:spPr>
            <a:xfrm flipV="1">
              <a:off x="67150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6" name="Line 19"/>
            <p:cNvSpPr/>
            <p:nvPr/>
          </p:nvSpPr>
          <p:spPr>
            <a:xfrm flipV="1">
              <a:off x="735660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7" name="Line 20"/>
            <p:cNvSpPr/>
            <p:nvPr/>
          </p:nvSpPr>
          <p:spPr>
            <a:xfrm flipV="1">
              <a:off x="79977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8" name="Line 21"/>
            <p:cNvSpPr/>
            <p:nvPr/>
          </p:nvSpPr>
          <p:spPr>
            <a:xfrm flipV="1">
              <a:off x="86392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9" name="Line 22"/>
            <p:cNvSpPr/>
            <p:nvPr/>
          </p:nvSpPr>
          <p:spPr>
            <a:xfrm flipV="1">
              <a:off x="11588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0" name="Line 23"/>
            <p:cNvSpPr/>
            <p:nvPr/>
          </p:nvSpPr>
          <p:spPr>
            <a:xfrm flipV="1">
              <a:off x="13730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1" name="Line 24"/>
            <p:cNvSpPr/>
            <p:nvPr/>
          </p:nvSpPr>
          <p:spPr>
            <a:xfrm flipV="1">
              <a:off x="18018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2" name="Line 25"/>
            <p:cNvSpPr/>
            <p:nvPr/>
          </p:nvSpPr>
          <p:spPr>
            <a:xfrm flipV="1">
              <a:off x="20145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3" name="Line 26"/>
            <p:cNvSpPr/>
            <p:nvPr/>
          </p:nvSpPr>
          <p:spPr>
            <a:xfrm flipV="1">
              <a:off x="24415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4" name="Line 27"/>
            <p:cNvSpPr/>
            <p:nvPr/>
          </p:nvSpPr>
          <p:spPr>
            <a:xfrm flipV="1">
              <a:off x="2655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5" name="Line 28"/>
            <p:cNvSpPr/>
            <p:nvPr/>
          </p:nvSpPr>
          <p:spPr>
            <a:xfrm flipV="1">
              <a:off x="30830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6" name="Line 29"/>
            <p:cNvSpPr/>
            <p:nvPr/>
          </p:nvSpPr>
          <p:spPr>
            <a:xfrm flipV="1">
              <a:off x="32972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7" name="Line 30"/>
            <p:cNvSpPr/>
            <p:nvPr/>
          </p:nvSpPr>
          <p:spPr>
            <a:xfrm flipV="1">
              <a:off x="37242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8" name="Line 31"/>
            <p:cNvSpPr/>
            <p:nvPr/>
          </p:nvSpPr>
          <p:spPr>
            <a:xfrm flipV="1">
              <a:off x="39369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9" name="Line 32"/>
            <p:cNvSpPr/>
            <p:nvPr/>
          </p:nvSpPr>
          <p:spPr>
            <a:xfrm flipV="1">
              <a:off x="4365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0" name="Line 33"/>
            <p:cNvSpPr/>
            <p:nvPr/>
          </p:nvSpPr>
          <p:spPr>
            <a:xfrm flipV="1">
              <a:off x="45784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1" name="Line 34"/>
            <p:cNvSpPr/>
            <p:nvPr/>
          </p:nvSpPr>
          <p:spPr>
            <a:xfrm flipV="1">
              <a:off x="50054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2" name="Line 35"/>
            <p:cNvSpPr/>
            <p:nvPr/>
          </p:nvSpPr>
          <p:spPr>
            <a:xfrm flipV="1">
              <a:off x="52196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3" name="Line 36"/>
            <p:cNvSpPr/>
            <p:nvPr/>
          </p:nvSpPr>
          <p:spPr>
            <a:xfrm flipV="1">
              <a:off x="56466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4" name="Line 37"/>
            <p:cNvSpPr/>
            <p:nvPr/>
          </p:nvSpPr>
          <p:spPr>
            <a:xfrm flipV="1">
              <a:off x="58611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5" name="Line 38"/>
            <p:cNvSpPr/>
            <p:nvPr/>
          </p:nvSpPr>
          <p:spPr>
            <a:xfrm flipV="1">
              <a:off x="62881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6" name="Line 39"/>
            <p:cNvSpPr/>
            <p:nvPr/>
          </p:nvSpPr>
          <p:spPr>
            <a:xfrm flipV="1">
              <a:off x="65008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7" name="Line 40"/>
            <p:cNvSpPr/>
            <p:nvPr/>
          </p:nvSpPr>
          <p:spPr>
            <a:xfrm flipV="1">
              <a:off x="69292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8" name="Line 41"/>
            <p:cNvSpPr/>
            <p:nvPr/>
          </p:nvSpPr>
          <p:spPr>
            <a:xfrm flipV="1">
              <a:off x="71438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9" name="Line 42"/>
            <p:cNvSpPr/>
            <p:nvPr/>
          </p:nvSpPr>
          <p:spPr>
            <a:xfrm flipV="1">
              <a:off x="75690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0" name="Line 43"/>
            <p:cNvSpPr/>
            <p:nvPr/>
          </p:nvSpPr>
          <p:spPr>
            <a:xfrm flipV="1">
              <a:off x="77835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1" name="Line 44"/>
            <p:cNvSpPr/>
            <p:nvPr/>
          </p:nvSpPr>
          <p:spPr>
            <a:xfrm flipV="1">
              <a:off x="82105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2" name="Line 45"/>
            <p:cNvSpPr/>
            <p:nvPr/>
          </p:nvSpPr>
          <p:spPr>
            <a:xfrm flipV="1">
              <a:off x="8424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3" name="Rectangle 46"/>
            <p:cNvSpPr/>
            <p:nvPr/>
          </p:nvSpPr>
          <p:spPr>
            <a:xfrm>
              <a:off x="90612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504" name="Rectangle 47"/>
            <p:cNvSpPr/>
            <p:nvPr/>
          </p:nvSpPr>
          <p:spPr>
            <a:xfrm>
              <a:off x="154728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2505" name="Rectangle 48"/>
            <p:cNvSpPr/>
            <p:nvPr/>
          </p:nvSpPr>
          <p:spPr>
            <a:xfrm>
              <a:off x="218880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2506" name="Rectangle 49"/>
            <p:cNvSpPr/>
            <p:nvPr/>
          </p:nvSpPr>
          <p:spPr>
            <a:xfrm>
              <a:off x="282852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2507" name="Rectangle 50"/>
            <p:cNvSpPr/>
            <p:nvPr/>
          </p:nvSpPr>
          <p:spPr>
            <a:xfrm>
              <a:off x="34308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000000"/>
                </a:solidFill>
                <a:latin typeface="Arial"/>
              </a:endParaRPr>
            </a:p>
          </p:txBody>
        </p:sp>
        <p:sp>
          <p:nvSpPr>
            <p:cNvPr id="2508" name="Rectangle 51"/>
            <p:cNvSpPr/>
            <p:nvPr/>
          </p:nvSpPr>
          <p:spPr>
            <a:xfrm>
              <a:off x="40705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Arial"/>
              </a:endParaRPr>
            </a:p>
          </p:txBody>
        </p:sp>
        <p:sp>
          <p:nvSpPr>
            <p:cNvPr id="2509" name="Rectangle 52"/>
            <p:cNvSpPr/>
            <p:nvPr/>
          </p:nvSpPr>
          <p:spPr>
            <a:xfrm>
              <a:off x="471348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a:t>
              </a:r>
              <a:endParaRPr b="0" lang="en-US" sz="1100" spc="-1" strike="noStrike">
                <a:solidFill>
                  <a:srgbClr val="000000"/>
                </a:solidFill>
                <a:latin typeface="Arial"/>
              </a:endParaRPr>
            </a:p>
          </p:txBody>
        </p:sp>
        <p:sp>
          <p:nvSpPr>
            <p:cNvPr id="2510" name="Rectangle 53"/>
            <p:cNvSpPr/>
            <p:nvPr/>
          </p:nvSpPr>
          <p:spPr>
            <a:xfrm>
              <a:off x="53532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a:t>
              </a:r>
              <a:endParaRPr b="0" lang="en-US" sz="1100" spc="-1" strike="noStrike">
                <a:solidFill>
                  <a:srgbClr val="000000"/>
                </a:solidFill>
                <a:latin typeface="Arial"/>
              </a:endParaRPr>
            </a:p>
          </p:txBody>
        </p:sp>
        <p:sp>
          <p:nvSpPr>
            <p:cNvPr id="2511" name="Rectangle 54"/>
            <p:cNvSpPr/>
            <p:nvPr/>
          </p:nvSpPr>
          <p:spPr>
            <a:xfrm>
              <a:off x="59947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a:t>
              </a:r>
              <a:endParaRPr b="0" lang="en-US" sz="1100" spc="-1" strike="noStrike">
                <a:solidFill>
                  <a:srgbClr val="000000"/>
                </a:solidFill>
                <a:latin typeface="Arial"/>
              </a:endParaRPr>
            </a:p>
          </p:txBody>
        </p:sp>
        <p:sp>
          <p:nvSpPr>
            <p:cNvPr id="2512" name="Rectangle 55"/>
            <p:cNvSpPr/>
            <p:nvPr/>
          </p:nvSpPr>
          <p:spPr>
            <a:xfrm>
              <a:off x="663624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7</a:t>
              </a:r>
              <a:endParaRPr b="0" lang="en-US" sz="1100" spc="-1" strike="noStrike">
                <a:solidFill>
                  <a:srgbClr val="000000"/>
                </a:solidFill>
                <a:latin typeface="Arial"/>
              </a:endParaRPr>
            </a:p>
          </p:txBody>
        </p:sp>
        <p:sp>
          <p:nvSpPr>
            <p:cNvPr id="2513" name="Rectangle 56"/>
            <p:cNvSpPr/>
            <p:nvPr/>
          </p:nvSpPr>
          <p:spPr>
            <a:xfrm>
              <a:off x="72774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514" name="Rectangle 57"/>
            <p:cNvSpPr/>
            <p:nvPr/>
          </p:nvSpPr>
          <p:spPr>
            <a:xfrm>
              <a:off x="79171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a:t>
              </a:r>
              <a:endParaRPr b="0" lang="en-US" sz="1100" spc="-1" strike="noStrike">
                <a:solidFill>
                  <a:srgbClr val="000000"/>
                </a:solidFill>
                <a:latin typeface="Arial"/>
              </a:endParaRPr>
            </a:p>
          </p:txBody>
        </p:sp>
        <p:sp>
          <p:nvSpPr>
            <p:cNvPr id="2515" name="Rectangle 58"/>
            <p:cNvSpPr/>
            <p:nvPr/>
          </p:nvSpPr>
          <p:spPr>
            <a:xfrm>
              <a:off x="855864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6</a:t>
              </a:r>
              <a:endParaRPr b="0" lang="en-US" sz="1100" spc="-1" strike="noStrike">
                <a:solidFill>
                  <a:srgbClr val="000000"/>
                </a:solidFill>
                <a:latin typeface="Arial"/>
              </a:endParaRPr>
            </a:p>
          </p:txBody>
        </p:sp>
        <p:sp>
          <p:nvSpPr>
            <p:cNvPr id="2516" name="Line 59"/>
            <p:cNvSpPr/>
            <p:nvPr/>
          </p:nvSpPr>
          <p:spPr>
            <a:xfrm flipV="1">
              <a:off x="946080" y="1742400"/>
              <a:ext cx="0" cy="364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7" name="Line 60"/>
            <p:cNvSpPr/>
            <p:nvPr/>
          </p:nvSpPr>
          <p:spPr>
            <a:xfrm>
              <a:off x="895320" y="53114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8" name="Line 61"/>
            <p:cNvSpPr/>
            <p:nvPr/>
          </p:nvSpPr>
          <p:spPr>
            <a:xfrm>
              <a:off x="895320" y="49557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9" name="Line 62"/>
            <p:cNvSpPr/>
            <p:nvPr/>
          </p:nvSpPr>
          <p:spPr>
            <a:xfrm>
              <a:off x="895320" y="45986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0" name="Line 63"/>
            <p:cNvSpPr/>
            <p:nvPr/>
          </p:nvSpPr>
          <p:spPr>
            <a:xfrm>
              <a:off x="895320" y="42400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1" name="Line 64"/>
            <p:cNvSpPr/>
            <p:nvPr/>
          </p:nvSpPr>
          <p:spPr>
            <a:xfrm>
              <a:off x="895320" y="388440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2" name="Line 65"/>
            <p:cNvSpPr/>
            <p:nvPr/>
          </p:nvSpPr>
          <p:spPr>
            <a:xfrm>
              <a:off x="895320" y="35272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3" name="Line 66"/>
            <p:cNvSpPr/>
            <p:nvPr/>
          </p:nvSpPr>
          <p:spPr>
            <a:xfrm>
              <a:off x="895320" y="31701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4" name="Line 67"/>
            <p:cNvSpPr/>
            <p:nvPr/>
          </p:nvSpPr>
          <p:spPr>
            <a:xfrm>
              <a:off x="895320" y="28126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5" name="Line 68"/>
            <p:cNvSpPr/>
            <p:nvPr/>
          </p:nvSpPr>
          <p:spPr>
            <a:xfrm>
              <a:off x="895320" y="24573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6" name="Line 69"/>
            <p:cNvSpPr/>
            <p:nvPr/>
          </p:nvSpPr>
          <p:spPr>
            <a:xfrm>
              <a:off x="895320" y="21002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7" name="Line 70"/>
            <p:cNvSpPr/>
            <p:nvPr/>
          </p:nvSpPr>
          <p:spPr>
            <a:xfrm>
              <a:off x="895320" y="17427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8" name="Line 71"/>
            <p:cNvSpPr/>
            <p:nvPr/>
          </p:nvSpPr>
          <p:spPr>
            <a:xfrm>
              <a:off x="915840" y="51336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9" name="Line 72"/>
            <p:cNvSpPr/>
            <p:nvPr/>
          </p:nvSpPr>
          <p:spPr>
            <a:xfrm>
              <a:off x="915840" y="4776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0" name="Line 73"/>
            <p:cNvSpPr/>
            <p:nvPr/>
          </p:nvSpPr>
          <p:spPr>
            <a:xfrm>
              <a:off x="915840" y="44193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1" name="Line 74"/>
            <p:cNvSpPr/>
            <p:nvPr/>
          </p:nvSpPr>
          <p:spPr>
            <a:xfrm>
              <a:off x="915840" y="406224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2" name="Line 75"/>
            <p:cNvSpPr/>
            <p:nvPr/>
          </p:nvSpPr>
          <p:spPr>
            <a:xfrm>
              <a:off x="915840" y="37065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3" name="Line 76"/>
            <p:cNvSpPr/>
            <p:nvPr/>
          </p:nvSpPr>
          <p:spPr>
            <a:xfrm>
              <a:off x="915840" y="334944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4" name="Line 77"/>
            <p:cNvSpPr/>
            <p:nvPr/>
          </p:nvSpPr>
          <p:spPr>
            <a:xfrm>
              <a:off x="915840" y="2990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5" name="Line 78"/>
            <p:cNvSpPr/>
            <p:nvPr/>
          </p:nvSpPr>
          <p:spPr>
            <a:xfrm>
              <a:off x="915840" y="26352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6" name="Line 79"/>
            <p:cNvSpPr/>
            <p:nvPr/>
          </p:nvSpPr>
          <p:spPr>
            <a:xfrm>
              <a:off x="915840" y="22777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7" name="Line 80"/>
            <p:cNvSpPr/>
            <p:nvPr/>
          </p:nvSpPr>
          <p:spPr>
            <a:xfrm>
              <a:off x="915840" y="19206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8" name="Rectangle 81"/>
            <p:cNvSpPr/>
            <p:nvPr/>
          </p:nvSpPr>
          <p:spPr>
            <a:xfrm>
              <a:off x="621720" y="52318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0</a:t>
              </a:r>
              <a:endParaRPr b="0" lang="en-US" sz="1100" spc="-1" strike="noStrike">
                <a:solidFill>
                  <a:srgbClr val="000000"/>
                </a:solidFill>
                <a:latin typeface="Arial"/>
              </a:endParaRPr>
            </a:p>
          </p:txBody>
        </p:sp>
        <p:sp>
          <p:nvSpPr>
            <p:cNvPr id="2539" name="Rectangle 82"/>
            <p:cNvSpPr/>
            <p:nvPr/>
          </p:nvSpPr>
          <p:spPr>
            <a:xfrm>
              <a:off x="621720" y="48747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1</a:t>
              </a:r>
              <a:endParaRPr b="0" lang="en-US" sz="1100" spc="-1" strike="noStrike">
                <a:solidFill>
                  <a:srgbClr val="000000"/>
                </a:solidFill>
                <a:latin typeface="Arial"/>
              </a:endParaRPr>
            </a:p>
          </p:txBody>
        </p:sp>
        <p:sp>
          <p:nvSpPr>
            <p:cNvPr id="2540" name="Rectangle 83"/>
            <p:cNvSpPr/>
            <p:nvPr/>
          </p:nvSpPr>
          <p:spPr>
            <a:xfrm>
              <a:off x="621720" y="45176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2</a:t>
              </a:r>
              <a:endParaRPr b="0" lang="en-US" sz="1100" spc="-1" strike="noStrike">
                <a:solidFill>
                  <a:srgbClr val="000000"/>
                </a:solidFill>
                <a:latin typeface="Arial"/>
              </a:endParaRPr>
            </a:p>
          </p:txBody>
        </p:sp>
        <p:sp>
          <p:nvSpPr>
            <p:cNvPr id="2541" name="Rectangle 84"/>
            <p:cNvSpPr/>
            <p:nvPr/>
          </p:nvSpPr>
          <p:spPr>
            <a:xfrm>
              <a:off x="621720" y="41605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3</a:t>
              </a:r>
              <a:endParaRPr b="0" lang="en-US" sz="1100" spc="-1" strike="noStrike">
                <a:solidFill>
                  <a:srgbClr val="000000"/>
                </a:solidFill>
                <a:latin typeface="Arial"/>
              </a:endParaRPr>
            </a:p>
          </p:txBody>
        </p:sp>
        <p:sp>
          <p:nvSpPr>
            <p:cNvPr id="2542" name="Rectangle 85"/>
            <p:cNvSpPr/>
            <p:nvPr/>
          </p:nvSpPr>
          <p:spPr>
            <a:xfrm>
              <a:off x="621720" y="38034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4</a:t>
              </a:r>
              <a:endParaRPr b="0" lang="en-US" sz="1100" spc="-1" strike="noStrike">
                <a:solidFill>
                  <a:srgbClr val="000000"/>
                </a:solidFill>
                <a:latin typeface="Arial"/>
              </a:endParaRPr>
            </a:p>
          </p:txBody>
        </p:sp>
        <p:sp>
          <p:nvSpPr>
            <p:cNvPr id="2543" name="Rectangle 86"/>
            <p:cNvSpPr/>
            <p:nvPr/>
          </p:nvSpPr>
          <p:spPr>
            <a:xfrm>
              <a:off x="621720" y="3446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Arial"/>
              </a:endParaRPr>
            </a:p>
          </p:txBody>
        </p:sp>
        <p:sp>
          <p:nvSpPr>
            <p:cNvPr id="2544" name="Rectangle 87"/>
            <p:cNvSpPr/>
            <p:nvPr/>
          </p:nvSpPr>
          <p:spPr>
            <a:xfrm>
              <a:off x="621720" y="30906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a:t>
              </a:r>
              <a:endParaRPr b="0" lang="en-US" sz="1100" spc="-1" strike="noStrike">
                <a:solidFill>
                  <a:srgbClr val="000000"/>
                </a:solidFill>
                <a:latin typeface="Arial"/>
              </a:endParaRPr>
            </a:p>
          </p:txBody>
        </p:sp>
        <p:sp>
          <p:nvSpPr>
            <p:cNvPr id="2545" name="Rectangle 88"/>
            <p:cNvSpPr/>
            <p:nvPr/>
          </p:nvSpPr>
          <p:spPr>
            <a:xfrm>
              <a:off x="621720" y="2733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7</a:t>
              </a:r>
              <a:endParaRPr b="0" lang="en-US" sz="1100" spc="-1" strike="noStrike">
                <a:solidFill>
                  <a:srgbClr val="000000"/>
                </a:solidFill>
                <a:latin typeface="Arial"/>
              </a:endParaRPr>
            </a:p>
          </p:txBody>
        </p:sp>
        <p:sp>
          <p:nvSpPr>
            <p:cNvPr id="2546" name="Rectangle 89"/>
            <p:cNvSpPr/>
            <p:nvPr/>
          </p:nvSpPr>
          <p:spPr>
            <a:xfrm>
              <a:off x="621720" y="23763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8</a:t>
              </a:r>
              <a:endParaRPr b="0" lang="en-US" sz="1100" spc="-1" strike="noStrike">
                <a:solidFill>
                  <a:srgbClr val="000000"/>
                </a:solidFill>
                <a:latin typeface="Arial"/>
              </a:endParaRPr>
            </a:p>
          </p:txBody>
        </p:sp>
        <p:sp>
          <p:nvSpPr>
            <p:cNvPr id="2547" name="Rectangle 90"/>
            <p:cNvSpPr/>
            <p:nvPr/>
          </p:nvSpPr>
          <p:spPr>
            <a:xfrm>
              <a:off x="621720" y="20192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a:t>
              </a:r>
              <a:endParaRPr b="0" lang="en-US" sz="1100" spc="-1" strike="noStrike">
                <a:solidFill>
                  <a:srgbClr val="000000"/>
                </a:solidFill>
                <a:latin typeface="Arial"/>
              </a:endParaRPr>
            </a:p>
          </p:txBody>
        </p:sp>
        <p:sp>
          <p:nvSpPr>
            <p:cNvPr id="2548" name="Rectangle 91"/>
            <p:cNvSpPr/>
            <p:nvPr/>
          </p:nvSpPr>
          <p:spPr>
            <a:xfrm>
              <a:off x="621720" y="16621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549" name="Freeform 92"/>
            <p:cNvSpPr/>
            <p:nvPr/>
          </p:nvSpPr>
          <p:spPr>
            <a:xfrm flipV="1">
              <a:off x="946080" y="1742400"/>
              <a:ext cx="7167240" cy="3420720"/>
            </a:xfrm>
            <a:custGeom>
              <a:avLst/>
              <a:gdLst/>
              <a:ahLst/>
              <a:rect l="l" t="t" r="r" b="b"/>
              <a:pathLst>
                <a:path w="6870" h="3289">
                  <a:moveTo>
                    <a:pt x="0" y="3289"/>
                  </a:moveTo>
                  <a:lnTo>
                    <a:pt x="6" y="3289"/>
                  </a:lnTo>
                  <a:lnTo>
                    <a:pt x="262" y="3289"/>
                  </a:lnTo>
                  <a:lnTo>
                    <a:pt x="282" y="3289"/>
                  </a:lnTo>
                  <a:lnTo>
                    <a:pt x="551" y="3289"/>
                  </a:lnTo>
                  <a:lnTo>
                    <a:pt x="551" y="3278"/>
                  </a:lnTo>
                  <a:lnTo>
                    <a:pt x="558" y="3278"/>
                  </a:lnTo>
                  <a:lnTo>
                    <a:pt x="558" y="3266"/>
                  </a:lnTo>
                  <a:lnTo>
                    <a:pt x="565" y="3266"/>
                  </a:lnTo>
                  <a:lnTo>
                    <a:pt x="565" y="3254"/>
                  </a:lnTo>
                  <a:lnTo>
                    <a:pt x="578" y="3254"/>
                  </a:lnTo>
                  <a:lnTo>
                    <a:pt x="585" y="3254"/>
                  </a:lnTo>
                  <a:lnTo>
                    <a:pt x="619" y="3254"/>
                  </a:lnTo>
                  <a:lnTo>
                    <a:pt x="619" y="3242"/>
                  </a:lnTo>
                  <a:lnTo>
                    <a:pt x="672" y="3242"/>
                  </a:lnTo>
                  <a:lnTo>
                    <a:pt x="672" y="3230"/>
                  </a:lnTo>
                  <a:lnTo>
                    <a:pt x="686" y="3230"/>
                  </a:lnTo>
                  <a:lnTo>
                    <a:pt x="686" y="3194"/>
                  </a:lnTo>
                  <a:lnTo>
                    <a:pt x="767" y="3194"/>
                  </a:lnTo>
                  <a:lnTo>
                    <a:pt x="767" y="3182"/>
                  </a:lnTo>
                  <a:lnTo>
                    <a:pt x="773" y="3182"/>
                  </a:lnTo>
                  <a:lnTo>
                    <a:pt x="773" y="3170"/>
                  </a:lnTo>
                  <a:lnTo>
                    <a:pt x="794" y="3170"/>
                  </a:lnTo>
                  <a:lnTo>
                    <a:pt x="794" y="3158"/>
                  </a:lnTo>
                  <a:lnTo>
                    <a:pt x="800" y="3158"/>
                  </a:lnTo>
                  <a:lnTo>
                    <a:pt x="800" y="3134"/>
                  </a:lnTo>
                  <a:lnTo>
                    <a:pt x="820" y="3134"/>
                  </a:lnTo>
                  <a:lnTo>
                    <a:pt x="820" y="3098"/>
                  </a:lnTo>
                  <a:lnTo>
                    <a:pt x="834" y="3098"/>
                  </a:lnTo>
                  <a:lnTo>
                    <a:pt x="834" y="3075"/>
                  </a:lnTo>
                  <a:lnTo>
                    <a:pt x="841" y="3075"/>
                  </a:lnTo>
                  <a:lnTo>
                    <a:pt x="841" y="3051"/>
                  </a:lnTo>
                  <a:lnTo>
                    <a:pt x="847" y="3051"/>
                  </a:lnTo>
                  <a:lnTo>
                    <a:pt x="847" y="3003"/>
                  </a:lnTo>
                  <a:lnTo>
                    <a:pt x="854" y="3003"/>
                  </a:lnTo>
                  <a:lnTo>
                    <a:pt x="854" y="2942"/>
                  </a:lnTo>
                  <a:lnTo>
                    <a:pt x="861" y="2942"/>
                  </a:lnTo>
                  <a:lnTo>
                    <a:pt x="861" y="2930"/>
                  </a:lnTo>
                  <a:lnTo>
                    <a:pt x="868" y="2930"/>
                  </a:lnTo>
                  <a:lnTo>
                    <a:pt x="868" y="2918"/>
                  </a:lnTo>
                  <a:lnTo>
                    <a:pt x="874" y="2918"/>
                  </a:lnTo>
                  <a:lnTo>
                    <a:pt x="874" y="2906"/>
                  </a:lnTo>
                  <a:lnTo>
                    <a:pt x="881" y="2906"/>
                  </a:lnTo>
                  <a:lnTo>
                    <a:pt x="881" y="2894"/>
                  </a:lnTo>
                  <a:lnTo>
                    <a:pt x="888" y="2894"/>
                  </a:lnTo>
                  <a:lnTo>
                    <a:pt x="888" y="2881"/>
                  </a:lnTo>
                  <a:lnTo>
                    <a:pt x="894" y="2881"/>
                  </a:lnTo>
                  <a:lnTo>
                    <a:pt x="894" y="2857"/>
                  </a:lnTo>
                  <a:lnTo>
                    <a:pt x="901" y="2857"/>
                  </a:lnTo>
                  <a:lnTo>
                    <a:pt x="901" y="2820"/>
                  </a:lnTo>
                  <a:lnTo>
                    <a:pt x="908" y="2820"/>
                  </a:lnTo>
                  <a:lnTo>
                    <a:pt x="908" y="2808"/>
                  </a:lnTo>
                  <a:lnTo>
                    <a:pt x="921" y="2808"/>
                  </a:lnTo>
                  <a:lnTo>
                    <a:pt x="921" y="2796"/>
                  </a:lnTo>
                  <a:lnTo>
                    <a:pt x="935" y="2796"/>
                  </a:lnTo>
                  <a:lnTo>
                    <a:pt x="935" y="2783"/>
                  </a:lnTo>
                  <a:lnTo>
                    <a:pt x="942" y="2783"/>
                  </a:lnTo>
                  <a:lnTo>
                    <a:pt x="942" y="2746"/>
                  </a:lnTo>
                  <a:lnTo>
                    <a:pt x="948" y="2746"/>
                  </a:lnTo>
                  <a:lnTo>
                    <a:pt x="948" y="2734"/>
                  </a:lnTo>
                  <a:lnTo>
                    <a:pt x="955" y="2734"/>
                  </a:lnTo>
                  <a:lnTo>
                    <a:pt x="955" y="2709"/>
                  </a:lnTo>
                  <a:lnTo>
                    <a:pt x="968" y="2709"/>
                  </a:lnTo>
                  <a:lnTo>
                    <a:pt x="968" y="2660"/>
                  </a:lnTo>
                  <a:lnTo>
                    <a:pt x="975" y="2660"/>
                  </a:lnTo>
                  <a:lnTo>
                    <a:pt x="982" y="2660"/>
                  </a:lnTo>
                  <a:lnTo>
                    <a:pt x="982" y="2647"/>
                  </a:lnTo>
                  <a:lnTo>
                    <a:pt x="1002" y="2647"/>
                  </a:lnTo>
                  <a:lnTo>
                    <a:pt x="1029" y="2647"/>
                  </a:lnTo>
                  <a:lnTo>
                    <a:pt x="1029" y="2635"/>
                  </a:lnTo>
                  <a:lnTo>
                    <a:pt x="1043" y="2635"/>
                  </a:lnTo>
                  <a:lnTo>
                    <a:pt x="1049" y="2635"/>
                  </a:lnTo>
                  <a:lnTo>
                    <a:pt x="1049" y="2622"/>
                  </a:lnTo>
                  <a:lnTo>
                    <a:pt x="1076" y="2622"/>
                  </a:lnTo>
                  <a:lnTo>
                    <a:pt x="1076" y="2610"/>
                  </a:lnTo>
                  <a:lnTo>
                    <a:pt x="1096" y="2610"/>
                  </a:lnTo>
                  <a:lnTo>
                    <a:pt x="1096" y="2597"/>
                  </a:lnTo>
                  <a:lnTo>
                    <a:pt x="1103" y="2597"/>
                  </a:lnTo>
                  <a:lnTo>
                    <a:pt x="1103" y="2585"/>
                  </a:lnTo>
                  <a:lnTo>
                    <a:pt x="1110" y="2585"/>
                  </a:lnTo>
                  <a:lnTo>
                    <a:pt x="1110" y="2572"/>
                  </a:lnTo>
                  <a:lnTo>
                    <a:pt x="1117" y="2572"/>
                  </a:lnTo>
                  <a:lnTo>
                    <a:pt x="1117" y="2547"/>
                  </a:lnTo>
                  <a:lnTo>
                    <a:pt x="1123" y="2547"/>
                  </a:lnTo>
                  <a:lnTo>
                    <a:pt x="1123" y="2521"/>
                  </a:lnTo>
                  <a:lnTo>
                    <a:pt x="1130" y="2521"/>
                  </a:lnTo>
                  <a:lnTo>
                    <a:pt x="1130" y="2484"/>
                  </a:lnTo>
                  <a:lnTo>
                    <a:pt x="1137" y="2484"/>
                  </a:lnTo>
                  <a:lnTo>
                    <a:pt x="1137" y="2446"/>
                  </a:lnTo>
                  <a:lnTo>
                    <a:pt x="1143" y="2446"/>
                  </a:lnTo>
                  <a:lnTo>
                    <a:pt x="1143" y="2420"/>
                  </a:lnTo>
                  <a:lnTo>
                    <a:pt x="1150" y="2420"/>
                  </a:lnTo>
                  <a:lnTo>
                    <a:pt x="1157" y="2420"/>
                  </a:lnTo>
                  <a:lnTo>
                    <a:pt x="1157" y="2369"/>
                  </a:lnTo>
                  <a:lnTo>
                    <a:pt x="1170" y="2369"/>
                  </a:lnTo>
                  <a:lnTo>
                    <a:pt x="1170" y="2330"/>
                  </a:lnTo>
                  <a:lnTo>
                    <a:pt x="1177" y="2330"/>
                  </a:lnTo>
                  <a:lnTo>
                    <a:pt x="1177" y="2318"/>
                  </a:lnTo>
                  <a:lnTo>
                    <a:pt x="1184" y="2318"/>
                  </a:lnTo>
                  <a:lnTo>
                    <a:pt x="1184" y="2292"/>
                  </a:lnTo>
                  <a:lnTo>
                    <a:pt x="1191" y="2292"/>
                  </a:lnTo>
                  <a:lnTo>
                    <a:pt x="1191" y="2253"/>
                  </a:lnTo>
                  <a:lnTo>
                    <a:pt x="1211" y="2253"/>
                  </a:lnTo>
                  <a:lnTo>
                    <a:pt x="1211" y="2240"/>
                  </a:lnTo>
                  <a:lnTo>
                    <a:pt x="1217" y="2240"/>
                  </a:lnTo>
                  <a:lnTo>
                    <a:pt x="1224" y="2240"/>
                  </a:lnTo>
                  <a:lnTo>
                    <a:pt x="1224" y="2228"/>
                  </a:lnTo>
                  <a:lnTo>
                    <a:pt x="1238" y="2228"/>
                  </a:lnTo>
                  <a:lnTo>
                    <a:pt x="1238" y="2202"/>
                  </a:lnTo>
                  <a:lnTo>
                    <a:pt x="1251" y="2202"/>
                  </a:lnTo>
                  <a:lnTo>
                    <a:pt x="1251" y="2189"/>
                  </a:lnTo>
                  <a:lnTo>
                    <a:pt x="1265" y="2189"/>
                  </a:lnTo>
                  <a:lnTo>
                    <a:pt x="1271" y="2189"/>
                  </a:lnTo>
                  <a:lnTo>
                    <a:pt x="1271" y="2176"/>
                  </a:lnTo>
                  <a:lnTo>
                    <a:pt x="1278" y="2176"/>
                  </a:lnTo>
                  <a:lnTo>
                    <a:pt x="1278" y="2163"/>
                  </a:lnTo>
                  <a:lnTo>
                    <a:pt x="1291" y="2163"/>
                  </a:lnTo>
                  <a:lnTo>
                    <a:pt x="1291" y="2149"/>
                  </a:lnTo>
                  <a:lnTo>
                    <a:pt x="1298" y="2149"/>
                  </a:lnTo>
                  <a:lnTo>
                    <a:pt x="1298" y="2136"/>
                  </a:lnTo>
                  <a:lnTo>
                    <a:pt x="1305" y="2136"/>
                  </a:lnTo>
                  <a:lnTo>
                    <a:pt x="1305" y="2123"/>
                  </a:lnTo>
                  <a:lnTo>
                    <a:pt x="1312" y="2123"/>
                  </a:lnTo>
                  <a:lnTo>
                    <a:pt x="1312" y="2110"/>
                  </a:lnTo>
                  <a:lnTo>
                    <a:pt x="1325" y="2110"/>
                  </a:lnTo>
                  <a:lnTo>
                    <a:pt x="1325" y="2084"/>
                  </a:lnTo>
                  <a:lnTo>
                    <a:pt x="1372" y="2084"/>
                  </a:lnTo>
                  <a:lnTo>
                    <a:pt x="1372" y="2057"/>
                  </a:lnTo>
                  <a:lnTo>
                    <a:pt x="1379" y="2057"/>
                  </a:lnTo>
                  <a:lnTo>
                    <a:pt x="1379" y="2044"/>
                  </a:lnTo>
                  <a:lnTo>
                    <a:pt x="1386" y="2044"/>
                  </a:lnTo>
                  <a:lnTo>
                    <a:pt x="1386" y="2004"/>
                  </a:lnTo>
                  <a:lnTo>
                    <a:pt x="1392" y="2004"/>
                  </a:lnTo>
                  <a:lnTo>
                    <a:pt x="1392" y="1991"/>
                  </a:lnTo>
                  <a:lnTo>
                    <a:pt x="1406" y="1991"/>
                  </a:lnTo>
                  <a:lnTo>
                    <a:pt x="1406" y="1977"/>
                  </a:lnTo>
                  <a:lnTo>
                    <a:pt x="1413" y="1977"/>
                  </a:lnTo>
                  <a:lnTo>
                    <a:pt x="1413" y="1964"/>
                  </a:lnTo>
                  <a:lnTo>
                    <a:pt x="1419" y="1964"/>
                  </a:lnTo>
                  <a:lnTo>
                    <a:pt x="1419" y="1924"/>
                  </a:lnTo>
                  <a:lnTo>
                    <a:pt x="1426" y="1924"/>
                  </a:lnTo>
                  <a:lnTo>
                    <a:pt x="1426" y="1910"/>
                  </a:lnTo>
                  <a:lnTo>
                    <a:pt x="1440" y="1910"/>
                  </a:lnTo>
                  <a:lnTo>
                    <a:pt x="1440" y="1883"/>
                  </a:lnTo>
                  <a:lnTo>
                    <a:pt x="1446" y="1883"/>
                  </a:lnTo>
                  <a:lnTo>
                    <a:pt x="1446" y="1870"/>
                  </a:lnTo>
                  <a:lnTo>
                    <a:pt x="1453" y="1870"/>
                  </a:lnTo>
                  <a:lnTo>
                    <a:pt x="1453" y="1856"/>
                  </a:lnTo>
                  <a:lnTo>
                    <a:pt x="1460" y="1856"/>
                  </a:lnTo>
                  <a:lnTo>
                    <a:pt x="1460" y="1843"/>
                  </a:lnTo>
                  <a:lnTo>
                    <a:pt x="1466" y="1843"/>
                  </a:lnTo>
                  <a:lnTo>
                    <a:pt x="1466" y="1829"/>
                  </a:lnTo>
                  <a:lnTo>
                    <a:pt x="1480" y="1829"/>
                  </a:lnTo>
                  <a:lnTo>
                    <a:pt x="1480" y="1816"/>
                  </a:lnTo>
                  <a:lnTo>
                    <a:pt x="1487" y="1816"/>
                  </a:lnTo>
                  <a:lnTo>
                    <a:pt x="1487" y="1802"/>
                  </a:lnTo>
                  <a:lnTo>
                    <a:pt x="1514" y="1802"/>
                  </a:lnTo>
                  <a:lnTo>
                    <a:pt x="1514" y="1788"/>
                  </a:lnTo>
                  <a:lnTo>
                    <a:pt x="1520" y="1788"/>
                  </a:lnTo>
                  <a:lnTo>
                    <a:pt x="1520" y="1775"/>
                  </a:lnTo>
                  <a:lnTo>
                    <a:pt x="1527" y="1775"/>
                  </a:lnTo>
                  <a:lnTo>
                    <a:pt x="1527" y="1761"/>
                  </a:lnTo>
                  <a:lnTo>
                    <a:pt x="1534" y="1761"/>
                  </a:lnTo>
                  <a:lnTo>
                    <a:pt x="1534" y="1748"/>
                  </a:lnTo>
                  <a:lnTo>
                    <a:pt x="1561" y="1748"/>
                  </a:lnTo>
                  <a:lnTo>
                    <a:pt x="1561" y="1734"/>
                  </a:lnTo>
                  <a:lnTo>
                    <a:pt x="1581" y="1734"/>
                  </a:lnTo>
                  <a:lnTo>
                    <a:pt x="1641" y="1734"/>
                  </a:lnTo>
                  <a:lnTo>
                    <a:pt x="1641" y="1720"/>
                  </a:lnTo>
                  <a:lnTo>
                    <a:pt x="1648" y="1720"/>
                  </a:lnTo>
                  <a:lnTo>
                    <a:pt x="1648" y="1706"/>
                  </a:lnTo>
                  <a:lnTo>
                    <a:pt x="1655" y="1706"/>
                  </a:lnTo>
                  <a:lnTo>
                    <a:pt x="1662" y="1706"/>
                  </a:lnTo>
                  <a:lnTo>
                    <a:pt x="1662" y="1693"/>
                  </a:lnTo>
                  <a:lnTo>
                    <a:pt x="1682" y="1693"/>
                  </a:lnTo>
                  <a:lnTo>
                    <a:pt x="1682" y="1665"/>
                  </a:lnTo>
                  <a:lnTo>
                    <a:pt x="1695" y="1665"/>
                  </a:lnTo>
                  <a:lnTo>
                    <a:pt x="1695" y="1651"/>
                  </a:lnTo>
                  <a:lnTo>
                    <a:pt x="1702" y="1651"/>
                  </a:lnTo>
                  <a:lnTo>
                    <a:pt x="1702" y="1637"/>
                  </a:lnTo>
                  <a:lnTo>
                    <a:pt x="1709" y="1637"/>
                  </a:lnTo>
                  <a:lnTo>
                    <a:pt x="1709" y="1623"/>
                  </a:lnTo>
                  <a:lnTo>
                    <a:pt x="1722" y="1623"/>
                  </a:lnTo>
                  <a:lnTo>
                    <a:pt x="1742" y="1623"/>
                  </a:lnTo>
                  <a:lnTo>
                    <a:pt x="1742" y="1595"/>
                  </a:lnTo>
                  <a:lnTo>
                    <a:pt x="1749" y="1595"/>
                  </a:lnTo>
                  <a:lnTo>
                    <a:pt x="1756" y="1595"/>
                  </a:lnTo>
                  <a:lnTo>
                    <a:pt x="1756" y="1580"/>
                  </a:lnTo>
                  <a:lnTo>
                    <a:pt x="1763" y="1580"/>
                  </a:lnTo>
                  <a:lnTo>
                    <a:pt x="1763" y="1566"/>
                  </a:lnTo>
                  <a:lnTo>
                    <a:pt x="1769" y="1566"/>
                  </a:lnTo>
                  <a:lnTo>
                    <a:pt x="1769" y="1552"/>
                  </a:lnTo>
                  <a:lnTo>
                    <a:pt x="1803" y="1552"/>
                  </a:lnTo>
                  <a:lnTo>
                    <a:pt x="1803" y="1509"/>
                  </a:lnTo>
                  <a:lnTo>
                    <a:pt x="1810" y="1509"/>
                  </a:lnTo>
                  <a:lnTo>
                    <a:pt x="1810" y="1495"/>
                  </a:lnTo>
                  <a:lnTo>
                    <a:pt x="1816" y="1495"/>
                  </a:lnTo>
                  <a:lnTo>
                    <a:pt x="1816" y="1467"/>
                  </a:lnTo>
                  <a:lnTo>
                    <a:pt x="1823" y="1467"/>
                  </a:lnTo>
                  <a:lnTo>
                    <a:pt x="1823" y="1452"/>
                  </a:lnTo>
                  <a:lnTo>
                    <a:pt x="1843" y="1452"/>
                  </a:lnTo>
                  <a:lnTo>
                    <a:pt x="1870" y="1452"/>
                  </a:lnTo>
                  <a:lnTo>
                    <a:pt x="1884" y="1452"/>
                  </a:lnTo>
                  <a:lnTo>
                    <a:pt x="1884" y="1438"/>
                  </a:lnTo>
                  <a:lnTo>
                    <a:pt x="1917" y="1438"/>
                  </a:lnTo>
                  <a:lnTo>
                    <a:pt x="1917" y="1423"/>
                  </a:lnTo>
                  <a:lnTo>
                    <a:pt x="1931" y="1423"/>
                  </a:lnTo>
                  <a:lnTo>
                    <a:pt x="1931" y="1408"/>
                  </a:lnTo>
                  <a:lnTo>
                    <a:pt x="1937" y="1408"/>
                  </a:lnTo>
                  <a:lnTo>
                    <a:pt x="1937" y="1394"/>
                  </a:lnTo>
                  <a:lnTo>
                    <a:pt x="1944" y="1394"/>
                  </a:lnTo>
                  <a:lnTo>
                    <a:pt x="1944" y="1379"/>
                  </a:lnTo>
                  <a:lnTo>
                    <a:pt x="1951" y="1379"/>
                  </a:lnTo>
                  <a:lnTo>
                    <a:pt x="1951" y="1364"/>
                  </a:lnTo>
                  <a:lnTo>
                    <a:pt x="1964" y="1364"/>
                  </a:lnTo>
                  <a:lnTo>
                    <a:pt x="1964" y="1350"/>
                  </a:lnTo>
                  <a:lnTo>
                    <a:pt x="1985" y="1350"/>
                  </a:lnTo>
                  <a:lnTo>
                    <a:pt x="1985" y="1335"/>
                  </a:lnTo>
                  <a:lnTo>
                    <a:pt x="2018" y="1335"/>
                  </a:lnTo>
                  <a:lnTo>
                    <a:pt x="2018" y="1320"/>
                  </a:lnTo>
                  <a:lnTo>
                    <a:pt x="2032" y="1320"/>
                  </a:lnTo>
                  <a:lnTo>
                    <a:pt x="2032" y="1290"/>
                  </a:lnTo>
                  <a:lnTo>
                    <a:pt x="2038" y="1290"/>
                  </a:lnTo>
                  <a:lnTo>
                    <a:pt x="2038" y="1276"/>
                  </a:lnTo>
                  <a:lnTo>
                    <a:pt x="2092" y="1276"/>
                  </a:lnTo>
                  <a:lnTo>
                    <a:pt x="2092" y="1261"/>
                  </a:lnTo>
                  <a:lnTo>
                    <a:pt x="2106" y="1261"/>
                  </a:lnTo>
                  <a:lnTo>
                    <a:pt x="2106" y="1246"/>
                  </a:lnTo>
                  <a:lnTo>
                    <a:pt x="2133" y="1246"/>
                  </a:lnTo>
                  <a:lnTo>
                    <a:pt x="2133" y="1231"/>
                  </a:lnTo>
                  <a:lnTo>
                    <a:pt x="2180" y="1231"/>
                  </a:lnTo>
                  <a:lnTo>
                    <a:pt x="2180" y="1217"/>
                  </a:lnTo>
                  <a:lnTo>
                    <a:pt x="2200" y="1217"/>
                  </a:lnTo>
                  <a:lnTo>
                    <a:pt x="2200" y="1202"/>
                  </a:lnTo>
                  <a:lnTo>
                    <a:pt x="2234" y="1202"/>
                  </a:lnTo>
                  <a:lnTo>
                    <a:pt x="2234" y="1187"/>
                  </a:lnTo>
                  <a:lnTo>
                    <a:pt x="2240" y="1187"/>
                  </a:lnTo>
                  <a:lnTo>
                    <a:pt x="2240" y="1172"/>
                  </a:lnTo>
                  <a:lnTo>
                    <a:pt x="2247" y="1172"/>
                  </a:lnTo>
                  <a:lnTo>
                    <a:pt x="2247" y="1143"/>
                  </a:lnTo>
                  <a:lnTo>
                    <a:pt x="2267" y="1143"/>
                  </a:lnTo>
                  <a:lnTo>
                    <a:pt x="2281" y="1143"/>
                  </a:lnTo>
                  <a:lnTo>
                    <a:pt x="2314" y="1143"/>
                  </a:lnTo>
                  <a:lnTo>
                    <a:pt x="2314" y="1128"/>
                  </a:lnTo>
                  <a:lnTo>
                    <a:pt x="2334" y="1128"/>
                  </a:lnTo>
                  <a:lnTo>
                    <a:pt x="2334" y="1097"/>
                  </a:lnTo>
                  <a:lnTo>
                    <a:pt x="2382" y="1097"/>
                  </a:lnTo>
                  <a:lnTo>
                    <a:pt x="2382" y="1082"/>
                  </a:lnTo>
                  <a:lnTo>
                    <a:pt x="2388" y="1082"/>
                  </a:lnTo>
                  <a:lnTo>
                    <a:pt x="2388" y="1067"/>
                  </a:lnTo>
                  <a:lnTo>
                    <a:pt x="2395" y="1067"/>
                  </a:lnTo>
                  <a:lnTo>
                    <a:pt x="2395" y="1052"/>
                  </a:lnTo>
                  <a:lnTo>
                    <a:pt x="2402" y="1052"/>
                  </a:lnTo>
                  <a:lnTo>
                    <a:pt x="2402" y="1036"/>
                  </a:lnTo>
                  <a:lnTo>
                    <a:pt x="2409" y="1036"/>
                  </a:lnTo>
                  <a:lnTo>
                    <a:pt x="2409" y="1021"/>
                  </a:lnTo>
                  <a:lnTo>
                    <a:pt x="2456" y="1021"/>
                  </a:lnTo>
                  <a:lnTo>
                    <a:pt x="2456" y="1005"/>
                  </a:lnTo>
                  <a:lnTo>
                    <a:pt x="2483" y="1005"/>
                  </a:lnTo>
                  <a:lnTo>
                    <a:pt x="2483" y="990"/>
                  </a:lnTo>
                  <a:lnTo>
                    <a:pt x="2509" y="990"/>
                  </a:lnTo>
                  <a:lnTo>
                    <a:pt x="2509" y="959"/>
                  </a:lnTo>
                  <a:lnTo>
                    <a:pt x="2550" y="959"/>
                  </a:lnTo>
                  <a:lnTo>
                    <a:pt x="2550" y="928"/>
                  </a:lnTo>
                  <a:lnTo>
                    <a:pt x="2563" y="928"/>
                  </a:lnTo>
                  <a:lnTo>
                    <a:pt x="2563" y="912"/>
                  </a:lnTo>
                  <a:lnTo>
                    <a:pt x="2583" y="912"/>
                  </a:lnTo>
                  <a:lnTo>
                    <a:pt x="2583" y="897"/>
                  </a:lnTo>
                  <a:lnTo>
                    <a:pt x="2590" y="897"/>
                  </a:lnTo>
                  <a:lnTo>
                    <a:pt x="2590" y="881"/>
                  </a:lnTo>
                  <a:lnTo>
                    <a:pt x="2597" y="881"/>
                  </a:lnTo>
                  <a:lnTo>
                    <a:pt x="2597" y="866"/>
                  </a:lnTo>
                  <a:lnTo>
                    <a:pt x="2644" y="866"/>
                  </a:lnTo>
                  <a:lnTo>
                    <a:pt x="2664" y="866"/>
                  </a:lnTo>
                  <a:lnTo>
                    <a:pt x="2664" y="850"/>
                  </a:lnTo>
                  <a:lnTo>
                    <a:pt x="2684" y="850"/>
                  </a:lnTo>
                  <a:lnTo>
                    <a:pt x="2738" y="850"/>
                  </a:lnTo>
                  <a:lnTo>
                    <a:pt x="2738" y="834"/>
                  </a:lnTo>
                  <a:lnTo>
                    <a:pt x="2745" y="834"/>
                  </a:lnTo>
                  <a:lnTo>
                    <a:pt x="2745" y="818"/>
                  </a:lnTo>
                  <a:lnTo>
                    <a:pt x="2785" y="818"/>
                  </a:lnTo>
                  <a:lnTo>
                    <a:pt x="2792" y="818"/>
                  </a:lnTo>
                  <a:lnTo>
                    <a:pt x="2826" y="818"/>
                  </a:lnTo>
                  <a:lnTo>
                    <a:pt x="2826" y="801"/>
                  </a:lnTo>
                  <a:lnTo>
                    <a:pt x="2832" y="801"/>
                  </a:lnTo>
                  <a:lnTo>
                    <a:pt x="2832" y="785"/>
                  </a:lnTo>
                  <a:lnTo>
                    <a:pt x="2839" y="785"/>
                  </a:lnTo>
                  <a:lnTo>
                    <a:pt x="2839" y="768"/>
                  </a:lnTo>
                  <a:lnTo>
                    <a:pt x="2846" y="768"/>
                  </a:lnTo>
                  <a:lnTo>
                    <a:pt x="2846" y="752"/>
                  </a:lnTo>
                  <a:lnTo>
                    <a:pt x="2853" y="752"/>
                  </a:lnTo>
                  <a:lnTo>
                    <a:pt x="2853" y="735"/>
                  </a:lnTo>
                  <a:lnTo>
                    <a:pt x="2880" y="735"/>
                  </a:lnTo>
                  <a:lnTo>
                    <a:pt x="2880" y="719"/>
                  </a:lnTo>
                  <a:lnTo>
                    <a:pt x="2906" y="719"/>
                  </a:lnTo>
                  <a:lnTo>
                    <a:pt x="2906" y="702"/>
                  </a:lnTo>
                  <a:lnTo>
                    <a:pt x="2947" y="702"/>
                  </a:lnTo>
                  <a:lnTo>
                    <a:pt x="2947" y="686"/>
                  </a:lnTo>
                  <a:lnTo>
                    <a:pt x="2974" y="686"/>
                  </a:lnTo>
                  <a:lnTo>
                    <a:pt x="2974" y="669"/>
                  </a:lnTo>
                  <a:lnTo>
                    <a:pt x="3068" y="669"/>
                  </a:lnTo>
                  <a:lnTo>
                    <a:pt x="3068" y="653"/>
                  </a:lnTo>
                  <a:lnTo>
                    <a:pt x="3081" y="653"/>
                  </a:lnTo>
                  <a:lnTo>
                    <a:pt x="3135" y="653"/>
                  </a:lnTo>
                  <a:lnTo>
                    <a:pt x="3135" y="636"/>
                  </a:lnTo>
                  <a:lnTo>
                    <a:pt x="3189" y="636"/>
                  </a:lnTo>
                  <a:lnTo>
                    <a:pt x="3189" y="619"/>
                  </a:lnTo>
                  <a:lnTo>
                    <a:pt x="3256" y="619"/>
                  </a:lnTo>
                  <a:lnTo>
                    <a:pt x="3256" y="602"/>
                  </a:lnTo>
                  <a:lnTo>
                    <a:pt x="3297" y="602"/>
                  </a:lnTo>
                  <a:lnTo>
                    <a:pt x="3297" y="585"/>
                  </a:lnTo>
                  <a:lnTo>
                    <a:pt x="3357" y="585"/>
                  </a:lnTo>
                  <a:lnTo>
                    <a:pt x="3357" y="568"/>
                  </a:lnTo>
                  <a:lnTo>
                    <a:pt x="3378" y="568"/>
                  </a:lnTo>
                  <a:lnTo>
                    <a:pt x="3378" y="534"/>
                  </a:lnTo>
                  <a:lnTo>
                    <a:pt x="3398" y="534"/>
                  </a:lnTo>
                  <a:lnTo>
                    <a:pt x="3398" y="517"/>
                  </a:lnTo>
                  <a:lnTo>
                    <a:pt x="3411" y="517"/>
                  </a:lnTo>
                  <a:lnTo>
                    <a:pt x="3411" y="500"/>
                  </a:lnTo>
                  <a:lnTo>
                    <a:pt x="3438" y="500"/>
                  </a:lnTo>
                  <a:lnTo>
                    <a:pt x="3505" y="500"/>
                  </a:lnTo>
                  <a:lnTo>
                    <a:pt x="3505" y="483"/>
                  </a:lnTo>
                  <a:lnTo>
                    <a:pt x="3519" y="483"/>
                  </a:lnTo>
                  <a:lnTo>
                    <a:pt x="3600" y="483"/>
                  </a:lnTo>
                  <a:lnTo>
                    <a:pt x="3613" y="483"/>
                  </a:lnTo>
                  <a:lnTo>
                    <a:pt x="3613" y="465"/>
                  </a:lnTo>
                  <a:lnTo>
                    <a:pt x="3620" y="465"/>
                  </a:lnTo>
                  <a:lnTo>
                    <a:pt x="3680" y="465"/>
                  </a:lnTo>
                  <a:lnTo>
                    <a:pt x="3714" y="465"/>
                  </a:lnTo>
                  <a:lnTo>
                    <a:pt x="3714" y="445"/>
                  </a:lnTo>
                  <a:lnTo>
                    <a:pt x="3761" y="445"/>
                  </a:lnTo>
                  <a:lnTo>
                    <a:pt x="3761" y="406"/>
                  </a:lnTo>
                  <a:lnTo>
                    <a:pt x="3808" y="406"/>
                  </a:lnTo>
                  <a:lnTo>
                    <a:pt x="3808" y="364"/>
                  </a:lnTo>
                  <a:lnTo>
                    <a:pt x="3835" y="364"/>
                  </a:lnTo>
                  <a:lnTo>
                    <a:pt x="3923" y="364"/>
                  </a:lnTo>
                  <a:lnTo>
                    <a:pt x="3956" y="364"/>
                  </a:lnTo>
                  <a:lnTo>
                    <a:pt x="4084" y="364"/>
                  </a:lnTo>
                  <a:lnTo>
                    <a:pt x="4252" y="364"/>
                  </a:lnTo>
                  <a:lnTo>
                    <a:pt x="4340" y="364"/>
                  </a:lnTo>
                  <a:lnTo>
                    <a:pt x="4340" y="337"/>
                  </a:lnTo>
                  <a:lnTo>
                    <a:pt x="4360" y="337"/>
                  </a:lnTo>
                  <a:lnTo>
                    <a:pt x="4360" y="311"/>
                  </a:lnTo>
                  <a:lnTo>
                    <a:pt x="4407" y="311"/>
                  </a:lnTo>
                  <a:lnTo>
                    <a:pt x="4488" y="311"/>
                  </a:lnTo>
                  <a:lnTo>
                    <a:pt x="4488" y="282"/>
                  </a:lnTo>
                  <a:lnTo>
                    <a:pt x="4508" y="282"/>
                  </a:lnTo>
                  <a:lnTo>
                    <a:pt x="4508" y="254"/>
                  </a:lnTo>
                  <a:lnTo>
                    <a:pt x="4521" y="254"/>
                  </a:lnTo>
                  <a:lnTo>
                    <a:pt x="4521" y="226"/>
                  </a:lnTo>
                  <a:lnTo>
                    <a:pt x="4548" y="226"/>
                  </a:lnTo>
                  <a:lnTo>
                    <a:pt x="4548" y="197"/>
                  </a:lnTo>
                  <a:lnTo>
                    <a:pt x="4717" y="197"/>
                  </a:lnTo>
                  <a:lnTo>
                    <a:pt x="4717" y="169"/>
                  </a:lnTo>
                  <a:lnTo>
                    <a:pt x="4777" y="169"/>
                  </a:lnTo>
                  <a:lnTo>
                    <a:pt x="4777" y="141"/>
                  </a:lnTo>
                  <a:lnTo>
                    <a:pt x="4811" y="141"/>
                  </a:lnTo>
                  <a:lnTo>
                    <a:pt x="4912" y="141"/>
                  </a:lnTo>
                  <a:lnTo>
                    <a:pt x="5060" y="141"/>
                  </a:lnTo>
                  <a:lnTo>
                    <a:pt x="5134" y="141"/>
                  </a:lnTo>
                  <a:lnTo>
                    <a:pt x="5167" y="141"/>
                  </a:lnTo>
                  <a:lnTo>
                    <a:pt x="5450" y="141"/>
                  </a:lnTo>
                  <a:lnTo>
                    <a:pt x="5612" y="141"/>
                  </a:lnTo>
                  <a:lnTo>
                    <a:pt x="5847" y="141"/>
                  </a:lnTo>
                  <a:lnTo>
                    <a:pt x="6224" y="141"/>
                  </a:lnTo>
                  <a:lnTo>
                    <a:pt x="6224" y="0"/>
                  </a:lnTo>
                  <a:lnTo>
                    <a:pt x="687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0" name="Freeform 93"/>
            <p:cNvSpPr/>
            <p:nvPr/>
          </p:nvSpPr>
          <p:spPr>
            <a:xfrm flipV="1">
              <a:off x="946080" y="1742400"/>
              <a:ext cx="6211800" cy="3568320"/>
            </a:xfrm>
            <a:custGeom>
              <a:avLst/>
              <a:gdLst/>
              <a:ahLst/>
              <a:rect l="l" t="t" r="r" b="b"/>
              <a:pathLst>
                <a:path w="5955" h="3431">
                  <a:moveTo>
                    <a:pt x="0" y="3431"/>
                  </a:moveTo>
                  <a:lnTo>
                    <a:pt x="6" y="3431"/>
                  </a:lnTo>
                  <a:lnTo>
                    <a:pt x="565" y="3431"/>
                  </a:lnTo>
                  <a:lnTo>
                    <a:pt x="565" y="3420"/>
                  </a:lnTo>
                  <a:lnTo>
                    <a:pt x="585" y="3420"/>
                  </a:lnTo>
                  <a:lnTo>
                    <a:pt x="592" y="3420"/>
                  </a:lnTo>
                  <a:lnTo>
                    <a:pt x="605" y="3420"/>
                  </a:lnTo>
                  <a:lnTo>
                    <a:pt x="605" y="3408"/>
                  </a:lnTo>
                  <a:lnTo>
                    <a:pt x="619" y="3408"/>
                  </a:lnTo>
                  <a:lnTo>
                    <a:pt x="632" y="3408"/>
                  </a:lnTo>
                  <a:lnTo>
                    <a:pt x="666" y="3408"/>
                  </a:lnTo>
                  <a:lnTo>
                    <a:pt x="666" y="3396"/>
                  </a:lnTo>
                  <a:lnTo>
                    <a:pt x="672" y="3396"/>
                  </a:lnTo>
                  <a:lnTo>
                    <a:pt x="672" y="3385"/>
                  </a:lnTo>
                  <a:lnTo>
                    <a:pt x="679" y="3385"/>
                  </a:lnTo>
                  <a:lnTo>
                    <a:pt x="679" y="3373"/>
                  </a:lnTo>
                  <a:lnTo>
                    <a:pt x="693" y="3373"/>
                  </a:lnTo>
                  <a:lnTo>
                    <a:pt x="693" y="3361"/>
                  </a:lnTo>
                  <a:lnTo>
                    <a:pt x="713" y="3361"/>
                  </a:lnTo>
                  <a:lnTo>
                    <a:pt x="713" y="3349"/>
                  </a:lnTo>
                  <a:lnTo>
                    <a:pt x="726" y="3349"/>
                  </a:lnTo>
                  <a:lnTo>
                    <a:pt x="726" y="3337"/>
                  </a:lnTo>
                  <a:lnTo>
                    <a:pt x="740" y="3337"/>
                  </a:lnTo>
                  <a:lnTo>
                    <a:pt x="740" y="3314"/>
                  </a:lnTo>
                  <a:lnTo>
                    <a:pt x="746" y="3314"/>
                  </a:lnTo>
                  <a:lnTo>
                    <a:pt x="746" y="3290"/>
                  </a:lnTo>
                  <a:lnTo>
                    <a:pt x="753" y="3290"/>
                  </a:lnTo>
                  <a:lnTo>
                    <a:pt x="753" y="3278"/>
                  </a:lnTo>
                  <a:lnTo>
                    <a:pt x="767" y="3278"/>
                  </a:lnTo>
                  <a:lnTo>
                    <a:pt x="767" y="3267"/>
                  </a:lnTo>
                  <a:lnTo>
                    <a:pt x="773" y="3267"/>
                  </a:lnTo>
                  <a:lnTo>
                    <a:pt x="773" y="3255"/>
                  </a:lnTo>
                  <a:lnTo>
                    <a:pt x="787" y="3255"/>
                  </a:lnTo>
                  <a:lnTo>
                    <a:pt x="794" y="3255"/>
                  </a:lnTo>
                  <a:lnTo>
                    <a:pt x="794" y="3243"/>
                  </a:lnTo>
                  <a:lnTo>
                    <a:pt x="800" y="3243"/>
                  </a:lnTo>
                  <a:lnTo>
                    <a:pt x="800" y="3231"/>
                  </a:lnTo>
                  <a:lnTo>
                    <a:pt x="807" y="3231"/>
                  </a:lnTo>
                  <a:lnTo>
                    <a:pt x="807" y="3207"/>
                  </a:lnTo>
                  <a:lnTo>
                    <a:pt x="814" y="3207"/>
                  </a:lnTo>
                  <a:lnTo>
                    <a:pt x="814" y="3172"/>
                  </a:lnTo>
                  <a:lnTo>
                    <a:pt x="820" y="3172"/>
                  </a:lnTo>
                  <a:lnTo>
                    <a:pt x="820" y="3124"/>
                  </a:lnTo>
                  <a:lnTo>
                    <a:pt x="827" y="3124"/>
                  </a:lnTo>
                  <a:lnTo>
                    <a:pt x="827" y="3089"/>
                  </a:lnTo>
                  <a:lnTo>
                    <a:pt x="841" y="3089"/>
                  </a:lnTo>
                  <a:lnTo>
                    <a:pt x="841" y="3029"/>
                  </a:lnTo>
                  <a:lnTo>
                    <a:pt x="847" y="3029"/>
                  </a:lnTo>
                  <a:lnTo>
                    <a:pt x="847" y="3005"/>
                  </a:lnTo>
                  <a:lnTo>
                    <a:pt x="854" y="3005"/>
                  </a:lnTo>
                  <a:lnTo>
                    <a:pt x="854" y="2945"/>
                  </a:lnTo>
                  <a:lnTo>
                    <a:pt x="861" y="2945"/>
                  </a:lnTo>
                  <a:lnTo>
                    <a:pt x="861" y="2874"/>
                  </a:lnTo>
                  <a:lnTo>
                    <a:pt x="874" y="2874"/>
                  </a:lnTo>
                  <a:lnTo>
                    <a:pt x="874" y="2837"/>
                  </a:lnTo>
                  <a:lnTo>
                    <a:pt x="888" y="2837"/>
                  </a:lnTo>
                  <a:lnTo>
                    <a:pt x="888" y="2813"/>
                  </a:lnTo>
                  <a:lnTo>
                    <a:pt x="894" y="2813"/>
                  </a:lnTo>
                  <a:lnTo>
                    <a:pt x="894" y="2777"/>
                  </a:lnTo>
                  <a:lnTo>
                    <a:pt x="901" y="2777"/>
                  </a:lnTo>
                  <a:lnTo>
                    <a:pt x="901" y="2753"/>
                  </a:lnTo>
                  <a:lnTo>
                    <a:pt x="908" y="2753"/>
                  </a:lnTo>
                  <a:lnTo>
                    <a:pt x="908" y="2716"/>
                  </a:lnTo>
                  <a:lnTo>
                    <a:pt x="915" y="2716"/>
                  </a:lnTo>
                  <a:lnTo>
                    <a:pt x="915" y="2704"/>
                  </a:lnTo>
                  <a:lnTo>
                    <a:pt x="921" y="2704"/>
                  </a:lnTo>
                  <a:lnTo>
                    <a:pt x="921" y="2655"/>
                  </a:lnTo>
                  <a:lnTo>
                    <a:pt x="928" y="2655"/>
                  </a:lnTo>
                  <a:lnTo>
                    <a:pt x="928" y="2631"/>
                  </a:lnTo>
                  <a:lnTo>
                    <a:pt x="935" y="2631"/>
                  </a:lnTo>
                  <a:lnTo>
                    <a:pt x="935" y="2619"/>
                  </a:lnTo>
                  <a:lnTo>
                    <a:pt x="942" y="2619"/>
                  </a:lnTo>
                  <a:lnTo>
                    <a:pt x="942" y="2594"/>
                  </a:lnTo>
                  <a:lnTo>
                    <a:pt x="948" y="2594"/>
                  </a:lnTo>
                  <a:lnTo>
                    <a:pt x="948" y="2582"/>
                  </a:lnTo>
                  <a:lnTo>
                    <a:pt x="955" y="2582"/>
                  </a:lnTo>
                  <a:lnTo>
                    <a:pt x="968" y="2582"/>
                  </a:lnTo>
                  <a:lnTo>
                    <a:pt x="968" y="2570"/>
                  </a:lnTo>
                  <a:lnTo>
                    <a:pt x="995" y="2570"/>
                  </a:lnTo>
                  <a:lnTo>
                    <a:pt x="995" y="2558"/>
                  </a:lnTo>
                  <a:lnTo>
                    <a:pt x="1009" y="2558"/>
                  </a:lnTo>
                  <a:lnTo>
                    <a:pt x="1009" y="2546"/>
                  </a:lnTo>
                  <a:lnTo>
                    <a:pt x="1029" y="2546"/>
                  </a:lnTo>
                  <a:lnTo>
                    <a:pt x="1029" y="2533"/>
                  </a:lnTo>
                  <a:lnTo>
                    <a:pt x="1036" y="2533"/>
                  </a:lnTo>
                  <a:lnTo>
                    <a:pt x="1036" y="2521"/>
                  </a:lnTo>
                  <a:lnTo>
                    <a:pt x="1043" y="2521"/>
                  </a:lnTo>
                  <a:lnTo>
                    <a:pt x="1043" y="2509"/>
                  </a:lnTo>
                  <a:lnTo>
                    <a:pt x="1069" y="2509"/>
                  </a:lnTo>
                  <a:lnTo>
                    <a:pt x="1069" y="2497"/>
                  </a:lnTo>
                  <a:lnTo>
                    <a:pt x="1083" y="2497"/>
                  </a:lnTo>
                  <a:lnTo>
                    <a:pt x="1083" y="2472"/>
                  </a:lnTo>
                  <a:lnTo>
                    <a:pt x="1096" y="2472"/>
                  </a:lnTo>
                  <a:lnTo>
                    <a:pt x="1096" y="2435"/>
                  </a:lnTo>
                  <a:lnTo>
                    <a:pt x="1103" y="2435"/>
                  </a:lnTo>
                  <a:lnTo>
                    <a:pt x="1103" y="2374"/>
                  </a:lnTo>
                  <a:lnTo>
                    <a:pt x="1110" y="2374"/>
                  </a:lnTo>
                  <a:lnTo>
                    <a:pt x="1110" y="2349"/>
                  </a:lnTo>
                  <a:lnTo>
                    <a:pt x="1117" y="2349"/>
                  </a:lnTo>
                  <a:lnTo>
                    <a:pt x="1117" y="2324"/>
                  </a:lnTo>
                  <a:lnTo>
                    <a:pt x="1123" y="2324"/>
                  </a:lnTo>
                  <a:lnTo>
                    <a:pt x="1123" y="2287"/>
                  </a:lnTo>
                  <a:lnTo>
                    <a:pt x="1130" y="2287"/>
                  </a:lnTo>
                  <a:lnTo>
                    <a:pt x="1130" y="2225"/>
                  </a:lnTo>
                  <a:lnTo>
                    <a:pt x="1137" y="2225"/>
                  </a:lnTo>
                  <a:lnTo>
                    <a:pt x="1137" y="2151"/>
                  </a:lnTo>
                  <a:lnTo>
                    <a:pt x="1143" y="2151"/>
                  </a:lnTo>
                  <a:lnTo>
                    <a:pt x="1143" y="2114"/>
                  </a:lnTo>
                  <a:lnTo>
                    <a:pt x="1157" y="2114"/>
                  </a:lnTo>
                  <a:lnTo>
                    <a:pt x="1157" y="2089"/>
                  </a:lnTo>
                  <a:lnTo>
                    <a:pt x="1164" y="2089"/>
                  </a:lnTo>
                  <a:lnTo>
                    <a:pt x="1164" y="2076"/>
                  </a:lnTo>
                  <a:lnTo>
                    <a:pt x="1184" y="2076"/>
                  </a:lnTo>
                  <a:lnTo>
                    <a:pt x="1184" y="2064"/>
                  </a:lnTo>
                  <a:lnTo>
                    <a:pt x="1191" y="2064"/>
                  </a:lnTo>
                  <a:lnTo>
                    <a:pt x="1191" y="2026"/>
                  </a:lnTo>
                  <a:lnTo>
                    <a:pt x="1197" y="2026"/>
                  </a:lnTo>
                  <a:lnTo>
                    <a:pt x="1197" y="2013"/>
                  </a:lnTo>
                  <a:lnTo>
                    <a:pt x="1217" y="2013"/>
                  </a:lnTo>
                  <a:lnTo>
                    <a:pt x="1217" y="2001"/>
                  </a:lnTo>
                  <a:lnTo>
                    <a:pt x="1224" y="2001"/>
                  </a:lnTo>
                  <a:lnTo>
                    <a:pt x="1224" y="1976"/>
                  </a:lnTo>
                  <a:lnTo>
                    <a:pt x="1231" y="1976"/>
                  </a:lnTo>
                  <a:lnTo>
                    <a:pt x="1231" y="1963"/>
                  </a:lnTo>
                  <a:lnTo>
                    <a:pt x="1238" y="1963"/>
                  </a:lnTo>
                  <a:lnTo>
                    <a:pt x="1238" y="1938"/>
                  </a:lnTo>
                  <a:lnTo>
                    <a:pt x="1244" y="1938"/>
                  </a:lnTo>
                  <a:lnTo>
                    <a:pt x="1244" y="1925"/>
                  </a:lnTo>
                  <a:lnTo>
                    <a:pt x="1265" y="1925"/>
                  </a:lnTo>
                  <a:lnTo>
                    <a:pt x="1265" y="1913"/>
                  </a:lnTo>
                  <a:lnTo>
                    <a:pt x="1278" y="1913"/>
                  </a:lnTo>
                  <a:lnTo>
                    <a:pt x="1278" y="1888"/>
                  </a:lnTo>
                  <a:lnTo>
                    <a:pt x="1285" y="1888"/>
                  </a:lnTo>
                  <a:lnTo>
                    <a:pt x="1285" y="1875"/>
                  </a:lnTo>
                  <a:lnTo>
                    <a:pt x="1291" y="1875"/>
                  </a:lnTo>
                  <a:lnTo>
                    <a:pt x="1291" y="1862"/>
                  </a:lnTo>
                  <a:lnTo>
                    <a:pt x="1312" y="1862"/>
                  </a:lnTo>
                  <a:lnTo>
                    <a:pt x="1312" y="1850"/>
                  </a:lnTo>
                  <a:lnTo>
                    <a:pt x="1325" y="1850"/>
                  </a:lnTo>
                  <a:lnTo>
                    <a:pt x="1325" y="1824"/>
                  </a:lnTo>
                  <a:lnTo>
                    <a:pt x="1372" y="1824"/>
                  </a:lnTo>
                  <a:lnTo>
                    <a:pt x="1372" y="1812"/>
                  </a:lnTo>
                  <a:lnTo>
                    <a:pt x="1386" y="1812"/>
                  </a:lnTo>
                  <a:lnTo>
                    <a:pt x="1386" y="1799"/>
                  </a:lnTo>
                  <a:lnTo>
                    <a:pt x="1392" y="1799"/>
                  </a:lnTo>
                  <a:lnTo>
                    <a:pt x="1392" y="1786"/>
                  </a:lnTo>
                  <a:lnTo>
                    <a:pt x="1406" y="1786"/>
                  </a:lnTo>
                  <a:lnTo>
                    <a:pt x="1406" y="1761"/>
                  </a:lnTo>
                  <a:lnTo>
                    <a:pt x="1413" y="1761"/>
                  </a:lnTo>
                  <a:lnTo>
                    <a:pt x="1413" y="1723"/>
                  </a:lnTo>
                  <a:lnTo>
                    <a:pt x="1419" y="1723"/>
                  </a:lnTo>
                  <a:lnTo>
                    <a:pt x="1419" y="1684"/>
                  </a:lnTo>
                  <a:lnTo>
                    <a:pt x="1426" y="1684"/>
                  </a:lnTo>
                  <a:lnTo>
                    <a:pt x="1426" y="1659"/>
                  </a:lnTo>
                  <a:lnTo>
                    <a:pt x="1433" y="1659"/>
                  </a:lnTo>
                  <a:lnTo>
                    <a:pt x="1433" y="1646"/>
                  </a:lnTo>
                  <a:lnTo>
                    <a:pt x="1440" y="1646"/>
                  </a:lnTo>
                  <a:lnTo>
                    <a:pt x="1440" y="1621"/>
                  </a:lnTo>
                  <a:lnTo>
                    <a:pt x="1446" y="1621"/>
                  </a:lnTo>
                  <a:lnTo>
                    <a:pt x="1446" y="1595"/>
                  </a:lnTo>
                  <a:lnTo>
                    <a:pt x="1453" y="1595"/>
                  </a:lnTo>
                  <a:lnTo>
                    <a:pt x="1453" y="1570"/>
                  </a:lnTo>
                  <a:lnTo>
                    <a:pt x="1460" y="1570"/>
                  </a:lnTo>
                  <a:lnTo>
                    <a:pt x="1460" y="1557"/>
                  </a:lnTo>
                  <a:lnTo>
                    <a:pt x="1466" y="1557"/>
                  </a:lnTo>
                  <a:lnTo>
                    <a:pt x="1466" y="1531"/>
                  </a:lnTo>
                  <a:lnTo>
                    <a:pt x="1487" y="1531"/>
                  </a:lnTo>
                  <a:lnTo>
                    <a:pt x="1487" y="1493"/>
                  </a:lnTo>
                  <a:lnTo>
                    <a:pt x="1500" y="1493"/>
                  </a:lnTo>
                  <a:lnTo>
                    <a:pt x="1500" y="1480"/>
                  </a:lnTo>
                  <a:lnTo>
                    <a:pt x="1507" y="1480"/>
                  </a:lnTo>
                  <a:lnTo>
                    <a:pt x="1507" y="1442"/>
                  </a:lnTo>
                  <a:lnTo>
                    <a:pt x="1514" y="1442"/>
                  </a:lnTo>
                  <a:lnTo>
                    <a:pt x="1514" y="1429"/>
                  </a:lnTo>
                  <a:lnTo>
                    <a:pt x="1527" y="1429"/>
                  </a:lnTo>
                  <a:lnTo>
                    <a:pt x="1534" y="1429"/>
                  </a:lnTo>
                  <a:lnTo>
                    <a:pt x="1534" y="1416"/>
                  </a:lnTo>
                  <a:lnTo>
                    <a:pt x="1540" y="1416"/>
                  </a:lnTo>
                  <a:lnTo>
                    <a:pt x="1540" y="1403"/>
                  </a:lnTo>
                  <a:lnTo>
                    <a:pt x="1547" y="1403"/>
                  </a:lnTo>
                  <a:lnTo>
                    <a:pt x="1547" y="1390"/>
                  </a:lnTo>
                  <a:lnTo>
                    <a:pt x="1554" y="1390"/>
                  </a:lnTo>
                  <a:lnTo>
                    <a:pt x="1554" y="1377"/>
                  </a:lnTo>
                  <a:lnTo>
                    <a:pt x="1581" y="1377"/>
                  </a:lnTo>
                  <a:lnTo>
                    <a:pt x="1581" y="1364"/>
                  </a:lnTo>
                  <a:lnTo>
                    <a:pt x="1608" y="1364"/>
                  </a:lnTo>
                  <a:lnTo>
                    <a:pt x="1608" y="1351"/>
                  </a:lnTo>
                  <a:lnTo>
                    <a:pt x="1621" y="1351"/>
                  </a:lnTo>
                  <a:lnTo>
                    <a:pt x="1621" y="1338"/>
                  </a:lnTo>
                  <a:lnTo>
                    <a:pt x="1655" y="1338"/>
                  </a:lnTo>
                  <a:lnTo>
                    <a:pt x="1655" y="1325"/>
                  </a:lnTo>
                  <a:lnTo>
                    <a:pt x="1662" y="1325"/>
                  </a:lnTo>
                  <a:lnTo>
                    <a:pt x="1662" y="1298"/>
                  </a:lnTo>
                  <a:lnTo>
                    <a:pt x="1682" y="1298"/>
                  </a:lnTo>
                  <a:lnTo>
                    <a:pt x="1682" y="1285"/>
                  </a:lnTo>
                  <a:lnTo>
                    <a:pt x="1689" y="1285"/>
                  </a:lnTo>
                  <a:lnTo>
                    <a:pt x="1689" y="1272"/>
                  </a:lnTo>
                  <a:lnTo>
                    <a:pt x="1695" y="1272"/>
                  </a:lnTo>
                  <a:lnTo>
                    <a:pt x="1695" y="1259"/>
                  </a:lnTo>
                  <a:lnTo>
                    <a:pt x="1709" y="1259"/>
                  </a:lnTo>
                  <a:lnTo>
                    <a:pt x="1709" y="1245"/>
                  </a:lnTo>
                  <a:lnTo>
                    <a:pt x="1715" y="1245"/>
                  </a:lnTo>
                  <a:lnTo>
                    <a:pt x="1715" y="1219"/>
                  </a:lnTo>
                  <a:lnTo>
                    <a:pt x="1742" y="1219"/>
                  </a:lnTo>
                  <a:lnTo>
                    <a:pt x="1742" y="1165"/>
                  </a:lnTo>
                  <a:lnTo>
                    <a:pt x="1756" y="1165"/>
                  </a:lnTo>
                  <a:lnTo>
                    <a:pt x="1756" y="1138"/>
                  </a:lnTo>
                  <a:lnTo>
                    <a:pt x="1763" y="1138"/>
                  </a:lnTo>
                  <a:lnTo>
                    <a:pt x="1763" y="1124"/>
                  </a:lnTo>
                  <a:lnTo>
                    <a:pt x="1796" y="1124"/>
                  </a:lnTo>
                  <a:lnTo>
                    <a:pt x="1796" y="1097"/>
                  </a:lnTo>
                  <a:lnTo>
                    <a:pt x="1803" y="1097"/>
                  </a:lnTo>
                  <a:lnTo>
                    <a:pt x="1803" y="1084"/>
                  </a:lnTo>
                  <a:lnTo>
                    <a:pt x="1823" y="1084"/>
                  </a:lnTo>
                  <a:lnTo>
                    <a:pt x="1823" y="1070"/>
                  </a:lnTo>
                  <a:lnTo>
                    <a:pt x="1837" y="1070"/>
                  </a:lnTo>
                  <a:lnTo>
                    <a:pt x="1837" y="1057"/>
                  </a:lnTo>
                  <a:lnTo>
                    <a:pt x="1850" y="1057"/>
                  </a:lnTo>
                  <a:lnTo>
                    <a:pt x="1850" y="1043"/>
                  </a:lnTo>
                  <a:lnTo>
                    <a:pt x="1870" y="1043"/>
                  </a:lnTo>
                  <a:lnTo>
                    <a:pt x="1870" y="1030"/>
                  </a:lnTo>
                  <a:lnTo>
                    <a:pt x="1877" y="1030"/>
                  </a:lnTo>
                  <a:lnTo>
                    <a:pt x="1877" y="1016"/>
                  </a:lnTo>
                  <a:lnTo>
                    <a:pt x="1917" y="1016"/>
                  </a:lnTo>
                  <a:lnTo>
                    <a:pt x="1917" y="1002"/>
                  </a:lnTo>
                  <a:lnTo>
                    <a:pt x="1924" y="1002"/>
                  </a:lnTo>
                  <a:lnTo>
                    <a:pt x="1924" y="989"/>
                  </a:lnTo>
                  <a:lnTo>
                    <a:pt x="1944" y="989"/>
                  </a:lnTo>
                  <a:lnTo>
                    <a:pt x="1944" y="975"/>
                  </a:lnTo>
                  <a:lnTo>
                    <a:pt x="1951" y="975"/>
                  </a:lnTo>
                  <a:lnTo>
                    <a:pt x="1951" y="948"/>
                  </a:lnTo>
                  <a:lnTo>
                    <a:pt x="1971" y="948"/>
                  </a:lnTo>
                  <a:lnTo>
                    <a:pt x="1971" y="935"/>
                  </a:lnTo>
                  <a:lnTo>
                    <a:pt x="1978" y="935"/>
                  </a:lnTo>
                  <a:lnTo>
                    <a:pt x="1978" y="921"/>
                  </a:lnTo>
                  <a:lnTo>
                    <a:pt x="2005" y="921"/>
                  </a:lnTo>
                  <a:lnTo>
                    <a:pt x="2005" y="908"/>
                  </a:lnTo>
                  <a:lnTo>
                    <a:pt x="2018" y="908"/>
                  </a:lnTo>
                  <a:lnTo>
                    <a:pt x="2018" y="894"/>
                  </a:lnTo>
                  <a:lnTo>
                    <a:pt x="2059" y="894"/>
                  </a:lnTo>
                  <a:lnTo>
                    <a:pt x="2059" y="881"/>
                  </a:lnTo>
                  <a:lnTo>
                    <a:pt x="2072" y="881"/>
                  </a:lnTo>
                  <a:lnTo>
                    <a:pt x="2072" y="867"/>
                  </a:lnTo>
                  <a:lnTo>
                    <a:pt x="2086" y="867"/>
                  </a:lnTo>
                  <a:lnTo>
                    <a:pt x="2086" y="853"/>
                  </a:lnTo>
                  <a:lnTo>
                    <a:pt x="2133" y="853"/>
                  </a:lnTo>
                  <a:lnTo>
                    <a:pt x="2133" y="840"/>
                  </a:lnTo>
                  <a:lnTo>
                    <a:pt x="2213" y="840"/>
                  </a:lnTo>
                  <a:lnTo>
                    <a:pt x="2213" y="826"/>
                  </a:lnTo>
                  <a:lnTo>
                    <a:pt x="2247" y="826"/>
                  </a:lnTo>
                  <a:lnTo>
                    <a:pt x="2247" y="813"/>
                  </a:lnTo>
                  <a:lnTo>
                    <a:pt x="2260" y="813"/>
                  </a:lnTo>
                  <a:lnTo>
                    <a:pt x="2260" y="799"/>
                  </a:lnTo>
                  <a:lnTo>
                    <a:pt x="2267" y="799"/>
                  </a:lnTo>
                  <a:lnTo>
                    <a:pt x="2267" y="772"/>
                  </a:lnTo>
                  <a:lnTo>
                    <a:pt x="2274" y="772"/>
                  </a:lnTo>
                  <a:lnTo>
                    <a:pt x="2274" y="745"/>
                  </a:lnTo>
                  <a:lnTo>
                    <a:pt x="2308" y="745"/>
                  </a:lnTo>
                  <a:lnTo>
                    <a:pt x="2375" y="745"/>
                  </a:lnTo>
                  <a:lnTo>
                    <a:pt x="2375" y="718"/>
                  </a:lnTo>
                  <a:lnTo>
                    <a:pt x="2382" y="718"/>
                  </a:lnTo>
                  <a:lnTo>
                    <a:pt x="2382" y="704"/>
                  </a:lnTo>
                  <a:lnTo>
                    <a:pt x="2388" y="704"/>
                  </a:lnTo>
                  <a:lnTo>
                    <a:pt x="2388" y="690"/>
                  </a:lnTo>
                  <a:lnTo>
                    <a:pt x="2409" y="690"/>
                  </a:lnTo>
                  <a:lnTo>
                    <a:pt x="2409" y="676"/>
                  </a:lnTo>
                  <a:lnTo>
                    <a:pt x="2516" y="676"/>
                  </a:lnTo>
                  <a:lnTo>
                    <a:pt x="2516" y="649"/>
                  </a:lnTo>
                  <a:lnTo>
                    <a:pt x="2530" y="649"/>
                  </a:lnTo>
                  <a:lnTo>
                    <a:pt x="2536" y="649"/>
                  </a:lnTo>
                  <a:lnTo>
                    <a:pt x="2536" y="634"/>
                  </a:lnTo>
                  <a:lnTo>
                    <a:pt x="2563" y="634"/>
                  </a:lnTo>
                  <a:lnTo>
                    <a:pt x="2563" y="620"/>
                  </a:lnTo>
                  <a:lnTo>
                    <a:pt x="2577" y="620"/>
                  </a:lnTo>
                  <a:lnTo>
                    <a:pt x="2577" y="606"/>
                  </a:lnTo>
                  <a:lnTo>
                    <a:pt x="2583" y="606"/>
                  </a:lnTo>
                  <a:lnTo>
                    <a:pt x="2583" y="592"/>
                  </a:lnTo>
                  <a:lnTo>
                    <a:pt x="2590" y="592"/>
                  </a:lnTo>
                  <a:lnTo>
                    <a:pt x="2590" y="564"/>
                  </a:lnTo>
                  <a:lnTo>
                    <a:pt x="2678" y="564"/>
                  </a:lnTo>
                  <a:lnTo>
                    <a:pt x="2678" y="550"/>
                  </a:lnTo>
                  <a:lnTo>
                    <a:pt x="2691" y="550"/>
                  </a:lnTo>
                  <a:lnTo>
                    <a:pt x="2691" y="522"/>
                  </a:lnTo>
                  <a:lnTo>
                    <a:pt x="2846" y="522"/>
                  </a:lnTo>
                  <a:lnTo>
                    <a:pt x="2866" y="522"/>
                  </a:lnTo>
                  <a:lnTo>
                    <a:pt x="2866" y="507"/>
                  </a:lnTo>
                  <a:lnTo>
                    <a:pt x="2947" y="507"/>
                  </a:lnTo>
                  <a:lnTo>
                    <a:pt x="2947" y="492"/>
                  </a:lnTo>
                  <a:lnTo>
                    <a:pt x="3014" y="492"/>
                  </a:lnTo>
                  <a:lnTo>
                    <a:pt x="3021" y="492"/>
                  </a:lnTo>
                  <a:lnTo>
                    <a:pt x="3021" y="477"/>
                  </a:lnTo>
                  <a:lnTo>
                    <a:pt x="3061" y="477"/>
                  </a:lnTo>
                  <a:lnTo>
                    <a:pt x="3061" y="461"/>
                  </a:lnTo>
                  <a:lnTo>
                    <a:pt x="3075" y="461"/>
                  </a:lnTo>
                  <a:lnTo>
                    <a:pt x="3075" y="446"/>
                  </a:lnTo>
                  <a:lnTo>
                    <a:pt x="3081" y="446"/>
                  </a:lnTo>
                  <a:lnTo>
                    <a:pt x="3081" y="430"/>
                  </a:lnTo>
                  <a:lnTo>
                    <a:pt x="3129" y="430"/>
                  </a:lnTo>
                  <a:lnTo>
                    <a:pt x="3169" y="430"/>
                  </a:lnTo>
                  <a:lnTo>
                    <a:pt x="3169" y="399"/>
                  </a:lnTo>
                  <a:lnTo>
                    <a:pt x="3263" y="399"/>
                  </a:lnTo>
                  <a:lnTo>
                    <a:pt x="3263" y="383"/>
                  </a:lnTo>
                  <a:lnTo>
                    <a:pt x="3324" y="383"/>
                  </a:lnTo>
                  <a:lnTo>
                    <a:pt x="3324" y="367"/>
                  </a:lnTo>
                  <a:lnTo>
                    <a:pt x="3344" y="367"/>
                  </a:lnTo>
                  <a:lnTo>
                    <a:pt x="3344" y="351"/>
                  </a:lnTo>
                  <a:lnTo>
                    <a:pt x="3364" y="351"/>
                  </a:lnTo>
                  <a:lnTo>
                    <a:pt x="3364" y="335"/>
                  </a:lnTo>
                  <a:lnTo>
                    <a:pt x="3512" y="335"/>
                  </a:lnTo>
                  <a:lnTo>
                    <a:pt x="3512" y="319"/>
                  </a:lnTo>
                  <a:lnTo>
                    <a:pt x="3606" y="319"/>
                  </a:lnTo>
                  <a:lnTo>
                    <a:pt x="3606" y="303"/>
                  </a:lnTo>
                  <a:lnTo>
                    <a:pt x="3667" y="303"/>
                  </a:lnTo>
                  <a:lnTo>
                    <a:pt x="3667" y="287"/>
                  </a:lnTo>
                  <a:lnTo>
                    <a:pt x="3680" y="287"/>
                  </a:lnTo>
                  <a:lnTo>
                    <a:pt x="3680" y="255"/>
                  </a:lnTo>
                  <a:lnTo>
                    <a:pt x="3721" y="255"/>
                  </a:lnTo>
                  <a:lnTo>
                    <a:pt x="3721" y="239"/>
                  </a:lnTo>
                  <a:lnTo>
                    <a:pt x="3761" y="239"/>
                  </a:lnTo>
                  <a:lnTo>
                    <a:pt x="3761" y="223"/>
                  </a:lnTo>
                  <a:lnTo>
                    <a:pt x="3855" y="223"/>
                  </a:lnTo>
                  <a:lnTo>
                    <a:pt x="3875" y="223"/>
                  </a:lnTo>
                  <a:lnTo>
                    <a:pt x="3875" y="206"/>
                  </a:lnTo>
                  <a:lnTo>
                    <a:pt x="4091" y="206"/>
                  </a:lnTo>
                  <a:lnTo>
                    <a:pt x="4091" y="189"/>
                  </a:lnTo>
                  <a:lnTo>
                    <a:pt x="4259" y="189"/>
                  </a:lnTo>
                  <a:lnTo>
                    <a:pt x="4447" y="189"/>
                  </a:lnTo>
                  <a:lnTo>
                    <a:pt x="4447" y="170"/>
                  </a:lnTo>
                  <a:lnTo>
                    <a:pt x="4582" y="170"/>
                  </a:lnTo>
                  <a:lnTo>
                    <a:pt x="4582" y="151"/>
                  </a:lnTo>
                  <a:lnTo>
                    <a:pt x="4609" y="151"/>
                  </a:lnTo>
                  <a:lnTo>
                    <a:pt x="4730" y="151"/>
                  </a:lnTo>
                  <a:lnTo>
                    <a:pt x="4730" y="130"/>
                  </a:lnTo>
                  <a:lnTo>
                    <a:pt x="4737" y="130"/>
                  </a:lnTo>
                  <a:lnTo>
                    <a:pt x="4737" y="108"/>
                  </a:lnTo>
                  <a:lnTo>
                    <a:pt x="4797" y="108"/>
                  </a:lnTo>
                  <a:lnTo>
                    <a:pt x="4804" y="108"/>
                  </a:lnTo>
                  <a:lnTo>
                    <a:pt x="5551" y="108"/>
                  </a:lnTo>
                  <a:lnTo>
                    <a:pt x="5847" y="108"/>
                  </a:lnTo>
                  <a:lnTo>
                    <a:pt x="5955" y="108"/>
                  </a:lnTo>
                  <a:lnTo>
                    <a:pt x="5955"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1" name="Rectangle 94"/>
            <p:cNvSpPr/>
            <p:nvPr/>
          </p:nvSpPr>
          <p:spPr>
            <a:xfrm>
              <a:off x="3853800" y="586368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552" name="Rectangle 95"/>
            <p:cNvSpPr/>
            <p:nvPr/>
          </p:nvSpPr>
          <p:spPr>
            <a:xfrm rot="16200000">
              <a:off x="-456120" y="362808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intBreak Prespecified Analysis: OS From Randomization (Maintenance Group)</a:t>
            </a:r>
            <a:endParaRPr b="0" lang="en-US" sz="3600" spc="-1" strike="noStrike">
              <a:solidFill>
                <a:srgbClr val="000000"/>
              </a:solidFill>
              <a:latin typeface="Arial"/>
            </a:endParaRPr>
          </a:p>
        </p:txBody>
      </p:sp>
      <p:sp>
        <p:nvSpPr>
          <p:cNvPr id="2554" name="Text Box 15"/>
          <p:cNvSpPr/>
          <p:nvPr/>
        </p:nvSpPr>
        <p:spPr>
          <a:xfrm>
            <a:off x="2590920" y="6203880"/>
            <a:ext cx="5632200" cy="611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respecified exploratory noncomparative subgroup analy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ensoring rate for Pem + Cb + Bev was 36.0; for Pac+  Cb + Bev was 3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555" name=""/>
          <p:cNvGraphicFramePr/>
          <p:nvPr/>
        </p:nvGraphicFramePr>
        <p:xfrm>
          <a:off x="4343400" y="1981080"/>
          <a:ext cx="4529160" cy="901800"/>
        </p:xfrm>
        <a:graphic>
          <a:graphicData uri="http://schemas.openxmlformats.org/drawingml/2006/table">
            <a:tbl>
              <a:tblPr/>
              <a:tblGrid>
                <a:gridCol w="1727280"/>
                <a:gridCol w="1430280"/>
                <a:gridCol w="1371600"/>
              </a:tblGrid>
              <a:tr h="5763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n=2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n=298)</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32544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7.7</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5.7</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bl>
          </a:graphicData>
        </a:graphic>
      </p:graphicFrame>
      <p:grpSp>
        <p:nvGrpSpPr>
          <p:cNvPr id="2556" name="Group 136263"/>
          <p:cNvGrpSpPr/>
          <p:nvPr/>
        </p:nvGrpSpPr>
        <p:grpSpPr>
          <a:xfrm>
            <a:off x="-206280" y="2298600"/>
            <a:ext cx="9069480" cy="7504200"/>
            <a:chOff x="-206280" y="2298600"/>
            <a:chExt cx="9069480" cy="7504200"/>
          </a:xfrm>
        </p:grpSpPr>
        <p:sp>
          <p:nvSpPr>
            <p:cNvPr id="2557" name="AutoShape 4"/>
            <p:cNvSpPr/>
            <p:nvPr/>
          </p:nvSpPr>
          <p:spPr>
            <a:xfrm>
              <a:off x="-135360" y="2868480"/>
              <a:ext cx="8998560" cy="69343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8" name="Rectangle 6"/>
            <p:cNvSpPr/>
            <p:nvPr/>
          </p:nvSpPr>
          <p:spPr>
            <a:xfrm>
              <a:off x="-206280" y="2298600"/>
              <a:ext cx="8997120" cy="693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559" name="Group 136262"/>
          <p:cNvGrpSpPr/>
          <p:nvPr/>
        </p:nvGrpSpPr>
        <p:grpSpPr>
          <a:xfrm>
            <a:off x="169920" y="1603440"/>
            <a:ext cx="8770320" cy="4587120"/>
            <a:chOff x="169920" y="1603440"/>
            <a:chExt cx="8770320" cy="4587120"/>
          </a:xfrm>
        </p:grpSpPr>
        <p:sp>
          <p:nvSpPr>
            <p:cNvPr id="2560" name="Rectangle 7"/>
            <p:cNvSpPr/>
            <p:nvPr/>
          </p:nvSpPr>
          <p:spPr>
            <a:xfrm>
              <a:off x="851760" y="1687320"/>
              <a:ext cx="8001720" cy="37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1" name="Line 8"/>
            <p:cNvSpPr/>
            <p:nvPr/>
          </p:nvSpPr>
          <p:spPr>
            <a:xfrm>
              <a:off x="851760" y="5477040"/>
              <a:ext cx="8001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62" name="Line 9"/>
            <p:cNvSpPr/>
            <p:nvPr/>
          </p:nvSpPr>
          <p:spPr>
            <a:xfrm flipV="1">
              <a:off x="8517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3" name="Line 10"/>
            <p:cNvSpPr/>
            <p:nvPr/>
          </p:nvSpPr>
          <p:spPr>
            <a:xfrm flipV="1">
              <a:off x="14677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4" name="Line 11"/>
            <p:cNvSpPr/>
            <p:nvPr/>
          </p:nvSpPr>
          <p:spPr>
            <a:xfrm flipV="1">
              <a:off x="20822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5" name="Line 12"/>
            <p:cNvSpPr/>
            <p:nvPr/>
          </p:nvSpPr>
          <p:spPr>
            <a:xfrm flipV="1">
              <a:off x="269820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6" name="Line 13"/>
            <p:cNvSpPr/>
            <p:nvPr/>
          </p:nvSpPr>
          <p:spPr>
            <a:xfrm flipV="1">
              <a:off x="33127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7" name="Line 14"/>
            <p:cNvSpPr/>
            <p:nvPr/>
          </p:nvSpPr>
          <p:spPr>
            <a:xfrm flipV="1">
              <a:off x="39301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8" name="Line 15"/>
            <p:cNvSpPr/>
            <p:nvPr/>
          </p:nvSpPr>
          <p:spPr>
            <a:xfrm flipV="1">
              <a:off x="45446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9" name="Line 16"/>
            <p:cNvSpPr/>
            <p:nvPr/>
          </p:nvSpPr>
          <p:spPr>
            <a:xfrm flipV="1">
              <a:off x="51591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0" name="Line 17"/>
            <p:cNvSpPr/>
            <p:nvPr/>
          </p:nvSpPr>
          <p:spPr>
            <a:xfrm flipV="1">
              <a:off x="57751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1" name="Line 18"/>
            <p:cNvSpPr/>
            <p:nvPr/>
          </p:nvSpPr>
          <p:spPr>
            <a:xfrm flipV="1">
              <a:off x="639108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2" name="Line 19"/>
            <p:cNvSpPr/>
            <p:nvPr/>
          </p:nvSpPr>
          <p:spPr>
            <a:xfrm flipV="1">
              <a:off x="70070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3" name="Line 20"/>
            <p:cNvSpPr/>
            <p:nvPr/>
          </p:nvSpPr>
          <p:spPr>
            <a:xfrm flipV="1">
              <a:off x="76215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4" name="Line 21"/>
            <p:cNvSpPr/>
            <p:nvPr/>
          </p:nvSpPr>
          <p:spPr>
            <a:xfrm flipV="1">
              <a:off x="82375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5" name="Line 22"/>
            <p:cNvSpPr/>
            <p:nvPr/>
          </p:nvSpPr>
          <p:spPr>
            <a:xfrm flipV="1">
              <a:off x="885348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6" name="Line 23"/>
            <p:cNvSpPr/>
            <p:nvPr/>
          </p:nvSpPr>
          <p:spPr>
            <a:xfrm flipV="1">
              <a:off x="10580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7" name="Line 24"/>
            <p:cNvSpPr/>
            <p:nvPr/>
          </p:nvSpPr>
          <p:spPr>
            <a:xfrm flipV="1">
              <a:off x="1262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8" name="Line 25"/>
            <p:cNvSpPr/>
            <p:nvPr/>
          </p:nvSpPr>
          <p:spPr>
            <a:xfrm flipV="1">
              <a:off x="16725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9" name="Line 26"/>
            <p:cNvSpPr/>
            <p:nvPr/>
          </p:nvSpPr>
          <p:spPr>
            <a:xfrm flipV="1">
              <a:off x="18774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0" name="Line 27"/>
            <p:cNvSpPr/>
            <p:nvPr/>
          </p:nvSpPr>
          <p:spPr>
            <a:xfrm flipV="1">
              <a:off x="22885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1" name="Line 28"/>
            <p:cNvSpPr/>
            <p:nvPr/>
          </p:nvSpPr>
          <p:spPr>
            <a:xfrm flipV="1">
              <a:off x="24933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2" name="Line 29"/>
            <p:cNvSpPr/>
            <p:nvPr/>
          </p:nvSpPr>
          <p:spPr>
            <a:xfrm flipV="1">
              <a:off x="29030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3" name="Line 30"/>
            <p:cNvSpPr/>
            <p:nvPr/>
          </p:nvSpPr>
          <p:spPr>
            <a:xfrm flipV="1">
              <a:off x="3107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4" name="Line 31"/>
            <p:cNvSpPr/>
            <p:nvPr/>
          </p:nvSpPr>
          <p:spPr>
            <a:xfrm flipV="1">
              <a:off x="35190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5" name="Line 32"/>
            <p:cNvSpPr/>
            <p:nvPr/>
          </p:nvSpPr>
          <p:spPr>
            <a:xfrm flipV="1">
              <a:off x="37238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6" name="Line 33"/>
            <p:cNvSpPr/>
            <p:nvPr/>
          </p:nvSpPr>
          <p:spPr>
            <a:xfrm flipV="1">
              <a:off x="41349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7" name="Line 34"/>
            <p:cNvSpPr/>
            <p:nvPr/>
          </p:nvSpPr>
          <p:spPr>
            <a:xfrm flipV="1">
              <a:off x="43398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8" name="Line 35"/>
            <p:cNvSpPr/>
            <p:nvPr/>
          </p:nvSpPr>
          <p:spPr>
            <a:xfrm flipV="1">
              <a:off x="47494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9" name="Line 36"/>
            <p:cNvSpPr/>
            <p:nvPr/>
          </p:nvSpPr>
          <p:spPr>
            <a:xfrm flipV="1">
              <a:off x="49543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0" name="Line 37"/>
            <p:cNvSpPr/>
            <p:nvPr/>
          </p:nvSpPr>
          <p:spPr>
            <a:xfrm flipV="1">
              <a:off x="53654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1" name="Line 38"/>
            <p:cNvSpPr/>
            <p:nvPr/>
          </p:nvSpPr>
          <p:spPr>
            <a:xfrm flipV="1">
              <a:off x="55702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2" name="Line 39"/>
            <p:cNvSpPr/>
            <p:nvPr/>
          </p:nvSpPr>
          <p:spPr>
            <a:xfrm flipV="1">
              <a:off x="59799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3" name="Line 40"/>
            <p:cNvSpPr/>
            <p:nvPr/>
          </p:nvSpPr>
          <p:spPr>
            <a:xfrm flipV="1">
              <a:off x="61862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4" name="Line 41"/>
            <p:cNvSpPr/>
            <p:nvPr/>
          </p:nvSpPr>
          <p:spPr>
            <a:xfrm flipV="1">
              <a:off x="65959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5" name="Line 42"/>
            <p:cNvSpPr/>
            <p:nvPr/>
          </p:nvSpPr>
          <p:spPr>
            <a:xfrm flipV="1">
              <a:off x="68007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6" name="Line 43"/>
            <p:cNvSpPr/>
            <p:nvPr/>
          </p:nvSpPr>
          <p:spPr>
            <a:xfrm flipV="1">
              <a:off x="7211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7" name="Line 44"/>
            <p:cNvSpPr/>
            <p:nvPr/>
          </p:nvSpPr>
          <p:spPr>
            <a:xfrm flipV="1">
              <a:off x="74167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8" name="Line 45"/>
            <p:cNvSpPr/>
            <p:nvPr/>
          </p:nvSpPr>
          <p:spPr>
            <a:xfrm flipV="1">
              <a:off x="78264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9" name="Line 46"/>
            <p:cNvSpPr/>
            <p:nvPr/>
          </p:nvSpPr>
          <p:spPr>
            <a:xfrm flipV="1">
              <a:off x="80312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0" name="Line 47"/>
            <p:cNvSpPr/>
            <p:nvPr/>
          </p:nvSpPr>
          <p:spPr>
            <a:xfrm flipV="1">
              <a:off x="84423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1" name="Line 48"/>
            <p:cNvSpPr/>
            <p:nvPr/>
          </p:nvSpPr>
          <p:spPr>
            <a:xfrm flipV="1">
              <a:off x="86472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2" name="Rectangle 49"/>
            <p:cNvSpPr/>
            <p:nvPr/>
          </p:nvSpPr>
          <p:spPr>
            <a:xfrm>
              <a:off x="81036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603" name="Rectangle 50"/>
            <p:cNvSpPr/>
            <p:nvPr/>
          </p:nvSpPr>
          <p:spPr>
            <a:xfrm>
              <a:off x="142632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604" name="Rectangle 51"/>
            <p:cNvSpPr/>
            <p:nvPr/>
          </p:nvSpPr>
          <p:spPr>
            <a:xfrm>
              <a:off x="204084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2605" name="Rectangle 52"/>
            <p:cNvSpPr/>
            <p:nvPr/>
          </p:nvSpPr>
          <p:spPr>
            <a:xfrm>
              <a:off x="265680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606" name="Rectangle 53"/>
            <p:cNvSpPr/>
            <p:nvPr/>
          </p:nvSpPr>
          <p:spPr>
            <a:xfrm>
              <a:off x="322920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607" name="Rectangle 54"/>
            <p:cNvSpPr/>
            <p:nvPr/>
          </p:nvSpPr>
          <p:spPr>
            <a:xfrm>
              <a:off x="38451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608" name="Rectangle 55"/>
            <p:cNvSpPr/>
            <p:nvPr/>
          </p:nvSpPr>
          <p:spPr>
            <a:xfrm>
              <a:off x="44596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2609" name="Rectangle 56"/>
            <p:cNvSpPr/>
            <p:nvPr/>
          </p:nvSpPr>
          <p:spPr>
            <a:xfrm>
              <a:off x="507564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2610" name="Rectangle 57"/>
            <p:cNvSpPr/>
            <p:nvPr/>
          </p:nvSpPr>
          <p:spPr>
            <a:xfrm>
              <a:off x="56901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611" name="Rectangle 58"/>
            <p:cNvSpPr/>
            <p:nvPr/>
          </p:nvSpPr>
          <p:spPr>
            <a:xfrm>
              <a:off x="630792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612" name="Rectangle 59"/>
            <p:cNvSpPr/>
            <p:nvPr/>
          </p:nvSpPr>
          <p:spPr>
            <a:xfrm>
              <a:off x="69220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p:txBody>
        </p:sp>
        <p:sp>
          <p:nvSpPr>
            <p:cNvPr id="2613" name="Rectangle 60"/>
            <p:cNvSpPr/>
            <p:nvPr/>
          </p:nvSpPr>
          <p:spPr>
            <a:xfrm>
              <a:off x="753660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Arial"/>
              </a:endParaRPr>
            </a:p>
          </p:txBody>
        </p:sp>
        <p:sp>
          <p:nvSpPr>
            <p:cNvPr id="2614" name="Rectangle 61"/>
            <p:cNvSpPr/>
            <p:nvPr/>
          </p:nvSpPr>
          <p:spPr>
            <a:xfrm>
              <a:off x="81525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2615" name="Rectangle 62"/>
            <p:cNvSpPr/>
            <p:nvPr/>
          </p:nvSpPr>
          <p:spPr>
            <a:xfrm>
              <a:off x="87688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000000"/>
                </a:solidFill>
                <a:latin typeface="Arial"/>
              </a:endParaRPr>
            </a:p>
          </p:txBody>
        </p:sp>
        <p:sp>
          <p:nvSpPr>
            <p:cNvPr id="2616" name="Line 63"/>
            <p:cNvSpPr/>
            <p:nvPr/>
          </p:nvSpPr>
          <p:spPr>
            <a:xfrm flipV="1">
              <a:off x="851760" y="1687320"/>
              <a:ext cx="0" cy="378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7" name="Line 64"/>
            <p:cNvSpPr/>
            <p:nvPr/>
          </p:nvSpPr>
          <p:spPr>
            <a:xfrm>
              <a:off x="797760" y="5402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8" name="Line 65"/>
            <p:cNvSpPr/>
            <p:nvPr/>
          </p:nvSpPr>
          <p:spPr>
            <a:xfrm>
              <a:off x="797760" y="5030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9" name="Line 66"/>
            <p:cNvSpPr/>
            <p:nvPr/>
          </p:nvSpPr>
          <p:spPr>
            <a:xfrm>
              <a:off x="797760" y="46594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0" name="Line 67"/>
            <p:cNvSpPr/>
            <p:nvPr/>
          </p:nvSpPr>
          <p:spPr>
            <a:xfrm>
              <a:off x="797760" y="4286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1" name="Line 68"/>
            <p:cNvSpPr/>
            <p:nvPr/>
          </p:nvSpPr>
          <p:spPr>
            <a:xfrm>
              <a:off x="797760" y="3914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2" name="Line 69"/>
            <p:cNvSpPr/>
            <p:nvPr/>
          </p:nvSpPr>
          <p:spPr>
            <a:xfrm>
              <a:off x="797760" y="35431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3" name="Line 70"/>
            <p:cNvSpPr/>
            <p:nvPr/>
          </p:nvSpPr>
          <p:spPr>
            <a:xfrm>
              <a:off x="797760" y="31734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4" name="Line 71"/>
            <p:cNvSpPr/>
            <p:nvPr/>
          </p:nvSpPr>
          <p:spPr>
            <a:xfrm>
              <a:off x="797760" y="2801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5" name="Line 72"/>
            <p:cNvSpPr/>
            <p:nvPr/>
          </p:nvSpPr>
          <p:spPr>
            <a:xfrm>
              <a:off x="797760" y="24303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6" name="Line 73"/>
            <p:cNvSpPr/>
            <p:nvPr/>
          </p:nvSpPr>
          <p:spPr>
            <a:xfrm>
              <a:off x="797760" y="20588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7" name="Line 74"/>
            <p:cNvSpPr/>
            <p:nvPr/>
          </p:nvSpPr>
          <p:spPr>
            <a:xfrm>
              <a:off x="797760" y="16873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8" name="Line 75"/>
            <p:cNvSpPr/>
            <p:nvPr/>
          </p:nvSpPr>
          <p:spPr>
            <a:xfrm>
              <a:off x="819720" y="52149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9" name="Line 76"/>
            <p:cNvSpPr/>
            <p:nvPr/>
          </p:nvSpPr>
          <p:spPr>
            <a:xfrm>
              <a:off x="819720" y="48434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0" name="Line 77"/>
            <p:cNvSpPr/>
            <p:nvPr/>
          </p:nvSpPr>
          <p:spPr>
            <a:xfrm>
              <a:off x="819720" y="44737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1" name="Line 78"/>
            <p:cNvSpPr/>
            <p:nvPr/>
          </p:nvSpPr>
          <p:spPr>
            <a:xfrm>
              <a:off x="819720" y="41022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2" name="Line 79"/>
            <p:cNvSpPr/>
            <p:nvPr/>
          </p:nvSpPr>
          <p:spPr>
            <a:xfrm>
              <a:off x="819720" y="37306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3" name="Line 80"/>
            <p:cNvSpPr/>
            <p:nvPr/>
          </p:nvSpPr>
          <p:spPr>
            <a:xfrm>
              <a:off x="819720" y="33591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4" name="Line 81"/>
            <p:cNvSpPr/>
            <p:nvPr/>
          </p:nvSpPr>
          <p:spPr>
            <a:xfrm>
              <a:off x="819720" y="29862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5" name="Line 82"/>
            <p:cNvSpPr/>
            <p:nvPr/>
          </p:nvSpPr>
          <p:spPr>
            <a:xfrm>
              <a:off x="819720" y="26146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6" name="Line 83"/>
            <p:cNvSpPr/>
            <p:nvPr/>
          </p:nvSpPr>
          <p:spPr>
            <a:xfrm>
              <a:off x="819720" y="22446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7" name="Line 84"/>
            <p:cNvSpPr/>
            <p:nvPr/>
          </p:nvSpPr>
          <p:spPr>
            <a:xfrm>
              <a:off x="819720" y="18730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8" name="Rectangle 85"/>
            <p:cNvSpPr/>
            <p:nvPr/>
          </p:nvSpPr>
          <p:spPr>
            <a:xfrm>
              <a:off x="514440" y="53164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2639" name="Rectangle 86"/>
            <p:cNvSpPr/>
            <p:nvPr/>
          </p:nvSpPr>
          <p:spPr>
            <a:xfrm>
              <a:off x="514440" y="49449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p:txBody>
        </p:sp>
        <p:sp>
          <p:nvSpPr>
            <p:cNvPr id="2640" name="Rectangle 87"/>
            <p:cNvSpPr/>
            <p:nvPr/>
          </p:nvSpPr>
          <p:spPr>
            <a:xfrm>
              <a:off x="514440" y="4575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p:txBody>
        </p:sp>
        <p:sp>
          <p:nvSpPr>
            <p:cNvPr id="2641" name="Rectangle 88"/>
            <p:cNvSpPr/>
            <p:nvPr/>
          </p:nvSpPr>
          <p:spPr>
            <a:xfrm>
              <a:off x="514440" y="42019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Arial"/>
              </a:endParaRPr>
            </a:p>
          </p:txBody>
        </p:sp>
        <p:sp>
          <p:nvSpPr>
            <p:cNvPr id="2642" name="Rectangle 89"/>
            <p:cNvSpPr/>
            <p:nvPr/>
          </p:nvSpPr>
          <p:spPr>
            <a:xfrm>
              <a:off x="514440" y="38307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Arial"/>
              </a:endParaRPr>
            </a:p>
          </p:txBody>
        </p:sp>
        <p:sp>
          <p:nvSpPr>
            <p:cNvPr id="2643" name="Rectangle 90"/>
            <p:cNvSpPr/>
            <p:nvPr/>
          </p:nvSpPr>
          <p:spPr>
            <a:xfrm>
              <a:off x="514440" y="3459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000000"/>
                </a:solidFill>
                <a:latin typeface="Arial"/>
              </a:endParaRPr>
            </a:p>
          </p:txBody>
        </p:sp>
        <p:sp>
          <p:nvSpPr>
            <p:cNvPr id="2644" name="Rectangle 91"/>
            <p:cNvSpPr/>
            <p:nvPr/>
          </p:nvSpPr>
          <p:spPr>
            <a:xfrm>
              <a:off x="514440" y="30877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Arial"/>
              </a:endParaRPr>
            </a:p>
          </p:txBody>
        </p:sp>
        <p:sp>
          <p:nvSpPr>
            <p:cNvPr id="2645" name="Rectangle 92"/>
            <p:cNvSpPr/>
            <p:nvPr/>
          </p:nvSpPr>
          <p:spPr>
            <a:xfrm>
              <a:off x="514440" y="27162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p:txBody>
        </p:sp>
        <p:sp>
          <p:nvSpPr>
            <p:cNvPr id="2646" name="Rectangle 93"/>
            <p:cNvSpPr/>
            <p:nvPr/>
          </p:nvSpPr>
          <p:spPr>
            <a:xfrm>
              <a:off x="514440" y="23461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Arial"/>
              </a:endParaRPr>
            </a:p>
          </p:txBody>
        </p:sp>
        <p:sp>
          <p:nvSpPr>
            <p:cNvPr id="2647" name="Rectangle 94"/>
            <p:cNvSpPr/>
            <p:nvPr/>
          </p:nvSpPr>
          <p:spPr>
            <a:xfrm>
              <a:off x="514440" y="19746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9</a:t>
              </a:r>
              <a:endParaRPr b="0" lang="en-US" sz="1200" spc="-1" strike="noStrike">
                <a:solidFill>
                  <a:srgbClr val="000000"/>
                </a:solidFill>
                <a:latin typeface="Arial"/>
              </a:endParaRPr>
            </a:p>
          </p:txBody>
        </p:sp>
        <p:sp>
          <p:nvSpPr>
            <p:cNvPr id="2648" name="Rectangle 95"/>
            <p:cNvSpPr/>
            <p:nvPr/>
          </p:nvSpPr>
          <p:spPr>
            <a:xfrm>
              <a:off x="514440" y="1603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649" name="Freeform 96"/>
            <p:cNvSpPr/>
            <p:nvPr/>
          </p:nvSpPr>
          <p:spPr>
            <a:xfrm flipV="1">
              <a:off x="851760" y="1686960"/>
              <a:ext cx="7601760" cy="3155760"/>
            </a:xfrm>
            <a:custGeom>
              <a:avLst/>
              <a:gdLst/>
              <a:ahLst/>
              <a:rect l="l" t="t" r="r" b="b"/>
              <a:pathLst>
                <a:path w="7006" h="2915">
                  <a:moveTo>
                    <a:pt x="0" y="2915"/>
                  </a:moveTo>
                  <a:lnTo>
                    <a:pt x="633" y="2915"/>
                  </a:lnTo>
                  <a:lnTo>
                    <a:pt x="633" y="2904"/>
                  </a:lnTo>
                  <a:lnTo>
                    <a:pt x="677" y="2904"/>
                  </a:lnTo>
                  <a:lnTo>
                    <a:pt x="745" y="2904"/>
                  </a:lnTo>
                  <a:lnTo>
                    <a:pt x="745" y="2892"/>
                  </a:lnTo>
                  <a:lnTo>
                    <a:pt x="782" y="2892"/>
                  </a:lnTo>
                  <a:lnTo>
                    <a:pt x="782" y="2880"/>
                  </a:lnTo>
                  <a:lnTo>
                    <a:pt x="788" y="2880"/>
                  </a:lnTo>
                  <a:lnTo>
                    <a:pt x="788" y="2868"/>
                  </a:lnTo>
                  <a:lnTo>
                    <a:pt x="869" y="2868"/>
                  </a:lnTo>
                  <a:lnTo>
                    <a:pt x="906" y="2868"/>
                  </a:lnTo>
                  <a:lnTo>
                    <a:pt x="906" y="2857"/>
                  </a:lnTo>
                  <a:lnTo>
                    <a:pt x="919" y="2857"/>
                  </a:lnTo>
                  <a:lnTo>
                    <a:pt x="919" y="2845"/>
                  </a:lnTo>
                  <a:lnTo>
                    <a:pt x="931" y="2845"/>
                  </a:lnTo>
                  <a:lnTo>
                    <a:pt x="937" y="2845"/>
                  </a:lnTo>
                  <a:lnTo>
                    <a:pt x="937" y="2833"/>
                  </a:lnTo>
                  <a:lnTo>
                    <a:pt x="987" y="2833"/>
                  </a:lnTo>
                  <a:lnTo>
                    <a:pt x="987" y="2821"/>
                  </a:lnTo>
                  <a:lnTo>
                    <a:pt x="993" y="2821"/>
                  </a:lnTo>
                  <a:lnTo>
                    <a:pt x="993" y="2809"/>
                  </a:lnTo>
                  <a:lnTo>
                    <a:pt x="1018" y="2809"/>
                  </a:lnTo>
                  <a:lnTo>
                    <a:pt x="1018" y="2797"/>
                  </a:lnTo>
                  <a:lnTo>
                    <a:pt x="1037" y="2797"/>
                  </a:lnTo>
                  <a:lnTo>
                    <a:pt x="1037" y="2785"/>
                  </a:lnTo>
                  <a:lnTo>
                    <a:pt x="1080" y="2785"/>
                  </a:lnTo>
                  <a:lnTo>
                    <a:pt x="1080" y="2773"/>
                  </a:lnTo>
                  <a:lnTo>
                    <a:pt x="1099" y="2773"/>
                  </a:lnTo>
                  <a:lnTo>
                    <a:pt x="1118" y="2773"/>
                  </a:lnTo>
                  <a:lnTo>
                    <a:pt x="1118" y="2762"/>
                  </a:lnTo>
                  <a:lnTo>
                    <a:pt x="1124" y="2762"/>
                  </a:lnTo>
                  <a:lnTo>
                    <a:pt x="1124" y="2738"/>
                  </a:lnTo>
                  <a:lnTo>
                    <a:pt x="1142" y="2738"/>
                  </a:lnTo>
                  <a:lnTo>
                    <a:pt x="1142" y="2726"/>
                  </a:lnTo>
                  <a:lnTo>
                    <a:pt x="1192" y="2726"/>
                  </a:lnTo>
                  <a:lnTo>
                    <a:pt x="1192" y="2714"/>
                  </a:lnTo>
                  <a:lnTo>
                    <a:pt x="1205" y="2714"/>
                  </a:lnTo>
                  <a:lnTo>
                    <a:pt x="1205" y="2702"/>
                  </a:lnTo>
                  <a:lnTo>
                    <a:pt x="1229" y="2702"/>
                  </a:lnTo>
                  <a:lnTo>
                    <a:pt x="1229" y="2690"/>
                  </a:lnTo>
                  <a:lnTo>
                    <a:pt x="1248" y="2690"/>
                  </a:lnTo>
                  <a:lnTo>
                    <a:pt x="1267" y="2690"/>
                  </a:lnTo>
                  <a:lnTo>
                    <a:pt x="1316" y="2690"/>
                  </a:lnTo>
                  <a:lnTo>
                    <a:pt x="1316" y="2666"/>
                  </a:lnTo>
                  <a:lnTo>
                    <a:pt x="1341" y="2666"/>
                  </a:lnTo>
                  <a:lnTo>
                    <a:pt x="1341" y="2654"/>
                  </a:lnTo>
                  <a:lnTo>
                    <a:pt x="1354" y="2654"/>
                  </a:lnTo>
                  <a:lnTo>
                    <a:pt x="1354" y="2642"/>
                  </a:lnTo>
                  <a:lnTo>
                    <a:pt x="1378" y="2642"/>
                  </a:lnTo>
                  <a:lnTo>
                    <a:pt x="1378" y="2630"/>
                  </a:lnTo>
                  <a:lnTo>
                    <a:pt x="1422" y="2630"/>
                  </a:lnTo>
                  <a:lnTo>
                    <a:pt x="1422" y="2618"/>
                  </a:lnTo>
                  <a:lnTo>
                    <a:pt x="1434" y="2618"/>
                  </a:lnTo>
                  <a:lnTo>
                    <a:pt x="1434" y="2606"/>
                  </a:lnTo>
                  <a:lnTo>
                    <a:pt x="1459" y="2606"/>
                  </a:lnTo>
                  <a:lnTo>
                    <a:pt x="1459" y="2594"/>
                  </a:lnTo>
                  <a:lnTo>
                    <a:pt x="1515" y="2594"/>
                  </a:lnTo>
                  <a:lnTo>
                    <a:pt x="1515" y="2582"/>
                  </a:lnTo>
                  <a:lnTo>
                    <a:pt x="1540" y="2582"/>
                  </a:lnTo>
                  <a:lnTo>
                    <a:pt x="1540" y="2570"/>
                  </a:lnTo>
                  <a:lnTo>
                    <a:pt x="1546" y="2570"/>
                  </a:lnTo>
                  <a:lnTo>
                    <a:pt x="1546" y="2558"/>
                  </a:lnTo>
                  <a:lnTo>
                    <a:pt x="1571" y="2558"/>
                  </a:lnTo>
                  <a:lnTo>
                    <a:pt x="1571" y="2545"/>
                  </a:lnTo>
                  <a:lnTo>
                    <a:pt x="1590" y="2545"/>
                  </a:lnTo>
                  <a:lnTo>
                    <a:pt x="1590" y="2521"/>
                  </a:lnTo>
                  <a:lnTo>
                    <a:pt x="1621" y="2521"/>
                  </a:lnTo>
                  <a:lnTo>
                    <a:pt x="1621" y="2509"/>
                  </a:lnTo>
                  <a:lnTo>
                    <a:pt x="1646" y="2509"/>
                  </a:lnTo>
                  <a:lnTo>
                    <a:pt x="1658" y="2509"/>
                  </a:lnTo>
                  <a:lnTo>
                    <a:pt x="1664" y="2509"/>
                  </a:lnTo>
                  <a:lnTo>
                    <a:pt x="1664" y="2497"/>
                  </a:lnTo>
                  <a:lnTo>
                    <a:pt x="1670" y="2497"/>
                  </a:lnTo>
                  <a:lnTo>
                    <a:pt x="1670" y="2485"/>
                  </a:lnTo>
                  <a:lnTo>
                    <a:pt x="1677" y="2485"/>
                  </a:lnTo>
                  <a:lnTo>
                    <a:pt x="1677" y="2460"/>
                  </a:lnTo>
                  <a:lnTo>
                    <a:pt x="1683" y="2460"/>
                  </a:lnTo>
                  <a:lnTo>
                    <a:pt x="1683" y="2424"/>
                  </a:lnTo>
                  <a:lnTo>
                    <a:pt x="1720" y="2424"/>
                  </a:lnTo>
                  <a:lnTo>
                    <a:pt x="1720" y="2412"/>
                  </a:lnTo>
                  <a:lnTo>
                    <a:pt x="1739" y="2412"/>
                  </a:lnTo>
                  <a:lnTo>
                    <a:pt x="1739" y="2399"/>
                  </a:lnTo>
                  <a:lnTo>
                    <a:pt x="1745" y="2399"/>
                  </a:lnTo>
                  <a:lnTo>
                    <a:pt x="1745" y="2375"/>
                  </a:lnTo>
                  <a:lnTo>
                    <a:pt x="1770" y="2375"/>
                  </a:lnTo>
                  <a:lnTo>
                    <a:pt x="1770" y="2363"/>
                  </a:lnTo>
                  <a:lnTo>
                    <a:pt x="1776" y="2363"/>
                  </a:lnTo>
                  <a:lnTo>
                    <a:pt x="1776" y="2350"/>
                  </a:lnTo>
                  <a:lnTo>
                    <a:pt x="1788" y="2350"/>
                  </a:lnTo>
                  <a:lnTo>
                    <a:pt x="1788" y="2338"/>
                  </a:lnTo>
                  <a:lnTo>
                    <a:pt x="1795" y="2338"/>
                  </a:lnTo>
                  <a:lnTo>
                    <a:pt x="1795" y="2301"/>
                  </a:lnTo>
                  <a:lnTo>
                    <a:pt x="1807" y="2301"/>
                  </a:lnTo>
                  <a:lnTo>
                    <a:pt x="1807" y="2289"/>
                  </a:lnTo>
                  <a:lnTo>
                    <a:pt x="1813" y="2289"/>
                  </a:lnTo>
                  <a:lnTo>
                    <a:pt x="1813" y="2277"/>
                  </a:lnTo>
                  <a:lnTo>
                    <a:pt x="1826" y="2277"/>
                  </a:lnTo>
                  <a:lnTo>
                    <a:pt x="1826" y="2265"/>
                  </a:lnTo>
                  <a:lnTo>
                    <a:pt x="1838" y="2265"/>
                  </a:lnTo>
                  <a:lnTo>
                    <a:pt x="1838" y="2252"/>
                  </a:lnTo>
                  <a:lnTo>
                    <a:pt x="1869" y="2252"/>
                  </a:lnTo>
                  <a:lnTo>
                    <a:pt x="1869" y="2240"/>
                  </a:lnTo>
                  <a:lnTo>
                    <a:pt x="1882" y="2240"/>
                  </a:lnTo>
                  <a:lnTo>
                    <a:pt x="1882" y="2216"/>
                  </a:lnTo>
                  <a:lnTo>
                    <a:pt x="1913" y="2216"/>
                  </a:lnTo>
                  <a:lnTo>
                    <a:pt x="1913" y="2203"/>
                  </a:lnTo>
                  <a:lnTo>
                    <a:pt x="1925" y="2203"/>
                  </a:lnTo>
                  <a:lnTo>
                    <a:pt x="1925" y="2179"/>
                  </a:lnTo>
                  <a:lnTo>
                    <a:pt x="1931" y="2179"/>
                  </a:lnTo>
                  <a:lnTo>
                    <a:pt x="1931" y="2167"/>
                  </a:lnTo>
                  <a:lnTo>
                    <a:pt x="1975" y="2167"/>
                  </a:lnTo>
                  <a:lnTo>
                    <a:pt x="1975" y="2154"/>
                  </a:lnTo>
                  <a:lnTo>
                    <a:pt x="1987" y="2154"/>
                  </a:lnTo>
                  <a:lnTo>
                    <a:pt x="1987" y="2118"/>
                  </a:lnTo>
                  <a:lnTo>
                    <a:pt x="2012" y="2118"/>
                  </a:lnTo>
                  <a:lnTo>
                    <a:pt x="2012" y="2105"/>
                  </a:lnTo>
                  <a:lnTo>
                    <a:pt x="2024" y="2105"/>
                  </a:lnTo>
                  <a:lnTo>
                    <a:pt x="2037" y="2105"/>
                  </a:lnTo>
                  <a:lnTo>
                    <a:pt x="2037" y="2093"/>
                  </a:lnTo>
                  <a:lnTo>
                    <a:pt x="2080" y="2093"/>
                  </a:lnTo>
                  <a:lnTo>
                    <a:pt x="2080" y="2081"/>
                  </a:lnTo>
                  <a:lnTo>
                    <a:pt x="2093" y="2081"/>
                  </a:lnTo>
                  <a:lnTo>
                    <a:pt x="2093" y="2068"/>
                  </a:lnTo>
                  <a:lnTo>
                    <a:pt x="2099" y="2068"/>
                  </a:lnTo>
                  <a:lnTo>
                    <a:pt x="2099" y="2056"/>
                  </a:lnTo>
                  <a:lnTo>
                    <a:pt x="2130" y="2056"/>
                  </a:lnTo>
                  <a:lnTo>
                    <a:pt x="2130" y="2031"/>
                  </a:lnTo>
                  <a:lnTo>
                    <a:pt x="2136" y="2031"/>
                  </a:lnTo>
                  <a:lnTo>
                    <a:pt x="2136" y="2019"/>
                  </a:lnTo>
                  <a:lnTo>
                    <a:pt x="2205" y="2019"/>
                  </a:lnTo>
                  <a:lnTo>
                    <a:pt x="2205" y="2007"/>
                  </a:lnTo>
                  <a:lnTo>
                    <a:pt x="2211" y="2007"/>
                  </a:lnTo>
                  <a:lnTo>
                    <a:pt x="2211" y="1982"/>
                  </a:lnTo>
                  <a:lnTo>
                    <a:pt x="2223" y="1982"/>
                  </a:lnTo>
                  <a:lnTo>
                    <a:pt x="2236" y="1982"/>
                  </a:lnTo>
                  <a:lnTo>
                    <a:pt x="2236" y="1970"/>
                  </a:lnTo>
                  <a:lnTo>
                    <a:pt x="2242" y="1970"/>
                  </a:lnTo>
                  <a:lnTo>
                    <a:pt x="2242" y="1958"/>
                  </a:lnTo>
                  <a:lnTo>
                    <a:pt x="2267" y="1958"/>
                  </a:lnTo>
                  <a:lnTo>
                    <a:pt x="2267" y="1945"/>
                  </a:lnTo>
                  <a:lnTo>
                    <a:pt x="2273" y="1945"/>
                  </a:lnTo>
                  <a:lnTo>
                    <a:pt x="2273" y="1933"/>
                  </a:lnTo>
                  <a:lnTo>
                    <a:pt x="2279" y="1933"/>
                  </a:lnTo>
                  <a:lnTo>
                    <a:pt x="2279" y="1920"/>
                  </a:lnTo>
                  <a:lnTo>
                    <a:pt x="2285" y="1920"/>
                  </a:lnTo>
                  <a:lnTo>
                    <a:pt x="2285" y="1896"/>
                  </a:lnTo>
                  <a:lnTo>
                    <a:pt x="2310" y="1896"/>
                  </a:lnTo>
                  <a:lnTo>
                    <a:pt x="2310" y="1883"/>
                  </a:lnTo>
                  <a:lnTo>
                    <a:pt x="2323" y="1883"/>
                  </a:lnTo>
                  <a:lnTo>
                    <a:pt x="2323" y="1871"/>
                  </a:lnTo>
                  <a:lnTo>
                    <a:pt x="2329" y="1871"/>
                  </a:lnTo>
                  <a:lnTo>
                    <a:pt x="2354" y="1871"/>
                  </a:lnTo>
                  <a:lnTo>
                    <a:pt x="2354" y="1859"/>
                  </a:lnTo>
                  <a:lnTo>
                    <a:pt x="2360" y="1859"/>
                  </a:lnTo>
                  <a:lnTo>
                    <a:pt x="2360" y="1846"/>
                  </a:lnTo>
                  <a:lnTo>
                    <a:pt x="2391" y="1846"/>
                  </a:lnTo>
                  <a:lnTo>
                    <a:pt x="2391" y="1834"/>
                  </a:lnTo>
                  <a:lnTo>
                    <a:pt x="2403" y="1834"/>
                  </a:lnTo>
                  <a:lnTo>
                    <a:pt x="2403" y="1821"/>
                  </a:lnTo>
                  <a:lnTo>
                    <a:pt x="2416" y="1821"/>
                  </a:lnTo>
                  <a:lnTo>
                    <a:pt x="2416" y="1796"/>
                  </a:lnTo>
                  <a:lnTo>
                    <a:pt x="2428" y="1796"/>
                  </a:lnTo>
                  <a:lnTo>
                    <a:pt x="2428" y="1784"/>
                  </a:lnTo>
                  <a:lnTo>
                    <a:pt x="2447" y="1784"/>
                  </a:lnTo>
                  <a:lnTo>
                    <a:pt x="2447" y="1771"/>
                  </a:lnTo>
                  <a:lnTo>
                    <a:pt x="2465" y="1771"/>
                  </a:lnTo>
                  <a:lnTo>
                    <a:pt x="2465" y="1759"/>
                  </a:lnTo>
                  <a:lnTo>
                    <a:pt x="2478" y="1759"/>
                  </a:lnTo>
                  <a:lnTo>
                    <a:pt x="2478" y="1747"/>
                  </a:lnTo>
                  <a:lnTo>
                    <a:pt x="2490" y="1747"/>
                  </a:lnTo>
                  <a:lnTo>
                    <a:pt x="2490" y="1734"/>
                  </a:lnTo>
                  <a:lnTo>
                    <a:pt x="2503" y="1734"/>
                  </a:lnTo>
                  <a:lnTo>
                    <a:pt x="2503" y="1722"/>
                  </a:lnTo>
                  <a:lnTo>
                    <a:pt x="2509" y="1722"/>
                  </a:lnTo>
                  <a:lnTo>
                    <a:pt x="2509" y="1709"/>
                  </a:lnTo>
                  <a:lnTo>
                    <a:pt x="2521" y="1709"/>
                  </a:lnTo>
                  <a:lnTo>
                    <a:pt x="2521" y="1697"/>
                  </a:lnTo>
                  <a:lnTo>
                    <a:pt x="2534" y="1697"/>
                  </a:lnTo>
                  <a:lnTo>
                    <a:pt x="2534" y="1684"/>
                  </a:lnTo>
                  <a:lnTo>
                    <a:pt x="2552" y="1684"/>
                  </a:lnTo>
                  <a:lnTo>
                    <a:pt x="2552" y="1672"/>
                  </a:lnTo>
                  <a:lnTo>
                    <a:pt x="2627" y="1672"/>
                  </a:lnTo>
                  <a:lnTo>
                    <a:pt x="2627" y="1659"/>
                  </a:lnTo>
                  <a:lnTo>
                    <a:pt x="2652" y="1659"/>
                  </a:lnTo>
                  <a:lnTo>
                    <a:pt x="2652" y="1634"/>
                  </a:lnTo>
                  <a:lnTo>
                    <a:pt x="2664" y="1634"/>
                  </a:lnTo>
                  <a:lnTo>
                    <a:pt x="2683" y="1634"/>
                  </a:lnTo>
                  <a:lnTo>
                    <a:pt x="2683" y="1622"/>
                  </a:lnTo>
                  <a:lnTo>
                    <a:pt x="2695" y="1622"/>
                  </a:lnTo>
                  <a:lnTo>
                    <a:pt x="2714" y="1622"/>
                  </a:lnTo>
                  <a:lnTo>
                    <a:pt x="2714" y="1609"/>
                  </a:lnTo>
                  <a:lnTo>
                    <a:pt x="2733" y="1609"/>
                  </a:lnTo>
                  <a:lnTo>
                    <a:pt x="2733" y="1596"/>
                  </a:lnTo>
                  <a:lnTo>
                    <a:pt x="2751" y="1596"/>
                  </a:lnTo>
                  <a:lnTo>
                    <a:pt x="2751" y="1583"/>
                  </a:lnTo>
                  <a:lnTo>
                    <a:pt x="2807" y="1583"/>
                  </a:lnTo>
                  <a:lnTo>
                    <a:pt x="2807" y="1571"/>
                  </a:lnTo>
                  <a:lnTo>
                    <a:pt x="2813" y="1571"/>
                  </a:lnTo>
                  <a:lnTo>
                    <a:pt x="2813" y="1558"/>
                  </a:lnTo>
                  <a:lnTo>
                    <a:pt x="2826" y="1558"/>
                  </a:lnTo>
                  <a:lnTo>
                    <a:pt x="2826" y="1545"/>
                  </a:lnTo>
                  <a:lnTo>
                    <a:pt x="2832" y="1545"/>
                  </a:lnTo>
                  <a:lnTo>
                    <a:pt x="2844" y="1545"/>
                  </a:lnTo>
                  <a:lnTo>
                    <a:pt x="2844" y="1532"/>
                  </a:lnTo>
                  <a:lnTo>
                    <a:pt x="2857" y="1532"/>
                  </a:lnTo>
                  <a:lnTo>
                    <a:pt x="2857" y="1520"/>
                  </a:lnTo>
                  <a:lnTo>
                    <a:pt x="2863" y="1520"/>
                  </a:lnTo>
                  <a:lnTo>
                    <a:pt x="2863" y="1507"/>
                  </a:lnTo>
                  <a:lnTo>
                    <a:pt x="2888" y="1507"/>
                  </a:lnTo>
                  <a:lnTo>
                    <a:pt x="2888" y="1494"/>
                  </a:lnTo>
                  <a:lnTo>
                    <a:pt x="2906" y="1494"/>
                  </a:lnTo>
                  <a:lnTo>
                    <a:pt x="2906" y="1481"/>
                  </a:lnTo>
                  <a:lnTo>
                    <a:pt x="2919" y="1481"/>
                  </a:lnTo>
                  <a:lnTo>
                    <a:pt x="2919" y="1468"/>
                  </a:lnTo>
                  <a:lnTo>
                    <a:pt x="2944" y="1468"/>
                  </a:lnTo>
                  <a:lnTo>
                    <a:pt x="2944" y="1456"/>
                  </a:lnTo>
                  <a:lnTo>
                    <a:pt x="2950" y="1456"/>
                  </a:lnTo>
                  <a:lnTo>
                    <a:pt x="2950" y="1443"/>
                  </a:lnTo>
                  <a:lnTo>
                    <a:pt x="3012" y="1443"/>
                  </a:lnTo>
                  <a:lnTo>
                    <a:pt x="3012" y="1430"/>
                  </a:lnTo>
                  <a:lnTo>
                    <a:pt x="3043" y="1430"/>
                  </a:lnTo>
                  <a:lnTo>
                    <a:pt x="3043" y="1417"/>
                  </a:lnTo>
                  <a:lnTo>
                    <a:pt x="3093" y="1417"/>
                  </a:lnTo>
                  <a:lnTo>
                    <a:pt x="3093" y="1404"/>
                  </a:lnTo>
                  <a:lnTo>
                    <a:pt x="3136" y="1404"/>
                  </a:lnTo>
                  <a:lnTo>
                    <a:pt x="3136" y="1392"/>
                  </a:lnTo>
                  <a:lnTo>
                    <a:pt x="3143" y="1392"/>
                  </a:lnTo>
                  <a:lnTo>
                    <a:pt x="3143" y="1379"/>
                  </a:lnTo>
                  <a:lnTo>
                    <a:pt x="3149" y="1379"/>
                  </a:lnTo>
                  <a:lnTo>
                    <a:pt x="3149" y="1366"/>
                  </a:lnTo>
                  <a:lnTo>
                    <a:pt x="3155" y="1366"/>
                  </a:lnTo>
                  <a:lnTo>
                    <a:pt x="3155" y="1353"/>
                  </a:lnTo>
                  <a:lnTo>
                    <a:pt x="3161" y="1353"/>
                  </a:lnTo>
                  <a:lnTo>
                    <a:pt x="3161" y="1328"/>
                  </a:lnTo>
                  <a:lnTo>
                    <a:pt x="3186" y="1328"/>
                  </a:lnTo>
                  <a:lnTo>
                    <a:pt x="3186" y="1315"/>
                  </a:lnTo>
                  <a:lnTo>
                    <a:pt x="3205" y="1315"/>
                  </a:lnTo>
                  <a:lnTo>
                    <a:pt x="3205" y="1302"/>
                  </a:lnTo>
                  <a:lnTo>
                    <a:pt x="3211" y="1302"/>
                  </a:lnTo>
                  <a:lnTo>
                    <a:pt x="3211" y="1289"/>
                  </a:lnTo>
                  <a:lnTo>
                    <a:pt x="3261" y="1289"/>
                  </a:lnTo>
                  <a:lnTo>
                    <a:pt x="3261" y="1276"/>
                  </a:lnTo>
                  <a:lnTo>
                    <a:pt x="3273" y="1276"/>
                  </a:lnTo>
                  <a:lnTo>
                    <a:pt x="3273" y="1251"/>
                  </a:lnTo>
                  <a:lnTo>
                    <a:pt x="3335" y="1251"/>
                  </a:lnTo>
                  <a:lnTo>
                    <a:pt x="3335" y="1225"/>
                  </a:lnTo>
                  <a:lnTo>
                    <a:pt x="3354" y="1225"/>
                  </a:lnTo>
                  <a:lnTo>
                    <a:pt x="3354" y="1200"/>
                  </a:lnTo>
                  <a:lnTo>
                    <a:pt x="3385" y="1200"/>
                  </a:lnTo>
                  <a:lnTo>
                    <a:pt x="3385" y="1187"/>
                  </a:lnTo>
                  <a:lnTo>
                    <a:pt x="3403" y="1187"/>
                  </a:lnTo>
                  <a:lnTo>
                    <a:pt x="3422" y="1187"/>
                  </a:lnTo>
                  <a:lnTo>
                    <a:pt x="3441" y="1187"/>
                  </a:lnTo>
                  <a:lnTo>
                    <a:pt x="3447" y="1187"/>
                  </a:lnTo>
                  <a:lnTo>
                    <a:pt x="3453" y="1187"/>
                  </a:lnTo>
                  <a:lnTo>
                    <a:pt x="3453" y="1173"/>
                  </a:lnTo>
                  <a:lnTo>
                    <a:pt x="3472" y="1173"/>
                  </a:lnTo>
                  <a:lnTo>
                    <a:pt x="3472" y="1160"/>
                  </a:lnTo>
                  <a:lnTo>
                    <a:pt x="3484" y="1160"/>
                  </a:lnTo>
                  <a:lnTo>
                    <a:pt x="3509" y="1160"/>
                  </a:lnTo>
                  <a:lnTo>
                    <a:pt x="3540" y="1160"/>
                  </a:lnTo>
                  <a:lnTo>
                    <a:pt x="3565" y="1160"/>
                  </a:lnTo>
                  <a:lnTo>
                    <a:pt x="3565" y="1147"/>
                  </a:lnTo>
                  <a:lnTo>
                    <a:pt x="3571" y="1147"/>
                  </a:lnTo>
                  <a:lnTo>
                    <a:pt x="3584" y="1147"/>
                  </a:lnTo>
                  <a:lnTo>
                    <a:pt x="3584" y="1133"/>
                  </a:lnTo>
                  <a:lnTo>
                    <a:pt x="3596" y="1133"/>
                  </a:lnTo>
                  <a:lnTo>
                    <a:pt x="3608" y="1133"/>
                  </a:lnTo>
                  <a:lnTo>
                    <a:pt x="3621" y="1133"/>
                  </a:lnTo>
                  <a:lnTo>
                    <a:pt x="3621" y="1119"/>
                  </a:lnTo>
                  <a:lnTo>
                    <a:pt x="3627" y="1119"/>
                  </a:lnTo>
                  <a:lnTo>
                    <a:pt x="3627" y="1104"/>
                  </a:lnTo>
                  <a:lnTo>
                    <a:pt x="3639" y="1104"/>
                  </a:lnTo>
                  <a:lnTo>
                    <a:pt x="3664" y="1104"/>
                  </a:lnTo>
                  <a:lnTo>
                    <a:pt x="3670" y="1104"/>
                  </a:lnTo>
                  <a:lnTo>
                    <a:pt x="3670" y="1090"/>
                  </a:lnTo>
                  <a:lnTo>
                    <a:pt x="3702" y="1090"/>
                  </a:lnTo>
                  <a:lnTo>
                    <a:pt x="3702" y="1076"/>
                  </a:lnTo>
                  <a:lnTo>
                    <a:pt x="3720" y="1076"/>
                  </a:lnTo>
                  <a:lnTo>
                    <a:pt x="3720" y="1061"/>
                  </a:lnTo>
                  <a:lnTo>
                    <a:pt x="3733" y="1061"/>
                  </a:lnTo>
                  <a:lnTo>
                    <a:pt x="3733" y="1047"/>
                  </a:lnTo>
                  <a:lnTo>
                    <a:pt x="3739" y="1047"/>
                  </a:lnTo>
                  <a:lnTo>
                    <a:pt x="3745" y="1047"/>
                  </a:lnTo>
                  <a:lnTo>
                    <a:pt x="3757" y="1047"/>
                  </a:lnTo>
                  <a:lnTo>
                    <a:pt x="3776" y="1047"/>
                  </a:lnTo>
                  <a:lnTo>
                    <a:pt x="3788" y="1047"/>
                  </a:lnTo>
                  <a:lnTo>
                    <a:pt x="3795" y="1047"/>
                  </a:lnTo>
                  <a:lnTo>
                    <a:pt x="3795" y="1031"/>
                  </a:lnTo>
                  <a:lnTo>
                    <a:pt x="3813" y="1031"/>
                  </a:lnTo>
                  <a:lnTo>
                    <a:pt x="3813" y="1016"/>
                  </a:lnTo>
                  <a:lnTo>
                    <a:pt x="3820" y="1016"/>
                  </a:lnTo>
                  <a:lnTo>
                    <a:pt x="3826" y="1016"/>
                  </a:lnTo>
                  <a:lnTo>
                    <a:pt x="3826" y="1001"/>
                  </a:lnTo>
                  <a:lnTo>
                    <a:pt x="3844" y="1001"/>
                  </a:lnTo>
                  <a:lnTo>
                    <a:pt x="3869" y="1001"/>
                  </a:lnTo>
                  <a:lnTo>
                    <a:pt x="3869" y="985"/>
                  </a:lnTo>
                  <a:lnTo>
                    <a:pt x="3875" y="985"/>
                  </a:lnTo>
                  <a:lnTo>
                    <a:pt x="3875" y="969"/>
                  </a:lnTo>
                  <a:lnTo>
                    <a:pt x="3900" y="969"/>
                  </a:lnTo>
                  <a:lnTo>
                    <a:pt x="3925" y="969"/>
                  </a:lnTo>
                  <a:lnTo>
                    <a:pt x="3944" y="969"/>
                  </a:lnTo>
                  <a:lnTo>
                    <a:pt x="3956" y="969"/>
                  </a:lnTo>
                  <a:lnTo>
                    <a:pt x="3956" y="952"/>
                  </a:lnTo>
                  <a:lnTo>
                    <a:pt x="3969" y="952"/>
                  </a:lnTo>
                  <a:lnTo>
                    <a:pt x="3969" y="919"/>
                  </a:lnTo>
                  <a:lnTo>
                    <a:pt x="3975" y="919"/>
                  </a:lnTo>
                  <a:lnTo>
                    <a:pt x="3975" y="903"/>
                  </a:lnTo>
                  <a:lnTo>
                    <a:pt x="3981" y="903"/>
                  </a:lnTo>
                  <a:lnTo>
                    <a:pt x="3981" y="886"/>
                  </a:lnTo>
                  <a:lnTo>
                    <a:pt x="3987" y="886"/>
                  </a:lnTo>
                  <a:lnTo>
                    <a:pt x="3987" y="870"/>
                  </a:lnTo>
                  <a:lnTo>
                    <a:pt x="4006" y="870"/>
                  </a:lnTo>
                  <a:lnTo>
                    <a:pt x="4105" y="870"/>
                  </a:lnTo>
                  <a:lnTo>
                    <a:pt x="4111" y="870"/>
                  </a:lnTo>
                  <a:lnTo>
                    <a:pt x="4130" y="870"/>
                  </a:lnTo>
                  <a:lnTo>
                    <a:pt x="4136" y="870"/>
                  </a:lnTo>
                  <a:lnTo>
                    <a:pt x="4143" y="870"/>
                  </a:lnTo>
                  <a:lnTo>
                    <a:pt x="4143" y="852"/>
                  </a:lnTo>
                  <a:lnTo>
                    <a:pt x="4155" y="852"/>
                  </a:lnTo>
                  <a:lnTo>
                    <a:pt x="4161" y="852"/>
                  </a:lnTo>
                  <a:lnTo>
                    <a:pt x="4161" y="834"/>
                  </a:lnTo>
                  <a:lnTo>
                    <a:pt x="4174" y="834"/>
                  </a:lnTo>
                  <a:lnTo>
                    <a:pt x="4174" y="816"/>
                  </a:lnTo>
                  <a:lnTo>
                    <a:pt x="4180" y="816"/>
                  </a:lnTo>
                  <a:lnTo>
                    <a:pt x="4192" y="816"/>
                  </a:lnTo>
                  <a:lnTo>
                    <a:pt x="4198" y="816"/>
                  </a:lnTo>
                  <a:lnTo>
                    <a:pt x="4198" y="798"/>
                  </a:lnTo>
                  <a:lnTo>
                    <a:pt x="4217" y="798"/>
                  </a:lnTo>
                  <a:lnTo>
                    <a:pt x="4217" y="779"/>
                  </a:lnTo>
                  <a:lnTo>
                    <a:pt x="4230" y="779"/>
                  </a:lnTo>
                  <a:lnTo>
                    <a:pt x="4230" y="761"/>
                  </a:lnTo>
                  <a:lnTo>
                    <a:pt x="4236" y="761"/>
                  </a:lnTo>
                  <a:lnTo>
                    <a:pt x="4236" y="742"/>
                  </a:lnTo>
                  <a:lnTo>
                    <a:pt x="4242" y="742"/>
                  </a:lnTo>
                  <a:lnTo>
                    <a:pt x="4242" y="724"/>
                  </a:lnTo>
                  <a:lnTo>
                    <a:pt x="4292" y="724"/>
                  </a:lnTo>
                  <a:lnTo>
                    <a:pt x="4335" y="724"/>
                  </a:lnTo>
                  <a:lnTo>
                    <a:pt x="4335" y="705"/>
                  </a:lnTo>
                  <a:lnTo>
                    <a:pt x="4341" y="705"/>
                  </a:lnTo>
                  <a:lnTo>
                    <a:pt x="4341" y="686"/>
                  </a:lnTo>
                  <a:lnTo>
                    <a:pt x="4354" y="686"/>
                  </a:lnTo>
                  <a:lnTo>
                    <a:pt x="4391" y="686"/>
                  </a:lnTo>
                  <a:lnTo>
                    <a:pt x="4391" y="667"/>
                  </a:lnTo>
                  <a:lnTo>
                    <a:pt x="4416" y="667"/>
                  </a:lnTo>
                  <a:lnTo>
                    <a:pt x="4577" y="667"/>
                  </a:lnTo>
                  <a:lnTo>
                    <a:pt x="4602" y="667"/>
                  </a:lnTo>
                  <a:lnTo>
                    <a:pt x="4621" y="667"/>
                  </a:lnTo>
                  <a:lnTo>
                    <a:pt x="4646" y="667"/>
                  </a:lnTo>
                  <a:lnTo>
                    <a:pt x="4658" y="667"/>
                  </a:lnTo>
                  <a:lnTo>
                    <a:pt x="4658" y="646"/>
                  </a:lnTo>
                  <a:lnTo>
                    <a:pt x="4677" y="646"/>
                  </a:lnTo>
                  <a:lnTo>
                    <a:pt x="4689" y="646"/>
                  </a:lnTo>
                  <a:lnTo>
                    <a:pt x="4689" y="625"/>
                  </a:lnTo>
                  <a:lnTo>
                    <a:pt x="4695" y="625"/>
                  </a:lnTo>
                  <a:lnTo>
                    <a:pt x="4695" y="603"/>
                  </a:lnTo>
                  <a:lnTo>
                    <a:pt x="4726" y="603"/>
                  </a:lnTo>
                  <a:lnTo>
                    <a:pt x="4739" y="603"/>
                  </a:lnTo>
                  <a:lnTo>
                    <a:pt x="4751" y="603"/>
                  </a:lnTo>
                  <a:lnTo>
                    <a:pt x="4757" y="603"/>
                  </a:lnTo>
                  <a:lnTo>
                    <a:pt x="4776" y="603"/>
                  </a:lnTo>
                  <a:lnTo>
                    <a:pt x="4801" y="603"/>
                  </a:lnTo>
                  <a:lnTo>
                    <a:pt x="4838" y="603"/>
                  </a:lnTo>
                  <a:lnTo>
                    <a:pt x="4851" y="603"/>
                  </a:lnTo>
                  <a:lnTo>
                    <a:pt x="4851" y="577"/>
                  </a:lnTo>
                  <a:lnTo>
                    <a:pt x="4882" y="577"/>
                  </a:lnTo>
                  <a:lnTo>
                    <a:pt x="4900" y="577"/>
                  </a:lnTo>
                  <a:lnTo>
                    <a:pt x="4913" y="577"/>
                  </a:lnTo>
                  <a:lnTo>
                    <a:pt x="4925" y="577"/>
                  </a:lnTo>
                  <a:lnTo>
                    <a:pt x="4931" y="577"/>
                  </a:lnTo>
                  <a:lnTo>
                    <a:pt x="4956" y="577"/>
                  </a:lnTo>
                  <a:lnTo>
                    <a:pt x="4956" y="518"/>
                  </a:lnTo>
                  <a:lnTo>
                    <a:pt x="4962" y="518"/>
                  </a:lnTo>
                  <a:lnTo>
                    <a:pt x="4962" y="489"/>
                  </a:lnTo>
                  <a:lnTo>
                    <a:pt x="5062" y="489"/>
                  </a:lnTo>
                  <a:lnTo>
                    <a:pt x="5062" y="459"/>
                  </a:lnTo>
                  <a:lnTo>
                    <a:pt x="5093" y="459"/>
                  </a:lnTo>
                  <a:lnTo>
                    <a:pt x="5174" y="459"/>
                  </a:lnTo>
                  <a:lnTo>
                    <a:pt x="5242" y="459"/>
                  </a:lnTo>
                  <a:lnTo>
                    <a:pt x="5273" y="459"/>
                  </a:lnTo>
                  <a:lnTo>
                    <a:pt x="5317" y="459"/>
                  </a:lnTo>
                  <a:lnTo>
                    <a:pt x="5335" y="459"/>
                  </a:lnTo>
                  <a:lnTo>
                    <a:pt x="5435" y="459"/>
                  </a:lnTo>
                  <a:lnTo>
                    <a:pt x="5435" y="423"/>
                  </a:lnTo>
                  <a:lnTo>
                    <a:pt x="5490" y="423"/>
                  </a:lnTo>
                  <a:lnTo>
                    <a:pt x="5503" y="423"/>
                  </a:lnTo>
                  <a:lnTo>
                    <a:pt x="5509" y="423"/>
                  </a:lnTo>
                  <a:lnTo>
                    <a:pt x="5540" y="423"/>
                  </a:lnTo>
                  <a:lnTo>
                    <a:pt x="5584" y="423"/>
                  </a:lnTo>
                  <a:lnTo>
                    <a:pt x="5584" y="380"/>
                  </a:lnTo>
                  <a:lnTo>
                    <a:pt x="5627" y="380"/>
                  </a:lnTo>
                  <a:lnTo>
                    <a:pt x="5671" y="380"/>
                  </a:lnTo>
                  <a:lnTo>
                    <a:pt x="5671" y="336"/>
                  </a:lnTo>
                  <a:lnTo>
                    <a:pt x="5714" y="336"/>
                  </a:lnTo>
                  <a:lnTo>
                    <a:pt x="5714" y="291"/>
                  </a:lnTo>
                  <a:lnTo>
                    <a:pt x="5745" y="291"/>
                  </a:lnTo>
                  <a:lnTo>
                    <a:pt x="5776" y="291"/>
                  </a:lnTo>
                  <a:lnTo>
                    <a:pt x="5782" y="291"/>
                  </a:lnTo>
                  <a:lnTo>
                    <a:pt x="5826" y="291"/>
                  </a:lnTo>
                  <a:lnTo>
                    <a:pt x="5826" y="237"/>
                  </a:lnTo>
                  <a:lnTo>
                    <a:pt x="5863" y="237"/>
                  </a:lnTo>
                  <a:lnTo>
                    <a:pt x="5969" y="237"/>
                  </a:lnTo>
                  <a:lnTo>
                    <a:pt x="5994" y="237"/>
                  </a:lnTo>
                  <a:lnTo>
                    <a:pt x="6012" y="237"/>
                  </a:lnTo>
                  <a:lnTo>
                    <a:pt x="6049" y="237"/>
                  </a:lnTo>
                  <a:lnTo>
                    <a:pt x="6136" y="237"/>
                  </a:lnTo>
                  <a:lnTo>
                    <a:pt x="6391" y="237"/>
                  </a:lnTo>
                  <a:lnTo>
                    <a:pt x="6466" y="237"/>
                  </a:lnTo>
                  <a:lnTo>
                    <a:pt x="6466" y="129"/>
                  </a:lnTo>
                  <a:lnTo>
                    <a:pt x="6490" y="129"/>
                  </a:lnTo>
                  <a:lnTo>
                    <a:pt x="6559" y="129"/>
                  </a:lnTo>
                  <a:lnTo>
                    <a:pt x="6559" y="0"/>
                  </a:lnTo>
                  <a:lnTo>
                    <a:pt x="6664" y="0"/>
                  </a:lnTo>
                  <a:lnTo>
                    <a:pt x="6683" y="0"/>
                  </a:lnTo>
                  <a:lnTo>
                    <a:pt x="6714" y="0"/>
                  </a:lnTo>
                  <a:lnTo>
                    <a:pt x="70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50" name="Freeform 97"/>
            <p:cNvSpPr/>
            <p:nvPr/>
          </p:nvSpPr>
          <p:spPr>
            <a:xfrm flipV="1">
              <a:off x="851760" y="1686960"/>
              <a:ext cx="7273080" cy="3098880"/>
            </a:xfrm>
            <a:custGeom>
              <a:avLst/>
              <a:gdLst/>
              <a:ahLst/>
              <a:rect l="l" t="t" r="r" b="b"/>
              <a:pathLst>
                <a:path w="6702" h="2863">
                  <a:moveTo>
                    <a:pt x="0" y="2863"/>
                  </a:moveTo>
                  <a:lnTo>
                    <a:pt x="708" y="2863"/>
                  </a:lnTo>
                  <a:lnTo>
                    <a:pt x="708" y="2852"/>
                  </a:lnTo>
                  <a:lnTo>
                    <a:pt x="757" y="2852"/>
                  </a:lnTo>
                  <a:lnTo>
                    <a:pt x="757" y="2829"/>
                  </a:lnTo>
                  <a:lnTo>
                    <a:pt x="776" y="2829"/>
                  </a:lnTo>
                  <a:lnTo>
                    <a:pt x="776" y="2806"/>
                  </a:lnTo>
                  <a:lnTo>
                    <a:pt x="795" y="2806"/>
                  </a:lnTo>
                  <a:lnTo>
                    <a:pt x="795" y="2794"/>
                  </a:lnTo>
                  <a:lnTo>
                    <a:pt x="801" y="2794"/>
                  </a:lnTo>
                  <a:lnTo>
                    <a:pt x="826" y="2794"/>
                  </a:lnTo>
                  <a:lnTo>
                    <a:pt x="826" y="2783"/>
                  </a:lnTo>
                  <a:lnTo>
                    <a:pt x="850" y="2783"/>
                  </a:lnTo>
                  <a:lnTo>
                    <a:pt x="850" y="2771"/>
                  </a:lnTo>
                  <a:lnTo>
                    <a:pt x="882" y="2771"/>
                  </a:lnTo>
                  <a:lnTo>
                    <a:pt x="882" y="2760"/>
                  </a:lnTo>
                  <a:lnTo>
                    <a:pt x="888" y="2760"/>
                  </a:lnTo>
                  <a:lnTo>
                    <a:pt x="888" y="2748"/>
                  </a:lnTo>
                  <a:lnTo>
                    <a:pt x="894" y="2748"/>
                  </a:lnTo>
                  <a:lnTo>
                    <a:pt x="894" y="2737"/>
                  </a:lnTo>
                  <a:lnTo>
                    <a:pt x="913" y="2737"/>
                  </a:lnTo>
                  <a:lnTo>
                    <a:pt x="913" y="2725"/>
                  </a:lnTo>
                  <a:lnTo>
                    <a:pt x="956" y="2725"/>
                  </a:lnTo>
                  <a:lnTo>
                    <a:pt x="956" y="2714"/>
                  </a:lnTo>
                  <a:lnTo>
                    <a:pt x="968" y="2714"/>
                  </a:lnTo>
                  <a:lnTo>
                    <a:pt x="968" y="2702"/>
                  </a:lnTo>
                  <a:lnTo>
                    <a:pt x="981" y="2702"/>
                  </a:lnTo>
                  <a:lnTo>
                    <a:pt x="1037" y="2702"/>
                  </a:lnTo>
                  <a:lnTo>
                    <a:pt x="1037" y="2690"/>
                  </a:lnTo>
                  <a:lnTo>
                    <a:pt x="1049" y="2690"/>
                  </a:lnTo>
                  <a:lnTo>
                    <a:pt x="1049" y="2679"/>
                  </a:lnTo>
                  <a:lnTo>
                    <a:pt x="1055" y="2679"/>
                  </a:lnTo>
                  <a:lnTo>
                    <a:pt x="1068" y="2679"/>
                  </a:lnTo>
                  <a:lnTo>
                    <a:pt x="1087" y="2679"/>
                  </a:lnTo>
                  <a:lnTo>
                    <a:pt x="1087" y="2667"/>
                  </a:lnTo>
                  <a:lnTo>
                    <a:pt x="1105" y="2667"/>
                  </a:lnTo>
                  <a:lnTo>
                    <a:pt x="1105" y="2655"/>
                  </a:lnTo>
                  <a:lnTo>
                    <a:pt x="1111" y="2655"/>
                  </a:lnTo>
                  <a:lnTo>
                    <a:pt x="1111" y="2644"/>
                  </a:lnTo>
                  <a:lnTo>
                    <a:pt x="1118" y="2644"/>
                  </a:lnTo>
                  <a:lnTo>
                    <a:pt x="1118" y="2632"/>
                  </a:lnTo>
                  <a:lnTo>
                    <a:pt x="1155" y="2632"/>
                  </a:lnTo>
                  <a:lnTo>
                    <a:pt x="1155" y="2620"/>
                  </a:lnTo>
                  <a:lnTo>
                    <a:pt x="1173" y="2620"/>
                  </a:lnTo>
                  <a:lnTo>
                    <a:pt x="1173" y="2597"/>
                  </a:lnTo>
                  <a:lnTo>
                    <a:pt x="1186" y="2597"/>
                  </a:lnTo>
                  <a:lnTo>
                    <a:pt x="1186" y="2585"/>
                  </a:lnTo>
                  <a:lnTo>
                    <a:pt x="1205" y="2585"/>
                  </a:lnTo>
                  <a:lnTo>
                    <a:pt x="1205" y="2574"/>
                  </a:lnTo>
                  <a:lnTo>
                    <a:pt x="1242" y="2574"/>
                  </a:lnTo>
                  <a:lnTo>
                    <a:pt x="1242" y="2550"/>
                  </a:lnTo>
                  <a:lnTo>
                    <a:pt x="1273" y="2550"/>
                  </a:lnTo>
                  <a:lnTo>
                    <a:pt x="1273" y="2539"/>
                  </a:lnTo>
                  <a:lnTo>
                    <a:pt x="1310" y="2539"/>
                  </a:lnTo>
                  <a:lnTo>
                    <a:pt x="1310" y="2515"/>
                  </a:lnTo>
                  <a:lnTo>
                    <a:pt x="1316" y="2515"/>
                  </a:lnTo>
                  <a:lnTo>
                    <a:pt x="1329" y="2515"/>
                  </a:lnTo>
                  <a:lnTo>
                    <a:pt x="1329" y="2504"/>
                  </a:lnTo>
                  <a:lnTo>
                    <a:pt x="1341" y="2504"/>
                  </a:lnTo>
                  <a:lnTo>
                    <a:pt x="1341" y="2492"/>
                  </a:lnTo>
                  <a:lnTo>
                    <a:pt x="1347" y="2492"/>
                  </a:lnTo>
                  <a:lnTo>
                    <a:pt x="1347" y="2480"/>
                  </a:lnTo>
                  <a:lnTo>
                    <a:pt x="1366" y="2480"/>
                  </a:lnTo>
                  <a:lnTo>
                    <a:pt x="1366" y="2468"/>
                  </a:lnTo>
                  <a:lnTo>
                    <a:pt x="1378" y="2468"/>
                  </a:lnTo>
                  <a:lnTo>
                    <a:pt x="1378" y="2457"/>
                  </a:lnTo>
                  <a:lnTo>
                    <a:pt x="1397" y="2457"/>
                  </a:lnTo>
                  <a:lnTo>
                    <a:pt x="1397" y="2445"/>
                  </a:lnTo>
                  <a:lnTo>
                    <a:pt x="1403" y="2445"/>
                  </a:lnTo>
                  <a:lnTo>
                    <a:pt x="1403" y="2433"/>
                  </a:lnTo>
                  <a:lnTo>
                    <a:pt x="1410" y="2433"/>
                  </a:lnTo>
                  <a:lnTo>
                    <a:pt x="1410" y="2421"/>
                  </a:lnTo>
                  <a:lnTo>
                    <a:pt x="1416" y="2421"/>
                  </a:lnTo>
                  <a:lnTo>
                    <a:pt x="1416" y="2409"/>
                  </a:lnTo>
                  <a:lnTo>
                    <a:pt x="1422" y="2409"/>
                  </a:lnTo>
                  <a:lnTo>
                    <a:pt x="1428" y="2409"/>
                  </a:lnTo>
                  <a:lnTo>
                    <a:pt x="1428" y="2398"/>
                  </a:lnTo>
                  <a:lnTo>
                    <a:pt x="1434" y="2398"/>
                  </a:lnTo>
                  <a:lnTo>
                    <a:pt x="1434" y="2386"/>
                  </a:lnTo>
                  <a:lnTo>
                    <a:pt x="1441" y="2386"/>
                  </a:lnTo>
                  <a:lnTo>
                    <a:pt x="1441" y="2374"/>
                  </a:lnTo>
                  <a:lnTo>
                    <a:pt x="1447" y="2374"/>
                  </a:lnTo>
                  <a:lnTo>
                    <a:pt x="1447" y="2362"/>
                  </a:lnTo>
                  <a:lnTo>
                    <a:pt x="1459" y="2362"/>
                  </a:lnTo>
                  <a:lnTo>
                    <a:pt x="1459" y="2350"/>
                  </a:lnTo>
                  <a:lnTo>
                    <a:pt x="1472" y="2350"/>
                  </a:lnTo>
                  <a:lnTo>
                    <a:pt x="1472" y="2327"/>
                  </a:lnTo>
                  <a:lnTo>
                    <a:pt x="1496" y="2327"/>
                  </a:lnTo>
                  <a:lnTo>
                    <a:pt x="1496" y="2315"/>
                  </a:lnTo>
                  <a:lnTo>
                    <a:pt x="1521" y="2315"/>
                  </a:lnTo>
                  <a:lnTo>
                    <a:pt x="1521" y="2303"/>
                  </a:lnTo>
                  <a:lnTo>
                    <a:pt x="1565" y="2303"/>
                  </a:lnTo>
                  <a:lnTo>
                    <a:pt x="1583" y="2303"/>
                  </a:lnTo>
                  <a:lnTo>
                    <a:pt x="1583" y="2291"/>
                  </a:lnTo>
                  <a:lnTo>
                    <a:pt x="1596" y="2291"/>
                  </a:lnTo>
                  <a:lnTo>
                    <a:pt x="1596" y="2267"/>
                  </a:lnTo>
                  <a:lnTo>
                    <a:pt x="1664" y="2267"/>
                  </a:lnTo>
                  <a:lnTo>
                    <a:pt x="1664" y="2255"/>
                  </a:lnTo>
                  <a:lnTo>
                    <a:pt x="1670" y="2255"/>
                  </a:lnTo>
                  <a:lnTo>
                    <a:pt x="1670" y="2244"/>
                  </a:lnTo>
                  <a:lnTo>
                    <a:pt x="1677" y="2244"/>
                  </a:lnTo>
                  <a:lnTo>
                    <a:pt x="1677" y="2232"/>
                  </a:lnTo>
                  <a:lnTo>
                    <a:pt x="1708" y="2232"/>
                  </a:lnTo>
                  <a:lnTo>
                    <a:pt x="1708" y="2220"/>
                  </a:lnTo>
                  <a:lnTo>
                    <a:pt x="1714" y="2220"/>
                  </a:lnTo>
                  <a:lnTo>
                    <a:pt x="1714" y="2208"/>
                  </a:lnTo>
                  <a:lnTo>
                    <a:pt x="1745" y="2208"/>
                  </a:lnTo>
                  <a:lnTo>
                    <a:pt x="1745" y="2196"/>
                  </a:lnTo>
                  <a:lnTo>
                    <a:pt x="1751" y="2196"/>
                  </a:lnTo>
                  <a:lnTo>
                    <a:pt x="1751" y="2184"/>
                  </a:lnTo>
                  <a:lnTo>
                    <a:pt x="1757" y="2184"/>
                  </a:lnTo>
                  <a:lnTo>
                    <a:pt x="1757" y="2160"/>
                  </a:lnTo>
                  <a:lnTo>
                    <a:pt x="1795" y="2160"/>
                  </a:lnTo>
                  <a:lnTo>
                    <a:pt x="1795" y="2148"/>
                  </a:lnTo>
                  <a:lnTo>
                    <a:pt x="1801" y="2148"/>
                  </a:lnTo>
                  <a:lnTo>
                    <a:pt x="1801" y="2112"/>
                  </a:lnTo>
                  <a:lnTo>
                    <a:pt x="1807" y="2112"/>
                  </a:lnTo>
                  <a:lnTo>
                    <a:pt x="1807" y="2100"/>
                  </a:lnTo>
                  <a:lnTo>
                    <a:pt x="1838" y="2100"/>
                  </a:lnTo>
                  <a:lnTo>
                    <a:pt x="1838" y="2088"/>
                  </a:lnTo>
                  <a:lnTo>
                    <a:pt x="1844" y="2088"/>
                  </a:lnTo>
                  <a:lnTo>
                    <a:pt x="1844" y="2076"/>
                  </a:lnTo>
                  <a:lnTo>
                    <a:pt x="1863" y="2076"/>
                  </a:lnTo>
                  <a:lnTo>
                    <a:pt x="1863" y="2064"/>
                  </a:lnTo>
                  <a:lnTo>
                    <a:pt x="1906" y="2064"/>
                  </a:lnTo>
                  <a:lnTo>
                    <a:pt x="1913" y="2064"/>
                  </a:lnTo>
                  <a:lnTo>
                    <a:pt x="1913" y="2052"/>
                  </a:lnTo>
                  <a:lnTo>
                    <a:pt x="1925" y="2052"/>
                  </a:lnTo>
                  <a:lnTo>
                    <a:pt x="1925" y="2040"/>
                  </a:lnTo>
                  <a:lnTo>
                    <a:pt x="1931" y="2040"/>
                  </a:lnTo>
                  <a:lnTo>
                    <a:pt x="1931" y="2028"/>
                  </a:lnTo>
                  <a:lnTo>
                    <a:pt x="1975" y="2028"/>
                  </a:lnTo>
                  <a:lnTo>
                    <a:pt x="1975" y="2016"/>
                  </a:lnTo>
                  <a:lnTo>
                    <a:pt x="2006" y="2016"/>
                  </a:lnTo>
                  <a:lnTo>
                    <a:pt x="2006" y="2004"/>
                  </a:lnTo>
                  <a:lnTo>
                    <a:pt x="2018" y="2004"/>
                  </a:lnTo>
                  <a:lnTo>
                    <a:pt x="2018" y="1992"/>
                  </a:lnTo>
                  <a:lnTo>
                    <a:pt x="2031" y="1992"/>
                  </a:lnTo>
                  <a:lnTo>
                    <a:pt x="2031" y="1980"/>
                  </a:lnTo>
                  <a:lnTo>
                    <a:pt x="2043" y="1980"/>
                  </a:lnTo>
                  <a:lnTo>
                    <a:pt x="2043" y="1968"/>
                  </a:lnTo>
                  <a:lnTo>
                    <a:pt x="2055" y="1968"/>
                  </a:lnTo>
                  <a:lnTo>
                    <a:pt x="2055" y="1956"/>
                  </a:lnTo>
                  <a:lnTo>
                    <a:pt x="2062" y="1956"/>
                  </a:lnTo>
                  <a:lnTo>
                    <a:pt x="2062" y="1944"/>
                  </a:lnTo>
                  <a:lnTo>
                    <a:pt x="2074" y="1944"/>
                  </a:lnTo>
                  <a:lnTo>
                    <a:pt x="2074" y="1932"/>
                  </a:lnTo>
                  <a:lnTo>
                    <a:pt x="2080" y="1932"/>
                  </a:lnTo>
                  <a:lnTo>
                    <a:pt x="2080" y="1920"/>
                  </a:lnTo>
                  <a:lnTo>
                    <a:pt x="2087" y="1920"/>
                  </a:lnTo>
                  <a:lnTo>
                    <a:pt x="2087" y="1908"/>
                  </a:lnTo>
                  <a:lnTo>
                    <a:pt x="2111" y="1908"/>
                  </a:lnTo>
                  <a:lnTo>
                    <a:pt x="2111" y="1896"/>
                  </a:lnTo>
                  <a:lnTo>
                    <a:pt x="2118" y="1896"/>
                  </a:lnTo>
                  <a:lnTo>
                    <a:pt x="2118" y="1884"/>
                  </a:lnTo>
                  <a:lnTo>
                    <a:pt x="2124" y="1884"/>
                  </a:lnTo>
                  <a:lnTo>
                    <a:pt x="2124" y="1872"/>
                  </a:lnTo>
                  <a:lnTo>
                    <a:pt x="2130" y="1872"/>
                  </a:lnTo>
                  <a:lnTo>
                    <a:pt x="2130" y="1848"/>
                  </a:lnTo>
                  <a:lnTo>
                    <a:pt x="2142" y="1848"/>
                  </a:lnTo>
                  <a:lnTo>
                    <a:pt x="2142" y="1836"/>
                  </a:lnTo>
                  <a:lnTo>
                    <a:pt x="2149" y="1836"/>
                  </a:lnTo>
                  <a:lnTo>
                    <a:pt x="2149" y="1824"/>
                  </a:lnTo>
                  <a:lnTo>
                    <a:pt x="2167" y="1824"/>
                  </a:lnTo>
                  <a:lnTo>
                    <a:pt x="2167" y="1812"/>
                  </a:lnTo>
                  <a:lnTo>
                    <a:pt x="2205" y="1812"/>
                  </a:lnTo>
                  <a:lnTo>
                    <a:pt x="2205" y="1800"/>
                  </a:lnTo>
                  <a:lnTo>
                    <a:pt x="2211" y="1800"/>
                  </a:lnTo>
                  <a:lnTo>
                    <a:pt x="2211" y="1788"/>
                  </a:lnTo>
                  <a:lnTo>
                    <a:pt x="2223" y="1788"/>
                  </a:lnTo>
                  <a:lnTo>
                    <a:pt x="2223" y="1776"/>
                  </a:lnTo>
                  <a:lnTo>
                    <a:pt x="2236" y="1776"/>
                  </a:lnTo>
                  <a:lnTo>
                    <a:pt x="2236" y="1764"/>
                  </a:lnTo>
                  <a:lnTo>
                    <a:pt x="2242" y="1764"/>
                  </a:lnTo>
                  <a:lnTo>
                    <a:pt x="2242" y="1740"/>
                  </a:lnTo>
                  <a:lnTo>
                    <a:pt x="2254" y="1740"/>
                  </a:lnTo>
                  <a:lnTo>
                    <a:pt x="2254" y="1728"/>
                  </a:lnTo>
                  <a:lnTo>
                    <a:pt x="2260" y="1728"/>
                  </a:lnTo>
                  <a:lnTo>
                    <a:pt x="2260" y="1716"/>
                  </a:lnTo>
                  <a:lnTo>
                    <a:pt x="2292" y="1716"/>
                  </a:lnTo>
                  <a:lnTo>
                    <a:pt x="2292" y="1704"/>
                  </a:lnTo>
                  <a:lnTo>
                    <a:pt x="2298" y="1704"/>
                  </a:lnTo>
                  <a:lnTo>
                    <a:pt x="2298" y="1692"/>
                  </a:lnTo>
                  <a:lnTo>
                    <a:pt x="2310" y="1692"/>
                  </a:lnTo>
                  <a:lnTo>
                    <a:pt x="2335" y="1692"/>
                  </a:lnTo>
                  <a:lnTo>
                    <a:pt x="2335" y="1679"/>
                  </a:lnTo>
                  <a:lnTo>
                    <a:pt x="2347" y="1679"/>
                  </a:lnTo>
                  <a:lnTo>
                    <a:pt x="2347" y="1643"/>
                  </a:lnTo>
                  <a:lnTo>
                    <a:pt x="2416" y="1643"/>
                  </a:lnTo>
                  <a:lnTo>
                    <a:pt x="2416" y="1631"/>
                  </a:lnTo>
                  <a:lnTo>
                    <a:pt x="2434" y="1631"/>
                  </a:lnTo>
                  <a:lnTo>
                    <a:pt x="2434" y="1619"/>
                  </a:lnTo>
                  <a:lnTo>
                    <a:pt x="2472" y="1619"/>
                  </a:lnTo>
                  <a:lnTo>
                    <a:pt x="2472" y="1606"/>
                  </a:lnTo>
                  <a:lnTo>
                    <a:pt x="2478" y="1606"/>
                  </a:lnTo>
                  <a:lnTo>
                    <a:pt x="2478" y="1594"/>
                  </a:lnTo>
                  <a:lnTo>
                    <a:pt x="2484" y="1594"/>
                  </a:lnTo>
                  <a:lnTo>
                    <a:pt x="2484" y="1582"/>
                  </a:lnTo>
                  <a:lnTo>
                    <a:pt x="2528" y="1582"/>
                  </a:lnTo>
                  <a:lnTo>
                    <a:pt x="2528" y="1558"/>
                  </a:lnTo>
                  <a:lnTo>
                    <a:pt x="2534" y="1558"/>
                  </a:lnTo>
                  <a:lnTo>
                    <a:pt x="2534" y="1534"/>
                  </a:lnTo>
                  <a:lnTo>
                    <a:pt x="2577" y="1534"/>
                  </a:lnTo>
                  <a:lnTo>
                    <a:pt x="2577" y="1521"/>
                  </a:lnTo>
                  <a:lnTo>
                    <a:pt x="2583" y="1521"/>
                  </a:lnTo>
                  <a:lnTo>
                    <a:pt x="2583" y="1509"/>
                  </a:lnTo>
                  <a:lnTo>
                    <a:pt x="2602" y="1509"/>
                  </a:lnTo>
                  <a:lnTo>
                    <a:pt x="2602" y="1497"/>
                  </a:lnTo>
                  <a:lnTo>
                    <a:pt x="2621" y="1497"/>
                  </a:lnTo>
                  <a:lnTo>
                    <a:pt x="2621" y="1485"/>
                  </a:lnTo>
                  <a:lnTo>
                    <a:pt x="2646" y="1485"/>
                  </a:lnTo>
                  <a:lnTo>
                    <a:pt x="2646" y="1461"/>
                  </a:lnTo>
                  <a:lnTo>
                    <a:pt x="2664" y="1461"/>
                  </a:lnTo>
                  <a:lnTo>
                    <a:pt x="2683" y="1461"/>
                  </a:lnTo>
                  <a:lnTo>
                    <a:pt x="2683" y="1448"/>
                  </a:lnTo>
                  <a:lnTo>
                    <a:pt x="2695" y="1448"/>
                  </a:lnTo>
                  <a:lnTo>
                    <a:pt x="2695" y="1436"/>
                  </a:lnTo>
                  <a:lnTo>
                    <a:pt x="2701" y="1436"/>
                  </a:lnTo>
                  <a:lnTo>
                    <a:pt x="2701" y="1424"/>
                  </a:lnTo>
                  <a:lnTo>
                    <a:pt x="2708" y="1424"/>
                  </a:lnTo>
                  <a:lnTo>
                    <a:pt x="2708" y="1412"/>
                  </a:lnTo>
                  <a:lnTo>
                    <a:pt x="2720" y="1412"/>
                  </a:lnTo>
                  <a:lnTo>
                    <a:pt x="2720" y="1400"/>
                  </a:lnTo>
                  <a:lnTo>
                    <a:pt x="2726" y="1400"/>
                  </a:lnTo>
                  <a:lnTo>
                    <a:pt x="2726" y="1387"/>
                  </a:lnTo>
                  <a:lnTo>
                    <a:pt x="2745" y="1387"/>
                  </a:lnTo>
                  <a:lnTo>
                    <a:pt x="2745" y="1375"/>
                  </a:lnTo>
                  <a:lnTo>
                    <a:pt x="2776" y="1375"/>
                  </a:lnTo>
                  <a:lnTo>
                    <a:pt x="2776" y="1351"/>
                  </a:lnTo>
                  <a:lnTo>
                    <a:pt x="2820" y="1351"/>
                  </a:lnTo>
                  <a:lnTo>
                    <a:pt x="2820" y="1326"/>
                  </a:lnTo>
                  <a:lnTo>
                    <a:pt x="2838" y="1326"/>
                  </a:lnTo>
                  <a:lnTo>
                    <a:pt x="2838" y="1290"/>
                  </a:lnTo>
                  <a:lnTo>
                    <a:pt x="2851" y="1290"/>
                  </a:lnTo>
                  <a:lnTo>
                    <a:pt x="2851" y="1277"/>
                  </a:lnTo>
                  <a:lnTo>
                    <a:pt x="2875" y="1277"/>
                  </a:lnTo>
                  <a:lnTo>
                    <a:pt x="2875" y="1253"/>
                  </a:lnTo>
                  <a:lnTo>
                    <a:pt x="2888" y="1253"/>
                  </a:lnTo>
                  <a:lnTo>
                    <a:pt x="2888" y="1241"/>
                  </a:lnTo>
                  <a:lnTo>
                    <a:pt x="2906" y="1241"/>
                  </a:lnTo>
                  <a:lnTo>
                    <a:pt x="2906" y="1229"/>
                  </a:lnTo>
                  <a:lnTo>
                    <a:pt x="2919" y="1229"/>
                  </a:lnTo>
                  <a:lnTo>
                    <a:pt x="2919" y="1216"/>
                  </a:lnTo>
                  <a:lnTo>
                    <a:pt x="2931" y="1216"/>
                  </a:lnTo>
                  <a:lnTo>
                    <a:pt x="2931" y="1204"/>
                  </a:lnTo>
                  <a:lnTo>
                    <a:pt x="2938" y="1204"/>
                  </a:lnTo>
                  <a:lnTo>
                    <a:pt x="2938" y="1180"/>
                  </a:lnTo>
                  <a:lnTo>
                    <a:pt x="2962" y="1180"/>
                  </a:lnTo>
                  <a:lnTo>
                    <a:pt x="2962" y="1167"/>
                  </a:lnTo>
                  <a:lnTo>
                    <a:pt x="2969" y="1167"/>
                  </a:lnTo>
                  <a:lnTo>
                    <a:pt x="2969" y="1155"/>
                  </a:lnTo>
                  <a:lnTo>
                    <a:pt x="2975" y="1155"/>
                  </a:lnTo>
                  <a:lnTo>
                    <a:pt x="2975" y="1143"/>
                  </a:lnTo>
                  <a:lnTo>
                    <a:pt x="3000" y="1143"/>
                  </a:lnTo>
                  <a:lnTo>
                    <a:pt x="3000" y="1131"/>
                  </a:lnTo>
                  <a:lnTo>
                    <a:pt x="3031" y="1131"/>
                  </a:lnTo>
                  <a:lnTo>
                    <a:pt x="3031" y="1119"/>
                  </a:lnTo>
                  <a:lnTo>
                    <a:pt x="3049" y="1119"/>
                  </a:lnTo>
                  <a:lnTo>
                    <a:pt x="3049" y="1094"/>
                  </a:lnTo>
                  <a:lnTo>
                    <a:pt x="3080" y="1094"/>
                  </a:lnTo>
                  <a:lnTo>
                    <a:pt x="3080" y="1082"/>
                  </a:lnTo>
                  <a:lnTo>
                    <a:pt x="3087" y="1082"/>
                  </a:lnTo>
                  <a:lnTo>
                    <a:pt x="3087" y="1045"/>
                  </a:lnTo>
                  <a:lnTo>
                    <a:pt x="3111" y="1045"/>
                  </a:lnTo>
                  <a:lnTo>
                    <a:pt x="3111" y="1033"/>
                  </a:lnTo>
                  <a:lnTo>
                    <a:pt x="3205" y="1033"/>
                  </a:lnTo>
                  <a:lnTo>
                    <a:pt x="3205" y="1021"/>
                  </a:lnTo>
                  <a:lnTo>
                    <a:pt x="3223" y="1021"/>
                  </a:lnTo>
                  <a:lnTo>
                    <a:pt x="3223" y="1009"/>
                  </a:lnTo>
                  <a:lnTo>
                    <a:pt x="3236" y="1009"/>
                  </a:lnTo>
                  <a:lnTo>
                    <a:pt x="3236" y="996"/>
                  </a:lnTo>
                  <a:lnTo>
                    <a:pt x="3242" y="996"/>
                  </a:lnTo>
                  <a:lnTo>
                    <a:pt x="3242" y="984"/>
                  </a:lnTo>
                  <a:lnTo>
                    <a:pt x="3254" y="984"/>
                  </a:lnTo>
                  <a:lnTo>
                    <a:pt x="3254" y="972"/>
                  </a:lnTo>
                  <a:lnTo>
                    <a:pt x="3335" y="972"/>
                  </a:lnTo>
                  <a:lnTo>
                    <a:pt x="3335" y="960"/>
                  </a:lnTo>
                  <a:lnTo>
                    <a:pt x="3341" y="960"/>
                  </a:lnTo>
                  <a:lnTo>
                    <a:pt x="3341" y="947"/>
                  </a:lnTo>
                  <a:lnTo>
                    <a:pt x="3347" y="947"/>
                  </a:lnTo>
                  <a:lnTo>
                    <a:pt x="3347" y="923"/>
                  </a:lnTo>
                  <a:lnTo>
                    <a:pt x="3360" y="923"/>
                  </a:lnTo>
                  <a:lnTo>
                    <a:pt x="3360" y="911"/>
                  </a:lnTo>
                  <a:lnTo>
                    <a:pt x="3366" y="911"/>
                  </a:lnTo>
                  <a:lnTo>
                    <a:pt x="3366" y="886"/>
                  </a:lnTo>
                  <a:lnTo>
                    <a:pt x="3372" y="886"/>
                  </a:lnTo>
                  <a:lnTo>
                    <a:pt x="3385" y="886"/>
                  </a:lnTo>
                  <a:lnTo>
                    <a:pt x="3385" y="873"/>
                  </a:lnTo>
                  <a:lnTo>
                    <a:pt x="3397" y="873"/>
                  </a:lnTo>
                  <a:lnTo>
                    <a:pt x="3397" y="861"/>
                  </a:lnTo>
                  <a:lnTo>
                    <a:pt x="3403" y="861"/>
                  </a:lnTo>
                  <a:lnTo>
                    <a:pt x="3416" y="861"/>
                  </a:lnTo>
                  <a:lnTo>
                    <a:pt x="3416" y="848"/>
                  </a:lnTo>
                  <a:lnTo>
                    <a:pt x="3434" y="848"/>
                  </a:lnTo>
                  <a:lnTo>
                    <a:pt x="3434" y="835"/>
                  </a:lnTo>
                  <a:lnTo>
                    <a:pt x="3472" y="835"/>
                  </a:lnTo>
                  <a:lnTo>
                    <a:pt x="3490" y="835"/>
                  </a:lnTo>
                  <a:lnTo>
                    <a:pt x="3497" y="835"/>
                  </a:lnTo>
                  <a:lnTo>
                    <a:pt x="3497" y="822"/>
                  </a:lnTo>
                  <a:lnTo>
                    <a:pt x="3509" y="822"/>
                  </a:lnTo>
                  <a:lnTo>
                    <a:pt x="3528" y="822"/>
                  </a:lnTo>
                  <a:lnTo>
                    <a:pt x="3528" y="809"/>
                  </a:lnTo>
                  <a:lnTo>
                    <a:pt x="3571" y="809"/>
                  </a:lnTo>
                  <a:lnTo>
                    <a:pt x="3571" y="795"/>
                  </a:lnTo>
                  <a:lnTo>
                    <a:pt x="3584" y="795"/>
                  </a:lnTo>
                  <a:lnTo>
                    <a:pt x="3615" y="795"/>
                  </a:lnTo>
                  <a:lnTo>
                    <a:pt x="3633" y="795"/>
                  </a:lnTo>
                  <a:lnTo>
                    <a:pt x="3633" y="782"/>
                  </a:lnTo>
                  <a:lnTo>
                    <a:pt x="3658" y="782"/>
                  </a:lnTo>
                  <a:lnTo>
                    <a:pt x="3670" y="782"/>
                  </a:lnTo>
                  <a:lnTo>
                    <a:pt x="3683" y="782"/>
                  </a:lnTo>
                  <a:lnTo>
                    <a:pt x="3689" y="782"/>
                  </a:lnTo>
                  <a:lnTo>
                    <a:pt x="3702" y="782"/>
                  </a:lnTo>
                  <a:lnTo>
                    <a:pt x="3702" y="767"/>
                  </a:lnTo>
                  <a:lnTo>
                    <a:pt x="3726" y="767"/>
                  </a:lnTo>
                  <a:lnTo>
                    <a:pt x="3726" y="753"/>
                  </a:lnTo>
                  <a:lnTo>
                    <a:pt x="3745" y="753"/>
                  </a:lnTo>
                  <a:lnTo>
                    <a:pt x="3751" y="753"/>
                  </a:lnTo>
                  <a:lnTo>
                    <a:pt x="3751" y="738"/>
                  </a:lnTo>
                  <a:lnTo>
                    <a:pt x="3770" y="738"/>
                  </a:lnTo>
                  <a:lnTo>
                    <a:pt x="3770" y="724"/>
                  </a:lnTo>
                  <a:lnTo>
                    <a:pt x="3795" y="724"/>
                  </a:lnTo>
                  <a:lnTo>
                    <a:pt x="3795" y="709"/>
                  </a:lnTo>
                  <a:lnTo>
                    <a:pt x="3832" y="709"/>
                  </a:lnTo>
                  <a:lnTo>
                    <a:pt x="3832" y="695"/>
                  </a:lnTo>
                  <a:lnTo>
                    <a:pt x="3888" y="695"/>
                  </a:lnTo>
                  <a:lnTo>
                    <a:pt x="3888" y="666"/>
                  </a:lnTo>
                  <a:lnTo>
                    <a:pt x="3900" y="666"/>
                  </a:lnTo>
                  <a:lnTo>
                    <a:pt x="3900" y="651"/>
                  </a:lnTo>
                  <a:lnTo>
                    <a:pt x="3907" y="651"/>
                  </a:lnTo>
                  <a:lnTo>
                    <a:pt x="3907" y="636"/>
                  </a:lnTo>
                  <a:lnTo>
                    <a:pt x="3913" y="636"/>
                  </a:lnTo>
                  <a:lnTo>
                    <a:pt x="3925" y="636"/>
                  </a:lnTo>
                  <a:lnTo>
                    <a:pt x="3931" y="636"/>
                  </a:lnTo>
                  <a:lnTo>
                    <a:pt x="3931" y="621"/>
                  </a:lnTo>
                  <a:lnTo>
                    <a:pt x="3962" y="621"/>
                  </a:lnTo>
                  <a:lnTo>
                    <a:pt x="3975" y="621"/>
                  </a:lnTo>
                  <a:lnTo>
                    <a:pt x="3975" y="606"/>
                  </a:lnTo>
                  <a:lnTo>
                    <a:pt x="3987" y="606"/>
                  </a:lnTo>
                  <a:lnTo>
                    <a:pt x="3987" y="591"/>
                  </a:lnTo>
                  <a:lnTo>
                    <a:pt x="4018" y="591"/>
                  </a:lnTo>
                  <a:lnTo>
                    <a:pt x="4018" y="575"/>
                  </a:lnTo>
                  <a:lnTo>
                    <a:pt x="4056" y="575"/>
                  </a:lnTo>
                  <a:lnTo>
                    <a:pt x="4056" y="560"/>
                  </a:lnTo>
                  <a:lnTo>
                    <a:pt x="4062" y="560"/>
                  </a:lnTo>
                  <a:lnTo>
                    <a:pt x="4062" y="544"/>
                  </a:lnTo>
                  <a:lnTo>
                    <a:pt x="4068" y="544"/>
                  </a:lnTo>
                  <a:lnTo>
                    <a:pt x="4105" y="544"/>
                  </a:lnTo>
                  <a:lnTo>
                    <a:pt x="4105" y="528"/>
                  </a:lnTo>
                  <a:lnTo>
                    <a:pt x="4161" y="528"/>
                  </a:lnTo>
                  <a:lnTo>
                    <a:pt x="4161" y="512"/>
                  </a:lnTo>
                  <a:lnTo>
                    <a:pt x="4174" y="512"/>
                  </a:lnTo>
                  <a:lnTo>
                    <a:pt x="4174" y="496"/>
                  </a:lnTo>
                  <a:lnTo>
                    <a:pt x="4217" y="496"/>
                  </a:lnTo>
                  <a:lnTo>
                    <a:pt x="4217" y="447"/>
                  </a:lnTo>
                  <a:lnTo>
                    <a:pt x="4267" y="447"/>
                  </a:lnTo>
                  <a:lnTo>
                    <a:pt x="4267" y="431"/>
                  </a:lnTo>
                  <a:lnTo>
                    <a:pt x="4292" y="431"/>
                  </a:lnTo>
                  <a:lnTo>
                    <a:pt x="4298" y="431"/>
                  </a:lnTo>
                  <a:lnTo>
                    <a:pt x="4310" y="431"/>
                  </a:lnTo>
                  <a:lnTo>
                    <a:pt x="4310" y="414"/>
                  </a:lnTo>
                  <a:lnTo>
                    <a:pt x="4329" y="414"/>
                  </a:lnTo>
                  <a:lnTo>
                    <a:pt x="4329" y="397"/>
                  </a:lnTo>
                  <a:lnTo>
                    <a:pt x="4348" y="397"/>
                  </a:lnTo>
                  <a:lnTo>
                    <a:pt x="4422" y="397"/>
                  </a:lnTo>
                  <a:lnTo>
                    <a:pt x="4441" y="397"/>
                  </a:lnTo>
                  <a:lnTo>
                    <a:pt x="4459" y="397"/>
                  </a:lnTo>
                  <a:lnTo>
                    <a:pt x="4478" y="397"/>
                  </a:lnTo>
                  <a:lnTo>
                    <a:pt x="4478" y="379"/>
                  </a:lnTo>
                  <a:lnTo>
                    <a:pt x="4484" y="379"/>
                  </a:lnTo>
                  <a:lnTo>
                    <a:pt x="4484" y="360"/>
                  </a:lnTo>
                  <a:lnTo>
                    <a:pt x="4515" y="360"/>
                  </a:lnTo>
                  <a:lnTo>
                    <a:pt x="4515" y="342"/>
                  </a:lnTo>
                  <a:lnTo>
                    <a:pt x="4540" y="342"/>
                  </a:lnTo>
                  <a:lnTo>
                    <a:pt x="4553" y="342"/>
                  </a:lnTo>
                  <a:lnTo>
                    <a:pt x="4590" y="342"/>
                  </a:lnTo>
                  <a:lnTo>
                    <a:pt x="4608" y="342"/>
                  </a:lnTo>
                  <a:lnTo>
                    <a:pt x="4627" y="342"/>
                  </a:lnTo>
                  <a:lnTo>
                    <a:pt x="4627" y="322"/>
                  </a:lnTo>
                  <a:lnTo>
                    <a:pt x="4652" y="322"/>
                  </a:lnTo>
                  <a:lnTo>
                    <a:pt x="4664" y="322"/>
                  </a:lnTo>
                  <a:lnTo>
                    <a:pt x="4677" y="322"/>
                  </a:lnTo>
                  <a:lnTo>
                    <a:pt x="4708" y="322"/>
                  </a:lnTo>
                  <a:lnTo>
                    <a:pt x="4726" y="322"/>
                  </a:lnTo>
                  <a:lnTo>
                    <a:pt x="4745" y="322"/>
                  </a:lnTo>
                  <a:lnTo>
                    <a:pt x="4813" y="322"/>
                  </a:lnTo>
                  <a:lnTo>
                    <a:pt x="4813" y="300"/>
                  </a:lnTo>
                  <a:lnTo>
                    <a:pt x="4875" y="300"/>
                  </a:lnTo>
                  <a:lnTo>
                    <a:pt x="4919" y="300"/>
                  </a:lnTo>
                  <a:lnTo>
                    <a:pt x="4919" y="276"/>
                  </a:lnTo>
                  <a:lnTo>
                    <a:pt x="4925" y="276"/>
                  </a:lnTo>
                  <a:lnTo>
                    <a:pt x="4950" y="276"/>
                  </a:lnTo>
                  <a:lnTo>
                    <a:pt x="4950" y="252"/>
                  </a:lnTo>
                  <a:lnTo>
                    <a:pt x="5037" y="252"/>
                  </a:lnTo>
                  <a:lnTo>
                    <a:pt x="5043" y="252"/>
                  </a:lnTo>
                  <a:lnTo>
                    <a:pt x="5099" y="252"/>
                  </a:lnTo>
                  <a:lnTo>
                    <a:pt x="5124" y="252"/>
                  </a:lnTo>
                  <a:lnTo>
                    <a:pt x="5161" y="252"/>
                  </a:lnTo>
                  <a:lnTo>
                    <a:pt x="5186" y="252"/>
                  </a:lnTo>
                  <a:lnTo>
                    <a:pt x="5230" y="252"/>
                  </a:lnTo>
                  <a:lnTo>
                    <a:pt x="5254" y="252"/>
                  </a:lnTo>
                  <a:lnTo>
                    <a:pt x="5261" y="252"/>
                  </a:lnTo>
                  <a:lnTo>
                    <a:pt x="5273" y="252"/>
                  </a:lnTo>
                  <a:lnTo>
                    <a:pt x="5279" y="252"/>
                  </a:lnTo>
                  <a:lnTo>
                    <a:pt x="5285" y="252"/>
                  </a:lnTo>
                  <a:lnTo>
                    <a:pt x="5304" y="252"/>
                  </a:lnTo>
                  <a:lnTo>
                    <a:pt x="5304" y="213"/>
                  </a:lnTo>
                  <a:lnTo>
                    <a:pt x="5323" y="213"/>
                  </a:lnTo>
                  <a:lnTo>
                    <a:pt x="5379" y="213"/>
                  </a:lnTo>
                  <a:lnTo>
                    <a:pt x="5422" y="213"/>
                  </a:lnTo>
                  <a:lnTo>
                    <a:pt x="5497" y="213"/>
                  </a:lnTo>
                  <a:lnTo>
                    <a:pt x="5540" y="213"/>
                  </a:lnTo>
                  <a:lnTo>
                    <a:pt x="5689" y="213"/>
                  </a:lnTo>
                  <a:lnTo>
                    <a:pt x="5726" y="213"/>
                  </a:lnTo>
                  <a:lnTo>
                    <a:pt x="5764" y="213"/>
                  </a:lnTo>
                  <a:lnTo>
                    <a:pt x="5838" y="213"/>
                  </a:lnTo>
                  <a:lnTo>
                    <a:pt x="5975" y="213"/>
                  </a:lnTo>
                  <a:lnTo>
                    <a:pt x="5975" y="142"/>
                  </a:lnTo>
                  <a:lnTo>
                    <a:pt x="5987" y="142"/>
                  </a:lnTo>
                  <a:lnTo>
                    <a:pt x="6112" y="142"/>
                  </a:lnTo>
                  <a:lnTo>
                    <a:pt x="6180" y="142"/>
                  </a:lnTo>
                  <a:lnTo>
                    <a:pt x="6192" y="142"/>
                  </a:lnTo>
                  <a:lnTo>
                    <a:pt x="6205" y="142"/>
                  </a:lnTo>
                  <a:lnTo>
                    <a:pt x="6273" y="142"/>
                  </a:lnTo>
                  <a:lnTo>
                    <a:pt x="6273" y="0"/>
                  </a:lnTo>
                  <a:lnTo>
                    <a:pt x="6385" y="0"/>
                  </a:lnTo>
                  <a:lnTo>
                    <a:pt x="6478" y="0"/>
                  </a:lnTo>
                  <a:lnTo>
                    <a:pt x="6509" y="0"/>
                  </a:lnTo>
                  <a:lnTo>
                    <a:pt x="6702"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51" name="Rectangle 98"/>
            <p:cNvSpPr/>
            <p:nvPr/>
          </p:nvSpPr>
          <p:spPr>
            <a:xfrm>
              <a:off x="3877560" y="597708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652" name="Rectangle 99"/>
            <p:cNvSpPr/>
            <p:nvPr/>
          </p:nvSpPr>
          <p:spPr>
            <a:xfrm rot="16200000">
              <a:off x="-556920" y="391860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53" name="Straight Arrow Connector 17"/>
          <p:cNvCxnSpPr/>
          <p:nvPr/>
        </p:nvCxnSpPr>
        <p:spPr>
          <a:xfrm>
            <a:off x="4343400" y="3809520"/>
            <a:ext cx="534240" cy="2520"/>
          </a:xfrm>
          <a:prstGeom prst="straightConnector1">
            <a:avLst/>
          </a:prstGeom>
          <a:ln w="57240">
            <a:solidFill>
              <a:srgbClr val="002060"/>
            </a:solidFill>
            <a:miter/>
            <a:tailEnd len="med" type="triangle" w="med"/>
          </a:ln>
        </p:spPr>
      </p:cxnSp>
      <p:sp>
        <p:nvSpPr>
          <p:cNvPr id="26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COG-E5508: Phase </a:t>
            </a:r>
            <a:r>
              <a:rPr b="0" lang="en-US" sz="2800" spc="-1" strike="noStrike">
                <a:solidFill>
                  <a:srgbClr val="000000"/>
                </a:solidFill>
                <a:latin typeface="Arial"/>
              </a:rPr>
              <a:t>III trial of BV, Pem, or BV+Pem as maintenance therapy in advanced NSCLC</a:t>
            </a:r>
            <a:endParaRPr b="0" lang="en-US" sz="2800" spc="-1" strike="noStrike">
              <a:solidFill>
                <a:srgbClr val="000000"/>
              </a:solidFill>
              <a:latin typeface="Arial"/>
            </a:endParaRPr>
          </a:p>
        </p:txBody>
      </p:sp>
      <p:grpSp>
        <p:nvGrpSpPr>
          <p:cNvPr id="2655" name="TextBox 3"/>
          <p:cNvGrpSpPr/>
          <p:nvPr/>
        </p:nvGrpSpPr>
        <p:grpSpPr>
          <a:xfrm>
            <a:off x="2225520" y="3395520"/>
            <a:ext cx="2254320" cy="828720"/>
            <a:chOff x="2225520" y="3395520"/>
            <a:chExt cx="2254320" cy="828720"/>
          </a:xfrm>
        </p:grpSpPr>
        <p:pic>
          <p:nvPicPr>
            <p:cNvPr id="2656" name="TextBox 3" descr=""/>
            <p:cNvPicPr/>
            <p:nvPr/>
          </p:nvPicPr>
          <p:blipFill>
            <a:blip r:embed="rId1"/>
            <a:stretch/>
          </p:blipFill>
          <p:spPr>
            <a:xfrm>
              <a:off x="2225520" y="3395520"/>
              <a:ext cx="2254320" cy="828720"/>
            </a:xfrm>
            <a:prstGeom prst="rect">
              <a:avLst/>
            </a:prstGeom>
            <a:ln w="0">
              <a:noFill/>
            </a:ln>
          </p:spPr>
        </p:pic>
        <p:sp>
          <p:nvSpPr>
            <p:cNvPr id="2657" name=""/>
            <p:cNvSpPr/>
            <p:nvPr/>
          </p:nvSpPr>
          <p:spPr>
            <a:xfrm>
              <a:off x="2286000" y="3429000"/>
              <a:ext cx="2133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pac/B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w x 4 cycles</a:t>
              </a:r>
              <a:endParaRPr b="0" lang="en-US" sz="2000" spc="-1" strike="noStrike">
                <a:solidFill>
                  <a:srgbClr val="000000"/>
                </a:solidFill>
                <a:latin typeface="Arial"/>
              </a:endParaRPr>
            </a:p>
          </p:txBody>
        </p:sp>
      </p:grpSp>
      <p:grpSp>
        <p:nvGrpSpPr>
          <p:cNvPr id="2658" name="TextBox 18"/>
          <p:cNvGrpSpPr/>
          <p:nvPr/>
        </p:nvGrpSpPr>
        <p:grpSpPr>
          <a:xfrm>
            <a:off x="171360" y="3017880"/>
            <a:ext cx="1790640" cy="1687320"/>
            <a:chOff x="171360" y="3017880"/>
            <a:chExt cx="1790640" cy="1687320"/>
          </a:xfrm>
        </p:grpSpPr>
        <p:pic>
          <p:nvPicPr>
            <p:cNvPr id="2659" name="TextBox 18" descr=""/>
            <p:cNvPicPr/>
            <p:nvPr/>
          </p:nvPicPr>
          <p:blipFill>
            <a:blip r:embed="rId2"/>
            <a:stretch/>
          </p:blipFill>
          <p:spPr>
            <a:xfrm>
              <a:off x="171360" y="3017880"/>
              <a:ext cx="1790640" cy="1687320"/>
            </a:xfrm>
            <a:prstGeom prst="rect">
              <a:avLst/>
            </a:prstGeom>
            <a:ln w="0">
              <a:noFill/>
            </a:ln>
          </p:spPr>
        </p:pic>
        <p:sp>
          <p:nvSpPr>
            <p:cNvPr id="2660" name=""/>
            <p:cNvSpPr/>
            <p:nvPr/>
          </p:nvSpPr>
          <p:spPr>
            <a:xfrm>
              <a:off x="228600" y="3048120"/>
              <a:ext cx="1676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lig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V elig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qu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ona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NS mets</a:t>
              </a:r>
              <a:endParaRPr b="0" lang="en-US" sz="1800" spc="-1" strike="noStrike">
                <a:solidFill>
                  <a:srgbClr val="000000"/>
                </a:solidFill>
                <a:latin typeface="Arial"/>
              </a:endParaRPr>
            </a:p>
          </p:txBody>
        </p:sp>
      </p:grpSp>
      <p:sp>
        <p:nvSpPr>
          <p:cNvPr id="2661" name="TextBox 10"/>
          <p:cNvSpPr/>
          <p:nvPr/>
        </p:nvSpPr>
        <p:spPr>
          <a:xfrm>
            <a:off x="3905280" y="6324480"/>
            <a:ext cx="521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 S. Ramilingam; clinicaltrials.gov; trial </a:t>
            </a:r>
            <a:r>
              <a:rPr b="0" lang="en-US" sz="1600" spc="-1" strike="noStrike" u="sng">
                <a:solidFill>
                  <a:srgbClr val="6b9f25"/>
                </a:solidFill>
                <a:uFillTx/>
                <a:latin typeface="Arial"/>
                <a:hlinkClick r:id="rId3"/>
              </a:rPr>
              <a:t>NCT01107626</a:t>
            </a:r>
            <a:endParaRPr b="0" lang="en-US" sz="1600" spc="-1" strike="noStrike">
              <a:solidFill>
                <a:srgbClr val="000000"/>
              </a:solidFill>
              <a:latin typeface="Arial"/>
            </a:endParaRPr>
          </a:p>
        </p:txBody>
      </p:sp>
      <p:grpSp>
        <p:nvGrpSpPr>
          <p:cNvPr id="2662" name="TextBox 13"/>
          <p:cNvGrpSpPr/>
          <p:nvPr/>
        </p:nvGrpSpPr>
        <p:grpSpPr>
          <a:xfrm>
            <a:off x="4896000" y="3475080"/>
            <a:ext cx="723600" cy="682560"/>
            <a:chOff x="4896000" y="3475080"/>
            <a:chExt cx="723600" cy="682560"/>
          </a:xfrm>
        </p:grpSpPr>
        <p:pic>
          <p:nvPicPr>
            <p:cNvPr id="2663" name="TextBox 13" descr=""/>
            <p:cNvPicPr/>
            <p:nvPr/>
          </p:nvPicPr>
          <p:blipFill>
            <a:blip r:embed="rId4"/>
            <a:stretch/>
          </p:blipFill>
          <p:spPr>
            <a:xfrm>
              <a:off x="4896000" y="3475080"/>
              <a:ext cx="723600" cy="682560"/>
            </a:xfrm>
            <a:prstGeom prst="rect">
              <a:avLst/>
            </a:prstGeom>
            <a:ln w="0">
              <a:noFill/>
            </a:ln>
          </p:spPr>
        </p:pic>
        <p:sp>
          <p:nvSpPr>
            <p:cNvPr id="2664" name=""/>
            <p:cNvSpPr/>
            <p:nvPr/>
          </p:nvSpPr>
          <p:spPr>
            <a:xfrm>
              <a:off x="5041800" y="3587760"/>
              <a:ext cx="43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grpSp>
      <p:sp>
        <p:nvSpPr>
          <p:cNvPr id="2665" name="TextBox 20"/>
          <p:cNvSpPr/>
          <p:nvPr/>
        </p:nvSpPr>
        <p:spPr>
          <a:xfrm>
            <a:off x="4501440" y="320040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D</a:t>
            </a:r>
            <a:endParaRPr b="0" lang="en-US" sz="1600" spc="-1" strike="noStrike">
              <a:solidFill>
                <a:srgbClr val="000000"/>
              </a:solidFill>
              <a:latin typeface="Arial"/>
            </a:endParaRPr>
          </a:p>
        </p:txBody>
      </p:sp>
      <p:cxnSp>
        <p:nvCxnSpPr>
          <p:cNvPr id="2666" name="Straight Arrow Connector 21"/>
          <p:cNvCxnSpPr/>
          <p:nvPr/>
        </p:nvCxnSpPr>
        <p:spPr>
          <a:xfrm flipV="1">
            <a:off x="5638320" y="3200040"/>
            <a:ext cx="839160" cy="534240"/>
          </a:xfrm>
          <a:prstGeom prst="straightConnector1">
            <a:avLst/>
          </a:prstGeom>
          <a:ln w="57240">
            <a:solidFill>
              <a:srgbClr val="002060"/>
            </a:solidFill>
            <a:miter/>
            <a:tailEnd len="med" type="triangle" w="med"/>
          </a:ln>
        </p:spPr>
      </p:cxnSp>
      <p:cxnSp>
        <p:nvCxnSpPr>
          <p:cNvPr id="2667" name="Straight Arrow Connector 23"/>
          <p:cNvCxnSpPr/>
          <p:nvPr/>
        </p:nvCxnSpPr>
        <p:spPr>
          <a:xfrm>
            <a:off x="5638320" y="3886200"/>
            <a:ext cx="839160" cy="534240"/>
          </a:xfrm>
          <a:prstGeom prst="straightConnector1">
            <a:avLst/>
          </a:prstGeom>
          <a:ln w="57240">
            <a:solidFill>
              <a:srgbClr val="002060"/>
            </a:solidFill>
            <a:miter/>
            <a:tailEnd len="med" type="triangle" w="med"/>
          </a:ln>
        </p:spPr>
      </p:cxnSp>
      <p:cxnSp>
        <p:nvCxnSpPr>
          <p:cNvPr id="2668" name="Straight Arrow Connector 24"/>
          <p:cNvCxnSpPr/>
          <p:nvPr/>
        </p:nvCxnSpPr>
        <p:spPr>
          <a:xfrm>
            <a:off x="5715000" y="3808440"/>
            <a:ext cx="838800" cy="2160"/>
          </a:xfrm>
          <a:prstGeom prst="straightConnector1">
            <a:avLst/>
          </a:prstGeom>
          <a:ln w="57240">
            <a:solidFill>
              <a:srgbClr val="002060"/>
            </a:solidFill>
            <a:miter/>
            <a:tailEnd len="med" type="triangle" w="med"/>
          </a:ln>
        </p:spPr>
      </p:cxnSp>
      <p:grpSp>
        <p:nvGrpSpPr>
          <p:cNvPr id="2669" name="TextBox 26"/>
          <p:cNvGrpSpPr/>
          <p:nvPr/>
        </p:nvGrpSpPr>
        <p:grpSpPr>
          <a:xfrm>
            <a:off x="6572160" y="2846520"/>
            <a:ext cx="2247840" cy="519120"/>
            <a:chOff x="6572160" y="2846520"/>
            <a:chExt cx="2247840" cy="519120"/>
          </a:xfrm>
        </p:grpSpPr>
        <p:pic>
          <p:nvPicPr>
            <p:cNvPr id="2670" name="TextBox 26" descr=""/>
            <p:cNvPicPr/>
            <p:nvPr/>
          </p:nvPicPr>
          <p:blipFill>
            <a:blip r:embed="rId5"/>
            <a:stretch/>
          </p:blipFill>
          <p:spPr>
            <a:xfrm>
              <a:off x="6572160" y="2846520"/>
              <a:ext cx="2247840" cy="519120"/>
            </a:xfrm>
            <a:prstGeom prst="rect">
              <a:avLst/>
            </a:prstGeom>
            <a:ln w="0">
              <a:noFill/>
            </a:ln>
          </p:spPr>
        </p:pic>
        <p:sp>
          <p:nvSpPr>
            <p:cNvPr id="2671" name=""/>
            <p:cNvSpPr/>
            <p:nvPr/>
          </p:nvSpPr>
          <p:spPr>
            <a:xfrm>
              <a:off x="6629400" y="28764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a:t>
              </a:r>
              <a:endParaRPr b="0" lang="en-US" sz="2000" spc="-1" strike="noStrike">
                <a:solidFill>
                  <a:srgbClr val="000000"/>
                </a:solidFill>
                <a:latin typeface="Arial"/>
              </a:endParaRPr>
            </a:p>
          </p:txBody>
        </p:sp>
      </p:grpSp>
      <p:sp>
        <p:nvSpPr>
          <p:cNvPr id="2672" name="TextBox 27"/>
          <p:cNvSpPr/>
          <p:nvPr/>
        </p:nvSpPr>
        <p:spPr>
          <a:xfrm>
            <a:off x="2901240" y="2057400"/>
            <a:ext cx="1213920" cy="3988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tion</a:t>
            </a:r>
            <a:endParaRPr b="0" lang="en-US" sz="2000" spc="-1" strike="noStrike">
              <a:solidFill>
                <a:srgbClr val="000000"/>
              </a:solidFill>
              <a:latin typeface="Arial"/>
            </a:endParaRPr>
          </a:p>
        </p:txBody>
      </p:sp>
      <p:sp>
        <p:nvSpPr>
          <p:cNvPr id="2673" name="TextBox 28"/>
          <p:cNvSpPr/>
          <p:nvPr/>
        </p:nvSpPr>
        <p:spPr>
          <a:xfrm>
            <a:off x="6623280" y="2057400"/>
            <a:ext cx="1639080" cy="3988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a:t>
            </a:r>
            <a:endParaRPr b="0" lang="en-US" sz="2000" spc="-1" strike="noStrike">
              <a:solidFill>
                <a:srgbClr val="000000"/>
              </a:solidFill>
              <a:latin typeface="Arial"/>
            </a:endParaRPr>
          </a:p>
        </p:txBody>
      </p:sp>
      <p:grpSp>
        <p:nvGrpSpPr>
          <p:cNvPr id="2674" name="TextBox 29"/>
          <p:cNvGrpSpPr/>
          <p:nvPr/>
        </p:nvGrpSpPr>
        <p:grpSpPr>
          <a:xfrm>
            <a:off x="6572160" y="3529080"/>
            <a:ext cx="2247840" cy="519120"/>
            <a:chOff x="6572160" y="3529080"/>
            <a:chExt cx="2247840" cy="519120"/>
          </a:xfrm>
        </p:grpSpPr>
        <p:pic>
          <p:nvPicPr>
            <p:cNvPr id="2675" name="TextBox 29" descr=""/>
            <p:cNvPicPr/>
            <p:nvPr/>
          </p:nvPicPr>
          <p:blipFill>
            <a:blip r:embed="rId6"/>
            <a:stretch/>
          </p:blipFill>
          <p:spPr>
            <a:xfrm>
              <a:off x="6572160" y="3529080"/>
              <a:ext cx="2247840" cy="519120"/>
            </a:xfrm>
            <a:prstGeom prst="rect">
              <a:avLst/>
            </a:prstGeom>
            <a:ln w="0">
              <a:noFill/>
            </a:ln>
          </p:spPr>
        </p:pic>
        <p:sp>
          <p:nvSpPr>
            <p:cNvPr id="2676" name=""/>
            <p:cNvSpPr/>
            <p:nvPr/>
          </p:nvSpPr>
          <p:spPr>
            <a:xfrm>
              <a:off x="6629400" y="3559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677" name="TextBox 30"/>
          <p:cNvGrpSpPr/>
          <p:nvPr/>
        </p:nvGrpSpPr>
        <p:grpSpPr>
          <a:xfrm>
            <a:off x="6572160" y="4290840"/>
            <a:ext cx="2247840" cy="519120"/>
            <a:chOff x="6572160" y="4290840"/>
            <a:chExt cx="2247840" cy="519120"/>
          </a:xfrm>
        </p:grpSpPr>
        <p:pic>
          <p:nvPicPr>
            <p:cNvPr id="2678" name="TextBox 30" descr=""/>
            <p:cNvPicPr/>
            <p:nvPr/>
          </p:nvPicPr>
          <p:blipFill>
            <a:blip r:embed="rId7"/>
            <a:stretch/>
          </p:blipFill>
          <p:spPr>
            <a:xfrm>
              <a:off x="6572160" y="4290840"/>
              <a:ext cx="2247840" cy="519120"/>
            </a:xfrm>
            <a:prstGeom prst="rect">
              <a:avLst/>
            </a:prstGeom>
            <a:ln w="0">
              <a:noFill/>
            </a:ln>
          </p:spPr>
        </p:pic>
        <p:sp>
          <p:nvSpPr>
            <p:cNvPr id="2679" name=""/>
            <p:cNvSpPr/>
            <p:nvPr/>
          </p:nvSpPr>
          <p:spPr>
            <a:xfrm>
              <a:off x="6629400" y="4324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Pem</a:t>
              </a:r>
              <a:endParaRPr b="0" lang="en-US" sz="2000" spc="-1" strike="noStrike">
                <a:solidFill>
                  <a:srgbClr val="000000"/>
                </a:solidFill>
                <a:latin typeface="Arial"/>
              </a:endParaRPr>
            </a:p>
          </p:txBody>
        </p:sp>
      </p:grpSp>
      <p:sp>
        <p:nvSpPr>
          <p:cNvPr id="2680" name="TextBox 31"/>
          <p:cNvSpPr/>
          <p:nvPr/>
        </p:nvSpPr>
        <p:spPr>
          <a:xfrm>
            <a:off x="4237200" y="5410080"/>
            <a:ext cx="2612880" cy="70380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endpoint: 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PFS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intenance therapy for adenocarcinoma: my approach</a:t>
            </a:r>
            <a:endParaRPr b="0" lang="en-US" sz="4400" spc="-1" strike="noStrike">
              <a:solidFill>
                <a:srgbClr val="000000"/>
              </a:solidFill>
              <a:latin typeface="Arial"/>
            </a:endParaRPr>
          </a:p>
        </p:txBody>
      </p:sp>
      <p:sp>
        <p:nvSpPr>
          <p:cNvPr id="2682" name=""/>
          <p:cNvSpPr txBox="1"/>
          <p:nvPr/>
        </p:nvSpPr>
        <p:spPr>
          <a:xfrm>
            <a:off x="174240" y="1523880"/>
            <a:ext cx="899172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ing BV with induction without pem:</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BV</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high use BV/erlotinib</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em/platinum/BV induc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BV (consider adding pem if progress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Pem/BV in good PS pts tolerating rx wel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use BV/erlotinib</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using BV with induc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 (cont. or switch) in good PS pts tolerating rx wel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use erlotinib</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Morganstein (Dr Heymach)</a:t>
            </a:r>
            <a:endParaRPr b="1" lang="en-US" sz="2600" spc="-1" strike="noStrike">
              <a:solidFill>
                <a:srgbClr val="ecbb33"/>
              </a:solidFill>
              <a:latin typeface="Arial"/>
            </a:endParaRPr>
          </a:p>
        </p:txBody>
      </p:sp>
      <p:sp>
        <p:nvSpPr>
          <p:cNvPr id="2042" name=""/>
          <p:cNvSpPr txBox="1"/>
          <p:nvPr/>
        </p:nvSpPr>
        <p:spPr>
          <a:xfrm>
            <a:off x="685800" y="1525680"/>
            <a:ext cx="8352000" cy="4881600"/>
          </a:xfrm>
          <a:prstGeom prst="rect">
            <a:avLst/>
          </a:prstGeom>
          <a:noFill/>
          <a:ln w="0">
            <a:noFill/>
          </a:ln>
        </p:spPr>
        <p:txBody>
          <a:bodyPr anchor="t">
            <a:norm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57 yo woman, heavy smoker</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esented with cough unresponsive to antibiotics</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ung mass found, further workup revealed multiple masses in liver</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iopsy confirmed pan-WT adenocarcinoma </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arbo/pem/bev for 4 cycles resulting in a PR </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eatment was tolerated with some difficulty (fatigue, GI symptoms), and patient required 3 antihypertensives (hydrochlorothiazide, amlodipine, lisinopril)</a:t>
            </a:r>
            <a:endParaRPr b="0" lang="en-US" sz="2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41360" y="490680"/>
            <a:ext cx="8012160" cy="5827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57-year-old patient is diagnosed </a:t>
            </a:r>
            <a:br>
              <a:rPr sz="3200"/>
            </a:br>
            <a:r>
              <a:rPr b="1" lang="en-US" sz="3200" spc="-1" strike="noStrike">
                <a:solidFill>
                  <a:srgbClr val="ecbb33"/>
                </a:solidFill>
                <a:latin typeface="Arial"/>
              </a:rPr>
              <a:t>with PWT adenocarcinoma in the </a:t>
            </a:r>
            <a:br>
              <a:rPr sz="3200"/>
            </a:br>
            <a:r>
              <a:rPr b="1" lang="en-US" sz="3200" spc="-1" strike="noStrike">
                <a:solidFill>
                  <a:srgbClr val="ecbb33"/>
                </a:solidFill>
                <a:latin typeface="Arial"/>
              </a:rPr>
              <a:t>lung and corresponding liver mets. </a:t>
            </a:r>
            <a:br>
              <a:rPr sz="3200"/>
            </a:br>
            <a:r>
              <a:rPr b="1" lang="en-US" sz="3200" spc="-1" strike="noStrike">
                <a:solidFill>
                  <a:srgbClr val="ecbb33"/>
                </a:solidFill>
                <a:latin typeface="Arial"/>
              </a:rPr>
              <a:t>The patient is treated with 4 cycles of carboplatin/pemetrexed/bevacizumab and achieves a PR. What type of maintenance treatment, if any, </a:t>
            </a:r>
            <a:br>
              <a:rPr sz="3200"/>
            </a:br>
            <a:r>
              <a:rPr b="1" lang="en-US" sz="3200" spc="-1" strike="noStrike">
                <a:solidFill>
                  <a:srgbClr val="ecbb33"/>
                </a:solidFill>
                <a:latin typeface="Arial"/>
              </a:rPr>
              <a:t>would you recommend?</a:t>
            </a:r>
            <a:endParaRPr b="1" lang="en-US" sz="3200" spc="-1" strike="noStrike">
              <a:solidFill>
                <a:srgbClr val="ecbb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7-year-old patient is diagnosed with PWT adenocarcinoma in the lung and corresponding liver mets. The patient is treated with 4 cycles of carboplatin/pemetrexed/bevacizumab and achieves a PR. What type of maintenance treatment, if any,  would you recommend?</a:t>
            </a:r>
            <a:endParaRPr b="0" lang="en-US" sz="2400" spc="-1" strike="noStrike">
              <a:solidFill>
                <a:srgbClr val="000000"/>
              </a:solidFill>
              <a:latin typeface="Arial"/>
            </a:endParaRPr>
          </a:p>
        </p:txBody>
      </p:sp>
      <p:pic>
        <p:nvPicPr>
          <p:cNvPr id="2045" name="Chart 3" descr=""/>
          <p:cNvPicPr/>
          <p:nvPr/>
        </p:nvPicPr>
        <p:blipFill>
          <a:blip r:embed="rId1"/>
          <a:stretch/>
        </p:blipFill>
        <p:spPr>
          <a:xfrm>
            <a:off x="482760" y="2405160"/>
            <a:ext cx="8254800" cy="4222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6" name="Picture 3" descr="Prig7-12.jpg"/>
          <p:cNvPicPr/>
          <p:nvPr/>
        </p:nvPicPr>
        <p:blipFill>
          <a:blip r:embed="rId1"/>
          <a:stretch/>
        </p:blipFill>
        <p:spPr>
          <a:xfrm>
            <a:off x="1371600" y="355680"/>
            <a:ext cx="6502320" cy="6502320"/>
          </a:xfrm>
          <a:prstGeom prst="rect">
            <a:avLst/>
          </a:prstGeom>
          <a:ln w="0">
            <a:noFill/>
          </a:ln>
        </p:spPr>
      </p:pic>
      <p:sp>
        <p:nvSpPr>
          <p:cNvPr id="2047" name="Rectangle 1"/>
          <p:cNvSpPr/>
          <p:nvPr/>
        </p:nvSpPr>
        <p:spPr>
          <a:xfrm>
            <a:off x="5715000" y="0"/>
            <a:ext cx="2743200" cy="1447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8" name="Picture 1" descr="prig10-12.jpg"/>
          <p:cNvPicPr/>
          <p:nvPr/>
        </p:nvPicPr>
        <p:blipFill>
          <a:blip r:embed="rId1"/>
          <a:stretch/>
        </p:blipFill>
        <p:spPr>
          <a:xfrm>
            <a:off x="1320840" y="177840"/>
            <a:ext cx="6502320" cy="6502320"/>
          </a:xfrm>
          <a:prstGeom prst="rect">
            <a:avLst/>
          </a:prstGeom>
          <a:ln w="0">
            <a:noFill/>
          </a:ln>
        </p:spPr>
      </p:pic>
      <p:sp>
        <p:nvSpPr>
          <p:cNvPr id="2049" name="Rectangle 2"/>
          <p:cNvSpPr/>
          <p:nvPr/>
        </p:nvSpPr>
        <p:spPr>
          <a:xfrm>
            <a:off x="5867280" y="0"/>
            <a:ext cx="259092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0" name="Picture 1" descr="prigliver7-12.jpg"/>
          <p:cNvPicPr/>
          <p:nvPr/>
        </p:nvPicPr>
        <p:blipFill>
          <a:blip r:embed="rId1"/>
          <a:stretch/>
        </p:blipFill>
        <p:spPr>
          <a:xfrm>
            <a:off x="1320840" y="177840"/>
            <a:ext cx="6502320" cy="6502320"/>
          </a:xfrm>
          <a:prstGeom prst="rect">
            <a:avLst/>
          </a:prstGeom>
          <a:ln w="0">
            <a:noFill/>
          </a:ln>
        </p:spPr>
      </p:pic>
      <p:sp>
        <p:nvSpPr>
          <p:cNvPr id="2051" name="Rectangle 2"/>
          <p:cNvSpPr/>
          <p:nvPr/>
        </p:nvSpPr>
        <p:spPr>
          <a:xfrm>
            <a:off x="5715000" y="0"/>
            <a:ext cx="274320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2" name="Picture 1" descr="prigliver110-12.jpg"/>
          <p:cNvPicPr/>
          <p:nvPr/>
        </p:nvPicPr>
        <p:blipFill>
          <a:blip r:embed="rId1"/>
          <a:stretch/>
        </p:blipFill>
        <p:spPr>
          <a:xfrm>
            <a:off x="1320840" y="177840"/>
            <a:ext cx="6502320" cy="6502320"/>
          </a:xfrm>
          <a:prstGeom prst="rect">
            <a:avLst/>
          </a:prstGeom>
          <a:ln w="0">
            <a:noFill/>
          </a:ln>
        </p:spPr>
      </p:pic>
      <p:sp>
        <p:nvSpPr>
          <p:cNvPr id="2053" name="Rectangle 2"/>
          <p:cNvSpPr/>
          <p:nvPr/>
        </p:nvSpPr>
        <p:spPr>
          <a:xfrm>
            <a:off x="5715000" y="0"/>
            <a:ext cx="2743200" cy="1066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22:15:16Z</dcterms:created>
  <dc:creator>Research To Practice</dc:creator>
  <dc:description/>
  <cp:keywords/>
  <dc:language>en-US</dc:language>
  <cp:lastModifiedBy>Silvana Izquierdo</cp:lastModifiedBy>
  <cp:lastPrinted>2013-05-31T21:36:03Z</cp:lastPrinted>
  <dcterms:modified xsi:type="dcterms:W3CDTF">2013-08-13T17:37:48Z</dcterms:modified>
  <cp:revision>430</cp:revision>
  <dc:subject/>
  <dc:title>Research To Practice</dc:title>
</cp:coreProperties>
</file>