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EA26-4129-4556-9E0A-18AA19FB629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40184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140184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140184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F976-1B25-4D6E-A2EC-C182DA6ABCE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140184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140184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E6C-E229-41E1-8A3F-FA1A8F75E22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140184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144792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217-656C-4CE4-927A-BA972BFA2AC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0" y="0"/>
            <a:ext cx="289548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01600" y="378000"/>
            <a:ext cx="2533680" cy="217620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09" name="Picture 6" descr="MDACC_Rev_PMS_TC_tag_V.png"/>
          <p:cNvPicPr/>
          <p:nvPr/>
        </p:nvPicPr>
        <p:blipFill>
          <a:blip r:embed="rId2"/>
          <a:stretch/>
        </p:blipFill>
        <p:spPr>
          <a:xfrm>
            <a:off x="243000" y="5403960"/>
            <a:ext cx="2428920" cy="11858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6"/>
          <p:cNvSpPr/>
          <p:nvPr/>
        </p:nvSpPr>
        <p:spPr>
          <a:xfrm>
            <a:off x="3048120" y="228600"/>
            <a:ext cx="59436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advances in lung canc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ohn Heymach, MD,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e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oracic/Head and Neck Medical Oncology and Cancer 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 in Review: A Daylong Multitumor CME Symposium Focused on Key Clinical Presentations and Papers in Oncology: 2010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boat Key,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9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4408920" y="6397560"/>
            <a:ext cx="446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ell et al, J Clin Oncol 29: 2011 (suppl; abstr 750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14680"/>
            <a:ext cx="2819520" cy="118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.B. 59 pts in chemotherapy arm had PFS even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1 of these had second-line treatment, of whom 49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d EGFR T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itle 1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all survival in ITT population (interim analysis 2 Aug 20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000160"/>
            <a:ext cx="6629400" cy="229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lotinib (n=77; 35% with ev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otherapy* (n=76; 36% with ev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R=0.80 (0.47–1.3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-rank p=0.417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5562720"/>
            <a:ext cx="7924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9 pts in chemotherapy arm had PFS event; 51 of these had second-line treatment, of whom 49 had EGFR T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#4: EGFR Mu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yo non-smoker presents with a malignant pleural effusion and adrenal metastases. EGFR testing: Exon 19 deletion. She has cough, occasional HA but otherwise w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reveals at least 5 subcentimeter lesions with minimal ede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re: WB XRT: patient would prefer to avoid, concerned that it would affect her ability to work as accoun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lotinib started. Near resolution of disease, dose reduced to 100 mg because of GI toxic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1.5 year: CNS lesions grow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XRT gi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lotinib restar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3 years, relapses with pleural effusion and multiple pulmonary metasta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684360" y="41436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al model of afatinib* (BIBW 2992) in the EGFR kinase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11"/>
          <p:cNvSpPr/>
          <p:nvPr/>
        </p:nvSpPr>
        <p:spPr>
          <a:xfrm>
            <a:off x="2057400" y="1700280"/>
            <a:ext cx="4680000" cy="3844800"/>
          </a:xfrm>
          <a:prstGeom prst="roundRect">
            <a:avLst>
              <a:gd name="adj" fmla="val 3542"/>
            </a:avLst>
          </a:prstGeom>
          <a:solidFill>
            <a:srgbClr val="000000">
              <a:alpha val="6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12"/>
          <p:cNvSpPr/>
          <p:nvPr/>
        </p:nvSpPr>
        <p:spPr>
          <a:xfrm flipH="1">
            <a:off x="5252760" y="3343320"/>
            <a:ext cx="11160" cy="950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13"/>
          <p:cNvSpPr/>
          <p:nvPr/>
        </p:nvSpPr>
        <p:spPr>
          <a:xfrm>
            <a:off x="4804920" y="1714680"/>
            <a:ext cx="9946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SansCond"/>
              </a:rPr>
              <a:t>Afatin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14"/>
          <p:cNvSpPr/>
          <p:nvPr/>
        </p:nvSpPr>
        <p:spPr>
          <a:xfrm>
            <a:off x="2181240" y="2087640"/>
            <a:ext cx="1779480" cy="155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atinib was designed to covalently bin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EGFR an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lat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2 recep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15"/>
          <p:cNvSpPr/>
          <p:nvPr/>
        </p:nvSpPr>
        <p:spPr>
          <a:xfrm>
            <a:off x="4589640" y="247968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16"/>
          <p:cNvSpPr/>
          <p:nvPr/>
        </p:nvSpPr>
        <p:spPr>
          <a:xfrm>
            <a:off x="4641840" y="2576520"/>
            <a:ext cx="0" cy="9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17"/>
          <p:cNvSpPr/>
          <p:nvPr/>
        </p:nvSpPr>
        <p:spPr>
          <a:xfrm>
            <a:off x="4667400" y="2576520"/>
            <a:ext cx="0" cy="8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18"/>
          <p:cNvSpPr/>
          <p:nvPr/>
        </p:nvSpPr>
        <p:spPr>
          <a:xfrm>
            <a:off x="4712040" y="269388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19"/>
          <p:cNvSpPr/>
          <p:nvPr/>
        </p:nvSpPr>
        <p:spPr>
          <a:xfrm>
            <a:off x="4641840" y="2674800"/>
            <a:ext cx="8244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20"/>
          <p:cNvSpPr/>
          <p:nvPr/>
        </p:nvSpPr>
        <p:spPr>
          <a:xfrm flipV="1">
            <a:off x="4803840" y="2673000"/>
            <a:ext cx="84240" cy="4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21"/>
          <p:cNvSpPr/>
          <p:nvPr/>
        </p:nvSpPr>
        <p:spPr>
          <a:xfrm flipV="1">
            <a:off x="4791240" y="2660760"/>
            <a:ext cx="71280" cy="4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2"/>
          <p:cNvSpPr/>
          <p:nvPr/>
        </p:nvSpPr>
        <p:spPr>
          <a:xfrm flipH="1" flipV="1">
            <a:off x="4765680" y="2460240"/>
            <a:ext cx="1224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23"/>
          <p:cNvSpPr/>
          <p:nvPr/>
        </p:nvSpPr>
        <p:spPr>
          <a:xfrm flipH="1" flipV="1">
            <a:off x="4766760" y="2490840"/>
            <a:ext cx="9396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24"/>
          <p:cNvSpPr/>
          <p:nvPr/>
        </p:nvSpPr>
        <p:spPr>
          <a:xfrm flipH="1">
            <a:off x="4682880" y="2460600"/>
            <a:ext cx="8244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5"/>
          <p:cNvSpPr/>
          <p:nvPr/>
        </p:nvSpPr>
        <p:spPr>
          <a:xfrm>
            <a:off x="4888080" y="2532240"/>
            <a:ext cx="0" cy="14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26"/>
          <p:cNvSpPr/>
          <p:nvPr/>
        </p:nvSpPr>
        <p:spPr>
          <a:xfrm>
            <a:off x="4888080" y="2673360"/>
            <a:ext cx="1234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27"/>
          <p:cNvSpPr/>
          <p:nvPr/>
        </p:nvSpPr>
        <p:spPr>
          <a:xfrm flipV="1">
            <a:off x="5011560" y="2673360"/>
            <a:ext cx="1224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28"/>
          <p:cNvSpPr/>
          <p:nvPr/>
        </p:nvSpPr>
        <p:spPr>
          <a:xfrm flipV="1">
            <a:off x="5013360" y="2660760"/>
            <a:ext cx="9360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29"/>
          <p:cNvSpPr/>
          <p:nvPr/>
        </p:nvSpPr>
        <p:spPr>
          <a:xfrm flipV="1">
            <a:off x="5133960" y="25300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30"/>
          <p:cNvSpPr/>
          <p:nvPr/>
        </p:nvSpPr>
        <p:spPr>
          <a:xfrm flipH="1" flipV="1">
            <a:off x="5010120" y="2460600"/>
            <a:ext cx="12384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31"/>
          <p:cNvSpPr/>
          <p:nvPr/>
        </p:nvSpPr>
        <p:spPr>
          <a:xfrm flipH="1" flipV="1">
            <a:off x="5013360" y="2490840"/>
            <a:ext cx="9504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32"/>
          <p:cNvSpPr/>
          <p:nvPr/>
        </p:nvSpPr>
        <p:spPr>
          <a:xfrm flipH="1">
            <a:off x="4887720" y="2460600"/>
            <a:ext cx="1220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3"/>
          <p:cNvSpPr/>
          <p:nvPr/>
        </p:nvSpPr>
        <p:spPr>
          <a:xfrm>
            <a:off x="4712040" y="226692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4"/>
          <p:cNvSpPr/>
          <p:nvPr/>
        </p:nvSpPr>
        <p:spPr>
          <a:xfrm flipV="1">
            <a:off x="4765680" y="2363400"/>
            <a:ext cx="0" cy="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35"/>
          <p:cNvSpPr/>
          <p:nvPr/>
        </p:nvSpPr>
        <p:spPr>
          <a:xfrm flipH="1" flipV="1">
            <a:off x="4641840" y="2249640"/>
            <a:ext cx="8424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36"/>
          <p:cNvSpPr/>
          <p:nvPr/>
        </p:nvSpPr>
        <p:spPr>
          <a:xfrm flipV="1">
            <a:off x="4641840" y="2107800"/>
            <a:ext cx="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37"/>
          <p:cNvSpPr/>
          <p:nvPr/>
        </p:nvSpPr>
        <p:spPr>
          <a:xfrm flipV="1">
            <a:off x="4616280" y="2124000"/>
            <a:ext cx="0" cy="10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38"/>
          <p:cNvSpPr/>
          <p:nvPr/>
        </p:nvSpPr>
        <p:spPr>
          <a:xfrm flipH="1" flipV="1">
            <a:off x="4519440" y="2038320"/>
            <a:ext cx="12240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39"/>
          <p:cNvSpPr/>
          <p:nvPr/>
        </p:nvSpPr>
        <p:spPr>
          <a:xfrm flipH="1">
            <a:off x="4395600" y="2038320"/>
            <a:ext cx="12348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40"/>
          <p:cNvSpPr/>
          <p:nvPr/>
        </p:nvSpPr>
        <p:spPr>
          <a:xfrm flipH="1">
            <a:off x="4424400" y="2066760"/>
            <a:ext cx="9360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41"/>
          <p:cNvSpPr/>
          <p:nvPr/>
        </p:nvSpPr>
        <p:spPr>
          <a:xfrm>
            <a:off x="4395960" y="21081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42"/>
          <p:cNvSpPr/>
          <p:nvPr/>
        </p:nvSpPr>
        <p:spPr>
          <a:xfrm>
            <a:off x="4395960" y="2251080"/>
            <a:ext cx="12348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43"/>
          <p:cNvSpPr/>
          <p:nvPr/>
        </p:nvSpPr>
        <p:spPr>
          <a:xfrm>
            <a:off x="4422600" y="2236680"/>
            <a:ext cx="9540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44"/>
          <p:cNvSpPr/>
          <p:nvPr/>
        </p:nvSpPr>
        <p:spPr>
          <a:xfrm flipV="1">
            <a:off x="4519440" y="2249640"/>
            <a:ext cx="1224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45"/>
          <p:cNvSpPr/>
          <p:nvPr/>
        </p:nvSpPr>
        <p:spPr>
          <a:xfrm>
            <a:off x="4231440" y="1986120"/>
            <a:ext cx="493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46"/>
          <p:cNvSpPr/>
          <p:nvPr/>
        </p:nvSpPr>
        <p:spPr>
          <a:xfrm flipH="1" flipV="1">
            <a:off x="4306680" y="2057040"/>
            <a:ext cx="88920" cy="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7"/>
          <p:cNvSpPr/>
          <p:nvPr/>
        </p:nvSpPr>
        <p:spPr>
          <a:xfrm>
            <a:off x="4185000" y="2270160"/>
            <a:ext cx="8460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C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48"/>
          <p:cNvSpPr/>
          <p:nvPr/>
        </p:nvSpPr>
        <p:spPr>
          <a:xfrm flipH="1">
            <a:off x="4295880" y="2251080"/>
            <a:ext cx="100080" cy="5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49"/>
          <p:cNvSpPr/>
          <p:nvPr/>
        </p:nvSpPr>
        <p:spPr>
          <a:xfrm>
            <a:off x="5206320" y="2690640"/>
            <a:ext cx="709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50"/>
          <p:cNvSpPr/>
          <p:nvPr/>
        </p:nvSpPr>
        <p:spPr>
          <a:xfrm>
            <a:off x="5133960" y="2673360"/>
            <a:ext cx="8100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51"/>
          <p:cNvSpPr/>
          <p:nvPr/>
        </p:nvSpPr>
        <p:spPr>
          <a:xfrm>
            <a:off x="5253120" y="2874960"/>
            <a:ext cx="9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52"/>
          <p:cNvSpPr/>
          <p:nvPr/>
        </p:nvSpPr>
        <p:spPr>
          <a:xfrm>
            <a:off x="5251320" y="2852640"/>
            <a:ext cx="12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53"/>
          <p:cNvSpPr/>
          <p:nvPr/>
        </p:nvSpPr>
        <p:spPr>
          <a:xfrm>
            <a:off x="5249880" y="2832120"/>
            <a:ext cx="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54"/>
          <p:cNvSpPr/>
          <p:nvPr/>
        </p:nvSpPr>
        <p:spPr>
          <a:xfrm>
            <a:off x="5248440" y="2809800"/>
            <a:ext cx="1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55"/>
          <p:cNvSpPr/>
          <p:nvPr/>
        </p:nvSpPr>
        <p:spPr>
          <a:xfrm>
            <a:off x="5246640" y="2789280"/>
            <a:ext cx="20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56"/>
          <p:cNvSpPr/>
          <p:nvPr/>
        </p:nvSpPr>
        <p:spPr>
          <a:xfrm flipH="1">
            <a:off x="5144760" y="2884320"/>
            <a:ext cx="112680" cy="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57"/>
          <p:cNvSpPr/>
          <p:nvPr/>
        </p:nvSpPr>
        <p:spPr>
          <a:xfrm>
            <a:off x="5279400" y="3057480"/>
            <a:ext cx="709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8"/>
          <p:cNvSpPr/>
          <p:nvPr/>
        </p:nvSpPr>
        <p:spPr>
          <a:xfrm>
            <a:off x="5145120" y="2970360"/>
            <a:ext cx="42840" cy="13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59"/>
          <p:cNvSpPr/>
          <p:nvPr/>
        </p:nvSpPr>
        <p:spPr>
          <a:xfrm>
            <a:off x="5187960" y="3103560"/>
            <a:ext cx="9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60"/>
          <p:cNvSpPr/>
          <p:nvPr/>
        </p:nvSpPr>
        <p:spPr>
          <a:xfrm flipV="1">
            <a:off x="5343480" y="2968560"/>
            <a:ext cx="30240" cy="9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1"/>
          <p:cNvSpPr/>
          <p:nvPr/>
        </p:nvSpPr>
        <p:spPr>
          <a:xfrm flipH="1" flipV="1">
            <a:off x="5257800" y="2884320"/>
            <a:ext cx="11592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62"/>
          <p:cNvSpPr/>
          <p:nvPr/>
        </p:nvSpPr>
        <p:spPr>
          <a:xfrm>
            <a:off x="5204160" y="240660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63"/>
          <p:cNvSpPr/>
          <p:nvPr/>
        </p:nvSpPr>
        <p:spPr>
          <a:xfrm flipV="1">
            <a:off x="5133960" y="2482920"/>
            <a:ext cx="8100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64"/>
          <p:cNvSpPr/>
          <p:nvPr/>
        </p:nvSpPr>
        <p:spPr>
          <a:xfrm>
            <a:off x="5294160" y="2481120"/>
            <a:ext cx="84240" cy="4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65"/>
          <p:cNvSpPr/>
          <p:nvPr/>
        </p:nvSpPr>
        <p:spPr>
          <a:xfrm flipV="1">
            <a:off x="5378400" y="2457000"/>
            <a:ext cx="1238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66"/>
          <p:cNvSpPr/>
          <p:nvPr/>
        </p:nvSpPr>
        <p:spPr>
          <a:xfrm>
            <a:off x="5326920" y="2619360"/>
            <a:ext cx="709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67"/>
          <p:cNvSpPr/>
          <p:nvPr/>
        </p:nvSpPr>
        <p:spPr>
          <a:xfrm>
            <a:off x="5367240" y="2527200"/>
            <a:ext cx="0" cy="10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68"/>
          <p:cNvSpPr/>
          <p:nvPr/>
        </p:nvSpPr>
        <p:spPr>
          <a:xfrm>
            <a:off x="5392800" y="2525760"/>
            <a:ext cx="0" cy="103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69"/>
          <p:cNvSpPr/>
          <p:nvPr/>
        </p:nvSpPr>
        <p:spPr>
          <a:xfrm>
            <a:off x="5502240" y="2457360"/>
            <a:ext cx="12240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70"/>
          <p:cNvSpPr/>
          <p:nvPr/>
        </p:nvSpPr>
        <p:spPr>
          <a:xfrm>
            <a:off x="5529240" y="2443320"/>
            <a:ext cx="93600" cy="5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71"/>
          <p:cNvSpPr/>
          <p:nvPr/>
        </p:nvSpPr>
        <p:spPr>
          <a:xfrm flipV="1">
            <a:off x="5624640" y="2455920"/>
            <a:ext cx="1220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72"/>
          <p:cNvSpPr/>
          <p:nvPr/>
        </p:nvSpPr>
        <p:spPr>
          <a:xfrm>
            <a:off x="5818320" y="247968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73"/>
          <p:cNvSpPr/>
          <p:nvPr/>
        </p:nvSpPr>
        <p:spPr>
          <a:xfrm>
            <a:off x="5746680" y="2455920"/>
            <a:ext cx="8424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74"/>
          <p:cNvSpPr/>
          <p:nvPr/>
        </p:nvSpPr>
        <p:spPr>
          <a:xfrm flipV="1">
            <a:off x="5910120" y="2453760"/>
            <a:ext cx="82800" cy="4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75"/>
          <p:cNvSpPr/>
          <p:nvPr/>
        </p:nvSpPr>
        <p:spPr>
          <a:xfrm>
            <a:off x="5872320" y="2570040"/>
            <a:ext cx="0" cy="9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6"/>
          <p:cNvSpPr/>
          <p:nvPr/>
        </p:nvSpPr>
        <p:spPr>
          <a:xfrm>
            <a:off x="5509080" y="390528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77"/>
          <p:cNvSpPr/>
          <p:nvPr/>
        </p:nvSpPr>
        <p:spPr>
          <a:xfrm flipV="1">
            <a:off x="5602320" y="3881520"/>
            <a:ext cx="8100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78"/>
          <p:cNvSpPr/>
          <p:nvPr/>
        </p:nvSpPr>
        <p:spPr>
          <a:xfrm>
            <a:off x="5683320" y="3881520"/>
            <a:ext cx="12384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79"/>
          <p:cNvSpPr/>
          <p:nvPr/>
        </p:nvSpPr>
        <p:spPr>
          <a:xfrm>
            <a:off x="5673600" y="3732120"/>
            <a:ext cx="20880" cy="149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80"/>
          <p:cNvSpPr/>
          <p:nvPr/>
        </p:nvSpPr>
        <p:spPr>
          <a:xfrm>
            <a:off x="5519520" y="3621240"/>
            <a:ext cx="493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81"/>
          <p:cNvSpPr/>
          <p:nvPr/>
        </p:nvSpPr>
        <p:spPr>
          <a:xfrm flipH="1" flipV="1">
            <a:off x="5599080" y="3688920"/>
            <a:ext cx="84240" cy="4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82"/>
          <p:cNvSpPr/>
          <p:nvPr/>
        </p:nvSpPr>
        <p:spPr>
          <a:xfrm>
            <a:off x="5755680" y="4046400"/>
            <a:ext cx="709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83"/>
          <p:cNvSpPr/>
          <p:nvPr/>
        </p:nvSpPr>
        <p:spPr>
          <a:xfrm>
            <a:off x="5794200" y="3949560"/>
            <a:ext cx="0" cy="10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84"/>
          <p:cNvSpPr/>
          <p:nvPr/>
        </p:nvSpPr>
        <p:spPr>
          <a:xfrm>
            <a:off x="5818320" y="3949560"/>
            <a:ext cx="0" cy="10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85"/>
          <p:cNvSpPr/>
          <p:nvPr/>
        </p:nvSpPr>
        <p:spPr>
          <a:xfrm flipV="1">
            <a:off x="5807160" y="3905280"/>
            <a:ext cx="8244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86"/>
          <p:cNvSpPr/>
          <p:nvPr/>
        </p:nvSpPr>
        <p:spPr>
          <a:xfrm flipH="1" flipV="1">
            <a:off x="5463720" y="3892320"/>
            <a:ext cx="57240" cy="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387"/>
          <p:cNvSpPr/>
          <p:nvPr/>
        </p:nvSpPr>
        <p:spPr>
          <a:xfrm flipH="1">
            <a:off x="5447880" y="3863880"/>
            <a:ext cx="25560" cy="65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88"/>
          <p:cNvSpPr/>
          <p:nvPr/>
        </p:nvSpPr>
        <p:spPr>
          <a:xfrm flipH="1" flipV="1">
            <a:off x="5879880" y="3873600"/>
            <a:ext cx="29880" cy="61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89"/>
          <p:cNvSpPr/>
          <p:nvPr/>
        </p:nvSpPr>
        <p:spPr>
          <a:xfrm>
            <a:off x="5548680" y="493236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0"/>
          <p:cNvSpPr/>
          <p:nvPr/>
        </p:nvSpPr>
        <p:spPr>
          <a:xfrm flipV="1">
            <a:off x="5643720" y="4908600"/>
            <a:ext cx="8568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91"/>
          <p:cNvSpPr/>
          <p:nvPr/>
        </p:nvSpPr>
        <p:spPr>
          <a:xfrm>
            <a:off x="5729400" y="4908600"/>
            <a:ext cx="123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92"/>
          <p:cNvSpPr/>
          <p:nvPr/>
        </p:nvSpPr>
        <p:spPr>
          <a:xfrm>
            <a:off x="5722920" y="4761000"/>
            <a:ext cx="22320" cy="1476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93"/>
          <p:cNvSpPr/>
          <p:nvPr/>
        </p:nvSpPr>
        <p:spPr>
          <a:xfrm>
            <a:off x="5560920" y="4648320"/>
            <a:ext cx="493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394"/>
          <p:cNvSpPr/>
          <p:nvPr/>
        </p:nvSpPr>
        <p:spPr>
          <a:xfrm flipH="1" flipV="1">
            <a:off x="5643720" y="4716000"/>
            <a:ext cx="85680" cy="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95"/>
          <p:cNvSpPr/>
          <p:nvPr/>
        </p:nvSpPr>
        <p:spPr>
          <a:xfrm>
            <a:off x="5797080" y="5073480"/>
            <a:ext cx="709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96"/>
          <p:cNvSpPr/>
          <p:nvPr/>
        </p:nvSpPr>
        <p:spPr>
          <a:xfrm>
            <a:off x="5840280" y="4976640"/>
            <a:ext cx="0" cy="10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97"/>
          <p:cNvSpPr/>
          <p:nvPr/>
        </p:nvSpPr>
        <p:spPr>
          <a:xfrm>
            <a:off x="5865840" y="4976640"/>
            <a:ext cx="0" cy="10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98"/>
          <p:cNvSpPr/>
          <p:nvPr/>
        </p:nvSpPr>
        <p:spPr>
          <a:xfrm flipV="1">
            <a:off x="5853240" y="4932360"/>
            <a:ext cx="8100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99"/>
          <p:cNvSpPr/>
          <p:nvPr/>
        </p:nvSpPr>
        <p:spPr>
          <a:xfrm flipH="1" flipV="1">
            <a:off x="5509800" y="4920840"/>
            <a:ext cx="57240" cy="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00"/>
          <p:cNvSpPr/>
          <p:nvPr/>
        </p:nvSpPr>
        <p:spPr>
          <a:xfrm>
            <a:off x="4565880" y="451152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01"/>
          <p:cNvSpPr/>
          <p:nvPr/>
        </p:nvSpPr>
        <p:spPr>
          <a:xfrm>
            <a:off x="4622760" y="4602240"/>
            <a:ext cx="0" cy="9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402"/>
          <p:cNvSpPr/>
          <p:nvPr/>
        </p:nvSpPr>
        <p:spPr>
          <a:xfrm>
            <a:off x="4648320" y="4602240"/>
            <a:ext cx="0" cy="8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03"/>
          <p:cNvSpPr/>
          <p:nvPr/>
        </p:nvSpPr>
        <p:spPr>
          <a:xfrm>
            <a:off x="4689720" y="472428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04"/>
          <p:cNvSpPr/>
          <p:nvPr/>
        </p:nvSpPr>
        <p:spPr>
          <a:xfrm>
            <a:off x="4622760" y="4700520"/>
            <a:ext cx="8244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05"/>
          <p:cNvSpPr/>
          <p:nvPr/>
        </p:nvSpPr>
        <p:spPr>
          <a:xfrm flipV="1">
            <a:off x="4784760" y="4700520"/>
            <a:ext cx="8424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6"/>
          <p:cNvSpPr/>
          <p:nvPr/>
        </p:nvSpPr>
        <p:spPr>
          <a:xfrm flipV="1">
            <a:off x="4770360" y="4686480"/>
            <a:ext cx="73080" cy="4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07"/>
          <p:cNvSpPr/>
          <p:nvPr/>
        </p:nvSpPr>
        <p:spPr>
          <a:xfrm flipH="1" flipV="1">
            <a:off x="4746600" y="4487760"/>
            <a:ext cx="12240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08"/>
          <p:cNvSpPr/>
          <p:nvPr/>
        </p:nvSpPr>
        <p:spPr>
          <a:xfrm flipH="1" flipV="1">
            <a:off x="4747680" y="4516560"/>
            <a:ext cx="9396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09"/>
          <p:cNvSpPr/>
          <p:nvPr/>
        </p:nvSpPr>
        <p:spPr>
          <a:xfrm flipH="1">
            <a:off x="4663800" y="4487760"/>
            <a:ext cx="8244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10"/>
          <p:cNvSpPr/>
          <p:nvPr/>
        </p:nvSpPr>
        <p:spPr>
          <a:xfrm>
            <a:off x="4869000" y="455760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11"/>
          <p:cNvSpPr/>
          <p:nvPr/>
        </p:nvSpPr>
        <p:spPr>
          <a:xfrm>
            <a:off x="4869000" y="4700520"/>
            <a:ext cx="12384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12"/>
          <p:cNvSpPr/>
          <p:nvPr/>
        </p:nvSpPr>
        <p:spPr>
          <a:xfrm flipV="1">
            <a:off x="4992840" y="4699080"/>
            <a:ext cx="1220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13"/>
          <p:cNvSpPr/>
          <p:nvPr/>
        </p:nvSpPr>
        <p:spPr>
          <a:xfrm flipV="1">
            <a:off x="4994280" y="4686120"/>
            <a:ext cx="93600" cy="5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14"/>
          <p:cNvSpPr/>
          <p:nvPr/>
        </p:nvSpPr>
        <p:spPr>
          <a:xfrm flipV="1">
            <a:off x="5114880" y="455580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15"/>
          <p:cNvSpPr/>
          <p:nvPr/>
        </p:nvSpPr>
        <p:spPr>
          <a:xfrm flipH="1" flipV="1">
            <a:off x="4991040" y="4486320"/>
            <a:ext cx="12384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416"/>
          <p:cNvSpPr/>
          <p:nvPr/>
        </p:nvSpPr>
        <p:spPr>
          <a:xfrm flipH="1" flipV="1">
            <a:off x="4992840" y="4516560"/>
            <a:ext cx="9504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17"/>
          <p:cNvSpPr/>
          <p:nvPr/>
        </p:nvSpPr>
        <p:spPr>
          <a:xfrm flipH="1">
            <a:off x="4868640" y="4486320"/>
            <a:ext cx="1220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18"/>
          <p:cNvSpPr/>
          <p:nvPr/>
        </p:nvSpPr>
        <p:spPr>
          <a:xfrm>
            <a:off x="4689720" y="429912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19"/>
          <p:cNvSpPr/>
          <p:nvPr/>
        </p:nvSpPr>
        <p:spPr>
          <a:xfrm flipV="1">
            <a:off x="4746600" y="4389120"/>
            <a:ext cx="0" cy="9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20"/>
          <p:cNvSpPr/>
          <p:nvPr/>
        </p:nvSpPr>
        <p:spPr>
          <a:xfrm flipH="1" flipV="1">
            <a:off x="4622760" y="4274640"/>
            <a:ext cx="84240" cy="4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421"/>
          <p:cNvSpPr/>
          <p:nvPr/>
        </p:nvSpPr>
        <p:spPr>
          <a:xfrm flipV="1">
            <a:off x="4622760" y="4133880"/>
            <a:ext cx="0" cy="141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22"/>
          <p:cNvSpPr/>
          <p:nvPr/>
        </p:nvSpPr>
        <p:spPr>
          <a:xfrm flipV="1">
            <a:off x="4595760" y="4149720"/>
            <a:ext cx="0" cy="10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23"/>
          <p:cNvSpPr/>
          <p:nvPr/>
        </p:nvSpPr>
        <p:spPr>
          <a:xfrm flipH="1" flipV="1">
            <a:off x="4498920" y="4064040"/>
            <a:ext cx="12384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24"/>
          <p:cNvSpPr/>
          <p:nvPr/>
        </p:nvSpPr>
        <p:spPr>
          <a:xfrm flipH="1">
            <a:off x="4376520" y="4064040"/>
            <a:ext cx="12204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25"/>
          <p:cNvSpPr/>
          <p:nvPr/>
        </p:nvSpPr>
        <p:spPr>
          <a:xfrm flipH="1">
            <a:off x="4403880" y="4094280"/>
            <a:ext cx="9504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26"/>
          <p:cNvSpPr/>
          <p:nvPr/>
        </p:nvSpPr>
        <p:spPr>
          <a:xfrm>
            <a:off x="4376880" y="41338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27"/>
          <p:cNvSpPr/>
          <p:nvPr/>
        </p:nvSpPr>
        <p:spPr>
          <a:xfrm>
            <a:off x="4376880" y="4276800"/>
            <a:ext cx="12384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28"/>
          <p:cNvSpPr/>
          <p:nvPr/>
        </p:nvSpPr>
        <p:spPr>
          <a:xfrm>
            <a:off x="4403880" y="4262400"/>
            <a:ext cx="9504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29"/>
          <p:cNvSpPr/>
          <p:nvPr/>
        </p:nvSpPr>
        <p:spPr>
          <a:xfrm flipV="1">
            <a:off x="4500720" y="4274640"/>
            <a:ext cx="1220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30"/>
          <p:cNvSpPr/>
          <p:nvPr/>
        </p:nvSpPr>
        <p:spPr>
          <a:xfrm>
            <a:off x="4202640" y="4016520"/>
            <a:ext cx="493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31"/>
          <p:cNvSpPr/>
          <p:nvPr/>
        </p:nvSpPr>
        <p:spPr>
          <a:xfrm flipH="1" flipV="1">
            <a:off x="4287600" y="4082760"/>
            <a:ext cx="88920" cy="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32"/>
          <p:cNvSpPr/>
          <p:nvPr/>
        </p:nvSpPr>
        <p:spPr>
          <a:xfrm>
            <a:off x="4158000" y="4300560"/>
            <a:ext cx="8460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C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33"/>
          <p:cNvSpPr/>
          <p:nvPr/>
        </p:nvSpPr>
        <p:spPr>
          <a:xfrm flipH="1">
            <a:off x="4276800" y="4276800"/>
            <a:ext cx="100080" cy="5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34"/>
          <p:cNvSpPr/>
          <p:nvPr/>
        </p:nvSpPr>
        <p:spPr>
          <a:xfrm>
            <a:off x="5182560" y="4722840"/>
            <a:ext cx="709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35"/>
          <p:cNvSpPr/>
          <p:nvPr/>
        </p:nvSpPr>
        <p:spPr>
          <a:xfrm>
            <a:off x="5114880" y="4699080"/>
            <a:ext cx="7956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6"/>
          <p:cNvSpPr/>
          <p:nvPr/>
        </p:nvSpPr>
        <p:spPr>
          <a:xfrm>
            <a:off x="5234040" y="4900680"/>
            <a:ext cx="9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37"/>
          <p:cNvSpPr/>
          <p:nvPr/>
        </p:nvSpPr>
        <p:spPr>
          <a:xfrm>
            <a:off x="5232240" y="4878360"/>
            <a:ext cx="12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38"/>
          <p:cNvSpPr/>
          <p:nvPr/>
        </p:nvSpPr>
        <p:spPr>
          <a:xfrm>
            <a:off x="5230800" y="4857840"/>
            <a:ext cx="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39"/>
          <p:cNvSpPr/>
          <p:nvPr/>
        </p:nvSpPr>
        <p:spPr>
          <a:xfrm>
            <a:off x="5227560" y="4835520"/>
            <a:ext cx="1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40"/>
          <p:cNvSpPr/>
          <p:nvPr/>
        </p:nvSpPr>
        <p:spPr>
          <a:xfrm>
            <a:off x="5226120" y="4815000"/>
            <a:ext cx="2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41"/>
          <p:cNvSpPr/>
          <p:nvPr/>
        </p:nvSpPr>
        <p:spPr>
          <a:xfrm flipH="1">
            <a:off x="5124240" y="4911840"/>
            <a:ext cx="114120" cy="8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42"/>
          <p:cNvSpPr/>
          <p:nvPr/>
        </p:nvSpPr>
        <p:spPr>
          <a:xfrm>
            <a:off x="5255640" y="5083200"/>
            <a:ext cx="709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43"/>
          <p:cNvSpPr/>
          <p:nvPr/>
        </p:nvSpPr>
        <p:spPr>
          <a:xfrm>
            <a:off x="5124600" y="4995720"/>
            <a:ext cx="44280" cy="13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44"/>
          <p:cNvSpPr/>
          <p:nvPr/>
        </p:nvSpPr>
        <p:spPr>
          <a:xfrm>
            <a:off x="5168880" y="5130720"/>
            <a:ext cx="9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45"/>
          <p:cNvSpPr/>
          <p:nvPr/>
        </p:nvSpPr>
        <p:spPr>
          <a:xfrm flipV="1">
            <a:off x="5322960" y="4994280"/>
            <a:ext cx="31680" cy="9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46"/>
          <p:cNvSpPr/>
          <p:nvPr/>
        </p:nvSpPr>
        <p:spPr>
          <a:xfrm flipH="1" flipV="1">
            <a:off x="5238720" y="4911480"/>
            <a:ext cx="115920" cy="8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47"/>
          <p:cNvSpPr/>
          <p:nvPr/>
        </p:nvSpPr>
        <p:spPr>
          <a:xfrm>
            <a:off x="5180400" y="443880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48"/>
          <p:cNvSpPr/>
          <p:nvPr/>
        </p:nvSpPr>
        <p:spPr>
          <a:xfrm flipV="1">
            <a:off x="5114880" y="4508640"/>
            <a:ext cx="8100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49"/>
          <p:cNvSpPr/>
          <p:nvPr/>
        </p:nvSpPr>
        <p:spPr>
          <a:xfrm>
            <a:off x="5275440" y="4506840"/>
            <a:ext cx="83880" cy="4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50"/>
          <p:cNvSpPr/>
          <p:nvPr/>
        </p:nvSpPr>
        <p:spPr>
          <a:xfrm flipV="1">
            <a:off x="5359320" y="4482720"/>
            <a:ext cx="12240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51"/>
          <p:cNvSpPr/>
          <p:nvPr/>
        </p:nvSpPr>
        <p:spPr>
          <a:xfrm>
            <a:off x="5304960" y="4649760"/>
            <a:ext cx="7092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52"/>
          <p:cNvSpPr/>
          <p:nvPr/>
        </p:nvSpPr>
        <p:spPr>
          <a:xfrm>
            <a:off x="5348160" y="4552920"/>
            <a:ext cx="0" cy="101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53"/>
          <p:cNvSpPr/>
          <p:nvPr/>
        </p:nvSpPr>
        <p:spPr>
          <a:xfrm>
            <a:off x="5373720" y="4551480"/>
            <a:ext cx="0" cy="10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54"/>
          <p:cNvSpPr/>
          <p:nvPr/>
        </p:nvSpPr>
        <p:spPr>
          <a:xfrm>
            <a:off x="5481720" y="4483080"/>
            <a:ext cx="123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455"/>
          <p:cNvSpPr/>
          <p:nvPr/>
        </p:nvSpPr>
        <p:spPr>
          <a:xfrm flipV="1">
            <a:off x="5605560" y="4483080"/>
            <a:ext cx="1220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56"/>
          <p:cNvSpPr/>
          <p:nvPr/>
        </p:nvSpPr>
        <p:spPr>
          <a:xfrm>
            <a:off x="5794560" y="4505400"/>
            <a:ext cx="72360" cy="10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ffffff"/>
                </a:solidFill>
                <a:latin typeface="BISansCond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457"/>
          <p:cNvSpPr/>
          <p:nvPr/>
        </p:nvSpPr>
        <p:spPr>
          <a:xfrm>
            <a:off x="5727600" y="4483080"/>
            <a:ext cx="8280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458"/>
          <p:cNvSpPr/>
          <p:nvPr/>
        </p:nvSpPr>
        <p:spPr>
          <a:xfrm flipV="1">
            <a:off x="5891040" y="4481640"/>
            <a:ext cx="82800" cy="4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59"/>
          <p:cNvSpPr/>
          <p:nvPr/>
        </p:nvSpPr>
        <p:spPr>
          <a:xfrm>
            <a:off x="5851440" y="4595760"/>
            <a:ext cx="0" cy="9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60"/>
          <p:cNvSpPr/>
          <p:nvPr/>
        </p:nvSpPr>
        <p:spPr>
          <a:xfrm>
            <a:off x="5605560" y="4554360"/>
            <a:ext cx="0" cy="9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61"/>
          <p:cNvSpPr/>
          <p:nvPr/>
        </p:nvSpPr>
        <p:spPr>
          <a:xfrm flipH="1">
            <a:off x="5492520" y="4892760"/>
            <a:ext cx="27000" cy="6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62"/>
          <p:cNvSpPr/>
          <p:nvPr/>
        </p:nvSpPr>
        <p:spPr>
          <a:xfrm flipH="1" flipV="1">
            <a:off x="5925960" y="4902120"/>
            <a:ext cx="30240" cy="61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0" y="6356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ca F et al. AACR-NCI-EORTC Proceedings, AACR-NCI-EORTC International Conference on Molecular Targets and Cancer Therapeutics. 2005;118 (Abstract A2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7920" y="6165720"/>
            <a:ext cx="58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*This is an investigational agent. Its efficacy and safety have not been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684360" y="26028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atinib* maintains its inhibitory activity in erlotinib/gefitinib-resistant EGFR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971640" y="1874880"/>
          <a:ext cx="7632720" cy="1482840"/>
        </p:xfrm>
        <a:graphic>
          <a:graphicData uri="http://schemas.openxmlformats.org/drawingml/2006/table">
            <a:tbl>
              <a:tblPr/>
              <a:tblGrid>
                <a:gridCol w="3549600"/>
                <a:gridCol w="1257120"/>
                <a:gridCol w="1360800"/>
                <a:gridCol w="1465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atin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atin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FR 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FR L858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FR L858R/T79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</a:tr>
            </a:tbl>
          </a:graphicData>
        </a:graphic>
      </p:graphicFrame>
      <p:sp>
        <p:nvSpPr>
          <p:cNvPr id="456" name="Text Box 31"/>
          <p:cNvSpPr/>
          <p:nvPr/>
        </p:nvSpPr>
        <p:spPr>
          <a:xfrm>
            <a:off x="971640" y="3695760"/>
            <a:ext cx="37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chorage independent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2"/>
          <p:cNvSpPr/>
          <p:nvPr/>
        </p:nvSpPr>
        <p:spPr>
          <a:xfrm>
            <a:off x="971640" y="1536840"/>
            <a:ext cx="37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inase as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971640" y="4102200"/>
          <a:ext cx="7626240" cy="24224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1152360"/>
                <a:gridCol w="1511280"/>
                <a:gridCol w="1441440"/>
                <a:gridCol w="1289160"/>
              </a:tblGrid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</a:t>
                      </a:r>
                      <a:r>
                        <a:rPr b="1" lang="de-AT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r>
                        <a:rPr b="1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[nM]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d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1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858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3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858R+T79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CI1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nding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fitin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er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lotin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er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atin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FR/HE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rever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ed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 714,7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er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patin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FR/HE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er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9" name="TextBox 6"/>
          <p:cNvSpPr/>
          <p:nvPr/>
        </p:nvSpPr>
        <p:spPr>
          <a:xfrm>
            <a:off x="0" y="658188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*This is an investigational agent. Its efficacy and safety have not been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atinib NSCLC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Rectangle 2"/>
          <p:cNvGrpSpPr/>
          <p:nvPr/>
        </p:nvGrpSpPr>
        <p:grpSpPr>
          <a:xfrm>
            <a:off x="768240" y="2170080"/>
            <a:ext cx="3943440" cy="530280"/>
            <a:chOff x="768240" y="2170080"/>
            <a:chExt cx="3943440" cy="530280"/>
          </a:xfrm>
        </p:grpSpPr>
        <p:pic>
          <p:nvPicPr>
            <p:cNvPr id="462" name="Rectangle 2" descr=""/>
            <p:cNvPicPr/>
            <p:nvPr/>
          </p:nvPicPr>
          <p:blipFill>
            <a:blip r:embed="rId1"/>
            <a:stretch/>
          </p:blipFill>
          <p:spPr>
            <a:xfrm>
              <a:off x="768240" y="2170080"/>
              <a:ext cx="39434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838080" y="2209680"/>
              <a:ext cx="38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GFR TKI pretreated NSCL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Rectangle 5"/>
          <p:cNvGrpSpPr/>
          <p:nvPr/>
        </p:nvGrpSpPr>
        <p:grpSpPr>
          <a:xfrm>
            <a:off x="4809960" y="2170080"/>
            <a:ext cx="3937320" cy="530280"/>
            <a:chOff x="4809960" y="2170080"/>
            <a:chExt cx="3937320" cy="530280"/>
          </a:xfrm>
        </p:grpSpPr>
        <p:pic>
          <p:nvPicPr>
            <p:cNvPr id="465" name="Rectangle 5" descr=""/>
            <p:cNvPicPr/>
            <p:nvPr/>
          </p:nvPicPr>
          <p:blipFill>
            <a:blip r:embed="rId2"/>
            <a:stretch/>
          </p:blipFill>
          <p:spPr>
            <a:xfrm>
              <a:off x="4809960" y="2170080"/>
              <a:ext cx="39373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876920" y="220968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GFR mutant NSCL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Rectangle 17"/>
          <p:cNvGrpSpPr/>
          <p:nvPr/>
        </p:nvGrpSpPr>
        <p:grpSpPr>
          <a:xfrm>
            <a:off x="768240" y="2846520"/>
            <a:ext cx="3943440" cy="1128600"/>
            <a:chOff x="768240" y="2846520"/>
            <a:chExt cx="3943440" cy="1128600"/>
          </a:xfrm>
        </p:grpSpPr>
        <p:pic>
          <p:nvPicPr>
            <p:cNvPr id="468" name="Rectangle 17" descr=""/>
            <p:cNvPicPr/>
            <p:nvPr/>
          </p:nvPicPr>
          <p:blipFill>
            <a:blip r:embed="rId3"/>
            <a:stretch/>
          </p:blipFill>
          <p:spPr>
            <a:xfrm>
              <a:off x="768240" y="2846520"/>
              <a:ext cx="39434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838080" y="2889360"/>
              <a:ext cx="3810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UX-Lung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ivotal 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ase IIb/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Rectangle 18"/>
          <p:cNvGrpSpPr/>
          <p:nvPr/>
        </p:nvGrpSpPr>
        <p:grpSpPr>
          <a:xfrm>
            <a:off x="768240" y="3992400"/>
            <a:ext cx="3943440" cy="835200"/>
            <a:chOff x="768240" y="3992400"/>
            <a:chExt cx="3943440" cy="835200"/>
          </a:xfrm>
        </p:grpSpPr>
        <p:pic>
          <p:nvPicPr>
            <p:cNvPr id="471" name="Rectangle 18" descr=""/>
            <p:cNvPicPr/>
            <p:nvPr/>
          </p:nvPicPr>
          <p:blipFill>
            <a:blip r:embed="rId4"/>
            <a:stretch/>
          </p:blipFill>
          <p:spPr>
            <a:xfrm>
              <a:off x="768240" y="3992400"/>
              <a:ext cx="39434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838080" y="4032360"/>
              <a:ext cx="381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UX-Lung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ase I/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Rectangle 19"/>
          <p:cNvGrpSpPr/>
          <p:nvPr/>
        </p:nvGrpSpPr>
        <p:grpSpPr>
          <a:xfrm>
            <a:off x="768240" y="4968720"/>
            <a:ext cx="3943440" cy="835200"/>
            <a:chOff x="768240" y="4968720"/>
            <a:chExt cx="3943440" cy="835200"/>
          </a:xfrm>
        </p:grpSpPr>
        <p:pic>
          <p:nvPicPr>
            <p:cNvPr id="474" name="Rectangle 19" descr=""/>
            <p:cNvPicPr/>
            <p:nvPr/>
          </p:nvPicPr>
          <p:blipFill>
            <a:blip r:embed="rId5"/>
            <a:stretch/>
          </p:blipFill>
          <p:spPr>
            <a:xfrm>
              <a:off x="768240" y="4968720"/>
              <a:ext cx="39434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838080" y="5006880"/>
              <a:ext cx="381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UX-Lung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ase 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Rectangle 20"/>
          <p:cNvGrpSpPr/>
          <p:nvPr/>
        </p:nvGrpSpPr>
        <p:grpSpPr>
          <a:xfrm>
            <a:off x="4883040" y="2852640"/>
            <a:ext cx="3943440" cy="828720"/>
            <a:chOff x="4883040" y="2852640"/>
            <a:chExt cx="3943440" cy="828720"/>
          </a:xfrm>
        </p:grpSpPr>
        <p:pic>
          <p:nvPicPr>
            <p:cNvPr id="477" name="Rectangle 20" descr=""/>
            <p:cNvPicPr/>
            <p:nvPr/>
          </p:nvPicPr>
          <p:blipFill>
            <a:blip r:embed="rId6"/>
            <a:stretch/>
          </p:blipFill>
          <p:spPr>
            <a:xfrm>
              <a:off x="4883040" y="2852640"/>
              <a:ext cx="39434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952880" y="2895480"/>
              <a:ext cx="38102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UX-Lung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ase 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Rectangle 21"/>
          <p:cNvGrpSpPr/>
          <p:nvPr/>
        </p:nvGrpSpPr>
        <p:grpSpPr>
          <a:xfrm>
            <a:off x="4883040" y="3693960"/>
            <a:ext cx="3943440" cy="1457640"/>
            <a:chOff x="4883040" y="3693960"/>
            <a:chExt cx="3943440" cy="1457640"/>
          </a:xfrm>
        </p:grpSpPr>
        <p:pic>
          <p:nvPicPr>
            <p:cNvPr id="480" name="Rectangle 21" descr=""/>
            <p:cNvPicPr/>
            <p:nvPr/>
          </p:nvPicPr>
          <p:blipFill>
            <a:blip r:embed="rId7"/>
            <a:stretch/>
          </p:blipFill>
          <p:spPr>
            <a:xfrm>
              <a:off x="4883040" y="3693960"/>
              <a:ext cx="394344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952880" y="3733920"/>
              <a:ext cx="381024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UX-Lung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ivotal 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ase 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crui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Rectangle 22"/>
          <p:cNvGrpSpPr/>
          <p:nvPr/>
        </p:nvGrpSpPr>
        <p:grpSpPr>
          <a:xfrm>
            <a:off x="4883040" y="5121360"/>
            <a:ext cx="3943440" cy="1146240"/>
            <a:chOff x="4883040" y="5121360"/>
            <a:chExt cx="3943440" cy="1146240"/>
          </a:xfrm>
        </p:grpSpPr>
        <p:pic>
          <p:nvPicPr>
            <p:cNvPr id="483" name="Rectangle 22" descr=""/>
            <p:cNvPicPr/>
            <p:nvPr/>
          </p:nvPicPr>
          <p:blipFill>
            <a:blip r:embed="rId8"/>
            <a:stretch/>
          </p:blipFill>
          <p:spPr>
            <a:xfrm>
              <a:off x="4883040" y="5121360"/>
              <a:ext cx="39434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952880" y="5159520"/>
              <a:ext cx="381024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UX-Lung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ase 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crui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5" name="Shape 4"/>
          <p:cNvCxnSpPr>
            <a:endCxn id="486" idx="0"/>
          </p:cNvCxnSpPr>
          <p:nvPr/>
        </p:nvCxnSpPr>
        <p:spPr>
          <a:xfrm>
            <a:off x="5364000" y="4257360"/>
            <a:ext cx="1369440" cy="324360"/>
          </a:xfrm>
          <a:prstGeom prst="bentConnector2">
            <a:avLst/>
          </a:prstGeom>
          <a:ln w="47520">
            <a:solidFill>
              <a:srgbClr val="000000"/>
            </a:solidFill>
            <a:miter/>
            <a:tailEnd len="sm" type="arrow" w="sm"/>
          </a:ln>
        </p:spPr>
      </p:cxnSp>
      <p:cxnSp>
        <p:nvCxnSpPr>
          <p:cNvPr id="487" name="Straight Arrow Connector 5"/>
          <p:cNvCxnSpPr>
            <a:stCxn id="488" idx="2"/>
          </p:cNvCxnSpPr>
          <p:nvPr/>
        </p:nvCxnSpPr>
        <p:spPr>
          <a:xfrm flipH="1">
            <a:off x="4858560" y="3284640"/>
            <a:ext cx="1080" cy="10087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sm" type="arrow" w="sm"/>
          </a:ln>
        </p:spPr>
      </p:cxnSp>
      <p:sp>
        <p:nvSpPr>
          <p:cNvPr id="488" name="Rectangle 6"/>
          <p:cNvSpPr/>
          <p:nvPr/>
        </p:nvSpPr>
        <p:spPr>
          <a:xfrm>
            <a:off x="1763640" y="1484280"/>
            <a:ext cx="6193080" cy="18003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tients wit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enocarcinoma of the 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ge IIIB/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gressed after 1 or 2 lines of chemotherapy (including 1 platinum-based regimen) and ≥12 weeks of treatment with erlotinib or gefitin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OG 0–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=56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348000" y="3500280"/>
            <a:ext cx="302436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1332000" y="4581360"/>
            <a:ext cx="331128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al afatinib* 50 mg once-daily plus best supportive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763640" y="5562720"/>
            <a:ext cx="6193080" cy="45864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4284720" y="4076640"/>
            <a:ext cx="1150920" cy="3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: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076720" y="4581360"/>
            <a:ext cx="331164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al placebo once-daily plu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t supportive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Shape 12"/>
          <p:cNvCxnSpPr>
            <a:stCxn id="492" idx="1"/>
            <a:endCxn id="490" idx="0"/>
          </p:cNvCxnSpPr>
          <p:nvPr/>
        </p:nvCxnSpPr>
        <p:spPr>
          <a:xfrm flipV="1" rot="10800000">
            <a:off x="2986920" y="4256640"/>
            <a:ext cx="1297800" cy="324360"/>
          </a:xfrm>
          <a:prstGeom prst="bentConnector2">
            <a:avLst/>
          </a:prstGeom>
          <a:ln w="47520">
            <a:solidFill>
              <a:srgbClr val="000000"/>
            </a:solidFill>
            <a:miter/>
            <a:tailEnd len="sm" type="arrow" w="sm"/>
          </a:ln>
        </p:spPr>
      </p:cxnSp>
      <p:sp>
        <p:nvSpPr>
          <p:cNvPr id="494" name="Rectangle 6"/>
          <p:cNvSpPr/>
          <p:nvPr/>
        </p:nvSpPr>
        <p:spPr>
          <a:xfrm>
            <a:off x="684360" y="380880"/>
            <a:ext cx="84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X-Lung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b/III trial of afatinib (BIBW 2992) vs BSC in EGFR TKI-refractory NSC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28440" y="6093000"/>
            <a:ext cx="9115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sentation by Dr Hir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ew subgroup analyses to be presented at the Chicago Thoracic Oncology Symposium (Dec 20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0" y="658188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*This is an investigational agent. Its efficacy and safety have not been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X-Lung 1 results: Significantly prolonged PFS but not 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6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ed to meet primary OS endpoint (HR 0.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ly improved PFS 4.4 vs 1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R increased (58 vs 19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symptom improv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4887000" y="6032520"/>
            <a:ext cx="42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er et al. ESMO 2010. Abstract ID: LBA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er et al. ASTRO meeting December,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761760" y="1752480"/>
            <a:ext cx="784836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To Practice could not obtain permission to reproduce this slide at the time of pub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tenance therapy for NSC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4295880" y="2171880"/>
            <a:ext cx="570960" cy="3193920"/>
            <a:chOff x="4295880" y="2171880"/>
            <a:chExt cx="570960" cy="3193920"/>
          </a:xfrm>
        </p:grpSpPr>
        <p:sp>
          <p:nvSpPr>
            <p:cNvPr id="503" name="Line 3"/>
            <p:cNvSpPr/>
            <p:nvPr/>
          </p:nvSpPr>
          <p:spPr>
            <a:xfrm>
              <a:off x="4310640" y="2171880"/>
              <a:ext cx="0" cy="12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4"/>
            <p:cNvSpPr/>
            <p:nvPr/>
          </p:nvSpPr>
          <p:spPr>
            <a:xfrm>
              <a:off x="4303800" y="4088160"/>
              <a:ext cx="0" cy="12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5"/>
            <p:cNvSpPr/>
            <p:nvPr/>
          </p:nvSpPr>
          <p:spPr>
            <a:xfrm>
              <a:off x="4295880" y="5365800"/>
              <a:ext cx="56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6"/>
            <p:cNvSpPr/>
            <p:nvPr/>
          </p:nvSpPr>
          <p:spPr>
            <a:xfrm>
              <a:off x="4302360" y="2179080"/>
              <a:ext cx="564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7"/>
          <p:cNvSpPr/>
          <p:nvPr/>
        </p:nvSpPr>
        <p:spPr>
          <a:xfrm>
            <a:off x="3816360" y="3305160"/>
            <a:ext cx="1725480" cy="870120"/>
          </a:xfrm>
          <a:prstGeom prst="rect">
            <a:avLst/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22860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542880" y="2863800"/>
            <a:ext cx="2884680" cy="161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IIIB/IV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0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rior cycles of gem, doc, or tax + cis or carb, with CR, PR, or 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4908600" y="1866960"/>
            <a:ext cx="394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metrexed 500 m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1,q21d)  +  BSC (N=4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5619600" y="3570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mary Endpoint = P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5005440" y="49309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bo (d1, q21d) + BSC (N=2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4"/>
          <p:cNvSpPr/>
          <p:nvPr/>
        </p:nvSpPr>
        <p:spPr>
          <a:xfrm>
            <a:off x="3843360" y="339264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se III trial of “switch” maintenance pemetrexed vs BSC for NSCLC: J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4949280" y="6519960"/>
            <a:ext cx="24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leanu et al, Lancet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FR-relat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therapy and the use of bevacizum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vant chemo and treatment of locally advanced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MEN: Outcome in non-squamous histolog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metrexed vs BSC for NSCL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4949280" y="6519960"/>
            <a:ext cx="24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leanu et al, Lancet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62120" y="2362320"/>
          <a:ext cx="7772400" cy="1879560"/>
        </p:xfrm>
        <a:graphic>
          <a:graphicData uri="http://schemas.openxmlformats.org/drawingml/2006/table">
            <a:tbl>
              <a:tblPr/>
              <a:tblGrid>
                <a:gridCol w="1447560"/>
                <a:gridCol w="1905120"/>
                <a:gridCol w="1600200"/>
                <a:gridCol w="1219320"/>
                <a:gridCol w="1600200"/>
              </a:tblGrid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m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 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 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 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pemetrexed provide benefit when given as “continuation” maintenance therap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67800" y="2514240"/>
            <a:ext cx="780588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[TITLE]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012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4"/>
          <p:cNvSpPr/>
          <p:nvPr/>
        </p:nvSpPr>
        <p:spPr>
          <a:xfrm>
            <a:off x="4104000" y="6248520"/>
            <a:ext cx="50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z-Ares et al, J Clin Oncol 29: 2011 (suppl; abstr CRA75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4104000" y="6248520"/>
            <a:ext cx="50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z-Ares et al, J Clin Oncol 29: 2011 (suppl; abstr CRA75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itle 1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OUNT: Investigator-Assessed PFS (from Mainten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1905120"/>
            <a:ext cx="6629400" cy="23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metrexed: median=4.1 mos (3.2-4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bo: median=2.8 mos (2.6-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-ran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0.00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5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djusted HR:0.62 (0.49-0.7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#1: Carbo/Pem/B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6 yo woman with 15 pack-year history presents with bilateral pulmonary lymph nodes and mediastinal adenopathy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thology from EBUS reveals adenocarcinoma. EGFR mutation testing showed wt EGF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e is initially treated with carboplatin, pemetrexed, an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vacizuma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x 6 cycles. She has a partial response, tolerates treatment well, and wants to be treated aggressively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maintenance therapy should be used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intenance therapy has been shown to prolong overall survival in randomized phase III testing? (Or is part of a regimen that has been shown to prolong overall survi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v mono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metre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v+p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v+erlotin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an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intenance therapy has been shown to prolong 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vacizumab for NSC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overall survival for PC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vs PC in non-squamous NSCLC (ECOG45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7"/>
          <p:cNvSpPr/>
          <p:nvPr/>
        </p:nvSpPr>
        <p:spPr>
          <a:xfrm>
            <a:off x="6098400" y="6276960"/>
            <a:ext cx="255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ler et al, NEJM, 2006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57200" y="2133720"/>
          <a:ext cx="8153280" cy="3047760"/>
        </p:xfrm>
        <a:graphic>
          <a:graphicData uri="http://schemas.openxmlformats.org/drawingml/2006/table">
            <a:tbl>
              <a:tblPr/>
              <a:tblGrid>
                <a:gridCol w="1630440"/>
                <a:gridCol w="1630440"/>
                <a:gridCol w="1631880"/>
                <a:gridCol w="1630440"/>
                <a:gridCol w="1630080"/>
              </a:tblGrid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 mo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 mo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65, 0.93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mo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9%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1%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de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s Bev maintenance provide benefit in first-line NSCL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COG4599, 60.1% completed 6 cycles of CPB and 48% received Bev maintenance. 44% completed 6 cycles of CP without P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3"/>
          <p:cNvSpPr/>
          <p:nvPr/>
        </p:nvSpPr>
        <p:spPr>
          <a:xfrm>
            <a:off x="2748240" y="6400800"/>
            <a:ext cx="572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ler et al, Proc World Lung meeting 2011, poster P3.216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2057400" y="3200400"/>
          <a:ext cx="4876920" cy="2719440"/>
        </p:xfrm>
        <a:graphic>
          <a:graphicData uri="http://schemas.openxmlformats.org/drawingml/2006/table">
            <a:tbl>
              <a:tblPr/>
              <a:tblGrid>
                <a:gridCol w="1781280"/>
                <a:gridCol w="1469880"/>
                <a:gridCol w="1625760"/>
              </a:tblGrid>
              <a:tr h="524880">
                <a:tc>
                  <a:txBody>
                    <a:bodyPr lIns="86040" rIns="86040" tIns="41760" bIns="4176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86040" rIns="86040" tIns="41760" bIns="4176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 ma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86040" rIns="86040" tIns="41760" bIns="4176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ma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720360">
                <a:tc>
                  <a:txBody>
                    <a:bodyPr lIns="86040" rIns="86040" tIns="41760" bIns="4176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86040" rIns="86040" tIns="41760" bIns="4176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040" rIns="86040" tIns="41760" bIns="4176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0360">
                <a:tc>
                  <a:txBody>
                    <a:bodyPr lIns="86040" rIns="86040" tIns="41760" bIns="4176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(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86040" rIns="86040" tIns="41760" bIns="4176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040" rIns="86040" tIns="41760" bIns="4176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86040" rIns="86040" tIns="41760" bIns="4176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from start of t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86040" rIns="86040" tIns="41760" bIns="4176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040" rIns="86040" tIns="41760" bIns="4176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040" marR="86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and efficacy of first-line bevacizumab-based therapy in advanced non-squamous non-small-cell lung cancer (SAiL): A phase IV stud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3 toxic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embolism: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N: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eding: 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hemorrhage: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died of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 manageable safety profile for first-line Bev in combination with various chemotherapy regime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5938200" y="6353280"/>
            <a:ext cx="31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Crinò et al; Lancet Oncol 2010; 11: 733–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and treatment of NSCLC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s-20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Text Box 3" descr=""/>
          <p:cNvPicPr/>
          <p:nvPr/>
        </p:nvPicPr>
        <p:blipFill>
          <a:blip r:embed="rId1"/>
          <a:stretch/>
        </p:blipFill>
        <p:spPr>
          <a:xfrm>
            <a:off x="3193920" y="1657440"/>
            <a:ext cx="1474920" cy="531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37"/>
          <p:cNvSpPr/>
          <p:nvPr/>
        </p:nvSpPr>
        <p:spPr>
          <a:xfrm>
            <a:off x="4724280" y="121932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7"/>
          <p:cNvSpPr/>
          <p:nvPr/>
        </p:nvSpPr>
        <p:spPr>
          <a:xfrm>
            <a:off x="4876920" y="137160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7"/>
          <p:cNvSpPr/>
          <p:nvPr/>
        </p:nvSpPr>
        <p:spPr>
          <a:xfrm>
            <a:off x="5029200" y="152388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7"/>
          <p:cNvSpPr/>
          <p:nvPr/>
        </p:nvSpPr>
        <p:spPr>
          <a:xfrm>
            <a:off x="5181480" y="167652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37"/>
          <p:cNvSpPr/>
          <p:nvPr/>
        </p:nvSpPr>
        <p:spPr>
          <a:xfrm>
            <a:off x="4800600" y="16002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7"/>
          <p:cNvSpPr/>
          <p:nvPr/>
        </p:nvSpPr>
        <p:spPr>
          <a:xfrm>
            <a:off x="5334120" y="182880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7"/>
          <p:cNvSpPr/>
          <p:nvPr/>
        </p:nvSpPr>
        <p:spPr>
          <a:xfrm>
            <a:off x="5334120" y="152388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7"/>
          <p:cNvSpPr/>
          <p:nvPr/>
        </p:nvSpPr>
        <p:spPr>
          <a:xfrm>
            <a:off x="5181480" y="13716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7"/>
          <p:cNvSpPr/>
          <p:nvPr/>
        </p:nvSpPr>
        <p:spPr>
          <a:xfrm>
            <a:off x="5638680" y="18288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7"/>
          <p:cNvSpPr/>
          <p:nvPr/>
        </p:nvSpPr>
        <p:spPr>
          <a:xfrm>
            <a:off x="5551560" y="144792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7"/>
          <p:cNvSpPr/>
          <p:nvPr/>
        </p:nvSpPr>
        <p:spPr>
          <a:xfrm>
            <a:off x="5486400" y="11430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7"/>
          <p:cNvSpPr/>
          <p:nvPr/>
        </p:nvSpPr>
        <p:spPr>
          <a:xfrm>
            <a:off x="5856120" y="18288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5029200" y="11430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7"/>
          <p:cNvSpPr/>
          <p:nvPr/>
        </p:nvSpPr>
        <p:spPr>
          <a:xfrm>
            <a:off x="5791320" y="140508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7"/>
          <p:cNvSpPr/>
          <p:nvPr/>
        </p:nvSpPr>
        <p:spPr>
          <a:xfrm>
            <a:off x="6008760" y="144792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25"/>
          <p:cNvGrpSpPr/>
          <p:nvPr/>
        </p:nvGrpSpPr>
        <p:grpSpPr>
          <a:xfrm>
            <a:off x="1752480" y="2209680"/>
            <a:ext cx="6400800" cy="2361960"/>
            <a:chOff x="1752480" y="2209680"/>
            <a:chExt cx="6400800" cy="2361960"/>
          </a:xfrm>
        </p:grpSpPr>
        <p:grpSp>
          <p:nvGrpSpPr>
            <p:cNvPr id="232" name="Group 77"/>
            <p:cNvGrpSpPr/>
            <p:nvPr/>
          </p:nvGrpSpPr>
          <p:grpSpPr>
            <a:xfrm>
              <a:off x="1752480" y="2282400"/>
              <a:ext cx="3520800" cy="2289240"/>
              <a:chOff x="1752480" y="2282400"/>
              <a:chExt cx="3520800" cy="2289240"/>
            </a:xfrm>
          </p:grpSpPr>
          <p:sp>
            <p:nvSpPr>
              <p:cNvPr id="233" name="Text Box 4"/>
              <p:cNvSpPr/>
              <p:nvPr/>
            </p:nvSpPr>
            <p:spPr>
              <a:xfrm>
                <a:off x="1752480" y="2892240"/>
                <a:ext cx="1464480" cy="398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quamou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5"/>
              <p:cNvSpPr/>
              <p:nvPr/>
            </p:nvSpPr>
            <p:spPr>
              <a:xfrm>
                <a:off x="3810240" y="2892240"/>
                <a:ext cx="1463040" cy="398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0d07"/>
                    </a:solidFill>
                    <a:latin typeface="Arial"/>
                    <a:ea typeface="Arial"/>
                  </a:rPr>
                  <a:t>aden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2"/>
              <p:cNvSpPr/>
              <p:nvPr/>
            </p:nvSpPr>
            <p:spPr>
              <a:xfrm flipH="1">
                <a:off x="2912040" y="228240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3"/>
              <p:cNvSpPr/>
              <p:nvPr/>
            </p:nvSpPr>
            <p:spPr>
              <a:xfrm>
                <a:off x="3826080" y="2282400"/>
                <a:ext cx="3045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2"/>
              <p:cNvSpPr/>
              <p:nvPr/>
            </p:nvSpPr>
            <p:spPr>
              <a:xfrm>
                <a:off x="4576680" y="3795480"/>
                <a:ext cx="315720" cy="50004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3"/>
              <p:cNvSpPr/>
              <p:nvPr/>
            </p:nvSpPr>
            <p:spPr>
              <a:xfrm>
                <a:off x="4142160" y="3706560"/>
                <a:ext cx="315360" cy="501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4"/>
              <p:cNvSpPr/>
              <p:nvPr/>
            </p:nvSpPr>
            <p:spPr>
              <a:xfrm>
                <a:off x="4394160" y="3654000"/>
                <a:ext cx="315720" cy="50004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5"/>
              <p:cNvSpPr/>
              <p:nvPr/>
            </p:nvSpPr>
            <p:spPr>
              <a:xfrm>
                <a:off x="4438800" y="3903480"/>
                <a:ext cx="313920" cy="50004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6"/>
              <p:cNvSpPr/>
              <p:nvPr/>
            </p:nvSpPr>
            <p:spPr>
              <a:xfrm>
                <a:off x="4510080" y="4066920"/>
                <a:ext cx="315720" cy="501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7"/>
              <p:cNvSpPr/>
              <p:nvPr/>
            </p:nvSpPr>
            <p:spPr>
              <a:xfrm>
                <a:off x="4131000" y="3936600"/>
                <a:ext cx="315720" cy="50184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8"/>
              <p:cNvSpPr/>
              <p:nvPr/>
            </p:nvSpPr>
            <p:spPr>
              <a:xfrm>
                <a:off x="4218480" y="4070160"/>
                <a:ext cx="315360" cy="501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9"/>
              <p:cNvSpPr/>
              <p:nvPr/>
            </p:nvSpPr>
            <p:spPr>
              <a:xfrm>
                <a:off x="4740120" y="3730320"/>
                <a:ext cx="315720" cy="501480"/>
              </a:xfrm>
              <a:prstGeom prst="pie">
                <a:avLst/>
              </a:prstGeom>
              <a:solidFill>
                <a:srgbClr val="ff00ff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70"/>
              <p:cNvSpPr/>
              <p:nvPr/>
            </p:nvSpPr>
            <p:spPr>
              <a:xfrm>
                <a:off x="2366280" y="3742920"/>
                <a:ext cx="317160" cy="500040"/>
              </a:xfrm>
              <a:prstGeom prst="pie">
                <a:avLst/>
              </a:prstGeom>
              <a:solidFill>
                <a:srgbClr val="ff9900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71"/>
              <p:cNvSpPr/>
              <p:nvPr/>
            </p:nvSpPr>
            <p:spPr>
              <a:xfrm>
                <a:off x="1931400" y="3654000"/>
                <a:ext cx="315720" cy="501840"/>
              </a:xfrm>
              <a:prstGeom prst="pie">
                <a:avLst/>
              </a:prstGeom>
              <a:solidFill>
                <a:srgbClr val="ff9900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72"/>
              <p:cNvSpPr/>
              <p:nvPr/>
            </p:nvSpPr>
            <p:spPr>
              <a:xfrm>
                <a:off x="2228400" y="3850920"/>
                <a:ext cx="315360" cy="500040"/>
              </a:xfrm>
              <a:prstGeom prst="pie">
                <a:avLst/>
              </a:prstGeom>
              <a:solidFill>
                <a:srgbClr val="ff9900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73"/>
              <p:cNvSpPr/>
              <p:nvPr/>
            </p:nvSpPr>
            <p:spPr>
              <a:xfrm>
                <a:off x="1920240" y="3884400"/>
                <a:ext cx="315720" cy="501480"/>
              </a:xfrm>
              <a:prstGeom prst="pie">
                <a:avLst/>
              </a:prstGeom>
              <a:solidFill>
                <a:srgbClr val="ff9900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34"/>
            <p:cNvSpPr/>
            <p:nvPr/>
          </p:nvSpPr>
          <p:spPr>
            <a:xfrm>
              <a:off x="5562360" y="2895480"/>
              <a:ext cx="2590920" cy="703800"/>
            </a:xfrm>
            <a:prstGeom prst="rect">
              <a:avLst/>
            </a:prstGeom>
            <a:solidFill>
              <a:srgbClr val="848484"/>
            </a:solidFill>
            <a:ln w="9360">
              <a:solidFill>
                <a:srgbClr val="080d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d07"/>
                  </a:solidFill>
                  <a:latin typeface="Arial"/>
                  <a:ea typeface="Arial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d07"/>
                  </a:solidFill>
                  <a:latin typeface="Arial"/>
                  <a:ea typeface="Arial"/>
                </a:rPr>
                <a:t>(Large cell, AC, et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5"/>
            <p:cNvSpPr/>
            <p:nvPr/>
          </p:nvSpPr>
          <p:spPr>
            <a:xfrm>
              <a:off x="6095880" y="3699000"/>
              <a:ext cx="315720" cy="500040"/>
            </a:xfrm>
            <a:prstGeom prst="pie">
              <a:avLst/>
            </a:prstGeom>
            <a:solidFill>
              <a:srgbClr val="848484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6"/>
            <p:cNvSpPr/>
            <p:nvPr/>
          </p:nvSpPr>
          <p:spPr>
            <a:xfrm>
              <a:off x="6324480" y="3651120"/>
              <a:ext cx="315720" cy="500040"/>
            </a:xfrm>
            <a:prstGeom prst="pie">
              <a:avLst/>
            </a:prstGeom>
            <a:solidFill>
              <a:srgbClr val="848484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7"/>
            <p:cNvSpPr/>
            <p:nvPr/>
          </p:nvSpPr>
          <p:spPr>
            <a:xfrm>
              <a:off x="6477120" y="3803760"/>
              <a:ext cx="315720" cy="500040"/>
            </a:xfrm>
            <a:prstGeom prst="pie">
              <a:avLst/>
            </a:prstGeom>
            <a:solidFill>
              <a:srgbClr val="848484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8"/>
            <p:cNvSpPr/>
            <p:nvPr/>
          </p:nvSpPr>
          <p:spPr>
            <a:xfrm>
              <a:off x="6324480" y="3956040"/>
              <a:ext cx="315720" cy="500040"/>
            </a:xfrm>
            <a:prstGeom prst="pie">
              <a:avLst/>
            </a:prstGeom>
            <a:solidFill>
              <a:srgbClr val="848484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9"/>
            <p:cNvSpPr/>
            <p:nvPr/>
          </p:nvSpPr>
          <p:spPr>
            <a:xfrm>
              <a:off x="6019560" y="3956040"/>
              <a:ext cx="315720" cy="500040"/>
            </a:xfrm>
            <a:prstGeom prst="pie">
              <a:avLst/>
            </a:prstGeom>
            <a:solidFill>
              <a:srgbClr val="848484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3"/>
            <p:cNvSpPr/>
            <p:nvPr/>
          </p:nvSpPr>
          <p:spPr>
            <a:xfrm>
              <a:off x="4724280" y="2209680"/>
              <a:ext cx="1371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121"/>
          <p:cNvSpPr/>
          <p:nvPr/>
        </p:nvSpPr>
        <p:spPr>
          <a:xfrm>
            <a:off x="3429000" y="5029200"/>
            <a:ext cx="2286000" cy="398880"/>
          </a:xfrm>
          <a:prstGeom prst="rect">
            <a:avLst/>
          </a:prstGeom>
          <a:solidFill>
            <a:srgbClr val="e3ded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inum dou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a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paclitaxel for NSC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l results of a randomized, phase III tri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aclitaxel + carboplatin vs paclitaxel and carboplatin 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ine therapy in NSCL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28600" y="164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noparticle albumin-bound paclita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ac arm: Higher ORR (33 vs 25%, IR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m PFS: No significant differences between the two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ac is effective and safe as first-line therapy for advanced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2895480" y="60958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nski MA et al. Proc ASCO 2011;Abstract 755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juvant 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067680" cy="63421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4"/>
          <p:cNvSpPr/>
          <p:nvPr/>
        </p:nvSpPr>
        <p:spPr>
          <a:xfrm>
            <a:off x="4867200" y="6477120"/>
            <a:ext cx="41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uter, J Clin Oncol 29: 2011 (suppl; abstr 700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rcRect l="0" t="0" r="0" b="82341"/>
          <a:stretch/>
        </p:blipFill>
        <p:spPr>
          <a:xfrm>
            <a:off x="0" y="7920"/>
            <a:ext cx="9144000" cy="12114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3"/>
          <p:cNvSpPr/>
          <p:nvPr/>
        </p:nvSpPr>
        <p:spPr>
          <a:xfrm>
            <a:off x="4867200" y="6324480"/>
            <a:ext cx="41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uter, J Clin Oncol 29: 2011 (suppl; abstr 700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95280" y="2057400"/>
            <a:ext cx="6553440" cy="271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T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from surgery to withdrawal du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ion/relapse/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return to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usal of treatment/withdrawal of con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5181480"/>
            <a:ext cx="70102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928"/>
                </a:solidFill>
                <a:latin typeface="Arial"/>
              </a:rPr>
              <a:t>Time to withdrawal from therapy differed significantly between arms favoring CPx (p&lt;0.0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rcRect l="2654" t="0" r="0" b="0"/>
          <a:stretch/>
        </p:blipFill>
        <p:spPr>
          <a:xfrm>
            <a:off x="457200" y="2666880"/>
            <a:ext cx="8381880" cy="33829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 of patients wi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L4-ALK fusions with crizotin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228600" y="618804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b0b0b"/>
                </a:solidFill>
                <a:latin typeface="Arial"/>
              </a:rPr>
              <a:t>Kwak EL et al. Anaplastic lymphoma kinase inhibition in non-small-cell lung cancer. </a:t>
            </a:r>
            <a:r>
              <a:rPr b="0" i="1" lang="en-US" sz="1400" spc="-1" strike="noStrike">
                <a:solidFill>
                  <a:srgbClr val="0b0b0b"/>
                </a:solidFill>
                <a:latin typeface="Arial"/>
              </a:rPr>
              <a:t>N Engl J Med</a:t>
            </a:r>
            <a:r>
              <a:rPr b="0" lang="en-US" sz="1400" spc="-1" strike="noStrike">
                <a:solidFill>
                  <a:srgbClr val="0b0b0b"/>
                </a:solidFill>
                <a:latin typeface="Arial"/>
              </a:rPr>
              <a:t> 2010;363(18):1693-703. Copyright © 2010 Massachusetts Medical Society. All rights reserv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528480" y="1676520"/>
            <a:ext cx="66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82 pts with ALK-positive disease treated with 250mg b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RR 57%; 27% had stable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6m PFS 72%; median PFS not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Year in Review</a:t>
            </a:r>
            <a:br>
              <a:rPr sz="2400"/>
            </a:br>
            <a:br>
              <a:rPr sz="8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 Daylong Multitumor CME Symposium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Focused on Key Clinical Presentation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nd Papers in Oncology: 2010-2011</a:t>
            </a:r>
            <a:br>
              <a:rPr sz="26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Saturday, October 15, 2011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8:30 AM – 3:30 PM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Longboat Key Club &amp; Res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3963240" y="472932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354680" y="511956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yce O’Shaughnessy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Heymach, MD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K Oh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ig Moskowitz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860640" y="4038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3371760" y="43434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4649400" y="511956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nneth C Anderson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leen M O’Reilly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R Spriggs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FR structure and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FR activating mutations identifi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aez et al, Science, 2003; Lynch et al, NEJM,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FR TKIs erlotinib, gefitini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~70% in mut+, &lt;5% in mu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known cause of acquired resistance in T790M secondary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448160" y="6324480"/>
            <a:ext cx="413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Herbst, Heymach and Lippman, NEJM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ASS tri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2384280" y="2230560"/>
            <a:ext cx="3473640" cy="3211200"/>
            <a:chOff x="2384280" y="2230560"/>
            <a:chExt cx="3473640" cy="3211200"/>
          </a:xfrm>
        </p:grpSpPr>
        <p:sp>
          <p:nvSpPr>
            <p:cNvPr id="262" name="Line 4"/>
            <p:cNvSpPr/>
            <p:nvPr/>
          </p:nvSpPr>
          <p:spPr>
            <a:xfrm>
              <a:off x="4251240" y="477684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5"/>
            <p:cNvSpPr/>
            <p:nvPr/>
          </p:nvSpPr>
          <p:spPr>
            <a:xfrm>
              <a:off x="4251240" y="283788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6"/>
            <p:cNvSpPr/>
            <p:nvPr/>
          </p:nvSpPr>
          <p:spPr>
            <a:xfrm>
              <a:off x="3259080" y="4047480"/>
              <a:ext cx="2051280" cy="1394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>
              <a:off x="3263760" y="2230560"/>
              <a:ext cx="2041560" cy="12164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8"/>
            <p:cNvSpPr/>
            <p:nvPr/>
          </p:nvSpPr>
          <p:spPr>
            <a:xfrm>
              <a:off x="3268800" y="2310480"/>
              <a:ext cx="2030400" cy="10580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Gefitini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50 mg dai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 flipV="1">
              <a:off x="2384280" y="2831040"/>
              <a:ext cx="863640" cy="68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>
              <a:off x="2397240" y="4133880"/>
              <a:ext cx="850680" cy="661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1"/>
            <p:cNvSpPr/>
            <p:nvPr/>
          </p:nvSpPr>
          <p:spPr>
            <a:xfrm>
              <a:off x="3159000" y="4386600"/>
              <a:ext cx="2249640" cy="737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boplat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AUC 5 or 6) / paclitaxe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00 mg / 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 weekly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3146400" y="3665880"/>
              <a:ext cx="22939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79440" indent="-379440" algn="ctr">
                <a:lnSpc>
                  <a:spcPct val="80000"/>
                </a:lnSpc>
                <a:spcBef>
                  <a:spcPts val="4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1:1 randomis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13"/>
          <p:cNvSpPr/>
          <p:nvPr/>
        </p:nvSpPr>
        <p:spPr>
          <a:xfrm>
            <a:off x="5867280" y="1576440"/>
            <a:ext cx="2990880" cy="4656240"/>
          </a:xfrm>
          <a:custGeom>
            <a:avLst/>
            <a:gdLst>
              <a:gd name="textAreaLeft" fmla="*/ 145800 w 2990880"/>
              <a:gd name="textAreaRight" fmla="*/ 2845080 w 2990880"/>
              <a:gd name="textAreaTop" fmla="*/ 145800 h 4656240"/>
              <a:gd name="textAreaBottom" fmla="*/ 4510440 h 4656240"/>
            </a:gdLst>
            <a:ahLst/>
            <a:rect l="textAreaLeft" t="textAreaTop" r="textAreaRight" b="textAreaBottom"/>
            <a:pathLst>
              <a:path w="21600" h="33626">
                <a:moveTo>
                  <a:pt x="3600" y="0"/>
                </a:moveTo>
                <a:arcTo wR="3600" hR="3600" stAng="16200000" swAng="-5400000"/>
                <a:lnTo>
                  <a:pt x="0" y="30026"/>
                </a:lnTo>
                <a:arcTo wR="3600" hR="3600" stAng="10800000" swAng="-5400000"/>
                <a:lnTo>
                  <a:pt x="18000" y="33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5"/>
          <p:cNvSpPr/>
          <p:nvPr/>
        </p:nvSpPr>
        <p:spPr>
          <a:xfrm>
            <a:off x="390600" y="1957320"/>
            <a:ext cx="2354040" cy="3506760"/>
          </a:xfrm>
          <a:custGeom>
            <a:avLst/>
            <a:gdLst>
              <a:gd name="textAreaLeft" fmla="*/ 114840 w 2354040"/>
              <a:gd name="textAreaRight" fmla="*/ 2239200 w 2354040"/>
              <a:gd name="textAreaTop" fmla="*/ 114840 h 3506760"/>
              <a:gd name="textAreaBottom" fmla="*/ 3391920 h 3506760"/>
            </a:gdLst>
            <a:ahLst/>
            <a:rect l="textAreaLeft" t="textAreaTop" r="textAreaRight" b="textAreaBottom"/>
            <a:pathLst>
              <a:path w="21600" h="32175">
                <a:moveTo>
                  <a:pt x="3600" y="0"/>
                </a:moveTo>
                <a:arcTo wR="3600" hR="3600" stAng="16200000" swAng="-5400000"/>
                <a:lnTo>
                  <a:pt x="0" y="28575"/>
                </a:lnTo>
                <a:arcTo wR="3600" hR="3600" stAng="10800000" swAng="-5400000"/>
                <a:lnTo>
                  <a:pt x="18000" y="32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380880" y="5943600"/>
            <a:ext cx="548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* Never smokers, &lt;100 cigarettes in lifetime; light ex-smokers, stopped </a:t>
            </a:r>
            <a:r>
              <a:rPr b="1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5 years ago and smoked </a:t>
            </a:r>
            <a:r>
              <a:rPr b="1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0 pack years;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#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mited to a maximum of 6 cycles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arboplatin / paclitaxel was offered to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fitinib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patients at progression PS, performance status; EGFR, epidermal growth factor recep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07960" y="2041560"/>
            <a:ext cx="2241720" cy="33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emonaï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ge ≥18 yea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enocarcinoma his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ver or light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-smokers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fe expectanc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≥12 wee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S 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able stage IIIB / IV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5954760" y="2151000"/>
            <a:ext cx="29113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ession-free survival   (non-inferior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 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all survi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 of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-related sympto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fety and tol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ma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m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-gene-copy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protein express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6014880" y="1781280"/>
            <a:ext cx="26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6053040" y="6477120"/>
            <a:ext cx="3090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ok et al 2009, Fukuoka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ASS study: PFS by EGFR mutational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707520" y="6324480"/>
            <a:ext cx="217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k et al, NEJM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2057400"/>
          <a:ext cx="8572320" cy="342900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  <a:gridCol w="1714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ion posi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ion neg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platin/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litax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platin/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litaxe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s, n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(73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86.0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(96.7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(82.4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 (95% CI, 0.36-0.6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 (95% CI, 2.05-3.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domized Phase III studies established improved PFS and RR for EGFR-TKIs vs chemo in patients with EGFR 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68360" y="1631880"/>
          <a:ext cx="8496360" cy="4375080"/>
        </p:xfrm>
        <a:graphic>
          <a:graphicData uri="http://schemas.openxmlformats.org/drawingml/2006/table">
            <a:tbl>
              <a:tblPr/>
              <a:tblGrid>
                <a:gridCol w="1728720"/>
                <a:gridCol w="1655640"/>
                <a:gridCol w="792360"/>
                <a:gridCol w="1511280"/>
                <a:gridCol w="1368360"/>
                <a:gridCol w="1440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FR </a:t>
                      </a:r>
                      <a:br>
                        <a:rPr sz="1200"/>
                      </a:b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+ (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 (TKI vs chem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months (HR, 95%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R, 95%C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SS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fitinib vs Carb/P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Asian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non-smoker, adenocarcino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.2% vs 4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 vs 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 (0.36, 0.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 vs 21.9 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 (0.76, 1.33)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SIGNAL</a:t>
                      </a:r>
                      <a:r>
                        <a:rPr b="0" lang="en-GB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fitinib vs Gem/Ci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n, non-smoker, adenocarcino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6% vs 3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 vs 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 (0.31, 1.2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 vs 26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 (0.35, 1.9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JTOG3405 (Gefitinib vs Cis/Do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ese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FR m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1% vs 32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 vs 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 (0.34, 0.7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vailable 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JGSG002 (Gefitinib vs Carb/P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ese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FR m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7% vs 3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 vs 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 (0.22, 0.4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5 vs 2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lotinib vs Gem/Car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FR m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3% vs 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 vs 4.6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 (0.10, 0.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vailable 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TA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rlotinib vs platinum double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FR m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vailable 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vailable 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vailable 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X Lung 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fatinib* vs Cis/P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, Adenocarcinoma, EGFR mu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vailable 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vailable 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vailable 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83" name="Rectangle 5"/>
          <p:cNvSpPr/>
          <p:nvPr/>
        </p:nvSpPr>
        <p:spPr>
          <a:xfrm>
            <a:off x="457200" y="6054840"/>
            <a:ext cx="7272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is is an investigational agent. Its efficacy and safety have not been established. 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tients selected according to clinical background, all other trials selected patients according to EGFR mutation status. Mok T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i="1" lang="en-IE" sz="11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 2009;361:947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–9</a:t>
            </a:r>
            <a:r>
              <a:rPr b="0" lang="en-IE" sz="1100" spc="-1" strike="noStrike">
                <a:solidFill>
                  <a:srgbClr val="000000"/>
                </a:solidFill>
                <a:latin typeface="Arial"/>
              </a:rPr>
              <a:t>57;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e JS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WCLC 2009; Abs PRS.4; Mitsudomi T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t al. Lancet Oncolog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2010;12:121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–1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; Maemondo M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t al. N Engl J M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2010;362:2380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–238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4408920" y="6324480"/>
            <a:ext cx="446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ell et al, J Clin Oncol 29: 2011 (suppl; abstr 750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0" t="2440" r="0" b="0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33520" y="1184400"/>
            <a:ext cx="2895480" cy="164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emonaï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ge IIIB/IV NSC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GFR exon 19 deletion or exon 21 L858R mu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COG PS 0-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n=17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066680"/>
            <a:ext cx="243864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rlotinib 150mg/da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2332080"/>
            <a:ext cx="259056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tinum-based doublet chemotherapy q3wks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 4 cycles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4408920" y="6397560"/>
            <a:ext cx="44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ell et al, J Clin Oncol 29: 2011 (suppl; abstr 7503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itle 1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FS in ITT population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updated analysis 26 Jan 201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2000160"/>
            <a:ext cx="6629400" cy="289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f4b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ession-free survival (ITT population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lotinib, 9.7 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otherapy, 5.2 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R = 0.37 (0.25-0.5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-rank p &lt; 0.0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22:15:16Z</dcterms:created>
  <dc:creator>Heymach</dc:creator>
  <dc:description/>
  <dc:language>en-US</dc:language>
  <cp:lastModifiedBy>Aura Herrmann</cp:lastModifiedBy>
  <cp:lastPrinted>2012-02-03T23:05:02Z</cp:lastPrinted>
  <dcterms:modified xsi:type="dcterms:W3CDTF">2012-02-17T18:07:37Z</dcterms:modified>
  <cp:revision>441</cp:revision>
  <dc:subject/>
  <dc:title>Title</dc:title>
</cp:coreProperties>
</file>