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dt" idx="2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E6EB-6DC3-44AC-85A3-6CCD47B029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ftr" idx="2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 type="sldNum" idx="2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6BD9-F14F-45E3-95CF-C07CCFFC0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F941-77E0-405A-AD7D-EE2AACE2C4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1818-E84D-4F11-AFBA-AD9B9B6A76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4F0D-462A-4B4B-8F45-A409E5F79C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993600" y="641520"/>
            <a:ext cx="4218120" cy="316368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D96C-FFC6-49EE-9B02-120BA7227F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C342-5DEF-4D5F-A9C3-D4D14DA354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43FF-FAF4-41F2-83F5-C8FF025747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8F19-3C26-4180-9F5D-84E6C09F82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F143D-ECF9-4C38-A509-D54898C2B7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3F45-20A1-4D13-9DC6-7D7663B4B8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8603-A6AD-41ED-BE7A-501F48C6E1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E306-9151-435C-B2AC-94A4394321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2CA7-9686-4F36-BBE1-1C134B198C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5D13-3C23-4282-914F-C476CBA43E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EE52-CCB2-4DA7-9E1E-0A673B5D0D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26AB-7C52-4326-852C-73EA61D108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C0E3-4E5C-410B-B67D-3B4F43DC8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52F0-6D49-4109-A05F-C4FEA881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AA5AEB-52EC-4C14-8E12-9A8CE842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A68DAF-6BC9-452F-9D08-DFE9B284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8D99B9-149F-4560-9B1E-47B0F022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7001D0-AE5B-443C-AB33-E8C25785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7EAA0B-2C8D-4C8B-A2E9-5C7A236F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52C7E0-A2D3-40CA-988B-9FAE536D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1E2E4F-25DE-4775-8BD7-66414D0A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6FEE8E-1081-4885-B82F-FECCB9ECE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BE115E-9802-44F1-93F2-C7E76DB29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ED91-CA58-450E-8B49-F93EA0323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02E6-172A-4CB7-BC32-F45A36C68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F940-BD4D-4195-83BA-6BA14EA93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CA61E-C274-4FBA-A5E6-DA44B25C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210A-B868-4A2D-B33B-A3FEA8CC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B7266-F7E0-41DF-B0DB-EDE6ECC1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3C0E-0874-40E6-9EEC-3A8BC4E1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01ABD-55EE-452D-A973-261F81A5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AA8D-ECBC-4A82-BA3A-2043DFD5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43AA-69C2-4C49-A8C5-173EBCB1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C2C1-ED5B-4E4C-A6D1-B4F72D64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A61B-39D4-4C49-AF86-C49DFB1F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5A09-4508-49D4-AD30-C03D0FC7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5DC7-190E-499D-AE73-31A93EEB4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9B45-42C2-40B2-9696-D8FD260B8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7D2E5-1020-4E72-B570-CCBFBB35D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DA8CF-BCFE-4E8E-8E54-E2775133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E1CCE-2F5F-4AFA-965E-A46269902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918A5-FF4E-49BE-B205-7B97DBB4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0B0E9-A27D-4AEF-B834-563D27D1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147B-99A0-4439-835F-13E0AEF4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89E09-55CD-442C-BFB8-33455A604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F1653-28A8-4BBD-9EBE-21A0A3D0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D3EDC-3F5D-41BD-8B09-8E4E4076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D0051-7892-4F9E-BA9B-5A0A6CDB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AF3B2-35B1-401B-A9D5-787D10BA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B9EF3-8C9D-44D6-91DF-7B7444E09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6E3AA-48C9-4A55-9ACF-A0BD6A5EC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C0B3B-8A3D-484E-918A-79D86E4B9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10928-F5E2-4BB8-ADE2-1D956647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C4D86-16B3-4281-B539-9F5B5FC2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8F31-61AC-4DD9-AEEB-FD2B2413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75748-851C-41B1-A0E1-8BA4A0AB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9C129-F504-4A8D-B10E-B800196A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A2C1B-2AB6-4245-8438-B9915E10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7ABBA-DE37-482C-97C0-28EBA4F4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55A74-D9D7-43C9-93D2-B728543F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C0DB8-8D49-466F-941D-DB3538F5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CA91F-A62D-4607-87FD-083F1906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72BDF-D4B3-4953-8C40-B13E245D1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4EBFC-EC58-4C16-9867-341FDFBED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5031A-EB89-497E-9E7D-6DF4BDEB3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748A-83B7-407A-9E34-3B96E46E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9BA10-2330-47BC-9CAE-230B421D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1AC26-CB16-4869-B261-DB1B7105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BD7B6-320F-4CB0-84DF-FFF70146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1DEBF-A967-4794-88BD-06E3C9E0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04BD0-CD22-45DE-AC89-4F33907B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88DA0-C932-4A4A-8EA0-FE40406A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2BEAB-799B-4D45-AF5C-62792EBC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0496F-8E1A-4FD8-9ECC-BF96EF43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16897-543F-43D7-A5FE-CD36DFD5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A8E2F-561F-49D2-969F-3884F1E69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F3F5-E03C-462C-A669-A073E1E0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61715-75BE-4C49-9992-8193FBC14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1F95A-5E99-4A65-B8B6-0BE1A6EEC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BC440-8219-4F04-996C-A74E7B4C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E0B31-BFD0-406A-A440-44A3E8B5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B68D8-18E1-4F88-8C6F-ECA05464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A8A30-5147-4140-AAC5-F6DE4E45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D6460-6AE3-454D-B5D1-AB2FCAB3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409B7-944C-4DC3-9C64-F36F49B2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225EA-AB1A-4751-AFFA-40890E0C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A9C21-06DD-4A05-B976-36079B6D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50AB-61AB-4F43-BB10-6181C3C3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C56A2-523A-4672-80BD-FBDA5370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FABDE-CE4C-4E7C-8842-81017FB86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32C04-091F-4075-ABAB-3274888A5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8566-BF1D-494C-98C2-DA75A7E4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9F444A-CAD9-4D93-B510-828465DE4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8E3B58-C16C-4605-9C6B-B9AF64E4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EB6DDB-FBE8-4E4F-A359-AA577BC3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4B52DD-D33D-4ED0-A3FE-D5A62281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2DDAE8-A16A-4439-A25E-975AE762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551E-9389-4F5B-AF68-9D636D2A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64786E-4C6D-40C0-AFC5-EC93326C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38049A-9657-40FA-A468-E1EC3EE0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54379E-429B-4D07-915A-81317BC7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74695F-FC2B-49D4-8752-14AE51A1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6169BA-BAB2-4415-8C85-8ECF7E33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BF1749-B8C5-4DE7-9C0B-353214A23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10A44A-BAF2-460C-9913-D70B6744B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61833B-5B1C-41AB-9AEB-255C03E61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3A06DE-2FC1-43FE-93E9-E6E81C97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4BFC54-035E-4945-8153-0B31E222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F12F-A16C-4054-A3F1-8CBA2D53D5A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1AFB-3F6C-43A8-92FF-FE78E6B870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6826-D729-4741-8E86-BF1A2BA05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D0E4-D71C-4674-81B1-68A90C482D4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9ED3-3501-451B-8845-76EEF571B6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1037-E2F9-4B4E-9319-12636ACB7AC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E268-D716-4B4B-BFB8-FCA1B7A49C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C67D-5963-4712-93C6-BE9EF318DED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1FCC-7453-4885-8B0B-F5AFC8985E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B297-08A0-456C-87E9-50EF52833D0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7172-9316-44BE-A884-17BF4B1A0A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F6DA-6F8A-4F41-A27A-D053ED87C5F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6D85-D915-4AA4-AA6B-561C533A3E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481B-CB53-450E-88B3-A6308EBB382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3AE4-958C-4C83-B935-1A675B0602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search To Practic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astrointestinal Oncology, GIS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010-201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ileen M. O’Reilly, M.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verolimus for Advanced Pancreatic Neuroendocrine Tum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Yao, JC, et al. RAD001 in Advanced Neuroendocrine Tumors, Third Trial (RADIANT 3) Study Group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898989"/>
                </a:solidFill>
                <a:latin typeface="Calibri"/>
              </a:rPr>
              <a:t>N Eng J Med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364(6):514-2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erolimus (RAD00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TOR serine-threonine kin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ntral regulator of protein synthe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ocrine activation via IGF-1 in PNE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tiproliferative effect on PNET cell lines by binding to FKBP-1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or activity demonstrated in PN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Footer Placeholder 3"/>
          <p:cNvSpPr/>
          <p:nvPr/>
        </p:nvSpPr>
        <p:spPr>
          <a:xfrm>
            <a:off x="1143000" y="635652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on Wichert, G.  Cancer Res, 2000.  Yao, JC.  J Clin Oncol, 2008.  Yao, JC.  J Clin Oncol,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4"/>
          <p:cNvSpPr/>
          <p:nvPr/>
        </p:nvSpPr>
        <p:spPr>
          <a:xfrm>
            <a:off x="-39600" y="0"/>
            <a:ext cx="9183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  <a:ea typeface="Arial"/>
              </a:rPr>
              <a:t>RADIANT-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  <a:ea typeface="Arial"/>
              </a:rPr>
              <a:t>Phase III Everolimus vs Placebo in PN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795240" y="4419720"/>
            <a:ext cx="77374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andomization 1: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trat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 Unicode MS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Prior chemotherapy Y vs 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 Unicode MS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WHO performance status 0 vs 1-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Option for cross-over from placebo arm on P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Primary Endpoint:  PF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 Box 7"/>
          <p:cNvSpPr/>
          <p:nvPr/>
        </p:nvSpPr>
        <p:spPr>
          <a:xfrm>
            <a:off x="4556160" y="1639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AutoShape 2"/>
          <p:cNvSpPr/>
          <p:nvPr/>
        </p:nvSpPr>
        <p:spPr>
          <a:xfrm>
            <a:off x="636480" y="1712160"/>
            <a:ext cx="2895840" cy="229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Arial"/>
              </a:rPr>
              <a:t>N= 410 PNETs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Arial"/>
              </a:rPr>
              <a:t>Well-differenti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Arial"/>
              </a:rPr>
              <a:t>Low-intermediate gra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Arial"/>
              </a:rPr>
              <a:t>POD within 12 mth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Arial"/>
              </a:rPr>
              <a:t>Measurable dise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Arial"/>
              </a:rPr>
              <a:t>WHO performance 0-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AutoShape 3"/>
          <p:cNvSpPr/>
          <p:nvPr/>
        </p:nvSpPr>
        <p:spPr>
          <a:xfrm>
            <a:off x="5029200" y="3046320"/>
            <a:ext cx="3478320" cy="91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Arial"/>
              </a:rPr>
              <a:t>N = 203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Arial"/>
              </a:rPr>
              <a:t>Placeb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AutoShape 5"/>
          <p:cNvSpPr/>
          <p:nvPr/>
        </p:nvSpPr>
        <p:spPr>
          <a:xfrm>
            <a:off x="5062680" y="1598760"/>
            <a:ext cx="3422520" cy="91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Arial"/>
              </a:rPr>
              <a:t>N = 207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Arial"/>
              </a:rPr>
              <a:t>Everolimus 10mg da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AutoShape 8"/>
          <p:cNvSpPr/>
          <p:nvPr/>
        </p:nvSpPr>
        <p:spPr>
          <a:xfrm>
            <a:off x="3816360" y="1508040"/>
            <a:ext cx="488880" cy="2772360"/>
          </a:xfrm>
          <a:custGeom>
            <a:avLst/>
            <a:gdLst>
              <a:gd name="textAreaLeft" fmla="*/ 23760 w 488880"/>
              <a:gd name="textAreaRight" fmla="*/ 465120 w 488880"/>
              <a:gd name="textAreaTop" fmla="*/ 23760 h 2772360"/>
              <a:gd name="textAreaBottom" fmla="*/ 2748600 h 2772360"/>
            </a:gdLst>
            <a:ahLst/>
            <a:rect l="textAreaLeft" t="textAreaTop" r="textAreaRight" b="textAreaBottom"/>
            <a:pathLst>
              <a:path w="21600" h="122416">
                <a:moveTo>
                  <a:pt x="3600" y="0"/>
                </a:moveTo>
                <a:arcTo wR="3600" hR="3600" stAng="16200000" swAng="-5400000"/>
                <a:lnTo>
                  <a:pt x="0" y="118816"/>
                </a:lnTo>
                <a:arcTo wR="3600" hR="3600" stAng="10800000" swAng="-5400000"/>
                <a:lnTo>
                  <a:pt x="18000" y="1224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AutoShape 9"/>
          <p:cNvSpPr/>
          <p:nvPr/>
        </p:nvSpPr>
        <p:spPr>
          <a:xfrm flipV="1" rot="19846800">
            <a:off x="4475160" y="220464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AutoShape 10"/>
          <p:cNvSpPr/>
          <p:nvPr/>
        </p:nvSpPr>
        <p:spPr>
          <a:xfrm flipV="1" rot="1689000">
            <a:off x="4473720" y="336924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Yao, JC.  NEJM,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-360" y="299520"/>
            <a:ext cx="913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RADIANT-3: PFS &amp; Respon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Yao, JC.  NEJM,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457200" y="1444680"/>
          <a:ext cx="8381880" cy="4653000"/>
        </p:xfrm>
        <a:graphic>
          <a:graphicData uri="http://schemas.openxmlformats.org/drawingml/2006/table">
            <a:tbl>
              <a:tblPr/>
              <a:tblGrid>
                <a:gridCol w="3962520"/>
                <a:gridCol w="2361960"/>
                <a:gridCol w="2057400"/>
              </a:tblGrid>
              <a:tr h="89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haracteris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verolimus</a:t>
                      </a:r>
                      <a:br>
                        <a:rPr sz="2400"/>
                      </a:b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 = 2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lacebo</a:t>
                      </a:r>
                      <a:br>
                        <a:rPr sz="2400"/>
                      </a:b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 = 2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53880" indent="-353880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FS events 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 (53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 (81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sored data 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 (47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 (19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n PFS mont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mt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6 mt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R 0.35 (0.27- 0.45), </a:t>
                      </a: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n duration expos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 wee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wee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ponse 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ble dise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AutoShape 3"/>
          <p:cNvSpPr/>
          <p:nvPr/>
        </p:nvSpPr>
        <p:spPr>
          <a:xfrm>
            <a:off x="415800" y="268200"/>
            <a:ext cx="8312400" cy="64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7920"/>
                <a:tab algn="l" pos="3897360"/>
                <a:tab algn="l" pos="4546440"/>
                <a:tab algn="l" pos="5195880"/>
                <a:tab algn="l" pos="5845320"/>
                <a:tab algn="l" pos="6496200"/>
                <a:tab algn="l" pos="7145280"/>
                <a:tab algn="l" pos="779472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 Unicode MS"/>
              </a:rPr>
              <a:t>Progression-Free and Overall Survival</a:t>
            </a: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Arial Unicode MS"/>
              </a:rPr>
              <a:t> and Overall Surviva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/>
          <p:nvPr/>
        </p:nvSpPr>
        <p:spPr>
          <a:xfrm>
            <a:off x="1219320" y="938160"/>
            <a:ext cx="64008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gression-free surviv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rolimus, 11.0 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cebo, 4.6 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zard ratio, 0.35 (95% CI, 0.27-0.4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&lt; 0.001 by one-sided log-rank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960" indent="-291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verall surviv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rolimus, 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cebo, 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zard ratio, 1.05 (95% CI, 0.71-1.5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0.59 by one-sided log-rank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s/Im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rolim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5% risk reduction in POD/ death for P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dian overall survival data p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herapeutic option in disease with marked heterogeneity in treatment patt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quencing with sunitinib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gration with other therapies, e.g., cytotoxic, regional treatmen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rectal Canc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2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lidation of a 12-Gene Colon Cancer Recurrence Score (RS) in Patients with Stage II Colon Cancer from CALGB 958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enook, AP., et 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oc ASCO 2011: Abstract 3518 (Poster Discuss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ge II Colon Cancer &amp; Genom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cision-making for stage II colon cancer – difficul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urrence risk, absolute benefit and toxicity from t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2 gene colon cancer Recurrence Score® (R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,851 stage II patients (4 studi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omic Health, 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QUASAR tri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,436 stage II colon canc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inuous 12-gene RS, T-stage, MMR status were validated as predictors of recurr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co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X Colon Cancer Recurrence Sc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ed for standardized, validated recurrence markers for stage II colon canc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Footer Placeholder 3"/>
          <p:cNvSpPr/>
          <p:nvPr/>
        </p:nvSpPr>
        <p:spPr>
          <a:xfrm>
            <a:off x="609480" y="6356520"/>
            <a:ext cx="792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O'Connell, MJ. J Clin Oncol, 2010.  Kerr, D.  J Clin Oncol, 2009 (Abst #40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4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  <a:ea typeface="Arial"/>
              </a:rPr>
              <a:t>CALGB 958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  <a:ea typeface="Arial"/>
              </a:rPr>
              <a:t>Phase III Intergroup Adjuvant Tri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Text Box 6"/>
          <p:cNvSpPr/>
          <p:nvPr/>
        </p:nvSpPr>
        <p:spPr>
          <a:xfrm>
            <a:off x="495360" y="50292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xcluded: pT4b, ≥N1, obstruction/perforation, positive marg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No difference in outcomes for all study endpo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Generally older, lower recurrence risk (14.6% at 5 yea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ext Box 7"/>
          <p:cNvSpPr/>
          <p:nvPr/>
        </p:nvSpPr>
        <p:spPr>
          <a:xfrm>
            <a:off x="4556160" y="1639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3" name="Group 12"/>
          <p:cNvGrpSpPr/>
          <p:nvPr/>
        </p:nvGrpSpPr>
        <p:grpSpPr>
          <a:xfrm>
            <a:off x="379440" y="1603440"/>
            <a:ext cx="8459640" cy="2772360"/>
            <a:chOff x="379440" y="1603440"/>
            <a:chExt cx="8459640" cy="2772360"/>
          </a:xfrm>
        </p:grpSpPr>
        <p:sp>
          <p:nvSpPr>
            <p:cNvPr id="434" name="AutoShape 2"/>
            <p:cNvSpPr/>
            <p:nvPr/>
          </p:nvSpPr>
          <p:spPr>
            <a:xfrm>
              <a:off x="379440" y="2594520"/>
              <a:ext cx="3114720" cy="1197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tage II Colon cancer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Not High-Risk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N = 1,73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AutoShape 3"/>
            <p:cNvSpPr/>
            <p:nvPr/>
          </p:nvSpPr>
          <p:spPr>
            <a:xfrm>
              <a:off x="5100480" y="3416400"/>
              <a:ext cx="3738600" cy="914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drecolomab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oAb 17-1A, anti-EpCa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AutoShape 5"/>
            <p:cNvSpPr/>
            <p:nvPr/>
          </p:nvSpPr>
          <p:spPr>
            <a:xfrm>
              <a:off x="5100480" y="2055600"/>
              <a:ext cx="3678120" cy="509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Observatio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AutoShape 8"/>
            <p:cNvSpPr/>
            <p:nvPr/>
          </p:nvSpPr>
          <p:spPr>
            <a:xfrm>
              <a:off x="3816000" y="1603440"/>
              <a:ext cx="488880" cy="2772360"/>
            </a:xfrm>
            <a:custGeom>
              <a:avLst/>
              <a:gdLst>
                <a:gd name="textAreaLeft" fmla="*/ 23760 w 488880"/>
                <a:gd name="textAreaRight" fmla="*/ 465120 w 488880"/>
                <a:gd name="textAreaTop" fmla="*/ 23760 h 2772360"/>
                <a:gd name="textAreaBottom" fmla="*/ 2748600 h 2772360"/>
              </a:gdLst>
              <a:ahLst/>
              <a:rect l="textAreaLeft" t="textAreaTop" r="textAreaRight" b="textAreaBottom"/>
              <a:pathLst>
                <a:path w="21600" h="122416">
                  <a:moveTo>
                    <a:pt x="3600" y="0"/>
                  </a:moveTo>
                  <a:arcTo wR="3600" hR="3600" stAng="16200000" swAng="-5400000"/>
                  <a:lnTo>
                    <a:pt x="0" y="118816"/>
                  </a:lnTo>
                  <a:arcTo wR="3600" hR="3600" stAng="10800000" swAng="-5400000"/>
                  <a:lnTo>
                    <a:pt x="18000" y="1224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AutoShape 9"/>
            <p:cNvSpPr/>
            <p:nvPr/>
          </p:nvSpPr>
          <p:spPr>
            <a:xfrm flipV="1" rot="19846800">
              <a:off x="4505760" y="2422440"/>
              <a:ext cx="491040" cy="269640"/>
            </a:xfrm>
            <a:prstGeom prst="rightArrow">
              <a:avLst>
                <a:gd name="adj1" fmla="val 50000"/>
                <a:gd name="adj2" fmla="val 45527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AutoShape 10"/>
            <p:cNvSpPr/>
            <p:nvPr/>
          </p:nvSpPr>
          <p:spPr>
            <a:xfrm flipV="1" rot="1689000">
              <a:off x="4503960" y="3797640"/>
              <a:ext cx="491400" cy="269640"/>
            </a:xfrm>
            <a:prstGeom prst="rightArrow">
              <a:avLst>
                <a:gd name="adj1" fmla="val 50000"/>
                <a:gd name="adj2" fmla="val 45561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0" name="Footer Placeholder 11"/>
          <p:cNvSpPr/>
          <p:nvPr/>
        </p:nvSpPr>
        <p:spPr>
          <a:xfrm>
            <a:off x="1981080" y="6356520"/>
            <a:ext cx="5181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Niedzwiecki, D.  CALGB 9581 J Clin Oncol, (In pres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ncreas Adenocarcinoma and Neuroendocrine Canc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LGB 15070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mary ai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whether there is a significant relationship between continuous 12-gene RS and recurrence r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e whether relationship between clinical/pathologic variables and recurrence r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es RS provide significant information beyond # nodes, pT stage, grade, MMR, lymphovascular invasi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re recurrence risk between high, low RS grou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teri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T-PCR of microdissected, paraffin-embedded colon 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qMan ass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iostatistic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mary endpoint:  Recurrence-free Interval (RFI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nal N= 690 pts (528 no recurrence, 162 recurrenc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-38160" y="685440"/>
            <a:ext cx="9182160" cy="3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imary Endpoint: Association of Continuous RS with Recurrence Ris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838080" y="2209680"/>
          <a:ext cx="7315200" cy="1828800"/>
        </p:xfrm>
        <a:graphic>
          <a:graphicData uri="http://schemas.openxmlformats.org/drawingml/2006/table">
            <a:tbl>
              <a:tblPr/>
              <a:tblGrid>
                <a:gridCol w="2438640"/>
                <a:gridCol w="1371600"/>
                <a:gridCol w="2012760"/>
                <a:gridCol w="1492200"/>
              </a:tblGrid>
              <a:tr h="1121040">
                <a:tc>
                  <a:txBody>
                    <a:bodyPr lIns="38160" rIns="381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R</a:t>
                      </a:r>
                      <a:br>
                        <a:rPr sz="2200"/>
                      </a:b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% C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8160" rIns="381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valu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7760"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S per 25 uni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.09,2.12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45" name="Rectangle 3"/>
          <p:cNvSpPr/>
          <p:nvPr/>
        </p:nvSpPr>
        <p:spPr>
          <a:xfrm>
            <a:off x="838080" y="4191120"/>
            <a:ext cx="723924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continuous RS was significantly associated with the risk of recurrenc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-79200" y="380880"/>
            <a:ext cx="92232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ntribution of RS to Prediction of Recurrence Risk Beyond Clinical, Pathologic Covariat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681120" y="1714680"/>
          <a:ext cx="7616880" cy="3429000"/>
        </p:xfrm>
        <a:graphic>
          <a:graphicData uri="http://schemas.openxmlformats.org/drawingml/2006/table">
            <a:tbl>
              <a:tblPr/>
              <a:tblGrid>
                <a:gridCol w="3890880"/>
                <a:gridCol w="838080"/>
                <a:gridCol w="1752840"/>
                <a:gridCol w="1135080"/>
              </a:tblGrid>
              <a:tr h="661680"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ri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160" marR="3816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R 95% 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va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32000">
                <a:tc>
                  <a:txBody>
                    <a:bodyPr lIns="38160" rIns="381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MR (deficient vs intact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160" marR="3816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0.42,1.17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1640">
                <a:tc>
                  <a:txBody>
                    <a:bodyPr lIns="38160" rIns="381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 Stage (T4 vs T3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160" marR="3816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0.44,1.97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38160" rIns="381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 Nodes Examined (&lt;12 vs ≥12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160" marR="3816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0.81,1.6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1640">
                <a:tc>
                  <a:txBody>
                    <a:bodyPr lIns="38160" rIns="381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mor Grade (high vs low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160" marR="3816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0.51,1.18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1600">
                <a:tc>
                  <a:txBody>
                    <a:bodyPr lIns="38160" rIns="381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VI (present vs not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160" marR="3816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0.85,2.26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8440">
                <a:tc>
                  <a:txBody>
                    <a:bodyPr lIns="38160" rIns="381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S per 25 uni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160" marR="3816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.18,2.38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48" name="Rectangle 4"/>
          <p:cNvSpPr/>
          <p:nvPr/>
        </p:nvSpPr>
        <p:spPr>
          <a:xfrm>
            <a:off x="628560" y="5481720"/>
            <a:ext cx="7829640" cy="13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S was significantly associated with recurrence ris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0.004) after MMR status, T stage, # nodes, grade and LVI were included in the mod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ntinuous 12-gene RS was significantly associated with risk of recurrence in univariate, multivariate analys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LGB 9851 data – only MMR significantly associated with recurrence risk for conventional fac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ntinuous RS predicted risk of recurrence beyond T-stage, MMR, # nodes, grade, LV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r T3, RS identified 22% with risk of recurrence at 5 years &gt; 20% (beyond conventional factor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sults of CALGB 150705 confirm performance of 12-gene RS in QUASA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djuvant therapy might be considered for T3-MMR-I with high recurrence scor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80520" y="685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lationship between Tumor Gene Expression and Recurrence in Four Independent Studies of Patients with Stage II/III Colon Cancer Treated with Surgery Alone or Surgery plus Adjuvant Fluorouracil plus Leucovor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O’Connell, MJ., et 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 Clin Oncol 2010:28(25):3937-4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Content Placeholder 2"/>
          <p:cNvSpPr/>
          <p:nvPr/>
        </p:nvSpPr>
        <p:spPr>
          <a:xfrm>
            <a:off x="22860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djuvant chemo for stage II colon cancer is controversi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ASAR:  Adjuvant 5-FU/LV small survival benefit (3%) balanced against toxicity (mortality 0.5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rrow therapeutic inde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tient selection essent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urrent clinical-pathologic/staging characteristic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ge IIB disease worse prognosis vs. stage II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foration/obstruction, T4, lymphovascular invasion, high grade, &lt; 12 nodes exam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 adequate to assess recurrence risk for individu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MR (MSI), LOH 18q – investiga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ultigene assays – robust platform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ooter Placeholder 3"/>
          <p:cNvSpPr/>
          <p:nvPr/>
        </p:nvSpPr>
        <p:spPr>
          <a:xfrm>
            <a:off x="1752480" y="6356520"/>
            <a:ext cx="563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QUASAR Collaborative Group.  Lancet, 2007.  O’Connell, JB.  JNCI,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s/Im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38052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ery large cohort of patients – robust results for recurrence risk and predictive benefit to 5-FU/LV in stage II, III colon canc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alidation needed (QUASAR study) – ongo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mproved patient selection, e.g., higher recurrence risk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pplicable to daily practic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bably YES (established in breast cancer, Onco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typ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DX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– prospective validation TAILORx tria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enes predictive of benefit to 5-FU/LV same as Oxaliplatin/5-FU/LV?  Unclear re-applica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ravenous (IV) Aflibercept versus Placebo in Combination with Irinotecan/5-FU (FOLFIRI) a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cond-Line Treatment of Metastatic Colorectal Cancer: Results of a Multinational Phase III Trial (EFC10262-VELOUR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an Cutsem, E., et 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898989"/>
                </a:solidFill>
                <a:latin typeface="Calibri"/>
              </a:rPr>
              <a:t>Proc ESMO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2011: Abstract O-002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 Afliberce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libercep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luble protein of the extracellular domains of human VEGFR-1, VEGFR-2 linked to a human IgG1 Fc por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nds VEGF-A isoforms, VEGF-B, and PlGF (placental growth factor) with high affi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lf-life 6-17 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4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  <a:ea typeface="Arial"/>
              </a:rPr>
              <a:t>EFC10262: VELOU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  <a:ea typeface="Arial"/>
              </a:rPr>
              <a:t>Phase III 2nd-Line FOLFIRI +/- VEGF-TRA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795240" y="4572000"/>
            <a:ext cx="77374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andomization 1: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trat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 Unicode MS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Prior bevacizumab Y vs 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 Unicode MS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COG PS 0 vs 1 vs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rimary endpoint:  Overall survi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 Box 7"/>
          <p:cNvSpPr/>
          <p:nvPr/>
        </p:nvSpPr>
        <p:spPr>
          <a:xfrm>
            <a:off x="4556160" y="1639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5" name="Group 12"/>
          <p:cNvGrpSpPr/>
          <p:nvPr/>
        </p:nvGrpSpPr>
        <p:grpSpPr>
          <a:xfrm>
            <a:off x="609480" y="1603440"/>
            <a:ext cx="7898040" cy="2967480"/>
            <a:chOff x="609480" y="1603440"/>
            <a:chExt cx="7898040" cy="2967480"/>
          </a:xfrm>
        </p:grpSpPr>
        <p:sp>
          <p:nvSpPr>
            <p:cNvPr id="466" name="AutoShape 2"/>
            <p:cNvSpPr/>
            <p:nvPr/>
          </p:nvSpPr>
          <p:spPr>
            <a:xfrm>
              <a:off x="609480" y="2229480"/>
              <a:ext cx="2905200" cy="1927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etastatic CRC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(POD on prior Oxaliplatin-based regimen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N = 1,22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AutoShape 3"/>
            <p:cNvSpPr/>
            <p:nvPr/>
          </p:nvSpPr>
          <p:spPr>
            <a:xfrm>
              <a:off x="5016600" y="3656160"/>
              <a:ext cx="3490920" cy="914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OLFIRI + Placeb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q 2 weeks (N = 612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AutoShape 5"/>
            <p:cNvSpPr/>
            <p:nvPr/>
          </p:nvSpPr>
          <p:spPr>
            <a:xfrm>
              <a:off x="5016600" y="1903320"/>
              <a:ext cx="3435480" cy="914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OLFIRI + Aflibercep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q 2 weeks (N = 614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AutoShape 8"/>
            <p:cNvSpPr/>
            <p:nvPr/>
          </p:nvSpPr>
          <p:spPr>
            <a:xfrm>
              <a:off x="3800160" y="1603440"/>
              <a:ext cx="488880" cy="2772360"/>
            </a:xfrm>
            <a:custGeom>
              <a:avLst/>
              <a:gdLst>
                <a:gd name="textAreaLeft" fmla="*/ 23760 w 488880"/>
                <a:gd name="textAreaRight" fmla="*/ 465120 w 488880"/>
                <a:gd name="textAreaTop" fmla="*/ 23760 h 2772360"/>
                <a:gd name="textAreaBottom" fmla="*/ 2748600 h 2772360"/>
              </a:gdLst>
              <a:ahLst/>
              <a:rect l="textAreaLeft" t="textAreaTop" r="textAreaRight" b="textAreaBottom"/>
              <a:pathLst>
                <a:path w="21600" h="122416">
                  <a:moveTo>
                    <a:pt x="3600" y="0"/>
                  </a:moveTo>
                  <a:arcTo wR="3600" hR="3600" stAng="16200000" swAng="-5400000"/>
                  <a:lnTo>
                    <a:pt x="0" y="118816"/>
                  </a:lnTo>
                  <a:arcTo wR="3600" hR="3600" stAng="10800000" swAng="-5400000"/>
                  <a:lnTo>
                    <a:pt x="18000" y="1224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AutoShape 9"/>
            <p:cNvSpPr/>
            <p:nvPr/>
          </p:nvSpPr>
          <p:spPr>
            <a:xfrm flipV="1" rot="19846800">
              <a:off x="4461480" y="2422440"/>
              <a:ext cx="458640" cy="269640"/>
            </a:xfrm>
            <a:prstGeom prst="rightArrow">
              <a:avLst>
                <a:gd name="adj1" fmla="val 50000"/>
                <a:gd name="adj2" fmla="val 42523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AutoShape 10"/>
            <p:cNvSpPr/>
            <p:nvPr/>
          </p:nvSpPr>
          <p:spPr>
            <a:xfrm flipV="1" rot="1689000">
              <a:off x="4459680" y="3798000"/>
              <a:ext cx="458640" cy="269640"/>
            </a:xfrm>
            <a:prstGeom prst="rightArrow">
              <a:avLst>
                <a:gd name="adj1" fmla="val 50000"/>
                <a:gd name="adj2" fmla="val 42523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2" name="Footer Placeholder 11"/>
          <p:cNvSpPr/>
          <p:nvPr/>
        </p:nvSpPr>
        <p:spPr>
          <a:xfrm>
            <a:off x="1600200" y="6356520"/>
            <a:ext cx="5943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an Cutsem, E.  ESMO World Congress Gastrointestinal Cancer, 2011 (Abst # O-002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880" y="2130120"/>
            <a:ext cx="83822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LFIRINOX versus Gemcitabine for Metastatic Pancreatic Adenocarcino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onroy, T., et al. PRODIGE Inter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 Eng J Med 2011, 364(19): 1817-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ELOUR: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457200" y="1600200"/>
          <a:ext cx="8229600" cy="3738600"/>
        </p:xfrm>
        <a:graphic>
          <a:graphicData uri="http://schemas.openxmlformats.org/drawingml/2006/table">
            <a:tbl>
              <a:tblPr/>
              <a:tblGrid>
                <a:gridCol w="2514600"/>
                <a:gridCol w="1828800"/>
                <a:gridCol w="1981080"/>
                <a:gridCol w="190512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LFIRI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laceb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 = 6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LFIRI +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fliberce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 = 6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tis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n 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1 mt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5 mt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R 0.8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0.00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n PF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67 mt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9 mt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R 0.7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0.00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ponse 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0.0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Es Stop Therap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75" name="TextBox 4"/>
          <p:cNvSpPr/>
          <p:nvPr/>
        </p:nvSpPr>
        <p:spPr>
          <a:xfrm>
            <a:off x="0" y="563868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d 3-4 Diarrhea, Asthenia/Fatigue, Stomatitis, Infections, Hypertension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in, Neutropenia, Proteinuria more common in Aflibercept ar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0% each arm had prior bevacizuma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s/Im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LFIRI + aflibercept increases OS, PFS and RR in previously treated mCR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ffect similar, although less, if prior bevacizumab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milar results to ECOG 3200 (IFL refractory disease: FOLFOX +/- bevacizumab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nswer to question of continuation of anti-angiogenic agent from 1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o 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line pend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waiting results European phase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FFIRM rand phase II (front-line): FOLFOX +/- aflibercept, N = 230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mary endpoint: PF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leted – pending res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6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Impact of Capecitabine and Oxaliplatin in the Preoperative Multimodality Treatment in Patients with Carcinoma of the Rectum:  NSABP R-0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oh, MS, et 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oc ASCO 2011: Abstract 35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(Oral Present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SABP R-04 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pecitabine similar to infusional 5-FU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gical downstag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hincter-saving surg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hologic C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ition of oxaliplat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improvement in outco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d toxi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urity of data awaited for local control, DFS, 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stric Canc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21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ER2 Expression/Amplification:  Frequency, Clinicopathologic Features, and Prognosis in 713 Patients with Esophageal Adenocarcino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Yoon, HH, et 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oc ASCO 2011: Abstract #401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GA t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ed RR, PFS, OS and similar safety for addition of trastuzumab to cisplatin/5-FU in advanced esophagogastric canc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R2 testing routine in esophagogastric cancer following approval of trastuzum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quency of HER2 expression, correlation with gene amplification, clinical/pathologic features, prognosis unkn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ng, Y.  Lancet,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udy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8052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 = 713 resected 1980-9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rcepTes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mmunohistochemistry (IH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SH (HER2 amplification) perform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stric cancer guidel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 amplification (amp+): HER2/CEP 17 ratio ≥ 2.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R2 positive status:  IHC3+ or IHC2+ with amp+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stat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x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requency of HER2 Expression (N = 713) and Correlation with Ampl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457200" y="1600200"/>
          <a:ext cx="8229600" cy="2187720"/>
        </p:xfrm>
        <a:graphic>
          <a:graphicData uri="http://schemas.openxmlformats.org/drawingml/2006/table">
            <a:tbl>
              <a:tblPr/>
              <a:tblGrid>
                <a:gridCol w="2362320"/>
                <a:gridCol w="1904760"/>
                <a:gridCol w="1905120"/>
                <a:gridCol w="20574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HC 3+ (High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 = 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HC 2+ (M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 = 1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-1+ (Absent-Low), N = 4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2 protein ex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2 Amp tes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2 Amp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 (94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 (15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(5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92" name="TextBox 4"/>
          <p:cNvSpPr/>
          <p:nvPr/>
        </p:nvSpPr>
        <p:spPr>
          <a:xfrm>
            <a:off x="457200" y="434340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5% T3-4, 71% Node-positive; 35% Esophageal, 65% Gastr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R2 expression &amp; amplification: K = 0.89 (0.75- 1.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R2-positive Esophageal vs Gastric: 21% vs 15%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0.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R2-positive: Favorable OS, HR 0.75 (0.59-0.97)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 0.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is data set, HER2-positivity was 17% (IHC and FISH), with high agreement between expression and ampl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IHC2+, 16% were amplifi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omatic FI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IHC 0-1+, 3% amplified.  FISH low y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R2-positive associated with good pathologic correlates + 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Footer Placeholder 1"/>
          <p:cNvSpPr/>
          <p:nvPr/>
        </p:nvSpPr>
        <p:spPr>
          <a:xfrm>
            <a:off x="677880" y="6324480"/>
            <a:ext cx="77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roy, et al.  NEJM,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 Box 4"/>
          <p:cNvSpPr/>
          <p:nvPr/>
        </p:nvSpPr>
        <p:spPr>
          <a:xfrm>
            <a:off x="255600" y="304920"/>
            <a:ext cx="84945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  <a:ea typeface="Arial"/>
              </a:rPr>
              <a:t>FOLFIRINOX vs Gemcitab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Arial"/>
              </a:rPr>
              <a:t>Prodige 4- ACCORD 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 Box 6"/>
          <p:cNvSpPr/>
          <p:nvPr/>
        </p:nvSpPr>
        <p:spPr>
          <a:xfrm>
            <a:off x="1143000" y="4419720"/>
            <a:ext cx="73342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andomization 1: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trat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 Unicode MS"/>
              <a:buChar char="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PS: 0-1 vs 2; Primary tumor location, Cent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rimary Endpoint:  Overall Survi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Text Box 7"/>
          <p:cNvSpPr/>
          <p:nvPr/>
        </p:nvSpPr>
        <p:spPr>
          <a:xfrm>
            <a:off x="4556160" y="1639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3" name="Group 11"/>
          <p:cNvGrpSpPr/>
          <p:nvPr/>
        </p:nvGrpSpPr>
        <p:grpSpPr>
          <a:xfrm>
            <a:off x="762120" y="1508040"/>
            <a:ext cx="7618320" cy="2773080"/>
            <a:chOff x="762120" y="1508040"/>
            <a:chExt cx="7618320" cy="2773080"/>
          </a:xfrm>
        </p:grpSpPr>
        <p:sp>
          <p:nvSpPr>
            <p:cNvPr id="384" name="AutoShape 2"/>
            <p:cNvSpPr/>
            <p:nvPr/>
          </p:nvSpPr>
          <p:spPr>
            <a:xfrm>
              <a:off x="762120" y="2207880"/>
              <a:ext cx="2590560" cy="1562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Untreated Metastatic Panc Adenocarcinom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COG 0-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AutoShape 3"/>
            <p:cNvSpPr/>
            <p:nvPr/>
          </p:nvSpPr>
          <p:spPr>
            <a:xfrm>
              <a:off x="5175360" y="3010320"/>
              <a:ext cx="3154320" cy="1049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Gemcitabin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(N = 169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AutoShape 5"/>
            <p:cNvSpPr/>
            <p:nvPr/>
          </p:nvSpPr>
          <p:spPr>
            <a:xfrm>
              <a:off x="5176800" y="1825560"/>
              <a:ext cx="3203640" cy="1049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OLFIRINOX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(N = 167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AutoShape 8"/>
            <p:cNvSpPr/>
            <p:nvPr/>
          </p:nvSpPr>
          <p:spPr>
            <a:xfrm>
              <a:off x="3771720" y="1508040"/>
              <a:ext cx="495720" cy="2773080"/>
            </a:xfrm>
            <a:custGeom>
              <a:avLst/>
              <a:gdLst>
                <a:gd name="textAreaLeft" fmla="*/ 24120 w 495720"/>
                <a:gd name="textAreaRight" fmla="*/ 471600 w 495720"/>
                <a:gd name="textAreaTop" fmla="*/ 24120 h 2773080"/>
                <a:gd name="textAreaBottom" fmla="*/ 2748960 h 2773080"/>
              </a:gdLst>
              <a:ahLst/>
              <a:rect l="textAreaLeft" t="textAreaTop" r="textAreaRight" b="textAreaBottom"/>
              <a:pathLst>
                <a:path w="21600" h="120759">
                  <a:moveTo>
                    <a:pt x="3600" y="0"/>
                  </a:moveTo>
                  <a:arcTo wR="3600" hR="3600" stAng="16200000" swAng="-5400000"/>
                  <a:lnTo>
                    <a:pt x="0" y="117159"/>
                  </a:lnTo>
                  <a:arcTo wR="3600" hR="3600" stAng="10800000" swAng="-5400000"/>
                  <a:lnTo>
                    <a:pt x="18000" y="12075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AutoShape 9"/>
            <p:cNvSpPr/>
            <p:nvPr/>
          </p:nvSpPr>
          <p:spPr>
            <a:xfrm flipV="1" rot="19846800">
              <a:off x="4548960" y="2203920"/>
              <a:ext cx="515160" cy="228600"/>
            </a:xfrm>
            <a:prstGeom prst="rightArrow">
              <a:avLst>
                <a:gd name="adj1" fmla="val 50000"/>
                <a:gd name="adj2" fmla="val 56339"/>
              </a:avLst>
            </a:prstGeom>
            <a:solidFill>
              <a:srgbClr val="4f81bd"/>
            </a:solidFill>
            <a:ln w="57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buClr>
                  <a:srgbClr val="00ffff"/>
                </a:buClr>
                <a:buFont typeface="Wingdings" charset="2"/>
                <a:buChar char="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AutoShape 10"/>
            <p:cNvSpPr/>
            <p:nvPr/>
          </p:nvSpPr>
          <p:spPr>
            <a:xfrm flipV="1" rot="1689000">
              <a:off x="4547520" y="3370320"/>
              <a:ext cx="515160" cy="228600"/>
            </a:xfrm>
            <a:prstGeom prst="rightArrow">
              <a:avLst>
                <a:gd name="adj1" fmla="val 50000"/>
                <a:gd name="adj2" fmla="val 56339"/>
              </a:avLst>
            </a:prstGeom>
            <a:solidFill>
              <a:srgbClr val="4f81bd"/>
            </a:solidFill>
            <a:ln w="57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buClr>
                  <a:srgbClr val="00ffff"/>
                </a:buClr>
                <a:buFont typeface="Wingdings" charset="2"/>
                <a:buChar char="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itle 1"/>
          <p:cNvSpPr/>
          <p:nvPr/>
        </p:nvSpPr>
        <p:spPr>
          <a:xfrm>
            <a:off x="723960" y="304920"/>
            <a:ext cx="769608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FOLFIRINOX vs Gemcitabin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Overall Surviv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"/>
          <p:cNvSpPr/>
          <p:nvPr/>
        </p:nvSpPr>
        <p:spPr>
          <a:xfrm>
            <a:off x="1143000" y="1905120"/>
            <a:ext cx="7086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dian overall survi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LFIRINOX, 11.1 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mcitabine, 6.8 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zard ratio = 0.57 (95% CI, 0.45-0.7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&lt; 0.001 by stratified log-rank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LFIRINOX vs Gemcitabine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ary Endpoi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Footer Placeholder 13"/>
          <p:cNvSpPr/>
          <p:nvPr/>
        </p:nvSpPr>
        <p:spPr>
          <a:xfrm>
            <a:off x="1371600" y="6356520"/>
            <a:ext cx="64008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nroy T, et al.  NEJM,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495360" y="1295280"/>
          <a:ext cx="8115120" cy="4959360"/>
        </p:xfrm>
        <a:graphic>
          <a:graphicData uri="http://schemas.openxmlformats.org/drawingml/2006/table">
            <a:tbl>
              <a:tblPr/>
              <a:tblGrid>
                <a:gridCol w="3085920"/>
                <a:gridCol w="1800360"/>
                <a:gridCol w="1857240"/>
                <a:gridCol w="13716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LFIRINO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N = 16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emcitabine    (N = 169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Va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0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brile neutropenia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rombocytopen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ipheral neuropath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mi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rrhe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lgrastim suppo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.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all response 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02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n PF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4 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 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R = 0.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s/Im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FIRINOX superior to gemcitabine: OS, PFS and R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FIRINOX is a standard front-line option for good PS patients with metastatic dis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ative benefit for 3-drug option vs 2-drug option, as yet unkn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estigation planned in locally advanced, neoadjuvant/borderline, adjuvant sett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173160"/>
            <a:ext cx="7772400" cy="13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LFIRINOX-Based Tri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317520" y="1428840"/>
          <a:ext cx="8585280" cy="4984560"/>
        </p:xfrm>
        <a:graphic>
          <a:graphicData uri="http://schemas.openxmlformats.org/drawingml/2006/table">
            <a:tbl>
              <a:tblPr/>
              <a:tblGrid>
                <a:gridCol w="2351160"/>
                <a:gridCol w="1805040"/>
                <a:gridCol w="4429080"/>
              </a:tblGrid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has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oup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ig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604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juvant Therap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I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LFIRINOX vs Gemcitab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04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rderline - Locally Advanced (L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 (Borderlin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i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LFIRINOX → 5-FU-RT→ G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d Ph II (L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i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LFIRINOX + IPI-926/P→ Cap-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 (L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LFIRINOX or Gem →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D-CRT with Capecitab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04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static Dise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d II (or III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LFIRINOX vs mFOLFO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d Phase 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i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LFIRINOX + AMG 479/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399" name="TextBox 3"/>
          <p:cNvSpPr/>
          <p:nvPr/>
        </p:nvSpPr>
        <p:spPr>
          <a:xfrm>
            <a:off x="2133720" y="640080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= Placebo; Cap= Capecitab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static Pancreas Adenocarcino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9-year-old female with metastatic pancreas adenocarcinoma from tail of pancreas primary with synchronous metastases to liver. FOLFIRINOX. Tolerated poorly with nausea/vomiting/dehydration requiring IV antiemetic and outpatient hydration therapy. Therapy switched to gemcitabine/erlotinib with stable disease. Family hx: Mat aunt ovary cancer; mat g/mother breast ca; mat g/father prostate ca; pat aunt leukemia; pat g/mother panc ca; Genetic work-up, including BRCA, HNPCC, p16, neg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3:42:40Z</dcterms:created>
  <dc:creator>Eileen M. O'Reilly</dc:creator>
  <dc:description/>
  <dc:language>en-US</dc:language>
  <cp:lastModifiedBy>Aura Herrmann</cp:lastModifiedBy>
  <cp:lastPrinted>2011-10-14T20:59:48Z</cp:lastPrinted>
  <dcterms:modified xsi:type="dcterms:W3CDTF">2012-02-17T18:49:35Z</dcterms:modified>
  <cp:revision>101</cp:revision>
  <dc:subject/>
  <dc:title>Research To Practice</dc:title>
</cp:coreProperties>
</file>