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4F4A-068B-4E21-B14F-49334228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0672-8A5D-4922-AB6F-C715ED9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B4C7E-D529-4F56-B36C-40EED28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09F8-600A-4DB6-91D4-0DAE491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3FD6-FB05-4C0A-8E5F-77C81D9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1F79-8A0B-4DAA-B66C-01998B3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5013-9BF6-410F-81CA-EB879AA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F283-34CD-4CF6-9585-BE56DB7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31BD-4212-466B-B509-61DB2AF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11A71-A2E0-402F-A415-7E0B513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94D9-C64C-437D-81A8-C0309E92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1F539-AD29-46CE-BAF2-70503EA0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87B17-639E-4071-AAF0-6441F3BC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DD6B2-ACA5-44D2-9B52-88811CB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13B96-0E33-4536-BFBB-88F6147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C15B4-6D6A-4927-9B0B-AFD1C892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88031-8119-463D-9E24-213CE899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371C3-87C9-461F-B10E-D69FB21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1A28E-80BB-46F4-B7DB-533051B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8C5C2-6A76-4899-971B-1D5B0E1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62DFC-D991-4522-A020-89CDA5F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35CDB-3849-4687-970C-9A45ECA7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2D245-990F-482C-B508-3D7D8B1A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346C0-BAC0-43E2-8958-3F98E411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08AA-BE34-4C99-9B2B-9A36B344C7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0E8-58CF-4549-94F3-1BBC89DF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db2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b2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66400" y="1262160"/>
            <a:ext cx="8420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266400" y="6095880"/>
            <a:ext cx="11206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3db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A3A-A8D1-49F5-BDA2-C8D37BA72D49}" type="datetime">
              <a:rPr b="0" lang="en-US" sz="1200" spc="-1" strike="noStrike">
                <a:solidFill>
                  <a:srgbClr val="6fb3db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1576080" y="6095880"/>
            <a:ext cx="3260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5055840" y="6095880"/>
            <a:ext cx="7621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3db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0CBA-B479-43E6-9AB9-1EA466B42C09}" type="slidenum">
              <a:rPr b="0" lang="en-US" sz="1200" spc="-1" strike="noStrike">
                <a:solidFill>
                  <a:srgbClr val="6fb3db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Year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necologic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Advances and Their Application to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3"/>
          <p:cNvSpPr/>
          <p:nvPr/>
        </p:nvSpPr>
        <p:spPr>
          <a:xfrm>
            <a:off x="250920" y="260280"/>
            <a:ext cx="78501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61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-Angiogenesis: 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197000"/>
            <a:ext cx="77738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vacizumab increases PFS in both first and second lin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 crossover effect, there may be an OS effect in subopt 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dose and duration of treatment are not ye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pproval by FDA in the US pending survival advanta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ngiogenesis drugs are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year old woman with history of advanced ovarian canc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history in 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months ago: Stage 3C ovary cancer, optimally debulked received carbo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litax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months ago: Recurrent disease, carbo/gemcitab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months ago: Abagovo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months ago: 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months ago: Bevacizumab + weekly paclitaxel to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months ago: Single agent bevacizu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onths ago: Nephrot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onths ago: Recurrence but nephrotic syndrome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s ago: Restart bevacizu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tle 1"/>
          <p:cNvSpPr/>
          <p:nvPr/>
        </p:nvSpPr>
        <p:spPr>
          <a:xfrm>
            <a:off x="453960" y="1371600"/>
            <a:ext cx="8690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randomized placebo-controlled study of olaparib in patients with platinum-sensitive relapsed serous ovarian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ubtitle 2"/>
          <p:cNvSpPr/>
          <p:nvPr/>
        </p:nvSpPr>
        <p:spPr>
          <a:xfrm>
            <a:off x="324000" y="3789360"/>
            <a:ext cx="84661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nathan Lederma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 Harter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 Gourley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Friedlander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Vergote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Rustin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 Scott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 Meier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 Shapira Frommer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 Safra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 Matei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Macpherson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 Watkins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J Carmichael,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 Matuloni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 College London, London, UK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liniken Essen Mit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Essen, Germany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 of Edinburgh Cancer Research UK Centre, Edinburgh, UK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e of Wales Hospital, Randwick, Australia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ty of Leuven, Leuven, European Union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Vernon Hospital, Northwood, UK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yal Melbourne Hospital, Parkville, Australia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ngelical Hospital, Düsseldorf, Germany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m Sheba Medical Center, Tel Hashomer, Israel; </a:t>
            </a:r>
            <a:br>
              <a:rPr sz="1200"/>
            </a:b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 Aviv Sourasky Medical Center, Tel Aviv, Israel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 University School of Medicine, Indianapolis, USA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aZeneca, Macclesfield, UK;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a-Farber Cancer Institute, Boston,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52280" y="304920"/>
            <a:ext cx="8420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y aim an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22400" y="1514520"/>
            <a:ext cx="88884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ssess the efficacy of oral olaparib as a maintenance treatment in patient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-sensitive high-gra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ous ovarian can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ed, double-blind, placebo-contro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national study; 82 sites in 1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5060880" y="4448160"/>
            <a:ext cx="378000" cy="37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6"/>
          <p:cNvSpPr/>
          <p:nvPr/>
        </p:nvSpPr>
        <p:spPr>
          <a:xfrm>
            <a:off x="5051520" y="5335560"/>
            <a:ext cx="377640" cy="37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38880" y="3821040"/>
            <a:ext cx="2043000" cy="8683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aparib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0 mg po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5529240" y="490680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domized 1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465880" y="5407200"/>
            <a:ext cx="2043000" cy="817560"/>
          </a:xfrm>
          <a:prstGeom prst="rect">
            <a:avLst/>
          </a:prstGeom>
          <a:solidFill>
            <a:srgbClr val="93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cebo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 b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00160" y="3713760"/>
            <a:ext cx="4832280" cy="2881800"/>
          </a:xfrm>
          <a:prstGeom prst="rect">
            <a:avLst/>
          </a:prstGeom>
          <a:solidFill>
            <a:srgbClr val="ddd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marL="182520" indent="-18252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tient eligibili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tinum-sensitive high-grade serous ovarian canc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 previous platinum regime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Last chemotherapy: platinum-based with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intaine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ble CA125 at trial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ization stratification facto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to disease progression on penultimate platinum thera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to last platinum therap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35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nic des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7578720" y="4618080"/>
            <a:ext cx="1542960" cy="824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eatment until disease 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152280" y="152280"/>
            <a:ext cx="84204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2120" y="1828800"/>
          <a:ext cx="7848360" cy="3352680"/>
        </p:xfrm>
        <a:graphic>
          <a:graphicData uri="http://schemas.openxmlformats.org/drawingml/2006/table">
            <a:tbl>
              <a:tblPr/>
              <a:tblGrid>
                <a:gridCol w="2895480"/>
                <a:gridCol w="2438280"/>
                <a:gridCol w="25146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apari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events: Total patients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:136 (44.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:129 (72.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PFS (month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 ratio (95% CI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l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(0.25–0.4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.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685800" y="6095880"/>
            <a:ext cx="70866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dermann JA et al. Proc ASCO 2011;Abstract 500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092240" y="203040"/>
            <a:ext cx="69595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1092240" y="76320"/>
            <a:ext cx="69469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244520" y="774720"/>
            <a:ext cx="66423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19320" y="228600"/>
            <a:ext cx="6858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757520"/>
            <a:ext cx="6629400" cy="324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platin-PLD, 11.3 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platin-paclitaxel, 9.4 m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 = 0.82 (95% CI, 0.72 to 0.94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-ran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superiority) = 0.005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noninferiority) ≤ 0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1547640" y="115920"/>
            <a:ext cx="589464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opics fo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Bevacizumab and Other Angiogenesis Targe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(ADP Ribose) Polymerase Inhibitors (PARPi): Science an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therapy for Advanced and Recurren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E958-E43A-4E9F-8529-35B8ECDCF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250920" y="4286160"/>
            <a:ext cx="8673840" cy="2527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421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00000" y="-3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Drugs: Cabozantin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84360" y="1125360"/>
            <a:ext cx="7848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of Cabozantinib (XL184) in Advanced Ovarian Cancer Patients: Result From a Phase 2 Randomized Discontinuation Trial (R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J. Buckanovich, R Berger, A. Sella, BI. Sikic, X. Shen, D.A. Ramies, D.C. Smith, I.B. Ver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68360" y="4149720"/>
            <a:ext cx="835164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p Treat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 rat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 +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 Refrac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2/11 (18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 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5/23 (22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inum Sensitive           10/36 (24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6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Heymach, MD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K Oh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ig Moskowitz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nneth C Anderson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leen M O’Reilly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 Spriggs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79280" y="549360"/>
            <a:ext cx="876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S, a phase III, multicenter, randomized, blinded, placebo-controlled trial of carboplatin and gemcitabine plus bevacizumab in patients with platinum-sensitive recurrent ovary, primary peritoneal, or fallopian tube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8000" y="2637000"/>
            <a:ext cx="8902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Aghajanian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J Finkler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 Rutherford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 Smith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 Yi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 Parmar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A Sovak,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R Nycu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morial Sloan-Kettering Cancer Center, New York, NY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lorida Hospital Gynecologic Oncology, Florida Hospital Cancer Institute, Orlando, FL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ale School of Medicine, New Haven, CT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rthwest Cancer Specialists, Vancouver, WA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ntech, Inc., South San Francisco, CA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syth Regional Cancer Center, Winston-Salem, NC, USA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db2d"/>
                </a:solidFill>
                <a:latin typeface="Arial"/>
              </a:rPr>
              <a:t>OCEANS: Study schema</a:t>
            </a:r>
            <a:endParaRPr b="1" lang="en-US" sz="3600" spc="-1" strike="noStrike">
              <a:solidFill>
                <a:srgbClr val="ffdb2d"/>
              </a:solidFill>
              <a:latin typeface="Arial"/>
            </a:endParaRPr>
          </a:p>
        </p:txBody>
      </p:sp>
      <p:sp>
        <p:nvSpPr>
          <p:cNvPr id="170" name="TextBox 70"/>
          <p:cNvSpPr/>
          <p:nvPr/>
        </p:nvSpPr>
        <p:spPr>
          <a:xfrm>
            <a:off x="3959280" y="444168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G for 6 (up to 10)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8"/>
          <p:cNvSpPr/>
          <p:nvPr/>
        </p:nvSpPr>
        <p:spPr>
          <a:xfrm>
            <a:off x="216000" y="4083120"/>
            <a:ext cx="3465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atification variab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inum-free interva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6–12 vs &gt;1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toreductive surgery for recurrent disease (yes vs 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16000" y="1441440"/>
            <a:ext cx="2627280" cy="2229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tinum-sensitive recurrent O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asurabl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COG 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prior chemo for recurrent 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prior 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289800" y="5854680"/>
            <a:ext cx="508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2c872"/>
                </a:solidFill>
                <a:latin typeface="Arial"/>
                <a:ea typeface="Arial"/>
              </a:rPr>
              <a:t>BV = bevacizumab; PL = place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baseline="30000">
                <a:solidFill>
                  <a:srgbClr val="72c872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72c872"/>
                </a:solidFill>
                <a:latin typeface="Arial"/>
                <a:ea typeface="Arial"/>
              </a:rPr>
              <a:t>Epithelial ovarian, primary peritoneal, or fallopian tube can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2842920" y="1184400"/>
            <a:ext cx="5862960" cy="1503360"/>
            <a:chOff x="2842920" y="1184400"/>
            <a:chExt cx="5862960" cy="1503360"/>
          </a:xfrm>
        </p:grpSpPr>
        <p:cxnSp>
          <p:nvCxnSpPr>
            <p:cNvPr id="175" name="Straight Arrow Connector 72"/>
            <p:cNvCxnSpPr>
              <a:stCxn id="172" idx="3"/>
            </p:cNvCxnSpPr>
            <p:nvPr/>
          </p:nvCxnSpPr>
          <p:spPr>
            <a:xfrm flipV="1">
              <a:off x="2842920" y="1742040"/>
              <a:ext cx="878760" cy="822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176" name="Group 6"/>
            <p:cNvGrpSpPr/>
            <p:nvPr/>
          </p:nvGrpSpPr>
          <p:grpSpPr>
            <a:xfrm>
              <a:off x="3962520" y="1184400"/>
              <a:ext cx="1069560" cy="456480"/>
              <a:chOff x="3962520" y="1184400"/>
              <a:chExt cx="1069560" cy="456480"/>
            </a:xfrm>
          </p:grpSpPr>
          <p:grpSp>
            <p:nvGrpSpPr>
              <p:cNvPr id="177" name="Rectangle 7"/>
              <p:cNvGrpSpPr/>
              <p:nvPr/>
            </p:nvGrpSpPr>
            <p:grpSpPr>
              <a:xfrm>
                <a:off x="3962520" y="1184400"/>
                <a:ext cx="163080" cy="456480"/>
                <a:chOff x="3962520" y="1184400"/>
                <a:chExt cx="163080" cy="456480"/>
              </a:xfrm>
            </p:grpSpPr>
            <p:pic>
              <p:nvPicPr>
                <p:cNvPr id="178" name="Rectangl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62520" y="1184400"/>
                  <a:ext cx="16308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3985560" y="1208160"/>
                  <a:ext cx="1202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Rectangle 8"/>
              <p:cNvGrpSpPr/>
              <p:nvPr/>
            </p:nvGrpSpPr>
            <p:grpSpPr>
              <a:xfrm>
                <a:off x="4143240" y="1184400"/>
                <a:ext cx="163080" cy="456480"/>
                <a:chOff x="4143240" y="1184400"/>
                <a:chExt cx="163080" cy="456480"/>
              </a:xfrm>
            </p:grpSpPr>
            <p:pic>
              <p:nvPicPr>
                <p:cNvPr id="181" name="Rectangl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43240" y="1184400"/>
                  <a:ext cx="16308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4166280" y="1208160"/>
                  <a:ext cx="12024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Rectangle 9"/>
              <p:cNvGrpSpPr/>
              <p:nvPr/>
            </p:nvGrpSpPr>
            <p:grpSpPr>
              <a:xfrm>
                <a:off x="4325400" y="1184400"/>
                <a:ext cx="163440" cy="456480"/>
                <a:chOff x="4325400" y="1184400"/>
                <a:chExt cx="163440" cy="456480"/>
              </a:xfrm>
            </p:grpSpPr>
            <p:pic>
              <p:nvPicPr>
                <p:cNvPr id="184" name="Rectangle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25400" y="1184400"/>
                  <a:ext cx="16344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4348440" y="1208160"/>
                  <a:ext cx="1206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Rectangle 10"/>
              <p:cNvGrpSpPr/>
              <p:nvPr/>
            </p:nvGrpSpPr>
            <p:grpSpPr>
              <a:xfrm>
                <a:off x="4506480" y="1184400"/>
                <a:ext cx="163440" cy="456480"/>
                <a:chOff x="4506480" y="1184400"/>
                <a:chExt cx="163440" cy="456480"/>
              </a:xfrm>
            </p:grpSpPr>
            <p:pic>
              <p:nvPicPr>
                <p:cNvPr id="187" name="Rectangle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06480" y="1184400"/>
                  <a:ext cx="16344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>
                  <a:off x="4529160" y="1208160"/>
                  <a:ext cx="1206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Rectangle 11"/>
              <p:cNvGrpSpPr/>
              <p:nvPr/>
            </p:nvGrpSpPr>
            <p:grpSpPr>
              <a:xfrm>
                <a:off x="4687560" y="1184400"/>
                <a:ext cx="163440" cy="456480"/>
                <a:chOff x="4687560" y="1184400"/>
                <a:chExt cx="163440" cy="456480"/>
              </a:xfrm>
            </p:grpSpPr>
            <p:pic>
              <p:nvPicPr>
                <p:cNvPr id="190" name="Rectangle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7560" y="1184400"/>
                  <a:ext cx="16344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4710240" y="1208160"/>
                  <a:ext cx="1206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Rectangle 12"/>
              <p:cNvGrpSpPr/>
              <p:nvPr/>
            </p:nvGrpSpPr>
            <p:grpSpPr>
              <a:xfrm>
                <a:off x="4868640" y="1184400"/>
                <a:ext cx="163440" cy="456480"/>
                <a:chOff x="4868640" y="1184400"/>
                <a:chExt cx="163440" cy="456480"/>
              </a:xfrm>
            </p:grpSpPr>
            <p:pic>
              <p:nvPicPr>
                <p:cNvPr id="193" name="Rectangle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868640" y="1184400"/>
                  <a:ext cx="163440" cy="45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>
                  <a:off x="4891320" y="1208160"/>
                  <a:ext cx="120600" cy="4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5" name="Group 13" descr=""/>
            <p:cNvPicPr/>
            <p:nvPr/>
          </p:nvPicPr>
          <p:blipFill>
            <a:blip r:embed="rId8"/>
            <a:stretch/>
          </p:blipFill>
          <p:spPr>
            <a:xfrm>
              <a:off x="3938040" y="1682280"/>
              <a:ext cx="1109520" cy="4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61"/>
            <p:cNvSpPr/>
            <p:nvPr/>
          </p:nvSpPr>
          <p:spPr>
            <a:xfrm>
              <a:off x="5186880" y="1661760"/>
              <a:ext cx="276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 1000 mg/m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, d1 &amp;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2"/>
            <p:cNvSpPr/>
            <p:nvPr/>
          </p:nvSpPr>
          <p:spPr>
            <a:xfrm>
              <a:off x="5186520" y="1290600"/>
              <a:ext cx="204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 AUC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AutoShape 57"/>
            <p:cNvGrpSpPr/>
            <p:nvPr/>
          </p:nvGrpSpPr>
          <p:grpSpPr>
            <a:xfrm>
              <a:off x="3938040" y="2188080"/>
              <a:ext cx="4767840" cy="499680"/>
              <a:chOff x="3938040" y="2188080"/>
              <a:chExt cx="4767840" cy="499680"/>
            </a:xfrm>
          </p:grpSpPr>
          <p:pic>
            <p:nvPicPr>
              <p:cNvPr id="199" name="AutoShape 57" descr=""/>
              <p:cNvPicPr/>
              <p:nvPr/>
            </p:nvPicPr>
            <p:blipFill>
              <a:blip r:embed="rId9"/>
              <a:stretch/>
            </p:blipFill>
            <p:spPr>
              <a:xfrm>
                <a:off x="3938040" y="2188080"/>
                <a:ext cx="4767840" cy="4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3962160" y="2326320"/>
                <a:ext cx="421668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73"/>
            <p:cNvSpPr/>
            <p:nvPr/>
          </p:nvSpPr>
          <p:spPr>
            <a:xfrm>
              <a:off x="4340520" y="2279520"/>
              <a:ext cx="274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a315a"/>
                  </a:solidFill>
                  <a:latin typeface="Arial"/>
                </a:rPr>
                <a:t>PL q3w until prog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70"/>
          <p:cNvSpPr/>
          <p:nvPr/>
        </p:nvSpPr>
        <p:spPr>
          <a:xfrm>
            <a:off x="2976480" y="1206360"/>
            <a:ext cx="34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G + 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7"/>
          <p:cNvGrpSpPr/>
          <p:nvPr/>
        </p:nvGrpSpPr>
        <p:grpSpPr>
          <a:xfrm>
            <a:off x="2843280" y="2565360"/>
            <a:ext cx="5867280" cy="1909800"/>
            <a:chOff x="2843280" y="2565360"/>
            <a:chExt cx="5867280" cy="1909800"/>
          </a:xfrm>
        </p:grpSpPr>
        <p:cxnSp>
          <p:nvCxnSpPr>
            <p:cNvPr id="204" name="Straight Arrow Connector 76"/>
            <p:cNvCxnSpPr>
              <a:stCxn id="172" idx="3"/>
            </p:cNvCxnSpPr>
            <p:nvPr/>
          </p:nvCxnSpPr>
          <p:spPr>
            <a:xfrm>
              <a:off x="2843280" y="2565360"/>
              <a:ext cx="878400" cy="8820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arrow" w="med"/>
            </a:ln>
          </p:spPr>
        </p:cxnSp>
        <p:grpSp>
          <p:nvGrpSpPr>
            <p:cNvPr id="205" name="Group 36"/>
            <p:cNvGrpSpPr/>
            <p:nvPr/>
          </p:nvGrpSpPr>
          <p:grpSpPr>
            <a:xfrm>
              <a:off x="3971520" y="2924640"/>
              <a:ext cx="1069200" cy="457560"/>
              <a:chOff x="3971520" y="2924640"/>
              <a:chExt cx="1069200" cy="457560"/>
            </a:xfrm>
          </p:grpSpPr>
          <p:grpSp>
            <p:nvGrpSpPr>
              <p:cNvPr id="206" name="Rectangle 37"/>
              <p:cNvGrpSpPr/>
              <p:nvPr/>
            </p:nvGrpSpPr>
            <p:grpSpPr>
              <a:xfrm>
                <a:off x="3971520" y="2924640"/>
                <a:ext cx="163080" cy="457560"/>
                <a:chOff x="3971520" y="2924640"/>
                <a:chExt cx="163080" cy="457560"/>
              </a:xfrm>
            </p:grpSpPr>
            <p:pic>
              <p:nvPicPr>
                <p:cNvPr id="207" name="Rectangle 3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971520" y="2924640"/>
                  <a:ext cx="16308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3997800" y="2945520"/>
                  <a:ext cx="12024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Rectangle 38"/>
              <p:cNvGrpSpPr/>
              <p:nvPr/>
            </p:nvGrpSpPr>
            <p:grpSpPr>
              <a:xfrm>
                <a:off x="4152240" y="2924640"/>
                <a:ext cx="163080" cy="457560"/>
                <a:chOff x="4152240" y="2924640"/>
                <a:chExt cx="163080" cy="457560"/>
              </a:xfrm>
            </p:grpSpPr>
            <p:pic>
              <p:nvPicPr>
                <p:cNvPr id="210" name="Rectangle 3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152240" y="2924640"/>
                  <a:ext cx="16308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>
                  <a:off x="4178160" y="2945520"/>
                  <a:ext cx="12024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Rectangle 39"/>
              <p:cNvGrpSpPr/>
              <p:nvPr/>
            </p:nvGrpSpPr>
            <p:grpSpPr>
              <a:xfrm>
                <a:off x="4333320" y="2924640"/>
                <a:ext cx="163080" cy="457560"/>
                <a:chOff x="4333320" y="2924640"/>
                <a:chExt cx="163080" cy="457560"/>
              </a:xfrm>
            </p:grpSpPr>
            <p:pic>
              <p:nvPicPr>
                <p:cNvPr id="213" name="Rectangle 3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333320" y="2924640"/>
                  <a:ext cx="16308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>
                  <a:off x="4359240" y="2945520"/>
                  <a:ext cx="12024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Rectangle 40"/>
              <p:cNvGrpSpPr/>
              <p:nvPr/>
            </p:nvGrpSpPr>
            <p:grpSpPr>
              <a:xfrm>
                <a:off x="4514400" y="2924640"/>
                <a:ext cx="163080" cy="457560"/>
                <a:chOff x="4514400" y="2924640"/>
                <a:chExt cx="163080" cy="457560"/>
              </a:xfrm>
            </p:grpSpPr>
            <p:pic>
              <p:nvPicPr>
                <p:cNvPr id="216" name="Rectangle 4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14400" y="2924640"/>
                  <a:ext cx="16308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4539960" y="2945520"/>
                  <a:ext cx="12024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Rectangle 41"/>
              <p:cNvGrpSpPr/>
              <p:nvPr/>
            </p:nvGrpSpPr>
            <p:grpSpPr>
              <a:xfrm>
                <a:off x="4696560" y="2924640"/>
                <a:ext cx="163440" cy="457560"/>
                <a:chOff x="4696560" y="2924640"/>
                <a:chExt cx="163440" cy="457560"/>
              </a:xfrm>
            </p:grpSpPr>
            <p:pic>
              <p:nvPicPr>
                <p:cNvPr id="219" name="Rectangle 4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696560" y="2924640"/>
                  <a:ext cx="16344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"/>
                <p:cNvSpPr/>
                <p:nvPr/>
              </p:nvSpPr>
              <p:spPr>
                <a:xfrm>
                  <a:off x="4722120" y="2945520"/>
                  <a:ext cx="12060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Rectangle 42"/>
              <p:cNvGrpSpPr/>
              <p:nvPr/>
            </p:nvGrpSpPr>
            <p:grpSpPr>
              <a:xfrm>
                <a:off x="4877280" y="2924640"/>
                <a:ext cx="163440" cy="457560"/>
                <a:chOff x="4877280" y="2924640"/>
                <a:chExt cx="163440" cy="457560"/>
              </a:xfrm>
            </p:grpSpPr>
            <p:pic>
              <p:nvPicPr>
                <p:cNvPr id="222" name="Rectangle 4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77280" y="2924640"/>
                  <a:ext cx="163440" cy="4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"/>
                <p:cNvSpPr/>
                <p:nvPr/>
              </p:nvSpPr>
              <p:spPr>
                <a:xfrm>
                  <a:off x="4902840" y="2945520"/>
                  <a:ext cx="120600" cy="41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4" name="Group 43" descr=""/>
            <p:cNvPicPr/>
            <p:nvPr/>
          </p:nvPicPr>
          <p:blipFill>
            <a:blip r:embed="rId16"/>
            <a:stretch/>
          </p:blipFill>
          <p:spPr>
            <a:xfrm>
              <a:off x="3949920" y="3426120"/>
              <a:ext cx="11091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66"/>
            <p:cNvSpPr/>
            <p:nvPr/>
          </p:nvSpPr>
          <p:spPr>
            <a:xfrm>
              <a:off x="5174640" y="3169080"/>
              <a:ext cx="217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 AUC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AutoShape 59"/>
            <p:cNvGrpSpPr/>
            <p:nvPr/>
          </p:nvGrpSpPr>
          <p:grpSpPr>
            <a:xfrm>
              <a:off x="3949920" y="3944520"/>
              <a:ext cx="4760640" cy="530640"/>
              <a:chOff x="3949920" y="3944520"/>
              <a:chExt cx="4760640" cy="530640"/>
            </a:xfrm>
          </p:grpSpPr>
          <p:pic>
            <p:nvPicPr>
              <p:cNvPr id="227" name="AutoShape 5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949920" y="3944520"/>
                <a:ext cx="476064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3974400" y="4089600"/>
                <a:ext cx="421416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72"/>
            <p:cNvSpPr/>
            <p:nvPr/>
          </p:nvSpPr>
          <p:spPr>
            <a:xfrm>
              <a:off x="3789360" y="4045680"/>
              <a:ext cx="42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a315a"/>
                  </a:solidFill>
                  <a:latin typeface="Arial"/>
                </a:rPr>
                <a:t>BV 15 mg/kg q3w until progre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5170320" y="3473640"/>
              <a:ext cx="276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 1000 mg/m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, d1 &amp;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70"/>
          <p:cNvSpPr/>
          <p:nvPr/>
        </p:nvSpPr>
        <p:spPr>
          <a:xfrm>
            <a:off x="2975040" y="357192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G + 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db2d"/>
                </a:solidFill>
                <a:latin typeface="Arial"/>
              </a:rPr>
              <a:t>OCEANS: Primary analysis of PFS</a:t>
            </a:r>
            <a:endParaRPr b="1" lang="en-US" sz="3600" spc="-1" strike="noStrike">
              <a:solidFill>
                <a:srgbClr val="ffdb2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2120" y="1967040"/>
          <a:ext cx="7543800" cy="2747880"/>
        </p:xfrm>
        <a:graphic>
          <a:graphicData uri="http://schemas.openxmlformats.org/drawingml/2006/table">
            <a:tbl>
              <a:tblPr/>
              <a:tblGrid>
                <a:gridCol w="3504960"/>
                <a:gridCol w="2057400"/>
                <a:gridCol w="19814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G + 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G + B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, 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, months 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.3–9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.4–12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ified analysis HR 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-rank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marL="295200" indent="-295200" algn="ctr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4 (0.388–0.6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5200" indent="-295200" algn="ctr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-31680" y="792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ON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3174840" y="2255760"/>
            <a:ext cx="908280" cy="946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3168720" y="3170160"/>
            <a:ext cx="9144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56680" y="5735520"/>
            <a:ext cx="509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platin: AUC6; Paclitaxel 175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s: 21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96920" y="2395440"/>
            <a:ext cx="2905200" cy="1618200"/>
          </a:xfrm>
          <a:prstGeom prst="roundRect">
            <a:avLst>
              <a:gd name="adj" fmla="val 16667"/>
            </a:avLst>
          </a:prstGeom>
          <a:solidFill>
            <a:srgbClr val="007f9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igh risk early stage/Advanced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varian, primary peritoneal, or fallopian tube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4159080" y="1785960"/>
            <a:ext cx="4724640" cy="1010520"/>
          </a:xfrm>
          <a:prstGeom prst="roundRect">
            <a:avLst>
              <a:gd name="adj" fmla="val 16667"/>
            </a:avLst>
          </a:prstGeom>
          <a:solidFill>
            <a:srgbClr val="007f9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rboplatin/Paclitaxel x 6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4143240" y="3827520"/>
            <a:ext cx="4754520" cy="1314360"/>
          </a:xfrm>
          <a:prstGeom prst="roundRect">
            <a:avLst>
              <a:gd name="adj" fmla="val 16667"/>
            </a:avLst>
          </a:prstGeom>
          <a:solidFill>
            <a:srgbClr val="007f9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rboplatin/Paclitaxel x 6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Bevacizumab 7.5 mg/k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5-6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Bevacizumab 7.5 mg/k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12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6445080" y="216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6369120" y="452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96920" y="4224240"/>
            <a:ext cx="3504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Accrual: 1,5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endpoint: 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2438280" y="609480"/>
            <a:ext cx="439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pdated P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62120" y="2057400"/>
          <a:ext cx="7542000" cy="3009960"/>
        </p:xfrm>
        <a:graphic>
          <a:graphicData uri="http://schemas.openxmlformats.org/drawingml/2006/table">
            <a:tbl>
              <a:tblPr/>
              <a:tblGrid>
                <a:gridCol w="3306600"/>
                <a:gridCol w="1947960"/>
                <a:gridCol w="2287440"/>
              </a:tblGrid>
              <a:tr h="56016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a044b"/>
                          </a:solidFill>
                          <a:latin typeface="Arial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vents, n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 (6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 (6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, month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-rank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.0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160">
                <a:tc>
                  <a:txBody>
                    <a:bodyPr lIns="90000" rIns="90000"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R (95% C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 (0.77–0.9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04920" y="6232680"/>
            <a:ext cx="72388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ristensen G et al. Proc ASCO 2011;Abstract LBA5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: All Patients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38080" y="1828800"/>
          <a:ext cx="7467840" cy="3352680"/>
        </p:xfrm>
        <a:graphic>
          <a:graphicData uri="http://schemas.openxmlformats.org/drawingml/2006/table">
            <a:tbl>
              <a:tblPr/>
              <a:tblGrid>
                <a:gridCol w="3822840"/>
                <a:gridCol w="1793880"/>
                <a:gridCol w="1851120"/>
              </a:tblGrid>
              <a:tr h="604800">
                <a:tc>
                  <a:txBody>
                    <a:bodyPr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a044b"/>
                          </a:solidFill>
                          <a:latin typeface="Arial"/>
                        </a:rPr>
                        <a:t>Re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aths, n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(2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 (2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, month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ach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-rank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R (95% C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 (0.69–1.0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-year OS rate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762120" y="1752480"/>
          <a:ext cx="7543800" cy="3581280"/>
        </p:xfrm>
        <a:graphic>
          <a:graphicData uri="http://schemas.openxmlformats.org/drawingml/2006/table">
            <a:tbl>
              <a:tblPr/>
              <a:tblGrid>
                <a:gridCol w="3343320"/>
                <a:gridCol w="1933560"/>
                <a:gridCol w="2266920"/>
              </a:tblGrid>
              <a:tr h="7945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risk sub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 = 23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a044b"/>
                          </a:solidFill>
                          <a:latin typeface="Arial"/>
                        </a:rPr>
                        <a:t>Research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9a044b"/>
                          </a:solidFill>
                          <a:latin typeface="Arial"/>
                        </a:rPr>
                        <a:t> (n = 23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aths, n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(4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(3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, month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-rank te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.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440">
                <a:tc>
                  <a:txBody>
                    <a:bodyPr lIns="90000" rIns="90000"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R (95% C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 (0.48–0.8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0" bIns="0" anchor="ctr">
                      <a:noAutofit/>
                    </a:bodyPr>
                    <a:p>
                      <a:pPr lvl="1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-year OS rate (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itle 1"/>
          <p:cNvSpPr/>
          <p:nvPr/>
        </p:nvSpPr>
        <p:spPr>
          <a:xfrm>
            <a:off x="755640" y="0"/>
            <a:ext cx="607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: High-risk sub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232680"/>
            <a:ext cx="76964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ristensen G et al. Proc ASCO 2011;Abstract LBA5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2:49:33Z</dcterms:created>
  <dc:creator/>
  <dc:description/>
  <cp:keywords/>
  <dc:language>en-US</dc:language>
  <cp:lastModifiedBy>Aura Herrmann</cp:lastModifiedBy>
  <cp:lastPrinted>2011-10-14T21:03:54Z</cp:lastPrinted>
  <dcterms:modified xsi:type="dcterms:W3CDTF">2012-02-17T13:30:30Z</dcterms:modified>
  <cp:revision>47</cp:revision>
  <dc:subject/>
  <dc:title>The Year in  Gynecologic Cancer</dc:title>
</cp:coreProperties>
</file>