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41.png" ContentType="image/png"/>
  <Override PartName="/ppt/media/image32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67FB-4B7A-4CB2-B1C0-1E68EB06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0AA-E443-4A4A-B097-83B01449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3520-50E3-420D-B867-52CC213E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1EEC-2B88-4302-BF8C-25D39F9E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68BE-A153-4405-9635-62534C65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815A-D2B1-4FA5-9C29-36A964A6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AF0-2FA2-4DBB-AAA9-9D750BF3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89F-1627-4296-B54A-3415FBD3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E8E-5EF7-4B0B-8073-DB4E6752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DE90-3A08-40E5-ADE2-0034B860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E98-EEAE-4733-A38E-0EB083E6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E265-0DB8-42B0-8ADF-27DB438D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45DE-53E1-4336-A5D5-F6D6F86B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D445-0C8E-42B4-A629-227802C9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3223-3250-4105-A5D4-6FF14DC1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E966-0853-473F-99FD-0DBD35D0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7CD8-4586-4CF5-AB71-F1C35283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577D-BAD9-46C9-A96E-C720FE5D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7656-B6C0-47F6-A21F-AECABFCC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9D95-4570-4FA6-9FF0-4FFD6532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AE23-389B-4164-B781-26A86522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8047-0AE7-4887-A428-B4220AAE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9A53-85FA-4684-A25C-65221725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294F-8781-4B9A-B795-233CFF75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57280"/>
            <a:ext cx="845532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f72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df72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" descr="http://cbio.mskcc.org/altan-bonnetlab/Site_MSKCC/Job_opening_files/logo-1.gif"/>
          <p:cNvPicPr/>
          <p:nvPr/>
        </p:nvPicPr>
        <p:blipFill>
          <a:blip r:embed="rId2"/>
          <a:stretch/>
        </p:blipFill>
        <p:spPr>
          <a:xfrm>
            <a:off x="7556400" y="6369120"/>
            <a:ext cx="158760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40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cbio.mskcc.org/altan-bonnetlab/Site_MSKCC/Job_opening_files/logo-1.gif"/>
          <p:cNvPicPr/>
          <p:nvPr/>
        </p:nvPicPr>
        <p:blipFill>
          <a:blip r:embed="rId2"/>
          <a:stretch/>
        </p:blipFill>
        <p:spPr>
          <a:xfrm>
            <a:off x="7556400" y="6369120"/>
            <a:ext cx="1587600" cy="482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457280"/>
            <a:ext cx="845532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f72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df72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16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16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1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1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1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1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1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00D0-BCA4-4EBB-88A0-37BE9243D55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3"/>
          </p:nvPr>
        </p:nvSpPr>
        <p:spPr>
          <a:xfrm>
            <a:off x="68612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F5E8-614B-4524-A750-CA5C9ADB65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7023-118B-4DE3-A07B-645805E39C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B63A-FBDE-49EE-8F2C-BFEE483F8F85}" type="slidenum">
              <a:rPr b="0" lang="en-A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zoologi.su.se/education/phd-biology/europa.GIF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40.png"/><Relationship Id="rId1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Rectangle 4"/>
          <p:cNvGrpSpPr/>
          <p:nvPr/>
        </p:nvGrpSpPr>
        <p:grpSpPr>
          <a:xfrm>
            <a:off x="603360" y="1407960"/>
            <a:ext cx="7802280" cy="1773360"/>
            <a:chOff x="603360" y="1407960"/>
            <a:chExt cx="7802280" cy="1773360"/>
          </a:xfrm>
        </p:grpSpPr>
        <p:pic>
          <p:nvPicPr>
            <p:cNvPr id="201" name="Rectangle 4" descr=""/>
            <p:cNvPicPr/>
            <p:nvPr/>
          </p:nvPicPr>
          <p:blipFill>
            <a:blip r:embed="rId1"/>
            <a:stretch/>
          </p:blipFill>
          <p:spPr>
            <a:xfrm>
              <a:off x="603360" y="1407960"/>
              <a:ext cx="780228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22440" y="1425600"/>
              <a:ext cx="777240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ew and </a:t>
              </a: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important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lymphoma data </a:t>
              </a:r>
              <a:br>
                <a:rPr sz="3200"/>
              </a:b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82240" y="4479480"/>
            <a:ext cx="824868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aig Moskowitz, M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ical Director, Division of Hematologic Oncolog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ending Physician, Lymphoma and ABMT Services, Memorial Hospita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er, Memorial Sloan-Kettering Cancer Ce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sor of Medicine, Weill Medical College of Cornell Univers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entuximab Vedotin Mechanism of A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17" descr="b-v-MOA-with-pullout"/>
          <p:cNvPicPr/>
          <p:nvPr/>
        </p:nvPicPr>
        <p:blipFill>
          <a:blip r:embed="rId1"/>
          <a:srcRect l="10108" t="13134" r="0" b="0"/>
          <a:stretch/>
        </p:blipFill>
        <p:spPr>
          <a:xfrm>
            <a:off x="549360" y="1157400"/>
            <a:ext cx="6080040" cy="517824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9"/>
          <p:cNvSpPr/>
          <p:nvPr/>
        </p:nvSpPr>
        <p:spPr>
          <a:xfrm>
            <a:off x="2755800" y="1320840"/>
            <a:ext cx="54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ntuximab vedotin (SGN-35) AD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82440" y="3556080"/>
            <a:ext cx="24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ADC binds to CD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12600" y="5450040"/>
            <a:ext cx="219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MMAE disrupts</a:t>
            </a:r>
            <a:br>
              <a:rPr sz="1600"/>
            </a:b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Microtubule netwo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106200" y="3889440"/>
            <a:ext cx="250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ADC-CD30 complex traffics to lysoso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76320" y="5021280"/>
            <a:ext cx="23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MMAE is relea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4"/>
          <p:cNvSpPr/>
          <p:nvPr/>
        </p:nvSpPr>
        <p:spPr>
          <a:xfrm>
            <a:off x="6581880" y="6066000"/>
            <a:ext cx="145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Apopto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6249960" y="5265720"/>
            <a:ext cx="145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G2/M cell</a:t>
            </a:r>
            <a:br>
              <a:rPr sz="1600"/>
            </a:b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cycle arr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3168360" y="2392200"/>
            <a:ext cx="32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anti-CD30 monoclonal antibod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3165840" y="212256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protease-cleavable link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3160800" y="1859040"/>
            <a:ext cx="58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monomethyl auristatin E (MMAE), potent antitubulin ag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6426360"/>
            <a:ext cx="6527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th permission from Chen R et al. Proc ASH 2010;Abstract 28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ase 2, Multicenter, Open-Label Study of Brentuximab Vedotin in Relapsed/Refractory sALC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Group 13"/>
          <p:cNvGrpSpPr/>
          <p:nvPr/>
        </p:nvGrpSpPr>
        <p:grpSpPr>
          <a:xfrm>
            <a:off x="365040" y="1355760"/>
            <a:ext cx="8398080" cy="4359240"/>
            <a:chOff x="365040" y="1355760"/>
            <a:chExt cx="8398080" cy="4359240"/>
          </a:xfrm>
        </p:grpSpPr>
        <p:sp>
          <p:nvSpPr>
            <p:cNvPr id="349" name="AutoShape 12"/>
            <p:cNvSpPr/>
            <p:nvPr/>
          </p:nvSpPr>
          <p:spPr>
            <a:xfrm>
              <a:off x="380880" y="1812960"/>
              <a:ext cx="2895840" cy="3902040"/>
            </a:xfrm>
            <a:custGeom>
              <a:avLst/>
              <a:gdLst>
                <a:gd name="textAreaLeft" fmla="*/ 0 w 2895840"/>
                <a:gd name="textAreaRight" fmla="*/ 2896200 w 2895840"/>
                <a:gd name="textAreaTop" fmla="*/ 0 h 3902040"/>
                <a:gd name="textAreaBottom" fmla="*/ 3902400 h 390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50" y="0"/>
                  </a:lnTo>
                  <a:lnTo>
                    <a:pt x="21600" y="10800"/>
                  </a:lnTo>
                  <a:lnTo>
                    <a:pt x="1895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6"/>
            <p:cNvSpPr/>
            <p:nvPr/>
          </p:nvSpPr>
          <p:spPr>
            <a:xfrm>
              <a:off x="380880" y="1812960"/>
              <a:ext cx="2606760" cy="37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t">
              <a:noAutofit/>
            </a:bodyPr>
            <a:p>
              <a:pPr marL="343080" indent="-343080">
                <a:spcBef>
                  <a:spcPts val="499"/>
                </a:spcBef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lapsed or refractory systemic ALC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ge ≥12 yea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easurable disease ≥1.5 cm FDG-avi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COG 0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 Box 7"/>
            <p:cNvSpPr/>
            <p:nvPr/>
          </p:nvSpPr>
          <p:spPr>
            <a:xfrm>
              <a:off x="7010280" y="1355760"/>
              <a:ext cx="1752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llow-u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8"/>
            <p:cNvSpPr/>
            <p:nvPr/>
          </p:nvSpPr>
          <p:spPr>
            <a:xfrm>
              <a:off x="3292560" y="1355760"/>
              <a:ext cx="326052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eatment (N = 58)*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Text Box 9"/>
            <p:cNvSpPr/>
            <p:nvPr/>
          </p:nvSpPr>
          <p:spPr>
            <a:xfrm>
              <a:off x="365040" y="1355760"/>
              <a:ext cx="25606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igibil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AutoShape 13"/>
            <p:cNvSpPr/>
            <p:nvPr/>
          </p:nvSpPr>
          <p:spPr>
            <a:xfrm>
              <a:off x="3276720" y="1812960"/>
              <a:ext cx="3733560" cy="3902040"/>
            </a:xfrm>
            <a:custGeom>
              <a:avLst/>
              <a:gdLst>
                <a:gd name="textAreaLeft" fmla="*/ 0 w 3733560"/>
                <a:gd name="textAreaRight" fmla="*/ 3733920 w 3733560"/>
                <a:gd name="textAreaTop" fmla="*/ 0 h 3902040"/>
                <a:gd name="textAreaBottom" fmla="*/ 3902400 h 390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98" y="0"/>
                  </a:lnTo>
                  <a:lnTo>
                    <a:pt x="21600" y="10800"/>
                  </a:lnTo>
                  <a:lnTo>
                    <a:pt x="1959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10"/>
            <p:cNvSpPr/>
            <p:nvPr/>
          </p:nvSpPr>
          <p:spPr>
            <a:xfrm>
              <a:off x="3321000" y="1812960"/>
              <a:ext cx="3276720" cy="37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t">
              <a:noAutofit/>
            </a:bodyPr>
            <a:p>
              <a:pPr marL="343080" indent="-343080">
                <a:spcBef>
                  <a:spcPts val="499"/>
                </a:spcBef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rentuximab vedotin 1.8 mg/kg IV every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1 day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ministered outpatient over 30 mi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ax 16 cycles for SD or better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stage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Arial"/>
                  <a:ea typeface="Times New Roman"/>
                </a:rPr>
                <a:t>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at Cycles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, 4, 7, 10, 13, 1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11"/>
            <p:cNvSpPr/>
            <p:nvPr/>
          </p:nvSpPr>
          <p:spPr>
            <a:xfrm>
              <a:off x="7010280" y="1812960"/>
              <a:ext cx="1752840" cy="3902040"/>
            </a:xfrm>
            <a:prstGeom prst="rect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90000" tIns="0" bIns="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very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2 week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Text Box 11"/>
          <p:cNvSpPr/>
          <p:nvPr/>
        </p:nvSpPr>
        <p:spPr>
          <a:xfrm>
            <a:off x="411120" y="5838840"/>
            <a:ext cx="8001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Ongoing stud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vised Response Criteria for Malignant Lymphoma (Cheson, 200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7" descr="35-04 tumor reduction-white"/>
          <p:cNvPicPr/>
          <p:nvPr/>
        </p:nvPicPr>
        <p:blipFill>
          <a:blip r:embed="rId1"/>
          <a:stretch/>
        </p:blipFill>
        <p:spPr>
          <a:xfrm>
            <a:off x="735120" y="1655640"/>
            <a:ext cx="8043840" cy="386712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ximum Tumor Reduction per IR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2289240" y="2827440"/>
            <a:ext cx="59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7% of patients achieved tumor re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685800" y="5905440"/>
            <a:ext cx="72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57 of 58 patients with post-baseline CT assess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1100160" y="5524560"/>
            <a:ext cx="752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vidual Patients (n = 57*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 rot="16200000">
            <a:off x="-1504440" y="34030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mor Size (% Change from Baselin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7520" y="6375240"/>
            <a:ext cx="6603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th permission from Shustov AR et al. Proc ASH 2010;Abstract 96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8" descr="35-04 PFS by response"/>
          <p:cNvPicPr/>
          <p:nvPr/>
        </p:nvPicPr>
        <p:blipFill>
          <a:blip r:embed="rId1"/>
          <a:stretch/>
        </p:blipFill>
        <p:spPr>
          <a:xfrm>
            <a:off x="549360" y="1206360"/>
            <a:ext cx="8229600" cy="47070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FS by Disease Response, per IR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930240" y="5916600"/>
            <a:ext cx="76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week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 rot="16200000">
            <a:off x="-1828800" y="3218040"/>
            <a:ext cx="43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Patients Free of PD or Dea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11" descr="35-04 PFS by response legend"/>
          <p:cNvPicPr/>
          <p:nvPr/>
        </p:nvPicPr>
        <p:blipFill>
          <a:blip r:embed="rId2"/>
          <a:stretch/>
        </p:blipFill>
        <p:spPr>
          <a:xfrm>
            <a:off x="5457960" y="4352760"/>
            <a:ext cx="503280" cy="10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0" name=""/>
          <p:cNvGraphicFramePr/>
          <p:nvPr/>
        </p:nvGraphicFramePr>
        <p:xfrm>
          <a:off x="6029280" y="3994200"/>
          <a:ext cx="2695680" cy="1466640"/>
        </p:xfrm>
        <a:graphic>
          <a:graphicData uri="http://schemas.openxmlformats.org/drawingml/2006/table">
            <a:tbl>
              <a:tblPr/>
              <a:tblGrid>
                <a:gridCol w="517680"/>
                <a:gridCol w="804600"/>
                <a:gridCol w="1373400"/>
              </a:tblGrid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PF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reach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9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week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week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week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reach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Text Box 121"/>
          <p:cNvSpPr/>
          <p:nvPr/>
        </p:nvSpPr>
        <p:spPr>
          <a:xfrm>
            <a:off x="622440" y="6058080"/>
            <a:ext cx="72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Histologically ineligi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17520" y="6375240"/>
            <a:ext cx="6603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th permission from Shustov AR et al. Proc ASH 2010;Abstract 96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2440" y="1864800"/>
            <a:ext cx="77724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ant news in H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1864800"/>
            <a:ext cx="77724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s of a Pivotal Phase 2 Study of Brentuximab Vedotin (SGN-35) in Patients with Relapsed or Refractory Hodgkin Lymphoma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Chen, AK Gopal, SE Smith, SM Ansell, JD Rosenblatt, R Klasa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M Connors, A Engert, EK Larsen, DA Kennedy, EL Sievers, A Younes</a:t>
            </a:r>
            <a:br>
              <a:rPr sz="20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0"/>
          <p:cNvSpPr/>
          <p:nvPr/>
        </p:nvSpPr>
        <p:spPr>
          <a:xfrm>
            <a:off x="1143000" y="4648320"/>
            <a:ext cx="685800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ximum Tumor Reduction per IR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11" descr="cascade"/>
          <p:cNvPicPr/>
          <p:nvPr/>
        </p:nvPicPr>
        <p:blipFill>
          <a:blip r:embed="rId1"/>
          <a:stretch/>
        </p:blipFill>
        <p:spPr>
          <a:xfrm>
            <a:off x="720720" y="1255680"/>
            <a:ext cx="8263080" cy="395784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4"/>
          <p:cNvSpPr/>
          <p:nvPr/>
        </p:nvSpPr>
        <p:spPr>
          <a:xfrm>
            <a:off x="1047600" y="5465880"/>
            <a:ext cx="7527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 4 patients were not included in the analysi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patients had no measurable lesions per IRF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patient had no postbaseline scan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915840" y="5133960"/>
            <a:ext cx="7720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dividual Patients (n = 98)*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 rot="16200000">
            <a:off x="-1450080" y="2940840"/>
            <a:ext cx="3917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umor Size (% Change from Baseline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6"/>
          <p:cNvSpPr/>
          <p:nvPr/>
        </p:nvSpPr>
        <p:spPr>
          <a:xfrm>
            <a:off x="1724040" y="2370240"/>
            <a:ext cx="59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4% (96 of 102) of patients achieved tumor re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7520" y="6426360"/>
            <a:ext cx="6603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th permission from Chen R et al. Proc ASH 2010;Abstract 28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5" descr="SGN-35-PFS-by-IRF-and-INV_OS-check"/>
          <p:cNvPicPr/>
          <p:nvPr/>
        </p:nvPicPr>
        <p:blipFill>
          <a:blip r:embed="rId1"/>
          <a:stretch/>
        </p:blipFill>
        <p:spPr>
          <a:xfrm>
            <a:off x="665280" y="1573200"/>
            <a:ext cx="8016840" cy="37130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points: PFS and 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1001880" y="5264280"/>
            <a:ext cx="75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(Week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 rot="16200000">
            <a:off x="-1274760" y="3219480"/>
            <a:ext cx="3671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% Patients Free of PD or Deat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33" descr="PFS-IRF_OS-legend"/>
          <p:cNvPicPr/>
          <p:nvPr/>
        </p:nvPicPr>
        <p:blipFill>
          <a:blip r:embed="rId2"/>
          <a:stretch/>
        </p:blipFill>
        <p:spPr>
          <a:xfrm>
            <a:off x="1360440" y="4233960"/>
            <a:ext cx="512640" cy="5382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6"/>
          <p:cNvSpPr/>
          <p:nvPr/>
        </p:nvSpPr>
        <p:spPr>
          <a:xfrm>
            <a:off x="1154160" y="5656320"/>
            <a:ext cx="745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(range) cycles of treatment = 9 (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017800" y="3875040"/>
          <a:ext cx="2798640" cy="1036800"/>
        </p:xfrm>
        <a:graphic>
          <a:graphicData uri="http://schemas.openxmlformats.org/drawingml/2006/table">
            <a:tbl>
              <a:tblPr/>
              <a:tblGrid>
                <a:gridCol w="1652400"/>
                <a:gridCol w="1146240"/>
              </a:tblGrid>
              <a:tr h="258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 (wk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all surviv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reach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 per investiga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 per IR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317520" y="6426360"/>
            <a:ext cx="6603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th permission from Chen R et al. Proc ASH 2010;Abstract 28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2440" y="1864800"/>
            <a:ext cx="77724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tenance Rituxim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 or 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A Study Schem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Group 27"/>
          <p:cNvGrpSpPr/>
          <p:nvPr/>
        </p:nvGrpSpPr>
        <p:grpSpPr>
          <a:xfrm>
            <a:off x="6132600" y="2475000"/>
            <a:ext cx="2487600" cy="668520"/>
            <a:chOff x="6132600" y="2475000"/>
            <a:chExt cx="2487600" cy="668520"/>
          </a:xfrm>
        </p:grpSpPr>
        <p:sp>
          <p:nvSpPr>
            <p:cNvPr id="397" name="Text Box 7"/>
            <p:cNvSpPr/>
            <p:nvPr/>
          </p:nvSpPr>
          <p:spPr>
            <a:xfrm>
              <a:off x="6154560" y="2867040"/>
              <a:ext cx="2445480" cy="27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 375 mg/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q8 weeks x 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8" name="Text Box 8"/>
            <p:cNvGrpSpPr/>
            <p:nvPr/>
          </p:nvGrpSpPr>
          <p:grpSpPr>
            <a:xfrm>
              <a:off x="6132600" y="2475000"/>
              <a:ext cx="2487600" cy="408600"/>
              <a:chOff x="6132600" y="2475000"/>
              <a:chExt cx="2487600" cy="408600"/>
            </a:xfrm>
          </p:grpSpPr>
          <p:pic>
            <p:nvPicPr>
              <p:cNvPr id="399" name="Text Box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32600" y="2475000"/>
                <a:ext cx="2487600" cy="40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>
                <a:off x="6154560" y="2498760"/>
                <a:ext cx="244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AINTENANCE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‡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1" name="Text Box 18"/>
          <p:cNvGrpSpPr/>
          <p:nvPr/>
        </p:nvGrpSpPr>
        <p:grpSpPr>
          <a:xfrm>
            <a:off x="6138720" y="4651200"/>
            <a:ext cx="2481480" cy="414360"/>
            <a:chOff x="6138720" y="4651200"/>
            <a:chExt cx="2481480" cy="414360"/>
          </a:xfrm>
        </p:grpSpPr>
        <p:pic>
          <p:nvPicPr>
            <p:cNvPr id="402" name="Text Box 18" descr=""/>
            <p:cNvPicPr/>
            <p:nvPr/>
          </p:nvPicPr>
          <p:blipFill>
            <a:blip r:embed="rId2"/>
            <a:stretch/>
          </p:blipFill>
          <p:spPr>
            <a:xfrm>
              <a:off x="6138720" y="4651200"/>
              <a:ext cx="24814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164280" y="467820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BSERVATION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Group 31"/>
          <p:cNvGrpSpPr/>
          <p:nvPr/>
        </p:nvGrpSpPr>
        <p:grpSpPr>
          <a:xfrm>
            <a:off x="5492880" y="3284280"/>
            <a:ext cx="581040" cy="1351080"/>
            <a:chOff x="5492880" y="3284280"/>
            <a:chExt cx="581040" cy="1351080"/>
          </a:xfrm>
        </p:grpSpPr>
        <p:sp>
          <p:nvSpPr>
            <p:cNvPr id="405" name="Line 5"/>
            <p:cNvSpPr/>
            <p:nvPr/>
          </p:nvSpPr>
          <p:spPr>
            <a:xfrm>
              <a:off x="5495040" y="3927240"/>
              <a:ext cx="57888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5"/>
            <p:cNvSpPr/>
            <p:nvPr/>
          </p:nvSpPr>
          <p:spPr>
            <a:xfrm flipV="1">
              <a:off x="5492880" y="3284280"/>
              <a:ext cx="578880" cy="70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7" name="Text Box 15" descr=""/>
          <p:cNvPicPr/>
          <p:nvPr/>
        </p:nvPicPr>
        <p:blipFill>
          <a:blip r:embed="rId3"/>
          <a:stretch/>
        </p:blipFill>
        <p:spPr>
          <a:xfrm>
            <a:off x="5175360" y="2200320"/>
            <a:ext cx="439560" cy="35672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20"/>
          <p:cNvSpPr/>
          <p:nvPr/>
        </p:nvSpPr>
        <p:spPr>
          <a:xfrm>
            <a:off x="-1440" y="5981760"/>
            <a:ext cx="7621560" cy="90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Stratified by response after induction, regimen of chemo, and geographic 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‡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quency of clinical, biological and CT-scan assessments identical in both ar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 additional years of follow-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Group 30"/>
          <p:cNvGrpSpPr/>
          <p:nvPr/>
        </p:nvGrpSpPr>
        <p:grpSpPr>
          <a:xfrm>
            <a:off x="706320" y="1347840"/>
            <a:ext cx="2854440" cy="1810800"/>
            <a:chOff x="706320" y="1347840"/>
            <a:chExt cx="2854440" cy="1810800"/>
          </a:xfrm>
        </p:grpSpPr>
        <p:grpSp>
          <p:nvGrpSpPr>
            <p:cNvPr id="410" name="Text Box 4"/>
            <p:cNvGrpSpPr/>
            <p:nvPr/>
          </p:nvGrpSpPr>
          <p:grpSpPr>
            <a:xfrm>
              <a:off x="706320" y="1347840"/>
              <a:ext cx="2854440" cy="408240"/>
              <a:chOff x="706320" y="1347840"/>
              <a:chExt cx="2854440" cy="408240"/>
            </a:xfrm>
          </p:grpSpPr>
          <p:pic>
            <p:nvPicPr>
              <p:cNvPr id="411" name="Text Box 4" descr=""/>
              <p:cNvPicPr/>
              <p:nvPr/>
            </p:nvPicPr>
            <p:blipFill>
              <a:blip r:embed="rId4"/>
              <a:stretch/>
            </p:blipFill>
            <p:spPr>
              <a:xfrm>
                <a:off x="706320" y="1347840"/>
                <a:ext cx="2854440" cy="4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730800" y="1370520"/>
                <a:ext cx="281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DUCT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3" name="Text Box 22"/>
            <p:cNvSpPr/>
            <p:nvPr/>
          </p:nvSpPr>
          <p:spPr>
            <a:xfrm>
              <a:off x="731520" y="1738080"/>
              <a:ext cx="2802240" cy="82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igh tumor burden patients with previously untreated F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2"/>
            <p:cNvSpPr/>
            <p:nvPr/>
          </p:nvSpPr>
          <p:spPr>
            <a:xfrm>
              <a:off x="732960" y="2571840"/>
              <a:ext cx="2802240" cy="58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munochemotherapy Rx 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OP x 6; or CVP x8 or FCM x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5" name="Group 50"/>
          <p:cNvGrpSpPr/>
          <p:nvPr/>
        </p:nvGrpSpPr>
        <p:grpSpPr>
          <a:xfrm>
            <a:off x="1060200" y="3441600"/>
            <a:ext cx="4145040" cy="2406960"/>
            <a:chOff x="1060200" y="3441600"/>
            <a:chExt cx="4145040" cy="2406960"/>
          </a:xfrm>
        </p:grpSpPr>
        <p:sp>
          <p:nvSpPr>
            <p:cNvPr id="416" name="Line 10"/>
            <p:cNvSpPr/>
            <p:nvPr/>
          </p:nvSpPr>
          <p:spPr>
            <a:xfrm>
              <a:off x="4549680" y="3949920"/>
              <a:ext cx="655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787400" y="4481280"/>
              <a:ext cx="615960" cy="60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2"/>
            <p:cNvSpPr/>
            <p:nvPr/>
          </p:nvSpPr>
          <p:spPr>
            <a:xfrm>
              <a:off x="3471840" y="3663720"/>
              <a:ext cx="1082520" cy="531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CR/CRu or P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13"/>
            <p:cNvSpPr/>
            <p:nvPr/>
          </p:nvSpPr>
          <p:spPr>
            <a:xfrm>
              <a:off x="1149120" y="5535720"/>
              <a:ext cx="1863720" cy="31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0000"/>
                  </a:solidFill>
                  <a:latin typeface="Arial"/>
                </a:rPr>
                <a:t>Off Stu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Decision 33"/>
            <p:cNvSpPr/>
            <p:nvPr/>
          </p:nvSpPr>
          <p:spPr>
            <a:xfrm>
              <a:off x="1060200" y="3673080"/>
              <a:ext cx="1967040" cy="61380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pons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3"/>
            <p:cNvSpPr/>
            <p:nvPr/>
          </p:nvSpPr>
          <p:spPr>
            <a:xfrm>
              <a:off x="2098800" y="4262040"/>
              <a:ext cx="1080" cy="2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23"/>
            <p:cNvSpPr/>
            <p:nvPr/>
          </p:nvSpPr>
          <p:spPr>
            <a:xfrm>
              <a:off x="2090160" y="5090760"/>
              <a:ext cx="1800" cy="41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Straight Connector 44"/>
            <p:cNvSpPr/>
            <p:nvPr/>
          </p:nvSpPr>
          <p:spPr>
            <a:xfrm flipH="1">
              <a:off x="2089440" y="3441600"/>
              <a:ext cx="144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Straight Connector 48"/>
            <p:cNvSpPr/>
            <p:nvPr/>
          </p:nvSpPr>
          <p:spPr>
            <a:xfrm>
              <a:off x="3060360" y="3960720"/>
              <a:ext cx="399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Text Box 13"/>
          <p:cNvSpPr/>
          <p:nvPr/>
        </p:nvSpPr>
        <p:spPr>
          <a:xfrm>
            <a:off x="6405480" y="3720960"/>
            <a:ext cx="15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ndom 1:1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10" descr=""/>
          <p:cNvPicPr/>
          <p:nvPr/>
        </p:nvPicPr>
        <p:blipFill>
          <a:blip r:embed="rId5"/>
          <a:stretch/>
        </p:blipFill>
        <p:spPr>
          <a:xfrm>
            <a:off x="8163000" y="268200"/>
            <a:ext cx="796680" cy="2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1864800"/>
            <a:ext cx="77724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for T cell lympho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mary endpoint (PFS) met at the planned interim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10" descr=""/>
          <p:cNvPicPr/>
          <p:nvPr/>
        </p:nvPicPr>
        <p:blipFill>
          <a:blip r:embed="rId1"/>
          <a:stretch/>
        </p:blipFill>
        <p:spPr>
          <a:xfrm>
            <a:off x="8163000" y="631800"/>
            <a:ext cx="796680" cy="26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9" name=""/>
          <p:cNvGraphicFramePr/>
          <p:nvPr/>
        </p:nvGraphicFramePr>
        <p:xfrm>
          <a:off x="558720" y="1765440"/>
          <a:ext cx="7975440" cy="3352680"/>
        </p:xfrm>
        <a:graphic>
          <a:graphicData uri="http://schemas.openxmlformats.org/drawingml/2006/table">
            <a:tbl>
              <a:tblPr/>
              <a:tblGrid>
                <a:gridCol w="2887560"/>
                <a:gridCol w="2543040"/>
                <a:gridCol w="2544840"/>
              </a:tblGrid>
              <a:tr h="838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ation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51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 Maintenance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50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yr PFS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zard ratio (95% CI)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 (0.39-64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alue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01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304920" y="6299280"/>
            <a:ext cx="6273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alles GA et al. Proc ASCO 2010;Abstract 8004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sponse status at end of mainten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414360" y="1292400"/>
          <a:ext cx="8315280" cy="1987200"/>
        </p:xfrm>
        <a:graphic>
          <a:graphicData uri="http://schemas.openxmlformats.org/drawingml/2006/table">
            <a:tbl>
              <a:tblPr/>
              <a:tblGrid>
                <a:gridCol w="4495680"/>
                <a:gridCol w="2033640"/>
                <a:gridCol w="1785960"/>
              </a:tblGrid>
              <a:tr h="63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398 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tuxima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389 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ive disease (P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 (40.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(20.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ble disease (S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0.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(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 response (P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(7.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(7.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response (CR/CRu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 (47.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 (66.8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33" name="Text Box 38"/>
          <p:cNvSpPr/>
          <p:nvPr/>
        </p:nvSpPr>
        <p:spPr>
          <a:xfrm>
            <a:off x="-360" y="6191280"/>
            <a:ext cx="5997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 Patients not evaluated/missing data: respectively 16 and 22 p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 evaluated in the rituximab maintenance arm: 2 p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441360" y="3882960"/>
          <a:ext cx="8273880" cy="1274760"/>
        </p:xfrm>
        <a:graphic>
          <a:graphicData uri="http://schemas.openxmlformats.org/drawingml/2006/table">
            <a:tbl>
              <a:tblPr/>
              <a:tblGrid>
                <a:gridCol w="4495680"/>
                <a:gridCol w="2033640"/>
                <a:gridCol w="1744560"/>
              </a:tblGrid>
              <a:tr h="60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: End of Induction → Mainten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1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258 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s remaining in CR/C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 (56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 (7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s converting from PR/SD to CR/C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(3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(4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435" name="Group 118"/>
          <p:cNvGrpSpPr/>
          <p:nvPr/>
        </p:nvGrpSpPr>
        <p:grpSpPr>
          <a:xfrm>
            <a:off x="5073480" y="2900520"/>
            <a:ext cx="3600720" cy="876240"/>
            <a:chOff x="5073480" y="2900520"/>
            <a:chExt cx="3600720" cy="876240"/>
          </a:xfrm>
        </p:grpSpPr>
        <p:sp>
          <p:nvSpPr>
            <p:cNvPr id="436" name="Line 36"/>
            <p:cNvSpPr/>
            <p:nvPr/>
          </p:nvSpPr>
          <p:spPr>
            <a:xfrm>
              <a:off x="5911920" y="3354480"/>
              <a:ext cx="0" cy="409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37"/>
            <p:cNvSpPr/>
            <p:nvPr/>
          </p:nvSpPr>
          <p:spPr>
            <a:xfrm>
              <a:off x="7835760" y="3354480"/>
              <a:ext cx="0" cy="42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16"/>
            <p:cNvSpPr/>
            <p:nvPr/>
          </p:nvSpPr>
          <p:spPr>
            <a:xfrm>
              <a:off x="5073480" y="2901960"/>
              <a:ext cx="1676520" cy="4572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17"/>
            <p:cNvSpPr/>
            <p:nvPr/>
          </p:nvSpPr>
          <p:spPr>
            <a:xfrm>
              <a:off x="6997680" y="2900520"/>
              <a:ext cx="1676520" cy="45720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0" name="Picture 10" descr=""/>
          <p:cNvPicPr/>
          <p:nvPr/>
        </p:nvPicPr>
        <p:blipFill>
          <a:blip r:embed="rId1"/>
          <a:stretch/>
        </p:blipFill>
        <p:spPr>
          <a:xfrm>
            <a:off x="8163000" y="257040"/>
            <a:ext cx="796680" cy="2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FDG PET-CT imaging after immunochemotherapy induction is a powerful and independent indicator of outcome for patients with follicular lymphoma:</a:t>
            </a:r>
            <a:r>
              <a:rPr b="1" lang="en-AU" sz="29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An analysis from the PRIMA study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37160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 Trotman, M Fournier, T Lamy, J Estell, A Sonet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Janikova, H Tilly, D Decaudin, J Gabarre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F Seymour, C Forsyth, E Garin, M Fulham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Vander Borght, O Shpilberg, G Salles</a:t>
            </a:r>
            <a:br>
              <a:rPr sz="2000"/>
            </a:b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ASH 2010 Abstract 8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6873840" y="5929200"/>
            <a:ext cx="1841400" cy="7146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214200" y="5929200"/>
            <a:ext cx="2214720" cy="68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" descr="top1"/>
          <p:cNvPicPr/>
          <p:nvPr/>
        </p:nvPicPr>
        <p:blipFill>
          <a:blip r:embed="rId4"/>
          <a:srcRect l="56942" t="0" r="0" b="0"/>
          <a:stretch/>
        </p:blipFill>
        <p:spPr>
          <a:xfrm>
            <a:off x="0" y="4554360"/>
            <a:ext cx="1620720" cy="6606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7" descr="C:\Users\trotmj\AppData\Local\Microsoft\Windows\Temporary Internet Files\Content.Outlook\FYUG9FF2\logo_KLS_CMYK.jpg"/>
          <p:cNvPicPr/>
          <p:nvPr/>
        </p:nvPicPr>
        <p:blipFill>
          <a:blip r:embed="rId5"/>
          <a:stretch/>
        </p:blipFill>
        <p:spPr>
          <a:xfrm>
            <a:off x="7429680" y="4605480"/>
            <a:ext cx="165240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80520" y="1457280"/>
            <a:ext cx="845532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RIMA database interrogat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nvestigators surveyed to identify PET-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ingle-modality PET scans exclu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ve or negative scan: PET(+/–) defined by local investig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endpoint: progression-free survival from PRIMA regist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4"/>
          <p:cNvSpPr/>
          <p:nvPr/>
        </p:nvSpPr>
        <p:spPr>
          <a:xfrm>
            <a:off x="1835280" y="5048280"/>
            <a:ext cx="33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325440" y="457992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agn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Line 6"/>
          <p:cNvSpPr/>
          <p:nvPr/>
        </p:nvSpPr>
        <p:spPr>
          <a:xfrm>
            <a:off x="468360" y="5048280"/>
            <a:ext cx="15112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1349280" y="3573360"/>
            <a:ext cx="1092240" cy="642600"/>
          </a:xfrm>
          <a:prstGeom prst="rect">
            <a:avLst/>
          </a:prstGeom>
          <a:solidFill>
            <a:srgbClr val="66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art of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8"/>
          <p:cNvSpPr/>
          <p:nvPr/>
        </p:nvSpPr>
        <p:spPr>
          <a:xfrm>
            <a:off x="2367360" y="4365720"/>
            <a:ext cx="21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duction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(R-CHOP, R-CVP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4083480" y="3573360"/>
            <a:ext cx="1450080" cy="642600"/>
          </a:xfrm>
          <a:prstGeom prst="rect">
            <a:avLst/>
          </a:prstGeom>
          <a:solidFill>
            <a:srgbClr val="66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1 of las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hemo cy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Line 10"/>
          <p:cNvSpPr/>
          <p:nvPr/>
        </p:nvSpPr>
        <p:spPr>
          <a:xfrm>
            <a:off x="5148360" y="465120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Line 11"/>
          <p:cNvSpPr/>
          <p:nvPr/>
        </p:nvSpPr>
        <p:spPr>
          <a:xfrm>
            <a:off x="5124600" y="4651200"/>
            <a:ext cx="273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Line 12"/>
          <p:cNvSpPr/>
          <p:nvPr/>
        </p:nvSpPr>
        <p:spPr>
          <a:xfrm>
            <a:off x="5124600" y="5443560"/>
            <a:ext cx="273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542880" y="5792760"/>
            <a:ext cx="1244520" cy="642600"/>
          </a:xfrm>
          <a:prstGeom prst="rect">
            <a:avLst/>
          </a:prstGeom>
          <a:solidFill>
            <a:srgbClr val="66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agnos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4"/>
          <p:cNvSpPr/>
          <p:nvPr/>
        </p:nvSpPr>
        <p:spPr>
          <a:xfrm>
            <a:off x="3029400" y="5792760"/>
            <a:ext cx="878760" cy="642600"/>
          </a:xfrm>
          <a:prstGeom prst="rect">
            <a:avLst/>
          </a:prstGeom>
          <a:solidFill>
            <a:srgbClr val="66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r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5"/>
          <p:cNvSpPr/>
          <p:nvPr/>
        </p:nvSpPr>
        <p:spPr>
          <a:xfrm>
            <a:off x="5063040" y="5797440"/>
            <a:ext cx="1145520" cy="916920"/>
          </a:xfrm>
          <a:prstGeom prst="rect">
            <a:avLst/>
          </a:prstGeom>
          <a:solidFill>
            <a:srgbClr val="66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st-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ea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16"/>
          <p:cNvSpPr/>
          <p:nvPr/>
        </p:nvSpPr>
        <p:spPr>
          <a:xfrm>
            <a:off x="7608960" y="465300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17"/>
          <p:cNvSpPr/>
          <p:nvPr/>
        </p:nvSpPr>
        <p:spPr>
          <a:xfrm>
            <a:off x="7596360" y="5445000"/>
            <a:ext cx="93636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Line 18"/>
          <p:cNvSpPr/>
          <p:nvPr/>
        </p:nvSpPr>
        <p:spPr>
          <a:xfrm>
            <a:off x="6372360" y="422100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19"/>
          <p:cNvSpPr/>
          <p:nvPr/>
        </p:nvSpPr>
        <p:spPr>
          <a:xfrm>
            <a:off x="4875120" y="422100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20"/>
          <p:cNvSpPr/>
          <p:nvPr/>
        </p:nvSpPr>
        <p:spPr>
          <a:xfrm>
            <a:off x="1835280" y="429264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21"/>
          <p:cNvSpPr/>
          <p:nvPr/>
        </p:nvSpPr>
        <p:spPr>
          <a:xfrm>
            <a:off x="5259240" y="5438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3 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22"/>
          <p:cNvSpPr/>
          <p:nvPr/>
        </p:nvSpPr>
        <p:spPr>
          <a:xfrm flipH="1">
            <a:off x="4911480" y="56214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23"/>
          <p:cNvSpPr/>
          <p:nvPr/>
        </p:nvSpPr>
        <p:spPr>
          <a:xfrm>
            <a:off x="5952960" y="5621400"/>
            <a:ext cx="41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24"/>
          <p:cNvSpPr/>
          <p:nvPr/>
        </p:nvSpPr>
        <p:spPr>
          <a:xfrm>
            <a:off x="5223240" y="4840200"/>
            <a:ext cx="39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/observation (2 yea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12" descr="GELA RVB+T"/>
          <p:cNvPicPr/>
          <p:nvPr/>
        </p:nvPicPr>
        <p:blipFill>
          <a:blip r:embed="rId1"/>
          <a:stretch/>
        </p:blipFill>
        <p:spPr>
          <a:xfrm>
            <a:off x="141120" y="6500880"/>
            <a:ext cx="1640160" cy="3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PFS (from study registration) </a:t>
            </a: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Conventional response assess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2" name="Picture 12" descr="GELA RVB+T"/>
          <p:cNvPicPr/>
          <p:nvPr/>
        </p:nvPicPr>
        <p:blipFill>
          <a:blip r:embed="rId1"/>
          <a:stretch/>
        </p:blipFill>
        <p:spPr>
          <a:xfrm>
            <a:off x="141120" y="6386400"/>
            <a:ext cx="1640160" cy="39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3" name=""/>
          <p:cNvGraphicFramePr/>
          <p:nvPr/>
        </p:nvGraphicFramePr>
        <p:xfrm>
          <a:off x="482760" y="2070000"/>
          <a:ext cx="8331120" cy="2831760"/>
        </p:xfrm>
        <a:graphic>
          <a:graphicData uri="http://schemas.openxmlformats.org/drawingml/2006/table">
            <a:tbl>
              <a:tblPr/>
              <a:tblGrid>
                <a:gridCol w="1666800"/>
                <a:gridCol w="1665360"/>
                <a:gridCol w="1666800"/>
                <a:gridCol w="1665360"/>
                <a:gridCol w="1666800"/>
              </a:tblGrid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. of subj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enso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an PFS (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/CR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% (3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% (5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 (1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% (1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/P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% (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% (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74" name=""/>
          <p:cNvSpPr/>
          <p:nvPr/>
        </p:nvSpPr>
        <p:spPr>
          <a:xfrm>
            <a:off x="558720" y="5168880"/>
            <a:ext cx="271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0.0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PFS (from study registration) </a:t>
            </a: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Conventional response assess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Picture 12" descr="GELA RVB+T"/>
          <p:cNvPicPr/>
          <p:nvPr/>
        </p:nvPicPr>
        <p:blipFill>
          <a:blip r:embed="rId1"/>
          <a:stretch/>
        </p:blipFill>
        <p:spPr>
          <a:xfrm>
            <a:off x="141120" y="6386400"/>
            <a:ext cx="1640160" cy="39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393840" y="2070000"/>
          <a:ext cx="8420040" cy="2124000"/>
        </p:xfrm>
        <a:graphic>
          <a:graphicData uri="http://schemas.openxmlformats.org/drawingml/2006/table">
            <a:tbl>
              <a:tblPr/>
              <a:tblGrid>
                <a:gridCol w="1130040"/>
                <a:gridCol w="1181160"/>
                <a:gridCol w="1193760"/>
                <a:gridCol w="1346400"/>
                <a:gridCol w="1485720"/>
                <a:gridCol w="952560"/>
                <a:gridCol w="1130400"/>
              </a:tblGrid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. of subje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enso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an PFS (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/CR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% (3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% (5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 (1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% (1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PFS (from study registration) </a:t>
            </a: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Post-treatment PET-CT-based assess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Picture 12" descr="GELA RVB+T"/>
          <p:cNvPicPr/>
          <p:nvPr/>
        </p:nvPicPr>
        <p:blipFill>
          <a:blip r:embed="rId1"/>
          <a:stretch/>
        </p:blipFill>
        <p:spPr>
          <a:xfrm>
            <a:off x="141120" y="6386400"/>
            <a:ext cx="1640160" cy="39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0" name=""/>
          <p:cNvGraphicFramePr/>
          <p:nvPr/>
        </p:nvGraphicFramePr>
        <p:xfrm>
          <a:off x="419040" y="2070000"/>
          <a:ext cx="8420040" cy="2124000"/>
        </p:xfrm>
        <a:graphic>
          <a:graphicData uri="http://schemas.openxmlformats.org/drawingml/2006/table">
            <a:tbl>
              <a:tblPr/>
              <a:tblGrid>
                <a:gridCol w="1079640"/>
                <a:gridCol w="1054080"/>
                <a:gridCol w="1104840"/>
                <a:gridCol w="1219320"/>
                <a:gridCol w="1422360"/>
                <a:gridCol w="1409760"/>
                <a:gridCol w="1130040"/>
              </a:tblGrid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. of subjec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ensor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an PFS (month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R (95% CI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 negat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% (2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% (6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(2.0-6.1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 posit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 (2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 (1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>
            <a:off x="165240" y="5969160"/>
            <a:ext cx="6375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otman J et al. Proc ASH 2010;Abstract 855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Post-treatment PET-CT and 3yr PFS</a:t>
            </a: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(subgroup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1285920" y="1913040"/>
          <a:ext cx="6599160" cy="3873240"/>
        </p:xfrm>
        <a:graphic>
          <a:graphicData uri="http://schemas.openxmlformats.org/drawingml/2006/table">
            <a:tbl>
              <a:tblPr/>
              <a:tblGrid>
                <a:gridCol w="1299960"/>
                <a:gridCol w="1765440"/>
                <a:gridCol w="1766880"/>
                <a:gridCol w="1766880"/>
              </a:tblGrid>
              <a:tr h="78084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ion Free Survival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stered pati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-CHOP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0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iz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0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-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 ran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0.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0.00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0.0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pic>
        <p:nvPicPr>
          <p:cNvPr id="484" name="Picture 12" descr="GELA RVB+T"/>
          <p:cNvPicPr/>
          <p:nvPr/>
        </p:nvPicPr>
        <p:blipFill>
          <a:blip r:embed="rId1"/>
          <a:stretch/>
        </p:blipFill>
        <p:spPr>
          <a:xfrm>
            <a:off x="141120" y="6386400"/>
            <a:ext cx="1640160" cy="3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2408: Bendamustine and Rituximab (R) with or without Bortezomib followed by R with or without Lenalidomide for High-Risk Follicular Lympho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Box 4"/>
          <p:cNvSpPr/>
          <p:nvPr/>
        </p:nvSpPr>
        <p:spPr>
          <a:xfrm>
            <a:off x="214200" y="2209680"/>
            <a:ext cx="1765440" cy="283824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igibil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risk follicular lympho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IPI 3-5 or GELF high tumor bur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Box 11"/>
          <p:cNvSpPr/>
          <p:nvPr/>
        </p:nvSpPr>
        <p:spPr>
          <a:xfrm>
            <a:off x="6072120" y="2199240"/>
            <a:ext cx="2827440" cy="70380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tuximab 1 infusion q2mo x 2y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Box 12"/>
          <p:cNvSpPr/>
          <p:nvPr/>
        </p:nvSpPr>
        <p:spPr>
          <a:xfrm>
            <a:off x="6072120" y="3173760"/>
            <a:ext cx="2827440" cy="70380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tuximab 1 infusion q2mo x 2y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Box 13"/>
          <p:cNvSpPr/>
          <p:nvPr/>
        </p:nvSpPr>
        <p:spPr>
          <a:xfrm>
            <a:off x="6072120" y="4150080"/>
            <a:ext cx="2827440" cy="131364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tuximab 1 infusion q2mo x 2y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nalidomide 20mg d1-21 x 1y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0" name="Straight Arrow Connector 34"/>
          <p:cNvCxnSpPr/>
          <p:nvPr/>
        </p:nvCxnSpPr>
        <p:spPr>
          <a:xfrm flipV="1">
            <a:off x="4856040" y="2537640"/>
            <a:ext cx="1183680" cy="11880"/>
          </a:xfrm>
          <a:prstGeom prst="straightConnector1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491" name="Straight Arrow Connector 36"/>
          <p:cNvCxnSpPr/>
          <p:nvPr/>
        </p:nvCxnSpPr>
        <p:spPr>
          <a:xfrm flipV="1">
            <a:off x="4856040" y="3671280"/>
            <a:ext cx="1183680" cy="13320"/>
          </a:xfrm>
          <a:prstGeom prst="straightConnector1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492" name="Straight Arrow Connector 37"/>
          <p:cNvCxnSpPr/>
          <p:nvPr/>
        </p:nvCxnSpPr>
        <p:spPr>
          <a:xfrm flipV="1">
            <a:off x="4856040" y="4680720"/>
            <a:ext cx="1183680" cy="11880"/>
          </a:xfrm>
          <a:prstGeom prst="straightConnector1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</p:cxnSp>
      <p:sp>
        <p:nvSpPr>
          <p:cNvPr id="493" name="TextBox 8"/>
          <p:cNvSpPr/>
          <p:nvPr/>
        </p:nvSpPr>
        <p:spPr>
          <a:xfrm>
            <a:off x="3419640" y="2199240"/>
            <a:ext cx="2374560" cy="70380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-bendamustine q28d cycles x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Box 9"/>
          <p:cNvSpPr/>
          <p:nvPr/>
        </p:nvSpPr>
        <p:spPr>
          <a:xfrm>
            <a:off x="3419640" y="3099240"/>
            <a:ext cx="2374560" cy="100872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-bendamustine + bortezomib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28d cycles x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10"/>
          <p:cNvSpPr/>
          <p:nvPr/>
        </p:nvSpPr>
        <p:spPr>
          <a:xfrm>
            <a:off x="3419640" y="4302720"/>
            <a:ext cx="2374560" cy="70380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-bendamustine q28d cycles x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6" name="Straight Arrow Connector 21"/>
          <p:cNvCxnSpPr/>
          <p:nvPr/>
        </p:nvCxnSpPr>
        <p:spPr>
          <a:xfrm flipV="1">
            <a:off x="2729520" y="2550600"/>
            <a:ext cx="600840" cy="1023120"/>
          </a:xfrm>
          <a:prstGeom prst="straightConnector1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497" name="Straight Arrow Connector 24"/>
          <p:cNvCxnSpPr/>
          <p:nvPr/>
        </p:nvCxnSpPr>
        <p:spPr>
          <a:xfrm>
            <a:off x="2723040" y="3616200"/>
            <a:ext cx="607320" cy="1038600"/>
          </a:xfrm>
          <a:prstGeom prst="straightConnector1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498" name="Straight Arrow Connector 38"/>
          <p:cNvCxnSpPr/>
          <p:nvPr/>
        </p:nvCxnSpPr>
        <p:spPr>
          <a:xfrm flipV="1">
            <a:off x="2761920" y="3601440"/>
            <a:ext cx="568800" cy="5400"/>
          </a:xfrm>
          <a:prstGeom prst="straightConnector1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</p:cxnSp>
      <p:sp>
        <p:nvSpPr>
          <p:cNvPr id="499" name="Oval 6"/>
          <p:cNvSpPr/>
          <p:nvPr/>
        </p:nvSpPr>
        <p:spPr>
          <a:xfrm>
            <a:off x="2111400" y="3152880"/>
            <a:ext cx="852480" cy="888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Box 7"/>
          <p:cNvSpPr/>
          <p:nvPr/>
        </p:nvSpPr>
        <p:spPr>
          <a:xfrm>
            <a:off x="2296800" y="3273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43"/>
          <p:cNvSpPr/>
          <p:nvPr/>
        </p:nvSpPr>
        <p:spPr>
          <a:xfrm>
            <a:off x="2194200" y="413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2: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44"/>
          <p:cNvSpPr/>
          <p:nvPr/>
        </p:nvSpPr>
        <p:spPr>
          <a:xfrm>
            <a:off x="182520" y="6419160"/>
            <a:ext cx="58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www.clinicaltrials.gov, accessed October 3,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45"/>
          <p:cNvSpPr/>
          <p:nvPr/>
        </p:nvSpPr>
        <p:spPr>
          <a:xfrm>
            <a:off x="181080" y="1675440"/>
            <a:ext cx="327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 ID: ECOG-E24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accrual: 250 (ope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06560" y="1983960"/>
            <a:ext cx="77724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tuximab maintenance significantly prolongs duration of remission in elderly patients with mantle cell lymphoma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First results of an RCT of the European MCL Networ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71680" y="4879440"/>
            <a:ext cx="81309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neke C. Kluin-Nele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Hemat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Medical Center Groninge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9760" y="906120"/>
            <a:ext cx="868032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8a"/>
                </a:solidFill>
                <a:latin typeface="Arial"/>
              </a:rPr>
              <a:t>Final Results From a Pivotal, Multicenter, International, Open-Label, Phase 2 Study of Romidepsin in Progressive or Relapsed Peripheral T-Cell Lymphoma (PTCL) Following Prior Systemic Therapy</a:t>
            </a:r>
            <a:endParaRPr b="1" lang="en-US" sz="3200" spc="-1" strike="noStrike">
              <a:solidFill>
                <a:srgbClr val="00216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82760" y="3735360"/>
            <a:ext cx="8178480" cy="20844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ertrand Coiffier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, Barbara Pro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, H. Miles Prince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, Francine Foss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, Lubomir Sokol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, Matthew Greenwood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, Dolores Caballero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, Peter Borchman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, Frank Morschhauser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, Martin Wilhelm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, Lauren Pinter-Brown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, Swaminathan Padmanabhan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, Andrei Shustov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, Jean Nichols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, Susan Carroll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, John Balser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, Steven Horwitz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88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spices Civils de Lyon, Lyon, France;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x Chase Cancer Center, Philadelphia, PA;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ter MacCallum Cancer Centre, East Melbourne, Australia;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ale Cancer Center, New Haven, CT;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ffitt Cancer Center, Tampa, FL;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oyal North Shore Hospital, Sydney, Australia;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spital Universitario de Salamanca, Spain;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linikum der Universität zu Köln, Germany;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ôpital Claude Huriez, CHU de Lille, France;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linikum Nürnberg Nord, Nürnberg, Germany;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CLA Medical Center, Los Angeles, CA;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University of Texas Health Science Center at San Antonio, San Antonio, TX;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iversity of Washington, Seattle, WA;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gene Corporation, Cambridge, MA;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ristat, Inc, Holliston, MA; 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morial Sloan-Kettering Cancer Center, New York, 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784080" y="808200"/>
            <a:ext cx="748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pPr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784080" y="2179800"/>
            <a:ext cx="7486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1060560" y="3249720"/>
            <a:ext cx="2209680" cy="691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755640" y="4856040"/>
            <a:ext cx="2819520" cy="1362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5784840" y="3255840"/>
            <a:ext cx="2209680" cy="69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5479920" y="4862520"/>
            <a:ext cx="2819520" cy="1362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0"/>
          <p:cNvSpPr/>
          <p:nvPr/>
        </p:nvSpPr>
        <p:spPr>
          <a:xfrm>
            <a:off x="1271160" y="3402000"/>
            <a:ext cx="18075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8 x R-CHOP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1245600" y="4878360"/>
            <a:ext cx="192204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mainten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3 x 3 M IU/week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r Peg-IF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1ug/kg week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3528720" y="377820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R,CRu,P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16"/>
          <p:cNvSpPr/>
          <p:nvPr/>
        </p:nvSpPr>
        <p:spPr>
          <a:xfrm>
            <a:off x="6147360" y="3408480"/>
            <a:ext cx="1351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6 x R-FC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17"/>
          <p:cNvSpPr/>
          <p:nvPr/>
        </p:nvSpPr>
        <p:spPr>
          <a:xfrm>
            <a:off x="6151680" y="5000760"/>
            <a:ext cx="1411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ituxima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all 2 month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Line 19"/>
          <p:cNvSpPr/>
          <p:nvPr/>
        </p:nvSpPr>
        <p:spPr>
          <a:xfrm flipH="1">
            <a:off x="4642920" y="4091040"/>
            <a:ext cx="900360" cy="268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1563840" y="270000"/>
            <a:ext cx="720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Arial"/>
              </a:rPr>
              <a:t>First RCT for MCL Elderly </a:t>
            </a:r>
            <a:br>
              <a:rPr sz="3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8 countries, n = 560 (Jan 2004-Oct 20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Line 22"/>
          <p:cNvSpPr/>
          <p:nvPr/>
        </p:nvSpPr>
        <p:spPr>
          <a:xfrm>
            <a:off x="4788000" y="2637000"/>
            <a:ext cx="152388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Line 23"/>
          <p:cNvSpPr/>
          <p:nvPr/>
        </p:nvSpPr>
        <p:spPr>
          <a:xfrm flipH="1">
            <a:off x="2700000" y="2637000"/>
            <a:ext cx="160020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24"/>
          <p:cNvSpPr/>
          <p:nvPr/>
        </p:nvSpPr>
        <p:spPr>
          <a:xfrm flipH="1">
            <a:off x="3419640" y="4437000"/>
            <a:ext cx="900000" cy="268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Line 25"/>
          <p:cNvSpPr/>
          <p:nvPr/>
        </p:nvSpPr>
        <p:spPr>
          <a:xfrm>
            <a:off x="3419640" y="4091040"/>
            <a:ext cx="900000" cy="268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26"/>
          <p:cNvSpPr/>
          <p:nvPr/>
        </p:nvSpPr>
        <p:spPr>
          <a:xfrm>
            <a:off x="4643280" y="4437000"/>
            <a:ext cx="900360" cy="268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Group 27"/>
          <p:cNvGrpSpPr/>
          <p:nvPr/>
        </p:nvGrpSpPr>
        <p:grpSpPr>
          <a:xfrm>
            <a:off x="152280" y="76320"/>
            <a:ext cx="1187640" cy="1139760"/>
            <a:chOff x="152280" y="76320"/>
            <a:chExt cx="1187640" cy="1139760"/>
          </a:xfrm>
        </p:grpSpPr>
        <p:sp>
          <p:nvSpPr>
            <p:cNvPr id="525" name="WordArt 28"/>
            <p:cNvSpPr txBox="1"/>
            <p:nvPr/>
          </p:nvSpPr>
          <p:spPr>
            <a:xfrm>
              <a:off x="152280" y="351000"/>
              <a:ext cx="1187640" cy="865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uropean MCL Network</a:t>
              </a:r>
              <a:endParaRPr b="0" lang="en-US" sz="40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26" name="Oval 29"/>
            <p:cNvSpPr/>
            <p:nvPr/>
          </p:nvSpPr>
          <p:spPr>
            <a:xfrm>
              <a:off x="322560" y="76320"/>
              <a:ext cx="855720" cy="988920"/>
            </a:xfrm>
            <a:prstGeom prst="ellipse">
              <a:avLst/>
            </a:prstGeom>
            <a:solidFill>
              <a:srgbClr val="16b40a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30"/>
            <p:cNvSpPr/>
            <p:nvPr/>
          </p:nvSpPr>
          <p:spPr>
            <a:xfrm>
              <a:off x="447480" y="254880"/>
              <a:ext cx="618480" cy="78264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8" name="Picture 31" descr="europa">
              <a:hlinkClick r:id="rId1"/>
            </p:cNvPr>
            <p:cNvPicPr/>
            <p:nvPr/>
          </p:nvPicPr>
          <p:blipFill>
            <a:blip r:embed="rId2"/>
            <a:srcRect l="0" t="0" r="14286" b="0"/>
            <a:stretch/>
          </p:blipFill>
          <p:spPr>
            <a:xfrm>
              <a:off x="517680" y="501840"/>
              <a:ext cx="477720" cy="378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529" name="Text Box 32"/>
          <p:cNvSpPr/>
          <p:nvPr/>
        </p:nvSpPr>
        <p:spPr>
          <a:xfrm>
            <a:off x="1447920" y="1638360"/>
            <a:ext cx="69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wly diagnosed, &gt;60-65 yr; performance 0-2, Stages II-IV, central PA re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CL Elderly study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mission duration maintenance per protocol analysi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927000" y="1841400"/>
            <a:ext cx="6985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 follow-up = 33 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, median = 77 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N, median = 24 mo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R = 0.54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 = 0.01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66680" y="49150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djusted for interim analy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CL Elderly stud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ission duration related to in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544680" y="5526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41 for interaction of induction and mainte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10"/>
          <p:cNvSpPr/>
          <p:nvPr/>
        </p:nvSpPr>
        <p:spPr>
          <a:xfrm>
            <a:off x="0" y="47926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520560" y="1549440"/>
          <a:ext cx="8026560" cy="3835440"/>
        </p:xfrm>
        <a:graphic>
          <a:graphicData uri="http://schemas.openxmlformats.org/drawingml/2006/table">
            <a:tbl>
              <a:tblPr/>
              <a:tblGrid>
                <a:gridCol w="3340080"/>
                <a:gridCol w="2349720"/>
                <a:gridCol w="2336760"/>
              </a:tblGrid>
              <a:tr h="68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ission duration related to induction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-CHOP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-FC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</a:tr>
              <a:tr h="78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 follow-up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m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m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8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, median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 mo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 m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8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N, median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m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m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8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alue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CL Elderly study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all survival rituximab vs IF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574640" y="1955880"/>
            <a:ext cx="584208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dian follow-up = 37 m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, median = 82 m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N, median = not reache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0.17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CL Elderly: Death rates in relation to maintenance ar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1509840" y="1320840"/>
          <a:ext cx="6288120" cy="4780080"/>
        </p:xfrm>
        <a:graphic>
          <a:graphicData uri="http://schemas.openxmlformats.org/drawingml/2006/table">
            <a:tbl>
              <a:tblPr/>
              <a:tblGrid>
                <a:gridCol w="3859200"/>
                <a:gridCol w="1130400"/>
                <a:gridCol w="1298520"/>
              </a:tblGrid>
              <a:tr h="59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mpho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mon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al Bleed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. Cancer/AM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CL Elderly: Overall survival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ed to induction regim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136440" y="55306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055 for interaction of induction and mainte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520560" y="1549440"/>
          <a:ext cx="8026560" cy="3835440"/>
        </p:xfrm>
        <a:graphic>
          <a:graphicData uri="http://schemas.openxmlformats.org/drawingml/2006/table">
            <a:tbl>
              <a:tblPr/>
              <a:tblGrid>
                <a:gridCol w="3340080"/>
                <a:gridCol w="2349720"/>
                <a:gridCol w="2336760"/>
              </a:tblGrid>
              <a:tr h="689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all survival related to induction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 R-CHOP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 R-FC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 follow-up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m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m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, median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reached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 m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N, median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m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reache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alue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61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29680" y="182160"/>
            <a:ext cx="87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uropean MCL Network</a:t>
            </a: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onclusions Elderly Stu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68000" y="1400040"/>
            <a:ext cx="8412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Arial"/>
              </a:rPr>
              <a:t>Large multicenter RCT with two randomisation phases for fit elderly MCL patients is feasibl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Arial"/>
              </a:rPr>
              <a:t>Rituximab doubles the remission duration in patients responding upon initial therapy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Arial"/>
              </a:rPr>
              <a:t>OS at 4 years improves from 62% (IFN) to 77% (rituximab) (</a:t>
            </a:r>
            <a:r>
              <a:rPr b="1" i="1" lang="nl-NL" sz="2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NL" sz="2700" spc="-1" strike="noStrike">
                <a:solidFill>
                  <a:srgbClr val="000000"/>
                </a:solidFill>
                <a:latin typeface="Arial"/>
              </a:rPr>
              <a:t> = 0.17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Arial"/>
              </a:rPr>
              <a:t>Idem after R-CHOP: OS 57% to 87% (</a:t>
            </a:r>
            <a:r>
              <a:rPr b="1" i="1" lang="nl-NL" sz="27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nl-NL" sz="2700" spc="-1" strike="noStrike">
                <a:solidFill>
                  <a:srgbClr val="000000"/>
                </a:solidFill>
                <a:latin typeface="Arial"/>
              </a:rPr>
              <a:t>= 0.006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Arial"/>
              </a:rPr>
              <a:t>Low toxicity of long-term rituximab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771480" y="5599080"/>
            <a:ext cx="507960" cy="406440"/>
          </a:xfrm>
          <a:prstGeom prst="rightArrow">
            <a:avLst>
              <a:gd name="adj1" fmla="val 50000"/>
              <a:gd name="adj2" fmla="val 312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6"/>
          <p:cNvSpPr/>
          <p:nvPr/>
        </p:nvSpPr>
        <p:spPr>
          <a:xfrm>
            <a:off x="490680" y="1398600"/>
            <a:ext cx="807552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415880" y="5195880"/>
            <a:ext cx="6594480" cy="1008720"/>
          </a:xfrm>
          <a:prstGeom prst="rect">
            <a:avLst/>
          </a:prstGeom>
          <a:solidFill>
            <a:srgbClr val="000099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Rituximab maintenance should become the new standard for elderly MCL patients to which new regimens should be comp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endamustine (B), Bortezomib (V) and Rituximab (R) Followed by R and Lenalidomide (L) for Older Patients with Previously Untreated Mantle-Cell Lymphom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Box 4"/>
          <p:cNvSpPr/>
          <p:nvPr/>
        </p:nvSpPr>
        <p:spPr>
          <a:xfrm>
            <a:off x="630360" y="2737080"/>
            <a:ext cx="3508200" cy="178380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igibili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tologically confirmed untreated M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COG PS 0 t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5920" indent="-115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CNS metasta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Box 8"/>
          <p:cNvSpPr/>
          <p:nvPr/>
        </p:nvSpPr>
        <p:spPr>
          <a:xfrm>
            <a:off x="5707080" y="2351520"/>
            <a:ext cx="2374920" cy="39888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Box 9"/>
          <p:cNvSpPr/>
          <p:nvPr/>
        </p:nvSpPr>
        <p:spPr>
          <a:xfrm>
            <a:off x="5707080" y="3053160"/>
            <a:ext cx="2374920" cy="39888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VR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Box 10"/>
          <p:cNvSpPr/>
          <p:nvPr/>
        </p:nvSpPr>
        <p:spPr>
          <a:xfrm>
            <a:off x="5707080" y="4455000"/>
            <a:ext cx="2374920" cy="39888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VR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4" name="Straight Arrow Connector 21"/>
          <p:cNvCxnSpPr/>
          <p:nvPr/>
        </p:nvCxnSpPr>
        <p:spPr>
          <a:xfrm flipV="1">
            <a:off x="4767840" y="2550240"/>
            <a:ext cx="851400" cy="1065960"/>
          </a:xfrm>
          <a:prstGeom prst="straightConnector1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555" name="Straight Arrow Connector 24"/>
          <p:cNvCxnSpPr/>
          <p:nvPr/>
        </p:nvCxnSpPr>
        <p:spPr>
          <a:xfrm>
            <a:off x="4767840" y="3654360"/>
            <a:ext cx="851400" cy="1000800"/>
          </a:xfrm>
          <a:prstGeom prst="straightConnector1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</p:cxnSp>
      <p:cxnSp>
        <p:nvCxnSpPr>
          <p:cNvPr id="556" name="Straight Arrow Connector 38"/>
          <p:cNvCxnSpPr/>
          <p:nvPr/>
        </p:nvCxnSpPr>
        <p:spPr>
          <a:xfrm flipV="1">
            <a:off x="4759200" y="3252600"/>
            <a:ext cx="861120" cy="383040"/>
          </a:xfrm>
          <a:prstGeom prst="straightConnector1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</p:cxnSp>
      <p:sp>
        <p:nvSpPr>
          <p:cNvPr id="557" name="TextBox 44"/>
          <p:cNvSpPr/>
          <p:nvPr/>
        </p:nvSpPr>
        <p:spPr>
          <a:xfrm>
            <a:off x="182520" y="6419160"/>
            <a:ext cx="58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www.clinicaltrials.gov, accessed October 3,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Box 45"/>
          <p:cNvSpPr/>
          <p:nvPr/>
        </p:nvSpPr>
        <p:spPr>
          <a:xfrm>
            <a:off x="550800" y="2134080"/>
            <a:ext cx="327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 ID: ECOG-E14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accrual: 332 (ope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Box 22"/>
          <p:cNvSpPr/>
          <p:nvPr/>
        </p:nvSpPr>
        <p:spPr>
          <a:xfrm>
            <a:off x="5707080" y="3753360"/>
            <a:ext cx="2374920" cy="39888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0" name="Straight Arrow Connector 27"/>
          <p:cNvCxnSpPr/>
          <p:nvPr/>
        </p:nvCxnSpPr>
        <p:spPr>
          <a:xfrm>
            <a:off x="4759200" y="3606480"/>
            <a:ext cx="861120" cy="346680"/>
          </a:xfrm>
          <a:prstGeom prst="straightConnector1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</p:cxnSp>
      <p:sp>
        <p:nvSpPr>
          <p:cNvPr id="561" name="Oval 6"/>
          <p:cNvSpPr/>
          <p:nvPr/>
        </p:nvSpPr>
        <p:spPr>
          <a:xfrm>
            <a:off x="4351320" y="3152880"/>
            <a:ext cx="852480" cy="888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Box 7"/>
          <p:cNvSpPr/>
          <p:nvPr/>
        </p:nvSpPr>
        <p:spPr>
          <a:xfrm>
            <a:off x="4552560" y="3273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2440" y="1864800"/>
            <a:ext cx="77724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tentially Practice Changing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2440" y="1864800"/>
            <a:ext cx="77724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Response Rates with Lenalidomide Plus Rituximab for Untreated, Indolent,  B cell NH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85800" y="3809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Nathan Fowl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Frederick Hagemeister, Peter McLaughlin, Larry W Kwak, Jorge Romaguera, Michele Fanale, Sattva Neelapu, Luis Fayad, Robert Orlowski, Michael Wang, Barbara Pro, Linda Lacerte, Felipe Samaniego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partment of Lymphoma/Myelom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D Anderson Cancer Center, Houston, Texa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mideps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880" y="1389240"/>
            <a:ext cx="470880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vel, potent, bi-cyclic histone deacetylase inhibito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pproved in 2009 by US FDA for patients with cutaneous T-cell lymphoma who received at least one prior systemic therap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monstrated activity against PTCL in phase 1 and 2 trials conducted by the US National Cancer Institute</a:t>
            </a:r>
            <a:r>
              <a:rPr b="1" lang="en-US" sz="1900" spc="-1" strike="noStrike" baseline="30000">
                <a:solidFill>
                  <a:srgbClr val="000000"/>
                </a:solidFill>
                <a:latin typeface="Arial"/>
              </a:rPr>
              <a:t>1,2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ceived fast-track status by the US FDA for PTCL, orphan drug designation in the US and EU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00"/>
          <p:cNvGrpSpPr/>
          <p:nvPr/>
        </p:nvGrpSpPr>
        <p:grpSpPr>
          <a:xfrm>
            <a:off x="5289840" y="1697040"/>
            <a:ext cx="3177000" cy="3503520"/>
            <a:chOff x="5289840" y="1697040"/>
            <a:chExt cx="3177000" cy="3503520"/>
          </a:xfrm>
        </p:grpSpPr>
        <p:sp>
          <p:nvSpPr>
            <p:cNvPr id="211" name="Freeform 12"/>
            <p:cNvSpPr/>
            <p:nvPr/>
          </p:nvSpPr>
          <p:spPr>
            <a:xfrm>
              <a:off x="6734160" y="2357280"/>
              <a:ext cx="299880" cy="225720"/>
            </a:xfrm>
            <a:prstGeom prst="pie">
              <a:avLst/>
            </a:pr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3"/>
            <p:cNvSpPr/>
            <p:nvPr/>
          </p:nvSpPr>
          <p:spPr>
            <a:xfrm>
              <a:off x="6734160" y="2357280"/>
              <a:ext cx="299880" cy="225720"/>
            </a:xfrm>
            <a:prstGeom prst="pie">
              <a:avLst/>
            </a:prstGeom>
            <a:noFill/>
            <a:ln w="20520">
              <a:solidFill>
                <a:srgbClr val="0303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4"/>
            <p:cNvSpPr/>
            <p:nvPr/>
          </p:nvSpPr>
          <p:spPr>
            <a:xfrm>
              <a:off x="7024680" y="2360520"/>
              <a:ext cx="181080" cy="33804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 flipH="1">
              <a:off x="7029360" y="2689200"/>
              <a:ext cx="187200" cy="17316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6"/>
            <p:cNvSpPr/>
            <p:nvPr/>
          </p:nvSpPr>
          <p:spPr>
            <a:xfrm>
              <a:off x="7024680" y="2374920"/>
              <a:ext cx="336600" cy="19692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17"/>
            <p:cNvSpPr/>
            <p:nvPr/>
          </p:nvSpPr>
          <p:spPr>
            <a:xfrm>
              <a:off x="7350120" y="2563920"/>
              <a:ext cx="61920" cy="6192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8"/>
            <p:cNvSpPr/>
            <p:nvPr/>
          </p:nvSpPr>
          <p:spPr>
            <a:xfrm>
              <a:off x="7404120" y="2620800"/>
              <a:ext cx="0" cy="28908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9"/>
            <p:cNvSpPr/>
            <p:nvPr/>
          </p:nvSpPr>
          <p:spPr>
            <a:xfrm flipV="1">
              <a:off x="7399440" y="2472840"/>
              <a:ext cx="282600" cy="17172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 flipV="1">
              <a:off x="7350120" y="2395080"/>
              <a:ext cx="285840" cy="17316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21"/>
            <p:cNvSpPr/>
            <p:nvPr/>
          </p:nvSpPr>
          <p:spPr>
            <a:xfrm>
              <a:off x="6675480" y="2987640"/>
              <a:ext cx="133200" cy="22068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22"/>
            <p:cNvSpPr/>
            <p:nvPr/>
          </p:nvSpPr>
          <p:spPr>
            <a:xfrm>
              <a:off x="6653160" y="2714760"/>
              <a:ext cx="0" cy="28872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 flipV="1">
              <a:off x="7754760" y="2968560"/>
              <a:ext cx="285840" cy="17136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 flipV="1">
              <a:off x="7759800" y="3035160"/>
              <a:ext cx="366480" cy="21600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7505640" y="3084480"/>
              <a:ext cx="266760" cy="16668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8128080" y="2722680"/>
              <a:ext cx="0" cy="32832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>
              <a:off x="6619680" y="3036960"/>
              <a:ext cx="133560" cy="22068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28"/>
            <p:cNvSpPr/>
            <p:nvPr/>
          </p:nvSpPr>
          <p:spPr>
            <a:xfrm>
              <a:off x="7761240" y="3246480"/>
              <a:ext cx="0" cy="41580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 flipV="1">
              <a:off x="7515360" y="3649320"/>
              <a:ext cx="252360" cy="16668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7767720" y="3618000"/>
              <a:ext cx="274680" cy="16668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7721640" y="3682800"/>
              <a:ext cx="288720" cy="17784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7020000" y="3038400"/>
              <a:ext cx="54000" cy="11736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33"/>
            <p:cNvSpPr/>
            <p:nvPr/>
          </p:nvSpPr>
          <p:spPr>
            <a:xfrm flipH="1">
              <a:off x="7048440" y="3387600"/>
              <a:ext cx="55440" cy="21744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34"/>
            <p:cNvSpPr/>
            <p:nvPr/>
          </p:nvSpPr>
          <p:spPr>
            <a:xfrm flipH="1">
              <a:off x="6652800" y="3594240"/>
              <a:ext cx="398520" cy="14760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35"/>
            <p:cNvSpPr/>
            <p:nvPr/>
          </p:nvSpPr>
          <p:spPr>
            <a:xfrm>
              <a:off x="5923080" y="2714760"/>
              <a:ext cx="0" cy="29196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36"/>
            <p:cNvSpPr/>
            <p:nvPr/>
          </p:nvSpPr>
          <p:spPr>
            <a:xfrm>
              <a:off x="5910120" y="2982960"/>
              <a:ext cx="390600" cy="272880"/>
            </a:xfrm>
            <a:prstGeom prst="pie">
              <a:avLst/>
            </a:prstGeom>
            <a:solidFill>
              <a:srgbClr val="030303"/>
            </a:solidFill>
            <a:ln w="0">
              <a:solidFill>
                <a:srgbClr val="03030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37"/>
            <p:cNvSpPr/>
            <p:nvPr/>
          </p:nvSpPr>
          <p:spPr>
            <a:xfrm flipH="1">
              <a:off x="6275160" y="2994120"/>
              <a:ext cx="399960" cy="25236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38"/>
            <p:cNvSpPr/>
            <p:nvPr/>
          </p:nvSpPr>
          <p:spPr>
            <a:xfrm>
              <a:off x="6280200" y="3247920"/>
              <a:ext cx="0" cy="28908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39"/>
            <p:cNvSpPr/>
            <p:nvPr/>
          </p:nvSpPr>
          <p:spPr>
            <a:xfrm>
              <a:off x="6003720" y="3224160"/>
              <a:ext cx="300240" cy="225360"/>
            </a:xfrm>
            <a:prstGeom prst="pie">
              <a:avLst/>
            </a:pr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40"/>
            <p:cNvSpPr/>
            <p:nvPr/>
          </p:nvSpPr>
          <p:spPr>
            <a:xfrm>
              <a:off x="6003720" y="3224160"/>
              <a:ext cx="300240" cy="225360"/>
            </a:xfrm>
            <a:prstGeom prst="pie">
              <a:avLst/>
            </a:prstGeom>
            <a:noFill/>
            <a:ln w="20520">
              <a:solidFill>
                <a:srgbClr val="0303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41"/>
            <p:cNvSpPr/>
            <p:nvPr/>
          </p:nvSpPr>
          <p:spPr>
            <a:xfrm flipH="1">
              <a:off x="6508440" y="3736800"/>
              <a:ext cx="150840" cy="25884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42"/>
            <p:cNvSpPr/>
            <p:nvPr/>
          </p:nvSpPr>
          <p:spPr>
            <a:xfrm flipH="1">
              <a:off x="6219360" y="3987720"/>
              <a:ext cx="298440" cy="19368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43"/>
            <p:cNvSpPr/>
            <p:nvPr/>
          </p:nvSpPr>
          <p:spPr>
            <a:xfrm flipH="1">
              <a:off x="6164280" y="3933720"/>
              <a:ext cx="296640" cy="18576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44"/>
            <p:cNvSpPr/>
            <p:nvPr/>
          </p:nvSpPr>
          <p:spPr>
            <a:xfrm flipH="1">
              <a:off x="5923080" y="3720960"/>
              <a:ext cx="274320" cy="19692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45"/>
            <p:cNvSpPr/>
            <p:nvPr/>
          </p:nvSpPr>
          <p:spPr>
            <a:xfrm>
              <a:off x="5923080" y="3898800"/>
              <a:ext cx="0" cy="41436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6"/>
            <p:cNvSpPr/>
            <p:nvPr/>
          </p:nvSpPr>
          <p:spPr>
            <a:xfrm>
              <a:off x="6280200" y="4314960"/>
              <a:ext cx="303120" cy="225360"/>
            </a:xfrm>
            <a:prstGeom prst="pie">
              <a:avLst/>
            </a:pr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47"/>
            <p:cNvSpPr/>
            <p:nvPr/>
          </p:nvSpPr>
          <p:spPr>
            <a:xfrm>
              <a:off x="6280200" y="4314960"/>
              <a:ext cx="303120" cy="225360"/>
            </a:xfrm>
            <a:prstGeom prst="pie">
              <a:avLst/>
            </a:prstGeom>
            <a:noFill/>
            <a:ln w="20520">
              <a:solidFill>
                <a:srgbClr val="0303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48"/>
            <p:cNvSpPr/>
            <p:nvPr/>
          </p:nvSpPr>
          <p:spPr>
            <a:xfrm>
              <a:off x="6222960" y="4167000"/>
              <a:ext cx="66600" cy="35748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49"/>
            <p:cNvSpPr/>
            <p:nvPr/>
          </p:nvSpPr>
          <p:spPr>
            <a:xfrm>
              <a:off x="5915160" y="4300560"/>
              <a:ext cx="379080" cy="23328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50"/>
            <p:cNvSpPr/>
            <p:nvPr/>
          </p:nvSpPr>
          <p:spPr>
            <a:xfrm>
              <a:off x="6262560" y="4521240"/>
              <a:ext cx="34920" cy="371520"/>
            </a:xfrm>
            <a:prstGeom prst="pie">
              <a:avLst/>
            </a:prstGeom>
            <a:solidFill>
              <a:srgbClr val="030303"/>
            </a:solidFill>
            <a:ln w="0">
              <a:solidFill>
                <a:srgbClr val="03030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51"/>
            <p:cNvSpPr/>
            <p:nvPr/>
          </p:nvSpPr>
          <p:spPr>
            <a:xfrm>
              <a:off x="6981840" y="4516560"/>
              <a:ext cx="0" cy="33480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52"/>
            <p:cNvSpPr/>
            <p:nvPr/>
          </p:nvSpPr>
          <p:spPr>
            <a:xfrm>
              <a:off x="7064280" y="4516560"/>
              <a:ext cx="0" cy="33480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53"/>
            <p:cNvSpPr/>
            <p:nvPr/>
          </p:nvSpPr>
          <p:spPr>
            <a:xfrm>
              <a:off x="6759360" y="4371840"/>
              <a:ext cx="262080" cy="16668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54"/>
            <p:cNvSpPr/>
            <p:nvPr/>
          </p:nvSpPr>
          <p:spPr>
            <a:xfrm flipV="1">
              <a:off x="7005600" y="4313160"/>
              <a:ext cx="406440" cy="22536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55"/>
            <p:cNvSpPr/>
            <p:nvPr/>
          </p:nvSpPr>
          <p:spPr>
            <a:xfrm>
              <a:off x="7394400" y="4005360"/>
              <a:ext cx="0" cy="30960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56"/>
            <p:cNvSpPr/>
            <p:nvPr/>
          </p:nvSpPr>
          <p:spPr>
            <a:xfrm>
              <a:off x="7407360" y="4305240"/>
              <a:ext cx="390240" cy="306360"/>
            </a:xfrm>
            <a:prstGeom prst="pie">
              <a:avLst/>
            </a:prstGeom>
            <a:solidFill>
              <a:srgbClr val="03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57"/>
            <p:cNvSpPr/>
            <p:nvPr/>
          </p:nvSpPr>
          <p:spPr>
            <a:xfrm>
              <a:off x="7407360" y="4305240"/>
              <a:ext cx="390240" cy="306360"/>
            </a:xfrm>
            <a:prstGeom prst="pie">
              <a:avLst/>
            </a:prstGeom>
            <a:noFill/>
            <a:ln w="20520">
              <a:solidFill>
                <a:srgbClr val="0303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58"/>
            <p:cNvSpPr/>
            <p:nvPr/>
          </p:nvSpPr>
          <p:spPr>
            <a:xfrm>
              <a:off x="7386480" y="4162320"/>
              <a:ext cx="277920" cy="181080"/>
            </a:xfrm>
            <a:prstGeom prst="pie">
              <a:avLst/>
            </a:prstGeom>
            <a:solidFill>
              <a:srgbClr val="030303"/>
            </a:solidFill>
            <a:ln w="0">
              <a:solidFill>
                <a:srgbClr val="03030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59"/>
            <p:cNvSpPr/>
            <p:nvPr/>
          </p:nvSpPr>
          <p:spPr>
            <a:xfrm flipV="1">
              <a:off x="7767720" y="4340160"/>
              <a:ext cx="272880" cy="16344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60"/>
            <p:cNvSpPr/>
            <p:nvPr/>
          </p:nvSpPr>
          <p:spPr>
            <a:xfrm>
              <a:off x="7761240" y="4516560"/>
              <a:ext cx="0" cy="33480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61"/>
            <p:cNvSpPr/>
            <p:nvPr/>
          </p:nvSpPr>
          <p:spPr>
            <a:xfrm>
              <a:off x="7056360" y="1973160"/>
              <a:ext cx="34920" cy="378000"/>
            </a:xfrm>
            <a:prstGeom prst="pie">
              <a:avLst/>
            </a:prstGeom>
            <a:solidFill>
              <a:srgbClr val="030303"/>
            </a:solidFill>
            <a:ln w="0">
              <a:solidFill>
                <a:srgbClr val="03030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62"/>
            <p:cNvSpPr/>
            <p:nvPr/>
          </p:nvSpPr>
          <p:spPr>
            <a:xfrm flipH="1">
              <a:off x="5659200" y="3003480"/>
              <a:ext cx="269640" cy="15228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63"/>
            <p:cNvSpPr/>
            <p:nvPr/>
          </p:nvSpPr>
          <p:spPr>
            <a:xfrm>
              <a:off x="5703840" y="3689280"/>
              <a:ext cx="290520" cy="17640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64"/>
            <p:cNvSpPr/>
            <p:nvPr/>
          </p:nvSpPr>
          <p:spPr>
            <a:xfrm>
              <a:off x="5648400" y="3735360"/>
              <a:ext cx="291960" cy="176040"/>
            </a:xfrm>
            <a:prstGeom prst="line">
              <a:avLst/>
            </a:prstGeom>
            <a:ln w="20520">
              <a:solidFill>
                <a:srgbClr val="0303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65"/>
            <p:cNvSpPr/>
            <p:nvPr/>
          </p:nvSpPr>
          <p:spPr>
            <a:xfrm>
              <a:off x="5881680" y="2442960"/>
              <a:ext cx="169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30303"/>
                  </a:solidFill>
                  <a:latin typeface="Franklin Gothic Medium Cond"/>
                </a:rPr>
                <a:t>C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66"/>
            <p:cNvSpPr/>
            <p:nvPr/>
          </p:nvSpPr>
          <p:spPr>
            <a:xfrm>
              <a:off x="6006960" y="2442960"/>
              <a:ext cx="20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30303"/>
                  </a:solidFill>
                  <a:latin typeface="Franklin Gothic Medium Cond"/>
                </a:rPr>
                <a:t>H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67"/>
            <p:cNvSpPr/>
            <p:nvPr/>
          </p:nvSpPr>
          <p:spPr>
            <a:xfrm>
              <a:off x="6149520" y="260028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30303"/>
                  </a:solidFill>
                  <a:latin typeface="Franklin Gothic Medium Cond"/>
                </a:rPr>
                <a:t>3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68"/>
            <p:cNvSpPr/>
            <p:nvPr/>
          </p:nvSpPr>
          <p:spPr>
            <a:xfrm>
              <a:off x="6419880" y="2442960"/>
              <a:ext cx="20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30303"/>
                  </a:solidFill>
                  <a:latin typeface="Franklin Gothic Medium Cond"/>
                </a:rPr>
                <a:t>H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69"/>
            <p:cNvSpPr/>
            <p:nvPr/>
          </p:nvSpPr>
          <p:spPr>
            <a:xfrm>
              <a:off x="6561360" y="2442960"/>
              <a:ext cx="217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30303"/>
                  </a:solidFill>
                  <a:latin typeface="Franklin Gothic Medium Cond"/>
                </a:rPr>
                <a:t>N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70"/>
            <p:cNvSpPr/>
            <p:nvPr/>
          </p:nvSpPr>
          <p:spPr>
            <a:xfrm>
              <a:off x="6998040" y="1697040"/>
              <a:ext cx="21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H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71"/>
            <p:cNvSpPr/>
            <p:nvPr/>
          </p:nvSpPr>
          <p:spPr>
            <a:xfrm>
              <a:off x="5289840" y="3089160"/>
              <a:ext cx="21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H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72"/>
            <p:cNvSpPr/>
            <p:nvPr/>
          </p:nvSpPr>
          <p:spPr>
            <a:xfrm>
              <a:off x="5430240" y="32497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30303"/>
                  </a:solidFill>
                  <a:latin typeface="Franklin Gothic Medium Cond"/>
                </a:rPr>
                <a:t>3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73"/>
            <p:cNvSpPr/>
            <p:nvPr/>
          </p:nvSpPr>
          <p:spPr>
            <a:xfrm>
              <a:off x="5510160" y="3089160"/>
              <a:ext cx="17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C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74"/>
            <p:cNvSpPr/>
            <p:nvPr/>
          </p:nvSpPr>
          <p:spPr>
            <a:xfrm>
              <a:off x="5869080" y="3316320"/>
              <a:ext cx="20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30303"/>
                  </a:solidFill>
                  <a:latin typeface="Franklin Gothic Medium Cond"/>
                </a:rPr>
                <a:t>H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75"/>
            <p:cNvSpPr/>
            <p:nvPr/>
          </p:nvSpPr>
          <p:spPr>
            <a:xfrm>
              <a:off x="5478840" y="3495600"/>
              <a:ext cx="223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76"/>
            <p:cNvSpPr/>
            <p:nvPr/>
          </p:nvSpPr>
          <p:spPr>
            <a:xfrm>
              <a:off x="6230520" y="351324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N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77"/>
            <p:cNvSpPr/>
            <p:nvPr/>
          </p:nvSpPr>
          <p:spPr>
            <a:xfrm>
              <a:off x="6390000" y="3513240"/>
              <a:ext cx="21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H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78"/>
            <p:cNvSpPr/>
            <p:nvPr/>
          </p:nvSpPr>
          <p:spPr>
            <a:xfrm>
              <a:off x="6785280" y="3190680"/>
              <a:ext cx="223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79"/>
            <p:cNvSpPr/>
            <p:nvPr/>
          </p:nvSpPr>
          <p:spPr>
            <a:xfrm>
              <a:off x="6925680" y="2787480"/>
              <a:ext cx="154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80"/>
            <p:cNvSpPr/>
            <p:nvPr/>
          </p:nvSpPr>
          <p:spPr>
            <a:xfrm>
              <a:off x="7153560" y="2882880"/>
              <a:ext cx="21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H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81"/>
            <p:cNvSpPr/>
            <p:nvPr/>
          </p:nvSpPr>
          <p:spPr>
            <a:xfrm>
              <a:off x="7294320" y="288288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N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82"/>
            <p:cNvSpPr/>
            <p:nvPr/>
          </p:nvSpPr>
          <p:spPr>
            <a:xfrm>
              <a:off x="7105320" y="3102120"/>
              <a:ext cx="154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83"/>
            <p:cNvSpPr/>
            <p:nvPr/>
          </p:nvSpPr>
          <p:spPr>
            <a:xfrm>
              <a:off x="7162920" y="3720960"/>
              <a:ext cx="21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H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84"/>
            <p:cNvSpPr/>
            <p:nvPr/>
          </p:nvSpPr>
          <p:spPr>
            <a:xfrm>
              <a:off x="7303680" y="3720960"/>
              <a:ext cx="227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N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85"/>
            <p:cNvSpPr/>
            <p:nvPr/>
          </p:nvSpPr>
          <p:spPr>
            <a:xfrm>
              <a:off x="7707600" y="2230560"/>
              <a:ext cx="223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86"/>
            <p:cNvSpPr/>
            <p:nvPr/>
          </p:nvSpPr>
          <p:spPr>
            <a:xfrm>
              <a:off x="8089920" y="2448000"/>
              <a:ext cx="17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C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87"/>
            <p:cNvSpPr/>
            <p:nvPr/>
          </p:nvSpPr>
          <p:spPr>
            <a:xfrm>
              <a:off x="8215560" y="2448000"/>
              <a:ext cx="21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H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88"/>
            <p:cNvSpPr/>
            <p:nvPr/>
          </p:nvSpPr>
          <p:spPr>
            <a:xfrm>
              <a:off x="8356320" y="260820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30303"/>
                  </a:solidFill>
                  <a:latin typeface="Franklin Gothic Medium Cond"/>
                </a:rPr>
                <a:t>3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89"/>
            <p:cNvSpPr/>
            <p:nvPr/>
          </p:nvSpPr>
          <p:spPr>
            <a:xfrm>
              <a:off x="8087040" y="3733920"/>
              <a:ext cx="223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90"/>
            <p:cNvSpPr/>
            <p:nvPr/>
          </p:nvSpPr>
          <p:spPr>
            <a:xfrm>
              <a:off x="7712280" y="3957480"/>
              <a:ext cx="20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30303"/>
                  </a:solidFill>
                  <a:latin typeface="Franklin Gothic Medium Cond"/>
                </a:rPr>
                <a:t>H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91"/>
            <p:cNvSpPr/>
            <p:nvPr/>
          </p:nvSpPr>
          <p:spPr>
            <a:xfrm>
              <a:off x="8089920" y="4168800"/>
              <a:ext cx="17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C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92"/>
            <p:cNvSpPr/>
            <p:nvPr/>
          </p:nvSpPr>
          <p:spPr>
            <a:xfrm>
              <a:off x="8215560" y="4168800"/>
              <a:ext cx="21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H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93"/>
            <p:cNvSpPr/>
            <p:nvPr/>
          </p:nvSpPr>
          <p:spPr>
            <a:xfrm>
              <a:off x="8356320" y="433080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30303"/>
                  </a:solidFill>
                  <a:latin typeface="Franklin Gothic Medium Cond"/>
                </a:rPr>
                <a:t>3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94"/>
            <p:cNvSpPr/>
            <p:nvPr/>
          </p:nvSpPr>
          <p:spPr>
            <a:xfrm>
              <a:off x="7729560" y="4811760"/>
              <a:ext cx="17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C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95"/>
            <p:cNvSpPr/>
            <p:nvPr/>
          </p:nvSpPr>
          <p:spPr>
            <a:xfrm>
              <a:off x="7855200" y="4811760"/>
              <a:ext cx="21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H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96"/>
            <p:cNvSpPr/>
            <p:nvPr/>
          </p:nvSpPr>
          <p:spPr>
            <a:xfrm>
              <a:off x="7995960" y="49719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30303"/>
                  </a:solidFill>
                  <a:latin typeface="Franklin Gothic Medium Cond"/>
                </a:rPr>
                <a:t>3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97"/>
            <p:cNvSpPr/>
            <p:nvPr/>
          </p:nvSpPr>
          <p:spPr>
            <a:xfrm>
              <a:off x="6963120" y="4844880"/>
              <a:ext cx="223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98"/>
            <p:cNvSpPr/>
            <p:nvPr/>
          </p:nvSpPr>
          <p:spPr>
            <a:xfrm>
              <a:off x="6591600" y="4159080"/>
              <a:ext cx="223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30303"/>
                  </a:solidFill>
                  <a:latin typeface="Franklin Gothic Medium Cond"/>
                </a:rPr>
                <a:t>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99"/>
            <p:cNvSpPr/>
            <p:nvPr/>
          </p:nvSpPr>
          <p:spPr>
            <a:xfrm>
              <a:off x="6211800" y="4851360"/>
              <a:ext cx="20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30303"/>
                  </a:solidFill>
                  <a:latin typeface="Franklin Gothic Medium Cond"/>
                </a:rPr>
                <a:t>H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TextBox 1"/>
          <p:cNvSpPr/>
          <p:nvPr/>
        </p:nvSpPr>
        <p:spPr>
          <a:xfrm>
            <a:off x="4680" y="6335640"/>
            <a:ext cx="901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ekarz RL et al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2001;98(9):2865-2868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ekarz R et al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loo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2009;114:Abstract 165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udy Desig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457200" y="2089080"/>
            <a:ext cx="4114800" cy="381240"/>
          </a:xfrm>
          <a:prstGeom prst="rect">
            <a:avLst/>
          </a:prstGeom>
          <a:solidFill>
            <a:srgbClr val="c0c0c0"/>
          </a:solidFill>
          <a:ln w="25560">
            <a:solidFill>
              <a:srgbClr val="8c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nalidomide 20 mg Days 1-21 Cycles 1-6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0880" y="132696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marL="291600" indent="-2916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        2           3            4            5             6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Rectangle 10"/>
          <p:cNvGrpSpPr/>
          <p:nvPr/>
        </p:nvGrpSpPr>
        <p:grpSpPr>
          <a:xfrm>
            <a:off x="426960" y="2817720"/>
            <a:ext cx="4168800" cy="438120"/>
            <a:chOff x="426960" y="2817720"/>
            <a:chExt cx="4168800" cy="438120"/>
          </a:xfrm>
        </p:grpSpPr>
        <p:pic>
          <p:nvPicPr>
            <p:cNvPr id="571" name="Rectangle 10" descr=""/>
            <p:cNvPicPr/>
            <p:nvPr/>
          </p:nvPicPr>
          <p:blipFill>
            <a:blip r:embed="rId1"/>
            <a:stretch/>
          </p:blipFill>
          <p:spPr>
            <a:xfrm>
              <a:off x="426960" y="2817720"/>
              <a:ext cx="41688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457200" y="2850840"/>
              <a:ext cx="4114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ituximab 375 mg/M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Day 1 of Cycles 1-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Up Arrow 12"/>
          <p:cNvGrpSpPr/>
          <p:nvPr/>
        </p:nvGrpSpPr>
        <p:grpSpPr>
          <a:xfrm>
            <a:off x="407880" y="2665440"/>
            <a:ext cx="141480" cy="212760"/>
            <a:chOff x="407880" y="2665440"/>
            <a:chExt cx="141480" cy="212760"/>
          </a:xfrm>
        </p:grpSpPr>
        <p:pic>
          <p:nvPicPr>
            <p:cNvPr id="574" name="Up Arrow 12" descr=""/>
            <p:cNvPicPr/>
            <p:nvPr/>
          </p:nvPicPr>
          <p:blipFill>
            <a:blip r:embed="rId2"/>
            <a:stretch/>
          </p:blipFill>
          <p:spPr>
            <a:xfrm>
              <a:off x="407880" y="2665440"/>
              <a:ext cx="1414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468360" y="2710080"/>
              <a:ext cx="237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Up Arrow 14"/>
          <p:cNvGrpSpPr/>
          <p:nvPr/>
        </p:nvGrpSpPr>
        <p:grpSpPr>
          <a:xfrm>
            <a:off x="1090440" y="2665440"/>
            <a:ext cx="141480" cy="212760"/>
            <a:chOff x="1090440" y="2665440"/>
            <a:chExt cx="141480" cy="212760"/>
          </a:xfrm>
        </p:grpSpPr>
        <p:pic>
          <p:nvPicPr>
            <p:cNvPr id="577" name="Up Arrow 14" descr=""/>
            <p:cNvPicPr/>
            <p:nvPr/>
          </p:nvPicPr>
          <p:blipFill>
            <a:blip r:embed="rId3"/>
            <a:stretch/>
          </p:blipFill>
          <p:spPr>
            <a:xfrm>
              <a:off x="1090440" y="2665440"/>
              <a:ext cx="1414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1154160" y="2710080"/>
              <a:ext cx="237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Up Arrow 15"/>
          <p:cNvGrpSpPr/>
          <p:nvPr/>
        </p:nvGrpSpPr>
        <p:grpSpPr>
          <a:xfrm>
            <a:off x="3151080" y="2665440"/>
            <a:ext cx="141480" cy="212760"/>
            <a:chOff x="3151080" y="2665440"/>
            <a:chExt cx="141480" cy="212760"/>
          </a:xfrm>
        </p:grpSpPr>
        <p:pic>
          <p:nvPicPr>
            <p:cNvPr id="580" name="Up Arrow 15" descr=""/>
            <p:cNvPicPr/>
            <p:nvPr/>
          </p:nvPicPr>
          <p:blipFill>
            <a:blip r:embed="rId4"/>
            <a:stretch/>
          </p:blipFill>
          <p:spPr>
            <a:xfrm>
              <a:off x="3151080" y="2665440"/>
              <a:ext cx="1414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3211560" y="2710080"/>
              <a:ext cx="237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Up Arrow 16"/>
          <p:cNvGrpSpPr/>
          <p:nvPr/>
        </p:nvGrpSpPr>
        <p:grpSpPr>
          <a:xfrm>
            <a:off x="1700280" y="2665440"/>
            <a:ext cx="141120" cy="212760"/>
            <a:chOff x="1700280" y="2665440"/>
            <a:chExt cx="141120" cy="212760"/>
          </a:xfrm>
        </p:grpSpPr>
        <p:pic>
          <p:nvPicPr>
            <p:cNvPr id="583" name="Up Arrow 16" descr=""/>
            <p:cNvPicPr/>
            <p:nvPr/>
          </p:nvPicPr>
          <p:blipFill>
            <a:blip r:embed="rId5"/>
            <a:stretch/>
          </p:blipFill>
          <p:spPr>
            <a:xfrm>
              <a:off x="1700280" y="2665440"/>
              <a:ext cx="14112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1763640" y="2710080"/>
              <a:ext cx="237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5" name="Up Arrow 17"/>
          <p:cNvGrpSpPr/>
          <p:nvPr/>
        </p:nvGrpSpPr>
        <p:grpSpPr>
          <a:xfrm>
            <a:off x="2462040" y="2665440"/>
            <a:ext cx="141480" cy="212760"/>
            <a:chOff x="2462040" y="2665440"/>
            <a:chExt cx="141480" cy="212760"/>
          </a:xfrm>
        </p:grpSpPr>
        <p:pic>
          <p:nvPicPr>
            <p:cNvPr id="586" name="Up Arrow 17" descr=""/>
            <p:cNvPicPr/>
            <p:nvPr/>
          </p:nvPicPr>
          <p:blipFill>
            <a:blip r:embed="rId6"/>
            <a:stretch/>
          </p:blipFill>
          <p:spPr>
            <a:xfrm>
              <a:off x="2462040" y="2665440"/>
              <a:ext cx="1414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2525760" y="2710080"/>
              <a:ext cx="237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8" name="Up Arrow 18"/>
          <p:cNvGrpSpPr/>
          <p:nvPr/>
        </p:nvGrpSpPr>
        <p:grpSpPr>
          <a:xfrm>
            <a:off x="3913200" y="2665440"/>
            <a:ext cx="141120" cy="212760"/>
            <a:chOff x="3913200" y="2665440"/>
            <a:chExt cx="141120" cy="212760"/>
          </a:xfrm>
        </p:grpSpPr>
        <p:pic>
          <p:nvPicPr>
            <p:cNvPr id="589" name="Up Arrow 18" descr=""/>
            <p:cNvPicPr/>
            <p:nvPr/>
          </p:nvPicPr>
          <p:blipFill>
            <a:blip r:embed="rId7"/>
            <a:stretch/>
          </p:blipFill>
          <p:spPr>
            <a:xfrm>
              <a:off x="3913200" y="2665440"/>
              <a:ext cx="14112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3973680" y="2710080"/>
              <a:ext cx="237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1" name="Rectangle 45"/>
          <p:cNvSpPr/>
          <p:nvPr/>
        </p:nvSpPr>
        <p:spPr>
          <a:xfrm>
            <a:off x="2286000" y="37656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clinical benefit, can proceed to 12 cyc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Box 51"/>
          <p:cNvSpPr/>
          <p:nvPr/>
        </p:nvSpPr>
        <p:spPr>
          <a:xfrm>
            <a:off x="304920" y="4489560"/>
            <a:ext cx="746748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II, single instit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ed Enroll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=50 Follicular lymphoma (grade I/I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=30 Small lymphocytic lympho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=30 Marginal zone lympho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s analyzed independently for response and toxic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68"/>
          <p:cNvSpPr/>
          <p:nvPr/>
        </p:nvSpPr>
        <p:spPr>
          <a:xfrm>
            <a:off x="457200" y="3384720"/>
            <a:ext cx="1676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RESTAG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4" name="Rectangle 72"/>
          <p:cNvGrpSpPr/>
          <p:nvPr/>
        </p:nvGrpSpPr>
        <p:grpSpPr>
          <a:xfrm>
            <a:off x="2498760" y="3292560"/>
            <a:ext cx="409680" cy="330120"/>
            <a:chOff x="2498760" y="3292560"/>
            <a:chExt cx="409680" cy="330120"/>
          </a:xfrm>
        </p:grpSpPr>
        <p:pic>
          <p:nvPicPr>
            <p:cNvPr id="595" name="Rectangle 72" descr=""/>
            <p:cNvPicPr/>
            <p:nvPr/>
          </p:nvPicPr>
          <p:blipFill>
            <a:blip r:embed="rId8"/>
            <a:stretch/>
          </p:blipFill>
          <p:spPr>
            <a:xfrm>
              <a:off x="2498760" y="3292560"/>
              <a:ext cx="40968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2514600" y="3308400"/>
              <a:ext cx="380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7" name="Group 34"/>
          <p:cNvGrpSpPr/>
          <p:nvPr/>
        </p:nvGrpSpPr>
        <p:grpSpPr>
          <a:xfrm>
            <a:off x="4572000" y="2089080"/>
            <a:ext cx="4038480" cy="1524240"/>
            <a:chOff x="4572000" y="2089080"/>
            <a:chExt cx="4038480" cy="1524240"/>
          </a:xfrm>
        </p:grpSpPr>
        <p:grpSp>
          <p:nvGrpSpPr>
            <p:cNvPr id="598" name="Up Arrow 19"/>
            <p:cNvGrpSpPr/>
            <p:nvPr/>
          </p:nvGrpSpPr>
          <p:grpSpPr>
            <a:xfrm>
              <a:off x="4572000" y="2661840"/>
              <a:ext cx="137520" cy="212040"/>
              <a:chOff x="4572000" y="2661840"/>
              <a:chExt cx="137520" cy="212040"/>
            </a:xfrm>
          </p:grpSpPr>
          <p:pic>
            <p:nvPicPr>
              <p:cNvPr id="599" name="Up Arrow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4572000" y="2661840"/>
                <a:ext cx="137520" cy="21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>
                <a:off x="4631040" y="2706480"/>
                <a:ext cx="2232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Up Arrow 20"/>
            <p:cNvGrpSpPr/>
            <p:nvPr/>
          </p:nvGrpSpPr>
          <p:grpSpPr>
            <a:xfrm>
              <a:off x="5391720" y="2661840"/>
              <a:ext cx="137520" cy="212040"/>
              <a:chOff x="5391720" y="2661840"/>
              <a:chExt cx="137520" cy="212040"/>
            </a:xfrm>
          </p:grpSpPr>
          <p:pic>
            <p:nvPicPr>
              <p:cNvPr id="602" name="Up Arrow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91720" y="2661840"/>
                <a:ext cx="137520" cy="21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>
                <a:off x="5453640" y="2706480"/>
                <a:ext cx="2232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4" name="Up Arrow 21"/>
            <p:cNvGrpSpPr/>
            <p:nvPr/>
          </p:nvGrpSpPr>
          <p:grpSpPr>
            <a:xfrm>
              <a:off x="6067800" y="2661840"/>
              <a:ext cx="137520" cy="212040"/>
              <a:chOff x="6067800" y="2661840"/>
              <a:chExt cx="137520" cy="212040"/>
            </a:xfrm>
          </p:grpSpPr>
          <p:pic>
            <p:nvPicPr>
              <p:cNvPr id="605" name="Up Arrow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6067800" y="2661840"/>
                <a:ext cx="137520" cy="21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6126840" y="2706480"/>
                <a:ext cx="2232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Up Arrow 22"/>
            <p:cNvGrpSpPr/>
            <p:nvPr/>
          </p:nvGrpSpPr>
          <p:grpSpPr>
            <a:xfrm>
              <a:off x="6666120" y="2661840"/>
              <a:ext cx="137520" cy="212040"/>
              <a:chOff x="6666120" y="2661840"/>
              <a:chExt cx="137520" cy="212040"/>
            </a:xfrm>
          </p:grpSpPr>
          <p:pic>
            <p:nvPicPr>
              <p:cNvPr id="608" name="Up Arrow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666120" y="2661840"/>
                <a:ext cx="137520" cy="21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9" name=""/>
              <p:cNvSpPr/>
              <p:nvPr/>
            </p:nvSpPr>
            <p:spPr>
              <a:xfrm>
                <a:off x="6725160" y="2706480"/>
                <a:ext cx="2232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0" name="Up Arrow 23"/>
            <p:cNvGrpSpPr/>
            <p:nvPr/>
          </p:nvGrpSpPr>
          <p:grpSpPr>
            <a:xfrm>
              <a:off x="7336080" y="2661840"/>
              <a:ext cx="137520" cy="212040"/>
              <a:chOff x="7336080" y="2661840"/>
              <a:chExt cx="137520" cy="212040"/>
            </a:xfrm>
          </p:grpSpPr>
          <p:pic>
            <p:nvPicPr>
              <p:cNvPr id="611" name="Up Arrow 23" descr=""/>
              <p:cNvPicPr/>
              <p:nvPr/>
            </p:nvPicPr>
            <p:blipFill>
              <a:blip r:embed="rId13"/>
              <a:stretch/>
            </p:blipFill>
            <p:spPr>
              <a:xfrm>
                <a:off x="7336080" y="2661840"/>
                <a:ext cx="137520" cy="21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7398000" y="2706480"/>
                <a:ext cx="2232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Up Arrow 24"/>
            <p:cNvGrpSpPr/>
            <p:nvPr/>
          </p:nvGrpSpPr>
          <p:grpSpPr>
            <a:xfrm>
              <a:off x="8012160" y="2661840"/>
              <a:ext cx="137520" cy="212040"/>
              <a:chOff x="8012160" y="2661840"/>
              <a:chExt cx="137520" cy="212040"/>
            </a:xfrm>
          </p:grpSpPr>
          <p:pic>
            <p:nvPicPr>
              <p:cNvPr id="614" name="Up Arrow 2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12160" y="2661840"/>
                <a:ext cx="137520" cy="21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8071200" y="2706480"/>
                <a:ext cx="2232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6" name="Rectangle 67"/>
            <p:cNvSpPr/>
            <p:nvPr/>
          </p:nvSpPr>
          <p:spPr>
            <a:xfrm>
              <a:off x="4619520" y="2089080"/>
              <a:ext cx="3963960" cy="3787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8c8c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nalidomide 20 mg Days 1-21 Cycles 7-12*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7" name="Rectangle 96"/>
            <p:cNvGrpSpPr/>
            <p:nvPr/>
          </p:nvGrpSpPr>
          <p:grpSpPr>
            <a:xfrm>
              <a:off x="4589640" y="2813400"/>
              <a:ext cx="4020840" cy="436320"/>
              <a:chOff x="4589640" y="2813400"/>
              <a:chExt cx="4020840" cy="436320"/>
            </a:xfrm>
          </p:grpSpPr>
          <p:pic>
            <p:nvPicPr>
              <p:cNvPr id="618" name="Rectangle 96" descr=""/>
              <p:cNvPicPr/>
              <p:nvPr/>
            </p:nvPicPr>
            <p:blipFill>
              <a:blip r:embed="rId15"/>
              <a:stretch/>
            </p:blipFill>
            <p:spPr>
              <a:xfrm>
                <a:off x="4589640" y="2813400"/>
                <a:ext cx="4020840" cy="43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9" name=""/>
              <p:cNvSpPr/>
              <p:nvPr/>
            </p:nvSpPr>
            <p:spPr>
              <a:xfrm>
                <a:off x="4619520" y="2846520"/>
                <a:ext cx="396432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ituximab 375 mg/M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Day 1 of Cycles 7-1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0" name="Rectangle 27"/>
            <p:cNvGrpSpPr/>
            <p:nvPr/>
          </p:nvGrpSpPr>
          <p:grpSpPr>
            <a:xfrm>
              <a:off x="6175440" y="3286080"/>
              <a:ext cx="400680" cy="327240"/>
              <a:chOff x="6175440" y="3286080"/>
              <a:chExt cx="400680" cy="327240"/>
            </a:xfrm>
          </p:grpSpPr>
          <p:pic>
            <p:nvPicPr>
              <p:cNvPr id="621" name="Rectangle 27" descr=""/>
              <p:cNvPicPr/>
              <p:nvPr/>
            </p:nvPicPr>
            <p:blipFill>
              <a:blip r:embed="rId16"/>
              <a:stretch/>
            </p:blipFill>
            <p:spPr>
              <a:xfrm>
                <a:off x="6175440" y="3286080"/>
                <a:ext cx="400680" cy="32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2" name=""/>
              <p:cNvSpPr/>
              <p:nvPr/>
            </p:nvSpPr>
            <p:spPr>
              <a:xfrm>
                <a:off x="6190200" y="3301200"/>
                <a:ext cx="3740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3" name="Rectangle 28"/>
            <p:cNvGrpSpPr/>
            <p:nvPr/>
          </p:nvGrpSpPr>
          <p:grpSpPr>
            <a:xfrm>
              <a:off x="8191800" y="3286080"/>
              <a:ext cx="400680" cy="327240"/>
              <a:chOff x="8191800" y="3286080"/>
              <a:chExt cx="400680" cy="327240"/>
            </a:xfrm>
          </p:grpSpPr>
          <p:pic>
            <p:nvPicPr>
              <p:cNvPr id="624" name="Rectangle 28" descr=""/>
              <p:cNvPicPr/>
              <p:nvPr/>
            </p:nvPicPr>
            <p:blipFill>
              <a:blip r:embed="rId17"/>
              <a:stretch/>
            </p:blipFill>
            <p:spPr>
              <a:xfrm>
                <a:off x="8191800" y="3286080"/>
                <a:ext cx="400680" cy="32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5" name=""/>
              <p:cNvSpPr/>
              <p:nvPr/>
            </p:nvSpPr>
            <p:spPr>
              <a:xfrm>
                <a:off x="8209440" y="3301200"/>
                <a:ext cx="37404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6" name="Rectangle 29"/>
          <p:cNvGrpSpPr/>
          <p:nvPr/>
        </p:nvGrpSpPr>
        <p:grpSpPr>
          <a:xfrm>
            <a:off x="4175280" y="3287880"/>
            <a:ext cx="409320" cy="334800"/>
            <a:chOff x="4175280" y="3287880"/>
            <a:chExt cx="409320" cy="334800"/>
          </a:xfrm>
        </p:grpSpPr>
        <p:pic>
          <p:nvPicPr>
            <p:cNvPr id="627" name="Rectangle 29" descr=""/>
            <p:cNvPicPr/>
            <p:nvPr/>
          </p:nvPicPr>
          <p:blipFill>
            <a:blip r:embed="rId18"/>
            <a:stretch/>
          </p:blipFill>
          <p:spPr>
            <a:xfrm>
              <a:off x="4175280" y="3287880"/>
              <a:ext cx="4093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4191120" y="3308400"/>
              <a:ext cx="380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9" name="Content Placeholder 4"/>
          <p:cNvSpPr/>
          <p:nvPr/>
        </p:nvSpPr>
        <p:spPr>
          <a:xfrm>
            <a:off x="4927680" y="1504800"/>
            <a:ext cx="401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       8         9         10         11         12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0" name="Elbow Connector 26"/>
          <p:cNvCxnSpPr/>
          <p:nvPr/>
        </p:nvCxnSpPr>
        <p:spPr>
          <a:xfrm rot="5400000">
            <a:off x="3313800" y="2660400"/>
            <a:ext cx="1829520" cy="686520"/>
          </a:xfrm>
          <a:prstGeom prst="bentConnector2">
            <a:avLst/>
          </a:prstGeom>
          <a:ln w="31680">
            <a:solidFill>
              <a:srgbClr val="006600"/>
            </a:solidFill>
            <a:prstDash val="sysDash"/>
            <a:miter/>
            <a:tailEnd len="med" type="oval" w="med"/>
          </a:ln>
        </p:spPr>
      </p:cxnSp>
      <p:sp>
        <p:nvSpPr>
          <p:cNvPr id="631" name="TextBox 35"/>
          <p:cNvSpPr/>
          <p:nvPr/>
        </p:nvSpPr>
        <p:spPr>
          <a:xfrm>
            <a:off x="5029200" y="3765600"/>
            <a:ext cx="365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SLL patients: Dose escalation of lenalidomide starting with cycle 1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0 mg, 15 mg, 20 m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Box 30"/>
          <p:cNvSpPr/>
          <p:nvPr/>
        </p:nvSpPr>
        <p:spPr>
          <a:xfrm>
            <a:off x="6400800" y="591804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wler, N. et al. ICML 2011. Abst#137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line Patient Demographics a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ease Characterist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533520" y="1371600"/>
          <a:ext cx="7931160" cy="4280040"/>
        </p:xfrm>
        <a:graphic>
          <a:graphicData uri="http://schemas.openxmlformats.org/drawingml/2006/table">
            <a:tbl>
              <a:tblPr/>
              <a:tblGrid>
                <a:gridCol w="5259240"/>
                <a:gridCol w="2671920"/>
              </a:tblGrid>
              <a:tr h="3124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acterist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=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age, years (rang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 (34-8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04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e, n 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 (51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stology at diagnosis, n 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ginal Zone Lympho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(2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4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Lymphocytic Lymphoma (SL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(24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licular Lympho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(49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IPI risk groups, n (%)     (N=49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(2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mediat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(51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(29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LF criteria for high tumor burden (all pt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(5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lky Disease (mass &gt;7 cm, or 3 nodes &gt; 3 cm),   n (%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(2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H  ≥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(31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ge III/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(10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5" name="TextBox 4"/>
          <p:cNvSpPr/>
          <p:nvPr/>
        </p:nvSpPr>
        <p:spPr>
          <a:xfrm>
            <a:off x="0" y="6566040"/>
            <a:ext cx="335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Brice P, et al. JCO 1997: 15:1110–1117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Box 7"/>
          <p:cNvSpPr/>
          <p:nvPr/>
        </p:nvSpPr>
        <p:spPr>
          <a:xfrm>
            <a:off x="609480" y="5719680"/>
            <a:ext cx="5105520" cy="8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174600" indent="-174600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GELF Criteria</a:t>
            </a:r>
            <a:r>
              <a:rPr b="0" lang="en-US" sz="1100" spc="-1" strike="noStrike" u="sng" baseline="30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 nodes &gt; 3 cm or 1 greater than 7cm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ystemic/local symptoms from diseas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ression/risk of compression of vital orga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Box 8"/>
          <p:cNvSpPr/>
          <p:nvPr/>
        </p:nvSpPr>
        <p:spPr>
          <a:xfrm>
            <a:off x="5029200" y="5943600"/>
            <a:ext cx="3657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174600" indent="-174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ytopenia due to marrow infiltra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plenomegaly &gt; 16cm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Box 9"/>
          <p:cNvSpPr/>
          <p:nvPr/>
        </p:nvSpPr>
        <p:spPr>
          <a:xfrm>
            <a:off x="3073320" y="6581880"/>
            <a:ext cx="274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wler, N. et al. ICML 2011. Abst#137.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e 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685800" y="1600200"/>
          <a:ext cx="8039160" cy="3414600"/>
        </p:xfrm>
        <a:graphic>
          <a:graphicData uri="http://schemas.openxmlformats.org/drawingml/2006/table">
            <a:tbl>
              <a:tblPr/>
              <a:tblGrid>
                <a:gridCol w="1569960"/>
                <a:gridCol w="1173240"/>
                <a:gridCol w="1427040"/>
                <a:gridCol w="1389240"/>
                <a:gridCol w="1111320"/>
                <a:gridCol w="1368360"/>
              </a:tblGrid>
              <a:tr h="380520">
                <a:tc rowSpan="2"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L </a:t>
                      </a:r>
                      <a:br>
                        <a:rPr sz="2200"/>
                      </a:b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 = 24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ginal  </a:t>
                      </a:r>
                      <a:br>
                        <a:rPr sz="2200"/>
                      </a:b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 = 24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licul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 = 45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5ce7"/>
                      </a:solidFill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Patient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 = 93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5ce7"/>
                      </a:solidFill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 = 100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R, n (%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(83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(88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(98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(91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(85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/Cr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(25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(67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(85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(65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(60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(59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(21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(13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(27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(25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, n (%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(8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(13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(2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(6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(6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D, n (%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(8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(2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(2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TextBox 4"/>
          <p:cNvSpPr/>
          <p:nvPr/>
        </p:nvSpPr>
        <p:spPr>
          <a:xfrm>
            <a:off x="609480" y="5257800"/>
            <a:ext cx="64771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7 pts not evaluable for respon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 due to adverse event in cycl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  due to non-compl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 due to withdrawal of con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Box 5"/>
          <p:cNvSpPr/>
          <p:nvPr/>
        </p:nvSpPr>
        <p:spPr>
          <a:xfrm>
            <a:off x="165240" y="640080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wler, N. et al. ICML 2011. Abst#137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Content Placeholder 5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15168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d Response with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ed Treat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Box 4"/>
          <p:cNvSpPr/>
          <p:nvPr/>
        </p:nvSpPr>
        <p:spPr>
          <a:xfrm rot="16200000">
            <a:off x="-857520" y="311364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e (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Box 6"/>
          <p:cNvSpPr/>
          <p:nvPr/>
        </p:nvSpPr>
        <p:spPr>
          <a:xfrm>
            <a:off x="1870200" y="57164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ycle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Box 7"/>
          <p:cNvSpPr/>
          <p:nvPr/>
        </p:nvSpPr>
        <p:spPr>
          <a:xfrm>
            <a:off x="5164200" y="56484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ycle 6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Box 8"/>
          <p:cNvSpPr/>
          <p:nvPr/>
        </p:nvSpPr>
        <p:spPr>
          <a:xfrm>
            <a:off x="2281320" y="16286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Box 9"/>
          <p:cNvSpPr/>
          <p:nvPr/>
        </p:nvSpPr>
        <p:spPr>
          <a:xfrm>
            <a:off x="1219320" y="617220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 Pts with &gt; 6 cycles.   36%  with &lt;CR had improved  respons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Box 10"/>
          <p:cNvSpPr/>
          <p:nvPr/>
        </p:nvSpPr>
        <p:spPr>
          <a:xfrm>
            <a:off x="0" y="6581880"/>
            <a:ext cx="40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wler, N. et al. ICML 2011. Abst#137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206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arison with Other Frontline Follicular Lymphoma Therap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380880" y="1308240"/>
          <a:ext cx="8382240" cy="4268520"/>
        </p:xfrm>
        <a:graphic>
          <a:graphicData uri="http://schemas.openxmlformats.org/drawingml/2006/table">
            <a:tbl>
              <a:tblPr/>
              <a:tblGrid>
                <a:gridCol w="1836720"/>
                <a:gridCol w="1306800"/>
                <a:gridCol w="1247760"/>
                <a:gridCol w="1276200"/>
                <a:gridCol w="1436760"/>
                <a:gridCol w="1278000"/>
              </a:tblGrid>
              <a:tr h="341280">
                <a:tc>
                  <a:txBody>
                    <a:bodyPr lIns="90000" rIns="90000" tIns="36000" bIns="360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5ce7"/>
                      </a:solidFill>
                    </a:lnR>
                    <a:lnT w="5760">
                      <a:solidFill>
                        <a:srgbClr val="005ce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000" bIns="360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at et 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5ce7"/>
                      </a:solidFill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solidFill>
                      <a:srgbClr val="005c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6000" bIns="360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mmel et al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ddemann et 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solidFill>
                      <a:srgbClr val="005c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6000" bIns="360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us et 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36000" bIns="360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m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5ce7"/>
                      </a:solidFill>
                    </a:lnR>
                    <a:lnT>
                      <a:noFill/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tuxima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5ce7"/>
                      </a:solidFill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alidomide + Rituxima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solidFill>
                      <a:srgbClr val="005c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6000" bIns="360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damustine + Rituxima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OP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Rituximab</a:t>
                      </a:r>
                      <a:r>
                        <a:rPr b="0" lang="ar-AE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solidFill>
                      <a:srgbClr val="005c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6000" bIns="360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VP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Rituxima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ge  III/IV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5ce7"/>
                      </a:solidFill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(II+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5ce7"/>
                      </a:solidFill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5ce7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e 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5ce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5ce7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LF Criteria for treatment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5ce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5ce7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IPI  ≥ 3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5ce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5ce7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lky disease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5ce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5ce7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R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5ce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5ce7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5ce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5ce7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c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F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5ce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year 8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5ce7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year 8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solidFill>
                      <a:srgbClr val="005c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year 78%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year ≈ 8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solidFill>
                      <a:srgbClr val="005ce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mo 5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5ce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3" name="Text Box 226"/>
          <p:cNvSpPr/>
          <p:nvPr/>
        </p:nvSpPr>
        <p:spPr>
          <a:xfrm>
            <a:off x="220680" y="576324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d  indolent, MCL patients 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BLNI, ECOG Criteria  </a:t>
            </a:r>
            <a:r>
              <a:rPr b="0" lang="ar-AE" sz="1400" spc="-1" strike="noStrike">
                <a:solidFill>
                  <a:srgbClr val="000000"/>
                </a:solidFill>
                <a:latin typeface="Arial"/>
              </a:rPr>
              <a:t>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0% had INF maint, 23% had SCT consolid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Rounded Rectangle 5"/>
          <p:cNvSpPr/>
          <p:nvPr/>
        </p:nvSpPr>
        <p:spPr>
          <a:xfrm>
            <a:off x="2209680" y="4432320"/>
            <a:ext cx="66294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Box 6"/>
          <p:cNvSpPr/>
          <p:nvPr/>
        </p:nvSpPr>
        <p:spPr>
          <a:xfrm>
            <a:off x="0" y="640080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wler, N. et al. ICML 2011. Abst#137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alidomide and rituximab as initial treatment for indolent NHL produces high overall and complete response rat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ponse rates remain high in follicular lymphoma patients with high tumor burde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oxicity profile of the combination is mild with manageable hematologic side effec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rrelative studies are ongoing to further define effects on the immune microenvironmen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ase III randomized trials in untreated follicular lymphoma are planned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4"/>
          <p:cNvSpPr/>
          <p:nvPr/>
        </p:nvSpPr>
        <p:spPr>
          <a:xfrm>
            <a:off x="0" y="640080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wler, N. et al. ICML 2011. Abst#137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80520" y="1457280"/>
            <a:ext cx="845532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 male presents with stage IVA HL. WBC is 17K, hgb is 10, albumin is normal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rapy did I recommend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f722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VD x 6-8 cyc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f722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calated BEACOPP x 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f722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ford V and 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f722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T adapted therapy beginning with 2 cycles of ABVD and if positive change to BEACO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f722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T adapted therapy beginning with BEACOPP for 2 cycles and if negative change to ABV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3416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Year in Review</a:t>
            </a:r>
            <a:br>
              <a:rPr sz="2400"/>
            </a:br>
            <a:br>
              <a:rPr sz="8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A Daylong Multitumor CME Symposium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Focused on Key Clinical Presentations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and Papers in Oncology: 2010-2011</a:t>
            </a:r>
            <a:br>
              <a:rPr sz="2600"/>
            </a:b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2400" spc="-1" strike="noStrike">
                <a:solidFill>
                  <a:srgbClr val="acdadd"/>
                </a:solidFill>
                <a:latin typeface="Arial"/>
              </a:rPr>
              <a:t>Saturday, October 15, 2011</a:t>
            </a:r>
            <a:br>
              <a:rPr sz="2400"/>
            </a:br>
            <a:r>
              <a:rPr b="1" lang="en-US" sz="2400" spc="-1" strike="noStrike">
                <a:solidFill>
                  <a:srgbClr val="acdadd"/>
                </a:solidFill>
                <a:latin typeface="Arial"/>
              </a:rPr>
              <a:t>8:30 AM – 3:30 PM</a:t>
            </a:r>
            <a:br>
              <a:rPr sz="2400"/>
            </a:br>
            <a:r>
              <a:rPr b="1" lang="en-US" sz="2400" spc="-1" strike="noStrike">
                <a:solidFill>
                  <a:srgbClr val="acdadd"/>
                </a:solidFill>
                <a:latin typeface="Arial"/>
              </a:rPr>
              <a:t>Longboat Key Club &amp; Res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3963240" y="472932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1354680" y="511956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yce O’Shaughnessy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Heymach, MD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lliam K Oh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aig Moskowitz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7"/>
          <p:cNvSpPr/>
          <p:nvPr/>
        </p:nvSpPr>
        <p:spPr>
          <a:xfrm>
            <a:off x="3860640" y="40384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Mode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3371760" y="4343400"/>
            <a:ext cx="24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il Love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6"/>
          <p:cNvSpPr/>
          <p:nvPr/>
        </p:nvSpPr>
        <p:spPr>
          <a:xfrm>
            <a:off x="4649400" y="5119560"/>
            <a:ext cx="293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nneth C Anderson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ileen M O’Reilly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vid R Spriggs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dy Desig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0520" y="1347840"/>
            <a:ext cx="8455320" cy="36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2, open-label, single-arm, international stu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= 131 patients enrolled with histologically confirmed PTC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gible histologie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df72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TCL-NOS, AITL, ALK– ALCL, ALK+ ALCL if failed SCT,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teropathy-type TCL, subcutaneous panniculitis type TCL, cutaneous </a:t>
            </a:r>
            <a:r>
              <a:rPr b="1" lang="el-GR" sz="1700" spc="-1" strike="noStrike">
                <a:solidFill>
                  <a:srgbClr val="000000"/>
                </a:solidFill>
                <a:latin typeface="Lucida Grande"/>
              </a:rPr>
              <a:t>γδ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TCL, extranodal NK/TCL nasal type, transformed MF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gible pati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df72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ailed at least 1 prior systemic therapy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df72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easurable disease by IWC and/or measurable cutaneous diseas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f7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midepsin 14 mg/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4 hour IV) on days 1, 8, and 15 of a 28-day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579600" y="4813200"/>
            <a:ext cx="7832520" cy="16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all Response 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58920" y="1636560"/>
          <a:ext cx="8245440" cy="2978280"/>
        </p:xfrm>
        <a:graphic>
          <a:graphicData uri="http://schemas.openxmlformats.org/drawingml/2006/table">
            <a:tbl>
              <a:tblPr/>
              <a:tblGrid>
                <a:gridCol w="4120920"/>
                <a:gridCol w="2062080"/>
                <a:gridCol w="2062440"/>
              </a:tblGrid>
              <a:tr h="800280">
                <a:tc>
                  <a:txBody>
                    <a:bodyPr anchor="b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st Response Categ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C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3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(%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stigato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3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</a:tr>
              <a:tr h="31104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R (CR + CRu + P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(26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(29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11400">
                <a:tc>
                  <a:txBody>
                    <a:bodyPr anchor="ctr">
                      <a:noAutofit/>
                    </a:bodyPr>
                    <a:p>
                      <a:pPr marL="343080" indent="4680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Response (CR + CRu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(1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(16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11040">
                <a:tc>
                  <a:txBody>
                    <a:bodyPr anchor="ctr">
                      <a:noAutofit/>
                    </a:bodyPr>
                    <a:p>
                      <a:pPr marL="343080" indent="279360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(1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11040">
                <a:tc>
                  <a:txBody>
                    <a:bodyPr anchor="ctr">
                      <a:noAutofit/>
                    </a:bodyPr>
                    <a:p>
                      <a:pPr marL="343080" indent="279360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(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(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11040">
                <a:tc>
                  <a:txBody>
                    <a:bodyPr anchor="ctr">
                      <a:noAutofit/>
                    </a:bodyPr>
                    <a:p>
                      <a:pPr marL="343080" indent="4680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 Response (P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(1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(1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1140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ble Disease (SD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(2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(1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1104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ive Disease (PD)/Not Evaluabl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(49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(5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305" name="Text Box 74"/>
          <p:cNvSpPr/>
          <p:nvPr/>
        </p:nvSpPr>
        <p:spPr>
          <a:xfrm>
            <a:off x="355680" y="4513320"/>
            <a:ext cx="828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ufficient efficacy data to determine response due to early termination for 22 patients in IRC assessment and 11 patients in Investigators’ assessment; included as non-responders in the analysi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ration of Respon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85800" y="1955880"/>
          <a:ext cx="7632360" cy="2819160"/>
        </p:xfrm>
        <a:graphic>
          <a:graphicData uri="http://schemas.openxmlformats.org/drawingml/2006/table">
            <a:tbl>
              <a:tblPr/>
              <a:tblGrid>
                <a:gridCol w="2544120"/>
                <a:gridCol w="2544120"/>
                <a:gridCol w="2544120"/>
              </a:tblGrid>
              <a:tr h="939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 Review Committee (IRC) Assessmen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stigator's Assess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6060"/>
                    </a:solidFill>
                  </a:tcPr>
                </a:tc>
              </a:tr>
              <a:tr h="93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 of objective response(median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3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 of complete response(median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reache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month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380880" y="6134040"/>
            <a:ext cx="60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iffier B et al. Proc ASH 2010;Abstract 11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 Emergent Adverse Events (TEAEs)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≥ 20% of Patients (N = 13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Group 25"/>
          <p:cNvGrpSpPr/>
          <p:nvPr/>
        </p:nvGrpSpPr>
        <p:grpSpPr>
          <a:xfrm>
            <a:off x="-50760" y="1352520"/>
            <a:ext cx="8412120" cy="5316120"/>
            <a:chOff x="-50760" y="1352520"/>
            <a:chExt cx="8412120" cy="5316120"/>
          </a:xfrm>
        </p:grpSpPr>
        <p:pic>
          <p:nvPicPr>
            <p:cNvPr id="311" name="Object 2" descr=""/>
            <p:cNvPicPr/>
            <p:nvPr/>
          </p:nvPicPr>
          <p:blipFill>
            <a:blip r:embed="rId1"/>
            <a:stretch/>
          </p:blipFill>
          <p:spPr>
            <a:xfrm>
              <a:off x="2131920" y="1352520"/>
              <a:ext cx="6229440" cy="498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 Box 4"/>
            <p:cNvSpPr/>
            <p:nvPr/>
          </p:nvSpPr>
          <p:spPr>
            <a:xfrm>
              <a:off x="77760" y="6410520"/>
              <a:ext cx="78742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3360" indent="-6336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ents with a missing toxicity grade are included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Text Box 5"/>
            <p:cNvSpPr/>
            <p:nvPr/>
          </p:nvSpPr>
          <p:spPr>
            <a:xfrm>
              <a:off x="-47520" y="1542960"/>
              <a:ext cx="237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 least one TEA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Text Box 6"/>
            <p:cNvSpPr/>
            <p:nvPr/>
          </p:nvSpPr>
          <p:spPr>
            <a:xfrm>
              <a:off x="-47520" y="1858680"/>
              <a:ext cx="237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ause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Text Box 7"/>
            <p:cNvSpPr/>
            <p:nvPr/>
          </p:nvSpPr>
          <p:spPr>
            <a:xfrm>
              <a:off x="-47520" y="2492280"/>
              <a:ext cx="237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atigu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8"/>
            <p:cNvSpPr/>
            <p:nvPr/>
          </p:nvSpPr>
          <p:spPr>
            <a:xfrm>
              <a:off x="-47520" y="2808360"/>
              <a:ext cx="237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omit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9"/>
            <p:cNvSpPr/>
            <p:nvPr/>
          </p:nvSpPr>
          <p:spPr>
            <a:xfrm>
              <a:off x="-47520" y="3125880"/>
              <a:ext cx="237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hrombocytopen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0"/>
            <p:cNvSpPr/>
            <p:nvPr/>
          </p:nvSpPr>
          <p:spPr>
            <a:xfrm>
              <a:off x="-47520" y="3441600"/>
              <a:ext cx="237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arrhe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Text Box 11"/>
            <p:cNvSpPr/>
            <p:nvPr/>
          </p:nvSpPr>
          <p:spPr>
            <a:xfrm>
              <a:off x="-47520" y="3757680"/>
              <a:ext cx="237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yrex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12"/>
            <p:cNvSpPr/>
            <p:nvPr/>
          </p:nvSpPr>
          <p:spPr>
            <a:xfrm>
              <a:off x="-47520" y="4075200"/>
              <a:ext cx="237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utropen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 Box 13"/>
            <p:cNvSpPr/>
            <p:nvPr/>
          </p:nvSpPr>
          <p:spPr>
            <a:xfrm>
              <a:off x="-47520" y="4390920"/>
              <a:ext cx="237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tipat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14"/>
            <p:cNvSpPr/>
            <p:nvPr/>
          </p:nvSpPr>
          <p:spPr>
            <a:xfrm>
              <a:off x="-47520" y="4707000"/>
              <a:ext cx="237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orex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15"/>
            <p:cNvSpPr/>
            <p:nvPr/>
          </p:nvSpPr>
          <p:spPr>
            <a:xfrm>
              <a:off x="-47520" y="5024520"/>
              <a:ext cx="237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em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16"/>
            <p:cNvSpPr/>
            <p:nvPr/>
          </p:nvSpPr>
          <p:spPr>
            <a:xfrm>
              <a:off x="-47520" y="5340600"/>
              <a:ext cx="237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ysgeus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Group 17"/>
            <p:cNvGrpSpPr/>
            <p:nvPr/>
          </p:nvGrpSpPr>
          <p:grpSpPr>
            <a:xfrm>
              <a:off x="6701040" y="4827600"/>
              <a:ext cx="1185840" cy="554400"/>
              <a:chOff x="6701040" y="4827600"/>
              <a:chExt cx="1185840" cy="554400"/>
            </a:xfrm>
          </p:grpSpPr>
          <p:grpSp>
            <p:nvGrpSpPr>
              <p:cNvPr id="326" name="Group 18"/>
              <p:cNvGrpSpPr/>
              <p:nvPr/>
            </p:nvGrpSpPr>
            <p:grpSpPr>
              <a:xfrm>
                <a:off x="6703920" y="4827600"/>
                <a:ext cx="1182960" cy="554400"/>
                <a:chOff x="6703920" y="4827600"/>
                <a:chExt cx="1182960" cy="554400"/>
              </a:xfrm>
            </p:grpSpPr>
            <p:sp>
              <p:nvSpPr>
                <p:cNvPr id="327" name="Text Box 19"/>
                <p:cNvSpPr/>
                <p:nvPr/>
              </p:nvSpPr>
              <p:spPr>
                <a:xfrm>
                  <a:off x="6832800" y="4827600"/>
                  <a:ext cx="1054080" cy="55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verall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≥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Grade 3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Rectangle 20"/>
                <p:cNvSpPr/>
                <p:nvPr/>
              </p:nvSpPr>
              <p:spPr>
                <a:xfrm>
                  <a:off x="6703920" y="4897440"/>
                  <a:ext cx="162000" cy="132840"/>
                </a:xfrm>
                <a:prstGeom prst="rect">
                  <a:avLst/>
                </a:prstGeom>
                <a:solidFill>
                  <a:srgbClr val="0093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Rectangle 21"/>
              <p:cNvSpPr/>
              <p:nvPr/>
            </p:nvSpPr>
            <p:spPr>
              <a:xfrm>
                <a:off x="6701040" y="5165640"/>
                <a:ext cx="161640" cy="13284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0" name="Text Box 6"/>
            <p:cNvSpPr/>
            <p:nvPr/>
          </p:nvSpPr>
          <p:spPr>
            <a:xfrm>
              <a:off x="-50760" y="2176200"/>
              <a:ext cx="237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ect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2440" y="1801440"/>
            <a:ext cx="7772400" cy="1460520"/>
          </a:xfrm>
          <a:prstGeom prst="rect">
            <a:avLst/>
          </a:prstGeom>
          <a:solidFill>
            <a:srgbClr val="002e74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lete Remissions with Brentuximab Vedotin (SGN-35)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Patients with Relapsed or Refractory Systemic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plastic Large Cell Lymphoma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 Shustov, R Advani, P Brice, NL Bartlett, JD Rosenblatt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 Illidge, J Matous, R Ramchandren, MA Fanale, JM Connors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Yang, EL Sievers, DA Kennedy, B Pro </a:t>
            </a:r>
            <a:br>
              <a:rPr sz="20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0"/>
          <p:cNvSpPr/>
          <p:nvPr/>
        </p:nvSpPr>
        <p:spPr>
          <a:xfrm>
            <a:off x="1143000" y="4648320"/>
            <a:ext cx="685800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9:03:18Z</dcterms:created>
  <dc:creator/>
  <dc:description/>
  <dc:language>en-US</dc:language>
  <cp:lastModifiedBy>Aura Herrmann</cp:lastModifiedBy>
  <cp:lastPrinted>2011-10-14T20:37:48Z</cp:lastPrinted>
  <dcterms:modified xsi:type="dcterms:W3CDTF">2012-02-06T21:33:21Z</dcterms:modified>
  <cp:revision>39</cp:revision>
  <dc:subject/>
  <dc:title>PowerPoint Presentation</dc:title>
</cp:coreProperties>
</file>