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0D21-737C-4B0E-BA66-9616FC566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754B-4C33-43B2-AC86-816DBF02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BF93-02E1-44C7-ADC7-7863610A84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11FF-1839-4E9E-868E-AD04C954BBA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A4DE-EA4B-4123-844D-A8E649E178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6937-4518-4C8D-82EB-A4A514045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DD92-DF88-4676-8875-59D1F19643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C76F-CB85-4460-A48F-603DEF6354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8F74-FC38-4A3D-B92C-1B63C174CB6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F43A-3BBB-4535-A165-87BE76110DC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A8C2-1D0A-41EA-BC2D-5A79669841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20F1-0653-49A5-9EA8-4778259593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2A07-E192-4FEE-9C78-AF573E5901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7DB3-D275-4A2E-AFE8-4959EC308A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ED20-F555-407D-9A33-C20F48452B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45E5-CE1D-45AA-AA92-A1ADC0AEE8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775-9CB2-47A6-9E1A-285430EDEA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6609-91D1-4D5E-83A4-7C64751A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28D-7B9F-4A36-B60B-AE73002A9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4960" cy="34387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2320" y="4349880"/>
            <a:ext cx="49989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945A-E7FF-4127-9EF3-94B39E66E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4960" cy="34387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2320" y="4349880"/>
            <a:ext cx="49989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Year in Review</a:t>
            </a:r>
            <a:br>
              <a:rPr sz="2400"/>
            </a:br>
            <a:br>
              <a:rPr sz="8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 Daylong Multitumor CME Symposium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Focused on Key Clinical Presentations 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nd Papers in Oncology: 2010-2011</a:t>
            </a:r>
            <a:br>
              <a:rPr sz="26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Saturday, October 15, 2011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8:30 AM – 3:30 PM</a:t>
            </a:r>
            <a:br>
              <a:rPr sz="2400"/>
            </a:br>
            <a:r>
              <a:rPr b="1" lang="en-US" sz="2400" spc="-1" strike="noStrike">
                <a:solidFill>
                  <a:srgbClr val="acdadd"/>
                </a:solidFill>
                <a:latin typeface="Arial"/>
              </a:rPr>
              <a:t>Longboat Key Club &amp; Res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63240" y="472932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354680" y="511956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yce O’Shaughnessy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Heymach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iam K Oh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ig Moskowitz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860640" y="40384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Mod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371760" y="434340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649400" y="511956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neth C Anderson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leen M O’Reilly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vid R Spriggs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580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Percent Change from Baseline in Spleen Volume in Individual Patients at Week 2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52480" y="2290680"/>
            <a:ext cx="5715000" cy="3840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6680" y="2139840"/>
            <a:ext cx="685800" cy="416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4348080"/>
            <a:ext cx="1676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% decre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2182680"/>
            <a:ext cx="548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xolitinib (n = 139)                      Placebo (n = 10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980720" y="2367000"/>
            <a:ext cx="30492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120" y="2367000"/>
            <a:ext cx="304920" cy="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257800"/>
            <a:ext cx="6019920" cy="8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t week 24, ruxolitinib-treated patients had a median 33.0% decrease in spleen volume, and placebo-treated patients had a median 8.5% increase (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&lt; 0.0001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1087560" y="3959280"/>
            <a:ext cx="4189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% Change From Base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6434280"/>
            <a:ext cx="3886200" cy="4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Verstovsek S et al. </a:t>
            </a:r>
            <a:br>
              <a:rPr sz="1500"/>
            </a:b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2011;Abstract 6500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2101680"/>
            <a:ext cx="4876920" cy="4116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685800" y="990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Percent Change from Baseline in Total Symptom Score in Individual Patients at Week 2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949400"/>
            <a:ext cx="685800" cy="44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5334120"/>
            <a:ext cx="1676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0% decre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27320"/>
            <a:ext cx="243864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xolitinib (n = 129)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cebo (n = 1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599840" y="2411280"/>
            <a:ext cx="30492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599840" y="2787480"/>
            <a:ext cx="304920" cy="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3352680"/>
            <a:ext cx="266724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uxolitinib-treated patients had a mean percent improvement of 46.1% 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n Total Symptom Score, and placebo-treated patients had a mean percent worsening of 41.8% (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&lt; 0.0001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atients with &gt;200% increase in total symptom score are plotted as 200% increas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1545120" y="3996000"/>
            <a:ext cx="4189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% Change From Base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6434280"/>
            <a:ext cx="3886200" cy="41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Verstovsek S et al. </a:t>
            </a:r>
            <a:br>
              <a:rPr sz="1500"/>
            </a:b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2011;Abstract 6500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86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04920" y="1905120"/>
          <a:ext cx="8686800" cy="411480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Module 1 – Dr O’Shaughnessy:</a:t>
                      </a:r>
                      <a:r>
                        <a:rPr b="0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Breast Canc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Module 2 – Dr Heymach:</a:t>
                      </a:r>
                      <a:r>
                        <a:rPr b="0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Non-Small Cell Lung Canc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Module 3 – Dr Oh:</a:t>
                      </a:r>
                      <a:r>
                        <a:rPr b="0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Genitourinary Canc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Module 4 – Dr Moskowitz:</a:t>
                      </a:r>
                      <a:r>
                        <a:rPr b="0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Lymphoma/Chronic Lymphocytic Leukem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Module 5 – Dr Anderson: </a:t>
                      </a: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Multiple Myelom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Module 6 – Dr O’Reilly: </a:t>
                      </a: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Gastrointestinal Cancer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ヒラギノ角ゴ Pro W3"/>
                        </a:rPr>
                        <a:t>Module 7 – Dr Spriggs: </a:t>
                      </a: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ヒラギノ角ゴ Pro W3"/>
                        </a:rPr>
                        <a:t>Ovarian Canc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YiRMM_10_Cover_Finaljc"/>
          <p:cNvPicPr/>
          <p:nvPr/>
        </p:nvPicPr>
        <p:blipFill>
          <a:blip r:embed="rId1"/>
          <a:stretch/>
        </p:blipFill>
        <p:spPr>
          <a:xfrm>
            <a:off x="2955960" y="1219320"/>
            <a:ext cx="3232080" cy="502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YiRGI_Cover_Finaljc"/>
          <p:cNvPicPr/>
          <p:nvPr/>
        </p:nvPicPr>
        <p:blipFill>
          <a:blip r:embed="rId1"/>
          <a:stretch/>
        </p:blipFill>
        <p:spPr>
          <a:xfrm>
            <a:off x="1709640" y="1295280"/>
            <a:ext cx="5722920" cy="490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YiRNHL_Cover_Finaldn-1"/>
          <p:cNvPicPr/>
          <p:nvPr/>
        </p:nvPicPr>
        <p:blipFill>
          <a:blip r:embed="rId1"/>
          <a:stretch/>
        </p:blipFill>
        <p:spPr>
          <a:xfrm>
            <a:off x="1709640" y="1295280"/>
            <a:ext cx="5722920" cy="490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YiRMM_11_Cover_v2si"/>
          <p:cNvPicPr/>
          <p:nvPr/>
        </p:nvPicPr>
        <p:blipFill>
          <a:blip r:embed="rId1"/>
          <a:stretch/>
        </p:blipFill>
        <p:spPr>
          <a:xfrm>
            <a:off x="1709640" y="1295280"/>
            <a:ext cx="5722920" cy="490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Results of COMFORT-I, a Randomized Double-Blind, </a:t>
            </a:r>
            <a:br>
              <a:rPr sz="2400"/>
            </a:b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Phase III Trial of JAK1/JAK2 Inhibitor Ruxolitinib (INCB18424) vs Placebo for Patients with Myelofibro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Verstovsek S et al.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cde7f3"/>
                </a:solidFill>
                <a:latin typeface="Arial"/>
              </a:rPr>
              <a:t>Proc ASCO</a:t>
            </a:r>
            <a:r>
              <a:rPr b="1" lang="en-US" sz="2500" spc="-1" strike="noStrike">
                <a:solidFill>
                  <a:srgbClr val="cde7f3"/>
                </a:solidFill>
                <a:latin typeface="Arial"/>
              </a:rPr>
              <a:t> 2011;Abstract 6500.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JAK2 Signaling Pathwa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1251000"/>
            <a:ext cx="4525920" cy="4997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31000"/>
              </a:srgbClr>
            </a:outerShdw>
          </a:effectLst>
        </p:spPr>
      </p:pic>
      <p:sp>
        <p:nvSpPr>
          <p:cNvPr id="63" name=""/>
          <p:cNvSpPr/>
          <p:nvPr/>
        </p:nvSpPr>
        <p:spPr>
          <a:xfrm>
            <a:off x="8039160" y="260352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09040" y="3355920"/>
            <a:ext cx="121860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Ruxolitini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52200" y="1224000"/>
            <a:ext cx="82836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Liga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39480" y="1790640"/>
            <a:ext cx="103716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Recepto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50160" y="5489640"/>
            <a:ext cx="145800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Transcripti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74680" y="2990880"/>
            <a:ext cx="175212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Phosphorylati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822920" y="3811680"/>
            <a:ext cx="990360" cy="501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OMFORT-I: A Phase III Trial of the JAK1/JAK2 Inhibitor Ruxolitinib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19760" y="3081240"/>
            <a:ext cx="2979720" cy="67788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uxolitini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5 or 20 mg BI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5280" y="3379680"/>
            <a:ext cx="2533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00600" y="3429000"/>
            <a:ext cx="1009800" cy="371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16400" y="2451240"/>
            <a:ext cx="47880" cy="23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962600" y="383508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165640"/>
            <a:ext cx="8055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Ruxolitinib dose dependent upon starting platelet count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15 mg BID if platelet count 100-200 x 10</a:t>
            </a:r>
            <a:r>
              <a:rPr b="0" i="1" lang="en-US" sz="15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/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20 mg BID if platelet count &gt;200 x 10</a:t>
            </a:r>
            <a:r>
              <a:rPr b="0" i="1" lang="en-US" sz="15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/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Spleen volume measured by MRI every 12 week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74560" y="2195640"/>
          <a:ext cx="4318200" cy="2824200"/>
        </p:xfrm>
        <a:graphic>
          <a:graphicData uri="http://schemas.openxmlformats.org/drawingml/2006/table">
            <a:tbl>
              <a:tblPr/>
              <a:tblGrid>
                <a:gridCol w="43182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Eligi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24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MF or PPV-MF or PET-M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Intermediate-2 or high risk by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IWG-MRT crite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alpable spleen ≥5 c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Platelet count ≥100 x 10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9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/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JAK2 V617F positive or 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824440" y="3992400"/>
            <a:ext cx="2979720" cy="63216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bo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4708440"/>
            <a:ext cx="3429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* Crossover to ruxolitinib arm allow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000" y="6477120"/>
            <a:ext cx="4585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Verstovsek S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2011;Abstract 6500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25"/>
          <p:cNvSpPr/>
          <p:nvPr/>
        </p:nvSpPr>
        <p:spPr>
          <a:xfrm>
            <a:off x="4419720" y="3352680"/>
            <a:ext cx="838080" cy="8384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9:17:35Z</dcterms:created>
  <dc:creator>Research To Practice</dc:creator>
  <dc:description/>
  <cp:keywords/>
  <dc:language>en-US</dc:language>
  <cp:lastModifiedBy>Aura Herrmann</cp:lastModifiedBy>
  <cp:lastPrinted>2011-10-14T21:36:27Z</cp:lastPrinted>
  <dcterms:modified xsi:type="dcterms:W3CDTF">2012-01-24T21:29:43Z</dcterms:modified>
  <cp:revision>270</cp:revision>
  <dc:subject/>
  <dc:title>PowerPoint Presentation</dc:title>
</cp:coreProperties>
</file>