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pct" ContentType="image/x-pict"/>
  <Override PartName="/ppt/media/image23.pct" ContentType="image/x-pict"/>
  <Override PartName="/ppt/media/image26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20.pct" ContentType="image/x-pict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2.pct" ContentType="image/x-pict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07880" y="75960"/>
            <a:ext cx="8328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7880" y="3939840"/>
            <a:ext cx="8328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5680" y="131292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078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5680" y="3939840"/>
            <a:ext cx="40640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2344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39360" y="131292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0788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2344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39360" y="3939840"/>
            <a:ext cx="268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22CC-47A4-494F-BE6A-89DCD3AF177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04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0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04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28600">
              <a:spcBef>
                <a:spcPts val="10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2860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2860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04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0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04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28600">
              <a:spcBef>
                <a:spcPts val="10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2860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2860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1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66400" y="199800"/>
            <a:ext cx="84200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865b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865b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66400" y="1262160"/>
            <a:ext cx="84200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31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a315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a31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a315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a315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9"/>
          </p:nvPr>
        </p:nvSpPr>
        <p:spPr>
          <a:xfrm>
            <a:off x="266760" y="6451560"/>
            <a:ext cx="70488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3d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4E1F-689A-492D-B6A2-0169F7A343BF}" type="datetime">
              <a:rPr b="0" lang="en-US" sz="1200" spc="-1" strike="noStrike">
                <a:solidFill>
                  <a:srgbClr val="6fb3db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0"/>
          </p:nvPr>
        </p:nvSpPr>
        <p:spPr>
          <a:xfrm>
            <a:off x="1120320" y="6451560"/>
            <a:ext cx="411660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12280" y="380880"/>
            <a:ext cx="80089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512640" y="149184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30760" indent="-230760">
              <a:spcAft>
                <a:spcPts val="624"/>
              </a:spcAft>
              <a:buClr>
                <a:srgbClr val="33cc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3720" indent="-169560">
              <a:spcAft>
                <a:spcPts val="624"/>
              </a:spcAft>
              <a:buClr>
                <a:srgbClr val="33cc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6240" indent="-226080">
              <a:spcAft>
                <a:spcPts val="624"/>
              </a:spcAft>
              <a:buClr>
                <a:srgbClr val="33cc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05720" indent="-226080">
              <a:spcAft>
                <a:spcPts val="624"/>
              </a:spcAft>
              <a:buClr>
                <a:srgbClr val="33cc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645200" indent="-226080">
              <a:spcAft>
                <a:spcPts val="624"/>
              </a:spcAft>
              <a:buClr>
                <a:srgbClr val="33cc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645200" indent="-226080">
              <a:spcAft>
                <a:spcPts val="624"/>
              </a:spcAft>
              <a:buClr>
                <a:srgbClr val="6c6f7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645200" indent="-226080">
              <a:spcAft>
                <a:spcPts val="624"/>
              </a:spcAft>
              <a:buClr>
                <a:srgbClr val="6c6f7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3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9360">
            <a:solidFill>
              <a:srgbClr val="dd13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2319480" y="150480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137b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dd137b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2"/>
          <p:cNvGraphicFramePr/>
          <p:nvPr/>
        </p:nvGraphicFramePr>
        <p:xfrm>
          <a:off x="8675640" y="6308640"/>
          <a:ext cx="425520" cy="5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75640" y="6308640"/>
                    <a:ext cx="4255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e15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e15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32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2860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07880" y="1312920"/>
            <a:ext cx="8328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104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10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4360" indent="-228600">
              <a:spcBef>
                <a:spcPts val="104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28600">
              <a:spcBef>
                <a:spcPts val="104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2860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2860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2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61520" y="1290600"/>
            <a:ext cx="818532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601"/>
              </a:spcBef>
              <a:spcAft>
                <a:spcPts val="1049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880" indent="-228600">
              <a:spcBef>
                <a:spcPts val="601"/>
              </a:spcBef>
              <a:spcAft>
                <a:spcPts val="1049"/>
              </a:spcAft>
              <a:buClr>
                <a:srgbClr val="e3c76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4960" indent="-174600">
              <a:spcBef>
                <a:spcPts val="601"/>
              </a:spcBef>
              <a:spcAft>
                <a:spcPts val="1049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28600">
              <a:spcBef>
                <a:spcPts val="601"/>
              </a:spcBef>
              <a:spcAft>
                <a:spcPts val="1049"/>
              </a:spcAft>
              <a:buClr>
                <a:srgbClr val="e3c76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0120" indent="-228600">
              <a:spcBef>
                <a:spcPts val="601"/>
              </a:spcBef>
              <a:spcAft>
                <a:spcPts val="1049"/>
              </a:spcAft>
              <a:buClr>
                <a:srgbClr val="e3c7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0120" indent="-22860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0120" indent="-228600">
              <a:spcBef>
                <a:spcPts val="601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792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c76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3c76c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0" y="1014480"/>
            <a:ext cx="9144000" cy="57240"/>
          </a:xfrm>
          <a:prstGeom prst="rect">
            <a:avLst/>
          </a:prstGeom>
          <a:gradFill rotWithShape="0">
            <a:gsLst>
              <a:gs pos="0">
                <a:srgbClr val="616161">
                  <a:alpha val="20000"/>
                </a:srgbClr>
              </a:gs>
              <a:gs pos="100000">
                <a:srgbClr val="d2d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2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61520" y="1290600"/>
            <a:ext cx="8185320" cy="534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93760" indent="-293760">
              <a:spcAft>
                <a:spcPts val="601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336600">
              <a:spcAft>
                <a:spcPts val="601"/>
              </a:spcAft>
              <a:buClr>
                <a:srgbClr val="e3c76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0640" indent="-257400">
              <a:spcAft>
                <a:spcPts val="601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19320" indent="-327240">
              <a:spcAft>
                <a:spcPts val="601"/>
              </a:spcAft>
              <a:buClr>
                <a:srgbClr val="e3c76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38280" indent="-317520">
              <a:spcAft>
                <a:spcPts val="601"/>
              </a:spcAft>
              <a:buClr>
                <a:srgbClr val="e3c76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538280" indent="-31752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538280" indent="-31752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4760" y="79200"/>
            <a:ext cx="81882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c76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3c76c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0" y="1014480"/>
            <a:ext cx="9144000" cy="57240"/>
          </a:xfrm>
          <a:prstGeom prst="rect">
            <a:avLst/>
          </a:prstGeom>
          <a:gradFill rotWithShape="0">
            <a:gsLst>
              <a:gs pos="0">
                <a:srgbClr val="616161">
                  <a:alpha val="20000"/>
                </a:srgbClr>
              </a:gs>
              <a:gs pos="100000">
                <a:srgbClr val="d2d2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1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66400" y="199800"/>
            <a:ext cx="84200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865b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865b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266400" y="1262160"/>
            <a:ext cx="84200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31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a315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a31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a315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a315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315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"/>
          </p:nvPr>
        </p:nvSpPr>
        <p:spPr>
          <a:xfrm>
            <a:off x="266400" y="6095880"/>
            <a:ext cx="112068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3d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C887-9A28-4BFF-A3E4-0180E1960A8A}" type="datetime">
              <a:rPr b="0" lang="en-US" sz="1200" spc="-1" strike="noStrike">
                <a:solidFill>
                  <a:srgbClr val="6fb3db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2"/>
          </p:nvPr>
        </p:nvSpPr>
        <p:spPr>
          <a:xfrm>
            <a:off x="1576080" y="6095880"/>
            <a:ext cx="32605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2280" y="380880"/>
            <a:ext cx="80089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512640" y="149184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30760" indent="-230760">
              <a:spcAft>
                <a:spcPts val="624"/>
              </a:spcAft>
              <a:buClr>
                <a:srgbClr val="33cc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3720" indent="-169560">
              <a:spcAft>
                <a:spcPts val="624"/>
              </a:spcAft>
              <a:buClr>
                <a:srgbClr val="33cc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6240" indent="-226080">
              <a:spcAft>
                <a:spcPts val="624"/>
              </a:spcAft>
              <a:buClr>
                <a:srgbClr val="33cc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05720" indent="-226080">
              <a:spcAft>
                <a:spcPts val="624"/>
              </a:spcAft>
              <a:buClr>
                <a:srgbClr val="33cc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645200" indent="-226080">
              <a:spcAft>
                <a:spcPts val="624"/>
              </a:spcAft>
              <a:buClr>
                <a:srgbClr val="33cc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645200" indent="-226080">
              <a:spcAft>
                <a:spcPts val="624"/>
              </a:spcAft>
              <a:buClr>
                <a:srgbClr val="6c6f7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645200" indent="-226080">
              <a:spcAft>
                <a:spcPts val="624"/>
              </a:spcAft>
              <a:buClr>
                <a:srgbClr val="6c6f7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3"/>
          </p:nvPr>
        </p:nvSpPr>
        <p:spPr>
          <a:xfrm>
            <a:off x="152280" y="6244920"/>
            <a:ext cx="243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64A3-DDC2-4934-A3E7-308429EEDC28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8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6400" y="199800"/>
            <a:ext cx="84200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db2d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db2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66400" y="1262160"/>
            <a:ext cx="84200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a315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a315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5"/>
          </p:nvPr>
        </p:nvSpPr>
        <p:spPr>
          <a:xfrm>
            <a:off x="266400" y="6095880"/>
            <a:ext cx="112068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3d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9026-6B03-43EB-AF31-012D5A6B1013}" type="datetime">
              <a:rPr b="0" lang="en-US" sz="1200" spc="-1" strike="noStrike">
                <a:solidFill>
                  <a:srgbClr val="6fb3db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6"/>
          </p:nvPr>
        </p:nvSpPr>
        <p:spPr>
          <a:xfrm>
            <a:off x="1576080" y="6095880"/>
            <a:ext cx="32605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pct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2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1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66400" y="1152360"/>
            <a:ext cx="851364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7e9c7"/>
                </a:solidFill>
                <a:latin typeface="Arial"/>
              </a:rPr>
              <a:t>Year in Review 2011</a:t>
            </a:r>
            <a:br>
              <a:rPr sz="4000"/>
            </a:br>
            <a:r>
              <a:rPr b="1" lang="en-US" sz="4000" spc="-1" strike="noStrike">
                <a:solidFill>
                  <a:srgbClr val="c7e9c7"/>
                </a:solidFill>
                <a:latin typeface="Arial"/>
              </a:rPr>
              <a:t>Breast Cancer</a:t>
            </a:r>
            <a:endParaRPr b="1" lang="en-US" sz="4000" spc="-1" strike="noStrike">
              <a:solidFill>
                <a:srgbClr val="0865b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2c872"/>
                </a:solidFill>
                <a:latin typeface="Arial"/>
              </a:rPr>
              <a:t>Joyce O’Shaughnessy, MD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2c872"/>
                </a:solidFill>
                <a:latin typeface="Arial"/>
              </a:rPr>
              <a:t>Baylor Sammons Cancer Center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2c872"/>
                </a:solidFill>
                <a:latin typeface="Arial"/>
              </a:rPr>
              <a:t>Texas Oncology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2c872"/>
                </a:solidFill>
                <a:latin typeface="Arial"/>
              </a:rPr>
              <a:t>US Oncology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2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82080" y="4451400"/>
            <a:ext cx="8859960" cy="14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9560" indent="-169560">
              <a:lnSpc>
                <a:spcPct val="90000"/>
              </a:lnSpc>
              <a:spcAft>
                <a:spcPts val="601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ndomized, Phase II, international, open-label stu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69560" indent="-169560">
              <a:lnSpc>
                <a:spcPct val="90000"/>
              </a:lnSpc>
              <a:spcAft>
                <a:spcPts val="601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ratification factors: World region, prior adjuvant trastuzumab therapy, disease-free interv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69560" indent="-169560">
              <a:lnSpc>
                <a:spcPct val="90000"/>
              </a:lnSpc>
              <a:spcAft>
                <a:spcPts val="601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 end points: PFS by investigator assessment, and safe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69560" indent="-169560">
              <a:lnSpc>
                <a:spcPct val="90000"/>
              </a:lnSpc>
              <a:spcAft>
                <a:spcPts val="601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analyses were based on clinical data cut of Nov 15, 2010 prior to T-DM1 crosso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69560" indent="-169560">
              <a:lnSpc>
                <a:spcPct val="90000"/>
              </a:lnSpc>
              <a:spcAft>
                <a:spcPts val="601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y secondary end points: OS, ORR, DOR, CBR, and Q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792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c76c"/>
                </a:solidFill>
                <a:latin typeface="Arial"/>
              </a:rPr>
              <a:t>First-Line T-DM1 vs Trastuzumab/Docetaxel</a:t>
            </a:r>
            <a:endParaRPr b="1" lang="en-US" sz="2800" spc="-1" strike="noStrike">
              <a:solidFill>
                <a:srgbClr val="e3c76c"/>
              </a:solidFill>
              <a:latin typeface="Arial"/>
            </a:endParaRPr>
          </a:p>
        </p:txBody>
      </p:sp>
      <p:grpSp>
        <p:nvGrpSpPr>
          <p:cNvPr id="631" name="Group 22"/>
          <p:cNvGrpSpPr/>
          <p:nvPr/>
        </p:nvGrpSpPr>
        <p:grpSpPr>
          <a:xfrm>
            <a:off x="2392200" y="1775880"/>
            <a:ext cx="1031760" cy="1584000"/>
            <a:chOff x="2392200" y="1775880"/>
            <a:chExt cx="1031760" cy="1584000"/>
          </a:xfrm>
        </p:grpSpPr>
        <p:sp>
          <p:nvSpPr>
            <p:cNvPr id="632" name="Line 7"/>
            <p:cNvSpPr/>
            <p:nvPr/>
          </p:nvSpPr>
          <p:spPr>
            <a:xfrm>
              <a:off x="2392200" y="2594160"/>
              <a:ext cx="655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 flipV="1">
              <a:off x="3025440" y="1775880"/>
              <a:ext cx="398520" cy="849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>
              <a:off x="3025440" y="2582280"/>
              <a:ext cx="398520" cy="77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Rectangle 4"/>
          <p:cNvSpPr/>
          <p:nvPr/>
        </p:nvSpPr>
        <p:spPr>
          <a:xfrm>
            <a:off x="331920" y="1241280"/>
            <a:ext cx="824868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2355840" y="2247840"/>
            <a:ext cx="91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:1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7" name="AutoShape 10"/>
          <p:cNvGrpSpPr/>
          <p:nvPr/>
        </p:nvGrpSpPr>
        <p:grpSpPr>
          <a:xfrm>
            <a:off x="311040" y="1378080"/>
            <a:ext cx="2273400" cy="2450880"/>
            <a:chOff x="311040" y="1378080"/>
            <a:chExt cx="2273400" cy="2450880"/>
          </a:xfrm>
        </p:grpSpPr>
        <p:pic>
          <p:nvPicPr>
            <p:cNvPr id="638" name="AutoShape 10" descr=""/>
            <p:cNvPicPr/>
            <p:nvPr/>
          </p:nvPicPr>
          <p:blipFill>
            <a:blip r:embed="rId1"/>
            <a:stretch/>
          </p:blipFill>
          <p:spPr>
            <a:xfrm>
              <a:off x="311040" y="1378080"/>
              <a:ext cx="2273400" cy="24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447840" y="1508040"/>
              <a:ext cx="2009520" cy="21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HER2-positive, recurrent locally advanced breast cancer or MBC (N = 137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Group 26"/>
          <p:cNvGrpSpPr/>
          <p:nvPr/>
        </p:nvGrpSpPr>
        <p:grpSpPr>
          <a:xfrm>
            <a:off x="3414600" y="1106640"/>
            <a:ext cx="5500800" cy="1755720"/>
            <a:chOff x="3414600" y="1106640"/>
            <a:chExt cx="5500800" cy="1755720"/>
          </a:xfrm>
        </p:grpSpPr>
        <p:pic>
          <p:nvPicPr>
            <p:cNvPr id="641" name="AutoShape 12" descr=""/>
            <p:cNvPicPr/>
            <p:nvPr/>
          </p:nvPicPr>
          <p:blipFill>
            <a:blip r:embed="rId2"/>
            <a:stretch/>
          </p:blipFill>
          <p:spPr>
            <a:xfrm>
              <a:off x="3414600" y="1106640"/>
              <a:ext cx="27781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Text Box 22"/>
            <p:cNvSpPr/>
            <p:nvPr/>
          </p:nvSpPr>
          <p:spPr>
            <a:xfrm>
              <a:off x="3481200" y="1457280"/>
              <a:ext cx="263196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61748"/>
                  </a:solidFill>
                  <a:latin typeface="Arial"/>
                  <a:ea typeface="ヒラギノ角ゴ Pro W3"/>
                </a:rPr>
                <a:t>Trastuzumab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61748"/>
                  </a:solidFill>
                  <a:latin typeface="Arial"/>
                  <a:ea typeface="MS PGothic"/>
                </a:rPr>
                <a:t>8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g/kg loading dose</a:t>
              </a:r>
              <a:r>
                <a:rPr b="0" lang="en-US" sz="1400" spc="-1" strike="noStrike">
                  <a:solidFill>
                    <a:srgbClr val="161748"/>
                  </a:solidFill>
                  <a:latin typeface="Arial"/>
                  <a:ea typeface="MS PGothic"/>
                </a:rPr>
                <a:t>; </a:t>
              </a:r>
              <a:br>
                <a:rPr sz="1400"/>
              </a:br>
              <a:r>
                <a:rPr b="0" lang="en-US" sz="1400" spc="-1" strike="noStrike">
                  <a:solidFill>
                    <a:srgbClr val="161748"/>
                  </a:solidFill>
                  <a:latin typeface="Arial"/>
                  <a:ea typeface="MS PGothic"/>
                </a:rPr>
                <a:t>6 mg/kg q3w</a:t>
              </a:r>
              <a:r>
                <a:rPr b="0" lang="en-US" sz="1200" spc="-1" strike="noStrike">
                  <a:solidFill>
                    <a:srgbClr val="161748"/>
                  </a:solidFill>
                  <a:latin typeface="Arial"/>
                  <a:ea typeface="MS PGothic"/>
                </a:rPr>
                <a:t> IV</a:t>
              </a:r>
              <a:br>
                <a:rPr sz="1200"/>
              </a:br>
              <a:r>
                <a:rPr b="1" lang="en-US" sz="800" spc="-1" strike="noStrike">
                  <a:solidFill>
                    <a:srgbClr val="161748"/>
                  </a:solidFill>
                  <a:latin typeface="Arial"/>
                  <a:ea typeface="ヒラギノ角ゴ Pro W3"/>
                </a:rPr>
                <a:t> </a:t>
              </a:r>
              <a:endParaRPr b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61748"/>
                  </a:solidFill>
                  <a:latin typeface="Arial"/>
                  <a:ea typeface="ヒラギノ角ゴ Pro W3"/>
                </a:rPr>
                <a:t>+</a:t>
              </a:r>
              <a:r>
                <a:rPr b="1" lang="en-US" sz="1800" spc="-1" strike="noStrike">
                  <a:solidFill>
                    <a:srgbClr val="161748"/>
                  </a:solidFill>
                  <a:latin typeface="Arial"/>
                  <a:ea typeface="ヒラギノ角ゴ Pro W3"/>
                </a:rPr>
                <a:t> Docetaxel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349"/>
                </a:spcBef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61748"/>
                  </a:solidFill>
                  <a:latin typeface="Arial"/>
                  <a:ea typeface="MS PGothic"/>
                </a:rPr>
                <a:t>75 or 100 mg/m</a:t>
              </a:r>
              <a:r>
                <a:rPr b="0" lang="en-US" sz="1400" spc="-1" strike="noStrike" baseline="30000">
                  <a:solidFill>
                    <a:srgbClr val="161748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161748"/>
                  </a:solidFill>
                  <a:latin typeface="Arial"/>
                  <a:ea typeface="MS PGothic"/>
                </a:rPr>
                <a:t> q3w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451"/>
                </a:spcBef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(n = 70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23"/>
            <p:cNvSpPr/>
            <p:nvPr/>
          </p:nvSpPr>
          <p:spPr>
            <a:xfrm>
              <a:off x="6202440" y="1889280"/>
              <a:ext cx="384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4" name="AutoShape 11" descr=""/>
            <p:cNvPicPr/>
            <p:nvPr/>
          </p:nvPicPr>
          <p:blipFill>
            <a:blip r:embed="rId3"/>
            <a:stretch/>
          </p:blipFill>
          <p:spPr>
            <a:xfrm>
              <a:off x="7658280" y="1403280"/>
              <a:ext cx="125712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Text Box 9"/>
            <p:cNvSpPr/>
            <p:nvPr/>
          </p:nvSpPr>
          <p:spPr>
            <a:xfrm>
              <a:off x="7763040" y="1660680"/>
              <a:ext cx="10191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Crossover to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-DM1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(optional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6" name="Group 32"/>
            <p:cNvGrpSpPr/>
            <p:nvPr/>
          </p:nvGrpSpPr>
          <p:grpSpPr>
            <a:xfrm>
              <a:off x="6586560" y="1444680"/>
              <a:ext cx="693360" cy="887040"/>
              <a:chOff x="6586560" y="1444680"/>
              <a:chExt cx="693360" cy="887040"/>
            </a:xfrm>
          </p:grpSpPr>
          <p:sp>
            <p:nvSpPr>
              <p:cNvPr id="647" name="Text Box 29"/>
              <p:cNvSpPr/>
              <p:nvPr/>
            </p:nvSpPr>
            <p:spPr>
              <a:xfrm>
                <a:off x="6663240" y="1621800"/>
                <a:ext cx="46224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ヒラギノ角ゴ Pro W3"/>
                  </a:rPr>
                  <a:t>PD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AutoShape 31"/>
              <p:cNvSpPr/>
              <p:nvPr/>
            </p:nvSpPr>
            <p:spPr>
              <a:xfrm>
                <a:off x="6586560" y="1444680"/>
                <a:ext cx="693360" cy="887040"/>
              </a:xfrm>
              <a:custGeom>
                <a:avLst/>
                <a:gdLst>
                  <a:gd name="textAreaLeft" fmla="*/ 33840 w 693360"/>
                  <a:gd name="textAreaRight" fmla="*/ 659520 w 693360"/>
                  <a:gd name="textAreaTop" fmla="*/ 33840 h 887040"/>
                  <a:gd name="textAreaBottom" fmla="*/ 853200 h 887040"/>
                </a:gdLst>
                <a:ahLst/>
                <a:rect l="textAreaLeft" t="textAreaTop" r="textAreaRight" b="textAreaBottom"/>
                <a:pathLst>
                  <a:path w="21600" h="27631">
                    <a:moveTo>
                      <a:pt x="3600" y="0"/>
                    </a:moveTo>
                    <a:arcTo wR="3600" hR="3600" stAng="16200000" swAng="-5400000"/>
                    <a:lnTo>
                      <a:pt x="0" y="24031"/>
                    </a:lnTo>
                    <a:arcTo wR="3600" hR="3600" stAng="10800000" swAng="-5400000"/>
                    <a:lnTo>
                      <a:pt x="18000" y="2763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9" name="Line 33"/>
            <p:cNvSpPr/>
            <p:nvPr/>
          </p:nvSpPr>
          <p:spPr>
            <a:xfrm>
              <a:off x="7280280" y="1889280"/>
              <a:ext cx="384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Group 28"/>
          <p:cNvGrpSpPr/>
          <p:nvPr/>
        </p:nvGrpSpPr>
        <p:grpSpPr>
          <a:xfrm>
            <a:off x="3436920" y="2906640"/>
            <a:ext cx="3833640" cy="986040"/>
            <a:chOff x="3436920" y="2906640"/>
            <a:chExt cx="3833640" cy="986040"/>
          </a:xfrm>
        </p:grpSpPr>
        <p:pic>
          <p:nvPicPr>
            <p:cNvPr id="651" name="AutoShape 11" descr=""/>
            <p:cNvPicPr/>
            <p:nvPr/>
          </p:nvPicPr>
          <p:blipFill>
            <a:blip r:embed="rId4"/>
            <a:stretch/>
          </p:blipFill>
          <p:spPr>
            <a:xfrm>
              <a:off x="3436920" y="2906640"/>
              <a:ext cx="276552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21"/>
            <p:cNvSpPr/>
            <p:nvPr/>
          </p:nvSpPr>
          <p:spPr>
            <a:xfrm>
              <a:off x="3890880" y="3011400"/>
              <a:ext cx="187020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30303"/>
                  </a:solidFill>
                  <a:latin typeface="Arial"/>
                  <a:ea typeface="ヒラギノ角ゴ Pro W3"/>
                </a:rPr>
                <a:t>T-DM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49"/>
                </a:spcBef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3.6 mg/kg q3w IV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(n = 67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23"/>
            <p:cNvSpPr/>
            <p:nvPr/>
          </p:nvSpPr>
          <p:spPr>
            <a:xfrm>
              <a:off x="6193080" y="3408480"/>
              <a:ext cx="384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4" name="Group 32"/>
            <p:cNvGrpSpPr/>
            <p:nvPr/>
          </p:nvGrpSpPr>
          <p:grpSpPr>
            <a:xfrm>
              <a:off x="6577200" y="2963520"/>
              <a:ext cx="693360" cy="887400"/>
              <a:chOff x="6577200" y="2963520"/>
              <a:chExt cx="693360" cy="887400"/>
            </a:xfrm>
          </p:grpSpPr>
          <p:sp>
            <p:nvSpPr>
              <p:cNvPr id="655" name="Text Box 29"/>
              <p:cNvSpPr/>
              <p:nvPr/>
            </p:nvSpPr>
            <p:spPr>
              <a:xfrm>
                <a:off x="6653880" y="3140640"/>
                <a:ext cx="462240" cy="5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ヒラギノ角ゴ Pro W3"/>
                  </a:rPr>
                  <a:t>PD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AutoShape 31"/>
              <p:cNvSpPr/>
              <p:nvPr/>
            </p:nvSpPr>
            <p:spPr>
              <a:xfrm>
                <a:off x="6577200" y="2963520"/>
                <a:ext cx="693360" cy="887400"/>
              </a:xfrm>
              <a:custGeom>
                <a:avLst/>
                <a:gdLst>
                  <a:gd name="textAreaLeft" fmla="*/ 33840 w 693360"/>
                  <a:gd name="textAreaRight" fmla="*/ 659520 w 693360"/>
                  <a:gd name="textAreaTop" fmla="*/ 33840 h 887400"/>
                  <a:gd name="textAreaBottom" fmla="*/ 853560 h 887400"/>
                </a:gdLst>
                <a:ahLst/>
                <a:rect l="textAreaLeft" t="textAreaTop" r="textAreaRight" b="textAreaBottom"/>
                <a:pathLst>
                  <a:path w="21600" h="27642">
                    <a:moveTo>
                      <a:pt x="3600" y="0"/>
                    </a:moveTo>
                    <a:arcTo wR="3600" hR="3600" stAng="16200000" swAng="-5400000"/>
                    <a:lnTo>
                      <a:pt x="0" y="24042"/>
                    </a:lnTo>
                    <a:arcTo wR="3600" hR="3600" stAng="10800000" swAng="-5400000"/>
                    <a:lnTo>
                      <a:pt x="18000" y="276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7" name="TextBox 31"/>
          <p:cNvSpPr/>
          <p:nvPr/>
        </p:nvSpPr>
        <p:spPr>
          <a:xfrm>
            <a:off x="152280" y="64008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urvitz SA et al. ESMO 2011;Abstract 5.001.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2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7080" y="79200"/>
            <a:ext cx="88675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c76c"/>
                </a:solidFill>
                <a:latin typeface="Arial"/>
              </a:rPr>
              <a:t>Progression-Free Survival by Investigator</a:t>
            </a:r>
            <a:br>
              <a:rPr sz="2800"/>
            </a:br>
            <a:r>
              <a:rPr b="1" lang="en-US" sz="1600" spc="-1" strike="noStrike">
                <a:solidFill>
                  <a:srgbClr val="e3c76c"/>
                </a:solidFill>
                <a:latin typeface="Arial"/>
              </a:rPr>
              <a:t>Randomized Patients</a:t>
            </a:r>
            <a:endParaRPr b="1" lang="en-US" sz="1600" spc="-1" strike="noStrike">
              <a:solidFill>
                <a:srgbClr val="e3c76c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457200" y="2006640"/>
          <a:ext cx="8077320" cy="2489040"/>
        </p:xfrm>
        <a:graphic>
          <a:graphicData uri="http://schemas.openxmlformats.org/drawingml/2006/table">
            <a:tbl>
              <a:tblPr/>
              <a:tblGrid>
                <a:gridCol w="2666880"/>
                <a:gridCol w="1320840"/>
                <a:gridCol w="1320840"/>
                <a:gridCol w="1320840"/>
                <a:gridCol w="14479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648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Media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FS, mo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648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Hazard ratio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648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5% C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648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Log-rank </a:t>
                      </a:r>
                      <a:br>
                        <a:rPr sz="2000"/>
                      </a:b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-val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6483"/>
                    </a:solidFill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rastuzumab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+ docetaxel (n = 70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.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.59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.364-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.96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.035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-DM1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(n = 67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4.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TextBox 31"/>
          <p:cNvSpPr/>
          <p:nvPr/>
        </p:nvSpPr>
        <p:spPr>
          <a:xfrm>
            <a:off x="152280" y="64008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urvitz SA et al. ESMO 2011;Abstract 5.001.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2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01760" y="151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c76c"/>
                </a:solidFill>
                <a:latin typeface="Arial"/>
              </a:rPr>
              <a:t>Objective Response by Investigator </a:t>
            </a:r>
            <a:br>
              <a:rPr sz="2800"/>
            </a:br>
            <a:r>
              <a:rPr b="1" lang="en-US" sz="1600" spc="-1" strike="noStrike">
                <a:solidFill>
                  <a:srgbClr val="e3c76c"/>
                </a:solidFill>
                <a:latin typeface="Arial"/>
              </a:rPr>
              <a:t>Patients with Measurable Disease at Baseline</a:t>
            </a:r>
            <a:endParaRPr b="1" lang="en-US" sz="1600" spc="-1" strike="noStrike">
              <a:solidFill>
                <a:srgbClr val="e3c76c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317520" y="1219320"/>
          <a:ext cx="8496360" cy="3992400"/>
        </p:xfrm>
        <a:graphic>
          <a:graphicData uri="http://schemas.openxmlformats.org/drawingml/2006/table">
            <a:tbl>
              <a:tblPr/>
              <a:tblGrid>
                <a:gridCol w="4378320"/>
                <a:gridCol w="2133720"/>
                <a:gridCol w="1984320"/>
              </a:tblGrid>
              <a:tr h="77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4648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rastuzumab + docetaxel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(n = 69)</a:t>
                      </a:r>
                      <a:r>
                        <a:rPr b="1" lang="en-US" sz="15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a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4648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-DM1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(n = 67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46482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0ff6a"/>
                          </a:solidFill>
                          <a:latin typeface="Arial"/>
                          <a:ea typeface="MS PGothic"/>
                        </a:rPr>
                        <a:t>Patients with an objective response,</a:t>
                      </a:r>
                      <a:r>
                        <a:rPr b="1" lang="en-US" sz="1500" spc="-1" strike="noStrike" baseline="30000">
                          <a:solidFill>
                            <a:srgbClr val="50ff6a"/>
                          </a:solidFill>
                          <a:latin typeface="Arial"/>
                          <a:ea typeface="MS PGothic"/>
                        </a:rPr>
                        <a:t>b</a:t>
                      </a:r>
                      <a:r>
                        <a:rPr b="1" lang="en-US" sz="1500" spc="-1" strike="noStrike">
                          <a:solidFill>
                            <a:srgbClr val="50ff6a"/>
                          </a:solidFill>
                          <a:latin typeface="Arial"/>
                          <a:ea typeface="MS PGothic"/>
                        </a:rPr>
                        <a:t> n (%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0ff6a"/>
                          </a:solidFill>
                          <a:latin typeface="Arial"/>
                          <a:ea typeface="ヒラギノ角ゴ Pro W3"/>
                        </a:rPr>
                        <a:t>40 (58.0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0ff6a"/>
                          </a:solidFill>
                          <a:latin typeface="Arial"/>
                          <a:ea typeface="ヒラギノ角ゴ Pro W3"/>
                        </a:rPr>
                        <a:t>43 (64.2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7360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5% CI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5.5–69.2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1.8–74.8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e3c76c"/>
                          </a:solidFill>
                          <a:latin typeface="Arial"/>
                          <a:ea typeface="MS PGothic"/>
                        </a:rPr>
                        <a:t>Objective responses, n (%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7360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Complete response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 (4.3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7 (10.4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7360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Partial response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7 (53.6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6 (53.7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7360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Stable disease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3 (33.3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3 (19.4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7360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Progressive disease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4 (5.8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8 (11.9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7360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Unable to evaluate or missing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 (2.9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3 (4.5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0ff6a"/>
                          </a:solidFill>
                          <a:latin typeface="Arial"/>
                          <a:ea typeface="MS PGothic"/>
                        </a:rPr>
                        <a:t>Patients with clinical benefit,</a:t>
                      </a:r>
                      <a:r>
                        <a:rPr b="1" lang="en-US" sz="1500" spc="-1" strike="noStrike" baseline="30000">
                          <a:solidFill>
                            <a:srgbClr val="50ff6a"/>
                          </a:solidFill>
                          <a:latin typeface="Arial"/>
                          <a:ea typeface="MS PGothic"/>
                        </a:rPr>
                        <a:t>c</a:t>
                      </a:r>
                      <a:r>
                        <a:rPr b="1" lang="en-US" sz="1500" spc="-1" strike="noStrike">
                          <a:solidFill>
                            <a:srgbClr val="50ff6a"/>
                          </a:solidFill>
                          <a:latin typeface="Arial"/>
                          <a:ea typeface="MS PGothic"/>
                        </a:rPr>
                        <a:t> n (%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0ff6a"/>
                          </a:solidFill>
                          <a:latin typeface="Arial"/>
                          <a:ea typeface="ヒラギノ角ゴ Pro W3"/>
                        </a:rPr>
                        <a:t>56 (81.2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50ff6a"/>
                          </a:solidFill>
                          <a:latin typeface="Arial"/>
                          <a:ea typeface="ヒラギノ角ゴ Pro W3"/>
                        </a:rPr>
                        <a:t>50 (74.6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7360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5% CI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70.7–89.1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b4b4b4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3.2–84.2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4b4b4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b4b4b4"/>
                      </a:solidFill>
                    </a:lnT>
                    <a:lnB w="2880">
                      <a:solidFill>
                        <a:srgbClr val="b4b4b4"/>
                      </a:solidFill>
                    </a:lnB>
                    <a:solidFill>
                      <a:srgbClr val="161647"/>
                    </a:solidFill>
                  </a:tcPr>
                </a:tc>
              </a:tr>
            </a:tbl>
          </a:graphicData>
        </a:graphic>
      </p:graphicFrame>
      <p:sp>
        <p:nvSpPr>
          <p:cNvPr id="663" name="TextBox 3"/>
          <p:cNvSpPr/>
          <p:nvPr/>
        </p:nvSpPr>
        <p:spPr>
          <a:xfrm>
            <a:off x="177840" y="5334120"/>
            <a:ext cx="849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000" indent="-5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One patient was not included in the efficacy analysis du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tudy site withdrawal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b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efined as complete or partial response based on RECIST 1.0 determined on 2 consecutive tumor assessments at least 4 weeks apart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4000" indent="-5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c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efined as objective response any time during the study or maintained stable disease for at least 6 month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rom randomization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31"/>
          <p:cNvSpPr/>
          <p:nvPr/>
        </p:nvSpPr>
        <p:spPr>
          <a:xfrm>
            <a:off x="152280" y="64008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urvitz SA et al. ESMO 2011;Abstract 5.001.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2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c76c"/>
                </a:solidFill>
                <a:latin typeface="Arial"/>
              </a:rPr>
              <a:t>Duration of Response by Investigator</a:t>
            </a:r>
            <a:br>
              <a:rPr sz="2800"/>
            </a:br>
            <a:r>
              <a:rPr b="1" lang="en-GB" sz="1600" spc="-1" strike="noStrike">
                <a:solidFill>
                  <a:srgbClr val="e3c76c"/>
                </a:solidFill>
                <a:latin typeface="Arial"/>
              </a:rPr>
              <a:t>Patients with Measurable Disease at Baseline with an Objective Response</a:t>
            </a:r>
            <a:endParaRPr b="1" lang="en-US" sz="1600" spc="-1" strike="noStrike">
              <a:solidFill>
                <a:srgbClr val="e3c76c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1066680" y="2057400"/>
          <a:ext cx="6934320" cy="2666880"/>
        </p:xfrm>
        <a:graphic>
          <a:graphicData uri="http://schemas.openxmlformats.org/drawingml/2006/table">
            <a:tbl>
              <a:tblPr/>
              <a:tblGrid>
                <a:gridCol w="2667240"/>
                <a:gridCol w="2057400"/>
                <a:gridCol w="220968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648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Media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uration of response, mo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648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5% C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6483"/>
                    </a:solidFill>
                  </a:tcPr>
                </a:tc>
              </a:tr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rastuzumab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+ docetaxel (n = 40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.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.6–10.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</a:tr>
              <a:tr h="82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-DM1 (n = 43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NR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—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91c42"/>
                    </a:solidFill>
                  </a:tcPr>
                </a:tc>
              </a:tr>
            </a:tbl>
          </a:graphicData>
        </a:graphic>
      </p:graphicFrame>
      <p:sp>
        <p:nvSpPr>
          <p:cNvPr id="667" name="Rectangle 46"/>
          <p:cNvSpPr/>
          <p:nvPr/>
        </p:nvSpPr>
        <p:spPr>
          <a:xfrm>
            <a:off x="263520" y="3524400"/>
            <a:ext cx="184320" cy="5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27f9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Box 3"/>
          <p:cNvSpPr/>
          <p:nvPr/>
        </p:nvSpPr>
        <p:spPr>
          <a:xfrm>
            <a:off x="990720" y="4952880"/>
            <a:ext cx="73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R, not reached; longer follow-up is needed to estimate the duration of response in the T-DM1 arm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Box 31"/>
          <p:cNvSpPr/>
          <p:nvPr/>
        </p:nvSpPr>
        <p:spPr>
          <a:xfrm>
            <a:off x="152280" y="64008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Hurvitz SA et al. ESMO 2011;Abstract 5.001.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+, HER2- Breast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-Analysis of the Decision Impact of the 21-Gene Breast Cancer Recurrence Score in Clinical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25b"/>
                </a:solidFill>
                <a:latin typeface="Calibri"/>
              </a:rPr>
              <a:t>Hornberger J, Chien R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325b"/>
                </a:solidFill>
                <a:latin typeface="Calibri"/>
              </a:rPr>
              <a:t>Proc SABCS </a:t>
            </a:r>
            <a:r>
              <a:rPr b="0" lang="en-US" sz="3800" spc="-1" strike="noStrike">
                <a:solidFill>
                  <a:srgbClr val="00325b"/>
                </a:solidFill>
                <a:latin typeface="Calibri"/>
              </a:rPr>
              <a:t>2010</a:t>
            </a:r>
            <a:r>
              <a:rPr b="0" i="1" lang="en-US" sz="3800" spc="-1" strike="noStrike">
                <a:solidFill>
                  <a:srgbClr val="00325b"/>
                </a:solidFill>
                <a:latin typeface="Calibri"/>
              </a:rPr>
              <a:t>;</a:t>
            </a:r>
            <a:r>
              <a:rPr b="0" lang="en-US" sz="3800" spc="-1" strike="noStrike">
                <a:solidFill>
                  <a:srgbClr val="00325b"/>
                </a:solidFill>
                <a:latin typeface="Calibri"/>
              </a:rPr>
              <a:t>Abstract P2-09-06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223560" y="6267600"/>
            <a:ext cx="542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rnberger J, Chien R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roc SABC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10;Abstract P2-09-06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006a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09680" y="1608120"/>
            <a:ext cx="8369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-analysis performed on seven studies (n = 9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retrospective chart re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rospective analysis (Lo S et al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Clin Onc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s were included that reported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atients who switched from treatment plan of chemotherapy plus hormone therapy (CT+HT) to hormone (HT) only based upon Onc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ay Recurrence Scor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S) (CT+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Grande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atients who switched from HT-only treatment plan to CT+HT (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Grande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T+HT) based upon 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3600" y="274320"/>
            <a:ext cx="8226360" cy="107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006a"/>
                </a:solidFill>
                <a:latin typeface="Arial"/>
              </a:rPr>
              <a:t>Effect of Recurrence Score on Treatment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212400" y="6388200"/>
            <a:ext cx="542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rnberger J, Chien R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roc SABC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10;Abstract P2-09-06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"/>
          <p:cNvSpPr/>
          <p:nvPr/>
        </p:nvSpPr>
        <p:spPr>
          <a:xfrm>
            <a:off x="420840" y="5100480"/>
            <a:ext cx="7905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S led to 37% change in treatment decisions overall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S testing led to 52% switch in treatment recommendations in patients who were initially recommended to adjuvant CT+HT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S testing led to 12% switch in treatment recommendations in patients who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re initially recommended to HT only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6"/>
          <p:cNvSpPr/>
          <p:nvPr/>
        </p:nvSpPr>
        <p:spPr>
          <a:xfrm>
            <a:off x="1403280" y="157968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fore 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7"/>
          <p:cNvSpPr/>
          <p:nvPr/>
        </p:nvSpPr>
        <p:spPr>
          <a:xfrm>
            <a:off x="3759120" y="157968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5477040" y="163188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1616040" y="250524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 + H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3454560" y="203688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 + H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3454560" y="360504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 + H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3454560" y="322884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 onl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1649520" y="431964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 onl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1341360" y="289872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2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1341360" y="393048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3354480" y="394668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7"/>
          <p:cNvSpPr/>
          <p:nvPr/>
        </p:nvSpPr>
        <p:spPr>
          <a:xfrm>
            <a:off x="3354480" y="448452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18"/>
          <p:cNvSpPr/>
          <p:nvPr/>
        </p:nvSpPr>
        <p:spPr>
          <a:xfrm>
            <a:off x="5595840" y="4653000"/>
            <a:ext cx="14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9"/>
          <p:cNvSpPr/>
          <p:nvPr/>
        </p:nvSpPr>
        <p:spPr>
          <a:xfrm>
            <a:off x="5595840" y="3697200"/>
            <a:ext cx="14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20"/>
          <p:cNvSpPr/>
          <p:nvPr/>
        </p:nvSpPr>
        <p:spPr>
          <a:xfrm>
            <a:off x="5595840" y="3079800"/>
            <a:ext cx="14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21"/>
          <p:cNvSpPr/>
          <p:nvPr/>
        </p:nvSpPr>
        <p:spPr>
          <a:xfrm>
            <a:off x="5595840" y="2133720"/>
            <a:ext cx="14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2"/>
          <p:cNvSpPr/>
          <p:nvPr/>
        </p:nvSpPr>
        <p:spPr>
          <a:xfrm>
            <a:off x="3354480" y="288756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3"/>
          <p:cNvSpPr/>
          <p:nvPr/>
        </p:nvSpPr>
        <p:spPr>
          <a:xfrm>
            <a:off x="3354480" y="239400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24"/>
          <p:cNvSpPr/>
          <p:nvPr/>
        </p:nvSpPr>
        <p:spPr>
          <a:xfrm>
            <a:off x="6637320" y="2938320"/>
            <a:ext cx="1411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i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25"/>
          <p:cNvSpPr/>
          <p:nvPr/>
        </p:nvSpPr>
        <p:spPr>
          <a:xfrm flipH="1">
            <a:off x="1298520" y="2798640"/>
            <a:ext cx="1984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Line 26"/>
          <p:cNvSpPr/>
          <p:nvPr/>
        </p:nvSpPr>
        <p:spPr>
          <a:xfrm flipH="1">
            <a:off x="1298520" y="4361040"/>
            <a:ext cx="1992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Line 27"/>
          <p:cNvSpPr/>
          <p:nvPr/>
        </p:nvSpPr>
        <p:spPr>
          <a:xfrm>
            <a:off x="1306440" y="2789280"/>
            <a:ext cx="0" cy="156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28"/>
          <p:cNvSpPr/>
          <p:nvPr/>
        </p:nvSpPr>
        <p:spPr>
          <a:xfrm flipH="1">
            <a:off x="3327480" y="2313000"/>
            <a:ext cx="2255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29"/>
          <p:cNvSpPr/>
          <p:nvPr/>
        </p:nvSpPr>
        <p:spPr>
          <a:xfrm flipH="1">
            <a:off x="3327480" y="3238560"/>
            <a:ext cx="2255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30"/>
          <p:cNvSpPr/>
          <p:nvPr/>
        </p:nvSpPr>
        <p:spPr>
          <a:xfrm>
            <a:off x="3325680" y="2305080"/>
            <a:ext cx="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31"/>
          <p:cNvSpPr/>
          <p:nvPr/>
        </p:nvSpPr>
        <p:spPr>
          <a:xfrm flipH="1">
            <a:off x="3327480" y="3881520"/>
            <a:ext cx="2255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32"/>
          <p:cNvSpPr/>
          <p:nvPr/>
        </p:nvSpPr>
        <p:spPr>
          <a:xfrm flipH="1">
            <a:off x="3327480" y="4807080"/>
            <a:ext cx="22557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Line 33"/>
          <p:cNvSpPr/>
          <p:nvPr/>
        </p:nvSpPr>
        <p:spPr>
          <a:xfrm>
            <a:off x="3325680" y="3873600"/>
            <a:ext cx="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34"/>
          <p:cNvSpPr/>
          <p:nvPr/>
        </p:nvSpPr>
        <p:spPr>
          <a:xfrm>
            <a:off x="6203880" y="3247920"/>
            <a:ext cx="31752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35"/>
          <p:cNvSpPr/>
          <p:nvPr/>
        </p:nvSpPr>
        <p:spPr>
          <a:xfrm flipH="1">
            <a:off x="6203880" y="3583080"/>
            <a:ext cx="31752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36"/>
          <p:cNvSpPr/>
          <p:nvPr/>
        </p:nvSpPr>
        <p:spPr>
          <a:xfrm>
            <a:off x="6499080" y="3573360"/>
            <a:ext cx="238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37"/>
          <p:cNvSpPr/>
          <p:nvPr/>
        </p:nvSpPr>
        <p:spPr>
          <a:xfrm>
            <a:off x="3325680" y="4811760"/>
            <a:ext cx="14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 onl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3600" y="318600"/>
            <a:ext cx="8226360" cy="107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3006a"/>
                </a:solidFill>
                <a:latin typeface="Arial"/>
              </a:rPr>
              <a:t>Decision Impact of the 21-Gene Breast Cancer Recurrence Score in Clinical Prac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212400" y="6388200"/>
            <a:ext cx="542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rnberger J, Chien R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roc SABC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10;Abstract P2-09-06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380880" y="1771560"/>
          <a:ext cx="7742520" cy="3557520"/>
        </p:xfrm>
        <a:graphic>
          <a:graphicData uri="http://schemas.openxmlformats.org/drawingml/2006/table">
            <a:tbl>
              <a:tblPr/>
              <a:tblGrid>
                <a:gridCol w="2895840"/>
                <a:gridCol w="2674800"/>
                <a:gridCol w="2171880"/>
              </a:tblGrid>
              <a:tr h="73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25b"/>
                          </a:solidFill>
                          <a:latin typeface="Arial"/>
                          <a:ea typeface="MS PGothic"/>
                        </a:rPr>
                        <a:t>Rx plan before R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e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25b"/>
                          </a:solidFill>
                          <a:latin typeface="Arial"/>
                          <a:ea typeface="MS PGothic"/>
                        </a:rPr>
                        <a:t>Rx plan after R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e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25b"/>
                          </a:solidFill>
                          <a:latin typeface="Arial"/>
                          <a:ea typeface="MS PGothic"/>
                        </a:rPr>
                        <a:t>N = 912 (%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e2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71 (30%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HT onl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HT onl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03 (33%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HT onl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1 (4%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c2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HT onl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c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7 (33%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c2"/>
                    </a:solidFill>
                  </a:tcPr>
                </a:tc>
              </a:tr>
            </a:tbl>
          </a:graphicData>
        </a:graphic>
      </p:graphicFrame>
      <p:cxnSp>
        <p:nvCxnSpPr>
          <p:cNvPr id="716" name="Straight Arrow Connector 8"/>
          <p:cNvCxnSpPr/>
          <p:nvPr/>
        </p:nvCxnSpPr>
        <p:spPr>
          <a:xfrm>
            <a:off x="2579760" y="2868120"/>
            <a:ext cx="13723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Straight Arrow Connector 10"/>
          <p:cNvCxnSpPr/>
          <p:nvPr/>
        </p:nvCxnSpPr>
        <p:spPr>
          <a:xfrm>
            <a:off x="2579760" y="3587760"/>
            <a:ext cx="1372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Straight Arrow Connector 11"/>
          <p:cNvCxnSpPr/>
          <p:nvPr/>
        </p:nvCxnSpPr>
        <p:spPr>
          <a:xfrm>
            <a:off x="2579760" y="4260960"/>
            <a:ext cx="1372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Straight Arrow Connector 12"/>
          <p:cNvCxnSpPr/>
          <p:nvPr/>
        </p:nvCxnSpPr>
        <p:spPr>
          <a:xfrm>
            <a:off x="2579760" y="4982760"/>
            <a:ext cx="13723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0" name="Right Brace 19"/>
          <p:cNvSpPr/>
          <p:nvPr/>
        </p:nvSpPr>
        <p:spPr>
          <a:xfrm>
            <a:off x="7805880" y="4005360"/>
            <a:ext cx="392040" cy="1243080"/>
          </a:xfrm>
          <a:custGeom>
            <a:avLst/>
            <a:gdLst>
              <a:gd name="textAreaLeft" fmla="*/ 0 w 392040"/>
              <a:gd name="textAreaRight" fmla="*/ 141480 w 392040"/>
              <a:gd name="textAreaTop" fmla="*/ 10080 h 1243080"/>
              <a:gd name="textAreaBottom" fmla="*/ 123300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16200" y="10800"/>
                  <a:pt x="21600" y="10800"/>
                </a:cubicBezTo>
                <a:cubicBezTo>
                  <a:pt x="162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Box 20"/>
          <p:cNvSpPr/>
          <p:nvPr/>
        </p:nvSpPr>
        <p:spPr>
          <a:xfrm>
            <a:off x="8190000" y="4376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ounded Rectangle 44"/>
          <p:cNvSpPr/>
          <p:nvPr/>
        </p:nvSpPr>
        <p:spPr>
          <a:xfrm rot="16200000">
            <a:off x="2131200" y="3472200"/>
            <a:ext cx="2854440" cy="2588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Isosceles Triangle 39"/>
          <p:cNvSpPr/>
          <p:nvPr/>
        </p:nvSpPr>
        <p:spPr>
          <a:xfrm rot="5400000">
            <a:off x="3769920" y="2465640"/>
            <a:ext cx="135000" cy="115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 vert="eaVert" rot="10800000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131"/>
          <p:cNvSpPr/>
          <p:nvPr/>
        </p:nvSpPr>
        <p:spPr>
          <a:xfrm>
            <a:off x="6969240" y="2301840"/>
            <a:ext cx="3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18"/>
          <p:cNvSpPr/>
          <p:nvPr/>
        </p:nvSpPr>
        <p:spPr>
          <a:xfrm>
            <a:off x="4784760" y="1447920"/>
            <a:ext cx="1600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3280" indent="-233280">
              <a:spcAft>
                <a:spcPts val="437"/>
              </a:spcAft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Rectangle 19"/>
          <p:cNvGrpSpPr/>
          <p:nvPr/>
        </p:nvGrpSpPr>
        <p:grpSpPr>
          <a:xfrm>
            <a:off x="4005360" y="1792440"/>
            <a:ext cx="2773440" cy="1584000"/>
            <a:chOff x="4005360" y="1792440"/>
            <a:chExt cx="2773440" cy="1584000"/>
          </a:xfrm>
        </p:grpSpPr>
        <p:pic>
          <p:nvPicPr>
            <p:cNvPr id="727" name="Rectangle 19" descr=""/>
            <p:cNvPicPr/>
            <p:nvPr/>
          </p:nvPicPr>
          <p:blipFill>
            <a:blip r:embed="rId1"/>
            <a:stretch/>
          </p:blipFill>
          <p:spPr>
            <a:xfrm>
              <a:off x="4005360" y="1792440"/>
              <a:ext cx="2773440" cy="15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4021200" y="1811160"/>
              <a:ext cx="2743200" cy="15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33280" indent="-233280">
                <a:spcAft>
                  <a:spcPts val="437"/>
                </a:spcAft>
                <a:tabLst>
                  <a:tab algn="l" pos="0"/>
                  <a:tab algn="l" pos="623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 Box 131"/>
          <p:cNvSpPr/>
          <p:nvPr/>
        </p:nvSpPr>
        <p:spPr>
          <a:xfrm>
            <a:off x="4248720" y="2037600"/>
            <a:ext cx="23292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em/Carbo (GC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N = 258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emcitabine 1000 m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IV d 1, 8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rboplatin AUC2 IV d 1, 8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1-day cyc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Rectangle 23"/>
          <p:cNvGrpSpPr/>
          <p:nvPr/>
        </p:nvGrpSpPr>
        <p:grpSpPr>
          <a:xfrm>
            <a:off x="4005360" y="3591000"/>
            <a:ext cx="2773440" cy="1584360"/>
            <a:chOff x="4005360" y="3591000"/>
            <a:chExt cx="2773440" cy="1584360"/>
          </a:xfrm>
        </p:grpSpPr>
        <p:pic>
          <p:nvPicPr>
            <p:cNvPr id="731" name="Rectangle 23" descr=""/>
            <p:cNvPicPr/>
            <p:nvPr/>
          </p:nvPicPr>
          <p:blipFill>
            <a:blip r:embed="rId2"/>
            <a:stretch/>
          </p:blipFill>
          <p:spPr>
            <a:xfrm>
              <a:off x="4005360" y="3591000"/>
              <a:ext cx="2773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4021200" y="3610080"/>
              <a:ext cx="27432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33280" indent="-233280">
                <a:spcAft>
                  <a:spcPts val="437"/>
                </a:spcAft>
                <a:tabLst>
                  <a:tab algn="l" pos="0"/>
                  <a:tab algn="l" pos="623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Text Box 134"/>
          <p:cNvSpPr/>
          <p:nvPr/>
        </p:nvSpPr>
        <p:spPr>
          <a:xfrm>
            <a:off x="4109040" y="3666240"/>
            <a:ext cx="2605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em/Carbo + Iniparib (GCI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N = 261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mcitabine -  1000 mg/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IV d 1, 8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platin -  AUC2 IV d 1, 8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parib  - 5.6 mg/kg IV d 1,4,8,1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1-day cycl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Rectangle 27"/>
          <p:cNvGrpSpPr/>
          <p:nvPr/>
        </p:nvGrpSpPr>
        <p:grpSpPr>
          <a:xfrm>
            <a:off x="115920" y="1809720"/>
            <a:ext cx="3408480" cy="3414600"/>
            <a:chOff x="115920" y="1809720"/>
            <a:chExt cx="3408480" cy="3414600"/>
          </a:xfrm>
        </p:grpSpPr>
        <p:pic>
          <p:nvPicPr>
            <p:cNvPr id="735" name="Rectangle 27" descr=""/>
            <p:cNvPicPr/>
            <p:nvPr/>
          </p:nvPicPr>
          <p:blipFill>
            <a:blip r:embed="rId3"/>
            <a:stretch/>
          </p:blipFill>
          <p:spPr>
            <a:xfrm>
              <a:off x="115920" y="1809720"/>
              <a:ext cx="340848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35000" y="1828800"/>
              <a:ext cx="3376440" cy="33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33280" indent="-233280">
                <a:spcAft>
                  <a:spcPts val="437"/>
                </a:spcAft>
                <a:tabLst>
                  <a:tab algn="l" pos="0"/>
                  <a:tab algn="l" pos="623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7" name="Rectangle 46"/>
          <p:cNvSpPr/>
          <p:nvPr/>
        </p:nvSpPr>
        <p:spPr>
          <a:xfrm rot="16200000">
            <a:off x="3398040" y="3153960"/>
            <a:ext cx="667800" cy="4572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marL="233280" indent="-233280" algn="ctr">
              <a:spcBef>
                <a:spcPts val="2001"/>
              </a:spcBef>
              <a:spcAft>
                <a:spcPts val="1001"/>
              </a:spcAft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Isosceles Triangle 39"/>
          <p:cNvSpPr/>
          <p:nvPr/>
        </p:nvSpPr>
        <p:spPr>
          <a:xfrm rot="5400000">
            <a:off x="3772080" y="4141800"/>
            <a:ext cx="134640" cy="11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t" vert="eaVert" rot="10800000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Rectangle 32"/>
          <p:cNvSpPr/>
          <p:nvPr/>
        </p:nvSpPr>
        <p:spPr>
          <a:xfrm>
            <a:off x="304920" y="2205360"/>
            <a:ext cx="327636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y Population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IV TNB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COG PS 0–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ble CNS metastases allow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-2 prior chemotherapies for mTNB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andomization stratified by prior chemo in the metastatic setting: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1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s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Osaka"/>
              </a:rPr>
              <a:t>line (no prior therapy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Osaka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n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Osaka"/>
              </a:rPr>
              <a:t>/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  <a:ea typeface="Osaka"/>
              </a:rPr>
              <a:t>rd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Osaka"/>
              </a:rPr>
              <a:t>-line (1-2 prior therapies)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42"/>
          <p:cNvSpPr/>
          <p:nvPr/>
        </p:nvSpPr>
        <p:spPr>
          <a:xfrm>
            <a:off x="609480" y="1066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tudy Desig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center, randomized open-label Phase III Tri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Phase III Gemcitabine/Carboplatin +/- Iniparib in Metastatic TNBC Patients </a:t>
            </a:r>
            <a:endParaRPr b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42" name="Isosceles Triangle 39"/>
          <p:cNvSpPr/>
          <p:nvPr/>
        </p:nvSpPr>
        <p:spPr>
          <a:xfrm rot="5400000">
            <a:off x="6886440" y="2401560"/>
            <a:ext cx="135000" cy="11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81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t" vert="eaVert" rot="10800000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3" name="Rectangle 29"/>
          <p:cNvGrpSpPr/>
          <p:nvPr/>
        </p:nvGrpSpPr>
        <p:grpSpPr>
          <a:xfrm>
            <a:off x="7053120" y="1798560"/>
            <a:ext cx="2030400" cy="1584360"/>
            <a:chOff x="7053120" y="1798560"/>
            <a:chExt cx="2030400" cy="1584360"/>
          </a:xfrm>
        </p:grpSpPr>
        <p:pic>
          <p:nvPicPr>
            <p:cNvPr id="744" name="Rectangle 29" descr=""/>
            <p:cNvPicPr/>
            <p:nvPr/>
          </p:nvPicPr>
          <p:blipFill>
            <a:blip r:embed="rId4"/>
            <a:stretch/>
          </p:blipFill>
          <p:spPr>
            <a:xfrm>
              <a:off x="7053120" y="1798560"/>
              <a:ext cx="20304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7070760" y="1819440"/>
              <a:ext cx="20001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33280" indent="-233280">
                <a:spcAft>
                  <a:spcPts val="437"/>
                </a:spcAft>
                <a:tabLst>
                  <a:tab algn="l" pos="0"/>
                  <a:tab algn="l" pos="623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6" name="Text Box 131"/>
          <p:cNvSpPr/>
          <p:nvPr/>
        </p:nvSpPr>
        <p:spPr>
          <a:xfrm>
            <a:off x="7074000" y="2129040"/>
            <a:ext cx="1981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ossover allowe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 GCI follow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ease progression*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central revie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Box 33"/>
          <p:cNvSpPr/>
          <p:nvPr/>
        </p:nvSpPr>
        <p:spPr>
          <a:xfrm>
            <a:off x="3205800" y="141588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 = 51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42"/>
          <p:cNvSpPr/>
          <p:nvPr/>
        </p:nvSpPr>
        <p:spPr>
          <a:xfrm>
            <a:off x="304920" y="5410080"/>
            <a:ext cx="8839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spective central radiology review of progression required prior to crossov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6% (n = 152) of progressing patients crossed over to GCI at time of primary analys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30"/>
          <p:cNvSpPr/>
          <p:nvPr/>
        </p:nvSpPr>
        <p:spPr>
          <a:xfrm>
            <a:off x="3600" y="652140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CT0093865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Box 21"/>
          <p:cNvSpPr/>
          <p:nvPr/>
        </p:nvSpPr>
        <p:spPr>
          <a:xfrm>
            <a:off x="2747880" y="6488280"/>
            <a:ext cx="6121440" cy="3682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’Shaughnessy J et al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c ASC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2011;Abstract 1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2+ Breast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3"/>
          <p:cNvSpPr/>
          <p:nvPr/>
        </p:nvSpPr>
        <p:spPr>
          <a:xfrm>
            <a:off x="7162920" y="990720"/>
            <a:ext cx="228600" cy="228600"/>
          </a:xfrm>
          <a:prstGeom prst="rect">
            <a:avLst/>
          </a:prstGeom>
          <a:solidFill>
            <a:srgbClr val="9999ff"/>
          </a:solidFill>
          <a:ln w="9360">
            <a:solidFill>
              <a:srgbClr val="6c6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7162920" y="1295280"/>
            <a:ext cx="228600" cy="228600"/>
          </a:xfrm>
          <a:prstGeom prst="rect">
            <a:avLst/>
          </a:prstGeom>
          <a:solidFill>
            <a:srgbClr val="cc3399"/>
          </a:solidFill>
          <a:ln w="9360">
            <a:solidFill>
              <a:srgbClr val="6c6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7392960" y="9144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/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7317360" y="12952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G/C + Inipari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rinsic Subtype Distribution by Treatment A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8"/>
          <p:cNvSpPr/>
          <p:nvPr/>
        </p:nvSpPr>
        <p:spPr>
          <a:xfrm>
            <a:off x="5061240" y="106668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eatment arm 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7" name="Object 2"/>
          <p:cNvGraphicFramePr/>
          <p:nvPr/>
        </p:nvGraphicFramePr>
        <p:xfrm>
          <a:off x="0" y="2438280"/>
          <a:ext cx="4495680" cy="33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44956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9" name="Text Box 10"/>
          <p:cNvSpPr/>
          <p:nvPr/>
        </p:nvSpPr>
        <p:spPr>
          <a:xfrm>
            <a:off x="1066680" y="1828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sa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5181480" y="1752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R-  sampl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2139480" y="586728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= 0.78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2" name="Object 3"/>
          <p:cNvGraphicFramePr/>
          <p:nvPr/>
        </p:nvGraphicFramePr>
        <p:xfrm>
          <a:off x="4572000" y="2438280"/>
          <a:ext cx="4572000" cy="335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438280"/>
                    <a:ext cx="45720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16"/>
          <p:cNvSpPr/>
          <p:nvPr/>
        </p:nvSpPr>
        <p:spPr>
          <a:xfrm>
            <a:off x="6482880" y="586728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= 0.9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Box 13"/>
          <p:cNvSpPr/>
          <p:nvPr/>
        </p:nvSpPr>
        <p:spPr>
          <a:xfrm>
            <a:off x="300600" y="6458040"/>
            <a:ext cx="835272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’Shaughnessy J et al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 ASCO Breast Cancer Symposiu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201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8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66400" y="199800"/>
            <a:ext cx="84200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db2d"/>
                </a:solidFill>
                <a:latin typeface="Arial"/>
              </a:rPr>
              <a:t>RIBBON-2 Trial Design</a:t>
            </a:r>
            <a:endParaRPr b="1" lang="en-US" sz="3600" spc="-1" strike="noStrike">
              <a:solidFill>
                <a:srgbClr val="ffdb2d"/>
              </a:solidFill>
              <a:latin typeface="Arial"/>
            </a:endParaRPr>
          </a:p>
        </p:txBody>
      </p:sp>
      <p:sp>
        <p:nvSpPr>
          <p:cNvPr id="767" name="AutoShape 12"/>
          <p:cNvSpPr/>
          <p:nvPr/>
        </p:nvSpPr>
        <p:spPr>
          <a:xfrm flipH="1">
            <a:off x="7066800" y="1971720"/>
            <a:ext cx="298440" cy="1214280"/>
          </a:xfrm>
          <a:custGeom>
            <a:avLst/>
            <a:gdLst>
              <a:gd name="textAreaLeft" fmla="*/ 190440 w 298440"/>
              <a:gd name="textAreaRight" fmla="*/ 298440 w 298440"/>
              <a:gd name="textAreaTop" fmla="*/ 62640 h 1214280"/>
              <a:gd name="textAreaBottom" fmla="*/ 115164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8"/>
                  <a:pt x="10800" y="3576"/>
                </a:cubicBezTo>
                <a:lnTo>
                  <a:pt x="10800" y="7224"/>
                </a:lnTo>
                <a:cubicBezTo>
                  <a:pt x="10800" y="9012"/>
                  <a:pt x="5400" y="10800"/>
                  <a:pt x="0" y="10800"/>
                </a:cubicBezTo>
                <a:cubicBezTo>
                  <a:pt x="5400" y="10800"/>
                  <a:pt x="10800" y="12588"/>
                  <a:pt x="10800" y="14376"/>
                </a:cubicBezTo>
                <a:lnTo>
                  <a:pt x="10800" y="18024"/>
                </a:lnTo>
                <a:cubicBezTo>
                  <a:pt x="10800" y="1981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539640" y="3556080"/>
            <a:ext cx="842508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Aft>
                <a:spcPts val="561"/>
              </a:spcAft>
              <a:buClr>
                <a:srgbClr val="ffdb2d"/>
              </a:buClr>
              <a:buFont typeface="Arial"/>
              <a:buChar char="•"/>
              <a:tabLst>
                <a:tab algn="l" pos="914400"/>
                <a:tab algn="l" pos="1314360"/>
                <a:tab algn="l" pos="1714680"/>
                <a:tab algn="l" pos="2114640"/>
                <a:tab algn="l" pos="2571840"/>
                <a:tab algn="l" pos="3029040"/>
                <a:tab algn="l" pos="3429000"/>
                <a:tab algn="l" pos="3886200"/>
                <a:tab algn="l" pos="4343400"/>
                <a:tab algn="l" pos="5200560"/>
                <a:tab algn="l" pos="645804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Taxane (paclitaxel 90 mg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d1, 8, 15 q4w or paclitaxel 175 mg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nab-paclitaxel 260 mg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, or docetaxel 75–100 mg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q3w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Aft>
                <a:spcPts val="561"/>
              </a:spcAft>
              <a:buClr>
                <a:srgbClr val="ffdb2d"/>
              </a:buClr>
              <a:buFont typeface="Arial"/>
              <a:buChar char="•"/>
              <a:tabLst>
                <a:tab algn="l" pos="914400"/>
                <a:tab algn="l" pos="1314360"/>
                <a:tab algn="l" pos="1714680"/>
                <a:tab algn="l" pos="2114640"/>
                <a:tab algn="l" pos="2571840"/>
                <a:tab algn="l" pos="3029040"/>
                <a:tab algn="l" pos="3429000"/>
                <a:tab algn="l" pos="3886200"/>
                <a:tab algn="l" pos="4343400"/>
                <a:tab algn="l" pos="5200560"/>
                <a:tab algn="l" pos="645804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Gemcitabine (1250 mg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d1, 8 q3w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Aft>
                <a:spcPts val="561"/>
              </a:spcAft>
              <a:buClr>
                <a:srgbClr val="ffdb2d"/>
              </a:buClr>
              <a:buFont typeface="Arial"/>
              <a:buChar char="•"/>
              <a:tabLst>
                <a:tab algn="l" pos="914400"/>
                <a:tab algn="l" pos="1314360"/>
                <a:tab algn="l" pos="1714680"/>
                <a:tab algn="l" pos="2114640"/>
                <a:tab algn="l" pos="2571840"/>
                <a:tab algn="l" pos="3029040"/>
                <a:tab algn="l" pos="3429000"/>
                <a:tab algn="l" pos="3886200"/>
                <a:tab algn="l" pos="4343400"/>
                <a:tab algn="l" pos="5200560"/>
                <a:tab algn="l" pos="645804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apecitabine (1000 mg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bid d1–14 q3w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Aft>
                <a:spcPts val="561"/>
              </a:spcAft>
              <a:buClr>
                <a:srgbClr val="ffdb2d"/>
              </a:buClr>
              <a:buFont typeface="Arial"/>
              <a:buChar char="•"/>
              <a:tabLst>
                <a:tab algn="l" pos="914400"/>
                <a:tab algn="l" pos="1314360"/>
                <a:tab algn="l" pos="1714680"/>
                <a:tab algn="l" pos="2114640"/>
                <a:tab algn="l" pos="2571840"/>
                <a:tab algn="l" pos="3029040"/>
                <a:tab algn="l" pos="3429000"/>
                <a:tab algn="l" pos="3886200"/>
                <a:tab algn="l" pos="4343400"/>
                <a:tab algn="l" pos="5200560"/>
                <a:tab algn="l" pos="645804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Vinorelbine (30 mg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d1, 8, 15 q3w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Aft>
                <a:spcPts val="561"/>
              </a:spcAft>
              <a:buClr>
                <a:srgbClr val="ffdb2d"/>
              </a:buClr>
              <a:buFont typeface="Arial"/>
              <a:buChar char="•"/>
              <a:tabLst>
                <a:tab algn="l" pos="914400"/>
                <a:tab algn="l" pos="1314360"/>
                <a:tab algn="l" pos="1714680"/>
                <a:tab algn="l" pos="2114640"/>
                <a:tab algn="l" pos="2571840"/>
                <a:tab algn="l" pos="3029040"/>
                <a:tab algn="l" pos="3429000"/>
                <a:tab algn="l" pos="3886200"/>
                <a:tab algn="l" pos="4343400"/>
                <a:tab algn="l" pos="5200560"/>
                <a:tab algn="l" pos="645804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BEV or PLA (15 mg/kg q3w or 10 mg/kg q2w, depending on CT regime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spcAft>
                <a:spcPts val="561"/>
              </a:spcAft>
              <a:buClr>
                <a:srgbClr val="ffdb2d"/>
              </a:buClr>
              <a:buFont typeface="Arial"/>
              <a:buChar char="•"/>
              <a:tabLst>
                <a:tab algn="l" pos="914400"/>
                <a:tab algn="l" pos="1314360"/>
                <a:tab algn="l" pos="1714680"/>
                <a:tab algn="l" pos="2114640"/>
                <a:tab algn="l" pos="2571840"/>
                <a:tab algn="l" pos="3029040"/>
                <a:tab algn="l" pos="3429000"/>
                <a:tab algn="l" pos="3886200"/>
                <a:tab algn="l" pos="4343400"/>
                <a:tab algn="l" pos="5200560"/>
                <a:tab algn="l" pos="645804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明朝"/>
              </a:rPr>
              <a:t>Stratification factors: CT regimen; interval from LR/MBC diagnosis to 1st progression; ER and PgR stat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Box 34"/>
          <p:cNvSpPr/>
          <p:nvPr/>
        </p:nvSpPr>
        <p:spPr>
          <a:xfrm>
            <a:off x="2813040" y="1228680"/>
            <a:ext cx="17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Investigator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  <a:ea typeface="MS PGothic"/>
              </a:rPr>
              <a:t>’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 choice of chemotherap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2876400" y="2004840"/>
            <a:ext cx="1584360" cy="1146240"/>
          </a:xfrm>
          <a:prstGeom prst="roundRect">
            <a:avLst>
              <a:gd name="adj" fmla="val 16667"/>
            </a:avLst>
          </a:prstGeom>
          <a:solidFill>
            <a:srgbClr val="b0cae4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a315a"/>
                </a:solidFill>
                <a:latin typeface="Arial"/>
                <a:ea typeface="ＭＳ 明朝"/>
              </a:rPr>
              <a:t>Taxane or gemcitabine or capecitabine or vinorelb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7451640" y="1743120"/>
            <a:ext cx="1405080" cy="1657440"/>
          </a:xfrm>
          <a:custGeom>
            <a:avLst/>
            <a:gdLst>
              <a:gd name="textAreaLeft" fmla="*/ 68400 w 1405080"/>
              <a:gd name="textAreaRight" fmla="*/ 1336680 w 1405080"/>
              <a:gd name="textAreaTop" fmla="*/ 68400 h 1657440"/>
              <a:gd name="textAreaBottom" fmla="*/ 1589040 h 1657440"/>
            </a:gdLst>
            <a:ahLst/>
            <a:rect l="textAreaLeft" t="textAreaTop" r="textAreaRight" b="textAreaBottom"/>
            <a:pathLst>
              <a:path w="21600" h="25478">
                <a:moveTo>
                  <a:pt x="3600" y="0"/>
                </a:moveTo>
                <a:arcTo wR="3600" hR="3600" stAng="16200000" swAng="-5400000"/>
                <a:lnTo>
                  <a:pt x="0" y="21878"/>
                </a:lnTo>
                <a:arcTo wR="3600" hR="3600" stAng="10800000" swAng="-5400000"/>
                <a:lnTo>
                  <a:pt x="18000" y="254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Treat to disease progression; crossover after progression permitt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 Box 11"/>
          <p:cNvSpPr/>
          <p:nvPr/>
        </p:nvSpPr>
        <p:spPr>
          <a:xfrm>
            <a:off x="5630760" y="1952640"/>
            <a:ext cx="1368360" cy="565200"/>
          </a:xfrm>
          <a:prstGeom prst="roundRect">
            <a:avLst>
              <a:gd name="adj" fmla="val 16667"/>
            </a:avLst>
          </a:prstGeom>
          <a:solidFill>
            <a:srgbClr val="ffd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a315a"/>
                </a:solidFill>
                <a:latin typeface="Arial"/>
                <a:ea typeface="MS PGothic"/>
              </a:rPr>
              <a:t>BEV + C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5630760" y="2622600"/>
            <a:ext cx="1368360" cy="565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a315a"/>
                </a:solidFill>
                <a:latin typeface="Arial"/>
                <a:ea typeface="MS PGothic"/>
              </a:rPr>
              <a:t>PLA + C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0"/>
          <p:cNvSpPr/>
          <p:nvPr/>
        </p:nvSpPr>
        <p:spPr>
          <a:xfrm>
            <a:off x="533520" y="1849320"/>
            <a:ext cx="2124000" cy="1451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明朝"/>
              </a:rPr>
              <a:t>HER2-negative LR/mBC, one prior line of CT, no prior anti-VEGF therap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5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明朝"/>
              </a:rPr>
              <a:t>(n = 684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16"/>
          <p:cNvSpPr/>
          <p:nvPr/>
        </p:nvSpPr>
        <p:spPr>
          <a:xfrm>
            <a:off x="4718160" y="2325600"/>
            <a:ext cx="503280" cy="505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76" name="Straight Arrow Connector 18"/>
          <p:cNvCxnSpPr>
            <a:stCxn id="774" idx="3"/>
            <a:endCxn id="770" idx="1"/>
          </p:cNvCxnSpPr>
          <p:nvPr/>
        </p:nvCxnSpPr>
        <p:spPr>
          <a:xfrm>
            <a:off x="2657520" y="2575080"/>
            <a:ext cx="219600" cy="36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77" name="Straight Arrow Connector 21"/>
          <p:cNvCxnSpPr>
            <a:stCxn id="775" idx="6"/>
            <a:endCxn id="772" idx="1"/>
          </p:cNvCxnSpPr>
          <p:nvPr/>
        </p:nvCxnSpPr>
        <p:spPr>
          <a:xfrm flipV="1">
            <a:off x="5221080" y="2234880"/>
            <a:ext cx="410040" cy="34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78" name="Straight Arrow Connector 23"/>
          <p:cNvCxnSpPr>
            <a:stCxn id="775" idx="6"/>
            <a:endCxn id="773" idx="1"/>
          </p:cNvCxnSpPr>
          <p:nvPr/>
        </p:nvCxnSpPr>
        <p:spPr>
          <a:xfrm>
            <a:off x="5221080" y="2577600"/>
            <a:ext cx="410040" cy="3279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79" name="Straight Arrow Connector 28"/>
          <p:cNvCxnSpPr>
            <a:stCxn id="770" idx="3"/>
            <a:endCxn id="775" idx="2"/>
          </p:cNvCxnSpPr>
          <p:nvPr/>
        </p:nvCxnSpPr>
        <p:spPr>
          <a:xfrm flipV="1">
            <a:off x="4460400" y="2577240"/>
            <a:ext cx="2581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80" name="TextBox 32"/>
          <p:cNvSpPr/>
          <p:nvPr/>
        </p:nvSpPr>
        <p:spPr>
          <a:xfrm>
            <a:off x="4694400" y="19494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MS PGothic"/>
              </a:rPr>
              <a:t>2: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Box 7"/>
          <p:cNvSpPr/>
          <p:nvPr/>
        </p:nvSpPr>
        <p:spPr>
          <a:xfrm>
            <a:off x="333360" y="6391440"/>
            <a:ext cx="8658360" cy="322200"/>
          </a:xfrm>
          <a:prstGeom prst="rect">
            <a:avLst/>
          </a:prstGeom>
          <a:solidFill>
            <a:srgbClr val="0f4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MS PGothic"/>
              </a:rPr>
              <a:t>Brufsky A et al. </a:t>
            </a:r>
            <a:r>
              <a:rPr b="0" i="1" lang="en-GB" sz="1500" spc="-1" strike="noStrike">
                <a:solidFill>
                  <a:srgbClr val="ffffff"/>
                </a:solidFill>
                <a:latin typeface="Arial"/>
                <a:ea typeface="MS PGothic"/>
              </a:rPr>
              <a:t>Proc ASCO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MS PGothic"/>
              </a:rPr>
              <a:t> 2011;Abstract 1010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8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2" name="Object 103"/>
          <p:cNvGraphicFramePr/>
          <p:nvPr/>
        </p:nvGraphicFramePr>
        <p:xfrm>
          <a:off x="1335240" y="1751040"/>
          <a:ext cx="733896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751040"/>
                    <a:ext cx="733896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Text Box 80"/>
          <p:cNvSpPr/>
          <p:nvPr/>
        </p:nvSpPr>
        <p:spPr>
          <a:xfrm>
            <a:off x="219240" y="5627520"/>
            <a:ext cx="8816760" cy="67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4c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ctr" pos="1130400"/>
                <a:tab algn="ctr" pos="2571840"/>
                <a:tab algn="ctr" pos="4013280"/>
                <a:tab algn="ctr" pos="5454720"/>
                <a:tab algn="ctr" pos="6896160"/>
                <a:tab algn="ctr" pos="8337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No. at risk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ctr" pos="1130400"/>
                <a:tab algn="ctr" pos="2571840"/>
                <a:tab algn="ctr" pos="4013280"/>
                <a:tab algn="ctr" pos="5454720"/>
                <a:tab algn="ctr" pos="6896160"/>
                <a:tab algn="ctr" pos="8337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BEV + CT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	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112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	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65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	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26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	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8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	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ctr" pos="1130400"/>
                <a:tab algn="ctr" pos="2571840"/>
                <a:tab algn="ctr" pos="4013280"/>
                <a:tab algn="ctr" pos="5454720"/>
                <a:tab algn="ctr" pos="6896160"/>
                <a:tab algn="ctr" pos="8337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Placebo + CT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	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47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	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11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	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4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	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66400" y="-360"/>
            <a:ext cx="84200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db2d"/>
                </a:solidFill>
                <a:latin typeface="Arial"/>
                <a:ea typeface="Arial"/>
              </a:rPr>
              <a:t>TNBC Population: PFS</a:t>
            </a:r>
            <a:endParaRPr b="1" lang="en-US" sz="3600" spc="-1" strike="noStrike">
              <a:solidFill>
                <a:srgbClr val="ffdb2d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4284720" y="763560"/>
          <a:ext cx="4422600" cy="2120760"/>
        </p:xfrm>
        <a:graphic>
          <a:graphicData uri="http://schemas.openxmlformats.org/drawingml/2006/table">
            <a:tbl>
              <a:tblPr/>
              <a:tblGrid>
                <a:gridCol w="1942920"/>
                <a:gridCol w="1103400"/>
                <a:gridCol w="1376280"/>
              </a:tblGrid>
              <a:tr h="579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500"/>
                      </a:b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PFS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db2d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BEV + CT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(n = 112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db2d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PLA + CT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(n = 47)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db2d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Events, n (%)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db2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4 (84)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db2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2 (89)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db2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Median, months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.0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2.7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HR</a:t>
                      </a:r>
                      <a:r>
                        <a:rPr b="1" lang="en-US" sz="15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a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(95% CI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Log-rank test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db2d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marL="295200" indent="-295200" algn="ctr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.494 (0.33–0.74)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95200" indent="-295200" algn="ctr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p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= 0.0006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db2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7" name="Text Box 78"/>
          <p:cNvSpPr/>
          <p:nvPr/>
        </p:nvSpPr>
        <p:spPr>
          <a:xfrm>
            <a:off x="1002240" y="1598760"/>
            <a:ext cx="462600" cy="365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1.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.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.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.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.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80"/>
          <p:cNvSpPr/>
          <p:nvPr/>
        </p:nvSpPr>
        <p:spPr>
          <a:xfrm>
            <a:off x="1287360" y="5130720"/>
            <a:ext cx="7677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4c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504800"/>
                <a:tab algn="ctr" pos="2946240"/>
                <a:tab algn="ctr" pos="4387680"/>
                <a:tab algn="ctr" pos="5835600"/>
                <a:tab algn="ctr" pos="727092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5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10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15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20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2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79"/>
          <p:cNvSpPr/>
          <p:nvPr/>
        </p:nvSpPr>
        <p:spPr>
          <a:xfrm>
            <a:off x="4213800" y="5421240"/>
            <a:ext cx="1573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4c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Time (month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Freeform 99"/>
          <p:cNvSpPr/>
          <p:nvPr/>
        </p:nvSpPr>
        <p:spPr>
          <a:xfrm>
            <a:off x="1441440" y="3392640"/>
            <a:ext cx="787320" cy="1628640"/>
          </a:xfrm>
          <a:prstGeom prst="pie">
            <a:avLst/>
          </a:prstGeom>
          <a:noFill/>
          <a:ln w="190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Freeform 100"/>
          <p:cNvSpPr/>
          <p:nvPr/>
        </p:nvSpPr>
        <p:spPr>
          <a:xfrm>
            <a:off x="1441440" y="3392640"/>
            <a:ext cx="1738440" cy="1628640"/>
          </a:xfrm>
          <a:prstGeom prst="pie">
            <a:avLst/>
          </a:prstGeom>
          <a:noFill/>
          <a:ln w="190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01"/>
          <p:cNvSpPr/>
          <p:nvPr/>
        </p:nvSpPr>
        <p:spPr>
          <a:xfrm>
            <a:off x="1817280" y="4719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b0f0"/>
                </a:solidFill>
                <a:latin typeface="Arial"/>
                <a:ea typeface="MS PGothic"/>
              </a:rPr>
              <a:t>2.7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 Box 102"/>
          <p:cNvSpPr/>
          <p:nvPr/>
        </p:nvSpPr>
        <p:spPr>
          <a:xfrm>
            <a:off x="3204720" y="47196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ffdb2d"/>
                </a:solidFill>
                <a:latin typeface="Arial"/>
                <a:ea typeface="MS PGothic"/>
              </a:rPr>
              <a:t>6.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Box 4"/>
          <p:cNvSpPr/>
          <p:nvPr/>
        </p:nvSpPr>
        <p:spPr>
          <a:xfrm>
            <a:off x="4505400" y="319896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a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Stratified analysis (CT regimen, interval from LR/MBC diagnosis to 1st progression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79"/>
          <p:cNvSpPr/>
          <p:nvPr/>
        </p:nvSpPr>
        <p:spPr>
          <a:xfrm>
            <a:off x="541440" y="981000"/>
            <a:ext cx="18558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Estimated probabilit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31"/>
          <p:cNvSpPr/>
          <p:nvPr/>
        </p:nvSpPr>
        <p:spPr>
          <a:xfrm>
            <a:off x="304920" y="6477120"/>
            <a:ext cx="685800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Brufsky A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2011;Abstract 1010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8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7" name="Object 46"/>
          <p:cNvGraphicFramePr/>
          <p:nvPr/>
        </p:nvGraphicFramePr>
        <p:xfrm>
          <a:off x="1335240" y="1820880"/>
          <a:ext cx="733896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5240" y="1820880"/>
                    <a:ext cx="733896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Text Box 80"/>
          <p:cNvSpPr/>
          <p:nvPr/>
        </p:nvSpPr>
        <p:spPr>
          <a:xfrm>
            <a:off x="219240" y="5707080"/>
            <a:ext cx="8816760" cy="67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4c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ctr" pos="1130400"/>
                <a:tab algn="ctr" pos="2292480"/>
                <a:tab algn="ctr" pos="3460680"/>
                <a:tab algn="ctr" pos="4622760"/>
                <a:tab algn="ctr" pos="5784840"/>
                <a:tab algn="ctr" pos="6946920"/>
                <a:tab algn="ctr" pos="8109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MS PGothic"/>
              </a:rPr>
              <a:t>No. at risk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ctr" pos="1130400"/>
                <a:tab algn="ctr" pos="2292480"/>
                <a:tab algn="ctr" pos="3460680"/>
                <a:tab algn="ctr" pos="4622760"/>
                <a:tab algn="ctr" pos="5784840"/>
                <a:tab algn="ctr" pos="6946920"/>
                <a:tab algn="ctr" pos="8109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BEV + CT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	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112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	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92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	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73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	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27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	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14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	</a:t>
            </a:r>
            <a:r>
              <a:rPr b="1" lang="da-DK" sz="1200" spc="-1" strike="noStrike">
                <a:solidFill>
                  <a:srgbClr val="ffdb2d"/>
                </a:solidFill>
                <a:latin typeface="Arial"/>
                <a:ea typeface="MS PGothic"/>
              </a:rPr>
              <a:t>5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ctr" pos="1130400"/>
                <a:tab algn="ctr" pos="2292480"/>
                <a:tab algn="ctr" pos="3460680"/>
                <a:tab algn="ctr" pos="4622760"/>
                <a:tab algn="ctr" pos="5784840"/>
                <a:tab algn="ctr" pos="6946920"/>
                <a:tab algn="ctr" pos="8109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Placebo + CT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	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47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	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38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	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25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	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14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	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4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	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2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	</a:t>
            </a:r>
            <a:r>
              <a:rPr b="1" lang="en-GB" sz="1200" spc="-1" strike="noStrike">
                <a:solidFill>
                  <a:srgbClr val="00b0f0"/>
                </a:solidFill>
                <a:latin typeface="Arial"/>
                <a:ea typeface="MS PGothic"/>
              </a:rPr>
              <a:t>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66400" y="-360"/>
            <a:ext cx="84200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db2d"/>
                </a:solidFill>
                <a:latin typeface="Arial"/>
                <a:ea typeface="Arial"/>
              </a:rPr>
              <a:t>TNBC Population: Interim OS</a:t>
            </a:r>
            <a:endParaRPr b="1" lang="en-US" sz="3600" spc="-1" strike="noStrike">
              <a:solidFill>
                <a:srgbClr val="ffdb2d"/>
              </a:solidFill>
              <a:latin typeface="Arial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4538520" y="685800"/>
          <a:ext cx="4422960" cy="2286000"/>
        </p:xfrm>
        <a:graphic>
          <a:graphicData uri="http://schemas.openxmlformats.org/drawingml/2006/table">
            <a:tbl>
              <a:tblPr/>
              <a:tblGrid>
                <a:gridCol w="1943280"/>
                <a:gridCol w="1103400"/>
                <a:gridCol w="1376280"/>
              </a:tblGrid>
              <a:tr h="579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500"/>
                      </a:b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OS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db2d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BEV + CT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(n = 112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db2d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PLA + CT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(n = 47)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db2d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Events, n (%)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db2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2 (46)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db2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29 (62)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db2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Median, months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7.9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.6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4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HR</a:t>
                      </a:r>
                      <a:r>
                        <a:rPr b="1" lang="en-US" sz="15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a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(95% CI)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Log-rank test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db2d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marL="295200" indent="-295200" algn="ctr">
                        <a:lnSpc>
                          <a:spcPct val="115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.624 (0.39–1.007)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95200" indent="-29520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p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 = 0.0534 </a:t>
                      </a: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db2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2" name="Text Box 78"/>
          <p:cNvSpPr/>
          <p:nvPr/>
        </p:nvSpPr>
        <p:spPr>
          <a:xfrm>
            <a:off x="995760" y="1668600"/>
            <a:ext cx="462600" cy="365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1.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.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.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.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.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331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541440" y="1055520"/>
            <a:ext cx="18558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Estimated probabilit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287360" y="5200560"/>
            <a:ext cx="7677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4c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225440"/>
                <a:tab algn="ctr" pos="2394000"/>
                <a:tab algn="ctr" pos="3556080"/>
                <a:tab algn="ctr" pos="4711680"/>
                <a:tab algn="ctr" pos="5880240"/>
                <a:tab algn="ctr" pos="704232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5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10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15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20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25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3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Freeform 23"/>
          <p:cNvSpPr/>
          <p:nvPr/>
        </p:nvSpPr>
        <p:spPr>
          <a:xfrm>
            <a:off x="1441440" y="3471840"/>
            <a:ext cx="2936880" cy="1628640"/>
          </a:xfrm>
          <a:prstGeom prst="pie">
            <a:avLst/>
          </a:prstGeom>
          <a:noFill/>
          <a:ln w="190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Freeform 24"/>
          <p:cNvSpPr/>
          <p:nvPr/>
        </p:nvSpPr>
        <p:spPr>
          <a:xfrm>
            <a:off x="1441440" y="3471840"/>
            <a:ext cx="4173480" cy="1628640"/>
          </a:xfrm>
          <a:prstGeom prst="pie">
            <a:avLst/>
          </a:prstGeom>
          <a:noFill/>
          <a:ln w="190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25"/>
          <p:cNvSpPr/>
          <p:nvPr/>
        </p:nvSpPr>
        <p:spPr>
          <a:xfrm>
            <a:off x="3831840" y="4789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b0f0"/>
                </a:solidFill>
                <a:latin typeface="Arial"/>
                <a:ea typeface="MS PGothic"/>
              </a:rPr>
              <a:t>12.6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6"/>
          <p:cNvSpPr/>
          <p:nvPr/>
        </p:nvSpPr>
        <p:spPr>
          <a:xfrm>
            <a:off x="5652360" y="4789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ffdb2d"/>
                </a:solidFill>
                <a:latin typeface="Arial"/>
                <a:ea typeface="MS PGothic"/>
              </a:rPr>
              <a:t>17.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Box 4"/>
          <p:cNvSpPr/>
          <p:nvPr/>
        </p:nvSpPr>
        <p:spPr>
          <a:xfrm>
            <a:off x="4757760" y="344484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a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MS PGothic"/>
              </a:rPr>
              <a:t>Stratified analysis (CT regimen, interval from LR/MBC diagnosis to 1st progression)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79"/>
          <p:cNvSpPr/>
          <p:nvPr/>
        </p:nvSpPr>
        <p:spPr>
          <a:xfrm>
            <a:off x="4213800" y="5495760"/>
            <a:ext cx="1573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4c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MS PGothic"/>
              </a:rPr>
              <a:t>Time (month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Rectangle 31"/>
          <p:cNvSpPr/>
          <p:nvPr/>
        </p:nvSpPr>
        <p:spPr>
          <a:xfrm>
            <a:off x="8610480" y="6200640"/>
            <a:ext cx="304920" cy="457200"/>
          </a:xfrm>
          <a:prstGeom prst="rect">
            <a:avLst/>
          </a:prstGeom>
          <a:solidFill>
            <a:srgbClr val="0f4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32"/>
          <p:cNvSpPr/>
          <p:nvPr/>
        </p:nvSpPr>
        <p:spPr>
          <a:xfrm>
            <a:off x="304920" y="6477120"/>
            <a:ext cx="685800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Brufsky A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2011;Abstract 1010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32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e15c"/>
                </a:solidFill>
                <a:latin typeface="Arial"/>
              </a:rPr>
              <a:t>Meta-Analysis of First-Line Bevacizumab Plus Chemotherapy in Triple-Negative Breast Cancer: Efficacy</a:t>
            </a:r>
            <a:endParaRPr b="1" lang="en-US" sz="2400" spc="-1" strike="noStrike">
              <a:solidFill>
                <a:srgbClr val="ffe15c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0492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meta-analysis represents the largest reported population of patients randomized to treatment for metastatic TNB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ddition of bevacizumab significantly improved PFS, but not 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0880" indent="-2008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umor-related symptoms improve with ORR and improved PF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971800" y="655272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r">
              <a:lnSpc>
                <a:spcPct val="6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’Shaughnessy et al. SABCS 2010;Abstract P6-12-03</a:t>
            </a: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304920" y="1905120"/>
          <a:ext cx="8534160" cy="2377800"/>
        </p:xfrm>
        <a:graphic>
          <a:graphicData uri="http://schemas.openxmlformats.org/drawingml/2006/table">
            <a:tbl>
              <a:tblPr/>
              <a:tblGrid>
                <a:gridCol w="2057400"/>
                <a:gridCol w="1676160"/>
                <a:gridCol w="1143000"/>
                <a:gridCol w="2438640"/>
                <a:gridCol w="121896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vacizumab + chem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 = 363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o alon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 = 258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R (95% CI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valu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 PFS (mo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49 (0.538-0.783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0.000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R (%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0.000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 OS (mo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9 (0.790-1.164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73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yr OS rat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4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289584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SABP B-40</a:t>
            </a:r>
            <a:endParaRPr b="1" lang="en-US" sz="3000" spc="-1" strike="noStrike">
              <a:solidFill>
                <a:srgbClr val="ffe15c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971800" y="640080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r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ar H et al.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2011, LBA1005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Box 5"/>
          <p:cNvSpPr/>
          <p:nvPr/>
        </p:nvSpPr>
        <p:spPr>
          <a:xfrm>
            <a:off x="986760" y="76212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ssue f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ark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Box 6"/>
          <p:cNvSpPr/>
          <p:nvPr/>
        </p:nvSpPr>
        <p:spPr>
          <a:xfrm>
            <a:off x="6652440" y="76212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ssue fo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ark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Box 7"/>
          <p:cNvSpPr/>
          <p:nvPr/>
        </p:nvSpPr>
        <p:spPr>
          <a:xfrm>
            <a:off x="311040" y="2833560"/>
            <a:ext cx="1284120" cy="1008720"/>
          </a:xfrm>
          <a:prstGeom prst="rect">
            <a:avLst/>
          </a:prstGeom>
          <a:solidFill>
            <a:srgbClr val="260a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bl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s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Box 8"/>
          <p:cNvSpPr/>
          <p:nvPr/>
        </p:nvSpPr>
        <p:spPr>
          <a:xfrm>
            <a:off x="7233840" y="2003400"/>
            <a:ext cx="418320" cy="2654280"/>
          </a:xfrm>
          <a:prstGeom prst="rect">
            <a:avLst/>
          </a:prstGeom>
          <a:solidFill>
            <a:srgbClr val="260a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Box 9"/>
          <p:cNvSpPr/>
          <p:nvPr/>
        </p:nvSpPr>
        <p:spPr>
          <a:xfrm>
            <a:off x="8259120" y="3111480"/>
            <a:ext cx="348480" cy="459720"/>
          </a:xfrm>
          <a:prstGeom prst="rect">
            <a:avLst/>
          </a:prstGeom>
          <a:solidFill>
            <a:srgbClr val="260a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4" name="Group 71"/>
          <p:cNvGrpSpPr/>
          <p:nvPr/>
        </p:nvGrpSpPr>
        <p:grpSpPr>
          <a:xfrm>
            <a:off x="3133800" y="2156400"/>
            <a:ext cx="1460520" cy="305280"/>
            <a:chOff x="3133800" y="2156400"/>
            <a:chExt cx="1460520" cy="305280"/>
          </a:xfrm>
        </p:grpSpPr>
        <p:sp>
          <p:nvSpPr>
            <p:cNvPr id="825" name="TextBox 10"/>
            <p:cNvSpPr/>
            <p:nvPr/>
          </p:nvSpPr>
          <p:spPr>
            <a:xfrm>
              <a:off x="3133800" y="215640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Box 11"/>
            <p:cNvSpPr/>
            <p:nvPr/>
          </p:nvSpPr>
          <p:spPr>
            <a:xfrm>
              <a:off x="3516840" y="215640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TextBox 12"/>
            <p:cNvSpPr/>
            <p:nvPr/>
          </p:nvSpPr>
          <p:spPr>
            <a:xfrm>
              <a:off x="3900240" y="215640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TextBox 13"/>
            <p:cNvSpPr/>
            <p:nvPr/>
          </p:nvSpPr>
          <p:spPr>
            <a:xfrm>
              <a:off x="4283280" y="215640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17"/>
          <p:cNvGrpSpPr/>
          <p:nvPr/>
        </p:nvGrpSpPr>
        <p:grpSpPr>
          <a:xfrm>
            <a:off x="1717560" y="2930400"/>
            <a:ext cx="822600" cy="822600"/>
            <a:chOff x="1717560" y="2930400"/>
            <a:chExt cx="822600" cy="822600"/>
          </a:xfrm>
        </p:grpSpPr>
        <p:sp>
          <p:nvSpPr>
            <p:cNvPr id="830" name="Oval 14"/>
            <p:cNvSpPr/>
            <p:nvPr/>
          </p:nvSpPr>
          <p:spPr>
            <a:xfrm>
              <a:off x="1717560" y="2930400"/>
              <a:ext cx="822600" cy="822600"/>
            </a:xfrm>
            <a:prstGeom prst="ellipse">
              <a:avLst/>
            </a:prstGeom>
            <a:solidFill>
              <a:srgbClr val="260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Box 16"/>
            <p:cNvSpPr/>
            <p:nvPr/>
          </p:nvSpPr>
          <p:spPr>
            <a:xfrm>
              <a:off x="1891080" y="3049200"/>
              <a:ext cx="474840" cy="581400"/>
            </a:xfrm>
            <a:prstGeom prst="rect">
              <a:avLst/>
            </a:prstGeom>
            <a:solidFill>
              <a:srgbClr val="260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2" name="Group 65"/>
          <p:cNvGrpSpPr/>
          <p:nvPr/>
        </p:nvGrpSpPr>
        <p:grpSpPr>
          <a:xfrm>
            <a:off x="3133800" y="3045960"/>
            <a:ext cx="1460520" cy="638640"/>
            <a:chOff x="3133800" y="3045960"/>
            <a:chExt cx="1460520" cy="638640"/>
          </a:xfrm>
        </p:grpSpPr>
        <p:sp>
          <p:nvSpPr>
            <p:cNvPr id="833" name="TextBox 18"/>
            <p:cNvSpPr/>
            <p:nvPr/>
          </p:nvSpPr>
          <p:spPr>
            <a:xfrm>
              <a:off x="3133800" y="304596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TextBox 19"/>
            <p:cNvSpPr/>
            <p:nvPr/>
          </p:nvSpPr>
          <p:spPr>
            <a:xfrm>
              <a:off x="3516840" y="304596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TextBox 20"/>
            <p:cNvSpPr/>
            <p:nvPr/>
          </p:nvSpPr>
          <p:spPr>
            <a:xfrm>
              <a:off x="3900240" y="304596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TextBox 21"/>
            <p:cNvSpPr/>
            <p:nvPr/>
          </p:nvSpPr>
          <p:spPr>
            <a:xfrm>
              <a:off x="4283280" y="304596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TextBox 22"/>
            <p:cNvSpPr/>
            <p:nvPr/>
          </p:nvSpPr>
          <p:spPr>
            <a:xfrm>
              <a:off x="3133800" y="3379320"/>
              <a:ext cx="311040" cy="305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TextBox 23"/>
            <p:cNvSpPr/>
            <p:nvPr/>
          </p:nvSpPr>
          <p:spPr>
            <a:xfrm>
              <a:off x="3516840" y="3379320"/>
              <a:ext cx="311040" cy="305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TextBox 24"/>
            <p:cNvSpPr/>
            <p:nvPr/>
          </p:nvSpPr>
          <p:spPr>
            <a:xfrm>
              <a:off x="3900240" y="3379320"/>
              <a:ext cx="311040" cy="305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TextBox 25"/>
            <p:cNvSpPr/>
            <p:nvPr/>
          </p:nvSpPr>
          <p:spPr>
            <a:xfrm>
              <a:off x="4283280" y="3379320"/>
              <a:ext cx="311040" cy="305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1" name="Group 66"/>
          <p:cNvGrpSpPr/>
          <p:nvPr/>
        </p:nvGrpSpPr>
        <p:grpSpPr>
          <a:xfrm>
            <a:off x="3133800" y="4030200"/>
            <a:ext cx="1460520" cy="638640"/>
            <a:chOff x="3133800" y="4030200"/>
            <a:chExt cx="1460520" cy="638640"/>
          </a:xfrm>
        </p:grpSpPr>
        <p:sp>
          <p:nvSpPr>
            <p:cNvPr id="842" name="TextBox 26"/>
            <p:cNvSpPr/>
            <p:nvPr/>
          </p:nvSpPr>
          <p:spPr>
            <a:xfrm>
              <a:off x="3133800" y="403020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TextBox 27"/>
            <p:cNvSpPr/>
            <p:nvPr/>
          </p:nvSpPr>
          <p:spPr>
            <a:xfrm>
              <a:off x="3516840" y="403020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TextBox 28"/>
            <p:cNvSpPr/>
            <p:nvPr/>
          </p:nvSpPr>
          <p:spPr>
            <a:xfrm>
              <a:off x="3900240" y="403020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TextBox 29"/>
            <p:cNvSpPr/>
            <p:nvPr/>
          </p:nvSpPr>
          <p:spPr>
            <a:xfrm>
              <a:off x="4283280" y="403020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TextBox 30"/>
            <p:cNvSpPr/>
            <p:nvPr/>
          </p:nvSpPr>
          <p:spPr>
            <a:xfrm>
              <a:off x="3133800" y="4363560"/>
              <a:ext cx="311040" cy="305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TextBox 31"/>
            <p:cNvSpPr/>
            <p:nvPr/>
          </p:nvSpPr>
          <p:spPr>
            <a:xfrm>
              <a:off x="3516840" y="4363560"/>
              <a:ext cx="311040" cy="305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TextBox 32"/>
            <p:cNvSpPr/>
            <p:nvPr/>
          </p:nvSpPr>
          <p:spPr>
            <a:xfrm>
              <a:off x="3900240" y="4363560"/>
              <a:ext cx="311040" cy="305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TextBox 33"/>
            <p:cNvSpPr/>
            <p:nvPr/>
          </p:nvSpPr>
          <p:spPr>
            <a:xfrm>
              <a:off x="4283280" y="4363560"/>
              <a:ext cx="311040" cy="305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Group 80"/>
          <p:cNvGrpSpPr/>
          <p:nvPr/>
        </p:nvGrpSpPr>
        <p:grpSpPr>
          <a:xfrm>
            <a:off x="3133800" y="4976640"/>
            <a:ext cx="1460520" cy="305280"/>
            <a:chOff x="3133800" y="4976640"/>
            <a:chExt cx="1460520" cy="305280"/>
          </a:xfrm>
        </p:grpSpPr>
        <p:sp>
          <p:nvSpPr>
            <p:cNvPr id="851" name="TextBox 34"/>
            <p:cNvSpPr/>
            <p:nvPr/>
          </p:nvSpPr>
          <p:spPr>
            <a:xfrm>
              <a:off x="3133800" y="4976640"/>
              <a:ext cx="311040" cy="30528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TextBox 35"/>
            <p:cNvSpPr/>
            <p:nvPr/>
          </p:nvSpPr>
          <p:spPr>
            <a:xfrm>
              <a:off x="3516840" y="4976640"/>
              <a:ext cx="311040" cy="30528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TextBox 36"/>
            <p:cNvSpPr/>
            <p:nvPr/>
          </p:nvSpPr>
          <p:spPr>
            <a:xfrm>
              <a:off x="3900240" y="4976640"/>
              <a:ext cx="311040" cy="30528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TextBox 37"/>
            <p:cNvSpPr/>
            <p:nvPr/>
          </p:nvSpPr>
          <p:spPr>
            <a:xfrm>
              <a:off x="4283280" y="4976640"/>
              <a:ext cx="311040" cy="30528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5" name="Group 46"/>
          <p:cNvGrpSpPr/>
          <p:nvPr/>
        </p:nvGrpSpPr>
        <p:grpSpPr>
          <a:xfrm>
            <a:off x="5186520" y="2004480"/>
            <a:ext cx="1460520" cy="608760"/>
            <a:chOff x="5186520" y="2004480"/>
            <a:chExt cx="1460520" cy="608760"/>
          </a:xfrm>
        </p:grpSpPr>
        <p:sp>
          <p:nvSpPr>
            <p:cNvPr id="856" name="TextBox 38"/>
            <p:cNvSpPr/>
            <p:nvPr/>
          </p:nvSpPr>
          <p:spPr>
            <a:xfrm>
              <a:off x="5186520" y="200448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TextBox 39"/>
            <p:cNvSpPr/>
            <p:nvPr/>
          </p:nvSpPr>
          <p:spPr>
            <a:xfrm>
              <a:off x="5569560" y="200448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TextBox 40"/>
            <p:cNvSpPr/>
            <p:nvPr/>
          </p:nvSpPr>
          <p:spPr>
            <a:xfrm>
              <a:off x="5952960" y="200448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TextBox 41"/>
            <p:cNvSpPr/>
            <p:nvPr/>
          </p:nvSpPr>
          <p:spPr>
            <a:xfrm>
              <a:off x="6336000" y="200448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TextBox 42"/>
            <p:cNvSpPr/>
            <p:nvPr/>
          </p:nvSpPr>
          <p:spPr>
            <a:xfrm>
              <a:off x="5186520" y="230796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TextBox 43"/>
            <p:cNvSpPr/>
            <p:nvPr/>
          </p:nvSpPr>
          <p:spPr>
            <a:xfrm>
              <a:off x="5569560" y="230796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TextBox 44"/>
            <p:cNvSpPr/>
            <p:nvPr/>
          </p:nvSpPr>
          <p:spPr>
            <a:xfrm>
              <a:off x="5952960" y="230796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Box 45"/>
            <p:cNvSpPr/>
            <p:nvPr/>
          </p:nvSpPr>
          <p:spPr>
            <a:xfrm>
              <a:off x="6336000" y="230796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4" name="Group 47"/>
          <p:cNvGrpSpPr/>
          <p:nvPr/>
        </p:nvGrpSpPr>
        <p:grpSpPr>
          <a:xfrm>
            <a:off x="5186520" y="3038040"/>
            <a:ext cx="1460520" cy="608760"/>
            <a:chOff x="5186520" y="3038040"/>
            <a:chExt cx="1460520" cy="608760"/>
          </a:xfrm>
        </p:grpSpPr>
        <p:sp>
          <p:nvSpPr>
            <p:cNvPr id="865" name="TextBox 48"/>
            <p:cNvSpPr/>
            <p:nvPr/>
          </p:nvSpPr>
          <p:spPr>
            <a:xfrm>
              <a:off x="5186520" y="303804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Box 49"/>
            <p:cNvSpPr/>
            <p:nvPr/>
          </p:nvSpPr>
          <p:spPr>
            <a:xfrm>
              <a:off x="5569560" y="303804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Box 50"/>
            <p:cNvSpPr/>
            <p:nvPr/>
          </p:nvSpPr>
          <p:spPr>
            <a:xfrm>
              <a:off x="5952960" y="303804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TextBox 51"/>
            <p:cNvSpPr/>
            <p:nvPr/>
          </p:nvSpPr>
          <p:spPr>
            <a:xfrm>
              <a:off x="6336000" y="303804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TextBox 52"/>
            <p:cNvSpPr/>
            <p:nvPr/>
          </p:nvSpPr>
          <p:spPr>
            <a:xfrm>
              <a:off x="5186520" y="334152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TextBox 53"/>
            <p:cNvSpPr/>
            <p:nvPr/>
          </p:nvSpPr>
          <p:spPr>
            <a:xfrm>
              <a:off x="5569560" y="334152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TextBox 54"/>
            <p:cNvSpPr/>
            <p:nvPr/>
          </p:nvSpPr>
          <p:spPr>
            <a:xfrm>
              <a:off x="5952960" y="334152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TextBox 55"/>
            <p:cNvSpPr/>
            <p:nvPr/>
          </p:nvSpPr>
          <p:spPr>
            <a:xfrm>
              <a:off x="6336000" y="334152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3" name="Group 56"/>
          <p:cNvGrpSpPr/>
          <p:nvPr/>
        </p:nvGrpSpPr>
        <p:grpSpPr>
          <a:xfrm>
            <a:off x="5186520" y="4020840"/>
            <a:ext cx="1460520" cy="609840"/>
            <a:chOff x="5186520" y="4020840"/>
            <a:chExt cx="1460520" cy="609840"/>
          </a:xfrm>
        </p:grpSpPr>
        <p:sp>
          <p:nvSpPr>
            <p:cNvPr id="874" name="TextBox 57"/>
            <p:cNvSpPr/>
            <p:nvPr/>
          </p:nvSpPr>
          <p:spPr>
            <a:xfrm>
              <a:off x="5186520" y="402084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Box 58"/>
            <p:cNvSpPr/>
            <p:nvPr/>
          </p:nvSpPr>
          <p:spPr>
            <a:xfrm>
              <a:off x="5569560" y="402084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TextBox 59"/>
            <p:cNvSpPr/>
            <p:nvPr/>
          </p:nvSpPr>
          <p:spPr>
            <a:xfrm>
              <a:off x="5952960" y="402084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TextBox 60"/>
            <p:cNvSpPr/>
            <p:nvPr/>
          </p:nvSpPr>
          <p:spPr>
            <a:xfrm>
              <a:off x="6336000" y="4020840"/>
              <a:ext cx="311040" cy="305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TextBox 61"/>
            <p:cNvSpPr/>
            <p:nvPr/>
          </p:nvSpPr>
          <p:spPr>
            <a:xfrm>
              <a:off x="5186520" y="432540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TextBox 62"/>
            <p:cNvSpPr/>
            <p:nvPr/>
          </p:nvSpPr>
          <p:spPr>
            <a:xfrm>
              <a:off x="5569560" y="432540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TextBox 63"/>
            <p:cNvSpPr/>
            <p:nvPr/>
          </p:nvSpPr>
          <p:spPr>
            <a:xfrm>
              <a:off x="5952960" y="432540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TextBox 64"/>
            <p:cNvSpPr/>
            <p:nvPr/>
          </p:nvSpPr>
          <p:spPr>
            <a:xfrm>
              <a:off x="6336000" y="4325400"/>
              <a:ext cx="311040" cy="30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2" name="Group 69"/>
          <p:cNvGrpSpPr/>
          <p:nvPr/>
        </p:nvGrpSpPr>
        <p:grpSpPr>
          <a:xfrm>
            <a:off x="5186520" y="4976640"/>
            <a:ext cx="693720" cy="305280"/>
            <a:chOff x="5186520" y="4976640"/>
            <a:chExt cx="693720" cy="305280"/>
          </a:xfrm>
        </p:grpSpPr>
        <p:sp>
          <p:nvSpPr>
            <p:cNvPr id="883" name="TextBox 67"/>
            <p:cNvSpPr/>
            <p:nvPr/>
          </p:nvSpPr>
          <p:spPr>
            <a:xfrm>
              <a:off x="5186520" y="4976640"/>
              <a:ext cx="310680" cy="30528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TextBox 68"/>
            <p:cNvSpPr/>
            <p:nvPr/>
          </p:nvSpPr>
          <p:spPr>
            <a:xfrm>
              <a:off x="5569560" y="4976640"/>
              <a:ext cx="310680" cy="305280"/>
            </a:xfrm>
            <a:prstGeom prst="rect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5" name="TextBox 70"/>
          <p:cNvSpPr/>
          <p:nvPr/>
        </p:nvSpPr>
        <p:spPr>
          <a:xfrm>
            <a:off x="2517120" y="4898880"/>
            <a:ext cx="348480" cy="459720"/>
          </a:xfrm>
          <a:prstGeom prst="rect">
            <a:avLst/>
          </a:prstGeom>
          <a:solidFill>
            <a:srgbClr val="260a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Straight Arrow Connector 73"/>
          <p:cNvCxnSpPr/>
          <p:nvPr/>
        </p:nvCxnSpPr>
        <p:spPr>
          <a:xfrm flipH="1">
            <a:off x="1775520" y="1469520"/>
            <a:ext cx="2520" cy="43092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87" name="Straight Arrow Connector 74"/>
          <p:cNvCxnSpPr/>
          <p:nvPr/>
        </p:nvCxnSpPr>
        <p:spPr>
          <a:xfrm>
            <a:off x="2654280" y="3341160"/>
            <a:ext cx="365760" cy="252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88" name="Straight Arrow Connector 77"/>
          <p:cNvCxnSpPr/>
          <p:nvPr/>
        </p:nvCxnSpPr>
        <p:spPr>
          <a:xfrm>
            <a:off x="4707000" y="3341160"/>
            <a:ext cx="367200" cy="252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89" name="Straight Arrow Connector 78"/>
          <p:cNvCxnSpPr/>
          <p:nvPr/>
        </p:nvCxnSpPr>
        <p:spPr>
          <a:xfrm>
            <a:off x="6761160" y="3341160"/>
            <a:ext cx="365760" cy="252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90" name="Straight Arrow Connector 79"/>
          <p:cNvCxnSpPr/>
          <p:nvPr/>
        </p:nvCxnSpPr>
        <p:spPr>
          <a:xfrm>
            <a:off x="7776720" y="3341160"/>
            <a:ext cx="367560" cy="252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91" name="Straight Arrow Connector 81"/>
          <p:cNvCxnSpPr/>
          <p:nvPr/>
        </p:nvCxnSpPr>
        <p:spPr>
          <a:xfrm>
            <a:off x="4707000" y="2307960"/>
            <a:ext cx="367200" cy="108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92" name="Straight Arrow Connector 82"/>
          <p:cNvCxnSpPr/>
          <p:nvPr/>
        </p:nvCxnSpPr>
        <p:spPr>
          <a:xfrm>
            <a:off x="4707000" y="4365360"/>
            <a:ext cx="367200" cy="108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93" name="Straight Arrow Connector 83"/>
          <p:cNvCxnSpPr/>
          <p:nvPr/>
        </p:nvCxnSpPr>
        <p:spPr>
          <a:xfrm>
            <a:off x="4707000" y="3331800"/>
            <a:ext cx="367200" cy="108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94" name="Straight Arrow Connector 84"/>
          <p:cNvCxnSpPr/>
          <p:nvPr/>
        </p:nvCxnSpPr>
        <p:spPr>
          <a:xfrm>
            <a:off x="6781320" y="2307960"/>
            <a:ext cx="366120" cy="108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95" name="Straight Arrow Connector 85"/>
          <p:cNvCxnSpPr/>
          <p:nvPr/>
        </p:nvCxnSpPr>
        <p:spPr>
          <a:xfrm>
            <a:off x="6781320" y="4365360"/>
            <a:ext cx="366120" cy="108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96" name="Straight Arrow Connector 86"/>
          <p:cNvCxnSpPr/>
          <p:nvPr/>
        </p:nvCxnSpPr>
        <p:spPr>
          <a:xfrm flipH="1">
            <a:off x="7441920" y="1469520"/>
            <a:ext cx="2160" cy="43092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97" name="Straight Arrow Connector 87"/>
          <p:cNvCxnSpPr/>
          <p:nvPr/>
        </p:nvCxnSpPr>
        <p:spPr>
          <a:xfrm flipV="1">
            <a:off x="2361960" y="2312640"/>
            <a:ext cx="657720" cy="53424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98" name="Straight Arrow Connector 88"/>
          <p:cNvCxnSpPr/>
          <p:nvPr/>
        </p:nvCxnSpPr>
        <p:spPr>
          <a:xfrm>
            <a:off x="2285640" y="3836880"/>
            <a:ext cx="734040" cy="534240"/>
          </a:xfrm>
          <a:prstGeom prst="straightConnector1">
            <a:avLst/>
          </a:prstGeom>
          <a:ln w="82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899" name="TextBox 91"/>
          <p:cNvSpPr/>
          <p:nvPr/>
        </p:nvSpPr>
        <p:spPr>
          <a:xfrm>
            <a:off x="979560" y="5504040"/>
            <a:ext cx="67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ndpoint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CR, cCR, DFS, gene expression patter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Box 93"/>
          <p:cNvSpPr/>
          <p:nvPr/>
        </p:nvSpPr>
        <p:spPr>
          <a:xfrm>
            <a:off x="271800" y="61722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SAB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Box 94"/>
          <p:cNvSpPr/>
          <p:nvPr/>
        </p:nvSpPr>
        <p:spPr>
          <a:xfrm>
            <a:off x="7848720" y="3941280"/>
            <a:ext cx="311040" cy="30528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Box 95"/>
          <p:cNvSpPr/>
          <p:nvPr/>
        </p:nvSpPr>
        <p:spPr>
          <a:xfrm>
            <a:off x="8226000" y="38329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e15c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971800" y="640080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r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ar H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11, LBA1005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Picture 3" descr=""/>
          <p:cNvPicPr/>
          <p:nvPr/>
        </p:nvPicPr>
        <p:blipFill>
          <a:blip r:embed="rId2"/>
          <a:stretch/>
        </p:blipFill>
        <p:spPr>
          <a:xfrm>
            <a:off x="152280" y="46080"/>
            <a:ext cx="8991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4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e15c"/>
                </a:solidFill>
                <a:latin typeface="Arial"/>
              </a:rPr>
              <a:t>Phase III EMBRACE Trial: Eribulin Mesylate versus Treatment of Physicians’ Choice for Heavily Pretreated Advanced Breast Cancer</a:t>
            </a:r>
            <a:endParaRPr b="1" lang="en-US" sz="2400" spc="-1" strike="noStrike">
              <a:solidFill>
                <a:srgbClr val="ffe15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971800" y="655272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r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rtes J et al. 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Lancet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2011; 377:914-23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Box 12"/>
          <p:cNvSpPr/>
          <p:nvPr/>
        </p:nvSpPr>
        <p:spPr>
          <a:xfrm>
            <a:off x="4267080" y="2184480"/>
            <a:ext cx="3505320" cy="6426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bulin mesylat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4 m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days 1, 8 q 3 wee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Box 13"/>
          <p:cNvSpPr/>
          <p:nvPr/>
        </p:nvSpPr>
        <p:spPr>
          <a:xfrm>
            <a:off x="4267080" y="3238560"/>
            <a:ext cx="3505320" cy="14655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reatment of Physician’s Choice (TPC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ny monotherapy approved for treatment of cancer or supportive care on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11" name="Straight Arrow Connector 16"/>
          <p:cNvCxnSpPr>
            <a:stCxn id="912" idx="3"/>
            <a:endCxn id="910" idx="1"/>
          </p:cNvCxnSpPr>
          <p:nvPr/>
        </p:nvCxnSpPr>
        <p:spPr>
          <a:xfrm>
            <a:off x="3354120" y="3281400"/>
            <a:ext cx="913320" cy="691200"/>
          </a:xfrm>
          <a:prstGeom prst="straightConnector1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13" name="Straight Arrow Connector 18"/>
          <p:cNvCxnSpPr>
            <a:stCxn id="912" idx="3"/>
            <a:endCxn id="909" idx="1"/>
          </p:cNvCxnSpPr>
          <p:nvPr/>
        </p:nvCxnSpPr>
        <p:spPr>
          <a:xfrm flipV="1">
            <a:off x="3354120" y="2504880"/>
            <a:ext cx="913320" cy="776880"/>
          </a:xfrm>
          <a:prstGeom prst="straightConnector1">
            <a:avLst/>
          </a:prstGeom>
          <a:ln w="475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14" name="TextBox 11"/>
          <p:cNvSpPr/>
          <p:nvPr/>
        </p:nvSpPr>
        <p:spPr>
          <a:xfrm>
            <a:off x="152280" y="1866960"/>
            <a:ext cx="2667240" cy="277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Eligibility criteria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Locally recurrent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metastatic breast canc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2-5 prior chemotherapies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65040" indent="-182520">
              <a:lnSpc>
                <a:spcPct val="100000"/>
              </a:lnSpc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2 for advanced dise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65040" indent="-182520">
              <a:lnSpc>
                <a:spcPct val="100000"/>
              </a:lnSpc>
              <a:buClr>
                <a:srgbClr val="000000"/>
              </a:buClr>
              <a:buFont typeface="Lucida Grande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ior anthracycline and taxan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gression ≤ 6 month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since last chemotherap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europathy grade ≤ 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Box 47"/>
          <p:cNvSpPr/>
          <p:nvPr/>
        </p:nvSpPr>
        <p:spPr>
          <a:xfrm>
            <a:off x="2859120" y="1998720"/>
            <a:ext cx="495360" cy="2562840"/>
          </a:xfrm>
          <a:prstGeom prst="rect">
            <a:avLst/>
          </a:prstGeom>
          <a:solidFill>
            <a:srgbClr val="73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Box 15"/>
          <p:cNvSpPr/>
          <p:nvPr/>
        </p:nvSpPr>
        <p:spPr>
          <a:xfrm>
            <a:off x="2819520" y="4583160"/>
            <a:ext cx="6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2: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Box 21"/>
          <p:cNvSpPr/>
          <p:nvPr/>
        </p:nvSpPr>
        <p:spPr>
          <a:xfrm>
            <a:off x="7772400" y="22082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N = 50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Box 22"/>
          <p:cNvSpPr/>
          <p:nvPr/>
        </p:nvSpPr>
        <p:spPr>
          <a:xfrm>
            <a:off x="7772400" y="3833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N = 25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Box 23"/>
          <p:cNvSpPr/>
          <p:nvPr/>
        </p:nvSpPr>
        <p:spPr>
          <a:xfrm>
            <a:off x="1066680" y="5246640"/>
            <a:ext cx="50292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imary analysis based on 422 of 762 ev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Updated analysis based on 589 of 762 ev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ribulin arm: 386 events/508 (76%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TPC arm: 203 events/254 (80%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4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e15c"/>
                </a:solidFill>
                <a:latin typeface="Arial"/>
              </a:rPr>
              <a:t>Phase III EMBRACE Trial: Initial Results and Updated Survival Analysis </a:t>
            </a:r>
            <a:endParaRPr b="1" lang="en-US" sz="3000" spc="-1" strike="noStrike">
              <a:solidFill>
                <a:srgbClr val="ffe15c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828440" y="6202440"/>
            <a:ext cx="7162920" cy="35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25640" indent="0" algn="r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elves et al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0; 28 (suppl): 958S (Abstract CRA1004)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5640" indent="0" algn="r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elves et al. SABCS 2010; Abstract P6-14-18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457200" y="1474920"/>
          <a:ext cx="8229600" cy="1984320"/>
        </p:xfrm>
        <a:graphic>
          <a:graphicData uri="http://schemas.openxmlformats.org/drawingml/2006/table">
            <a:tbl>
              <a:tblPr/>
              <a:tblGrid>
                <a:gridCol w="2819520"/>
                <a:gridCol w="1218960"/>
                <a:gridCol w="1219320"/>
                <a:gridCol w="1905120"/>
                <a:gridCol w="10666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 Results fro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CO 201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buli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 = 508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P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 = 254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R (95% CI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valu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viva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 OS (months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1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1 (0.66-0.99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4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 PFS (months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7 (0.71-1.05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22" name="TextBox 5"/>
          <p:cNvSpPr/>
          <p:nvPr/>
        </p:nvSpPr>
        <p:spPr>
          <a:xfrm>
            <a:off x="457200" y="347184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Independent review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533520" y="4038480"/>
          <a:ext cx="8153280" cy="2011320"/>
        </p:xfrm>
        <a:graphic>
          <a:graphicData uri="http://schemas.openxmlformats.org/drawingml/2006/table">
            <a:tbl>
              <a:tblPr/>
              <a:tblGrid>
                <a:gridCol w="2743200"/>
                <a:gridCol w="1218960"/>
                <a:gridCol w="1219320"/>
                <a:gridCol w="1905120"/>
                <a:gridCol w="10666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OS Analys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buli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 = 508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P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 = 254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R (95% CI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valu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 OS (months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.805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0.677-0.958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.0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yr survival rate (%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yr survival rate (%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4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e15c"/>
                </a:solidFill>
                <a:latin typeface="Arial"/>
              </a:rPr>
              <a:t>The Impact of Number of Prior Regimens on Overall Survival in the Phase III EMBRACE Trial</a:t>
            </a:r>
            <a:endParaRPr b="1" lang="en-US" sz="2700" spc="-1" strike="noStrike">
              <a:solidFill>
                <a:srgbClr val="ffe15c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04920" y="4343400"/>
            <a:ext cx="85341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all survival benefit for eribulin was greatest in those who received 3 or fewer prior chemotherapy regim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971800" y="6552720"/>
            <a:ext cx="60199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r">
              <a:lnSpc>
                <a:spcPct val="6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lum et al. SABCS 2010; abstract P6-13-01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380880" y="1828800"/>
          <a:ext cx="8534520" cy="2286000"/>
        </p:xfrm>
        <a:graphic>
          <a:graphicData uri="http://schemas.openxmlformats.org/drawingml/2006/table">
            <a:tbl>
              <a:tblPr/>
              <a:tblGrid>
                <a:gridCol w="1371600"/>
                <a:gridCol w="762120"/>
                <a:gridCol w="1447920"/>
                <a:gridCol w="838080"/>
                <a:gridCol w="1295280"/>
                <a:gridCol w="1660680"/>
                <a:gridCol w="1158840"/>
              </a:tblGrid>
              <a:tr h="368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reatment histor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ribuli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TP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H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95% CI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valu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OS (months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O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b8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≤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 chemo regimen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6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3.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404 days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6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0.7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326 days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0.77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0.606-0.988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.03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&gt; 3 chemo regimen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0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1.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355 days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0.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304 days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0.89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0.600-1.348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.60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3006a"/>
                </a:solidFill>
                <a:latin typeface="Arial Unicode MS"/>
              </a:rPr>
              <a:t>Neoadjuvant Trastuzumab + Lapatinib in HER2+ Breast Cancer</a:t>
            </a:r>
            <a:endParaRPr b="1" lang="en-US" sz="3200" spc="-1" strike="noStrike">
              <a:solidFill>
                <a:srgbClr val="dd137b"/>
              </a:solidFill>
              <a:latin typeface="Arial Unicode MS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uarneri, V (Cher-Lo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T: Pw x 12</a:t>
            </a:r>
            <a:r>
              <a:rPr b="1" lang="de-D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EC x 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+ 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+ L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500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00*)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4w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+ T+L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000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50*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 = 121/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115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recruited/analyz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lmes, F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T: FECx4</a:t>
            </a:r>
            <a:r>
              <a:rPr b="1" lang="de-D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Pw x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+ 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+ L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250)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6w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+ T+L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750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00*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 = 100/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78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recruited/analyz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Gerade Verbindung mit Pfeil 5"/>
          <p:cNvCxnSpPr/>
          <p:nvPr/>
        </p:nvCxnSpPr>
        <p:spPr>
          <a:xfrm flipV="1">
            <a:off x="914400" y="3620520"/>
            <a:ext cx="457920" cy="346680"/>
          </a:xfrm>
          <a:prstGeom prst="straightConnector1">
            <a:avLst/>
          </a:prstGeom>
          <a:ln w="2556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557" name="Gerade Verbindung mit Pfeil 7"/>
          <p:cNvCxnSpPr/>
          <p:nvPr/>
        </p:nvCxnSpPr>
        <p:spPr>
          <a:xfrm>
            <a:off x="914400" y="3984120"/>
            <a:ext cx="457920" cy="1080"/>
          </a:xfrm>
          <a:prstGeom prst="straightConnector1">
            <a:avLst/>
          </a:prstGeom>
          <a:ln w="2556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558" name="Gerade Verbindung mit Pfeil 9"/>
          <p:cNvCxnSpPr/>
          <p:nvPr/>
        </p:nvCxnSpPr>
        <p:spPr>
          <a:xfrm>
            <a:off x="903240" y="3962520"/>
            <a:ext cx="457920" cy="381600"/>
          </a:xfrm>
          <a:prstGeom prst="straightConnector1">
            <a:avLst/>
          </a:prstGeom>
          <a:ln w="2556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559" name="Gerade Verbindung mit Pfeil 15"/>
          <p:cNvCxnSpPr/>
          <p:nvPr/>
        </p:nvCxnSpPr>
        <p:spPr>
          <a:xfrm flipV="1">
            <a:off x="5029200" y="3655440"/>
            <a:ext cx="457920" cy="346680"/>
          </a:xfrm>
          <a:prstGeom prst="straightConnector1">
            <a:avLst/>
          </a:prstGeom>
          <a:ln w="2556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560" name="Gerade Verbindung mit Pfeil 16"/>
          <p:cNvCxnSpPr/>
          <p:nvPr/>
        </p:nvCxnSpPr>
        <p:spPr>
          <a:xfrm>
            <a:off x="5029200" y="4019040"/>
            <a:ext cx="457920" cy="1080"/>
          </a:xfrm>
          <a:prstGeom prst="straightConnector1">
            <a:avLst/>
          </a:prstGeom>
          <a:ln w="2556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561" name="Gerade Verbindung mit Pfeil 17"/>
          <p:cNvCxnSpPr/>
          <p:nvPr/>
        </p:nvCxnSpPr>
        <p:spPr>
          <a:xfrm>
            <a:off x="5018040" y="3997440"/>
            <a:ext cx="457920" cy="381600"/>
          </a:xfrm>
          <a:prstGeom prst="straightConnector1">
            <a:avLst/>
          </a:prstGeom>
          <a:ln w="25560">
            <a:solidFill>
              <a:srgbClr val="ff3399"/>
            </a:solidFill>
            <a:miter/>
            <a:tailEnd len="med" type="arrow" w="med"/>
          </a:ln>
        </p:spPr>
      </p:cxnSp>
      <p:sp>
        <p:nvSpPr>
          <p:cNvPr id="562" name="Textfeld 19"/>
          <p:cNvSpPr/>
          <p:nvPr/>
        </p:nvSpPr>
        <p:spPr>
          <a:xfrm>
            <a:off x="537120" y="5956200"/>
            <a:ext cx="1616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300" spc="-1" strike="noStrike">
                <a:solidFill>
                  <a:srgbClr val="000000"/>
                </a:solidFill>
                <a:latin typeface="Arial"/>
              </a:rPr>
              <a:t>* after amendment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feld 20"/>
          <p:cNvSpPr/>
          <p:nvPr/>
        </p:nvSpPr>
        <p:spPr>
          <a:xfrm>
            <a:off x="4729680" y="5956200"/>
            <a:ext cx="2192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300" spc="-1" strike="noStrike">
                <a:solidFill>
                  <a:srgbClr val="000000"/>
                </a:solidFill>
                <a:latin typeface="Arial"/>
              </a:rPr>
              <a:t>* during Paclitaxel weekly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feld 21"/>
          <p:cNvSpPr/>
          <p:nvPr/>
        </p:nvSpPr>
        <p:spPr>
          <a:xfrm>
            <a:off x="3600" y="6211800"/>
            <a:ext cx="44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uarneri, V et al. ASCO 2011 Abst #5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lmes, FA et al. ASCO 2011 Abst #50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Year in Review</a:t>
            </a:r>
            <a:br>
              <a:rPr sz="2400"/>
            </a:br>
            <a:br>
              <a:rPr sz="8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 Daylong Multitumor CME Symposium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Focused on Key Clinical Presentation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nd Papers in Oncology: 2010-2011</a:t>
            </a:r>
            <a:br>
              <a:rPr sz="26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Saturday, October 15, 2011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8:30 AM – 3:30 PM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Longboat Key Club &amp; Res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7"/>
          <p:cNvSpPr/>
          <p:nvPr/>
        </p:nvSpPr>
        <p:spPr>
          <a:xfrm>
            <a:off x="3963240" y="472932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1354680" y="511956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oyce O’Shaughnessy, M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ohn Heymach, MD, Ph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iam K Oh, M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aig Moskowitz, M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860640" y="4038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3371760" y="434340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6"/>
          <p:cNvSpPr/>
          <p:nvPr/>
        </p:nvSpPr>
        <p:spPr>
          <a:xfrm>
            <a:off x="4649400" y="511956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nneth C Anderson, M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ileen M O’Reilly, M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vid R Spriggs, M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1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1371600" y="2587680"/>
            <a:ext cx="6400800" cy="15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2c872"/>
                </a:solidFill>
                <a:latin typeface="Arial"/>
              </a:rPr>
              <a:t>Endocrine-Resistant ER+ MBC</a:t>
            </a:r>
            <a:endParaRPr b="0" lang="en-US" sz="3200" spc="-1" strike="noStrike">
              <a:solidFill>
                <a:srgbClr val="0a31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Box 4"/>
          <p:cNvSpPr/>
          <p:nvPr/>
        </p:nvSpPr>
        <p:spPr>
          <a:xfrm>
            <a:off x="0" y="6400800"/>
            <a:ext cx="9144000" cy="503280"/>
          </a:xfrm>
          <a:prstGeom prst="rect">
            <a:avLst/>
          </a:prstGeom>
          <a:solidFill>
            <a:srgbClr val="0a3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ardley, D et al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c ASCO Breast Cancer Symposiu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ounded Rectangle 5"/>
          <p:cNvSpPr/>
          <p:nvPr/>
        </p:nvSpPr>
        <p:spPr>
          <a:xfrm>
            <a:off x="266760" y="244440"/>
            <a:ext cx="8610480" cy="822240"/>
          </a:xfrm>
          <a:prstGeom prst="roundRect">
            <a:avLst>
              <a:gd name="adj" fmla="val 16667"/>
            </a:avLst>
          </a:prstGeom>
          <a:solidFill>
            <a:srgbClr val="0a3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RE 301 Study 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8"/>
          <p:cNvSpPr/>
          <p:nvPr/>
        </p:nvSpPr>
        <p:spPr>
          <a:xfrm>
            <a:off x="419040" y="1143000"/>
            <a:ext cx="830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313"/>
                </a:solidFill>
                <a:latin typeface="Arial"/>
              </a:rPr>
              <a:t>Hypothesis: Entinostat re-sensitizes tumors to aromatase inhibitors (AI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8" name="Rectangle 7"/>
          <p:cNvGrpSpPr/>
          <p:nvPr/>
        </p:nvGrpSpPr>
        <p:grpSpPr>
          <a:xfrm>
            <a:off x="360360" y="1657440"/>
            <a:ext cx="3309840" cy="2469960"/>
            <a:chOff x="360360" y="1657440"/>
            <a:chExt cx="3309840" cy="2469960"/>
          </a:xfrm>
        </p:grpSpPr>
        <p:pic>
          <p:nvPicPr>
            <p:cNvPr id="939" name="Rectangle 7" descr=""/>
            <p:cNvPicPr/>
            <p:nvPr/>
          </p:nvPicPr>
          <p:blipFill>
            <a:blip r:embed="rId1"/>
            <a:stretch/>
          </p:blipFill>
          <p:spPr>
            <a:xfrm>
              <a:off x="360360" y="1657440"/>
              <a:ext cx="3309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380880" y="1676520"/>
              <a:ext cx="32767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st-menopausal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men with metastatic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 locally advanced ER+ breast cancer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gressing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 a non-steroidal AI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nastrozole or letrozole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Rectangle 8"/>
          <p:cNvGrpSpPr/>
          <p:nvPr/>
        </p:nvGrpSpPr>
        <p:grpSpPr>
          <a:xfrm>
            <a:off x="5162400" y="1657440"/>
            <a:ext cx="3689640" cy="1019160"/>
            <a:chOff x="5162400" y="1657440"/>
            <a:chExt cx="3689640" cy="1019160"/>
          </a:xfrm>
        </p:grpSpPr>
        <p:pic>
          <p:nvPicPr>
            <p:cNvPr id="942" name="Rectangle 8" descr=""/>
            <p:cNvPicPr/>
            <p:nvPr/>
          </p:nvPicPr>
          <p:blipFill>
            <a:blip r:embed="rId2"/>
            <a:stretch/>
          </p:blipFill>
          <p:spPr>
            <a:xfrm>
              <a:off x="5162400" y="1657440"/>
              <a:ext cx="36896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5181480" y="1676520"/>
              <a:ext cx="36576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emestane + Entinostat (ENT)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mg po weekly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~ 57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4" name="Rectangle 9"/>
          <p:cNvGrpSpPr/>
          <p:nvPr/>
        </p:nvGrpSpPr>
        <p:grpSpPr>
          <a:xfrm>
            <a:off x="5162400" y="3103560"/>
            <a:ext cx="3689640" cy="1023840"/>
            <a:chOff x="5162400" y="3103560"/>
            <a:chExt cx="3689640" cy="1023840"/>
          </a:xfrm>
        </p:grpSpPr>
        <p:pic>
          <p:nvPicPr>
            <p:cNvPr id="945" name="Rectangle 9" descr=""/>
            <p:cNvPicPr/>
            <p:nvPr/>
          </p:nvPicPr>
          <p:blipFill>
            <a:blip r:embed="rId3"/>
            <a:stretch/>
          </p:blipFill>
          <p:spPr>
            <a:xfrm>
              <a:off x="5162400" y="3103560"/>
              <a:ext cx="3689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5181480" y="3124080"/>
              <a:ext cx="36576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emestane + Placebo (PLA)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mg po weekly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~ 57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7" name="Rectangle 10"/>
          <p:cNvGrpSpPr/>
          <p:nvPr/>
        </p:nvGrpSpPr>
        <p:grpSpPr>
          <a:xfrm>
            <a:off x="4095720" y="1657440"/>
            <a:ext cx="568440" cy="2469960"/>
            <a:chOff x="4095720" y="1657440"/>
            <a:chExt cx="568440" cy="2469960"/>
          </a:xfrm>
        </p:grpSpPr>
        <p:pic>
          <p:nvPicPr>
            <p:cNvPr id="948" name="Rectangle 10" descr=""/>
            <p:cNvPicPr/>
            <p:nvPr/>
          </p:nvPicPr>
          <p:blipFill>
            <a:blip r:embed="rId4"/>
            <a:stretch/>
          </p:blipFill>
          <p:spPr>
            <a:xfrm>
              <a:off x="4095720" y="1657440"/>
              <a:ext cx="5684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4114800" y="1676520"/>
              <a:ext cx="53352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50" name="Straight Arrow Connector 12"/>
          <p:cNvCxnSpPr/>
          <p:nvPr/>
        </p:nvCxnSpPr>
        <p:spPr>
          <a:xfrm>
            <a:off x="3733920" y="2893680"/>
            <a:ext cx="305280" cy="3960"/>
          </a:xfrm>
          <a:prstGeom prst="straightConnector1">
            <a:avLst/>
          </a:prstGeom>
          <a:ln w="41400">
            <a:solidFill>
              <a:srgbClr val="0a315a"/>
            </a:solidFill>
            <a:miter/>
            <a:tailEnd len="med" type="triangle" w="med"/>
          </a:ln>
        </p:spPr>
      </p:cxnSp>
      <p:grpSp>
        <p:nvGrpSpPr>
          <p:cNvPr id="951" name="Group 23"/>
          <p:cNvGrpSpPr/>
          <p:nvPr/>
        </p:nvGrpSpPr>
        <p:grpSpPr>
          <a:xfrm>
            <a:off x="4723200" y="2476080"/>
            <a:ext cx="381600" cy="838800"/>
            <a:chOff x="4723200" y="2476080"/>
            <a:chExt cx="381600" cy="838800"/>
          </a:xfrm>
        </p:grpSpPr>
        <p:cxnSp>
          <p:nvCxnSpPr>
            <p:cNvPr id="952" name="Straight Arrow Connector 14"/>
            <p:cNvCxnSpPr/>
            <p:nvPr/>
          </p:nvCxnSpPr>
          <p:spPr>
            <a:xfrm flipV="1">
              <a:off x="4723200" y="2476080"/>
              <a:ext cx="381960" cy="419040"/>
            </a:xfrm>
            <a:prstGeom prst="straightConnector1">
              <a:avLst/>
            </a:prstGeom>
            <a:ln w="41400">
              <a:solidFill>
                <a:srgbClr val="0a315a"/>
              </a:solidFill>
              <a:miter/>
              <a:tailEnd len="med" type="triangle" w="med"/>
            </a:ln>
          </p:spPr>
        </p:cxnSp>
        <p:cxnSp>
          <p:nvCxnSpPr>
            <p:cNvPr id="953" name="Straight Arrow Connector 15"/>
            <p:cNvCxnSpPr/>
            <p:nvPr/>
          </p:nvCxnSpPr>
          <p:spPr>
            <a:xfrm>
              <a:off x="4723200" y="2933280"/>
              <a:ext cx="381960" cy="381960"/>
            </a:xfrm>
            <a:prstGeom prst="straightConnector1">
              <a:avLst/>
            </a:prstGeom>
            <a:ln w="41400">
              <a:solidFill>
                <a:srgbClr val="0a315a"/>
              </a:solidFill>
              <a:miter/>
              <a:tailEnd len="med" type="triangle" w="med"/>
            </a:ln>
          </p:spPr>
        </p:cxnSp>
      </p:grpSp>
      <p:sp>
        <p:nvSpPr>
          <p:cNvPr id="954" name="TextBox 21"/>
          <p:cNvSpPr/>
          <p:nvPr/>
        </p:nvSpPr>
        <p:spPr>
          <a:xfrm>
            <a:off x="2095560" y="4267080"/>
            <a:ext cx="4952880" cy="990720"/>
          </a:xfrm>
          <a:prstGeom prst="rect">
            <a:avLst/>
          </a:prstGeom>
          <a:solidFill>
            <a:srgbClr val="b0ca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a315a"/>
                </a:solidFill>
                <a:uFillTx/>
                <a:latin typeface="Arial"/>
              </a:rPr>
              <a:t>Stratification Factors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a31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15a"/>
                </a:solidFill>
                <a:latin typeface="Arial"/>
              </a:rPr>
              <a:t>AI disease progression (Adjuvant vs MBC setting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a31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15a"/>
                </a:solidFill>
                <a:latin typeface="Arial"/>
              </a:rPr>
              <a:t>Bone only disease (yes/no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a31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a315a"/>
                </a:solidFill>
                <a:latin typeface="Arial"/>
              </a:rPr>
              <a:t>Geographic region (North America vs EU/Russi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8"/>
          <p:cNvSpPr/>
          <p:nvPr/>
        </p:nvSpPr>
        <p:spPr>
          <a:xfrm>
            <a:off x="419040" y="5410080"/>
            <a:ext cx="8305920" cy="5202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1313"/>
                </a:solidFill>
                <a:latin typeface="Arial"/>
              </a:rPr>
              <a:t>Randomized,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ouble blind</a:t>
            </a:r>
            <a:r>
              <a:rPr b="0" lang="en-US" sz="1400" spc="-1" strike="noStrike">
                <a:solidFill>
                  <a:srgbClr val="141313"/>
                </a:solidFill>
                <a:latin typeface="Arial"/>
              </a:rPr>
              <a:t>, placebo-controlled</a:t>
            </a:r>
            <a:br>
              <a:rPr sz="1400"/>
            </a:br>
            <a:r>
              <a:rPr b="0" lang="en-US" sz="1400" spc="-1" strike="noStrike">
                <a:solidFill>
                  <a:srgbClr val="141313"/>
                </a:solidFill>
                <a:latin typeface="Arial"/>
              </a:rPr>
              <a:t>Endpoints include: 1° PFS, 2° ORR AND CBR; Exploratory Endpoint - O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1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5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609480" y="2232000"/>
          <a:ext cx="7925040" cy="2263680"/>
        </p:xfrm>
        <a:graphic>
          <a:graphicData uri="http://schemas.openxmlformats.org/drawingml/2006/table">
            <a:tbl>
              <a:tblPr/>
              <a:tblGrid>
                <a:gridCol w="1600200"/>
                <a:gridCol w="1828800"/>
                <a:gridCol w="1905120"/>
                <a:gridCol w="990720"/>
                <a:gridCol w="1600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solidFill>
                      <a:srgbClr val="0a315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xemestane + entinostat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solidFill>
                      <a:srgbClr val="0a315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xemestane +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placebo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solidFill>
                      <a:srgbClr val="0a315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H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solidFill>
                      <a:srgbClr val="0a315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valu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solidFill>
                      <a:srgbClr val="0a315a"/>
                    </a:solidFill>
                  </a:tcPr>
                </a:tc>
              </a:tr>
              <a:tr h="52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Median PFS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.28 m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.27 m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0.7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0.0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ORR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.7%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4.6%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a315a"/>
                          </a:solidFill>
                          <a:latin typeface="Arial"/>
                          <a:ea typeface="Osaka"/>
                        </a:rPr>
                        <a:t>—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a315a"/>
                          </a:solidFill>
                          <a:latin typeface="Arial"/>
                          <a:ea typeface="Osaka"/>
                        </a:rPr>
                        <a:t>—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CBR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6.6%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Osaka"/>
                        </a:rPr>
                        <a:t>25.8%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a315a"/>
                          </a:solidFill>
                          <a:latin typeface="Arial"/>
                          <a:ea typeface="Osaka"/>
                        </a:rPr>
                        <a:t>—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a315a"/>
                          </a:solidFill>
                          <a:latin typeface="Arial"/>
                          <a:ea typeface="Osaka"/>
                        </a:rPr>
                        <a:t>—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a315a"/>
                      </a:solidFill>
                    </a:lnL>
                    <a:lnR w="5760">
                      <a:solidFill>
                        <a:srgbClr val="0a315a"/>
                      </a:solidFill>
                    </a:lnR>
                    <a:lnT w="5760">
                      <a:solidFill>
                        <a:srgbClr val="0a315a"/>
                      </a:solidFill>
                    </a:lnT>
                    <a:lnB w="5760">
                      <a:solidFill>
                        <a:srgbClr val="0a315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8" name="Rounded Rectangle 41"/>
          <p:cNvSpPr/>
          <p:nvPr/>
        </p:nvSpPr>
        <p:spPr>
          <a:xfrm>
            <a:off x="266760" y="244440"/>
            <a:ext cx="8610480" cy="822240"/>
          </a:xfrm>
          <a:prstGeom prst="roundRect">
            <a:avLst>
              <a:gd name="adj" fmla="val 16667"/>
            </a:avLst>
          </a:prstGeom>
          <a:solidFill>
            <a:srgbClr val="0a3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RE 301 Primary Endpoint — PFS (IT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1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7"/>
          <p:cNvSpPr/>
          <p:nvPr/>
        </p:nvSpPr>
        <p:spPr>
          <a:xfrm>
            <a:off x="533520" y="1905120"/>
            <a:ext cx="7772400" cy="418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0afd"/>
                </a:solidFill>
                <a:latin typeface="Arial"/>
              </a:rPr>
              <a:t>Exem + ENT % change &gt; median (n = 1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006c"/>
                </a:solidFill>
                <a:latin typeface="Arial"/>
              </a:rPr>
              <a:t>Exem + PLA % change &gt; median (n = 1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25"/>
              </a:spcBef>
              <a:buClr>
                <a:srgbClr val="1413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313"/>
                </a:solidFill>
                <a:latin typeface="Arial"/>
              </a:rPr>
              <a:t>HR = 0.237 (0.081, 0.69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25"/>
              </a:spcBef>
              <a:buClr>
                <a:srgbClr val="1413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313"/>
                </a:solidFill>
                <a:latin typeface="Arial"/>
              </a:rPr>
              <a:t>PFS 8.54 vs 1.92 m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51"/>
              </a:spcBef>
              <a:buClr>
                <a:srgbClr val="1413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0afd"/>
                </a:solidFill>
                <a:latin typeface="Arial"/>
              </a:rPr>
              <a:t>Exem + ENT % change &gt; median (n = 1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ac5a"/>
                </a:solidFill>
                <a:latin typeface="Arial"/>
              </a:rPr>
              <a:t>Exem + ENT % change ≤ median (n = 1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25"/>
              </a:spcBef>
              <a:buClr>
                <a:srgbClr val="1413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313"/>
                </a:solidFill>
                <a:latin typeface="Arial"/>
              </a:rPr>
              <a:t>HR = 0.318 (0.128, 1.79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25"/>
              </a:spcBef>
              <a:buClr>
                <a:srgbClr val="1413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313"/>
                </a:solidFill>
                <a:latin typeface="Arial"/>
              </a:rPr>
              <a:t>PFS 8.54 vs 1.77 m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51"/>
              </a:spcBef>
              <a:buClr>
                <a:srgbClr val="1413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0afd"/>
                </a:solidFill>
                <a:latin typeface="Arial"/>
              </a:rPr>
              <a:t>Exem + ENT % change &gt; median (n = 1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em + PLA % change ≤ median (n = 1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25"/>
              </a:spcBef>
              <a:buClr>
                <a:srgbClr val="1413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313"/>
                </a:solidFill>
                <a:latin typeface="Arial"/>
              </a:rPr>
              <a:t>HR = 0.360 (0.147, 0.88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25"/>
              </a:spcBef>
              <a:buClr>
                <a:srgbClr val="1413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313"/>
                </a:solidFill>
                <a:latin typeface="Arial"/>
              </a:rPr>
              <a:t>PFS 8.54 vs 1.77 m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8"/>
          <p:cNvSpPr/>
          <p:nvPr/>
        </p:nvSpPr>
        <p:spPr>
          <a:xfrm>
            <a:off x="533520" y="6248520"/>
            <a:ext cx="708660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41313"/>
                </a:solidFill>
                <a:latin typeface="Arial"/>
              </a:rPr>
              <a:t>* Similar results in T cells and monocyt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Rounded Rectangle 5"/>
          <p:cNvSpPr/>
          <p:nvPr/>
        </p:nvSpPr>
        <p:spPr>
          <a:xfrm>
            <a:off x="266760" y="244440"/>
            <a:ext cx="8610480" cy="822240"/>
          </a:xfrm>
          <a:prstGeom prst="roundRect">
            <a:avLst>
              <a:gd name="adj" fmla="val 16667"/>
            </a:avLst>
          </a:prstGeom>
          <a:solidFill>
            <a:srgbClr val="0a3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FS Greatest in Exemestane + Entinostat in Subjects Who Hyperacetyla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 Box 8"/>
          <p:cNvSpPr/>
          <p:nvPr/>
        </p:nvSpPr>
        <p:spPr>
          <a:xfrm>
            <a:off x="1028880" y="114300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313"/>
                </a:solidFill>
                <a:latin typeface="Arial"/>
              </a:rPr>
              <a:t>PFS by Treatment and Change in B-cell % Acetylation*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1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6"/>
          <p:cNvSpPr/>
          <p:nvPr/>
        </p:nvSpPr>
        <p:spPr>
          <a:xfrm>
            <a:off x="609480" y="1584360"/>
            <a:ext cx="746784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41313"/>
                </a:solidFill>
                <a:latin typeface="Arial"/>
              </a:rPr>
              <a:t>Intent-to-treat pop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1313"/>
                </a:solidFill>
                <a:latin typeface="Arial"/>
              </a:rPr>
              <a:t>Median follow-up for OS = 18 mont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ounded Rectangle 5"/>
          <p:cNvSpPr/>
          <p:nvPr/>
        </p:nvSpPr>
        <p:spPr>
          <a:xfrm>
            <a:off x="266760" y="244440"/>
            <a:ext cx="8610480" cy="822240"/>
          </a:xfrm>
          <a:prstGeom prst="roundRect">
            <a:avLst>
              <a:gd name="adj" fmla="val 16667"/>
            </a:avLst>
          </a:prstGeom>
          <a:solidFill>
            <a:srgbClr val="0a3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RE 301 Survival Data (as of June 201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609480" y="2971800"/>
            <a:ext cx="7467840" cy="225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a798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overall surviv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Exemestane + entinostat, 26.9 m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Exemestane + placebo, 20.3 mo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HR = 0.56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-value = 0.027 (log-rank test, 1-sid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31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66400" y="199800"/>
            <a:ext cx="84200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865b6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>
            <a:off x="266400" y="1262160"/>
            <a:ext cx="8420040" cy="4687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2" descr=""/>
          <p:cNvPicPr/>
          <p:nvPr/>
        </p:nvPicPr>
        <p:blipFill>
          <a:blip r:embed="rId2"/>
          <a:stretch/>
        </p:blipFill>
        <p:spPr>
          <a:xfrm>
            <a:off x="0" y="3492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380880" y="6400800"/>
            <a:ext cx="533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18"/>
          <p:cNvSpPr/>
          <p:nvPr/>
        </p:nvSpPr>
        <p:spPr>
          <a:xfrm>
            <a:off x="2394000" y="2197440"/>
            <a:ext cx="3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2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Text Box 8"/>
          <p:cNvGrpSpPr/>
          <p:nvPr/>
        </p:nvGrpSpPr>
        <p:grpSpPr>
          <a:xfrm>
            <a:off x="3097080" y="1547640"/>
            <a:ext cx="3614760" cy="1152720"/>
            <a:chOff x="3097080" y="1547640"/>
            <a:chExt cx="3614760" cy="1152720"/>
          </a:xfrm>
        </p:grpSpPr>
        <p:pic>
          <p:nvPicPr>
            <p:cNvPr id="974" name="Text Box 8" descr=""/>
            <p:cNvPicPr/>
            <p:nvPr/>
          </p:nvPicPr>
          <p:blipFill>
            <a:blip r:embed="rId1"/>
            <a:stretch/>
          </p:blipFill>
          <p:spPr>
            <a:xfrm>
              <a:off x="3097080" y="1547640"/>
              <a:ext cx="36147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3187800" y="1642320"/>
              <a:ext cx="338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verolimus 10 mg/day +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xemestane 25 mg/day 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(N = 485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6" name="Text Box 9"/>
          <p:cNvGrpSpPr/>
          <p:nvPr/>
        </p:nvGrpSpPr>
        <p:grpSpPr>
          <a:xfrm>
            <a:off x="3097080" y="2871720"/>
            <a:ext cx="3614760" cy="1150920"/>
            <a:chOff x="3097080" y="2871720"/>
            <a:chExt cx="3614760" cy="1150920"/>
          </a:xfrm>
        </p:grpSpPr>
        <p:pic>
          <p:nvPicPr>
            <p:cNvPr id="977" name="Text Box 9" descr=""/>
            <p:cNvPicPr/>
            <p:nvPr/>
          </p:nvPicPr>
          <p:blipFill>
            <a:blip r:embed="rId2"/>
            <a:stretch/>
          </p:blipFill>
          <p:spPr>
            <a:xfrm>
              <a:off x="3097080" y="2871720"/>
              <a:ext cx="3614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"/>
            <p:cNvSpPr/>
            <p:nvPr/>
          </p:nvSpPr>
          <p:spPr>
            <a:xfrm>
              <a:off x="3187800" y="2964960"/>
              <a:ext cx="338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lacebo +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xemestane 25 mg/day 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(N = 239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9" name="AutoShape 9"/>
          <p:cNvCxnSpPr/>
          <p:nvPr/>
        </p:nvCxnSpPr>
        <p:spPr>
          <a:xfrm flipV="1">
            <a:off x="2270160" y="2099520"/>
            <a:ext cx="869040" cy="586440"/>
          </a:xfrm>
          <a:prstGeom prst="bentConnector3">
            <a:avLst>
              <a:gd name="adj1" fmla="val 49979"/>
            </a:avLst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980" name="AutoShape 10"/>
          <p:cNvCxnSpPr/>
          <p:nvPr/>
        </p:nvCxnSpPr>
        <p:spPr>
          <a:xfrm>
            <a:off x="2270160" y="2685600"/>
            <a:ext cx="869040" cy="739080"/>
          </a:xfrm>
          <a:prstGeom prst="bentConnector3">
            <a:avLst>
              <a:gd name="adj1" fmla="val 49979"/>
            </a:avLst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981" name="AutoShape 11"/>
          <p:cNvCxnSpPr/>
          <p:nvPr/>
        </p:nvCxnSpPr>
        <p:spPr>
          <a:xfrm>
            <a:off x="6624360" y="2100240"/>
            <a:ext cx="462600" cy="69912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982" name="AutoShape 12"/>
          <p:cNvCxnSpPr/>
          <p:nvPr/>
        </p:nvCxnSpPr>
        <p:spPr>
          <a:xfrm flipV="1">
            <a:off x="6622920" y="2798640"/>
            <a:ext cx="464400" cy="626040"/>
          </a:xfrm>
          <a:prstGeom prst="bentConnector3">
            <a:avLst>
              <a:gd name="adj1" fmla="val 49961"/>
            </a:avLst>
          </a:prstGeom>
          <a:ln w="19080">
            <a:solidFill>
              <a:srgbClr val="ffffff"/>
            </a:solidFill>
            <a:miter/>
          </a:ln>
        </p:spPr>
      </p:cxn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01400" y="0"/>
            <a:ext cx="832788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BOLERO-2: Trial Design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984" name="TextBox 1"/>
          <p:cNvSpPr/>
          <p:nvPr/>
        </p:nvSpPr>
        <p:spPr>
          <a:xfrm>
            <a:off x="92160" y="6240240"/>
            <a:ext cx="890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ABC: advanced breast cancer, NSAI: non steroidal aromatase inhibitors, HER2-: human epidermal growth factor receptor 2 – negative; 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PFS: progression-free survival; PK: pharmacokinetic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ectangle 2"/>
          <p:cNvSpPr/>
          <p:nvPr/>
        </p:nvSpPr>
        <p:spPr>
          <a:xfrm>
            <a:off x="1447920" y="4503600"/>
            <a:ext cx="6430680" cy="15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spcBef>
                <a:spcPts val="1001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Stratific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349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Sensitivity to prior hormonal thera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349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Presence of visceral dise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spcBef>
                <a:spcPts val="1001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No cross-o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Box 13"/>
          <p:cNvSpPr/>
          <p:nvPr/>
        </p:nvSpPr>
        <p:spPr>
          <a:xfrm>
            <a:off x="101880" y="6580080"/>
            <a:ext cx="82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Presented by J. Baselga at the 2011 European Multidisciplinary Cancer Congress (ECCO/ESMO), September 26, 2011. Abstract: 9LBA.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AutoShape 3"/>
          <p:cNvGrpSpPr/>
          <p:nvPr/>
        </p:nvGrpSpPr>
        <p:grpSpPr>
          <a:xfrm>
            <a:off x="49320" y="1311120"/>
            <a:ext cx="2431800" cy="3048120"/>
            <a:chOff x="49320" y="1311120"/>
            <a:chExt cx="2431800" cy="3048120"/>
          </a:xfrm>
        </p:grpSpPr>
        <p:pic>
          <p:nvPicPr>
            <p:cNvPr id="988" name="AutoShape 3" descr=""/>
            <p:cNvPicPr/>
            <p:nvPr/>
          </p:nvPicPr>
          <p:blipFill>
            <a:blip r:embed="rId3"/>
            <a:stretch/>
          </p:blipFill>
          <p:spPr>
            <a:xfrm>
              <a:off x="49320" y="1311120"/>
              <a:ext cx="24318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204840" y="1314000"/>
              <a:ext cx="2076480" cy="29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lvl="1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N = 724 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 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Postmenopausa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ER+ HER2- ABC refractory to letrozole or anastrozo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0" name="Group 25"/>
          <p:cNvGrpSpPr/>
          <p:nvPr/>
        </p:nvGrpSpPr>
        <p:grpSpPr>
          <a:xfrm>
            <a:off x="6954840" y="1676520"/>
            <a:ext cx="2182680" cy="2457360"/>
            <a:chOff x="6954840" y="1676520"/>
            <a:chExt cx="2182680" cy="2457360"/>
          </a:xfrm>
        </p:grpSpPr>
        <p:pic>
          <p:nvPicPr>
            <p:cNvPr id="991" name="Rectangle 10" descr=""/>
            <p:cNvPicPr/>
            <p:nvPr/>
          </p:nvPicPr>
          <p:blipFill>
            <a:blip r:embed="rId4"/>
            <a:stretch/>
          </p:blipFill>
          <p:spPr>
            <a:xfrm>
              <a:off x="6954840" y="1676520"/>
              <a:ext cx="218268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Text Box 22"/>
            <p:cNvSpPr/>
            <p:nvPr/>
          </p:nvSpPr>
          <p:spPr>
            <a:xfrm>
              <a:off x="7043760" y="1762200"/>
              <a:ext cx="1960560" cy="22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PF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O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ORR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Bone Marker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Safe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PK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07880" y="3045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BOLERO-2 Primary Endpoint: PFS </a:t>
            </a:r>
            <a:br>
              <a:rPr sz="3200"/>
            </a:b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Local Assessment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994" name="TextBox 286"/>
          <p:cNvSpPr/>
          <p:nvPr/>
        </p:nvSpPr>
        <p:spPr>
          <a:xfrm>
            <a:off x="86040" y="6600960"/>
            <a:ext cx="82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Presented by J. Baselga at the 2011 European Multidisciplinary Cancer Congress (ECCO/ESMO), September 26, 2011. Abstract: 9LBA.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287"/>
          <p:cNvSpPr/>
          <p:nvPr/>
        </p:nvSpPr>
        <p:spPr>
          <a:xfrm>
            <a:off x="990720" y="1676520"/>
            <a:ext cx="7010280" cy="354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ion-free surviva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olimus + exemestane, 6.9 mo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estane + placebo, 2.8 mo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zard ratio = 0.43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value = 1.4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04480" y="291600"/>
            <a:ext cx="8736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BOLERO-2: Most Common G3/4 AEs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09680" y="1235160"/>
          <a:ext cx="7915320" cy="4638600"/>
        </p:xfrm>
        <a:graphic>
          <a:graphicData uri="http://schemas.openxmlformats.org/drawingml/2006/table">
            <a:tbl>
              <a:tblPr/>
              <a:tblGrid>
                <a:gridCol w="1854000"/>
                <a:gridCol w="1079640"/>
                <a:gridCol w="960480"/>
                <a:gridCol w="1009440"/>
                <a:gridCol w="1071720"/>
                <a:gridCol w="995400"/>
                <a:gridCol w="944640"/>
              </a:tblGrid>
              <a:tr h="914760">
                <a:tc>
                  <a:txBody>
                    <a:bodyPr anchor="b">
                      <a:noAutofit/>
                    </a:bodyPr>
                    <a:p>
                      <a:pPr marL="395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b4ebfe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Everolimus + Exemestane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(N = 482),  %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b4eb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Placebo + Exemestane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(N = 238), %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b4eb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b">
                      <a:noAutofit/>
                    </a:bodyPr>
                    <a:p>
                      <a:pPr marL="395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4eb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All Grad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4eb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Grade 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4eb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Grade 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4eb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All Grad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4eb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Grade 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4ebfe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MS PGothic"/>
                        </a:rPr>
                        <a:t>Grade 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4ebfe"/>
                    </a:solidFill>
                  </a:tcPr>
                </a:tc>
              </a:tr>
              <a:tr h="45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Stomatit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Fatigu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&lt;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2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Dyspne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&lt;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Anemi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&lt;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&lt;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&lt;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Hyperglycemi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&lt;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&lt;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AS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&lt;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Pneumoniti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1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86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TextBox 5"/>
          <p:cNvSpPr/>
          <p:nvPr/>
        </p:nvSpPr>
        <p:spPr>
          <a:xfrm>
            <a:off x="86040" y="6600960"/>
            <a:ext cx="822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Presented by J. Baselga at the 2011 European Multidisciplinary Cancer Congress (ECCO/ESMO), September 26, 2011. Abstract: 9LBA.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TextBox 1"/>
          <p:cNvSpPr/>
          <p:nvPr/>
        </p:nvSpPr>
        <p:spPr>
          <a:xfrm>
            <a:off x="169920" y="6361200"/>
            <a:ext cx="813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AE: Adverse Event; AST: Aspartate aminotransferas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a007e"/>
                </a:solidFill>
                <a:latin typeface="Arial Unicode MS"/>
              </a:rPr>
              <a:t>Efficacy</a:t>
            </a:r>
            <a:br>
              <a:rPr sz="3200"/>
            </a:br>
            <a:r>
              <a:rPr b="1" lang="de-DE" sz="3200" spc="-1" strike="noStrike">
                <a:solidFill>
                  <a:srgbClr val="da007e"/>
                </a:solidFill>
                <a:latin typeface="Arial Unicode MS"/>
              </a:rPr>
              <a:t>(pCR = ypT0/is ypN0)</a:t>
            </a:r>
            <a:endParaRPr b="1" lang="en-US" sz="3200" spc="-1" strike="noStrike">
              <a:solidFill>
                <a:srgbClr val="dd137b"/>
              </a:solidFill>
              <a:latin typeface="Arial Unicode MS"/>
            </a:endParaRPr>
          </a:p>
        </p:txBody>
      </p:sp>
      <p:graphicFrame>
        <p:nvGraphicFramePr>
          <p:cNvPr id="566" name="Inhaltsplatzhalter 3"/>
          <p:cNvGraphicFramePr/>
          <p:nvPr/>
        </p:nvGraphicFramePr>
        <p:xfrm>
          <a:off x="380880" y="1569960"/>
          <a:ext cx="40388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7" name="Inhaltsplatzhalt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69960"/>
                    <a:ext cx="4038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4572000" y="156996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69" name="Textfeld 6"/>
          <p:cNvSpPr/>
          <p:nvPr/>
        </p:nvSpPr>
        <p:spPr>
          <a:xfrm>
            <a:off x="1830960" y="15238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uarneri, 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feld 7"/>
          <p:cNvSpPr/>
          <p:nvPr/>
        </p:nvSpPr>
        <p:spPr>
          <a:xfrm>
            <a:off x="6180480" y="15238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olmes, F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feld 8"/>
          <p:cNvSpPr/>
          <p:nvPr/>
        </p:nvSpPr>
        <p:spPr>
          <a:xfrm>
            <a:off x="159120" y="6289560"/>
            <a:ext cx="317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Guarneri, V et al. ASCO 2011 Abst 507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Holmes, FA et al. ASCO 2011 Abst 506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TAMRAD: Tamoxifen +/- Everolimus in MBC      Clinical Benefit Rate and Time to Progression 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369360" y="2438280"/>
            <a:ext cx="357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linical benefit r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= 0.045 (exploratory analysi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2" name="Group 161"/>
          <p:cNvGrpSpPr/>
          <p:nvPr/>
        </p:nvGrpSpPr>
        <p:grpSpPr>
          <a:xfrm>
            <a:off x="4268880" y="1963800"/>
            <a:ext cx="4642920" cy="3417120"/>
            <a:chOff x="4268880" y="1963800"/>
            <a:chExt cx="4642920" cy="3417120"/>
          </a:xfrm>
        </p:grpSpPr>
        <p:sp>
          <p:nvSpPr>
            <p:cNvPr id="1003" name="Rectangle 5"/>
            <p:cNvSpPr/>
            <p:nvPr/>
          </p:nvSpPr>
          <p:spPr>
            <a:xfrm>
              <a:off x="5336640" y="3236040"/>
              <a:ext cx="1055520" cy="17514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Rectangle 6"/>
            <p:cNvSpPr/>
            <p:nvPr/>
          </p:nvSpPr>
          <p:spPr>
            <a:xfrm>
              <a:off x="7266960" y="2445840"/>
              <a:ext cx="1110960" cy="2541600"/>
            </a:xfrm>
            <a:prstGeom prst="rect">
              <a:avLst/>
            </a:prstGeom>
            <a:solidFill>
              <a:srgbClr val="ffe70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7"/>
            <p:cNvSpPr/>
            <p:nvPr/>
          </p:nvSpPr>
          <p:spPr>
            <a:xfrm>
              <a:off x="4835520" y="2078640"/>
              <a:ext cx="0" cy="2908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8"/>
            <p:cNvSpPr/>
            <p:nvPr/>
          </p:nvSpPr>
          <p:spPr>
            <a:xfrm>
              <a:off x="4776120" y="4987800"/>
              <a:ext cx="57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9"/>
            <p:cNvSpPr/>
            <p:nvPr/>
          </p:nvSpPr>
          <p:spPr>
            <a:xfrm>
              <a:off x="4776120" y="4575240"/>
              <a:ext cx="57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10"/>
            <p:cNvSpPr/>
            <p:nvPr/>
          </p:nvSpPr>
          <p:spPr>
            <a:xfrm>
              <a:off x="4776120" y="4154760"/>
              <a:ext cx="57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11"/>
            <p:cNvSpPr/>
            <p:nvPr/>
          </p:nvSpPr>
          <p:spPr>
            <a:xfrm>
              <a:off x="4776120" y="3739680"/>
              <a:ext cx="57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12"/>
            <p:cNvSpPr/>
            <p:nvPr/>
          </p:nvSpPr>
          <p:spPr>
            <a:xfrm>
              <a:off x="4776120" y="3327120"/>
              <a:ext cx="57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13"/>
            <p:cNvSpPr/>
            <p:nvPr/>
          </p:nvSpPr>
          <p:spPr>
            <a:xfrm>
              <a:off x="4776120" y="2914200"/>
              <a:ext cx="57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14"/>
            <p:cNvSpPr/>
            <p:nvPr/>
          </p:nvSpPr>
          <p:spPr>
            <a:xfrm>
              <a:off x="4776120" y="2491200"/>
              <a:ext cx="57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Line 15"/>
            <p:cNvSpPr/>
            <p:nvPr/>
          </p:nvSpPr>
          <p:spPr>
            <a:xfrm>
              <a:off x="4776120" y="2078640"/>
              <a:ext cx="57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Line 16"/>
            <p:cNvSpPr/>
            <p:nvPr/>
          </p:nvSpPr>
          <p:spPr>
            <a:xfrm>
              <a:off x="4835520" y="4987800"/>
              <a:ext cx="40726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17"/>
            <p:cNvSpPr/>
            <p:nvPr/>
          </p:nvSpPr>
          <p:spPr>
            <a:xfrm flipV="1">
              <a:off x="4835520" y="4987440"/>
              <a:ext cx="0" cy="61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18"/>
            <p:cNvSpPr/>
            <p:nvPr/>
          </p:nvSpPr>
          <p:spPr>
            <a:xfrm flipV="1">
              <a:off x="6765480" y="4987440"/>
              <a:ext cx="0" cy="61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19"/>
            <p:cNvSpPr/>
            <p:nvPr/>
          </p:nvSpPr>
          <p:spPr>
            <a:xfrm flipV="1">
              <a:off x="8911800" y="4987440"/>
              <a:ext cx="0" cy="61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20"/>
            <p:cNvSpPr/>
            <p:nvPr/>
          </p:nvSpPr>
          <p:spPr>
            <a:xfrm>
              <a:off x="4630680" y="4870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1"/>
            <p:cNvSpPr/>
            <p:nvPr/>
          </p:nvSpPr>
          <p:spPr>
            <a:xfrm>
              <a:off x="4533480" y="4457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Rectangle 22"/>
            <p:cNvSpPr/>
            <p:nvPr/>
          </p:nvSpPr>
          <p:spPr>
            <a:xfrm>
              <a:off x="4533480" y="4034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0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Rectangle 23"/>
            <p:cNvSpPr/>
            <p:nvPr/>
          </p:nvSpPr>
          <p:spPr>
            <a:xfrm>
              <a:off x="4533480" y="36223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0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Rectangle 24"/>
            <p:cNvSpPr/>
            <p:nvPr/>
          </p:nvSpPr>
          <p:spPr>
            <a:xfrm>
              <a:off x="4533480" y="3209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0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Rectangle 25"/>
            <p:cNvSpPr/>
            <p:nvPr/>
          </p:nvSpPr>
          <p:spPr>
            <a:xfrm>
              <a:off x="4533480" y="279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0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26"/>
            <p:cNvSpPr/>
            <p:nvPr/>
          </p:nvSpPr>
          <p:spPr>
            <a:xfrm>
              <a:off x="4533480" y="2373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60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27"/>
            <p:cNvSpPr/>
            <p:nvPr/>
          </p:nvSpPr>
          <p:spPr>
            <a:xfrm>
              <a:off x="4533480" y="1963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0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Rectangle 28"/>
            <p:cNvSpPr/>
            <p:nvPr/>
          </p:nvSpPr>
          <p:spPr>
            <a:xfrm>
              <a:off x="5666760" y="5167440"/>
              <a:ext cx="38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A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29"/>
            <p:cNvSpPr/>
            <p:nvPr/>
          </p:nvSpPr>
          <p:spPr>
            <a:xfrm>
              <a:off x="7343280" y="5167440"/>
              <a:ext cx="97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AM + RA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Rectangle 30"/>
            <p:cNvSpPr/>
            <p:nvPr/>
          </p:nvSpPr>
          <p:spPr>
            <a:xfrm rot="16200000">
              <a:off x="3350880" y="3326760"/>
              <a:ext cx="201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BR, % of Patients (95% CI)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1"/>
            <p:cNvSpPr/>
            <p:nvPr/>
          </p:nvSpPr>
          <p:spPr>
            <a:xfrm>
              <a:off x="5192280" y="3277800"/>
              <a:ext cx="1352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3366"/>
                  </a:solidFill>
                  <a:latin typeface="Arial"/>
                  <a:ea typeface="MS PGothic"/>
                </a:rPr>
                <a:t>42.1%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3366"/>
                  </a:solidFill>
                  <a:latin typeface="Arial"/>
                  <a:ea typeface="MS PGothic"/>
                </a:rPr>
                <a:t>(29.1-55.9)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Rectangle 32"/>
            <p:cNvSpPr/>
            <p:nvPr/>
          </p:nvSpPr>
          <p:spPr>
            <a:xfrm>
              <a:off x="7085160" y="2491200"/>
              <a:ext cx="1476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3366"/>
                  </a:solidFill>
                  <a:latin typeface="Arial"/>
                  <a:ea typeface="MS PGothic"/>
                </a:rPr>
                <a:t>61.1%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3366"/>
                  </a:solidFill>
                  <a:latin typeface="Arial"/>
                  <a:ea typeface="MS PGothic"/>
                </a:rPr>
                <a:t>(46.9-74.1)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1" name="Rectangle 4"/>
          <p:cNvSpPr/>
          <p:nvPr/>
        </p:nvSpPr>
        <p:spPr>
          <a:xfrm>
            <a:off x="307080" y="3657600"/>
            <a:ext cx="384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Time to progress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TAM: 4.5 month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TAM + RAD: 8.6 month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R (95% CI) = 0.54 (0.36-0.81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= 0.0021 (exploratory analysi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Box 160"/>
          <p:cNvSpPr/>
          <p:nvPr/>
        </p:nvSpPr>
        <p:spPr>
          <a:xfrm>
            <a:off x="0" y="6396120"/>
            <a:ext cx="36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urgier, C et al. ESMO, 201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verall Survival (as of September 2011)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34" name="Text Box 57"/>
          <p:cNvSpPr/>
          <p:nvPr/>
        </p:nvSpPr>
        <p:spPr>
          <a:xfrm>
            <a:off x="838080" y="2057400"/>
            <a:ext cx="7315200" cy="215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3d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(%) of events (TAM vs TAM + RAD)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 (54%) vs 16 (30%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Osaka"/>
              </a:rPr>
              <a:t>HR = 0.45; 95% CI (0.24-0.8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Osak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Osaka"/>
              </a:rPr>
              <a:t> = 0.007 (exploratory analys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07880" y="75960"/>
            <a:ext cx="8328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Time to Progression as a Function of Intrinsic Hormone Resistance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36" name="Text Box 6"/>
          <p:cNvSpPr/>
          <p:nvPr/>
        </p:nvSpPr>
        <p:spPr>
          <a:xfrm>
            <a:off x="1295280" y="1523880"/>
            <a:ext cx="6629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Primary resi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AM: 3.8 mont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AM + RAD: 5.4 mont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HR = 0.70 (0.40-1.2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= NS (exploratory analysis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Secondary resi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AM: 5.5 mont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AM + RAD: 14.8 month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HR =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MS PGothic"/>
              </a:rPr>
              <a:t>0.46 (0.26-0.83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MS PGothic"/>
              </a:rPr>
              <a:t>p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MS PGothic"/>
              </a:rPr>
              <a:t>= 0.0087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exploratory analysis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MS PGothic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07880" y="152280"/>
            <a:ext cx="832824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Survival as a Function of Intrinsic Hormone Resistance</a:t>
            </a:r>
            <a:endParaRPr b="1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038" name="Text Box 6"/>
          <p:cNvSpPr/>
          <p:nvPr/>
        </p:nvSpPr>
        <p:spPr>
          <a:xfrm>
            <a:off x="1143000" y="1447920"/>
            <a:ext cx="6400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Primary resi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N (%) of ev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AM: 15 (54%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AM + RAD: 12 (46%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HR = 0.73 (0.34-1.5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= 0.41 (exploratory analysi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4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Secondary resi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N (%) of ev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AM: 16 (55%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AM + RAD: 4 (15%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HR = 0.21 (0.07-0.6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0040">
              <a:lnSpc>
                <a:spcPct val="100000"/>
              </a:lnSpc>
              <a:spcBef>
                <a:spcPts val="7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p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0.002  (exploratory analysi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6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de-DE" sz="3200" spc="-1" strike="noStrike">
                <a:solidFill>
                  <a:srgbClr val="da007e"/>
                </a:solidFill>
                <a:latin typeface="Arial Unicode MS"/>
              </a:rPr>
              <a:t>TBCRC 006: </a:t>
            </a:r>
            <a:r>
              <a:rPr b="1" lang="en-US" sz="3200" spc="-1" strike="noStrike">
                <a:solidFill>
                  <a:srgbClr val="333399"/>
                </a:solidFill>
                <a:latin typeface="Arial Unicode MS"/>
              </a:rPr>
              <a:t>Neoadjuvant Lapatinib &amp; Trastuzumab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 Unicode MS"/>
              </a:rPr>
              <a:t>without Chemotherapy</a:t>
            </a:r>
            <a:r>
              <a:rPr b="1" lang="en-US" sz="3200" spc="-1" strike="noStrike">
                <a:solidFill>
                  <a:srgbClr val="333399"/>
                </a:solidFill>
                <a:latin typeface="Arial Unicode MS"/>
              </a:rPr>
              <a:t>:</a:t>
            </a:r>
            <a:endParaRPr b="1" lang="en-US" sz="3200" spc="-1" strike="noStrike">
              <a:solidFill>
                <a:srgbClr val="dd137b"/>
              </a:solidFill>
              <a:latin typeface="Arial Unicode MS"/>
            </a:endParaRPr>
          </a:p>
        </p:txBody>
      </p:sp>
      <p:sp>
        <p:nvSpPr>
          <p:cNvPr id="573" name="TextBox 2"/>
          <p:cNvSpPr/>
          <p:nvPr/>
        </p:nvSpPr>
        <p:spPr>
          <a:xfrm>
            <a:off x="1219320" y="5257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p (L) + Tras (T) + Endocrine Rx if ER+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Straight Connector 7"/>
          <p:cNvSpPr/>
          <p:nvPr/>
        </p:nvSpPr>
        <p:spPr>
          <a:xfrm>
            <a:off x="1066680" y="4038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Straight Connector 8"/>
          <p:cNvSpPr/>
          <p:nvPr/>
        </p:nvSpPr>
        <p:spPr>
          <a:xfrm>
            <a:off x="2133720" y="4038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Straight Connector 9"/>
          <p:cNvSpPr/>
          <p:nvPr/>
        </p:nvSpPr>
        <p:spPr>
          <a:xfrm>
            <a:off x="5410080" y="4038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Straight Connector 10"/>
          <p:cNvSpPr/>
          <p:nvPr/>
        </p:nvSpPr>
        <p:spPr>
          <a:xfrm>
            <a:off x="7238880" y="4038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11"/>
          <p:cNvSpPr/>
          <p:nvPr/>
        </p:nvSpPr>
        <p:spPr>
          <a:xfrm>
            <a:off x="914400" y="4724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2057400" y="4724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13"/>
          <p:cNvSpPr/>
          <p:nvPr/>
        </p:nvSpPr>
        <p:spPr>
          <a:xfrm>
            <a:off x="5257800" y="47052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14"/>
          <p:cNvSpPr/>
          <p:nvPr/>
        </p:nvSpPr>
        <p:spPr>
          <a:xfrm>
            <a:off x="6934320" y="4705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18"/>
          <p:cNvSpPr/>
          <p:nvPr/>
        </p:nvSpPr>
        <p:spPr>
          <a:xfrm>
            <a:off x="152280" y="4267080"/>
            <a:ext cx="6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Group 57"/>
          <p:cNvGrpSpPr/>
          <p:nvPr/>
        </p:nvGrpSpPr>
        <p:grpSpPr>
          <a:xfrm>
            <a:off x="436680" y="1596960"/>
            <a:ext cx="7565040" cy="3800520"/>
            <a:chOff x="436680" y="1596960"/>
            <a:chExt cx="7565040" cy="3800520"/>
          </a:xfrm>
        </p:grpSpPr>
        <p:sp>
          <p:nvSpPr>
            <p:cNvPr id="584" name="Text Box 3"/>
            <p:cNvSpPr/>
            <p:nvPr/>
          </p:nvSpPr>
          <p:spPr>
            <a:xfrm>
              <a:off x="436680" y="1940400"/>
              <a:ext cx="10213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10"/>
            <p:cNvSpPr/>
            <p:nvPr/>
          </p:nvSpPr>
          <p:spPr>
            <a:xfrm>
              <a:off x="1067760" y="1605960"/>
              <a:ext cx="6249240" cy="9889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1400" spc="-1" strike="noStrike">
                  <a:solidFill>
                    <a:srgbClr val="000000"/>
                  </a:solidFill>
                  <a:latin typeface="Verdana"/>
                </a:rPr>
                <a:t>Lapatinib (1000 mg/day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1067760" y="2594880"/>
              <a:ext cx="6249240" cy="1139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1400" spc="-1" strike="noStrike">
                  <a:solidFill>
                    <a:srgbClr val="000000"/>
                  </a:solidFill>
                  <a:latin typeface="Verdana"/>
                </a:rPr>
                <a:t>Trastuzumab (4 mg/kg load, 2 mg/kg q-weekly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Rectangle 15"/>
            <p:cNvSpPr/>
            <p:nvPr/>
          </p:nvSpPr>
          <p:spPr>
            <a:xfrm>
              <a:off x="7310160" y="1605960"/>
              <a:ext cx="691560" cy="2128320"/>
            </a:xfrm>
            <a:prstGeom prst="rect">
              <a:avLst/>
            </a:pr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8" name="Text Box 16" descr=""/>
            <p:cNvPicPr/>
            <p:nvPr/>
          </p:nvPicPr>
          <p:blipFill>
            <a:blip r:embed="rId1"/>
            <a:stretch/>
          </p:blipFill>
          <p:spPr>
            <a:xfrm>
              <a:off x="7388280" y="1596960"/>
              <a:ext cx="450360" cy="214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Line 22"/>
            <p:cNvSpPr/>
            <p:nvPr/>
          </p:nvSpPr>
          <p:spPr>
            <a:xfrm>
              <a:off x="1067760" y="4572720"/>
              <a:ext cx="617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Text Box 23"/>
            <p:cNvSpPr/>
            <p:nvPr/>
          </p:nvSpPr>
          <p:spPr>
            <a:xfrm>
              <a:off x="915120" y="5029200"/>
              <a:ext cx="63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1800" spc="-1" strike="noStrike">
                  <a:solidFill>
                    <a:srgbClr val="000000"/>
                  </a:solidFill>
                  <a:latin typeface="Arial Unicode MS"/>
                </a:rPr>
                <a:t>Week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1" name="Line 28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feld 21"/>
          <p:cNvSpPr/>
          <p:nvPr/>
        </p:nvSpPr>
        <p:spPr>
          <a:xfrm>
            <a:off x="154800" y="62611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ng J et al. ASCO 2011, Abst. 5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feld 1"/>
          <p:cNvSpPr/>
          <p:nvPr/>
        </p:nvSpPr>
        <p:spPr>
          <a:xfrm>
            <a:off x="2288160" y="5880240"/>
            <a:ext cx="33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 = 66 recruited /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61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nalyz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uppieren 9"/>
          <p:cNvGrpSpPr/>
          <p:nvPr/>
        </p:nvGrpSpPr>
        <p:grpSpPr>
          <a:xfrm>
            <a:off x="179280" y="2158920"/>
            <a:ext cx="8632800" cy="4135680"/>
            <a:chOff x="179280" y="2158920"/>
            <a:chExt cx="8632800" cy="4135680"/>
          </a:xfrm>
        </p:grpSpPr>
        <p:pic>
          <p:nvPicPr>
            <p:cNvPr id="595" name="Inhaltsplatzhalter 3" descr=""/>
            <p:cNvPicPr/>
            <p:nvPr/>
          </p:nvPicPr>
          <p:blipFill>
            <a:blip r:embed="rId1"/>
            <a:stretch/>
          </p:blipFill>
          <p:spPr>
            <a:xfrm>
              <a:off x="179280" y="2158920"/>
              <a:ext cx="4087800" cy="40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4724280" y="2230560"/>
              <a:ext cx="4087800" cy="406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218440" cy="114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da007e"/>
                </a:solidFill>
                <a:latin typeface="Arial Unicode MS"/>
              </a:rPr>
              <a:t>Response to Double Blockade without CT according to ER or ER/PgR</a:t>
            </a:r>
            <a:endParaRPr b="1" lang="en-US" sz="3200" spc="-1" strike="noStrike">
              <a:solidFill>
                <a:srgbClr val="dd137b"/>
              </a:solidFill>
              <a:latin typeface="Arial Unicode MS"/>
            </a:endParaRPr>
          </a:p>
        </p:txBody>
      </p:sp>
      <p:sp>
        <p:nvSpPr>
          <p:cNvPr id="598" name="Textfeld 4"/>
          <p:cNvSpPr/>
          <p:nvPr/>
        </p:nvSpPr>
        <p:spPr>
          <a:xfrm>
            <a:off x="982800" y="1143000"/>
            <a:ext cx="31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stuzumab + Lapatini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+LHRH + Letrozo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4 wks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feld 5"/>
          <p:cNvSpPr/>
          <p:nvPr/>
        </p:nvSpPr>
        <p:spPr>
          <a:xfrm>
            <a:off x="5014800" y="1143000"/>
            <a:ext cx="351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stuzumab + Pertuzum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2 wks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feld 8"/>
          <p:cNvSpPr/>
          <p:nvPr/>
        </p:nvSpPr>
        <p:spPr>
          <a:xfrm>
            <a:off x="165600" y="6261120"/>
            <a:ext cx="271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Chang J, ASCO 2011, Abst. 505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Gianni L, SABCS 2010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007e"/>
                </a:solidFill>
                <a:latin typeface="Arial Unicode MS"/>
              </a:rPr>
              <a:t>Prognostic Impact of pCR in Patients </a:t>
            </a:r>
            <a:br>
              <a:rPr sz="3200"/>
            </a:br>
            <a:r>
              <a:rPr b="1" lang="en-US" sz="3200" spc="-1" strike="noStrike">
                <a:solidFill>
                  <a:srgbClr val="da007e"/>
                </a:solidFill>
                <a:latin typeface="Arial Unicode MS"/>
              </a:rPr>
              <a:t>Treated with CT+Trastuzumab</a:t>
            </a:r>
            <a:br>
              <a:rPr sz="3200"/>
            </a:br>
            <a:r>
              <a:rPr b="1" lang="en-US" sz="2000" spc="-1" strike="noStrike">
                <a:solidFill>
                  <a:srgbClr val="da007e"/>
                </a:solidFill>
                <a:latin typeface="Arial Unicode MS"/>
              </a:rPr>
              <a:t>in GeparQuattro &amp; Techno</a:t>
            </a:r>
            <a:endParaRPr b="1" lang="en-US" sz="2000" spc="-1" strike="noStrike">
              <a:solidFill>
                <a:srgbClr val="dd137b"/>
              </a:solidFill>
              <a:latin typeface="Arial Unicode MS"/>
            </a:endParaRPr>
          </a:p>
        </p:txBody>
      </p:sp>
      <p:sp>
        <p:nvSpPr>
          <p:cNvPr id="602" name="Textfeld 15"/>
          <p:cNvSpPr/>
          <p:nvPr/>
        </p:nvSpPr>
        <p:spPr>
          <a:xfrm>
            <a:off x="160200" y="6261120"/>
            <a:ext cx="4103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von Minckwitz G et al, </a:t>
            </a:r>
            <a:r>
              <a:rPr b="1" i="1" lang="de-DE" sz="1300" spc="-1" strike="noStrike">
                <a:solidFill>
                  <a:srgbClr val="000000"/>
                </a:solidFill>
                <a:latin typeface="Arial"/>
              </a:rPr>
              <a:t>Proc ASCO</a:t>
            </a: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 2011 Abst. 1028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609480" y="1905120"/>
            <a:ext cx="7620120" cy="39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R2(+)/ER/PgR(-)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pCR (n = 98)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pCR (n = 200)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value &lt; 0.0001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R2(+)/ER/PgR(+)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pCR (n = 79)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pCR (n = 277) 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value = 0.543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2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Line 2"/>
          <p:cNvSpPr/>
          <p:nvPr/>
        </p:nvSpPr>
        <p:spPr>
          <a:xfrm>
            <a:off x="5824440" y="2868480"/>
            <a:ext cx="576360" cy="1297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3"/>
          <p:cNvSpPr/>
          <p:nvPr/>
        </p:nvSpPr>
        <p:spPr>
          <a:xfrm flipV="1">
            <a:off x="5796000" y="4165560"/>
            <a:ext cx="604800" cy="117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5753160" y="4165560"/>
            <a:ext cx="1079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c76c"/>
                </a:solidFill>
                <a:latin typeface="Arial"/>
              </a:rPr>
              <a:t>T-DM1: A HER2-Targeted </a:t>
            </a:r>
            <a:br>
              <a:rPr sz="2800"/>
            </a:br>
            <a:r>
              <a:rPr b="1" lang="en-US" sz="2800" spc="-1" strike="noStrike">
                <a:solidFill>
                  <a:srgbClr val="e3c76c"/>
                </a:solidFill>
                <a:latin typeface="Arial"/>
              </a:rPr>
              <a:t>Antibody-Drug Conjugate </a:t>
            </a:r>
            <a:endParaRPr b="1" lang="en-US" sz="2800" spc="-1" strike="noStrike">
              <a:solidFill>
                <a:srgbClr val="e3c76c"/>
              </a:solidFill>
              <a:latin typeface="Arial"/>
            </a:endParaRPr>
          </a:p>
        </p:txBody>
      </p:sp>
      <p:grpSp>
        <p:nvGrpSpPr>
          <p:cNvPr id="608" name="Group 22"/>
          <p:cNvGrpSpPr/>
          <p:nvPr/>
        </p:nvGrpSpPr>
        <p:grpSpPr>
          <a:xfrm>
            <a:off x="1281240" y="1625760"/>
            <a:ext cx="4584600" cy="1387440"/>
            <a:chOff x="1281240" y="1625760"/>
            <a:chExt cx="4584600" cy="1387440"/>
          </a:xfrm>
        </p:grpSpPr>
        <p:sp>
          <p:nvSpPr>
            <p:cNvPr id="609" name="Rectangle 7"/>
            <p:cNvSpPr/>
            <p:nvPr/>
          </p:nvSpPr>
          <p:spPr>
            <a:xfrm>
              <a:off x="1281240" y="2013120"/>
              <a:ext cx="4584600" cy="1000080"/>
            </a:xfrm>
            <a:prstGeom prst="rect">
              <a:avLst/>
            </a:prstGeom>
            <a:solidFill>
              <a:srgbClr val="fff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1281240" y="1625760"/>
              <a:ext cx="4581360" cy="396720"/>
            </a:xfrm>
            <a:prstGeom prst="rect">
              <a:avLst/>
            </a:prstGeom>
            <a:solidFill>
              <a:srgbClr val="ffd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Osak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Osaka"/>
                </a:rPr>
                <a:t>Humanized HER2 mAb: Trastuzumab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" name="Group 23"/>
          <p:cNvGrpSpPr/>
          <p:nvPr/>
        </p:nvGrpSpPr>
        <p:grpSpPr>
          <a:xfrm>
            <a:off x="1281240" y="3403440"/>
            <a:ext cx="4581360" cy="1308240"/>
            <a:chOff x="1281240" y="3403440"/>
            <a:chExt cx="4581360" cy="1308240"/>
          </a:xfrm>
        </p:grpSpPr>
        <p:sp>
          <p:nvSpPr>
            <p:cNvPr id="612" name="Rectangle 9"/>
            <p:cNvSpPr/>
            <p:nvPr/>
          </p:nvSpPr>
          <p:spPr>
            <a:xfrm>
              <a:off x="1281240" y="3763800"/>
              <a:ext cx="4581360" cy="947880"/>
            </a:xfrm>
            <a:prstGeom prst="rect">
              <a:avLst/>
            </a:prstGeom>
            <a:solidFill>
              <a:srgbClr val="fff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1281240" y="3403440"/>
              <a:ext cx="4581360" cy="360360"/>
            </a:xfrm>
            <a:prstGeom prst="rect">
              <a:avLst/>
            </a:prstGeom>
            <a:solidFill>
              <a:srgbClr val="ffd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Osak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Osaka"/>
                </a:rPr>
                <a:t>Cytotoxic drug: DM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" name="Group 24"/>
          <p:cNvGrpSpPr/>
          <p:nvPr/>
        </p:nvGrpSpPr>
        <p:grpSpPr>
          <a:xfrm>
            <a:off x="1279440" y="5141880"/>
            <a:ext cx="4616640" cy="1152720"/>
            <a:chOff x="1279440" y="5141880"/>
            <a:chExt cx="4616640" cy="1152720"/>
          </a:xfrm>
        </p:grpSpPr>
        <p:sp>
          <p:nvSpPr>
            <p:cNvPr id="615" name="Rectangle 11"/>
            <p:cNvSpPr/>
            <p:nvPr/>
          </p:nvSpPr>
          <p:spPr>
            <a:xfrm>
              <a:off x="1279440" y="5573880"/>
              <a:ext cx="4616640" cy="720720"/>
            </a:xfrm>
            <a:prstGeom prst="rect">
              <a:avLst/>
            </a:prstGeom>
            <a:solidFill>
              <a:srgbClr val="fff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ically stab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Rectangle 12"/>
            <p:cNvSpPr/>
            <p:nvPr/>
          </p:nvSpPr>
          <p:spPr>
            <a:xfrm>
              <a:off x="1279440" y="5141880"/>
              <a:ext cx="4616640" cy="432000"/>
            </a:xfrm>
            <a:prstGeom prst="rect">
              <a:avLst/>
            </a:prstGeom>
            <a:solidFill>
              <a:srgbClr val="ffd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Osaka"/>
                </a:rPr>
                <a:t>Nonreducible thioether linker: SMCC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Text Box 13"/>
          <p:cNvSpPr/>
          <p:nvPr/>
        </p:nvSpPr>
        <p:spPr>
          <a:xfrm>
            <a:off x="6710400" y="5334120"/>
            <a:ext cx="1822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91440" anchor="b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ヒラギノ角ゴ Pro W3"/>
              </a:rPr>
              <a:t>T-DM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14" descr="GreenWithSpikes"/>
          <p:cNvPicPr/>
          <p:nvPr/>
        </p:nvPicPr>
        <p:blipFill>
          <a:blip r:embed="rId1"/>
          <a:stretch/>
        </p:blipFill>
        <p:spPr>
          <a:xfrm rot="1747200">
            <a:off x="7213320" y="3335400"/>
            <a:ext cx="1447560" cy="1571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5" descr="Green_Y_No_Spikes"/>
          <p:cNvPicPr/>
          <p:nvPr/>
        </p:nvPicPr>
        <p:blipFill>
          <a:blip r:embed="rId2"/>
          <a:stretch/>
        </p:blipFill>
        <p:spPr>
          <a:xfrm rot="2674800">
            <a:off x="464760" y="1959120"/>
            <a:ext cx="665280" cy="723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6" descr="JustSpikes"/>
          <p:cNvPicPr/>
          <p:nvPr/>
        </p:nvPicPr>
        <p:blipFill>
          <a:blip r:embed="rId3"/>
          <a:stretch/>
        </p:blipFill>
        <p:spPr>
          <a:xfrm>
            <a:off x="495360" y="3814920"/>
            <a:ext cx="485640" cy="4856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7" descr="JustBar"/>
          <p:cNvPicPr/>
          <p:nvPr/>
        </p:nvPicPr>
        <p:blipFill>
          <a:blip r:embed="rId4"/>
          <a:stretch/>
        </p:blipFill>
        <p:spPr>
          <a:xfrm rot="2109000">
            <a:off x="504360" y="5678640"/>
            <a:ext cx="447840" cy="82440"/>
          </a:xfrm>
          <a:prstGeom prst="rect">
            <a:avLst/>
          </a:prstGeom>
          <a:ln w="0">
            <a:noFill/>
          </a:ln>
        </p:spPr>
      </p:pic>
      <p:sp>
        <p:nvSpPr>
          <p:cNvPr id="622" name="TextBox 19"/>
          <p:cNvSpPr/>
          <p:nvPr/>
        </p:nvSpPr>
        <p:spPr>
          <a:xfrm>
            <a:off x="1276200" y="3795840"/>
            <a:ext cx="462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otent cytotoxic ag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inhibitor of tubulin polymerization and microtubule dynamic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Box 20"/>
          <p:cNvSpPr/>
          <p:nvPr/>
        </p:nvSpPr>
        <p:spPr>
          <a:xfrm>
            <a:off x="1290600" y="2162160"/>
            <a:ext cx="46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-DM1 retai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antitumor activities of trastuzum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2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c76c"/>
                </a:solidFill>
                <a:latin typeface="Arial"/>
              </a:rPr>
              <a:t>T-DM1 Phase 2 in HER2+ MBC (n = 112)</a:t>
            </a:r>
            <a:endParaRPr b="1" lang="en-US" sz="3600" spc="-1" strike="noStrike">
              <a:solidFill>
                <a:srgbClr val="e3c76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3803760" cy="533520"/>
          </a:xfrm>
          <a:prstGeom prst="rect">
            <a:avLst/>
          </a:prstGeom>
          <a:gradFill rotWithShape="0">
            <a:gsLst>
              <a:gs pos="0">
                <a:srgbClr val="f4f5f7"/>
              </a:gs>
              <a:gs pos="100000">
                <a:srgbClr val="dee0e8"/>
              </a:gs>
            </a:gsLst>
            <a:lin ang="10800000"/>
          </a:gradFill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f5466"/>
                </a:solidFill>
                <a:latin typeface="Arial"/>
              </a:rPr>
              <a:t>Efficacy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914040" y="1752120"/>
            <a:ext cx="716292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1199"/>
              </a:spcBef>
              <a:spcAft>
                <a:spcPts val="964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9.3% ORR (n = 10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spcAft>
                <a:spcPts val="964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0.0% ORR for confirmed HER2+ patients (n = 7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spcAft>
                <a:spcPts val="964"/>
              </a:spcAft>
              <a:buClr>
                <a:srgbClr val="e3c7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8.3% ORR for patients previously treated with lapatinib (n = 6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914040" y="3962520"/>
            <a:ext cx="563868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Grade 3 or 4 adverse ev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spcBef>
                <a:spcPts val="550"/>
              </a:spcBef>
              <a:spcAft>
                <a:spcPts val="964"/>
              </a:spcAft>
              <a:buClr>
                <a:srgbClr val="e3c7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rombocytopenia (n = 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15880" indent="-228600">
              <a:spcBef>
                <a:spcPts val="550"/>
              </a:spcBef>
              <a:spcAft>
                <a:spcPts val="964"/>
              </a:spcAft>
              <a:buClr>
                <a:srgbClr val="e3c7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okalemia (n = 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15880" indent="-228600">
              <a:spcBef>
                <a:spcPts val="550"/>
              </a:spcBef>
              <a:spcAft>
                <a:spcPts val="964"/>
              </a:spcAft>
              <a:buClr>
                <a:srgbClr val="e3c76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atigue (n = 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8"/>
          <p:cNvSpPr/>
          <p:nvPr/>
        </p:nvSpPr>
        <p:spPr>
          <a:xfrm>
            <a:off x="3733920" y="64882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Burris H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J Clin Oncolo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29:398-405, 20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22:06:53Z</dcterms:created>
  <dc:creator>brw-jeschke</dc:creator>
  <dc:description/>
  <dc:language>en-US</dc:language>
  <cp:lastModifiedBy>Aura Herrmann</cp:lastModifiedBy>
  <cp:lastPrinted>2012-01-24T21:22:31Z</cp:lastPrinted>
  <dcterms:modified xsi:type="dcterms:W3CDTF">2012-02-17T21:21:41Z</dcterms:modified>
  <cp:revision>643</cp:revision>
  <dc:subject/>
  <dc:title>xx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Title">
    <vt:lpwstr>BiPar Sciences, Inc.</vt:lpwstr>
  </property>
  <property fmtid="{D5CDD505-2E9C-101B-9397-08002B2CF9AE}" pid="6" name="docid">
    <vt:lpwstr/>
  </property>
</Properties>
</file>