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000" y="22680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3600" spc="-1" strike="noStrike">
              <a:solidFill>
                <a:srgbClr val="3333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000" y="1415520"/>
            <a:ext cx="7769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000" y="3922200"/>
            <a:ext cx="7769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22680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3600" spc="-1" strike="noStrike">
              <a:solidFill>
                <a:srgbClr val="3333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415520"/>
            <a:ext cx="3791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240" y="1415520"/>
            <a:ext cx="3791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000" y="3922200"/>
            <a:ext cx="3791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5240" y="3922200"/>
            <a:ext cx="3791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22680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3600" spc="-1" strike="noStrike">
              <a:solidFill>
                <a:srgbClr val="3333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000" y="1415520"/>
            <a:ext cx="25012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0560" y="1415520"/>
            <a:ext cx="25012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7480" y="1415520"/>
            <a:ext cx="25012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000" y="3922200"/>
            <a:ext cx="25012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0560" y="3922200"/>
            <a:ext cx="25012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7480" y="3922200"/>
            <a:ext cx="25012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22680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3600" spc="-1" strike="noStrike">
              <a:solidFill>
                <a:srgbClr val="3333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000" y="1415520"/>
            <a:ext cx="776916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8280" indent="0" algn="ctr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22680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3600" spc="-1" strike="noStrike">
              <a:solidFill>
                <a:srgbClr val="3333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000" y="1415520"/>
            <a:ext cx="776916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22680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3600" spc="-1" strike="noStrike">
              <a:solidFill>
                <a:srgbClr val="3333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1415520"/>
            <a:ext cx="379116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5240" y="1415520"/>
            <a:ext cx="379116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22680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3600" spc="-1" strike="noStrike">
              <a:solidFill>
                <a:srgbClr val="3333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000" y="226800"/>
            <a:ext cx="776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8280" algn="ctr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22680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3600" spc="-1" strike="noStrike">
              <a:solidFill>
                <a:srgbClr val="3333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000" y="1415520"/>
            <a:ext cx="3791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415520"/>
            <a:ext cx="379116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000" y="3922200"/>
            <a:ext cx="3791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000" y="22680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3600" spc="-1" strike="noStrike">
              <a:solidFill>
                <a:srgbClr val="3333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1415520"/>
            <a:ext cx="379116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415520"/>
            <a:ext cx="3791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240" y="3922200"/>
            <a:ext cx="3791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000" y="22680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3600" spc="-1" strike="noStrike">
              <a:solidFill>
                <a:srgbClr val="3333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000" y="1415520"/>
            <a:ext cx="3791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415520"/>
            <a:ext cx="3791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000" y="3922200"/>
            <a:ext cx="7769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None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SurveySays_PPT_Background_v5fr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000" y="22680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3333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415520"/>
            <a:ext cx="776916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29232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82640" indent="-26028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173240" indent="-19368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565280" indent="-19368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957320" indent="-19512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957320" indent="-19512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957320" indent="-195120">
              <a:lnSpc>
                <a:spcPct val="105000"/>
              </a:lnSpc>
              <a:spcBef>
                <a:spcPts val="1089"/>
              </a:spcBef>
              <a:spcAft>
                <a:spcPts val="7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609480" y="1905120"/>
            <a:ext cx="8001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Aggregate Survey Responses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of Medical Oncologists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Attending 12 Research To Practice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Grand Rounds Even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120760" y="4884840"/>
            <a:ext cx="179640" cy="38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120760" y="5407200"/>
            <a:ext cx="6413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120760" y="5407200"/>
            <a:ext cx="180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3043080" y="5407200"/>
            <a:ext cx="180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951360" y="540720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3680" y="540720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781600" y="5407200"/>
            <a:ext cx="180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703920" y="5407200"/>
            <a:ext cx="180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7612200" y="540720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534520" y="540720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65320" y="5407200"/>
            <a:ext cx="55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65320" y="4734000"/>
            <a:ext cx="55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65320" y="4073400"/>
            <a:ext cx="55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65320" y="3398760"/>
            <a:ext cx="55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65320" y="2738520"/>
            <a:ext cx="55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65320" y="2063880"/>
            <a:ext cx="55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0520" y="495936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03400" y="556416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0280" y="55641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78200" y="55641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00520" y="55641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08800" y="55641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31120" y="55641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39040" y="55641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61360" y="55641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60880" y="4971960"/>
            <a:ext cx="54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63520" y="3505320"/>
            <a:ext cx="3605040" cy="487080"/>
            <a:chOff x="263520" y="3505320"/>
            <a:chExt cx="3605040" cy="487080"/>
          </a:xfrm>
        </p:grpSpPr>
        <p:sp>
          <p:nvSpPr>
            <p:cNvPr id="67" name=""/>
            <p:cNvSpPr/>
            <p:nvPr/>
          </p:nvSpPr>
          <p:spPr>
            <a:xfrm>
              <a:off x="2120760" y="3554280"/>
              <a:ext cx="1279800" cy="371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62480" y="36291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3520" y="3505320"/>
              <a:ext cx="17442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squamous or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/oligosmokers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00240" y="2209680"/>
            <a:ext cx="7876800" cy="385920"/>
            <a:chOff x="300240" y="2209680"/>
            <a:chExt cx="7876800" cy="385920"/>
          </a:xfrm>
        </p:grpSpPr>
        <p:sp>
          <p:nvSpPr>
            <p:cNvPr id="71" name=""/>
            <p:cNvSpPr/>
            <p:nvPr/>
          </p:nvSpPr>
          <p:spPr>
            <a:xfrm>
              <a:off x="2120760" y="2209680"/>
              <a:ext cx="5588280" cy="385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0960" y="22986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1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0240" y="2284200"/>
              <a:ext cx="1698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nonsquamous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31840" y="4267080"/>
            <a:ext cx="2298240" cy="258120"/>
            <a:chOff x="231840" y="4267080"/>
            <a:chExt cx="2298240" cy="258120"/>
          </a:xfrm>
        </p:grpSpPr>
        <p:sp>
          <p:nvSpPr>
            <p:cNvPr id="75" name=""/>
            <p:cNvSpPr/>
            <p:nvPr/>
          </p:nvSpPr>
          <p:spPr>
            <a:xfrm>
              <a:off x="2236680" y="426708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840" y="4281480"/>
              <a:ext cx="176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/oligosmokers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68720" y="2895480"/>
            <a:ext cx="4280760" cy="385560"/>
            <a:chOff x="468720" y="2895480"/>
            <a:chExt cx="4280760" cy="385560"/>
          </a:xfrm>
        </p:grpSpPr>
        <p:sp>
          <p:nvSpPr>
            <p:cNvPr id="78" name=""/>
            <p:cNvSpPr/>
            <p:nvPr/>
          </p:nvSpPr>
          <p:spPr>
            <a:xfrm>
              <a:off x="2120760" y="2895480"/>
              <a:ext cx="2105280" cy="385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3400" y="29700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3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8720" y="2970000"/>
              <a:ext cx="153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st all patients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80880" y="228600"/>
            <a:ext cx="85345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 metastatic non-small cell lung cancer (NSCLC) cases in which tissue has already been accessed, for which patients would you order EGFR mutation and EML4-ALK translocation testing?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0760" y="2063880"/>
            <a:ext cx="1800" cy="334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90840" y="3908520"/>
            <a:ext cx="5024520" cy="503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90840" y="2384280"/>
            <a:ext cx="5253120" cy="503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0840" y="4973760"/>
            <a:ext cx="6168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490840" y="4973760"/>
            <a:ext cx="144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516480" y="4973760"/>
            <a:ext cx="144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543560" y="4973760"/>
            <a:ext cx="144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581800" y="4973760"/>
            <a:ext cx="144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607080" y="4973760"/>
            <a:ext cx="180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632720" y="4973760"/>
            <a:ext cx="144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8659800" y="4973760"/>
            <a:ext cx="144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90840" y="1828800"/>
            <a:ext cx="1440" cy="314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4973760"/>
            <a:ext cx="52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3600" y="3375000"/>
            <a:ext cx="52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3600" y="1828800"/>
            <a:ext cx="52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818840" y="252720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6560" y="40593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77440" y="512604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720" y="512604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74000" y="512604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4040" y="512604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39320" y="512604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4960" y="512604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90600" y="512604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200" y="3832200"/>
            <a:ext cx="203364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GFR testing followed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y ALK testing if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GFR is negative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26160" y="2514600"/>
            <a:ext cx="118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currently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28600"/>
            <a:ext cx="8534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hould EGFR and ALK testing be ordered concurrently or in sequence (ALK only if EGFR is wild type)?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401920" y="4630680"/>
            <a:ext cx="262080" cy="439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01920" y="3516480"/>
            <a:ext cx="5133960" cy="439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01920" y="2401920"/>
            <a:ext cx="3303720" cy="439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01920" y="5400720"/>
            <a:ext cx="60832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401920" y="540072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268800" y="540072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35320" y="5400720"/>
            <a:ext cx="180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003640" y="5400720"/>
            <a:ext cx="180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84920" y="540072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51800" y="540072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618320" y="5400720"/>
            <a:ext cx="180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485200" y="540072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01920" y="2057400"/>
            <a:ext cx="1440" cy="334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6480" y="5400720"/>
            <a:ext cx="55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6480" y="4286160"/>
            <a:ext cx="55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6480" y="3171960"/>
            <a:ext cx="55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46480" y="2057400"/>
            <a:ext cx="55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65760" y="25034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9560" y="473220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51800" y="3645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9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4560" y="55576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95640" y="55576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3960" y="55576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30840" y="55576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1760" y="55576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78640" y="55576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45520" y="55576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12040" y="55576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29080" y="4732200"/>
            <a:ext cx="54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24280" y="3618000"/>
            <a:ext cx="27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5400" y="2270160"/>
            <a:ext cx="1745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s, patients wh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symptomat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their disease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28600"/>
            <a:ext cx="85345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re there patients with EGFR activating mutations who should be started on chemotherapy as opposed to an EGFR tyrosine kinase inhibitor (TKI) as first-line systemic treatment?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228600"/>
            <a:ext cx="80010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re there patients with ALK tumor translocations who should be started on chemotherapy as opposed to crizotinib as first-line systemic treatment?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67640" y="1987560"/>
            <a:ext cx="8188560" cy="3744000"/>
            <a:chOff x="467640" y="1987560"/>
            <a:chExt cx="8188560" cy="3744000"/>
          </a:xfrm>
        </p:grpSpPr>
        <p:sp>
          <p:nvSpPr>
            <p:cNvPr id="143" name=""/>
            <p:cNvSpPr/>
            <p:nvPr/>
          </p:nvSpPr>
          <p:spPr>
            <a:xfrm>
              <a:off x="2340000" y="4560840"/>
              <a:ext cx="137880" cy="439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40000" y="3446640"/>
              <a:ext cx="5614920" cy="439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40000" y="2332080"/>
              <a:ext cx="1019160" cy="439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40000" y="5330880"/>
              <a:ext cx="6083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340000" y="5330880"/>
              <a:ext cx="144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014640" y="5330880"/>
              <a:ext cx="144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689280" y="5330880"/>
              <a:ext cx="144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363920" y="5330880"/>
              <a:ext cx="144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037120" y="5330880"/>
              <a:ext cx="144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726160" y="5330880"/>
              <a:ext cx="144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400800" y="5330880"/>
              <a:ext cx="144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075440" y="5330880"/>
              <a:ext cx="144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748640" y="5330880"/>
              <a:ext cx="144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8423280" y="5330880"/>
              <a:ext cx="144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40000" y="1987560"/>
              <a:ext cx="1440" cy="3343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4200" y="5330880"/>
              <a:ext cx="55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4200" y="4216320"/>
              <a:ext cx="55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4200" y="3102120"/>
              <a:ext cx="55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4200" y="1987560"/>
              <a:ext cx="55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280" y="24336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93800" y="46893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57880" y="35622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3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22280" y="548784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41480" y="5487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16120" y="5487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0760" y="5487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63960" y="5487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53000" y="5487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27640" y="5487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02280" y="5487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76920" y="5487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50120" y="5487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60680" y="4662360"/>
              <a:ext cx="54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43280" y="354816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7640" y="2162160"/>
              <a:ext cx="17456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, patients wh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e symptomatic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om their disease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630520" y="5029200"/>
            <a:ext cx="743040" cy="262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30520" y="4044960"/>
            <a:ext cx="4280040" cy="260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30520" y="3209760"/>
            <a:ext cx="1471680" cy="262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30520" y="2311560"/>
            <a:ext cx="5022720" cy="260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30520" y="1397160"/>
            <a:ext cx="3247920" cy="260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30520" y="5635800"/>
            <a:ext cx="5904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630520" y="563580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373560" y="563580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02200" y="563580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46680" y="563580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589720" y="563580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318360" y="563580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062840" y="563580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791480" y="563580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534520" y="5635800"/>
            <a:ext cx="1440" cy="55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30520" y="1066680"/>
            <a:ext cx="1440" cy="4569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75080" y="5635800"/>
            <a:ext cx="55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75080" y="4721400"/>
            <a:ext cx="55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75080" y="3807000"/>
            <a:ext cx="55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75080" y="2894040"/>
            <a:ext cx="55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75080" y="1979640"/>
            <a:ext cx="55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75080" y="1066680"/>
            <a:ext cx="55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64120" y="3230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715160" y="233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38920" y="1415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9480" y="507672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13520" y="40640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1360" y="579276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55840" y="579276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30480" y="5792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73520" y="5792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6560" y="5792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45200" y="5792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9680" y="5792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18320" y="5792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61360" y="5792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10600" y="5048280"/>
            <a:ext cx="50976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7640" y="3822840"/>
            <a:ext cx="20732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in fli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ヒラギノ角ゴ ProN W6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Either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rbo/pemetrexed/bev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 carbo/paclitaxel/bev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ith maintenance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1680" y="3092400"/>
            <a:ext cx="2059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rbo/pemetrexed/bev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v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1680" y="2178000"/>
            <a:ext cx="2059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rbo/pemetrexed/bev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metrexed/bev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1480" y="1263600"/>
            <a:ext cx="18601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rbo/paclitaxel/bev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v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28600"/>
            <a:ext cx="8534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at is your usual front-line and maintenance strategy for patients with EGFR wild-type tumors without contraindications to bevacizumab?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498760" y="3537000"/>
            <a:ext cx="1299960" cy="295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98760" y="2813040"/>
            <a:ext cx="5410080" cy="295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98760" y="2073240"/>
            <a:ext cx="5054400" cy="295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98760" y="4805280"/>
            <a:ext cx="5881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498760" y="4805280"/>
            <a:ext cx="144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089160" y="4805280"/>
            <a:ext cx="180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681360" y="4805280"/>
            <a:ext cx="180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257720" y="4805280"/>
            <a:ext cx="144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849920" y="4805280"/>
            <a:ext cx="144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440320" y="4805280"/>
            <a:ext cx="180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031080" y="4805280"/>
            <a:ext cx="144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622920" y="4805280"/>
            <a:ext cx="180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199280" y="4805280"/>
            <a:ext cx="180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7791480" y="4805280"/>
            <a:ext cx="144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8380440" y="4805280"/>
            <a:ext cx="3240" cy="6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98760" y="1828800"/>
            <a:ext cx="1440" cy="2979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40080" y="4805280"/>
            <a:ext cx="58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40080" y="4040280"/>
            <a:ext cx="58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40080" y="3316320"/>
            <a:ext cx="58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40080" y="2575080"/>
            <a:ext cx="58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40080" y="1836720"/>
            <a:ext cx="58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6568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74000" y="28479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18320" y="21099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02080" y="429732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71680" y="497376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63880" y="497376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95600" y="497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71960" y="497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64160" y="497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3120" y="497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45320" y="497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37160" y="497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13520" y="497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05720" y="497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94680" y="497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0120" y="4297320"/>
            <a:ext cx="167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rbo/pemetrexed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5680" y="3360600"/>
            <a:ext cx="17395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rbo/nanoparticle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bumin-bound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nab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) paclitaxel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5320" y="2833560"/>
            <a:ext cx="171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rbo/gemcitabine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67240" y="2093760"/>
            <a:ext cx="147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rbo/paclitaxel</a:t>
            </a:r>
            <a:endParaRPr b="1" lang="en-US" sz="1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228600"/>
            <a:ext cx="8534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at is your usual first-line chemotherapy regimen for patients with metastatic squamous cell NSCLC?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383760" y="1987560"/>
            <a:ext cx="8531280" cy="3744000"/>
            <a:chOff x="383760" y="1987560"/>
            <a:chExt cx="8531280" cy="3744000"/>
          </a:xfrm>
        </p:grpSpPr>
        <p:sp>
          <p:nvSpPr>
            <p:cNvPr id="262" name=""/>
            <p:cNvSpPr/>
            <p:nvPr/>
          </p:nvSpPr>
          <p:spPr>
            <a:xfrm>
              <a:off x="2584440" y="4876920"/>
              <a:ext cx="303120" cy="261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84440" y="4203720"/>
              <a:ext cx="2587680" cy="260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84440" y="3541680"/>
              <a:ext cx="5643360" cy="262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84440" y="2868480"/>
              <a:ext cx="5189400" cy="260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84440" y="2208240"/>
              <a:ext cx="1528560" cy="260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84440" y="5330880"/>
              <a:ext cx="60973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584440" y="5330880"/>
              <a:ext cx="144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341520" y="5330880"/>
              <a:ext cx="180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113000" y="5330880"/>
              <a:ext cx="180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4870440" y="5330880"/>
              <a:ext cx="144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640120" y="5330880"/>
              <a:ext cx="180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6397560" y="5330880"/>
              <a:ext cx="144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7154640" y="5330880"/>
              <a:ext cx="180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24680" y="5330880"/>
              <a:ext cx="144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681760" y="5330880"/>
              <a:ext cx="1800" cy="5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84440" y="1987560"/>
              <a:ext cx="1440" cy="3343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30440" y="5330880"/>
              <a:ext cx="54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30440" y="4657680"/>
              <a:ext cx="54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30440" y="3997440"/>
              <a:ext cx="54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30440" y="3322800"/>
              <a:ext cx="54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30440" y="2662200"/>
              <a:ext cx="54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30440" y="1987560"/>
              <a:ext cx="54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289720" y="35622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7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835760" y="28875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4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73480" y="22273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03480" y="492444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75080" y="42228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66720" y="548784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24160" y="548784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40200" y="5487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97280" y="5487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67320" y="5487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24400" y="5487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81840" y="5487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53320" y="5487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08960" y="5487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1" lang="en-US" sz="1600" spc="-1" strike="noStrike">
                <a:solidFill>
                  <a:srgbClr val="3333cc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83760" y="2212920"/>
              <a:ext cx="2062440" cy="2926800"/>
              <a:chOff x="383760" y="2212920"/>
              <a:chExt cx="2062440" cy="2926800"/>
            </a:xfrm>
          </p:grpSpPr>
          <p:sp>
            <p:nvSpPr>
              <p:cNvPr id="299" name=""/>
              <p:cNvSpPr/>
              <p:nvPr/>
            </p:nvSpPr>
            <p:spPr>
              <a:xfrm>
                <a:off x="1871640" y="4896000"/>
                <a:ext cx="54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ther</a:t>
                </a:r>
                <a:endParaRPr b="1" lang="en-US" sz="16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3760" y="4222800"/>
                <a:ext cx="202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rbo/chemotherapy</a:t>
                </a:r>
                <a:endParaRPr b="1" lang="en-US" sz="16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96720" y="3548160"/>
                <a:ext cx="204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splatin/pemetrexed</a:t>
                </a:r>
                <a:endParaRPr b="1" lang="en-US" sz="16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3600" y="2887560"/>
                <a:ext cx="199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splatin/vinorelbine</a:t>
                </a:r>
                <a:endParaRPr b="1" lang="en-US" sz="16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99760" y="2212920"/>
                <a:ext cx="184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455760"/>
                    <a:tab algn="l" pos="911160"/>
                    <a:tab algn="l" pos="1366920"/>
                    <a:tab algn="l" pos="1822320"/>
                    <a:tab algn="l" pos="2278080"/>
                    <a:tab algn="l" pos="2733840"/>
                    <a:tab algn="l" pos="3189240"/>
                    <a:tab algn="l" pos="3645000"/>
                    <a:tab algn="l" pos="4100400"/>
                    <a:tab algn="l" pos="4556160"/>
                    <a:tab algn="l" pos="5011560"/>
                    <a:tab algn="l" pos="5467320"/>
                    <a:tab algn="l" pos="5923080"/>
                    <a:tab algn="l" pos="6378480"/>
                    <a:tab algn="l" pos="6834240"/>
                    <a:tab algn="l" pos="7289640"/>
                    <a:tab algn="l" pos="7745400"/>
                    <a:tab algn="l" pos="8201160"/>
                    <a:tab algn="l" pos="8656560"/>
                    <a:tab algn="l" pos="911232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splatin/docetaxel</a:t>
                </a:r>
                <a:endParaRPr b="1" lang="en-US" sz="16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380880" y="228600"/>
            <a:ext cx="8001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at is your usual adjuvant chemotherapy regimen for patients with adenocarcinoma of the lung?</a:t>
            </a:r>
            <a:endParaRPr b="1" lang="en-US" sz="2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20:39:11Z</dcterms:created>
  <dc:creator>Research To Practice</dc:creator>
  <dc:description>www.ResearchToPractice.com</dc:description>
  <cp:keywords/>
  <dc:language>en-US</dc:language>
  <cp:lastModifiedBy>Mac Pro E703803Y4PC</cp:lastModifiedBy>
  <cp:lastPrinted>2012-07-23T17:09:50Z</cp:lastPrinted>
  <dcterms:modified xsi:type="dcterms:W3CDTF">2012-07-24T16:01:23Z</dcterms:modified>
  <cp:revision>411</cp:revision>
  <dc:subject/>
  <dc:title>Survey Says: An Interactive Grand Rounds Activity Focused on Real Cases of Patients with Colorectal Cancer</dc:title>
</cp:coreProperties>
</file>