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2B74-EB1F-44F6-8D66-553FD1BAEA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9F475-4277-4BF3-9E90-7DB4357F6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6BB6E-9487-4EE9-953B-BBDB6087A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DA1C-648C-4E89-B338-808F56E66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D921E-02FC-4F59-851A-37D531FE5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5951F-BCEF-4C5E-ABB8-CDEFDF77DC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C9B3-82E5-4F80-AA95-560FA3C64B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ABB10-7D37-4CC9-A2ED-051869D88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6C60-E3D2-47F4-94C4-AE2C66751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D65A4-BC98-49E1-9F52-C7274EDB8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B0B9-ADEB-46C9-B373-4F718F34BD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3DB8-F68F-4936-9E9A-3DA6BC0C82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3017-DB5E-4311-B9A4-2A2CD431C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86E1-C37B-493A-8908-380360F8C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CBE0-3D3E-41A2-AC82-90E9C8AB8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9E85-09D8-4989-BC45-9FDDA5030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D56A-E52A-48E3-B821-08FE60A286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454B-A37D-450B-A9E0-EDE320A2A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D217-3645-43DD-A068-B9D4D64C97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6597-BAEC-48D9-A0EC-156B8CA34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6B0A-D9B4-4D0E-83AA-104F9ED539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799A-76B0-48C8-B6F9-408ABEA944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640E-AA3F-4E0E-AB9E-CD823F9A2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F8C73-100B-4A94-9A57-A549CFF5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BF19C-360C-4296-A521-9F76C3300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1B6C-20EB-4453-89A2-14097EB1C0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2808F-D8D6-45EF-8A72-9A2C8024D6D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C5ED-524D-4115-85B7-F77D7BD98A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9087A-AE77-4ABE-BFCA-46F9FD46B4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52E7-FB5E-454D-8432-651ADB5C2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434F-DD6A-4146-9F1B-4E9C9DB75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FB8B-4E7A-438F-BFB8-DD13CE506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0266-19CE-43FF-B61C-EE456285F6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22AC6-2CAB-4D25-A31D-BAC20550A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7DD3-4BF1-4FF6-8105-797BB0F3D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9754-F410-4A1A-987C-ED57BCB343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5C532-E446-40B7-85C5-F569BBE3F7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273D-3408-4E68-B220-5C0D4F62E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BDB4-D5A1-470A-B6AD-63716205A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5336-980D-4EA9-93AC-C55EFCFC8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19EF-0675-4BC5-B980-D089D37798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5670-ECE8-4EB6-B21A-CD9AD3489C6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E4CE-E3B5-48E1-8DB0-0BC0D9E9C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F894-95D5-496B-B5A9-A64B97B75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95710-E10E-4DF2-97D6-1900BF762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A21A-2609-4137-99AF-63ADAC0EC5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B383A-7FB2-438F-A8E0-136DCDF47F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9E8D5-6686-4D25-AF45-9CA4E27E4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4DBE-DD04-4727-AFD0-5FCAD4AC48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23B6D-15FF-4C34-8CAD-529DFA1A1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D22F-45A4-4E97-B9BA-4A944D7517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0E68-885F-456F-AC9E-E61EB82991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3DEA-A028-4388-A15D-9C11FE588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F1B7-C79E-4C40-BA69-A8E85B637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F68B-5BB3-42D9-9F64-D71AFF800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8915-8551-4B8B-8C67-07EBECD54A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1F13-F668-4AD3-95FC-68E50709D8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FFF9-99D5-4D1E-A9EB-077420EE2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7C0C-55A9-4643-B15E-7D413506D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79CC2-684A-45D8-9DFE-D421A0F17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04FA-B4E9-43BD-A004-582BC5469F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955D-5DF6-4CDB-8470-D7253F14DF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68DD7-C285-4DF5-B330-2A9F246CDD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7A9B-7599-4D38-AE8D-4D5C9D5B0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6C4D-86A7-4566-83ED-7D32B795E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0E86C-9ADE-43E3-A76A-9883418D76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C26C9-8641-48A2-840A-886EF78E36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FFB2-8D3C-4620-A7E6-F4F5F4107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C276-E2DA-447B-8304-B02BF093CD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B25C-7358-4861-A4F1-F4159A127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73BC-0511-40D0-A643-EA7389F920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73D3-EB9D-4EFE-B077-9089CF598D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85AA-C185-427C-8541-D696B3A73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A19C-D484-4395-A094-0EAC18D9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4F85-2525-491D-9877-4FEA6A87B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5F33-1846-433F-BD06-77AD51DF02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BF73-5090-454C-BB30-FD21F57D72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6CC10-8E61-4D8C-ADA5-50C339399F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75BF-7937-4907-8AAC-43EB0FF265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B7EF-328D-41BD-B076-346723B00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2DBA-156F-4495-A810-1A6B29D283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D09E-5261-48E9-B79D-C35402AA44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01B53-CA56-49A8-B0CC-2EA9D3320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B3C96-75A2-4B96-A451-0A58653561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18C5-9546-4660-B4BB-035C00C33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3605-44A5-4A96-BE15-9ED6B3A5E3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8C0B-621A-409E-98D3-AD81A74EC2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F79B-7D3E-4857-B5FD-31A5BAA89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314F-1F05-4A6B-AC3E-429AABCA5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A33A-4049-417D-B127-FCBEC2D12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5477-BB15-455D-8A5C-675224DA33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ED19-00CC-40CF-AAE1-9F4D3AD85D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3296-157A-486A-97A8-BAA2CF64E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6BE8A-1DD0-4F85-B991-B5E9D7C65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85D6-0201-4CB4-821D-4BD6BC0C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0EEB-2C31-4A50-8E95-906489D72D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1D09-5FFF-4A3D-BF3E-CBC8CFB2B01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D7AE-1927-478E-9A33-16025BDCD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9A4C-A760-4FB0-A291-5BE00F142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D4A61-6D32-4F26-80E8-D31B31BF3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CFB7-EFB7-4B0E-A963-66E048CC68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3F01-6F1E-477B-A604-2072A26A7A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BC5EF-11D8-490F-9F6D-3061F5617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9344-1835-4D53-9F9D-F212EA4DD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DE7A-BB81-4D10-8922-2595FCE3D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6F0B-E3EE-44BA-B164-4A2074E8DB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BAB9-2370-499A-A56F-36CB5EE993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7B4F-A27F-4216-BE4E-0D893F337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4749-8D0E-47EB-AE39-1439B037C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82AC6-E0EF-44DD-B4C0-B18C379F5E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95E3-3843-4A5A-B29F-35CD1E66F9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9408-1D36-4A35-A919-184523DC27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FB0F-5101-48D9-BE72-56E9765A43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BD59-5167-4200-A1F6-90CEFF710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2422-EEB9-4A95-B164-4D541F6A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8FB4-832E-449A-8E2F-35BFBF86AB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36AD-A3C2-4C71-AD0C-6EE9312451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8AF9-BDBD-4236-A1DE-4EEEB3FEA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E065-E2B5-4F8F-B312-658846DB3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88E7-7FCE-485C-9583-39C11880F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6FD84-2335-43B5-B12B-2F483CB02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5F02-D355-4954-BE5A-EA7028E85A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6A4C-0648-4550-9002-A329A7EF4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978A-566D-4E0C-BC2E-167AECC7A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0D52-FB18-41C0-9110-40312AB71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F592-1FC6-473F-8B8D-FE27B4F332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F816-D445-416E-801A-AC291583E8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9872-A053-4FE0-BAB5-530C5B5E3F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8C36-4853-4310-8D34-ED3FAE46F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23F4-4482-4626-9FCD-CBEAD3690B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BE04-5D40-4A0B-9DBF-909873021E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FF7A-2474-44B3-AE5C-80926CB834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5A6C-8987-4503-8EDE-D890C66FE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3AD8-5081-48B7-AAA1-CB2485FC9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C1F27-A7A2-4D9F-9A0B-65EC3FE72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CF9D-B356-4978-AF87-A1E2A6D452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517F-D32D-4002-B672-DC78C46CB5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B7BE5-0783-4FF0-820C-ED74184EE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116BB-E640-4A74-B2BE-4E7CAA4B6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5471-BD36-4EFE-8DCD-0EF09B5CF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FC3C-16DD-4E96-BE33-9772C37F29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970D1-0835-46BE-B68F-979C1A7252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B2B4-8FF3-4AA2-93D0-8F299CDA3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FAFF-2B3E-4A90-BA93-961E80B504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29E7-A673-49EB-BA60-626FBED8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393E-94A5-4C65-BED3-EC4A2EE06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F639-B8A4-4F4F-969A-53440A89A1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35A2-30E9-4E0E-AB1F-461573349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BF99-A5A8-4B68-9372-12C34263F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F836-8EF4-4D63-B5D6-7A9034C6C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7C9E-0AB9-4B3E-BC84-F38A5E8ED9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6977-1259-438F-9B2D-9B20DF0275F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800F-1EA8-4211-A8EE-1BAA32F7D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0B4E-4786-4BB0-9A8F-F2590246B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20F6-9503-4B48-97AF-ED141130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B874-0156-4974-8300-F35912346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F968-241F-46CA-B60D-425561F424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1BEF-57EB-4DFD-8E86-A7727061C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D60-305A-4464-8A9C-4EFFE6E33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EA79-B7E7-426D-B8A0-DE34BEF39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2099-3D5C-4770-A368-51516A424F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ECDF-42E6-4FF2-BE9D-14198B5E2A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B16E-180F-49AA-9CC4-E9C3AE4E6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B983-2F11-476B-A251-4489769900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F89A-D19C-4E7D-BEE7-2F05B09DE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CDCE-D28B-4A95-9EA9-E5875A5E0B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2419-2987-4FAF-A51E-577B9A612B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25E2-CCA4-4A2F-B95B-22A4EBFC4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B24D-094A-43AE-B802-53226037B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1EF4-6A49-4601-A921-C908DF12E8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36A2-A655-4811-AF8E-9E06FEAFF3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88F1-B2BB-46E5-A7B3-5E7C32CDD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A739-603B-4AD7-9CDC-1E6104939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DB88E-9C08-48D1-B7CD-E1A66A028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961A-7035-4057-AA38-D543E9F77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D978-CFB8-4B94-A22E-BB08337315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2827-78DC-463C-A32A-79C5DEA187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A3A2-466A-49BF-B4AA-C7614EB99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377A-8001-4B4B-8EA5-EB27DD7B99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B72F-7606-46E0-8190-077243482F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AD967-7CC5-4D1E-AF6B-79738A83D5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AC0C-3D27-4A50-801D-C9BB00A315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65D7-723C-401C-8A05-535B67B02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40A6-C443-47AC-9A1A-E8A74BFED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0CAF-84F3-4E17-9000-E8E54D74F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2043-71B8-464A-A73E-112716241A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AC54-285E-494E-8005-465AA45B41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5235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0708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0708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5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708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RTP_SlidePlain-ASCO12_v1fr"/>
          <p:cNvPicPr/>
          <p:nvPr/>
        </p:nvPicPr>
        <p:blipFill>
          <a:blip r:embed="rId2"/>
          <a:stretch/>
        </p:blipFill>
        <p:spPr>
          <a:xfrm>
            <a:off x="0" y="0"/>
            <a:ext cx="915048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24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24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efc53d"/>
                </a:solidFill>
                <a:latin typeface="Arial"/>
              </a:rPr>
              <a:t>RTP’s Second Opinion Survey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From April 11 – May 14, RTP conducted a national educational assessment of 25 clinical investigators specializing in non-Hodgkin lymphoma (NHL) and multiple myeloma (MM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vestigators were asked for their treatment preferences for a number of clinical issues as well as their perceptions as to the need for and interest in CME for oncologists regarding these clinical issu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Investigators were also asked to quantify the number of phone calls/emails they receive per week seeking their their opinion in reference to individual patients not in their practice as well as the number of patients they see each week as a second opinio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6477120" cy="1567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at is your usual induction regimen 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6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, otherwise healthy patient who has MM with normal cytogenetics/FISH and no lytic lesions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5060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41155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6933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10480" y="42210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36306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14600" y="48150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057400" y="3751200"/>
            <a:ext cx="6324480" cy="1017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at is your usual induction regimen 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, otherwise healthy patient who has MM with normal cytogenetics/FISH and no lytic lesions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029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3124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458200" y="38545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01000" y="44640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33720" y="3627360"/>
            <a:ext cx="6248160" cy="15541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at is your usual induction regimen for an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8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, otherwise healthy patient who has MM with normal cytogenetics and no lytic lesions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5823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1918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7696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458200" y="42973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37069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48592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57400" y="3681360"/>
            <a:ext cx="6248520" cy="1486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 you preemptively dose reduce for patients in specific age groups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823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41918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47696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42973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1880" y="37069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9880" y="48592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057400" y="4060800"/>
            <a:ext cx="6324480" cy="8920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75-year-old patient receives standard VD and achieves a VGPR after 4 cycles but is experiencing numbness and tingling in her fingers. In general, what would be your treatment approach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9632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5727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5000" y="4678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58200" y="40878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frequently do you administer subcutaneous bortezomib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9632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5727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057400" y="4060800"/>
            <a:ext cx="6324480" cy="892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715000" y="4678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458200" y="40878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133720" y="4038480"/>
            <a:ext cx="6172200" cy="9907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ow frequently do you administer weekly bortezomib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9632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5727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1880" y="46782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924680" y="40878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72-year-old man with multiple comorbidities and slowly progressing adenopathy is diagnosed with Stage IV, Grade I FL, FLIPI = 3. What up-front treatment would you recommend?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29725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31240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35823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41601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1880" y="36878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267080" y="42670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209680" y="3005280"/>
            <a:ext cx="609624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981080" y="3290760"/>
            <a:ext cx="6477120" cy="15415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regimen would you most likely recommend to an otherwise fit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for whom you would like to recommend R-chemotherapy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20112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610480" y="33210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38109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43887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39164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45403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981080" y="3367080"/>
            <a:ext cx="6477120" cy="15098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ich regimen would you most likely recommend to an otherwise fit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for whom you would like to recommend R-chemotherapy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277440"/>
            <a:ext cx="16002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3829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86920"/>
            <a:ext cx="16002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464720"/>
            <a:ext cx="16002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34520" y="39924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38280" y="46022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9759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55-year-old man who has IgG lambda MM with normal cytogenetics/FISH and skeletal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urvey. Which induction regimen would you most likely recommend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702960"/>
            <a:ext cx="190512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312440"/>
            <a:ext cx="190512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8200" y="43560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467480" y="38228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7400" y="3716280"/>
            <a:ext cx="6248520" cy="9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133720" y="3270240"/>
            <a:ext cx="6400800" cy="9604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55-year-old man with Stage III, high-risk FL achieves a PR to R-CHOP. Would you offer this patient maintenance rituximab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457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238880" y="33354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38552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686800" y="39448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81080" y="3944880"/>
            <a:ext cx="6553440" cy="90504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11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8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presents with high tumor burden FL, receives R-CHOP followed by R maintenance and progresses after 18 months. What immediate treatment would you most likely recommend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85524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686800" y="39448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446472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45543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8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presents with high tumor burden FL, receives BR followed by R maintenance and progresses after 18 months. What immediate treatment would you most likely recommend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537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34732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9632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45410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86800" y="4083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00400" y="46623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33720" y="3443400"/>
            <a:ext cx="6400800" cy="157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do you consider to be the main barrier to use of RIT in community-based practice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295848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3048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5679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1457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36576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62720" y="41911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33720" y="2971800"/>
            <a:ext cx="6172200" cy="16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usual preferred initial regimen 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CLL who requires treatment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044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3973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8552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763120" y="3960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2133720" y="3370320"/>
            <a:ext cx="65530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usual preferred initial regimen 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CLL who requires treatment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044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4120" y="33973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8552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763120" y="3960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133720" y="3370320"/>
            <a:ext cx="65530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6400800" cy="1012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usual preferred initial regimen for an otherwise fit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MCL who requires treatment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16944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534520" y="32590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77892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086600" y="38847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is your usual preferred initial regimen for a symptomatic but otherwise fit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MCL who requires treatment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316944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238880" y="32130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77892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610480" y="38847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981080" y="3182760"/>
            <a:ext cx="6553440" cy="98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5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MCL who relapses after R-CHOP followed by transplant, which treatment would you recommend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3169440"/>
            <a:ext cx="190512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32590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778920"/>
            <a:ext cx="190512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686800" y="38847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057400" y="3203640"/>
            <a:ext cx="6553080" cy="94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6477120" cy="21067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a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75-year-old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patient with MCL who relapses after BR followed by R maintenance (12 months), which treatment would you recommend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1107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43200" y="32004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72024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429804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90788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610480" y="38257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4419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62320" y="50292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55-year-old man who has IgG lambda MM,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creatinine 5.2 mg/dL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 with normal cytogenetics/FISH and skeletal survey. Which induction regimen would you most likely recommend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550320"/>
            <a:ext cx="190512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160160"/>
            <a:ext cx="190512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324480" y="42037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8200" y="36399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057400" y="3581280"/>
            <a:ext cx="632448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133720" y="3200400"/>
            <a:ext cx="6324480" cy="21798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 you generally administer rituximab maintenance therapy to your elderly patients with MCL after a response to induction R-chemotherapy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18708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32306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37965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43743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9838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610480" y="38401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44496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51055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981080" y="3976560"/>
            <a:ext cx="6477120" cy="1521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160" y="128088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For a 60-year-old patient with MCL who has diabetes and Grade II neuropathy, receives up-front R-hyper-CVAD and second-line R-CHOP followed by ASCT and is experiencing symptomatic progression, what treatment would you likely recommend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388692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1280" y="39765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44967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0745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610480" y="46022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51958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 you generally conduct interim PET scans for your patients receiving up-front treatment for DLBCL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20112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20120" y="32907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8109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3887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610480" y="39164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45100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905120" y="3214800"/>
            <a:ext cx="662940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ould you offer CNS prophylaxis for the following patients with DLBCL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20112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0120" y="32907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8109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43887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610480" y="39164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438280" y="45100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905120" y="3214800"/>
            <a:ext cx="662940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65-year-old patient with high-risk DLBCL experiences relapse after R-CHOP followed by consolidation ASCT. Which treatment (± R) would you most likely recommend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537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81480" y="34434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39632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5410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51505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610480" y="40528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46623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51958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2133720" y="3367080"/>
            <a:ext cx="6400800" cy="22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treatment would you likely recommend for a 55-year-old patient who responds for 6 months to CHOP x 6 and now has progressive PTCL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1251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32148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37346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43124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610480" y="38242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590920" y="44337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2133720" y="3214800"/>
            <a:ext cx="6324480" cy="151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9140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at treatment would you likely recommend for a 60-year-old patient with Stage IV PTCL who received CHOP followed by pralatrexate upon relapse and now has disease progression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342972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648320" y="35193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0395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46173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686800" y="41450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9880" y="48150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981080" y="3519360"/>
            <a:ext cx="6553440" cy="157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When, if ever, do you tend to use pralatrexate in patients with PTCL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1251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32148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373464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431244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610480" y="38242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981080" y="3214800"/>
            <a:ext cx="6477120" cy="144936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666880" y="44337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133720" y="3900600"/>
            <a:ext cx="6400800" cy="16034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160" y="12189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A 58-year-old patient with mycosis fungoides receives bexarotene, extracorporeal photopheresis and interferon, then narrowband UVB phototherapy followed by vorinostat, which enables a good response for 3 years, then the disease progresses. What treatment would you likely recommend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38869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181480" y="39765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4967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50745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686800" y="458640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81480" y="51958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55-year-old man with IgG lambda MM and normal cytogenetics/FISH achieves a VGPR after 4 cycles of RVD. What would you most likely recommend regarding autologous stem cell transplant (ASCT)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8109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4204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49982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44337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534520" y="38545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50734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33720" y="3813120"/>
            <a:ext cx="6248160" cy="16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11426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55-year-old man with IgG lambda MM and normal cytogenetics/FISH achieves a CR after ASCT. What would you most likely recommend regarding selection and duration of post-transplant maintenance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582360"/>
            <a:ext cx="17524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191840"/>
            <a:ext cx="17524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801320"/>
            <a:ext cx="17524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5455440"/>
            <a:ext cx="17524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nsure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on’t know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42670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610480" y="365760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487692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828800" y="3657600"/>
            <a:ext cx="6629400" cy="21430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209680" y="551664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160" y="10663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The 55-year-old man with IgG lambda MM and normal cytogenetics/FISH achieves less than a VGPR after ASCT. What would you most likely recommend regarding post-transplant maintenance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50604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41155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46933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53031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42051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686800" y="36259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48448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5454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33720" y="3595680"/>
            <a:ext cx="6400800" cy="212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81080" y="3481560"/>
            <a:ext cx="6400800" cy="861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ich cytogenetic/FISH findings affect your choice of induction therapy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335376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963240"/>
            <a:ext cx="182880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406872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458200" y="347328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133720" y="3295800"/>
            <a:ext cx="6248160" cy="15127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n general, what is the usual duration of administration of bisphosphonate to a patient with MM and lytic lesions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2011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8109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3887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391644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33526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44956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6400800" cy="1754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8377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o you generally recommend a bisphosphonate to patients with MM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without bone involvement</a:t>
            </a: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?</a:t>
            </a: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lease rate the issue in terms of need for and interest in CME:</a:t>
            </a:r>
            <a:endParaRPr b="1" lang="en-US" sz="2600" spc="-1" strike="noStrike">
              <a:solidFill>
                <a:srgbClr val="efc53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20112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jor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8109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oderate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388760"/>
            <a:ext cx="1981080" cy="4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inimal need/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res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534520" y="3870360"/>
            <a:ext cx="38088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81680" y="329076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38680" y="4510080"/>
            <a:ext cx="381240" cy="2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3T13:32:11Z</dcterms:created>
  <dc:creator>Research To Practice</dc:creator>
  <dc:description/>
  <cp:keywords/>
  <dc:language>en-US</dc:language>
  <cp:lastModifiedBy>Mac Pro E703803Y4PC</cp:lastModifiedBy>
  <cp:lastPrinted>2012-06-03T18:40:34Z</cp:lastPrinted>
  <dcterms:modified xsi:type="dcterms:W3CDTF">2012-07-10T18:03:55Z</dcterms:modified>
  <cp:revision>693</cp:revision>
  <dc:subject/>
  <dc:title>Research To Practice</dc:title>
</cp:coreProperties>
</file>