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D4F9-7842-4B0C-9191-843692B4FE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A313-625C-4E19-9409-98E4DB3DA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5E03-AA04-4FCA-B03E-3AD4C2A7FC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7D88-9057-41BB-917C-AE816AD3814E}" type="slidenum"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DB57-CC54-4D5F-904C-11A670243E43}" type="slidenum">
              <a:rPr b="0" lang="en-US" sz="1200" spc="-1" strike="noStrike" baseline="-25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4188-88DA-4418-995F-F1881F6341BD}" type="slidenum"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7EFB-D0F1-4530-BE75-F6BF1463653A}" type="slidenum">
              <a:rPr b="0" lang="en-US" sz="12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F99E-8A7D-4F6A-BE5A-2CA4368472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6DC0-C806-4257-AC4A-6C4B31DF11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490F-D8C6-4562-9214-80C4A02D5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71BFD-10C6-4100-A06B-C68AFA74F8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9031-3738-4536-8DD6-3B58D94412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DD22-CAD7-4934-AD83-BB38B8955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438F-01EC-44CE-BD6B-374659031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6B44-551D-4186-8AF8-2FDCB04B57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1E12-C573-4A82-8BF1-CB66103E6B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F0F7-8B65-4030-B4F4-9CB759B462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3701-587B-408D-9CF0-93DE3245A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A9EA0-89A1-4C3B-84D7-C4B627FD7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16E6F-12EF-4C00-9B50-C54A6D01C0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B168-789C-4095-980A-17D531F5F4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A6C9-73BF-4CFC-A622-1957DED0A5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7A7F4-ECF5-4A79-863E-2125C2BA5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6C44-EF80-4F9E-9BCE-5A6E8F87D6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3C2D-0B73-4F5D-B7C4-0977F1B99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93BF-786E-4F94-9D14-4F5D4426EF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4377-936E-4AA7-88A0-D4267DBCCB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9D3A-6B9D-4ED8-A303-EA0A9F26B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C50F-1CD0-46B9-9708-2B6783C6E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3BC7-7D6C-481C-BC25-1B3E24772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637F-6537-4EAE-B360-CC0499971E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A1C7-83E0-477C-89D2-3FF3E0FA43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77CA-5E33-4EB6-A568-EE4A988B4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4498-4A03-4780-BF5B-4BAB609BE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8628-A291-4BFA-A352-3C7E9794F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7CF0-859B-439C-9EF2-5A853288D7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A7EEB-F6E9-4664-BCFE-0597762CFA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0775A-2F2D-4474-8F48-4A5386646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F36F-4FA5-48C9-A622-CC43222FC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EB75-2A9B-4278-A66A-1EEDD3533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9F37-D17A-4377-8866-CC8F4C524E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3D9B-FDCC-485F-A353-43BED199F6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FC0C-7EAC-42D3-88B8-9DF0EAD350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6975-56AE-4047-A4B0-AD1B70CC7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2282-091D-4024-8A92-B4ED0B9DF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2A00-60D7-4E95-87B8-885996C9F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3C40A-E7A6-4B06-9688-EF1051EF1B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E08F-48E4-462F-AEC3-64C07EC6AF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584D-B74D-419E-A283-3AA3B86C10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25B8-8CE4-4170-A5B3-6B4EF1023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CEB5-45A8-46C0-849C-0D369E2D4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9CE4-F89C-4092-BA4A-2A29518F8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DBC7-599E-4274-BC5B-88FB547750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0097-E2F8-4A1A-AA7F-18C62F8E15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E85C-141B-48C1-89A9-282A71B250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AF2B-E493-422B-AE3A-69A01F9A2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2438E-7E8A-4CCB-A5A3-89C2DE374E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02E0-B275-4E08-908D-2B6943DEB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66439-B2B9-490C-9A0D-ECF9DDB7EC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8AFC-CF46-4826-8BEB-80DB30E730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4166B-C551-497A-B79A-74AF4004EA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2CD8-9AF8-410E-96A5-37C56C68E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C8B5-9582-40FB-8AB5-EAA2F6200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CAEA-F46F-4635-B2E5-6AC1473C2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C0FFD-D867-4567-B210-AB21A512E3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7183-4D53-4243-AD85-B468C32CB6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CBBB-6518-4027-A615-7C20E4573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C6E5-9BBB-48B6-9B23-EFC467C33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D337-845D-4B29-9510-3E4CDCE12E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717A-43E7-42F6-8AB6-859700D1B4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99A4-20F4-46B2-B1DB-B525BD2358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8F61-EAD2-44CC-A030-7F3AEDE0C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A051-FC94-4654-9335-12534EBF5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ADC49-6DF9-4EE7-8359-2CCCC81C6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DE96-D671-442D-AFAB-C05C759E54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BC97-35B7-434B-AF48-1FBE2E3C34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594D-E58D-4E18-B4CC-5FA567D4ED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A3E7-3DE6-474E-B2EF-0A5B800C32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ED21-00B2-4EE8-9653-963093327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CC69-5808-4CBD-8A64-FBF70FD4E9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71D4-D7AF-4870-80C2-5DABA4635A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47C9-0894-4DE7-9314-86BD5E404A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56A3-D55A-4F45-9276-999D697AA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B827-1AF2-487F-A642-A8F3C6B0A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47BF-BBFA-4335-B9B4-11D98F8AC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4AD3-CB25-410C-9D3A-B1560F6EAD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8282-E274-4900-8813-116DD8EB543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763AA-A945-4523-BD10-21928AC0FF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5165-8E7E-4C40-95E4-25DFA5BBA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82B6-35B6-4A7D-845A-3A1BCA764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128AE-DAA3-4F12-BF2B-C93509885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2A2E-A8CA-404E-92E1-F997ACB8254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5976-D63D-44B1-BF45-89CA84AD6E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75F9-3740-40D1-8902-15D374E55F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E2CA-B011-4BF3-B47B-10A7571EC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90500-C354-4584-AD98-492490906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FF91-C74F-40FB-978E-019C2A148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05DB8-D3A4-4967-9E5D-5718D6B6CA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1926-8D31-4FCF-9F36-85BE9A20DF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2A9D-34FC-495F-A678-1016A2AAC99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9D2-2351-4779-AD46-D12C4DC56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C91B-90F7-41E0-B214-1CE3898B7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0870-C4AB-4BAB-9EE3-64B67F6F2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904A4-3470-4E0B-A9AB-178B275504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D297-CF38-4001-BA65-CFDD55BB72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DCF7-1295-4D73-9BD0-7648F2C28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B984-0916-4D17-AEB6-D793A8A68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1FFD-96F0-418D-8327-CA8FC1FC5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3F10-A44D-4C34-A053-A97673EE6A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5C18-80AD-43E1-9C3D-5E4C842982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74C5-A609-438A-9AEE-F7B8BCCFB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64C1-3295-4843-A3B0-1109D3810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B68D-68AC-49BD-8552-571F2E39C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50648-3BF8-40B8-AD96-C801C095FE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DC41-E9AE-4CF3-848B-F9B30540CF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820A-905F-44F7-97D7-9A0D67258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4DA9-B54F-48FE-9BC4-DDDCE7EFF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9D44-3468-40A2-8235-570EDFEBF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F525-A708-4D74-8FDF-998A247894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1F8D-A072-4917-8478-A052BE6C1C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D19E-D60B-4936-B48B-D39A0BD21F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32C2-67E8-44D1-8B76-62C8BBBEA7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0BDD8-A771-4743-BF20-E766A0EBE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AFB7-F064-4C09-B377-723D74CC5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99CA-A805-41F8-A66C-410D6FD7FE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5D0B-251A-4D47-9C86-2C9C703B4A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035E-0D9E-47FF-BD9B-C7BC7168A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C79E-C54F-46E3-B5D2-3D36D66C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848A-3537-48F3-B3E8-436C25281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B4A1-678E-4C94-8353-E20574E01F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A86F-CB24-42E7-86E7-D0BE5F4535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6E6B-7ED9-4347-A004-90665CC00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85B1-1711-4AA9-9B63-90693979B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32EA-C76A-4B24-8DDC-0E36ADBB4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0355E-A000-4599-96EF-6433865825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5844-ACB3-4584-ADCC-E9415098FA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330D-0AC1-4C10-9AE5-30ACA802F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AFB3-E8BB-4944-BA5C-F29A26593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C52E-FC09-45FD-AA86-EF44A6773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7FA6-72AE-4C74-ACF9-3C02451F7A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E723-AA00-47D6-9249-D9C8B3274B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68B4-254E-4148-BB17-A86D6E178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C56D-78BC-478A-9FF5-3D6DC87BB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4EB1-F71C-41E4-9B62-E661770B0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69E02-E1A4-42B2-A5DD-3E1D2BAA6C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F64A-A66C-429A-9974-60A5C57E8A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C091A-0277-4150-A679-7938DB0B4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AB1A-87D2-4D29-B4B8-F316F6C29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87EA9-CF6D-474E-8DB0-6429ED2AA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B9C4-B4C1-4B0D-9814-72E68BA37E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3F12-0A53-4494-A09B-97A4A70D79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12D2-C372-4C7D-B168-A17338A2A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47B9-2807-46BC-95D4-533CEF0EB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5670-625E-4402-8AD6-AC761A72B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63AB-89DC-446B-8EC8-4F33A0B3C9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796A-3885-4A88-8E83-619F7629BA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EA3D-E3BF-48AD-9051-B30B3B530B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5809-FB53-4CB6-8A33-97F701D69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B6D6-342A-4E2B-BF64-B6902FE4E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8DCA-7799-4698-85C9-681C5FBD08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EF56-A637-4214-92B1-DC74DC8E90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2F28-38F8-4F86-BE9C-056A99A41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665B-CA5E-4E17-BC0D-8797A3DC3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BD3C-C870-45C0-AF1B-18BE70953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FEDB-811D-4C93-B8D2-ADBD6CBCCC9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CECF-4E23-46DA-BC1B-CFC230785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2C61-FBD0-48C2-9A1D-AF0DFFF80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8219-C038-474F-AE53-8B49946D37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CC024-924D-4F98-931C-79F503861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8DE1-00A4-4207-B4AD-6F83EA7299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1D2B-3D12-45AC-946B-68AF9AA2DC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4D0E8-2FCF-4BFA-8E5B-55D0BFCE1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77F2B-2345-4065-AFC2-D6E574F74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E7A9-06F1-4D9E-99A1-A0E272A3B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1D1A-53C5-4CFD-8A77-00BE837AC3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6D72-C924-4150-AF14-78E90B52F5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938C-8CC2-443C-8D4A-6810B5157B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3A00-B509-4377-BBAD-F649C698A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7E5D2-260D-48E7-B37A-4219B2473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6735-F68C-4C54-873F-717F8CF7C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34BF-65BC-49EC-AEBA-49F3BA3A7F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2F69-592A-41F7-90D0-0FF378EA85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4D12-FAD4-4CBF-86FC-5350EC004B5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6DBF-D961-4CF0-98C5-BA0295861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1745E-6D39-4452-BC84-115115DBE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19D2-5778-4B7D-BF95-49D0D327E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14310-BFFE-4E10-B461-DA6D630C06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9696-261E-4C7F-8B7D-2CFC9D133F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06B64-7940-473D-ADDC-BA3F6DDCA3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ACA8-8326-4EBE-A657-09724FA40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EF99-97ED-4A56-8C91-C80FEC229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1CDA4-C7E2-40DF-B0DF-0065D35EC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52BB-F98E-4BB9-80BF-8FC3BC530E2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7906-317C-40EC-8A7F-EA3DF2AED5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718D-CAE1-48D9-8341-3BC7CE0FA3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CB69-E8B7-4FEF-93FA-854EFFDD2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F414-AF67-4E2D-B084-321C3247C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2EFE-CDA5-4D97-8DCB-E3C5B2D8A2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C4EA-B886-4EF9-BDF6-2AD1550EC4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76E4-8DE5-4436-924E-D0393AE511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E7A8-7928-4126-843A-4FD5EAB640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1CF99-6961-45D3-99D5-CA7CE96DC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508C-DA7F-46B7-95BB-7B4039865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9EF3-4ED9-4B4E-85F4-125406F9D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6C0B-8929-4A1C-915E-BEAD001FCE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4D59-512B-432C-9168-24FF1D903B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A7B9-0BD9-4C29-908D-A2BCE8EC39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3CB40-B6A3-4943-9781-AB35450422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0155-EF80-49A4-9ADE-46B455496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FCFE-D99F-4E5D-8CAC-63514B2AC9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43D6-BBD1-4C35-BC5D-1525D9F691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A704-97C6-4FFF-A81A-B377C71BF8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52AE-3965-4C74-9D83-1307C98C0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C956-BA33-4B38-8C30-57201E375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A67F-0F38-4358-8B6F-234AAD1FD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356A-4831-4371-ABF4-4C81E22DDA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B085-4C3B-4F37-9844-B3668152F98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22E0-5254-4C60-BB3B-2D5CB1B5A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8354-D349-4948-BA3C-FD0D47F01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D0A1-1AB0-4492-ADC0-48D774671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9F3E1-E913-4CCB-9922-DAD37FB60C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9A82-9F24-4216-B6E4-3ADA9073B2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987E-D623-4A4E-B56E-215FEEC6B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7846-C41F-4ED4-9341-484A296B8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0211-307A-4494-903E-4A711C5B6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C44C-C5B9-4913-9239-5DF3F6170A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E273D-4891-4214-BB45-6DDF2D6C47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9E368-4D03-4ABF-A8ED-1D24BDFE8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1247E-EB93-4B15-B55F-5C5EF1719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F528-8E0C-4758-B481-43780C4B7E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EF39-CF49-4E0B-9AE9-6ECA74B796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8E16-74FA-4978-B482-27C7504B55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RTP_SlidePlain-ASCO12_v1fr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Second Opinion Clinical Investigator Survey</a:t>
            </a:r>
            <a:br>
              <a:rPr sz="2600"/>
            </a:b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April 11 to May 14,  2012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Each investigator was asked to describe 3 recent second-opinion cases with different recommendations from the prior oncologist(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Rectangle 33"/>
          <p:cNvSpPr/>
          <p:nvPr/>
        </p:nvSpPr>
        <p:spPr>
          <a:xfrm>
            <a:off x="533520" y="1676520"/>
            <a:ext cx="7997760" cy="319860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47640" y="1790640"/>
          <a:ext cx="7769160" cy="2970000"/>
        </p:xfrm>
        <a:graphic>
          <a:graphicData uri="http://schemas.openxmlformats.org/drawingml/2006/table">
            <a:tbl>
              <a:tblPr/>
              <a:tblGrid>
                <a:gridCol w="4122720"/>
                <a:gridCol w="1665360"/>
                <a:gridCol w="1981080"/>
              </a:tblGrid>
              <a:tr h="5932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fc53d"/>
                          </a:solidFill>
                          <a:latin typeface="Arial"/>
                          <a:ea typeface="Times New Roman"/>
                        </a:rPr>
                        <a:t>Clinical Investigator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Lymph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efc53d"/>
                          </a:solidFill>
                          <a:latin typeface="Arial"/>
                          <a:ea typeface="ＭＳ Ｐゴシック"/>
                        </a:rPr>
                        <a:t>Myelom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13763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Calls or emails/wk (media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5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  <a:tr h="593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Clinical 2</a:t>
                      </a:r>
                      <a:r>
                        <a:rPr b="0" lang="en-US" sz="1800" spc="-1" strike="noStrike" baseline="30000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 opinions/wk (median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d65a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" descr="16-Heme-ART_PETDLBL_Slide18_v5si"/>
          <p:cNvPicPr/>
          <p:nvPr/>
        </p:nvPicPr>
        <p:blipFill>
          <a:blip r:embed="rId1"/>
          <a:stretch/>
        </p:blipFill>
        <p:spPr>
          <a:xfrm>
            <a:off x="2057400" y="2982960"/>
            <a:ext cx="6248520" cy="15127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 you generally conduct interim PET scans for your patients receiving up-front treatment for DLBCL? 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28600" y="3059280"/>
            <a:ext cx="17524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es, usual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228600" y="3668760"/>
            <a:ext cx="17524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es, someti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28600" y="4202280"/>
            <a:ext cx="17524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019920" y="30592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4038480" y="36226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8458200" y="41562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819520" y="2243160"/>
            <a:ext cx="5429160" cy="31669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usual preferred initial regimen for an otherwise fit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MCL who requires treatment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57200" y="2246400"/>
            <a:ext cx="22860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CHOP/DHAP/RICE then transpl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228600" y="2884320"/>
            <a:ext cx="251460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hyper-CVA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rdi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52280" y="3541680"/>
            <a:ext cx="25909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hyper-CVAD/Nordic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n transpl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609480" y="4179960"/>
            <a:ext cx="213372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ndamustine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tuxim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685800" y="4989600"/>
            <a:ext cx="2057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2819520" y="5943600"/>
            <a:ext cx="464796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* R-CHOP/bortezomib, modified R-hyper-CV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8381880" y="23986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7696080" y="30081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7010280" y="36939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4267080" y="43340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4267080" y="50212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0" descr="11-Heme-ART_75yoMCL_Slide13_v5si"/>
          <p:cNvPicPr/>
          <p:nvPr/>
        </p:nvPicPr>
        <p:blipFill>
          <a:blip r:embed="rId1"/>
          <a:stretch/>
        </p:blipFill>
        <p:spPr>
          <a:xfrm>
            <a:off x="1981080" y="3013200"/>
            <a:ext cx="6400800" cy="139068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usual preferred initial regimen for a symptomatic but otherwise fit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MCL who requires treatment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2280" y="2895480"/>
            <a:ext cx="167652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ndamustine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tuxim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152280" y="3581280"/>
            <a:ext cx="16765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CHO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52280" y="4006800"/>
            <a:ext cx="167652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ifie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hyper-CV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8534520" y="30020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2743200" y="35812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2362320" y="41450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13-Heme-ART_75yoMCL2_Slide15_v5si"/>
          <p:cNvPicPr/>
          <p:nvPr/>
        </p:nvPicPr>
        <p:blipFill>
          <a:blip r:embed="rId1"/>
          <a:stretch/>
        </p:blipFill>
        <p:spPr>
          <a:xfrm>
            <a:off x="2097000" y="2743200"/>
            <a:ext cx="6208920" cy="19414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MCL who relapses after BR followed by R maintenance (12 months), which treatment would you recommend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649440" y="2666880"/>
            <a:ext cx="12952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rtezomi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± rituxim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8200" y="3200400"/>
            <a:ext cx="167652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nalidomid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± rituxim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649440" y="3870360"/>
            <a:ext cx="12952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CHO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649440" y="4403880"/>
            <a:ext cx="12952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EP-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8458200" y="27734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962520" y="33066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2895480" y="38401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2514600" y="44053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14-Heme-ART_elderMCL_Slide16_v5si"/>
          <p:cNvPicPr/>
          <p:nvPr/>
        </p:nvPicPr>
        <p:blipFill>
          <a:blip r:embed="rId1"/>
          <a:stretch/>
        </p:blipFill>
        <p:spPr>
          <a:xfrm>
            <a:off x="1981080" y="2585880"/>
            <a:ext cx="6397920" cy="2138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 you generally administer rituximab maintenance therapy to your elderly patients with MCL after a response to induction R-chemotherapy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457200" y="2585880"/>
            <a:ext cx="13716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es, for mos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457200" y="3119400"/>
            <a:ext cx="13716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es, for som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ti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457200" y="3728880"/>
            <a:ext cx="13716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es, but rare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457200" y="4422600"/>
            <a:ext cx="13716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8458200" y="26924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581280" y="32259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581280" y="38052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105520" y="43689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3" descr="20-Heme-ART_PralaPTCL_Slide22_v5si"/>
          <p:cNvPicPr/>
          <p:nvPr/>
        </p:nvPicPr>
        <p:blipFill>
          <a:blip r:embed="rId1"/>
          <a:stretch/>
        </p:blipFill>
        <p:spPr>
          <a:xfrm>
            <a:off x="1752480" y="2666880"/>
            <a:ext cx="6562800" cy="2194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, if ever, do you tend to use pralatrexate in patients with PTCL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76320" y="2727360"/>
            <a:ext cx="15238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76320" y="3336840"/>
            <a:ext cx="15238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76320" y="3778200"/>
            <a:ext cx="15238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yond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rd l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04920" y="4343400"/>
            <a:ext cx="1295280" cy="6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 do not us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alatrexate</a:t>
            </a:r>
            <a:r>
              <a:rPr b="1" lang="en-US" sz="1600" spc="-1" strike="noStrike">
                <a:solidFill>
                  <a:srgbClr val="ffffff"/>
                </a:solidFill>
                <a:latin typeface="ヒラギノ角ゴ ProN W3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 PTC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8458200" y="27432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400800" y="33526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2819520" y="38862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2286000" y="45259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0" descr="19-Heme-ART_60yoPTCL_Slide21_v5si"/>
          <p:cNvPicPr/>
          <p:nvPr/>
        </p:nvPicPr>
        <p:blipFill>
          <a:blip r:embed="rId1"/>
          <a:stretch/>
        </p:blipFill>
        <p:spPr>
          <a:xfrm>
            <a:off x="1676520" y="3040200"/>
            <a:ext cx="6629400" cy="160812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treatment would you likely recommend for a 60-year-old patient with Stage IV PTCL who received CHOP followed by pralatrexate upon relapse and now has disease progression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228600" y="3116160"/>
            <a:ext cx="13716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midep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228600" y="3726000"/>
            <a:ext cx="13716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28600" y="4335480"/>
            <a:ext cx="13716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HA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8458200" y="31161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6553080" y="37260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286000" y="43354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47920" y="2433600"/>
            <a:ext cx="6858000" cy="29322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general, what is your usual induction regimen 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, otherwise healthy patient who has MM with normal cytogenetics/FISH and no lytic lesions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2514960"/>
            <a:ext cx="8380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V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3192840"/>
            <a:ext cx="9144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D/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802320"/>
            <a:ext cx="9144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yB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412160"/>
            <a:ext cx="99036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D/VT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5097960"/>
            <a:ext cx="9144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25146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58200" y="32004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981080" y="37638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81080" y="43736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50594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630440" y="2819520"/>
            <a:ext cx="6781680" cy="159696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55-year-old man who has IgG lambda MM,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atinine 5.2 mg/dL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with normal cytogenetics/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ISH and skeletal survey. Which induction regimen would you most likely recommend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2895480"/>
            <a:ext cx="13255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yBorD/VC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3400" y="3505320"/>
            <a:ext cx="9907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63400" y="4149720"/>
            <a:ext cx="9907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T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34520" y="28494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306600" y="35053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06600" y="41450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905120" y="2971800"/>
            <a:ext cx="6486480" cy="870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general, what is the usual duration of administration of bisphosphonate administration to a patient with MM and lytic bone lesions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" y="2895480"/>
            <a:ext cx="1600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4 month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3276720"/>
            <a:ext cx="175248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til dise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gression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 indefinite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534520" y="30020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35812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95280" y="2627280"/>
            <a:ext cx="7162920" cy="30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2280" y="2743200"/>
            <a:ext cx="9907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V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3352680"/>
            <a:ext cx="9907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yB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947040"/>
            <a:ext cx="9907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D/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4662720"/>
            <a:ext cx="9907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D/VT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280" y="5347080"/>
            <a:ext cx="9907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i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534520" y="27432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3352680"/>
            <a:ext cx="3049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4038480"/>
            <a:ext cx="30492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124080" y="4678200"/>
            <a:ext cx="2286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5334120"/>
            <a:ext cx="30456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533520" y="53352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A 55-year-old man who has IgG lambda MM, with normal cytogenetics/FISH and skeletal survey. Which induction regimen would you most likely recommend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12" descr="8-Heme-ART_55yoCLL_Slide8_v5si"/>
          <p:cNvPicPr/>
          <p:nvPr/>
        </p:nvPicPr>
        <p:blipFill>
          <a:blip r:embed="rId1"/>
          <a:stretch/>
        </p:blipFill>
        <p:spPr>
          <a:xfrm>
            <a:off x="2362320" y="2841480"/>
            <a:ext cx="6019560" cy="19623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usual preferred initial regimen 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CLL who requires treatment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228600" y="2871720"/>
            <a:ext cx="198108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C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80880" y="3430440"/>
            <a:ext cx="18288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Bendamust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987720"/>
            <a:ext cx="18288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380880" y="4572000"/>
            <a:ext cx="18288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2362320" y="5127480"/>
            <a:ext cx="3124080" cy="20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* THRIL regimen, PC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3429000" y="34225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2819520" y="39844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3124080" y="45482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13"/>
          <p:cNvSpPr/>
          <p:nvPr/>
        </p:nvSpPr>
        <p:spPr>
          <a:xfrm>
            <a:off x="8534520" y="28717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5" descr="9-Heme-ART_75yoCLL_Slide9_v6si"/>
          <p:cNvPicPr/>
          <p:nvPr/>
        </p:nvPicPr>
        <p:blipFill>
          <a:blip r:embed="rId1"/>
          <a:stretch/>
        </p:blipFill>
        <p:spPr>
          <a:xfrm>
            <a:off x="2133720" y="2666880"/>
            <a:ext cx="6172200" cy="225756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usual preferred initial regimen 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CLL who requires treatment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380880" y="2814480"/>
            <a:ext cx="167652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bendamust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380880" y="3365640"/>
            <a:ext cx="167652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380880" y="3825720"/>
            <a:ext cx="167652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tuxima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notherap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380880" y="4435560"/>
            <a:ext cx="167652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tuximab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lorambuc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1"/>
          <p:cNvSpPr/>
          <p:nvPr/>
        </p:nvSpPr>
        <p:spPr>
          <a:xfrm>
            <a:off x="8458200" y="27734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7315200" y="33526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Text Box 13"/>
          <p:cNvSpPr/>
          <p:nvPr/>
        </p:nvSpPr>
        <p:spPr>
          <a:xfrm>
            <a:off x="2743200" y="39164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2743200" y="45259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dule 1</a:t>
            </a:r>
            <a:endParaRPr b="1" lang="en-US" sz="54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09680" y="1905120"/>
            <a:ext cx="6172200" cy="34509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general, which cytogenetic/FISH findings affect your choice of induction therapy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1828800"/>
            <a:ext cx="1828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7p dele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2286000"/>
            <a:ext cx="1828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q dele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2863800"/>
            <a:ext cx="1752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ypodiploid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3397320"/>
            <a:ext cx="1447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(4;14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3886200"/>
            <a:ext cx="1447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(14;16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2120" y="4464000"/>
            <a:ext cx="13716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876920"/>
            <a:ext cx="2133720" cy="8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e, I don't use these assays to choose therap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209680" y="6095880"/>
            <a:ext cx="403884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1q/1p, GE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34520" y="19350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19720" y="24382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400800" y="29257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153280" y="34592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2920" y="39625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44784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280" y="51004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2209680" y="2901960"/>
            <a:ext cx="6172200" cy="17575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55-year-old man with IgG lambda MM and normal cytogenetics/FISH achieves a VGPR after 4 cycles of RVD. What would you most likely recommend regarding autologous stem cell transplant (ASCT)? 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52280" y="2971800"/>
            <a:ext cx="190512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3597120"/>
            <a:ext cx="18288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CT or stem cell collectio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427640"/>
            <a:ext cx="18288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AS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534520" y="29257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6576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66880" y="43736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057400" y="2558880"/>
            <a:ext cx="6324480" cy="21384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55-year-old man with IgG lambda MM and normal cytogenetics/FISH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chieves less than a VGPR after ASC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What would you most likely recommend regarding post-transplant maintenance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2558880"/>
            <a:ext cx="1600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nalidom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320" y="3000240"/>
            <a:ext cx="19047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nalidomide and bortezomi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3778200"/>
            <a:ext cx="16002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6320" y="4267080"/>
            <a:ext cx="1904760" cy="58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maintenance therap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5378400"/>
            <a:ext cx="39625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yBorD, second transpl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534520" y="25891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31687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971800" y="37782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43876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905120" y="2819520"/>
            <a:ext cx="6419880" cy="194292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"/>
          <p:cNvSpPr/>
          <p:nvPr/>
        </p:nvSpPr>
        <p:spPr>
          <a:xfrm>
            <a:off x="533520" y="53352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Do you generally recommend a bisphosphonate to patients with MM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  <a:ea typeface="ヒラギノ角ゴ Pro W3"/>
              </a:rPr>
              <a:t>without bone involvemen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280" y="2814480"/>
            <a:ext cx="16002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es, for all or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st pati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80" y="3582720"/>
            <a:ext cx="16002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es, for _x0003_some patien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2280" y="4420440"/>
            <a:ext cx="16002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458200" y="30020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867280" y="36576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43736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dule 2</a:t>
            </a:r>
            <a:endParaRPr b="1" lang="en-US" sz="54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8" descr="3-Heme-ART_75yo_Slide3_v5si"/>
          <p:cNvPicPr/>
          <p:nvPr/>
        </p:nvPicPr>
        <p:blipFill>
          <a:blip r:embed="rId1"/>
          <a:stretch/>
        </p:blipFill>
        <p:spPr>
          <a:xfrm>
            <a:off x="2133720" y="3147840"/>
            <a:ext cx="6203880" cy="785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regimen would you most likely recommend to an otherwise fit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for whom you would like to recommend R-chemotherapy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76320" y="3122640"/>
            <a:ext cx="19810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-bendamust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04920" y="3659040"/>
            <a:ext cx="17524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-CHO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8458200" y="31399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2540160" y="36878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11" descr="5-Heme-ART_58yo_Slide5_v6si"/>
          <p:cNvPicPr/>
          <p:nvPr/>
        </p:nvPicPr>
        <p:blipFill>
          <a:blip r:embed="rId1"/>
          <a:stretch/>
        </p:blipFill>
        <p:spPr>
          <a:xfrm>
            <a:off x="2666880" y="3049560"/>
            <a:ext cx="5639040" cy="16905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8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patient presents with high tumor burden FL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, receives R-CHOP followed by R maintenance and progresses after 18 months. 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mmediate treatment would you most likely recommend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52280" y="2987640"/>
            <a:ext cx="236232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oimmunotherap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RIT) al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76320" y="3657600"/>
            <a:ext cx="24382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-line chemo-therapy and S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76320" y="4343400"/>
            <a:ext cx="24382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ndamustine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tuxim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581280" y="30942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8458200" y="37497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4343400" y="44355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-1172" t="0" r="0" b="70843"/>
          <a:stretch/>
        </p:blipFill>
        <p:spPr>
          <a:xfrm>
            <a:off x="1905120" y="2438280"/>
            <a:ext cx="6553080" cy="1143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-1172" t="71936" r="0" b="-3031"/>
          <a:stretch/>
        </p:blipFill>
        <p:spPr>
          <a:xfrm>
            <a:off x="1905120" y="4800600"/>
            <a:ext cx="6553080" cy="12193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55-year-old man with IgG lambda MM (with normal cytogenetics/FISH)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ceives induction RVD, undergoes ASCT and achieves a CR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. What would you most likely recommend regarding post-transplant maintenance? 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33520" y="4191120"/>
            <a:ext cx="76197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If yes, duration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16040"/>
            <a:ext cx="18288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maintenance therap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126600"/>
            <a:ext cx="18288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nalidom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970160"/>
            <a:ext cx="16002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til diseas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gre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5563440"/>
            <a:ext cx="16002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wo ye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26280" y="24890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610480" y="30780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89800" y="50292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6920" y="55627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10" descr="7-Heme-ART_RIT_Slide7_v5si"/>
          <p:cNvPicPr/>
          <p:nvPr/>
        </p:nvPicPr>
        <p:blipFill>
          <a:blip r:embed="rId1"/>
          <a:stretch/>
        </p:blipFill>
        <p:spPr>
          <a:xfrm>
            <a:off x="2482920" y="2759040"/>
            <a:ext cx="5746680" cy="15051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do you consider to be the m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ain barrier to use of RI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in community-based practice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?</a:t>
            </a:r>
            <a:br>
              <a:rPr sz="2600"/>
            </a:b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609480" y="2682720"/>
            <a:ext cx="175284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llenges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th logistic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304920" y="3292560"/>
            <a:ext cx="20574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ck of clinical data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pporting its u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380880" y="3886200"/>
            <a:ext cx="198144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imbursement issu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8381880" y="27892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3733920" y="33685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3352680" y="39783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dule 3</a:t>
            </a:r>
            <a:endParaRPr b="1" lang="en-US" sz="54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2" descr="12-Heme-ART_55yoMCL2_Slide14_v5si"/>
          <p:cNvPicPr/>
          <p:nvPr/>
        </p:nvPicPr>
        <p:blipFill>
          <a:blip r:embed="rId1"/>
          <a:srcRect l="0" t="0" r="0" b="77230"/>
          <a:stretch/>
        </p:blipFill>
        <p:spPr>
          <a:xfrm>
            <a:off x="2438280" y="2743200"/>
            <a:ext cx="5943600" cy="4572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13" descr="12-Heme-ART_55yoMCL2_Slide14_v5si"/>
          <p:cNvPicPr/>
          <p:nvPr/>
        </p:nvPicPr>
        <p:blipFill>
          <a:blip r:embed="rId2"/>
          <a:srcRect l="0" t="22782" r="0" b="50634"/>
          <a:stretch/>
        </p:blipFill>
        <p:spPr>
          <a:xfrm>
            <a:off x="2438280" y="3276720"/>
            <a:ext cx="5943600" cy="5331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4" descr="12-Heme-ART_55yoMCL2_Slide14_v5si"/>
          <p:cNvPicPr/>
          <p:nvPr/>
        </p:nvPicPr>
        <p:blipFill>
          <a:blip r:embed="rId3"/>
          <a:srcRect l="0" t="49378" r="0" b="20258"/>
          <a:stretch/>
        </p:blipFill>
        <p:spPr>
          <a:xfrm>
            <a:off x="2438280" y="3962520"/>
            <a:ext cx="5943600" cy="6094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5" descr="12-Heme-ART_55yoMCL2_Slide14_v5si"/>
          <p:cNvPicPr/>
          <p:nvPr/>
        </p:nvPicPr>
        <p:blipFill>
          <a:blip r:embed="rId4"/>
          <a:srcRect l="0" t="75962" r="0" b="-2524"/>
          <a:stretch/>
        </p:blipFill>
        <p:spPr>
          <a:xfrm>
            <a:off x="2438280" y="4648320"/>
            <a:ext cx="5943600" cy="5331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MCL who relapses after R-CHOP followed by transplant, which treatment would you recommend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80880" y="2666880"/>
            <a:ext cx="1905120" cy="46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ndamustin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± rituxim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76320" y="3200400"/>
            <a:ext cx="220968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myeloablativ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ogeneic bone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rrow transpl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380880" y="3962520"/>
            <a:ext cx="1905120" cy="46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rtezomib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± rituxim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609480" y="4562640"/>
            <a:ext cx="1676520" cy="69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rtezomib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nalidomide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tuxim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8534520" y="28195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5105520" y="34290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10"/>
          <p:cNvSpPr/>
          <p:nvPr/>
        </p:nvSpPr>
        <p:spPr>
          <a:xfrm>
            <a:off x="3809880" y="41148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Text Box 11"/>
          <p:cNvSpPr/>
          <p:nvPr/>
        </p:nvSpPr>
        <p:spPr>
          <a:xfrm>
            <a:off x="2971800" y="48006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12" descr="15-Heme-ART_60MCL_Slide17_v5si"/>
          <p:cNvPicPr/>
          <p:nvPr/>
        </p:nvPicPr>
        <p:blipFill>
          <a:blip r:embed="rId1"/>
          <a:stretch/>
        </p:blipFill>
        <p:spPr>
          <a:xfrm>
            <a:off x="2057400" y="2971800"/>
            <a:ext cx="6248520" cy="19861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a 60-year-old patient with MCL who has diabetes and Grade II neuropathy, receives up-front R-hyper-CVAD and second-line R-CHOP followed by ASCT and is experiencing symptomatic progression, what treatment would you likely recommend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20" name="Text Box 4"/>
          <p:cNvSpPr/>
          <p:nvPr/>
        </p:nvSpPr>
        <p:spPr>
          <a:xfrm>
            <a:off x="380880" y="2971800"/>
            <a:ext cx="16002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ndamust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380880" y="3581280"/>
            <a:ext cx="16002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nalidom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380880" y="4114800"/>
            <a:ext cx="16002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rtezomi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380880" y="4648320"/>
            <a:ext cx="16002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llogeneic S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8458200" y="30020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3200400" y="35812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10"/>
          <p:cNvSpPr/>
          <p:nvPr/>
        </p:nvSpPr>
        <p:spPr>
          <a:xfrm>
            <a:off x="2819520" y="41450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2514600" y="46782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uld you offer CNS prophylaxis for the following patients with DLBCL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29" name="Rectangle 33"/>
          <p:cNvSpPr/>
          <p:nvPr/>
        </p:nvSpPr>
        <p:spPr>
          <a:xfrm>
            <a:off x="336600" y="2008080"/>
            <a:ext cx="8454960" cy="3427560"/>
          </a:xfrm>
          <a:prstGeom prst="rect">
            <a:avLst/>
          </a:prstGeom>
          <a:solidFill>
            <a:srgbClr val="9cc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57200" y="2133720"/>
          <a:ext cx="8229600" cy="3198600"/>
        </p:xfrm>
        <a:graphic>
          <a:graphicData uri="http://schemas.openxmlformats.org/drawingml/2006/table">
            <a:tbl>
              <a:tblPr/>
              <a:tblGrid>
                <a:gridCol w="4068720"/>
                <a:gridCol w="2033640"/>
                <a:gridCol w="2127240"/>
              </a:tblGrid>
              <a:tr h="688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b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cbb33"/>
                          </a:solidFill>
                          <a:latin typeface="Arial"/>
                          <a:ea typeface="ヒラギノ角ゴ Pro W3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b51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ecbb33"/>
                          </a:solidFill>
                          <a:latin typeface="Arial"/>
                          <a:ea typeface="ヒラギノ角ゴ Pro W3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b51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Testicular involv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</a:tr>
              <a:tr h="674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Bone marrow involvem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</a:tr>
              <a:tr h="75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Bulky retroperitoneal lymphadenopath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2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</a:tr>
              <a:tr h="504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High IPI sco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ヒラギノ角ゴ Pro W3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79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12" descr="17-Heme-ART_65yoDLBCL_Slide19_v5si"/>
          <p:cNvPicPr/>
          <p:nvPr/>
        </p:nvPicPr>
        <p:blipFill>
          <a:blip r:embed="rId1"/>
          <a:stretch/>
        </p:blipFill>
        <p:spPr>
          <a:xfrm>
            <a:off x="2308320" y="2895480"/>
            <a:ext cx="5997600" cy="21830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65-year-old patient with high-risk DLBCL experiences relapse after R-CHOP followed by consolidation ASCT. Which treatment (± R) would you most likely recommend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304920" y="2666880"/>
            <a:ext cx="1828800" cy="73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CE (ifosfamide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boplatin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toposid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04920" y="3581280"/>
            <a:ext cx="18288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nalidomi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304920" y="4191120"/>
            <a:ext cx="18288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EP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304920" y="4784760"/>
            <a:ext cx="18288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ndamust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8458200" y="29257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3962520" y="35812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3505320" y="41450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2743200" y="48006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dule 4</a:t>
            </a:r>
            <a:endParaRPr b="1" lang="en-US" sz="54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treatment would you likely recommend for a 55-year-old patient who responds for 6 months to CHOP x 6 and now has progressive PTCL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762120" y="2803680"/>
            <a:ext cx="8380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380880" y="3413160"/>
            <a:ext cx="12193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alatrex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6"/>
          <p:cNvSpPr/>
          <p:nvPr/>
        </p:nvSpPr>
        <p:spPr>
          <a:xfrm>
            <a:off x="380880" y="4098960"/>
            <a:ext cx="12193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midep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80880" y="4708440"/>
            <a:ext cx="121932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ther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1600200" y="5394240"/>
            <a:ext cx="2819520" cy="228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8534520" y="28036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6248520" y="34434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2895480" y="40528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12"/>
          <p:cNvSpPr/>
          <p:nvPr/>
        </p:nvSpPr>
        <p:spPr>
          <a:xfrm>
            <a:off x="3429000" y="46623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13"/>
          <p:cNvSpPr/>
          <p:nvPr/>
        </p:nvSpPr>
        <p:spPr>
          <a:xfrm>
            <a:off x="1752480" y="5394240"/>
            <a:ext cx="3505320" cy="322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* Gemcitabine, ESHAP, depsipeptid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3" name="Picture 15" descr="18-Heme-ART_55yoPTCL_Slide20_v6tjd"/>
          <p:cNvPicPr/>
          <p:nvPr/>
        </p:nvPicPr>
        <p:blipFill>
          <a:blip r:embed="rId1"/>
          <a:stretch/>
        </p:blipFill>
        <p:spPr>
          <a:xfrm>
            <a:off x="1752480" y="2708280"/>
            <a:ext cx="6635880" cy="23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4" descr="21-Heme-ART_58yoALCL_Slide24_v5si"/>
          <p:cNvPicPr/>
          <p:nvPr/>
        </p:nvPicPr>
        <p:blipFill>
          <a:blip r:embed="rId1"/>
          <a:stretch/>
        </p:blipFill>
        <p:spPr>
          <a:xfrm>
            <a:off x="1828800" y="2971800"/>
            <a:ext cx="6400800" cy="266544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8377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58-year-old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patient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with mycosis fungoide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receives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bexarotene, extracorporeal photopheresis and interferon, then narrowband UVB phototherapy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followed by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 vorinostat, which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enables a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 good response for 3 years, then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disease progresse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.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treatment would you likely recommend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380880" y="3048120"/>
            <a:ext cx="12956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mideps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380880" y="3641760"/>
            <a:ext cx="12956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alatrex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380880" y="4038480"/>
            <a:ext cx="129564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nileukin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ftito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380880" y="4648320"/>
            <a:ext cx="129564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orinostat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reat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380880" y="5318280"/>
            <a:ext cx="12956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mcitabi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8381880" y="30780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4724280" y="36576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2819520" y="41911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819520" y="47242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2362320" y="53341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160" y="15238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dule 5</a:t>
            </a:r>
            <a:endParaRPr b="1" lang="en-US" sz="54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2602080"/>
            <a:ext cx="6629400" cy="1741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frequently do you administer s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ubcutaneous bortezomib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2590920"/>
            <a:ext cx="121896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st or all of the ti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429000"/>
            <a:ext cx="13716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equent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4114800"/>
            <a:ext cx="129528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meti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458200" y="26668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05520" y="33526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40384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981080" y="2133720"/>
            <a:ext cx="6172200" cy="4093920"/>
          </a:xfrm>
          <a:prstGeom prst="rect">
            <a:avLst/>
          </a:prstGeom>
          <a:ln w="0">
            <a:noFill/>
          </a:ln>
        </p:spPr>
      </p:pic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general, what is your usual induction regimen 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6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, otherwise healthy patient who has MM with normal cytogenetics/FISH and no lytic lesions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62120" y="2270160"/>
            <a:ext cx="99036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V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3520" y="3200400"/>
            <a:ext cx="121896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D/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520" y="4038480"/>
            <a:ext cx="121896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yBo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" y="4952880"/>
            <a:ext cx="10666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D/VT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5791320"/>
            <a:ext cx="76176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05920" y="22860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32004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0600" y="40384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114800" y="49528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9000" y="57913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447920" y="2668680"/>
            <a:ext cx="6933960" cy="24368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general, what is your usual induction regimen for an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8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, otherwise healthy patient who has MM with normal cytogenetics and no lytic lesions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04920" y="2712960"/>
            <a:ext cx="99036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D/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28600" y="3246480"/>
            <a:ext cx="10666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D/VT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62120" y="3780000"/>
            <a:ext cx="53316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V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520" y="4389480"/>
            <a:ext cx="76176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4846680"/>
            <a:ext cx="83808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458200" y="26668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905120" y="32464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37339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05120" y="42670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905120" y="48006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" descr=""/>
          <p:cNvPicPr/>
          <p:nvPr/>
        </p:nvPicPr>
        <p:blipFill>
          <a:blip r:embed="rId1"/>
          <a:srcRect l="0" t="91024" r="0" b="-16555"/>
          <a:stretch/>
        </p:blipFill>
        <p:spPr>
          <a:xfrm>
            <a:off x="1143000" y="5181480"/>
            <a:ext cx="7010280" cy="121932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rcRect l="0" t="44711" r="0" b="26549"/>
          <a:stretch/>
        </p:blipFill>
        <p:spPr>
          <a:xfrm>
            <a:off x="1143000" y="3276720"/>
            <a:ext cx="7010280" cy="13716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3"/>
          <a:srcRect l="0" t="0" r="0" b="68668"/>
          <a:stretch/>
        </p:blipFill>
        <p:spPr>
          <a:xfrm>
            <a:off x="1143000" y="1324080"/>
            <a:ext cx="7010280" cy="14954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 you preemptively dose reduce for patients ag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1578240"/>
            <a:ext cx="3812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2224440"/>
            <a:ext cx="6858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529440"/>
            <a:ext cx="3812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4920" y="4175640"/>
            <a:ext cx="6858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58240"/>
            <a:ext cx="3812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920" y="6004440"/>
            <a:ext cx="6858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14479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01000" y="22096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34290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676520" y="41911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8305920" y="53341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143000" y="60199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498560" y="914400"/>
            <a:ext cx="762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5-7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98560" y="2895480"/>
            <a:ext cx="7628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5-8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4160" y="4800600"/>
            <a:ext cx="55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≥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819520" y="2320920"/>
            <a:ext cx="5257800" cy="316548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75-year-old patient receives standard VD and achieves a VGPR after 4 cycles but is experiencing numbness and tingling in her fingers. In general, what would be your treatment approach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2320920"/>
            <a:ext cx="20574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continue bortezomi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80880" y="3106800"/>
            <a:ext cx="2210040" cy="6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duce bortezomib dose, change to weekly subcutaneo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520" y="4149720"/>
            <a:ext cx="20574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hange to weekly_x0003_(IV or subcutaneou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57200" y="5003640"/>
            <a:ext cx="213372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 from VD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o RD or R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229600" y="24732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33116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34120" y="42260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51404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836720" y="2514600"/>
            <a:ext cx="6392880" cy="2457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frequently do you administer w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eekly bortezomib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2558880"/>
            <a:ext cx="16002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st or all 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 the tim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3279960"/>
            <a:ext cx="16002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equent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974040"/>
            <a:ext cx="137160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meti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4645440"/>
            <a:ext cx="10670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rel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26100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381880" y="32958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39816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46213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1-Heme-ART_72yo_Slide1_v5si"/>
          <p:cNvPicPr/>
          <p:nvPr/>
        </p:nvPicPr>
        <p:blipFill>
          <a:blip r:embed="rId1"/>
          <a:srcRect l="22265" t="41344" r="8102" b="29543"/>
          <a:stretch/>
        </p:blipFill>
        <p:spPr>
          <a:xfrm>
            <a:off x="2057400" y="2744640"/>
            <a:ext cx="6553080" cy="20559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72-year-old man with multiple comorbidities and slowly progressing adenopathy is diagnosed with Stage IV, Grade I FL, FLIPI = 3. What up-front treatment would you recommend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52280" y="3053520"/>
            <a:ext cx="190512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atch and wait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380880" y="3554280"/>
            <a:ext cx="167652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tuximab (R)</a:t>
            </a:r>
            <a:r>
              <a:rPr b="1" lang="en-US" sz="1600" spc="-1" strike="noStrike">
                <a:solidFill>
                  <a:srgbClr val="ffffff"/>
                </a:solidFill>
                <a:latin typeface="ヒラギノ角ゴ ProN W6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 4 weekly do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380880" y="4247280"/>
            <a:ext cx="167652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chemotherap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4419720" y="29732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8534520" y="35830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4038480" y="41925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2-Heme-ART_55yo_Slide2_v5si"/>
          <p:cNvPicPr/>
          <p:nvPr/>
        </p:nvPicPr>
        <p:blipFill>
          <a:blip r:embed="rId1"/>
          <a:stretch/>
        </p:blipFill>
        <p:spPr>
          <a:xfrm>
            <a:off x="2057400" y="3079800"/>
            <a:ext cx="6248520" cy="14763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regimen would you most likely recommend to an otherwise fit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FL whom you would like to treat with R-chemotherapy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52280" y="3016080"/>
            <a:ext cx="175284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ndamustine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ituximab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2280" y="3689280"/>
            <a:ext cx="17528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CHO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52280" y="4299120"/>
            <a:ext cx="1752840" cy="2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CV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8458200" y="31561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572000" y="36892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3429000" y="42228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4-Heme-ART_55yo_Slide4_v5si"/>
          <p:cNvPicPr/>
          <p:nvPr/>
        </p:nvPicPr>
        <p:blipFill>
          <a:blip r:embed="rId1"/>
          <a:srcRect l="11213" t="44854" r="4992" b="37837"/>
          <a:stretch/>
        </p:blipFill>
        <p:spPr>
          <a:xfrm>
            <a:off x="914400" y="2870280"/>
            <a:ext cx="7543800" cy="1168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55-year-old man with Stage III, high-risk FL achieves a PR to R-CHOP. Would you offer this patient maintenance rituximab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8600" y="3024360"/>
            <a:ext cx="68580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514600" y="35863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04920" y="3556080"/>
            <a:ext cx="6094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8381880" y="30225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6-Heme-ART_78yo_Slide6_v6si"/>
          <p:cNvPicPr/>
          <p:nvPr/>
        </p:nvPicPr>
        <p:blipFill>
          <a:blip r:embed="rId1"/>
          <a:stretch/>
        </p:blipFill>
        <p:spPr>
          <a:xfrm>
            <a:off x="2590920" y="2971800"/>
            <a:ext cx="5849640" cy="154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8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Cambria"/>
              </a:rPr>
              <a:t>patient presents with high tumor burden FL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, receives BR followed by R maintenance and progresses after 18 months. What immediate treatment would you most likely recommend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28600" y="2971800"/>
            <a:ext cx="220968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adioimmunotherap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RIT) alon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80880" y="3665520"/>
            <a:ext cx="2057400" cy="2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chemotherap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80880" y="4130640"/>
            <a:ext cx="2057400" cy="43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-chemotherapy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llowed by RI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8534520" y="30481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5867280" y="36115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3124080" y="41911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3:32:11Z</dcterms:created>
  <dc:creator>Research To Practice</dc:creator>
  <dc:description/>
  <cp:keywords/>
  <dc:language>en-US</dc:language>
  <cp:lastModifiedBy>Mac Pro E703803Y4PC</cp:lastModifiedBy>
  <cp:lastPrinted>2012-06-03T19:33:27Z</cp:lastPrinted>
  <dcterms:modified xsi:type="dcterms:W3CDTF">2012-07-10T18:07:59Z</dcterms:modified>
  <cp:revision>686</cp:revision>
  <dc:subject/>
  <dc:title>Research To Practice</dc:title>
</cp:coreProperties>
</file>