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0.pct" ContentType="image/x-pict"/>
  <Override PartName="/ppt/media/image7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71135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0"/>
            <a:ext cx="711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dt" idx="33"/>
          </p:nvPr>
        </p:nvSpPr>
        <p:spPr>
          <a:xfrm>
            <a:off x="4028760" y="-36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EC42-5604-498C-9DEC-3D15A9F08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Img"/>
          </p:nvPr>
        </p:nvSpPr>
        <p:spPr>
          <a:xfrm>
            <a:off x="120600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ftr" idx="34"/>
          </p:nvPr>
        </p:nvSpPr>
        <p:spPr>
          <a:xfrm>
            <a:off x="-360" y="892620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 type="sldNum" idx="35"/>
          </p:nvPr>
        </p:nvSpPr>
        <p:spPr>
          <a:xfrm>
            <a:off x="4028760" y="892620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587F-11D8-4E78-B7EF-27E036ABD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819" name="Slide Number Placeholder 3"/>
          <p:cNvSpPr/>
          <p:nvPr/>
        </p:nvSpPr>
        <p:spPr>
          <a:xfrm>
            <a:off x="4029120" y="8926560"/>
            <a:ext cx="3081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fld id="{91B413B9-8E65-493F-B4B0-0F84B3A2D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4030560" y="8928000"/>
            <a:ext cx="3081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883E850-E780-4D07-93D7-9A243E8ED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4030560" y="8928000"/>
            <a:ext cx="3081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C066919-F66F-426A-9135-555A18731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694400" cy="35211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27320" y="8926560"/>
            <a:ext cx="3083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6C67638-C576-4E35-B8D1-5DADE1BE96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831960" y="4376880"/>
            <a:ext cx="5332320" cy="4232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F825-26D2-4684-8D0E-0CF9DC47B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90B6-55C7-4E9F-993C-44BF1BCC994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52D1D2-05CF-40E5-909E-4F2A6EC7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DBF1D5-437A-49CC-984F-5D0DEE9F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4D0306-8758-4EC4-8831-29EFA65D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B4A546-D284-4C55-9C54-5936B71D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ABA54A-DB39-4DF5-8347-BB14AC73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296E80-E221-482A-9EB5-651B6315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45DEB2-7BC0-4C8B-99BE-D21A3D59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F57100-6E2B-4530-AA13-4468A980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6FCC6A-1C0B-41AC-B293-48A36D07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01646A-2528-40F4-92AF-4C99679A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BBDA-6738-45C7-B71C-20D45160C16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2B7DE0-1888-4B57-B5B1-ED58F712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55E8A9-82AC-4264-8C81-9C88BA05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816BD6-6918-4CDB-8A97-B9DFE080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1F243F-8F5D-46B0-B0BE-409D9458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82A055-BED6-430C-A9E9-6D6C69E1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9D4786-756B-4834-B51E-8D4FBCEB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F0096C-D149-4153-93AE-A3E3332F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EA3678-3DCA-4582-8AEB-6B1087EC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6BAC36-C508-453F-B2D1-4CDE80E9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6D563D-7AB9-47DF-A369-29A4E50D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BD84-CB22-48DF-8236-99C4971A532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07B527-3A2D-4B22-802E-D42D4A89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E3C5B8-C437-468C-8175-A31AAB69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DB9C22-C332-4221-B652-7CF2F015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6D73D1-8CBA-4FE4-942C-E6D17523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843107-86E2-4C7B-9142-3F8FCE03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3CB3BD-F8B7-48F9-A562-BFA00A2D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FF5579-F43D-49F2-AD6C-EBB2239A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1D9F8F-129A-4404-9E07-3E8128D2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1C55E4-9143-477F-982C-A3FA4211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8D5EC9-038A-40A2-8754-311A6E20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2389D-C62E-4282-B9C9-9165DC25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46A03B-3D74-402F-9A14-C3C32917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A8CCAB-A474-40B0-A481-4E4D4D32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D4BFFE-12CD-4BD7-9A0C-47BECCEB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7BFAA9-4294-4488-9504-070ACDF0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C696F2-1B26-41D7-BCA6-2269E774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560C13-588F-4597-81BA-9E8E626A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C1BAD9-FF64-49C8-AA93-9CE27C01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985B40-CB67-4621-BC6D-7E353EA2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F2AAEB-4013-4861-A3EF-96AC6B6C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ABED87-23F9-42B1-A595-FFD2283D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B7483-7D9C-4465-9528-858181DE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F8D467-C16A-47C0-BE31-F50E4AED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A36890-94EE-4F49-AD82-A8D3889A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F9011D-E8EC-4377-ADDE-A76043B5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BE4015-4FE6-4D19-B4DF-B56315E8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67B227-FA21-4F4A-9D10-3F74420B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4BDA1-F9F8-4207-9C78-376486F9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F90FB-49EE-48E1-BE51-1331D112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AC9A4-9083-4A63-B852-68EC37F4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91869-A9CB-46D8-93E5-92A00A36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700EE-EDC1-4464-B6D1-CC3BCFC4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2327-04F2-476C-AB6E-351343452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49B3B-6A4A-47BE-A4A7-197982A8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C92E6-555B-4ABB-B9A5-688C494D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539F3-003F-4DB7-BB91-58016691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024EB-E870-4F67-A404-E550CF08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5B912-A953-49EA-8919-400F3FA2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D150-64B5-40C3-BD93-1047C86677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4726-2B0D-412F-8237-C77FA402B3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A226-4598-4948-AD61-8720B0EB0C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5063-19A6-40CD-8FD4-A2AFCEC0BF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0433-1686-47C7-A09E-BE09EF273A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F9D9-88A9-4B28-8380-B9FB8C9747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FEC4-B2F1-46A2-9F7D-56F173A110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EB1F-DE70-4D1B-9C35-293950820D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7C86-A115-43F0-9EAF-4DC9E335CA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739A-1BDB-454A-AE48-FA4916C04C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AD64-D258-4B16-97C2-70FB01187C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93B7-4D86-4311-8954-7DD5241FED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3B2D-B937-43B3-AF2C-BB53273EF4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0333E-0E07-46B2-851C-10793424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6B1E5-C695-4CEB-821B-7F36730B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7C67-1788-4FA4-A16F-071456AA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60A7-CD67-4CFB-AACC-17F6B6E351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16E74-A0F8-4B38-B0ED-BEF42EDC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252F9-05D9-40B3-87DD-0663D4FB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7E6C3-1475-42E5-8AA6-A01F0568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A214E-6D5C-433D-A4D9-41ECF915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DD564-6A51-4179-809C-DB87B377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208C4-6938-42D2-BC79-8A3B5ED6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F3011-86B0-42A4-93CC-BB46A7FE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528CE-2094-42C7-9514-CE69E020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BE91-D142-4FA4-A055-ED9A3BD2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BA25C-E7D0-4731-9E00-E2731812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C290-BD0E-4CAB-A90C-5F6E52C3924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5CB83-A318-45A8-A69D-D3B3663B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0F641-52F6-4F79-BD34-31D9AF3C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06C9B-3BDA-4540-9127-A01EC0B9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D8CB0-9D23-45E2-BA48-C40DBCEC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591F8-3A98-4A7E-A107-9F7AC8BF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41124-7FED-45CB-B68E-5986B157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92A76-8BE7-4B49-89D6-0D4B0CAB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99843-1448-4D2F-99BD-D8B965EF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A7A3D-20A9-4521-986E-10B2B6B1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7F462-2F31-4E0D-81A3-E69A3B59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768F-EE34-4237-A759-7DF67AF3C51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41F69-E1AF-40AB-9DE6-0F808559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A2E5C9-47F1-4C18-B68E-618038E3AF0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032518-AD40-4C09-8358-F5B2D879006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4940D4-67AF-4F06-8C9E-741DDDAA4B1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F6A5BB-7242-4CA7-B360-4BD8C3C3162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109DAB-0678-4BAB-8D7A-2BD9AAB917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F24A0A-F345-4E9A-AFC9-20AF58D7CE5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ABE79E-E369-4EB4-AE42-C7BA721F105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D93DB0-192B-42F3-B6C0-EF233864A6E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2E168A-00E1-4B19-AF91-93D7B9F14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A423-45B6-4BD3-BC2E-D92E0A01582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87FDD2-18E3-4B48-91F2-6A5FB8B8F71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72A9B3-3851-47CE-BDD5-94653298B83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F5D529-739F-4A8F-8108-7A730B14931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624BA-2411-4157-B6C4-DBD4A315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8599FD-8D6E-443B-B5F8-E5D9558B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64918-D005-4F8F-90E1-31A2E6B0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60EE8-4140-481B-9E79-13A8319A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01260D-4552-4E39-8622-F73AE446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95DC51-BBCD-4A40-8E17-BFBE6F1E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A2FB2-CE28-46A0-BACA-4C32C902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9977-0FDE-4F0A-BE98-3C45A25C49F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2881E-59A5-4080-8113-7E27D282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2B492-9B66-48CD-9F8B-AAAE53FA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04588-B4DD-4527-B90A-03EF0DAE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E8B969-B655-4882-8A04-2C2031A7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7985D9-89C4-468B-A482-17AA626F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9AE9B-BA42-4670-B878-D35B7381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8A5E2-1498-4255-91AC-921DA281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C6E0B-DAD1-44E9-B395-5CF803DE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3AC589-C070-4C8A-9DAE-12E1F514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AC7283-9AD4-48DF-AC34-20766FC6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8FD6-1F03-4F37-A4FD-D653B451614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EB84AD-2B3F-4453-B5DC-F4514B97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EC097E-AD8D-4DE6-AECD-8AADDD8B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8AA72-45DD-4999-850F-49300E6B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45635-940B-42FC-A7B5-23181DF9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1E79F8-3050-424F-92CB-AC1A61C5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AAC840-5D79-49F9-9A44-58638C9E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2DCC6D-45E4-465E-B3AA-001F7B0A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D2D17A-AD73-4FEA-A6A9-6C1A6489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EE2379-9FA4-4DE9-A50D-02397852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6C6E08-A9A7-42FE-B420-6E1F8D04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B645-0750-4949-96B0-1435B94C5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4A6E-DD40-4991-A9DE-D9776A2333C7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6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C29E-5791-4F52-B923-A6C786309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BEEB-1FC8-4C84-B0AB-CD4960BBFD78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9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85E0-E5E3-4F83-BF22-5A5906C23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965E-CB45-4325-A5FA-1664B666A286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2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ACBB-FB6D-4E77-89D7-B841EF29B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1" descr="Nsclc_GR_title slideUSE THIS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D8A6-9EA3-4E74-B579-3F81E2775380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ADE6-7960-4552-AC91-D644AB6CF1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457200" y="6160680"/>
            <a:ext cx="814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8621280" y="623844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82E0-BFC0-463E-B0AE-23F4BCB23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1EEC-46AE-4A5A-A99D-E7B0653C056E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2EE6-3FE0-45A0-A22D-48144DFFA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5094-4D8A-40E9-AB36-DF9C02809009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ED1A-0047-48BB-923D-439B2A181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3"/>
          </p:nvPr>
        </p:nvSpPr>
        <p:spPr>
          <a:xfrm>
            <a:off x="8621280" y="623844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5869-674E-477D-BBB2-31FB5331B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457200" y="6160680"/>
            <a:ext cx="814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5C48-7BE7-45A1-91CD-C56EDA19CB16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7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D80B-7845-4E89-AFC5-15B6DB832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42E5-4474-4D27-A33E-2EB559D5287D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0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6A7D-411F-4CF1-95AA-79A68B30F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F2A6-3010-4A32-A9E1-3472B445216C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3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1ECC-99B2-48A6-8A62-36A1236A3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en/2/21/Mdanderson_logo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aerials-2006-010"/>
          <p:cNvPicPr/>
          <p:nvPr/>
        </p:nvPicPr>
        <p:blipFill>
          <a:blip r:embed="rId1"/>
          <a:srcRect l="0" t="4981" r="0" b="6444"/>
          <a:stretch/>
        </p:blipFill>
        <p:spPr>
          <a:xfrm>
            <a:off x="182520" y="4446720"/>
            <a:ext cx="5405400" cy="22780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675" name="Rectangle 3"/>
          <p:cNvSpPr/>
          <p:nvPr/>
        </p:nvSpPr>
        <p:spPr>
          <a:xfrm>
            <a:off x="74520" y="181080"/>
            <a:ext cx="9018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ationale for Targeting c-MET in Lung Cancer:  The BATTL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4"/>
          <p:cNvSpPr/>
          <p:nvPr/>
        </p:nvSpPr>
        <p:spPr>
          <a:xfrm>
            <a:off x="3900600" y="3100320"/>
            <a:ext cx="1342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5"/>
          <p:cNvSpPr/>
          <p:nvPr/>
        </p:nvSpPr>
        <p:spPr>
          <a:xfrm>
            <a:off x="3900600" y="3100320"/>
            <a:ext cx="1342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6" descr="File:Mdanderson log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78360" y="4770360"/>
            <a:ext cx="3251520" cy="169092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7"/>
          <p:cNvSpPr/>
          <p:nvPr/>
        </p:nvSpPr>
        <p:spPr>
          <a:xfrm>
            <a:off x="1293840" y="2111400"/>
            <a:ext cx="66484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ward S. Kim, M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ociate Professor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or, Clinical Research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ief, Section of Head and Neck Medical Oncology Dept. Thoracic/Head and Neck Medical Onc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Q 197-209: PFS and OS in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n-Squamous Cell Histology Patients (n=117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2" name="Text Box 90"/>
          <p:cNvSpPr/>
          <p:nvPr/>
        </p:nvSpPr>
        <p:spPr>
          <a:xfrm>
            <a:off x="114480" y="6416280"/>
            <a:ext cx="24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ller J et al. ASCO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457200" y="1511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PFS (Investigator Assess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rlotinib + ARQ 197 (n=58) — 18.9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rlotinib + placebo (n=59) — 9.7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zard ratio = 0.71 (95% CI 0.46 - 1.10)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0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justed HR = 0.61 (95% CI 0.47 - 0.98)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0.0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Overall Survi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rlotinib + ARQ 197 (n=58) — 43.1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rlotinib + placebo (n=59) — 29.4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zard ratio=0.72 (95% CI 0.60 - 1.30)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0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justed HR=0.58 (95% CI 0.34 - 0.99)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0.0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44600" y="6045120"/>
            <a:ext cx="6769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Cox regres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145"/>
          <p:cNvSpPr/>
          <p:nvPr/>
        </p:nvSpPr>
        <p:spPr>
          <a:xfrm>
            <a:off x="196920" y="1523880"/>
            <a:ext cx="888372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0200"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Rationale for targeting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3440">
              <a:lnSpc>
                <a:spcPct val="100000"/>
              </a:lnSpc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t is amplified, mutated, overexpressed in many tum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3440">
              <a:lnSpc>
                <a:spcPct val="100000"/>
              </a:lnSpc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t expression is associated with a worse prognosis in many cancers including NSC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3440">
              <a:lnSpc>
                <a:spcPct val="100000"/>
              </a:lnSpc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t activation is implicated in resistance to erlotinib/gefitinib in pts with activating EGFR mu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8120" indent="-160200"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tMAb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3440">
              <a:lnSpc>
                <a:spcPct val="100000"/>
              </a:lnSpc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One-armed format designed to prevent HGF-mediated stimulation of pathwa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3440">
              <a:lnSpc>
                <a:spcPct val="100000"/>
              </a:lnSpc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eclinical activity across multiple tumor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49200" y="209520"/>
            <a:ext cx="861048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etMAb is an Anti-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Me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novalen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ti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dy that Inhibits HGF-Mediated Acti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TextBox 153"/>
          <p:cNvSpPr/>
          <p:nvPr/>
        </p:nvSpPr>
        <p:spPr>
          <a:xfrm>
            <a:off x="289080" y="649764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gel, D et al. ESMO 2010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Abst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LBA 5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53"/>
          <p:cNvGrpSpPr/>
          <p:nvPr/>
        </p:nvGrpSpPr>
        <p:grpSpPr>
          <a:xfrm>
            <a:off x="5349240" y="3268800"/>
            <a:ext cx="810000" cy="711360"/>
            <a:chOff x="5349240" y="3268800"/>
            <a:chExt cx="810000" cy="711360"/>
          </a:xfrm>
        </p:grpSpPr>
        <p:sp>
          <p:nvSpPr>
            <p:cNvPr id="769" name="AutoShape 54"/>
            <p:cNvSpPr/>
            <p:nvPr/>
          </p:nvSpPr>
          <p:spPr>
            <a:xfrm flipV="1" rot="18306000">
              <a:off x="5649480" y="3548520"/>
              <a:ext cx="496800" cy="289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55"/>
            <p:cNvSpPr/>
            <p:nvPr/>
          </p:nvSpPr>
          <p:spPr>
            <a:xfrm flipV="1" rot="2106000">
              <a:off x="5361120" y="3384720"/>
              <a:ext cx="464760" cy="188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52"/>
          <p:cNvGrpSpPr/>
          <p:nvPr/>
        </p:nvGrpSpPr>
        <p:grpSpPr>
          <a:xfrm>
            <a:off x="5363640" y="1591920"/>
            <a:ext cx="810000" cy="711360"/>
            <a:chOff x="5363640" y="1591920"/>
            <a:chExt cx="810000" cy="711360"/>
          </a:xfrm>
        </p:grpSpPr>
        <p:sp>
          <p:nvSpPr>
            <p:cNvPr id="772" name="AutoShape 50"/>
            <p:cNvSpPr/>
            <p:nvPr/>
          </p:nvSpPr>
          <p:spPr>
            <a:xfrm rot="3294000">
              <a:off x="5663880" y="1733760"/>
              <a:ext cx="496800" cy="288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51"/>
            <p:cNvSpPr/>
            <p:nvPr/>
          </p:nvSpPr>
          <p:spPr>
            <a:xfrm rot="19494000">
              <a:off x="5375520" y="1998000"/>
              <a:ext cx="464760" cy="188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Text Box 12"/>
          <p:cNvSpPr/>
          <p:nvPr/>
        </p:nvSpPr>
        <p:spPr>
          <a:xfrm>
            <a:off x="6078600" y="1590840"/>
            <a:ext cx="2684520" cy="10047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m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lotinib (150 qd-oral) + MetMAb (15 mg/kg IV q3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4"/>
          <p:cNvSpPr/>
          <p:nvPr/>
        </p:nvSpPr>
        <p:spPr>
          <a:xfrm>
            <a:off x="6713640" y="5295960"/>
            <a:ext cx="1334880" cy="5806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ition of MetMAb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6"/>
          <p:cNvSpPr/>
          <p:nvPr/>
        </p:nvSpPr>
        <p:spPr>
          <a:xfrm>
            <a:off x="3801960" y="2203560"/>
            <a:ext cx="1943280" cy="1092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ratification Factors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88"/>
              </a:spcAft>
              <a:buClr>
                <a:srgbClr val="294f2d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obacco Histor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88"/>
              </a:spcAft>
              <a:buClr>
                <a:srgbClr val="294f2d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erformance Statu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88"/>
              </a:spcAft>
              <a:buClr>
                <a:srgbClr val="294f2d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istolog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9"/>
          <p:cNvSpPr/>
          <p:nvPr/>
        </p:nvSpPr>
        <p:spPr>
          <a:xfrm>
            <a:off x="7089840" y="490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458640" y="4265640"/>
            <a:ext cx="323064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-Primary Objectiv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349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S in “Met High”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349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S in overall ITT popul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ther Key Objectiv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24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 in “Met High”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24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 in Overall ITT pati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24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verall Respons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24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fety/Tol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82240" y="230040"/>
            <a:ext cx="86122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AM4558g Study Design: Global, Double-Blind, Placebo-Controlled, Phase II Stud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Text Box 12"/>
          <p:cNvSpPr/>
          <p:nvPr/>
        </p:nvSpPr>
        <p:spPr>
          <a:xfrm>
            <a:off x="6078600" y="3233880"/>
            <a:ext cx="2730600" cy="11318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m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lotinib (150 qd-oral)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cebo (IV q3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5"/>
          <p:cNvSpPr/>
          <p:nvPr/>
        </p:nvSpPr>
        <p:spPr>
          <a:xfrm>
            <a:off x="201600" y="1895400"/>
            <a:ext cx="2438280" cy="176436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Key Eligibilit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Aft>
                <a:spcPts val="7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tage IIIB/IV NSCL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Aft>
                <a:spcPts val="7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nd/3rd-line NSCL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Aft>
                <a:spcPts val="7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issue Requir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Aft>
                <a:spcPts val="7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S 0-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17"/>
          <p:cNvSpPr/>
          <p:nvPr/>
        </p:nvSpPr>
        <p:spPr>
          <a:xfrm>
            <a:off x="3080160" y="1784520"/>
            <a:ext cx="307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31"/>
          <p:cNvSpPr/>
          <p:nvPr/>
        </p:nvSpPr>
        <p:spPr>
          <a:xfrm>
            <a:off x="3021120" y="1468440"/>
            <a:ext cx="7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40"/>
          <p:cNvGrpSpPr/>
          <p:nvPr/>
        </p:nvGrpSpPr>
        <p:grpSpPr>
          <a:xfrm>
            <a:off x="2631960" y="2357280"/>
            <a:ext cx="342720" cy="871560"/>
            <a:chOff x="2631960" y="2357280"/>
            <a:chExt cx="342720" cy="871560"/>
          </a:xfrm>
        </p:grpSpPr>
        <p:sp>
          <p:nvSpPr>
            <p:cNvPr id="785" name="AutoShape 36"/>
            <p:cNvSpPr/>
            <p:nvPr/>
          </p:nvSpPr>
          <p:spPr>
            <a:xfrm rot="5400000">
              <a:off x="2429280" y="2683440"/>
              <a:ext cx="871560" cy="218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39"/>
            <p:cNvSpPr/>
            <p:nvPr/>
          </p:nvSpPr>
          <p:spPr>
            <a:xfrm>
              <a:off x="2631960" y="2627280"/>
              <a:ext cx="127080" cy="330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41"/>
          <p:cNvGrpSpPr/>
          <p:nvPr/>
        </p:nvGrpSpPr>
        <p:grpSpPr>
          <a:xfrm>
            <a:off x="3459240" y="2392200"/>
            <a:ext cx="342720" cy="871560"/>
            <a:chOff x="3459240" y="2392200"/>
            <a:chExt cx="342720" cy="871560"/>
          </a:xfrm>
        </p:grpSpPr>
        <p:sp>
          <p:nvSpPr>
            <p:cNvPr id="788" name="AutoShape 42"/>
            <p:cNvSpPr/>
            <p:nvPr/>
          </p:nvSpPr>
          <p:spPr>
            <a:xfrm rot="5400000">
              <a:off x="3256560" y="2718360"/>
              <a:ext cx="871560" cy="218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43"/>
            <p:cNvSpPr/>
            <p:nvPr/>
          </p:nvSpPr>
          <p:spPr>
            <a:xfrm>
              <a:off x="3459240" y="2662200"/>
              <a:ext cx="127080" cy="330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30"/>
          <p:cNvGrpSpPr/>
          <p:nvPr/>
        </p:nvGrpSpPr>
        <p:grpSpPr>
          <a:xfrm>
            <a:off x="6827400" y="4422600"/>
            <a:ext cx="945720" cy="474120"/>
            <a:chOff x="6827400" y="4422600"/>
            <a:chExt cx="945720" cy="474120"/>
          </a:xfrm>
        </p:grpSpPr>
        <p:sp>
          <p:nvSpPr>
            <p:cNvPr id="791" name="AutoShape 45"/>
            <p:cNvSpPr/>
            <p:nvPr/>
          </p:nvSpPr>
          <p:spPr>
            <a:xfrm rot="10800000">
              <a:off x="6827400" y="4709880"/>
              <a:ext cx="945720" cy="186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46"/>
            <p:cNvSpPr/>
            <p:nvPr/>
          </p:nvSpPr>
          <p:spPr>
            <a:xfrm rot="5400000">
              <a:off x="7157520" y="4388760"/>
              <a:ext cx="290520" cy="35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Box 31"/>
          <p:cNvSpPr/>
          <p:nvPr/>
        </p:nvSpPr>
        <p:spPr>
          <a:xfrm>
            <a:off x="865440" y="143496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32"/>
          <p:cNvSpPr/>
          <p:nvPr/>
        </p:nvSpPr>
        <p:spPr>
          <a:xfrm>
            <a:off x="7445160" y="26290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3"/>
          <p:cNvSpPr/>
          <p:nvPr/>
        </p:nvSpPr>
        <p:spPr>
          <a:xfrm>
            <a:off x="7975440" y="4394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33"/>
          <p:cNvSpPr/>
          <p:nvPr/>
        </p:nvSpPr>
        <p:spPr>
          <a:xfrm>
            <a:off x="8070840" y="5375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35"/>
          <p:cNvSpPr/>
          <p:nvPr/>
        </p:nvSpPr>
        <p:spPr>
          <a:xfrm>
            <a:off x="289080" y="649764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gel, D et al. ESMO 2010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Abst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LBA 5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81200" y="399960"/>
            <a:ext cx="77198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FS and OS: ITT Pop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TextBox 9"/>
          <p:cNvSpPr/>
          <p:nvPr/>
        </p:nvSpPr>
        <p:spPr>
          <a:xfrm>
            <a:off x="289080" y="649764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gel, D et al. ESMO 2010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Abst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LBA 5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457200" y="1511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PF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MetMAb (n=64) — 9.6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64) — 11.1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zard ratio=1.09 (95% CI 0.71 - 1.67)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0.6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MetMAb (n=64) — 7.1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64) — 8.2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zard ratio=1.09 (95% CI 0.62 - 1.91)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0.76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Date Placeholder 1"/>
          <p:cNvSpPr/>
          <p:nvPr/>
        </p:nvSpPr>
        <p:spPr>
          <a:xfrm>
            <a:off x="0" y="64008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2320" y="217440"/>
            <a:ext cx="83278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FS and OS: Met High Pop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3" name="TextBox 9"/>
          <p:cNvSpPr/>
          <p:nvPr/>
        </p:nvSpPr>
        <p:spPr>
          <a:xfrm>
            <a:off x="289080" y="649764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gel, D et al. ESMO 2010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Abst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LBA 5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457200" y="1511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PF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MetMAb (n=35) — 12.4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30) — 6.4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zard ratio=0.56 (95% CI 0.31 - 1.02);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 0.05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MetMAb (n=35) — 7.7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30) — 7.4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zard ratio=0.55 (95% CI 0.26 - 1.16)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0.11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ffica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 response rat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lotinib+MetMAb n=4 (6.3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lotinib+Placebo n=3 (4.7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 pts from the Erlotinib+Placebo arm crossed over to MetM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 and OS are consistent with previously reported findings in similar disease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lotinib+MetMAb improves both PFS and OS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t Hig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SCLC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35080" y="353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-MET/HGF Inhibition in Lung Cance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scale randomized trials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LE principles of real-time tumor biopsy to assess bioma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arkers are helpful i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ies are not very positive or neg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ugs may add side effects/toxic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of c-MET/HGF in lung cancer to be determi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71400" y="30636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BATTL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44240" y="1305000"/>
            <a:ext cx="815652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tform for integrated translational re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nical trial progr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vel trial desig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iomarker discove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70000"/>
              </a:lnSpc>
              <a:spcBef>
                <a:spcPts val="18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fic Hypo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16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al time biopsies are possible to more accurately reflect aberrant signaling pathways of lung canc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16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tching targeted agents with abnormal pathways will improve disease control in lung cancer pati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16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8-week disease control is an acceptable surrogate for efficacy in patients with pretreated lung canc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85"/>
          <p:cNvGrpSpPr/>
          <p:nvPr/>
        </p:nvGrpSpPr>
        <p:grpSpPr>
          <a:xfrm>
            <a:off x="289080" y="4711680"/>
            <a:ext cx="8363520" cy="1113840"/>
            <a:chOff x="289080" y="4711680"/>
            <a:chExt cx="8363520" cy="1113840"/>
          </a:xfrm>
        </p:grpSpPr>
        <p:sp>
          <p:nvSpPr>
            <p:cNvPr id="683" name="Line 54"/>
            <p:cNvSpPr/>
            <p:nvPr/>
          </p:nvSpPr>
          <p:spPr>
            <a:xfrm>
              <a:off x="4368960" y="4711680"/>
              <a:ext cx="0" cy="41904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49"/>
            <p:cNvSpPr/>
            <p:nvPr/>
          </p:nvSpPr>
          <p:spPr>
            <a:xfrm>
              <a:off x="901800" y="5143680"/>
              <a:ext cx="6921360" cy="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50"/>
            <p:cNvSpPr/>
            <p:nvPr/>
          </p:nvSpPr>
          <p:spPr>
            <a:xfrm>
              <a:off x="914400" y="5130720"/>
              <a:ext cx="0" cy="41904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51"/>
            <p:cNvSpPr/>
            <p:nvPr/>
          </p:nvSpPr>
          <p:spPr>
            <a:xfrm>
              <a:off x="2590920" y="5168880"/>
              <a:ext cx="0" cy="41904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52"/>
            <p:cNvSpPr/>
            <p:nvPr/>
          </p:nvSpPr>
          <p:spPr>
            <a:xfrm>
              <a:off x="4673520" y="5143680"/>
              <a:ext cx="0" cy="41904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53"/>
            <p:cNvSpPr/>
            <p:nvPr/>
          </p:nvSpPr>
          <p:spPr>
            <a:xfrm>
              <a:off x="7810560" y="5130720"/>
              <a:ext cx="0" cy="41904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"/>
            <p:cNvSpPr/>
            <p:nvPr/>
          </p:nvSpPr>
          <p:spPr>
            <a:xfrm>
              <a:off x="289080" y="5365800"/>
              <a:ext cx="1279440" cy="459720"/>
            </a:xfrm>
            <a:prstGeom prst="rect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rlotin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1"/>
            <p:cNvSpPr/>
            <p:nvPr/>
          </p:nvSpPr>
          <p:spPr>
            <a:xfrm>
              <a:off x="7168680" y="5361120"/>
              <a:ext cx="1483920" cy="459720"/>
            </a:xfrm>
            <a:prstGeom prst="rect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orafen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5"/>
            <p:cNvSpPr/>
            <p:nvPr/>
          </p:nvSpPr>
          <p:spPr>
            <a:xfrm>
              <a:off x="1762560" y="5364000"/>
              <a:ext cx="1720080" cy="45972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andetan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9"/>
            <p:cNvSpPr/>
            <p:nvPr/>
          </p:nvSpPr>
          <p:spPr>
            <a:xfrm>
              <a:off x="3676680" y="5365800"/>
              <a:ext cx="3186000" cy="459720"/>
            </a:xfrm>
            <a:prstGeom prst="rect">
              <a:avLst/>
            </a:prstGeom>
            <a:noFill/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rlotinib + Bexarot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AutoShape 3"/>
          <p:cNvSpPr/>
          <p:nvPr/>
        </p:nvSpPr>
        <p:spPr>
          <a:xfrm>
            <a:off x="3822840" y="1379520"/>
            <a:ext cx="1101600" cy="3614760"/>
          </a:xfrm>
          <a:prstGeom prst="downArrow">
            <a:avLst>
              <a:gd name="adj1" fmla="val 59944"/>
              <a:gd name="adj2" fmla="val 21906"/>
            </a:avLst>
          </a:prstGeom>
          <a:solidFill>
            <a:srgbClr val="ff00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4"/>
          <p:cNvSpPr/>
          <p:nvPr/>
        </p:nvSpPr>
        <p:spPr>
          <a:xfrm>
            <a:off x="2898720" y="3710160"/>
            <a:ext cx="2959200" cy="82548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ndom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qual  </a:t>
            </a:r>
            <a:r>
              <a:rPr b="1" lang="en-US" sz="24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da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6"/>
          <p:cNvSpPr/>
          <p:nvPr/>
        </p:nvSpPr>
        <p:spPr>
          <a:xfrm>
            <a:off x="93600" y="6016680"/>
            <a:ext cx="89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mary end point: 8 week Disease Control (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"/>
          <p:cNvSpPr/>
          <p:nvPr/>
        </p:nvSpPr>
        <p:spPr>
          <a:xfrm>
            <a:off x="2362320" y="863640"/>
            <a:ext cx="4005000" cy="520560"/>
          </a:xfrm>
          <a:prstGeom prst="rect">
            <a:avLst/>
          </a:prstGeom>
          <a:noFill/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mbrella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2440" y="1224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TTLE Schem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Text Box 55"/>
          <p:cNvSpPr/>
          <p:nvPr/>
        </p:nvSpPr>
        <p:spPr>
          <a:xfrm>
            <a:off x="2567160" y="2652840"/>
            <a:ext cx="3654360" cy="8254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F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KRAS/BRAF     VEGF      RXR/Cyclin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83"/>
          <p:cNvGrpSpPr/>
          <p:nvPr/>
        </p:nvGrpSpPr>
        <p:grpSpPr>
          <a:xfrm>
            <a:off x="2055960" y="1906560"/>
            <a:ext cx="5027400" cy="520560"/>
            <a:chOff x="2055960" y="1906560"/>
            <a:chExt cx="5027400" cy="520560"/>
          </a:xfrm>
        </p:grpSpPr>
        <p:sp>
          <p:nvSpPr>
            <p:cNvPr id="700" name="Line 59"/>
            <p:cNvSpPr/>
            <p:nvPr/>
          </p:nvSpPr>
          <p:spPr>
            <a:xfrm flipV="1">
              <a:off x="2055960" y="2146320"/>
              <a:ext cx="5027400" cy="14400"/>
            </a:xfrm>
            <a:prstGeom prst="line">
              <a:avLst/>
            </a:prstGeom>
            <a:ln w="41400">
              <a:solidFill>
                <a:srgbClr val="00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4"/>
            <p:cNvSpPr/>
            <p:nvPr/>
          </p:nvSpPr>
          <p:spPr>
            <a:xfrm>
              <a:off x="3200400" y="1906560"/>
              <a:ext cx="2408400" cy="520560"/>
            </a:xfrm>
            <a:prstGeom prst="rect">
              <a:avLst/>
            </a:prstGeom>
            <a:noFill/>
            <a:ln w="41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re Biops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84"/>
          <p:cNvGrpSpPr/>
          <p:nvPr/>
        </p:nvGrpSpPr>
        <p:grpSpPr>
          <a:xfrm>
            <a:off x="6292800" y="1308240"/>
            <a:ext cx="2611440" cy="2868480"/>
            <a:chOff x="6292800" y="1308240"/>
            <a:chExt cx="2611440" cy="2868480"/>
          </a:xfrm>
        </p:grpSpPr>
        <p:sp>
          <p:nvSpPr>
            <p:cNvPr id="703" name="Rectangle 60"/>
            <p:cNvSpPr/>
            <p:nvPr/>
          </p:nvSpPr>
          <p:spPr>
            <a:xfrm>
              <a:off x="6292800" y="3749760"/>
              <a:ext cx="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65"/>
            <p:cNvSpPr/>
            <p:nvPr/>
          </p:nvSpPr>
          <p:spPr>
            <a:xfrm>
              <a:off x="6482520" y="3949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67"/>
            <p:cNvSpPr/>
            <p:nvPr/>
          </p:nvSpPr>
          <p:spPr>
            <a:xfrm>
              <a:off x="7981200" y="3949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8"/>
            <p:cNvSpPr/>
            <p:nvPr/>
          </p:nvSpPr>
          <p:spPr>
            <a:xfrm>
              <a:off x="6445080" y="2330280"/>
              <a:ext cx="2459160" cy="8254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omarker Prof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Group 75"/>
            <p:cNvGrpSpPr/>
            <p:nvPr/>
          </p:nvGrpSpPr>
          <p:grpSpPr>
            <a:xfrm>
              <a:off x="6459480" y="1308240"/>
              <a:ext cx="2433600" cy="2746080"/>
              <a:chOff x="6459480" y="1308240"/>
              <a:chExt cx="2433600" cy="2746080"/>
            </a:xfrm>
          </p:grpSpPr>
          <p:sp>
            <p:nvSpPr>
              <p:cNvPr id="708" name="Rectangle 58"/>
              <p:cNvSpPr/>
              <p:nvPr/>
            </p:nvSpPr>
            <p:spPr>
              <a:xfrm>
                <a:off x="6599160" y="3546360"/>
                <a:ext cx="36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62"/>
              <p:cNvSpPr/>
              <p:nvPr/>
            </p:nvSpPr>
            <p:spPr>
              <a:xfrm>
                <a:off x="6599160" y="374976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63"/>
              <p:cNvSpPr/>
              <p:nvPr/>
            </p:nvSpPr>
            <p:spPr>
              <a:xfrm>
                <a:off x="7882560" y="37497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22"/>
              <p:cNvSpPr/>
              <p:nvPr/>
            </p:nvSpPr>
            <p:spPr>
              <a:xfrm>
                <a:off x="6497640" y="1336680"/>
                <a:ext cx="3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23"/>
              <p:cNvSpPr/>
              <p:nvPr/>
            </p:nvSpPr>
            <p:spPr>
              <a:xfrm>
                <a:off x="7647840" y="13082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3" name="Group 69"/>
              <p:cNvGrpSpPr/>
              <p:nvPr/>
            </p:nvGrpSpPr>
            <p:grpSpPr>
              <a:xfrm>
                <a:off x="6464160" y="3197160"/>
                <a:ext cx="1531800" cy="691920"/>
                <a:chOff x="6464160" y="3197160"/>
                <a:chExt cx="1531800" cy="691920"/>
              </a:xfrm>
            </p:grpSpPr>
            <p:sp>
              <p:nvSpPr>
                <p:cNvPr id="714" name="Rectangle 61"/>
                <p:cNvSpPr/>
                <p:nvPr/>
              </p:nvSpPr>
              <p:spPr>
                <a:xfrm>
                  <a:off x="6464160" y="3197160"/>
                  <a:ext cx="1531800" cy="69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15" name="Picture 63" descr=""/>
                <p:cNvPicPr/>
                <p:nvPr/>
              </p:nvPicPr>
              <p:blipFill>
                <a:blip r:embed="rId1"/>
                <a:srcRect l="0" t="-17939" r="36167" b="0"/>
                <a:stretch/>
              </p:blipFill>
              <p:spPr>
                <a:xfrm>
                  <a:off x="6491160" y="3232080"/>
                  <a:ext cx="1487160" cy="604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16" name="Pictur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7316640" y="1554120"/>
                <a:ext cx="744840" cy="74772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717" name="Picture 67" descr=""/>
              <p:cNvPicPr/>
              <p:nvPr/>
            </p:nvPicPr>
            <p:blipFill>
              <a:blip r:embed="rId3"/>
              <a:stretch/>
            </p:blipFill>
            <p:spPr>
              <a:xfrm>
                <a:off x="8097840" y="1557360"/>
                <a:ext cx="768240" cy="7412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718" name="Picture 71" descr=""/>
              <p:cNvPicPr/>
              <p:nvPr/>
            </p:nvPicPr>
            <p:blipFill>
              <a:blip r:embed="rId4"/>
              <a:stretch/>
            </p:blipFill>
            <p:spPr>
              <a:xfrm>
                <a:off x="6459480" y="1555920"/>
                <a:ext cx="822240" cy="74916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graphicFrame>
            <p:nvGraphicFramePr>
              <p:cNvPr id="719" name="Object 73"/>
              <p:cNvGraphicFramePr/>
              <p:nvPr/>
            </p:nvGraphicFramePr>
            <p:xfrm>
              <a:off x="8007480" y="3203640"/>
              <a:ext cx="885600" cy="677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20" name="Object 7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007480" y="3203640"/>
                        <a:ext cx="885600" cy="677880"/>
                      </a:xfrm>
                      <a:prstGeom prst="rect">
                        <a:avLst/>
                      </a:prstGeom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721" name="Group 82"/>
          <p:cNvGrpSpPr/>
          <p:nvPr/>
        </p:nvGrpSpPr>
        <p:grpSpPr>
          <a:xfrm>
            <a:off x="171360" y="1300320"/>
            <a:ext cx="2092320" cy="2597040"/>
            <a:chOff x="171360" y="1300320"/>
            <a:chExt cx="2092320" cy="2597040"/>
          </a:xfrm>
        </p:grpSpPr>
        <p:sp>
          <p:nvSpPr>
            <p:cNvPr id="722" name="Line 76"/>
            <p:cNvSpPr/>
            <p:nvPr/>
          </p:nvSpPr>
          <p:spPr>
            <a:xfrm flipH="1">
              <a:off x="1584000" y="2013120"/>
              <a:ext cx="385560" cy="475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3" name="Picture 77" descr=""/>
            <p:cNvPicPr/>
            <p:nvPr/>
          </p:nvPicPr>
          <p:blipFill>
            <a:blip r:embed="rId7"/>
            <a:srcRect l="23435" t="13124" r="32064" b="36751"/>
            <a:stretch/>
          </p:blipFill>
          <p:spPr>
            <a:xfrm>
              <a:off x="171360" y="1539720"/>
              <a:ext cx="2092320" cy="2357640"/>
            </a:xfrm>
            <a:prstGeom prst="rect">
              <a:avLst/>
            </a:prstGeom>
            <a:ln w="19080">
              <a:solidFill>
                <a:srgbClr val="ff0000"/>
              </a:solidFill>
              <a:miter/>
            </a:ln>
          </p:spPr>
        </p:pic>
        <p:sp>
          <p:nvSpPr>
            <p:cNvPr id="724" name="Line 78"/>
            <p:cNvSpPr/>
            <p:nvPr/>
          </p:nvSpPr>
          <p:spPr>
            <a:xfrm>
              <a:off x="258840" y="1300320"/>
              <a:ext cx="385560" cy="475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79"/>
            <p:cNvSpPr/>
            <p:nvPr/>
          </p:nvSpPr>
          <p:spPr>
            <a:xfrm>
              <a:off x="785880" y="2154240"/>
              <a:ext cx="69840" cy="10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45"/>
          <p:cNvSpPr/>
          <p:nvPr/>
        </p:nvSpPr>
        <p:spPr>
          <a:xfrm>
            <a:off x="4807080" y="6500880"/>
            <a:ext cx="42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 Kim et al.  AACR 2010, Plenary Session LBA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-MET/HGF in Lung Cance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156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GF/c-MET one of the most frequently dysregulated pathways in can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solid tumors and hematologic maligna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thelial tumors display c-MET over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lea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life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reased surviv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gration and inva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giogene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lected Ag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636480" y="1571760"/>
          <a:ext cx="7871040" cy="4556160"/>
        </p:xfrm>
        <a:graphic>
          <a:graphicData uri="http://schemas.openxmlformats.org/drawingml/2006/table">
            <a:tbl>
              <a:tblPr/>
              <a:tblGrid>
                <a:gridCol w="7871040"/>
              </a:tblGrid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L880 — Multi-target kinase inhibitor (c-MET, VEGFR, PDGFR, KIT, FLT3, TIE-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L184 — Multi-target kinase inhibitor (c-MET, VEGFR, RET, KIT, FLT3, TIE-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Q197 — c-MET kinase inhibitor (c-MET selectiv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2341066 — c-MET kinase inhibitor (also active against ALK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P470 — Multi-target kinase inhibitor (mutant KIT, PDGFR, FLT3, and c-MET, RET, RAD5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GX523 — c-MET kinase inhibitor (c-MET selectiv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G102 — Anti-human HGF fully humanized IgG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143966 — Anti-human c-MET humanized monovalent A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CD265 — Multi-target kinase inhibitor (c-MET, RON, VEGFR1/2/3, TIE-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1" name="Rectangle 111"/>
          <p:cNvSpPr/>
          <p:nvPr/>
        </p:nvSpPr>
        <p:spPr>
          <a:xfrm>
            <a:off x="136440" y="64612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. Liu et al. Expert Opinion on Investigational Drugs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95440" y="514080"/>
            <a:ext cx="689112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Q 197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33" name="Picture 4" descr=""/>
          <p:cNvPicPr/>
          <p:nvPr/>
        </p:nvPicPr>
        <p:blipFill>
          <a:blip r:embed="rId1"/>
          <a:stretch/>
        </p:blipFill>
        <p:spPr>
          <a:xfrm>
            <a:off x="6124680" y="853920"/>
            <a:ext cx="2732040" cy="168444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734" name="TextBox 6"/>
          <p:cNvSpPr/>
          <p:nvPr/>
        </p:nvSpPr>
        <p:spPr>
          <a:xfrm>
            <a:off x="228600" y="1805040"/>
            <a:ext cx="849636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ATP competitive inhibitor of c-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l mechanism of binding stabiliz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ve conformation of c-ME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pound demonstrates broad-spectrum, anti-tumor activity in a number of tumor xenograft models (including NSC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vivo anti-tumor activity of ARQ 197 + EGFR inhibitor greater than either drug alon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monstration of safety and linear PK in phase I combination with EGFR inhibitor erlotini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295200" y="6257880"/>
            <a:ext cx="846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unshi N et al. Mol Cancer Ther 2010;Epub ahead of print. 2.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published; courtesy of ArQule, Inc. and Kyowa Hakko Kirin Co., Ltd. 3. </a:t>
            </a:r>
            <a:r>
              <a:rPr b="0" lang="fi-FI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ux I et al. ASCO 2009. 4.</a:t>
            </a:r>
            <a:r>
              <a:rPr b="0" lang="da-DK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oldman J et al. IASLC 2009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RQ 197-209: Study 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472428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5"/>
          <p:cNvSpPr/>
          <p:nvPr/>
        </p:nvSpPr>
        <p:spPr>
          <a:xfrm>
            <a:off x="4374720" y="2977560"/>
            <a:ext cx="664200" cy="447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9"/>
          <p:cNvSpPr/>
          <p:nvPr/>
        </p:nvSpPr>
        <p:spPr>
          <a:xfrm flipV="1">
            <a:off x="4390200" y="2388240"/>
            <a:ext cx="674640" cy="381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0"/>
          <p:cNvSpPr/>
          <p:nvPr/>
        </p:nvSpPr>
        <p:spPr>
          <a:xfrm>
            <a:off x="3851280" y="1665360"/>
            <a:ext cx="368280" cy="2284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1"/>
          <p:cNvSpPr/>
          <p:nvPr/>
        </p:nvSpPr>
        <p:spPr>
          <a:xfrm flipV="1">
            <a:off x="3234600" y="2824920"/>
            <a:ext cx="538560" cy="14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4"/>
          <p:cNvSpPr/>
          <p:nvPr/>
        </p:nvSpPr>
        <p:spPr>
          <a:xfrm>
            <a:off x="8280360" y="3465360"/>
            <a:ext cx="324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6"/>
          <p:cNvSpPr/>
          <p:nvPr/>
        </p:nvSpPr>
        <p:spPr>
          <a:xfrm>
            <a:off x="8604360" y="2205000"/>
            <a:ext cx="0" cy="1290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7"/>
          <p:cNvSpPr/>
          <p:nvPr/>
        </p:nvSpPr>
        <p:spPr>
          <a:xfrm flipH="1">
            <a:off x="8280000" y="2205000"/>
            <a:ext cx="3603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5219640" y="2960640"/>
            <a:ext cx="2916360" cy="87660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rlotinib 150 mg PO Q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+ Plac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28-day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8"/>
          <p:cNvSpPr/>
          <p:nvPr/>
        </p:nvSpPr>
        <p:spPr>
          <a:xfrm>
            <a:off x="5219640" y="1808280"/>
            <a:ext cx="2919600" cy="9010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rlotinib 150 mg PO Q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+ ARQ 197 360 mg PO B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28-day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6"/>
          <p:cNvSpPr/>
          <p:nvPr/>
        </p:nvSpPr>
        <p:spPr>
          <a:xfrm>
            <a:off x="838080" y="4316400"/>
            <a:ext cx="3102120" cy="131076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dpoints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° P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° ORR,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bset analy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ossover: O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2"/>
          <p:cNvSpPr/>
          <p:nvPr/>
        </p:nvSpPr>
        <p:spPr>
          <a:xfrm>
            <a:off x="826920" y="2133720"/>
            <a:ext cx="2322720" cy="13723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C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operable locally adv/ metastatic d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≥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 prior chemo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no prior EGFR TK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5"/>
          <p:cNvSpPr/>
          <p:nvPr/>
        </p:nvSpPr>
        <p:spPr>
          <a:xfrm>
            <a:off x="4211640" y="4329000"/>
            <a:ext cx="4645080" cy="1798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3 sites in 6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udy accrual over 11 months (10/08-9/09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ndomization stratified by prognostic factors incl. sex, age, smoking, histology, performance status, prior therapy and best response, and geography (U.S. vs. ex-U.S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8"/>
          <p:cNvSpPr/>
          <p:nvPr/>
        </p:nvSpPr>
        <p:spPr>
          <a:xfrm>
            <a:off x="8644320" y="2637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0"/>
          <p:cNvSpPr/>
          <p:nvPr/>
        </p:nvSpPr>
        <p:spPr>
          <a:xfrm>
            <a:off x="673200" y="634788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hiller J et al. ASCO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59840" y="274320"/>
            <a:ext cx="893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Q 197-209: Progression-Free Survival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ITT Population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Text Box 90"/>
          <p:cNvSpPr/>
          <p:nvPr/>
        </p:nvSpPr>
        <p:spPr>
          <a:xfrm>
            <a:off x="376200" y="646848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hiller J et al. ASCO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457200" y="1511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dian Progression-Free Surviv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rlotinib+ARQ 197 (n=84) — 16.1 wee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83) — 9.7 wee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Hazard ratio (HR)=0.81 (95% CI 0.57 - 1.15);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=0.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djusted HR=0.64 (95% CI 0.47 - 0.98);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&lt;0.05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FS also measured by independent radiographic review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dian 15.6 vs. 8.4 w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nadjusted/adjusted HR= 0.74/0.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83"/>
          <p:cNvSpPr/>
          <p:nvPr/>
        </p:nvSpPr>
        <p:spPr>
          <a:xfrm>
            <a:off x="504000" y="5921280"/>
            <a:ext cx="25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x regres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Q 197-209: Overall Survival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ITT Population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Text Box 90"/>
          <p:cNvSpPr/>
          <p:nvPr/>
        </p:nvSpPr>
        <p:spPr>
          <a:xfrm>
            <a:off x="0" y="6378480"/>
            <a:ext cx="24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ller J et al. ASCO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457200" y="1511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Overall Survi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ARQ 197 (n=84) — 36.6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83) — 29.4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R=0.88 (95% CI 0.60 - 1.30)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0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justed HR=0.88 (95% CI 0.60 - 1.30)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0.52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82760" y="5397480"/>
            <a:ext cx="4356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 Cox regress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02:46:40Z</dcterms:created>
  <dc:creator>Research To Practice</dc:creator>
  <dc:description/>
  <cp:keywords/>
  <dc:language>en-US</dc:language>
  <cp:lastModifiedBy>Mac Pro E703803Y4PC</cp:lastModifiedBy>
  <cp:lastPrinted>2011-02-11T14:56:55Z</cp:lastPrinted>
  <dcterms:modified xsi:type="dcterms:W3CDTF">2011-05-11T17:35:24Z</dcterms:modified>
  <cp:revision>412</cp:revision>
  <dc:subject/>
  <dc:title>PowerPoint Presentation</dc:title>
</cp:coreProperties>
</file>