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6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FF6F2B-F5D1-4347-A58C-D5ABA3B7A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Rectangle 5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916A20-D5E2-4136-A963-3D312E0B16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83B8A8-2757-4A7B-A0BA-DB861536C9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353959-8214-4789-B6AF-A5471AE7C0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39C90E-D1D7-4EC9-8646-58D5D8C82C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61DF1F-E746-4F14-ADEA-49B1D2332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F1BAA0-030E-4E82-9537-C53B398858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91B5F1-369E-40E3-B9AC-70A87F72A7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9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E05AB6-BEA7-4721-AB9B-691ACE208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1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0E0A46-345F-4FAC-80E4-0123B8B0F6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0C0EDF-F191-4D50-863F-F4EF9CABE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714" name="PlaceHolder 2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C58C34-13BD-4946-BA17-808B06B4A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E7E90F-6FD5-4E84-AF32-CEB61C3DCE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2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864166-B6C4-49F5-AFF1-46ABDFE96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5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554C2D-4BB5-4E6E-A966-9AA15388C1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DF5B84-0E20-45E3-AB68-E049E563F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1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C6C084-016C-4AEA-BB93-7A1B0E7C03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6D29B4-7D5F-45E8-AB50-CE457405A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F312B2-D22B-442E-8D2C-765ED8C142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F1E-B371-4F7C-B229-579F5FC4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DB4-0A65-458F-A90B-5FB0B40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6D7-01EF-4142-9446-CF6BFBF0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4E7-0A67-4B77-9A02-9FA9E4CB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AC93-4298-4039-85C9-37647C79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D886-324E-482D-BD30-34A7619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A979-E3A8-4900-93B6-E9FF1CE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AC0-6285-45FE-AF5D-8C54430C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B97-8A3C-498E-9F0B-F644B0C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F69-7B3B-4144-9F0C-7BD1047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43C6-FA47-4650-A64D-5B4BD38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62F-4ED7-47F8-BD55-E288217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0BF0-719C-4AF1-834C-86E6DB6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F266-4081-4B78-9093-538A9C5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080C-AB27-4315-BBF1-80ADA292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CDE2-D45C-4DAB-9D86-F927822B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33E-EDDC-4022-B851-C0620D85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5B41-1C17-48DE-88A5-6F5092DD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9E37-B862-48DC-8DB5-3FFCE28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0AA8-C468-4F8F-A93A-0B6FE84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24D8-FA9D-41C1-A060-32D9AF8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80AC-8E0A-4096-8B72-B816E76B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074-4581-4EB2-83DC-C66E9047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AB13-3960-43E1-A07E-E9306CE1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2311-3F65-4142-819E-C0FFCC8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E706-87C1-4DB1-8912-65BD81F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611D-0429-4704-8AD9-ABD550D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721C-EEB2-4DD1-B0E1-93D6746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B767-5387-4948-AF95-6C8FDF23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CD2F-7B01-4F32-8210-6C9BC889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795E-67BD-46E4-930A-157E900F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94510-2069-43A0-8E30-DF00158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B194-C8E5-4975-ABB4-A548FD54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918-0B89-42B8-8564-BEC0045B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3D47-6479-4B1E-A974-AD89BCFA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DFD1-DC65-40A0-8748-E336479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E31CD-D9F8-4042-A28C-51A11DD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CDBF-71A3-4FF9-964D-AD9601B3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27A7-5D28-4788-ABE7-35DED4A3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0F0C-7C60-4FCC-9ED8-1D8F00C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2448-DF08-4B33-A1A8-C2AA4CEA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C378-6A3E-4B35-BABA-FF4758EF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2C36-25BB-4A0B-918F-EEA86B7C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D1C77-882A-4676-A1F1-62676EC66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FFD-5D62-41E6-97BE-704A8F9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5E7176-176B-4204-BC71-12619C4FEF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DF722-7008-4750-A3E2-91C639BB66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E3BA69-89D0-4534-A5D7-956834AB3F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3DEBE-87DB-420A-8268-27C5D82C26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35EE4-7F66-4636-9C27-B62331BEA8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74945C-09B9-449A-A26E-90323F9220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5E1C56-ADE1-47A7-978F-4F7FF55DEF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428F6-3709-47EB-A60E-73AB0414C9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ACFC8E-48B8-45AB-BB95-0DFE0C164E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75217F-7334-4666-9624-28D3E7CAE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781-01EB-4492-851A-DD217723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727BE-DEAB-4658-9275-CD6989211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3F6-4C35-432E-99A1-4E7682B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CDC-F441-42BC-96D6-A40F8254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D5B-B49A-4A05-A7A0-B55D554E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4E95-7C61-46F6-9E73-B99389CF0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348B-DBB6-4A22-B581-20C151F6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680-9EE9-4219-853D-24D534A2E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2560" indent="-2246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5080" indent="-22464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6E4-1F4F-4742-B500-9ACA432D4E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76FF-7973-473C-BC46-EB1DEE114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837720"/>
            <a:ext cx="8331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9b03"/>
                </a:solidFill>
                <a:latin typeface="Arial"/>
              </a:rPr>
              <a:t>Targeting the VEGF Pathway in Lung Cancer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35053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nald B. Natale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, Lung Cancer Clinical Research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uel Oschin Comprehensive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dars-Sinai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Angeles,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Sunitinib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9" name=""/>
          <p:cNvGraphicFramePr/>
          <p:nvPr/>
        </p:nvGraphicFramePr>
        <p:xfrm>
          <a:off x="152280" y="1371600"/>
          <a:ext cx="8839440" cy="5156280"/>
        </p:xfrm>
        <a:graphic>
          <a:graphicData uri="http://schemas.openxmlformats.org/drawingml/2006/table">
            <a:tbl>
              <a:tblPr/>
              <a:tblGrid>
                <a:gridCol w="5867640"/>
                <a:gridCol w="1600200"/>
                <a:gridCol w="13716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 II &amp; Ph III   Erlotinib  +/-  Sun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30507:   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 platinum-based chem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/- Sunitinib in Non-Progress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inten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~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30504:  PE  +/-  Sunitinib in E-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Phase IB Dose Escala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 Oncology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nitini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in Elderly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didates for 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rah Cannon:  Carbo + Irino +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nitini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in E-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ORTC: Sunitinib In E-SCLC or “Sensitive” Relap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1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 Narrow"/>
              </a:rPr>
              <a:t>ESCAPE:  Carbo + Paclitaxel +/- Sorafenib</a:t>
            </a:r>
            <a:br>
              <a:rPr sz="3600"/>
            </a:br>
            <a:r>
              <a:rPr b="1" lang="en-US" sz="3200" spc="-1" strike="noStrike">
                <a:solidFill>
                  <a:srgbClr val="ffe701"/>
                </a:solidFill>
                <a:latin typeface="Arial Narrow"/>
              </a:rPr>
              <a:t>Survival (ITT Population)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73" name="Text Box 78"/>
          <p:cNvSpPr/>
          <p:nvPr/>
        </p:nvSpPr>
        <p:spPr>
          <a:xfrm>
            <a:off x="136440" y="647712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7ff37"/>
                </a:solidFill>
                <a:latin typeface="Arial"/>
              </a:rPr>
              <a:t>Hannah N, et al. </a:t>
            </a:r>
            <a:r>
              <a:rPr b="1" i="1" lang="it-IT" sz="1200" spc="-1" strike="noStrike">
                <a:solidFill>
                  <a:srgbClr val="37ff37"/>
                </a:solidFill>
                <a:latin typeface="Arial"/>
              </a:rPr>
              <a:t>J Thorac Oncol</a:t>
            </a:r>
            <a:r>
              <a:rPr b="1" lang="it-IT" sz="1200" spc="-1" strike="noStrike">
                <a:solidFill>
                  <a:srgbClr val="37ff37"/>
                </a:solidFill>
                <a:latin typeface="Arial"/>
              </a:rPr>
              <a:t>. 2008;3(11S4):Abstract 1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838080" y="1828800"/>
            <a:ext cx="7239240" cy="30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dian overall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platin/paclitaxel/sorafenib: 10.7 months (95% CI: 9.3, 13.9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platin/paclitaxel/placebo: 10.6 months (95% CI:9.7, 12.0) HR = 1.16,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0.93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8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xitinib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0" name=""/>
          <p:cNvGraphicFramePr/>
          <p:nvPr/>
        </p:nvGraphicFramePr>
        <p:xfrm>
          <a:off x="152280" y="1905120"/>
          <a:ext cx="8839440" cy="3887640"/>
        </p:xfrm>
        <a:graphic>
          <a:graphicData uri="http://schemas.openxmlformats.org/drawingml/2006/table">
            <a:tbl>
              <a:tblPr/>
              <a:tblGrid>
                <a:gridCol w="6096240"/>
                <a:gridCol w="1371600"/>
                <a:gridCol w="137160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0:    Rando Ph II   Carbo/Paclitaxel/Axitinib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s  Carbo/Paclitaxel/Bevaciz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8:    Ph II  Cis + Gem + Ax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9:    Rando Ph II Cis/Pem/Axitinib v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s/Pem/Axitinib (mod dosing) vs Cis/P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 in patients with or without dBP </a:t>
            </a:r>
            <a:br>
              <a:rPr sz="3200"/>
            </a:b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≥90 mmHg – all six studies combined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2286000"/>
            <a:ext cx="6782040" cy="169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dian overall surviv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BP &lt;90 mmHG (n=140): 9.1 mon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BP ≥90 mmHg (n=158): 22.2 mon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4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BIBF 1120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6" name=""/>
          <p:cNvGraphicFramePr/>
          <p:nvPr/>
        </p:nvGraphicFramePr>
        <p:xfrm>
          <a:off x="762120" y="1905120"/>
          <a:ext cx="7772400" cy="3430440"/>
        </p:xfrm>
        <a:graphic>
          <a:graphicData uri="http://schemas.openxmlformats.org/drawingml/2006/table">
            <a:tbl>
              <a:tblPr/>
              <a:tblGrid>
                <a:gridCol w="5181480"/>
                <a:gridCol w="1384200"/>
                <a:gridCol w="120672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ME 1:    Docetaxel  +/-  BIBF 1120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    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Placebo controll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ME 2:    Pemetrexed  +/-  BIBF 1120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    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Placebo controll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</a:tbl>
          </a:graphicData>
        </a:graphic>
      </p:graphicFrame>
      <p:sp>
        <p:nvSpPr>
          <p:cNvPr id="2587" name="Rectangle 4"/>
          <p:cNvSpPr/>
          <p:nvPr/>
        </p:nvSpPr>
        <p:spPr>
          <a:xfrm>
            <a:off x="6553800" y="63244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ff2c"/>
                </a:solidFill>
                <a:latin typeface="Arial"/>
              </a:rPr>
              <a:t>ClinicalTrial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daf41"/>
                </a:solidFill>
                <a:latin typeface="Arial"/>
              </a:rPr>
              <a:t>Toxicity of Small Molecular Ag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984240" y="1353960"/>
            <a:ext cx="762624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9520" indent="-479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these agents seem to produce cavitation and/or blee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ly a class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s limited to primary lung 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udies are needed to better assess risks and potential therapeutic inter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e to INOS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treatable with medic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unique toxicities (especially with the multitargeted agen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-foot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ightly increased neutropenia (effect of VEGF on lymphoid cel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3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216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217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221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222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226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227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231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232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236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237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241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242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246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247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251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252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256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257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261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262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266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267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271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272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276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277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281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282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286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287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291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292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296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297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301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302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4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306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307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311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312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316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317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321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322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326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327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331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332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336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337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341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342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346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347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351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352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356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357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361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362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366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367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371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372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376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377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381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382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386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387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391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392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396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397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401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402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406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407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411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412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416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417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421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422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426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427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431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432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5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436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437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441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442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446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447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451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452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4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456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457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461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462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466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467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471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472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476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477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481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482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4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486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487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491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492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496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497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501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502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506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507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511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512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516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517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521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522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526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527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9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531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532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4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538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539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552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563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574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575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588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599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Group 489"/>
          <p:cNvGrpSpPr/>
          <p:nvPr/>
        </p:nvGrpSpPr>
        <p:grpSpPr>
          <a:xfrm>
            <a:off x="304920" y="1706760"/>
            <a:ext cx="3440160" cy="2935080"/>
            <a:chOff x="304920" y="1706760"/>
            <a:chExt cx="3440160" cy="2935080"/>
          </a:xfrm>
        </p:grpSpPr>
        <p:sp>
          <p:nvSpPr>
            <p:cNvPr id="61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" name="Group 492"/>
            <p:cNvGrpSpPr/>
            <p:nvPr/>
          </p:nvGrpSpPr>
          <p:grpSpPr>
            <a:xfrm>
              <a:off x="1601640" y="1706760"/>
              <a:ext cx="1686240" cy="2935080"/>
              <a:chOff x="1601640" y="1706760"/>
              <a:chExt cx="1686240" cy="2935080"/>
            </a:xfrm>
          </p:grpSpPr>
          <p:sp>
            <p:nvSpPr>
              <p:cNvPr id="614" name="Oval 493"/>
              <p:cNvSpPr/>
              <p:nvPr/>
            </p:nvSpPr>
            <p:spPr>
              <a:xfrm rot="17171400">
                <a:off x="2415240" y="2043720"/>
                <a:ext cx="4809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494"/>
              <p:cNvSpPr/>
              <p:nvPr/>
            </p:nvSpPr>
            <p:spPr>
              <a:xfrm rot="17171400">
                <a:off x="1930320" y="1882800"/>
                <a:ext cx="4791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495"/>
              <p:cNvSpPr/>
              <p:nvPr/>
            </p:nvSpPr>
            <p:spPr>
              <a:xfrm rot="17171400">
                <a:off x="1557720" y="4348800"/>
                <a:ext cx="365760" cy="1832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Oval 496"/>
              <p:cNvSpPr/>
              <p:nvPr/>
            </p:nvSpPr>
            <p:spPr>
              <a:xfrm rot="17171400">
                <a:off x="2460960" y="1905480"/>
                <a:ext cx="4791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Oval 497"/>
              <p:cNvSpPr/>
              <p:nvPr/>
            </p:nvSpPr>
            <p:spPr>
              <a:xfrm rot="17171400">
                <a:off x="1966680" y="1764000"/>
                <a:ext cx="48096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498"/>
              <p:cNvSpPr/>
              <p:nvPr/>
            </p:nvSpPr>
            <p:spPr>
              <a:xfrm rot="17171400">
                <a:off x="1603080" y="4224960"/>
                <a:ext cx="367560" cy="1832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Oval 499"/>
              <p:cNvSpPr/>
              <p:nvPr/>
            </p:nvSpPr>
            <p:spPr>
              <a:xfrm rot="20041800">
                <a:off x="2655360" y="2378160"/>
                <a:ext cx="18504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500"/>
              <p:cNvSpPr/>
              <p:nvPr/>
            </p:nvSpPr>
            <p:spPr>
              <a:xfrm rot="20041800">
                <a:off x="2545920" y="2131920"/>
                <a:ext cx="184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501"/>
              <p:cNvSpPr/>
              <p:nvPr/>
            </p:nvSpPr>
            <p:spPr>
              <a:xfrm rot="20041800">
                <a:off x="2587320" y="2306520"/>
                <a:ext cx="1846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502"/>
              <p:cNvSpPr/>
              <p:nvPr/>
            </p:nvSpPr>
            <p:spPr>
              <a:xfrm rot="20041800">
                <a:off x="2788920" y="2318040"/>
                <a:ext cx="184680" cy="4795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Oval 503"/>
              <p:cNvSpPr/>
              <p:nvPr/>
            </p:nvSpPr>
            <p:spPr>
              <a:xfrm rot="20041800">
                <a:off x="2666520" y="2072520"/>
                <a:ext cx="18504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504"/>
              <p:cNvSpPr/>
              <p:nvPr/>
            </p:nvSpPr>
            <p:spPr>
              <a:xfrm rot="20041800">
                <a:off x="2728800" y="2243160"/>
                <a:ext cx="182880" cy="3664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Oval 505"/>
              <p:cNvSpPr/>
              <p:nvPr/>
            </p:nvSpPr>
            <p:spPr>
              <a:xfrm rot="14524200">
                <a:off x="2940840" y="182124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Oval 506"/>
              <p:cNvSpPr/>
              <p:nvPr/>
            </p:nvSpPr>
            <p:spPr>
              <a:xfrm rot="14524200">
                <a:off x="2691720" y="1938600"/>
                <a:ext cx="18324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507"/>
              <p:cNvSpPr/>
              <p:nvPr/>
            </p:nvSpPr>
            <p:spPr>
              <a:xfrm rot="14524200">
                <a:off x="2822040" y="1945080"/>
                <a:ext cx="181440" cy="36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Oval 508"/>
              <p:cNvSpPr/>
              <p:nvPr/>
            </p:nvSpPr>
            <p:spPr>
              <a:xfrm rot="14524200">
                <a:off x="2876400" y="169920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Oval 509"/>
              <p:cNvSpPr/>
              <p:nvPr/>
            </p:nvSpPr>
            <p:spPr>
              <a:xfrm rot="14524200">
                <a:off x="2633040" y="182448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510"/>
              <p:cNvSpPr/>
              <p:nvPr/>
            </p:nvSpPr>
            <p:spPr>
              <a:xfrm rot="14524200">
                <a:off x="2739600" y="1814400"/>
                <a:ext cx="1832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Small Molecules: 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GF TKIs are active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will be results of phase III studies in firs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inations with EGFR TKI are appe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ch remains to be learned about toxicity of single agents and comb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essential to continue efforts to identify predictive biomarke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Ramucirumab (IMC-1121B)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lly human anti-VEGFR-2 IgG1 monoclonal anti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affinity (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50 p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cks VEGF binding to VEGFR-2 (I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8-1.0 n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ochemical &amp; anti-tumor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ibits ligand-dependent VEGFR-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ation &amp; downstream signa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motes receptor degra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ibition of endothelial cell prolif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of vascular perme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ation” of tumor vess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of interstitial fluid press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Ramucirumab: Phase I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456840" y="1117080"/>
            <a:ext cx="838188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o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 patients, monotherapy with ramucirumab   2-16 mg/kg/w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TD 13 mg/kg week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afe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infusion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d to moderate fatigue, HTN &amp; proteinuria  uncommon at clinically relevant do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ffica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o lung cancer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PRs (melanoma, gastric, leiomyosarcoma, and ovar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pts with SD &gt; 12 wks, 7 pts with SD &gt; 24 w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ioma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decreased tumor perfusion by DCE-M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9% of evaluable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serum VEGFA lev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crease of 1.5-3.5X lasting duration of treat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Rectangle 3"/>
          <p:cNvSpPr/>
          <p:nvPr/>
        </p:nvSpPr>
        <p:spPr>
          <a:xfrm>
            <a:off x="6194520" y="633564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ff2b"/>
                </a:solidFill>
                <a:latin typeface="Calibri"/>
              </a:rPr>
              <a:t>Spratlin et al, JCO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228240" y="255240"/>
            <a:ext cx="8636040" cy="10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P12-0708: Phase II - 1</a:t>
            </a:r>
            <a:r>
              <a:rPr b="1" lang="en-US" sz="3600" spc="-1" strike="noStrike" baseline="30000">
                <a:solidFill>
                  <a:srgbClr val="ffc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Line NSCLC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I: D. Ross Camidge, MD, PhD</a:t>
            </a:r>
            <a:endParaRPr b="0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8" name="Line 3"/>
          <p:cNvSpPr/>
          <p:nvPr/>
        </p:nvSpPr>
        <p:spPr>
          <a:xfrm>
            <a:off x="6600960" y="6553080"/>
            <a:ext cx="35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9" name="Rectangle 4"/>
          <p:cNvGrpSpPr/>
          <p:nvPr/>
        </p:nvGrpSpPr>
        <p:grpSpPr>
          <a:xfrm>
            <a:off x="285840" y="1494000"/>
            <a:ext cx="2414520" cy="4260600"/>
            <a:chOff x="285840" y="1494000"/>
            <a:chExt cx="2414520" cy="4260600"/>
          </a:xfrm>
        </p:grpSpPr>
        <p:pic>
          <p:nvPicPr>
            <p:cNvPr id="2600" name="Rectangle 4" descr=""/>
            <p:cNvPicPr/>
            <p:nvPr/>
          </p:nvPicPr>
          <p:blipFill>
            <a:blip r:embed="rId1"/>
            <a:stretch/>
          </p:blipFill>
          <p:spPr>
            <a:xfrm>
              <a:off x="285840" y="1494000"/>
              <a:ext cx="2414520" cy="42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1" name=""/>
            <p:cNvSpPr/>
            <p:nvPr/>
          </p:nvSpPr>
          <p:spPr>
            <a:xfrm>
              <a:off x="461880" y="1647720"/>
              <a:ext cx="2063520" cy="39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SCLC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t IIIB or I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mous histology eligible if no blood vessel involvement or tumor cavit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ated brain mets allow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 ≥ 1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OG ≤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2" name="Line 6"/>
          <p:cNvSpPr/>
          <p:nvPr/>
        </p:nvSpPr>
        <p:spPr>
          <a:xfrm>
            <a:off x="2908440" y="3600360"/>
            <a:ext cx="35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AutoShape 7"/>
          <p:cNvSpPr/>
          <p:nvPr/>
        </p:nvSpPr>
        <p:spPr>
          <a:xfrm>
            <a:off x="2666880" y="3319560"/>
            <a:ext cx="920880" cy="561960"/>
          </a:xfrm>
          <a:prstGeom prst="rightArrow">
            <a:avLst>
              <a:gd name="adj1" fmla="val 50000"/>
              <a:gd name="adj2" fmla="val 461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279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4" name="Rectangle 11"/>
          <p:cNvGrpSpPr/>
          <p:nvPr/>
        </p:nvGrpSpPr>
        <p:grpSpPr>
          <a:xfrm>
            <a:off x="7434360" y="2603520"/>
            <a:ext cx="1463400" cy="2041560"/>
            <a:chOff x="7434360" y="2603520"/>
            <a:chExt cx="1463400" cy="2041560"/>
          </a:xfrm>
        </p:grpSpPr>
        <p:pic>
          <p:nvPicPr>
            <p:cNvPr id="2605" name="Rectangle 11" descr=""/>
            <p:cNvPicPr/>
            <p:nvPr/>
          </p:nvPicPr>
          <p:blipFill>
            <a:blip r:embed="rId2"/>
            <a:stretch/>
          </p:blipFill>
          <p:spPr>
            <a:xfrm>
              <a:off x="7434360" y="2603520"/>
              <a:ext cx="1463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6" name=""/>
            <p:cNvSpPr/>
            <p:nvPr/>
          </p:nvSpPr>
          <p:spPr>
            <a:xfrm>
              <a:off x="7500600" y="2647800"/>
              <a:ext cx="1333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21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mg/k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3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7" name="Rectangle 12"/>
          <p:cNvGrpSpPr/>
          <p:nvPr/>
        </p:nvGrpSpPr>
        <p:grpSpPr>
          <a:xfrm>
            <a:off x="3505320" y="2176560"/>
            <a:ext cx="3328920" cy="2901960"/>
            <a:chOff x="3505320" y="2176560"/>
            <a:chExt cx="3328920" cy="2901960"/>
          </a:xfrm>
        </p:grpSpPr>
        <p:pic>
          <p:nvPicPr>
            <p:cNvPr id="2608" name="Rectangle 12" descr=""/>
            <p:cNvPicPr/>
            <p:nvPr/>
          </p:nvPicPr>
          <p:blipFill>
            <a:blip r:embed="rId3"/>
            <a:stretch/>
          </p:blipFill>
          <p:spPr>
            <a:xfrm>
              <a:off x="3505320" y="2176560"/>
              <a:ext cx="332892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9" name=""/>
            <p:cNvSpPr/>
            <p:nvPr/>
          </p:nvSpPr>
          <p:spPr>
            <a:xfrm>
              <a:off x="3708360" y="2351160"/>
              <a:ext cx="2930400" cy="24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litaxel 200 mg/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boplatin AUC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21B 10 mg/k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up to 6 cyc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0" name="AutoShape 7"/>
          <p:cNvSpPr/>
          <p:nvPr/>
        </p:nvSpPr>
        <p:spPr>
          <a:xfrm>
            <a:off x="6824520" y="3365640"/>
            <a:ext cx="635040" cy="469800"/>
          </a:xfrm>
          <a:prstGeom prst="rightArrow">
            <a:avLst>
              <a:gd name="adj1" fmla="val 50000"/>
              <a:gd name="adj2" fmla="val 4616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279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TextBox 12"/>
          <p:cNvSpPr/>
          <p:nvPr/>
        </p:nvSpPr>
        <p:spPr>
          <a:xfrm>
            <a:off x="5524560" y="5181480"/>
            <a:ext cx="3467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rimary End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FS at 6 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35% vs. 5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13"/>
          <p:cNvSpPr/>
          <p:nvPr/>
        </p:nvSpPr>
        <p:spPr>
          <a:xfrm>
            <a:off x="2674080" y="34304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= 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Rectangle 12"/>
          <p:cNvSpPr/>
          <p:nvPr/>
        </p:nvSpPr>
        <p:spPr>
          <a:xfrm>
            <a:off x="533520" y="58024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Lo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~10 sites US +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0" y="1015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Narrow"/>
              </a:rPr>
              <a:t>CP12-0917: Histology-Specific Phase II 1</a:t>
            </a:r>
            <a:r>
              <a:rPr b="1" lang="en-US" sz="3200" spc="-1" strike="noStrike" baseline="30000">
                <a:solidFill>
                  <a:srgbClr val="ffc000"/>
                </a:solidFill>
                <a:latin typeface="Arial Narrow"/>
              </a:rPr>
              <a:t>st</a:t>
            </a:r>
            <a:r>
              <a:rPr b="1" lang="en-US" sz="3200" spc="-1" strike="noStrike">
                <a:solidFill>
                  <a:srgbClr val="ffc000"/>
                </a:solidFill>
                <a:latin typeface="Arial Narrow"/>
              </a:rPr>
              <a:t> Line NSCLC</a:t>
            </a:r>
            <a:br>
              <a:rPr sz="2800"/>
            </a:b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Is: Philip Bonomi, MD &amp; D. Ross Camidge, MD, PhD</a:t>
            </a:r>
            <a:endParaRPr b="0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615" name="Rectangle 36"/>
          <p:cNvSpPr/>
          <p:nvPr/>
        </p:nvSpPr>
        <p:spPr>
          <a:xfrm>
            <a:off x="8664480" y="6567480"/>
            <a:ext cx="479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226-062F-47E6-B467-0EFD34DFA783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6" name="Rectangle 45"/>
          <p:cNvGrpSpPr/>
          <p:nvPr/>
        </p:nvGrpSpPr>
        <p:grpSpPr>
          <a:xfrm>
            <a:off x="92160" y="2004840"/>
            <a:ext cx="2065320" cy="3554640"/>
            <a:chOff x="92160" y="2004840"/>
            <a:chExt cx="2065320" cy="3554640"/>
          </a:xfrm>
        </p:grpSpPr>
        <p:pic>
          <p:nvPicPr>
            <p:cNvPr id="2617" name="Rectangle 45" descr=""/>
            <p:cNvPicPr/>
            <p:nvPr/>
          </p:nvPicPr>
          <p:blipFill>
            <a:blip r:embed="rId1"/>
            <a:stretch/>
          </p:blipFill>
          <p:spPr>
            <a:xfrm>
              <a:off x="92160" y="2004840"/>
              <a:ext cx="2065320" cy="35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8" name=""/>
            <p:cNvSpPr/>
            <p:nvPr/>
          </p:nvSpPr>
          <p:spPr>
            <a:xfrm>
              <a:off x="152280" y="2044800"/>
              <a:ext cx="19051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SCLC wet IIIB or IV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 blood vessel involvement or tumor cavit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eated brain mets allow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 ≥ 18, ECOG ≤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9" name="AutoShape 46"/>
          <p:cNvSpPr/>
          <p:nvPr/>
        </p:nvSpPr>
        <p:spPr>
          <a:xfrm>
            <a:off x="2084400" y="2246400"/>
            <a:ext cx="3240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AutoShape 47"/>
          <p:cNvSpPr/>
          <p:nvPr/>
        </p:nvSpPr>
        <p:spPr>
          <a:xfrm flipV="1">
            <a:off x="2127240" y="4863960"/>
            <a:ext cx="3348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Rectangle 50"/>
          <p:cNvGrpSpPr/>
          <p:nvPr/>
        </p:nvGrpSpPr>
        <p:grpSpPr>
          <a:xfrm>
            <a:off x="2425680" y="2097000"/>
            <a:ext cx="1487520" cy="804960"/>
            <a:chOff x="2425680" y="2097000"/>
            <a:chExt cx="1487520" cy="804960"/>
          </a:xfrm>
        </p:grpSpPr>
        <p:pic>
          <p:nvPicPr>
            <p:cNvPr id="2622" name="Rectangle 50" descr=""/>
            <p:cNvPicPr/>
            <p:nvPr/>
          </p:nvPicPr>
          <p:blipFill>
            <a:blip r:embed="rId2"/>
            <a:stretch/>
          </p:blipFill>
          <p:spPr>
            <a:xfrm>
              <a:off x="2425680" y="2097000"/>
              <a:ext cx="1487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3" name=""/>
            <p:cNvSpPr/>
            <p:nvPr/>
          </p:nvSpPr>
          <p:spPr>
            <a:xfrm>
              <a:off x="2490840" y="213048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squamo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4" name="Rectangle 51"/>
          <p:cNvGrpSpPr/>
          <p:nvPr/>
        </p:nvGrpSpPr>
        <p:grpSpPr>
          <a:xfrm>
            <a:off x="2457360" y="4700520"/>
            <a:ext cx="1408320" cy="809640"/>
            <a:chOff x="2457360" y="4700520"/>
            <a:chExt cx="1408320" cy="809640"/>
          </a:xfrm>
        </p:grpSpPr>
        <p:pic>
          <p:nvPicPr>
            <p:cNvPr id="2625" name="Rectangle 51" descr=""/>
            <p:cNvPicPr/>
            <p:nvPr/>
          </p:nvPicPr>
          <p:blipFill>
            <a:blip r:embed="rId3"/>
            <a:stretch/>
          </p:blipFill>
          <p:spPr>
            <a:xfrm>
              <a:off x="2457360" y="4700520"/>
              <a:ext cx="14083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"/>
            <p:cNvSpPr/>
            <p:nvPr/>
          </p:nvSpPr>
          <p:spPr>
            <a:xfrm>
              <a:off x="2514600" y="4738680"/>
              <a:ext cx="1295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mo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7" name="Rectangle 52"/>
          <p:cNvGrpSpPr/>
          <p:nvPr/>
        </p:nvGrpSpPr>
        <p:grpSpPr>
          <a:xfrm>
            <a:off x="4054320" y="1474920"/>
            <a:ext cx="650880" cy="1877760"/>
            <a:chOff x="4054320" y="1474920"/>
            <a:chExt cx="650880" cy="1877760"/>
          </a:xfrm>
        </p:grpSpPr>
        <p:pic>
          <p:nvPicPr>
            <p:cNvPr id="2628" name="Rectangle 52" descr=""/>
            <p:cNvPicPr/>
            <p:nvPr/>
          </p:nvPicPr>
          <p:blipFill>
            <a:blip r:embed="rId4"/>
            <a:stretch/>
          </p:blipFill>
          <p:spPr>
            <a:xfrm>
              <a:off x="4054320" y="1474920"/>
              <a:ext cx="65088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9" name=""/>
            <p:cNvSpPr/>
            <p:nvPr/>
          </p:nvSpPr>
          <p:spPr>
            <a:xfrm>
              <a:off x="4114800" y="1512720"/>
              <a:ext cx="53352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0" name="Rectangle 56"/>
          <p:cNvGrpSpPr/>
          <p:nvPr/>
        </p:nvGrpSpPr>
        <p:grpSpPr>
          <a:xfrm>
            <a:off x="4054320" y="4181400"/>
            <a:ext cx="650880" cy="1871640"/>
            <a:chOff x="4054320" y="4181400"/>
            <a:chExt cx="650880" cy="1871640"/>
          </a:xfrm>
        </p:grpSpPr>
        <p:pic>
          <p:nvPicPr>
            <p:cNvPr id="2631" name="Rectangle 56" descr=""/>
            <p:cNvPicPr/>
            <p:nvPr/>
          </p:nvPicPr>
          <p:blipFill>
            <a:blip r:embed="rId5"/>
            <a:stretch/>
          </p:blipFill>
          <p:spPr>
            <a:xfrm>
              <a:off x="4054320" y="4181400"/>
              <a:ext cx="6508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2" name=""/>
            <p:cNvSpPr/>
            <p:nvPr/>
          </p:nvSpPr>
          <p:spPr>
            <a:xfrm>
              <a:off x="4114800" y="4218120"/>
              <a:ext cx="5335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3" name="AutoShape 59"/>
          <p:cNvSpPr/>
          <p:nvPr/>
        </p:nvSpPr>
        <p:spPr>
          <a:xfrm rot="19598400">
            <a:off x="4724280" y="1422000"/>
            <a:ext cx="3938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AutoShape 60"/>
          <p:cNvSpPr/>
          <p:nvPr/>
        </p:nvSpPr>
        <p:spPr>
          <a:xfrm flipV="1" rot="2001600">
            <a:off x="4723920" y="2439720"/>
            <a:ext cx="4053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AutoShape 61"/>
          <p:cNvSpPr/>
          <p:nvPr/>
        </p:nvSpPr>
        <p:spPr>
          <a:xfrm rot="19598400">
            <a:off x="4732200" y="4279680"/>
            <a:ext cx="3938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AutoShape 62"/>
          <p:cNvSpPr/>
          <p:nvPr/>
        </p:nvSpPr>
        <p:spPr>
          <a:xfrm flipV="1" rot="2001600">
            <a:off x="4706640" y="5342760"/>
            <a:ext cx="4046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7" name="Rectangle 64"/>
          <p:cNvGrpSpPr/>
          <p:nvPr/>
        </p:nvGrpSpPr>
        <p:grpSpPr>
          <a:xfrm>
            <a:off x="5089680" y="2255760"/>
            <a:ext cx="2133360" cy="1189080"/>
            <a:chOff x="5089680" y="2255760"/>
            <a:chExt cx="2133360" cy="1189080"/>
          </a:xfrm>
        </p:grpSpPr>
        <p:pic>
          <p:nvPicPr>
            <p:cNvPr id="2638" name="Rectangle 64" descr=""/>
            <p:cNvPicPr/>
            <p:nvPr/>
          </p:nvPicPr>
          <p:blipFill>
            <a:blip r:embed="rId6"/>
            <a:stretch/>
          </p:blipFill>
          <p:spPr>
            <a:xfrm>
              <a:off x="5089680" y="2255760"/>
              <a:ext cx="2133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9" name=""/>
            <p:cNvSpPr/>
            <p:nvPr/>
          </p:nvSpPr>
          <p:spPr>
            <a:xfrm>
              <a:off x="5181480" y="2295360"/>
              <a:ext cx="19814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 B: Carboplatin + Pem + 1121B 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0" name="Rectangle 65"/>
          <p:cNvGrpSpPr/>
          <p:nvPr/>
        </p:nvGrpSpPr>
        <p:grpSpPr>
          <a:xfrm>
            <a:off x="5102280" y="987480"/>
            <a:ext cx="2182680" cy="1170000"/>
            <a:chOff x="5102280" y="987480"/>
            <a:chExt cx="2182680" cy="1170000"/>
          </a:xfrm>
        </p:grpSpPr>
        <p:pic>
          <p:nvPicPr>
            <p:cNvPr id="2641" name="Rectangle 65" descr=""/>
            <p:cNvPicPr/>
            <p:nvPr/>
          </p:nvPicPr>
          <p:blipFill>
            <a:blip r:embed="rId7"/>
            <a:stretch/>
          </p:blipFill>
          <p:spPr>
            <a:xfrm>
              <a:off x="5102280" y="987480"/>
              <a:ext cx="2182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2" name=""/>
            <p:cNvSpPr/>
            <p:nvPr/>
          </p:nvSpPr>
          <p:spPr>
            <a:xfrm>
              <a:off x="5181480" y="1076400"/>
              <a:ext cx="198144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 A: Carboplatin + Pemetrexed 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3" name="Rectangle 66"/>
          <p:cNvGrpSpPr/>
          <p:nvPr/>
        </p:nvGrpSpPr>
        <p:grpSpPr>
          <a:xfrm>
            <a:off x="5121360" y="3809880"/>
            <a:ext cx="2120760" cy="1295280"/>
            <a:chOff x="5121360" y="3809880"/>
            <a:chExt cx="2120760" cy="1295280"/>
          </a:xfrm>
        </p:grpSpPr>
        <p:pic>
          <p:nvPicPr>
            <p:cNvPr id="2644" name="Rectangle 66" descr=""/>
            <p:cNvPicPr/>
            <p:nvPr/>
          </p:nvPicPr>
          <p:blipFill>
            <a:blip r:embed="rId8"/>
            <a:stretch/>
          </p:blipFill>
          <p:spPr>
            <a:xfrm>
              <a:off x="5121360" y="3809880"/>
              <a:ext cx="2120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"/>
            <p:cNvSpPr/>
            <p:nvPr/>
          </p:nvSpPr>
          <p:spPr>
            <a:xfrm>
              <a:off x="5181480" y="3952440"/>
              <a:ext cx="19814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rm C: Carboplatin + Gemcitab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6" name="Rectangle 67"/>
          <p:cNvGrpSpPr/>
          <p:nvPr/>
        </p:nvGrpSpPr>
        <p:grpSpPr>
          <a:xfrm>
            <a:off x="5095800" y="5132520"/>
            <a:ext cx="2200320" cy="1201680"/>
            <a:chOff x="5095800" y="5132520"/>
            <a:chExt cx="2200320" cy="1201680"/>
          </a:xfrm>
        </p:grpSpPr>
        <p:pic>
          <p:nvPicPr>
            <p:cNvPr id="2647" name="Rectangle 67" descr=""/>
            <p:cNvPicPr/>
            <p:nvPr/>
          </p:nvPicPr>
          <p:blipFill>
            <a:blip r:embed="rId9"/>
            <a:stretch/>
          </p:blipFill>
          <p:spPr>
            <a:xfrm>
              <a:off x="5095800" y="5132520"/>
              <a:ext cx="22003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8" name=""/>
            <p:cNvSpPr/>
            <p:nvPr/>
          </p:nvSpPr>
          <p:spPr>
            <a:xfrm>
              <a:off x="5181480" y="5183280"/>
              <a:ext cx="1981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rm D: Carboplatin + Gem + 1121B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9" name="AutoShape 69"/>
          <p:cNvSpPr/>
          <p:nvPr/>
        </p:nvSpPr>
        <p:spPr>
          <a:xfrm>
            <a:off x="7205760" y="1316160"/>
            <a:ext cx="304560" cy="495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AutoShape 70"/>
          <p:cNvSpPr/>
          <p:nvPr/>
        </p:nvSpPr>
        <p:spPr>
          <a:xfrm>
            <a:off x="7205760" y="2611440"/>
            <a:ext cx="304560" cy="49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AutoShape 72"/>
          <p:cNvSpPr/>
          <p:nvPr/>
        </p:nvSpPr>
        <p:spPr>
          <a:xfrm>
            <a:off x="7230960" y="5499000"/>
            <a:ext cx="304920" cy="49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2" name="Rectangle 75"/>
          <p:cNvGrpSpPr/>
          <p:nvPr/>
        </p:nvGrpSpPr>
        <p:grpSpPr>
          <a:xfrm>
            <a:off x="7491240" y="1163520"/>
            <a:ext cx="1487520" cy="804960"/>
            <a:chOff x="7491240" y="1163520"/>
            <a:chExt cx="1487520" cy="804960"/>
          </a:xfrm>
        </p:grpSpPr>
        <p:pic>
          <p:nvPicPr>
            <p:cNvPr id="2653" name="Rectangle 75" descr=""/>
            <p:cNvPicPr/>
            <p:nvPr/>
          </p:nvPicPr>
          <p:blipFill>
            <a:blip r:embed="rId10"/>
            <a:stretch/>
          </p:blipFill>
          <p:spPr>
            <a:xfrm>
              <a:off x="7491240" y="1163520"/>
              <a:ext cx="1487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4" name=""/>
            <p:cNvSpPr/>
            <p:nvPr/>
          </p:nvSpPr>
          <p:spPr>
            <a:xfrm>
              <a:off x="7553160" y="119844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m q3w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5" name="Rectangle 78"/>
          <p:cNvGrpSpPr/>
          <p:nvPr/>
        </p:nvGrpSpPr>
        <p:grpSpPr>
          <a:xfrm>
            <a:off x="7491240" y="2419200"/>
            <a:ext cx="1640160" cy="811440"/>
            <a:chOff x="7491240" y="2419200"/>
            <a:chExt cx="1640160" cy="811440"/>
          </a:xfrm>
        </p:grpSpPr>
        <p:pic>
          <p:nvPicPr>
            <p:cNvPr id="2656" name="Rectangle 78" descr=""/>
            <p:cNvPicPr/>
            <p:nvPr/>
          </p:nvPicPr>
          <p:blipFill>
            <a:blip r:embed="rId11"/>
            <a:stretch/>
          </p:blipFill>
          <p:spPr>
            <a:xfrm>
              <a:off x="7491240" y="2419200"/>
              <a:ext cx="164016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7" name=""/>
            <p:cNvSpPr/>
            <p:nvPr/>
          </p:nvSpPr>
          <p:spPr>
            <a:xfrm>
              <a:off x="7553160" y="2459160"/>
              <a:ext cx="1524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m+1121B q3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8" name="Rectangle 79"/>
          <p:cNvGrpSpPr/>
          <p:nvPr/>
        </p:nvGrpSpPr>
        <p:grpSpPr>
          <a:xfrm>
            <a:off x="7473960" y="5389560"/>
            <a:ext cx="1639800" cy="803160"/>
            <a:chOff x="7473960" y="5389560"/>
            <a:chExt cx="1639800" cy="803160"/>
          </a:xfrm>
        </p:grpSpPr>
        <p:pic>
          <p:nvPicPr>
            <p:cNvPr id="2659" name="Rectangle 79" descr=""/>
            <p:cNvPicPr/>
            <p:nvPr/>
          </p:nvPicPr>
          <p:blipFill>
            <a:blip r:embed="rId12"/>
            <a:stretch/>
          </p:blipFill>
          <p:spPr>
            <a:xfrm>
              <a:off x="7473960" y="5389560"/>
              <a:ext cx="16398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0" name=""/>
            <p:cNvSpPr/>
            <p:nvPr/>
          </p:nvSpPr>
          <p:spPr>
            <a:xfrm>
              <a:off x="7535880" y="5423040"/>
              <a:ext cx="1523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21B q3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1" name="Rectangle 27"/>
          <p:cNvSpPr/>
          <p:nvPr/>
        </p:nvSpPr>
        <p:spPr>
          <a:xfrm>
            <a:off x="184320" y="5648400"/>
            <a:ext cx="41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Calibri"/>
              </a:rPr>
              <a:t>Design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N = 280 (70/ar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Non-squamous likely to finish accrual fir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(PFS 7 to 10.4 mo for non-squam; 4.8 to 7 mo for squa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Rectangle 28"/>
          <p:cNvSpPr/>
          <p:nvPr/>
        </p:nvSpPr>
        <p:spPr>
          <a:xfrm>
            <a:off x="7480440" y="3876840"/>
            <a:ext cx="14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1° Endpoi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Rectangle 27"/>
          <p:cNvSpPr/>
          <p:nvPr/>
        </p:nvSpPr>
        <p:spPr>
          <a:xfrm>
            <a:off x="4330800" y="620244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Calibri"/>
              </a:rPr>
              <a:t>Locations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~50-70 sites in US, Canada, UK, Germany, Poland, Belgiu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8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641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642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5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646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647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651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652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656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657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9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0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661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662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666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667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9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671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672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4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676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677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9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681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682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4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5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686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687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691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692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696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697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701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702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4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706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707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711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712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716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717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9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721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722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4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726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727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9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731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732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736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737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741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742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4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746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747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751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752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756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757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9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761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762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4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766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767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0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771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772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4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776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777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9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781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782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786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787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9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791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792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4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796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797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9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801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802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806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807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9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811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812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4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816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817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9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0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821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822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4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5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826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827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831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832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4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836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837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9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841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842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4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846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847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9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851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852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856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857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9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0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861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862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4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866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867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9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0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871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872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4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5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876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877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881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882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4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5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886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887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891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892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4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896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897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9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901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902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4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906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907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0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911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912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4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916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917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9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0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921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922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4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926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927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9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931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932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936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937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0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941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942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4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946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947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9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951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952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4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956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957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9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0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963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964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977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988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999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000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013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024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7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038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1039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2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1043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1049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1056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106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3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1064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 flipV="1" rot="8023200">
            <a:off x="8228520" y="35816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7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1100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1101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3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4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1105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1106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8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9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1110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1111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3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1115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1116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8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9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1120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1121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3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1125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1126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9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1130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1131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3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4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1135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1136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8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9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1140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1141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3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4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1145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1146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8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9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1150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1151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4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1155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1156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8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9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1160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1161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3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4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1165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1166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8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9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1170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1171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3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4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1175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1176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8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1180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1181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3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1185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1186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8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9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1190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1191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3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4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1195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1196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8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9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1200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1201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3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4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1205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1206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8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9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1210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1211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3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1215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1216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8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9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1220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1221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3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4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1225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1226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1230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1231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3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1235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1236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8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9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1240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1241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3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4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1245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1246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8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9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1250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1251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3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4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1255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1256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8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9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1260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1261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3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4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1265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1266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8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9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1270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1271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1275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1276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8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9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1280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1281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3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1285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1286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8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9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1290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1291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4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1295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1296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8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9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1300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1301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3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4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1305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1306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8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9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1310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1311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3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4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1315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1316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8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9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1320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1321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3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4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1325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1326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8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9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1330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1331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3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4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1335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1336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8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9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1340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1341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3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1345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1346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8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9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1350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1351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3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4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1355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1356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8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9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1360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1361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3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4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1365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1366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8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9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1370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1371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3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4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1375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1376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8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9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1380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1381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3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4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1385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1386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8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9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1390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1391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3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4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1395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1396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8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9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1400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1401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4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1405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1406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9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1410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1411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3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4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1415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1416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8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9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1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1422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1423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5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1436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6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1447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1458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459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1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472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2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483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93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5" name="Group 423"/>
          <p:cNvGrpSpPr/>
          <p:nvPr/>
        </p:nvGrpSpPr>
        <p:grpSpPr>
          <a:xfrm>
            <a:off x="5600880" y="3516840"/>
            <a:ext cx="1681560" cy="1677960"/>
            <a:chOff x="5600880" y="3516840"/>
            <a:chExt cx="1681560" cy="1677960"/>
          </a:xfrm>
        </p:grpSpPr>
        <p:sp>
          <p:nvSpPr>
            <p:cNvPr id="1496" name="Oval 424"/>
            <p:cNvSpPr/>
            <p:nvPr/>
          </p:nvSpPr>
          <p:spPr>
            <a:xfrm rot="11488800">
              <a:off x="6410880" y="4060080"/>
              <a:ext cx="480240" cy="475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425"/>
            <p:cNvSpPr/>
            <p:nvPr/>
          </p:nvSpPr>
          <p:spPr>
            <a:xfrm rot="11488800">
              <a:off x="6361200" y="4664880"/>
              <a:ext cx="478440" cy="475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Rectangle 426"/>
            <p:cNvSpPr/>
            <p:nvPr/>
          </p:nvSpPr>
          <p:spPr>
            <a:xfrm rot="11488800">
              <a:off x="5760000" y="4651200"/>
              <a:ext cx="365040" cy="18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427"/>
            <p:cNvSpPr/>
            <p:nvPr/>
          </p:nvSpPr>
          <p:spPr>
            <a:xfrm rot="11488800">
              <a:off x="6259680" y="3891960"/>
              <a:ext cx="480240" cy="4777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428"/>
            <p:cNvSpPr/>
            <p:nvPr/>
          </p:nvSpPr>
          <p:spPr>
            <a:xfrm rot="11488800">
              <a:off x="6305040" y="4674240"/>
              <a:ext cx="480600" cy="4773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Rectangle 429"/>
            <p:cNvSpPr/>
            <p:nvPr/>
          </p:nvSpPr>
          <p:spPr>
            <a:xfrm rot="11488800">
              <a:off x="5615640" y="4617360"/>
              <a:ext cx="365040" cy="18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430"/>
            <p:cNvSpPr/>
            <p:nvPr/>
          </p:nvSpPr>
          <p:spPr>
            <a:xfrm rot="14359200">
              <a:off x="6643440" y="3841920"/>
              <a:ext cx="57276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Oval 431"/>
            <p:cNvSpPr/>
            <p:nvPr/>
          </p:nvSpPr>
          <p:spPr>
            <a:xfrm rot="14359200">
              <a:off x="6427440" y="3945600"/>
              <a:ext cx="570960" cy="458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Rectangle 432"/>
            <p:cNvSpPr/>
            <p:nvPr/>
          </p:nvSpPr>
          <p:spPr>
            <a:xfrm rot="14359200">
              <a:off x="6646680" y="4520880"/>
              <a:ext cx="457200" cy="92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Oval 433"/>
            <p:cNvSpPr/>
            <p:nvPr/>
          </p:nvSpPr>
          <p:spPr>
            <a:xfrm rot="14359200">
              <a:off x="6629040" y="3676320"/>
              <a:ext cx="57096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Oval 434"/>
            <p:cNvSpPr/>
            <p:nvPr/>
          </p:nvSpPr>
          <p:spPr>
            <a:xfrm rot="14359200">
              <a:off x="6375960" y="3824280"/>
              <a:ext cx="57060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Rectangle 435"/>
            <p:cNvSpPr/>
            <p:nvPr/>
          </p:nvSpPr>
          <p:spPr>
            <a:xfrm rot="14359200">
              <a:off x="6390720" y="3984480"/>
              <a:ext cx="457560" cy="92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Oval 436"/>
            <p:cNvSpPr/>
            <p:nvPr/>
          </p:nvSpPr>
          <p:spPr>
            <a:xfrm rot="8841600">
              <a:off x="6085080" y="3630960"/>
              <a:ext cx="56412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Oval 437"/>
            <p:cNvSpPr/>
            <p:nvPr/>
          </p:nvSpPr>
          <p:spPr>
            <a:xfrm rot="8841600">
              <a:off x="6242400" y="3877920"/>
              <a:ext cx="5522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Rectangle 438"/>
            <p:cNvSpPr/>
            <p:nvPr/>
          </p:nvSpPr>
          <p:spPr>
            <a:xfrm rot="8841600">
              <a:off x="6306120" y="3910320"/>
              <a:ext cx="185040" cy="36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Oval 439"/>
            <p:cNvSpPr/>
            <p:nvPr/>
          </p:nvSpPr>
          <p:spPr>
            <a:xfrm rot="8841600">
              <a:off x="6097680" y="3881880"/>
              <a:ext cx="552600" cy="4802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Oval 440"/>
            <p:cNvSpPr/>
            <p:nvPr/>
          </p:nvSpPr>
          <p:spPr>
            <a:xfrm rot="8841600">
              <a:off x="6131520" y="3877200"/>
              <a:ext cx="549000" cy="4784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Rectangle 441"/>
            <p:cNvSpPr/>
            <p:nvPr/>
          </p:nvSpPr>
          <p:spPr>
            <a:xfrm rot="8841600">
              <a:off x="6175800" y="3990960"/>
              <a:ext cx="185040" cy="3668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4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7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518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1519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2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1523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6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8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1529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3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5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1536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0" name="Group 489"/>
          <p:cNvGrpSpPr/>
          <p:nvPr/>
        </p:nvGrpSpPr>
        <p:grpSpPr>
          <a:xfrm>
            <a:off x="304920" y="1706040"/>
            <a:ext cx="3440160" cy="3020760"/>
            <a:chOff x="304920" y="1706040"/>
            <a:chExt cx="3440160" cy="3020760"/>
          </a:xfrm>
        </p:grpSpPr>
        <p:sp>
          <p:nvSpPr>
            <p:cNvPr id="154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3" name="Group 492"/>
            <p:cNvGrpSpPr/>
            <p:nvPr/>
          </p:nvGrpSpPr>
          <p:grpSpPr>
            <a:xfrm>
              <a:off x="1572840" y="1706040"/>
              <a:ext cx="1715400" cy="3020760"/>
              <a:chOff x="1572840" y="1706040"/>
              <a:chExt cx="1715400" cy="3020760"/>
            </a:xfrm>
          </p:grpSpPr>
          <p:sp>
            <p:nvSpPr>
              <p:cNvPr id="1544" name="Oval 493"/>
              <p:cNvSpPr/>
              <p:nvPr/>
            </p:nvSpPr>
            <p:spPr>
              <a:xfrm rot="17171400">
                <a:off x="2416320" y="2043000"/>
                <a:ext cx="480960" cy="4791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Oval 494"/>
              <p:cNvSpPr/>
              <p:nvPr/>
            </p:nvSpPr>
            <p:spPr>
              <a:xfrm rot="17171400">
                <a:off x="1929600" y="1884600"/>
                <a:ext cx="481680" cy="4777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495"/>
              <p:cNvSpPr/>
              <p:nvPr/>
            </p:nvSpPr>
            <p:spPr>
              <a:xfrm rot="17171400">
                <a:off x="1528920" y="4433760"/>
                <a:ext cx="365760" cy="1836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Oval 496"/>
              <p:cNvSpPr/>
              <p:nvPr/>
            </p:nvSpPr>
            <p:spPr>
              <a:xfrm rot="17171400">
                <a:off x="2460960" y="1905480"/>
                <a:ext cx="47952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Oval 497"/>
              <p:cNvSpPr/>
              <p:nvPr/>
            </p:nvSpPr>
            <p:spPr>
              <a:xfrm rot="17171400">
                <a:off x="1966680" y="1763640"/>
                <a:ext cx="481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498"/>
              <p:cNvSpPr/>
              <p:nvPr/>
            </p:nvSpPr>
            <p:spPr>
              <a:xfrm rot="17171400">
                <a:off x="1576080" y="4310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Oval 499"/>
              <p:cNvSpPr/>
              <p:nvPr/>
            </p:nvSpPr>
            <p:spPr>
              <a:xfrm rot="20041800">
                <a:off x="2655000" y="2378880"/>
                <a:ext cx="184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Oval 500"/>
              <p:cNvSpPr/>
              <p:nvPr/>
            </p:nvSpPr>
            <p:spPr>
              <a:xfrm rot="20041800">
                <a:off x="2544840" y="2133000"/>
                <a:ext cx="182880" cy="4795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501"/>
              <p:cNvSpPr/>
              <p:nvPr/>
            </p:nvSpPr>
            <p:spPr>
              <a:xfrm rot="20041800">
                <a:off x="2586240" y="2306520"/>
                <a:ext cx="18504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Oval 502"/>
              <p:cNvSpPr/>
              <p:nvPr/>
            </p:nvSpPr>
            <p:spPr>
              <a:xfrm rot="20041800">
                <a:off x="2788560" y="23166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Oval 503"/>
              <p:cNvSpPr/>
              <p:nvPr/>
            </p:nvSpPr>
            <p:spPr>
              <a:xfrm rot="20041800">
                <a:off x="2666520" y="2072880"/>
                <a:ext cx="1846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504"/>
              <p:cNvSpPr/>
              <p:nvPr/>
            </p:nvSpPr>
            <p:spPr>
              <a:xfrm rot="20041800">
                <a:off x="2728440" y="2243160"/>
                <a:ext cx="182880" cy="3664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Oval 505"/>
              <p:cNvSpPr/>
              <p:nvPr/>
            </p:nvSpPr>
            <p:spPr>
              <a:xfrm rot="14524200">
                <a:off x="2941200" y="182088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Oval 506"/>
              <p:cNvSpPr/>
              <p:nvPr/>
            </p:nvSpPr>
            <p:spPr>
              <a:xfrm rot="14524200">
                <a:off x="2691720" y="193896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507"/>
              <p:cNvSpPr/>
              <p:nvPr/>
            </p:nvSpPr>
            <p:spPr>
              <a:xfrm rot="14524200">
                <a:off x="2821680" y="1944000"/>
                <a:ext cx="18108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Oval 508"/>
              <p:cNvSpPr/>
              <p:nvPr/>
            </p:nvSpPr>
            <p:spPr>
              <a:xfrm rot="14524200">
                <a:off x="2876400" y="169884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Oval 509"/>
              <p:cNvSpPr/>
              <p:nvPr/>
            </p:nvSpPr>
            <p:spPr>
              <a:xfrm rot="14524200">
                <a:off x="2632320" y="182412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510"/>
              <p:cNvSpPr/>
              <p:nvPr/>
            </p:nvSpPr>
            <p:spPr>
              <a:xfrm rot="14524200">
                <a:off x="2739600" y="1814760"/>
                <a:ext cx="1832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77" name="AutoShape 4"/>
          <p:cNvGrpSpPr/>
          <p:nvPr/>
        </p:nvGrpSpPr>
        <p:grpSpPr>
          <a:xfrm>
            <a:off x="1341360" y="4651200"/>
            <a:ext cx="6297840" cy="1743120"/>
            <a:chOff x="1341360" y="4651200"/>
            <a:chExt cx="6297840" cy="1743120"/>
          </a:xfrm>
        </p:grpSpPr>
        <p:pic>
          <p:nvPicPr>
            <p:cNvPr id="1578" name="AutoShape 4" descr=""/>
            <p:cNvPicPr/>
            <p:nvPr/>
          </p:nvPicPr>
          <p:blipFill>
            <a:blip r:embed="rId1"/>
            <a:stretch/>
          </p:blipFill>
          <p:spPr>
            <a:xfrm>
              <a:off x="1341360" y="4651200"/>
              <a:ext cx="6297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"/>
            <p:cNvSpPr/>
            <p:nvPr/>
          </p:nvSpPr>
          <p:spPr>
            <a:xfrm>
              <a:off x="1349280" y="5111640"/>
              <a:ext cx="628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0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1581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1582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4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5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1586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1587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9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0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1591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1592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5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1596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1597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9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1601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1602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1606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1607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0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1611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1612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4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5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1616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1617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9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0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1621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1622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4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5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1626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1627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9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0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1631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1632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5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1636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1637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9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1641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1642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4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5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1646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1647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9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0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1651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1652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4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5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1656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1657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9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0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1661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1662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4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1666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1667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9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0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1671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1672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5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1676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1677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9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0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1681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1682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4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5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1686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1687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0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1691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1692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4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1696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1697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9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0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1701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1702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4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5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1706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1707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9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0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1711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1712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4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1716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1717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9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0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1721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1722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5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1726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1727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9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0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1731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1732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4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5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1736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1737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9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0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1741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1742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4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5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1746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1747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9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0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1751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1752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4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5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1756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1757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9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0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1761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1762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4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5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1766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1767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9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0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1771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1772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4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5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1776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1777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9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0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1781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1782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4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5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1786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1787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9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0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1791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1792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4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5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1796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1797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9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0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1801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1802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4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5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1806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1807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9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0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1811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1812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4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5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1816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1817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9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0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1821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1822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4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5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1826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1827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9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0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1831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1832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4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5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1836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1837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9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0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1841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1842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4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5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1846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1847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9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0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1851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1852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4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5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1856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1857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9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0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1861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1862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4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5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1866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1867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9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0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1871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1872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4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5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1876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1877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9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0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1881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1882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4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5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1886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1887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9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0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1891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1892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4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5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1896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1897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9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0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2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1903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1904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1917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7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1928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8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1939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940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953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3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964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74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6" name="Group 423"/>
          <p:cNvGrpSpPr/>
          <p:nvPr/>
        </p:nvGrpSpPr>
        <p:grpSpPr>
          <a:xfrm>
            <a:off x="5523120" y="3512160"/>
            <a:ext cx="1748520" cy="1679760"/>
            <a:chOff x="5523120" y="3512160"/>
            <a:chExt cx="1748520" cy="1679760"/>
          </a:xfrm>
        </p:grpSpPr>
        <p:sp>
          <p:nvSpPr>
            <p:cNvPr id="1977" name="Oval 424"/>
            <p:cNvSpPr/>
            <p:nvPr/>
          </p:nvSpPr>
          <p:spPr>
            <a:xfrm rot="11488800">
              <a:off x="6467760" y="407016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Oval 425"/>
            <p:cNvSpPr/>
            <p:nvPr/>
          </p:nvSpPr>
          <p:spPr>
            <a:xfrm rot="11488800">
              <a:off x="6464520" y="466524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Rectangle 426"/>
            <p:cNvSpPr/>
            <p:nvPr/>
          </p:nvSpPr>
          <p:spPr>
            <a:xfrm rot="11488800">
              <a:off x="5662440" y="4578120"/>
              <a:ext cx="367560" cy="183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Oval 427"/>
            <p:cNvSpPr/>
            <p:nvPr/>
          </p:nvSpPr>
          <p:spPr>
            <a:xfrm rot="11488800">
              <a:off x="6300720" y="3890880"/>
              <a:ext cx="4816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Oval 428"/>
            <p:cNvSpPr/>
            <p:nvPr/>
          </p:nvSpPr>
          <p:spPr>
            <a:xfrm rot="11488800">
              <a:off x="6411960" y="4667760"/>
              <a:ext cx="4856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Rectangle 429"/>
            <p:cNvSpPr/>
            <p:nvPr/>
          </p:nvSpPr>
          <p:spPr>
            <a:xfrm rot="11488800">
              <a:off x="5537520" y="4517280"/>
              <a:ext cx="367560" cy="18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Oval 430"/>
            <p:cNvSpPr/>
            <p:nvPr/>
          </p:nvSpPr>
          <p:spPr>
            <a:xfrm rot="14359200">
              <a:off x="6651360" y="3899880"/>
              <a:ext cx="576000" cy="430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Oval 431"/>
            <p:cNvSpPr/>
            <p:nvPr/>
          </p:nvSpPr>
          <p:spPr>
            <a:xfrm rot="14359200">
              <a:off x="6492240" y="3973680"/>
              <a:ext cx="57600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Rectangle 432"/>
            <p:cNvSpPr/>
            <p:nvPr/>
          </p:nvSpPr>
          <p:spPr>
            <a:xfrm rot="14359200">
              <a:off x="6706440" y="457020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Oval 433"/>
            <p:cNvSpPr/>
            <p:nvPr/>
          </p:nvSpPr>
          <p:spPr>
            <a:xfrm rot="14359200">
              <a:off x="6635160" y="3701880"/>
              <a:ext cx="57564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Oval 434"/>
            <p:cNvSpPr/>
            <p:nvPr/>
          </p:nvSpPr>
          <p:spPr>
            <a:xfrm rot="14359200">
              <a:off x="6427800" y="3829680"/>
              <a:ext cx="576000" cy="461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Rectangle 435"/>
            <p:cNvSpPr/>
            <p:nvPr/>
          </p:nvSpPr>
          <p:spPr>
            <a:xfrm rot="14359200">
              <a:off x="6390720" y="396756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Oval 436"/>
            <p:cNvSpPr/>
            <p:nvPr/>
          </p:nvSpPr>
          <p:spPr>
            <a:xfrm rot="8841600">
              <a:off x="6135480" y="3615120"/>
              <a:ext cx="524520" cy="485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Oval 437"/>
            <p:cNvSpPr/>
            <p:nvPr/>
          </p:nvSpPr>
          <p:spPr>
            <a:xfrm rot="8841600">
              <a:off x="6308640" y="3873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Rectangle 438"/>
            <p:cNvSpPr/>
            <p:nvPr/>
          </p:nvSpPr>
          <p:spPr>
            <a:xfrm rot="8841600">
              <a:off x="6356880" y="3869640"/>
              <a:ext cx="183600" cy="3675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Oval 439"/>
            <p:cNvSpPr/>
            <p:nvPr/>
          </p:nvSpPr>
          <p:spPr>
            <a:xfrm rot="8841600">
              <a:off x="6175440" y="3859920"/>
              <a:ext cx="513360" cy="4834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Oval 440"/>
            <p:cNvSpPr/>
            <p:nvPr/>
          </p:nvSpPr>
          <p:spPr>
            <a:xfrm rot="8841600">
              <a:off x="6196320" y="3864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Rectangle 441"/>
            <p:cNvSpPr/>
            <p:nvPr/>
          </p:nvSpPr>
          <p:spPr>
            <a:xfrm rot="8841600">
              <a:off x="6250680" y="3955320"/>
              <a:ext cx="181800" cy="369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5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8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999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2000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1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2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3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2004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7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9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2010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4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6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2017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1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2022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4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2025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3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6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2047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673200" y="5275080"/>
            <a:ext cx="2498760" cy="1150200"/>
            <a:chOff x="673200" y="5275080"/>
            <a:chExt cx="2498760" cy="1150200"/>
          </a:xfrm>
        </p:grpSpPr>
        <p:sp>
          <p:nvSpPr>
            <p:cNvPr id="2058" name="Line 415"/>
            <p:cNvSpPr/>
            <p:nvPr/>
          </p:nvSpPr>
          <p:spPr>
            <a:xfrm flipV="1">
              <a:off x="2697120" y="5275080"/>
              <a:ext cx="474840" cy="29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9" name="Group 416"/>
            <p:cNvGrpSpPr/>
            <p:nvPr/>
          </p:nvGrpSpPr>
          <p:grpSpPr>
            <a:xfrm>
              <a:off x="1748880" y="5390640"/>
              <a:ext cx="958320" cy="1034640"/>
              <a:chOff x="1748880" y="5390640"/>
              <a:chExt cx="958320" cy="1034640"/>
            </a:xfrm>
          </p:grpSpPr>
          <p:sp>
            <p:nvSpPr>
              <p:cNvPr id="2060" name="AutoShape 417"/>
              <p:cNvSpPr/>
              <p:nvPr/>
            </p:nvSpPr>
            <p:spPr>
              <a:xfrm rot="16009200">
                <a:off x="2089080" y="583956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dc70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AutoShape 418"/>
              <p:cNvSpPr/>
              <p:nvPr/>
            </p:nvSpPr>
            <p:spPr>
              <a:xfrm flipH="1" rot="6720000">
                <a:off x="2134080" y="549000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AutoShape 419"/>
              <p:cNvSpPr/>
              <p:nvPr/>
            </p:nvSpPr>
            <p:spPr>
              <a:xfrm rot="18147000">
                <a:off x="1875960" y="5805720"/>
                <a:ext cx="45936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AutoShape 420"/>
              <p:cNvSpPr/>
              <p:nvPr/>
            </p:nvSpPr>
            <p:spPr>
              <a:xfrm rot="18316800">
                <a:off x="2086200" y="546084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4" name="Text Box 414"/>
            <p:cNvSpPr/>
            <p:nvPr/>
          </p:nvSpPr>
          <p:spPr>
            <a:xfrm>
              <a:off x="673200" y="587700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bozy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66" name="AutoShape 4"/>
          <p:cNvGrpSpPr/>
          <p:nvPr/>
        </p:nvGrpSpPr>
        <p:grpSpPr>
          <a:xfrm>
            <a:off x="1341360" y="4651200"/>
            <a:ext cx="6297840" cy="1743120"/>
            <a:chOff x="1341360" y="4651200"/>
            <a:chExt cx="6297840" cy="1743120"/>
          </a:xfrm>
        </p:grpSpPr>
        <p:pic>
          <p:nvPicPr>
            <p:cNvPr id="2067" name="AutoShape 4" descr=""/>
            <p:cNvPicPr/>
            <p:nvPr/>
          </p:nvPicPr>
          <p:blipFill>
            <a:blip r:embed="rId1"/>
            <a:stretch/>
          </p:blipFill>
          <p:spPr>
            <a:xfrm>
              <a:off x="1341360" y="4651200"/>
              <a:ext cx="6297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8" name=""/>
            <p:cNvSpPr/>
            <p:nvPr/>
          </p:nvSpPr>
          <p:spPr>
            <a:xfrm>
              <a:off x="1349280" y="5111640"/>
              <a:ext cx="628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9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2070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2071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3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4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2075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2076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8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9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2080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2081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3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4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2085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2086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8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9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2090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2091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3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4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2095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2096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8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9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2100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2101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3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4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2105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2106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8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9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2110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2111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3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4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2115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2116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8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9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2120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2121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3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4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2125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2126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8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9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2130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2131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3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4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2135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2136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8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9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2140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2141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3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4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2145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2146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8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9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2150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2151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3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4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2155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2156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8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9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2160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2161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3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4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2165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2166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8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9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2170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2171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3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4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2175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2176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8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9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2180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2181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3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4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2185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2186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8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9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2190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2191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3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4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2195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2196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8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9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2200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2201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3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4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2205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2206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8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9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2210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2211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3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4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2215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2216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8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9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2220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2221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3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4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2225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2226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8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2230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2231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3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4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2235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2236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8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9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2240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2241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3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4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2245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2246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8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9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2250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2251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3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4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2255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2256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8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9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2260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2261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3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4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2265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2266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8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9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2270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2271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3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4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2275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2276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8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9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2280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2281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3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4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2285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2286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8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9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2290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2291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3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4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2295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2296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8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9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2300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2301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3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4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2305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2306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8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9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2310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2311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3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4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2315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2316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8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9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2320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2321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3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4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2325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2326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8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9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2330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2331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3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4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2335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2336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8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9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2340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2341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3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4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2345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2346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8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9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2350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2351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3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4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2355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2356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8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9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2360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2361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3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4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2365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2366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8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9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2370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2371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3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4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2375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2376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8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9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2380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2381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3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4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2385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2386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8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9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1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2392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2393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5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2406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2417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27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2428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2429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1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2442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2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2453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3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4" name="Group 406"/>
          <p:cNvGrpSpPr/>
          <p:nvPr/>
        </p:nvGrpSpPr>
        <p:grpSpPr>
          <a:xfrm>
            <a:off x="6237360" y="5309280"/>
            <a:ext cx="2633760" cy="1474920"/>
            <a:chOff x="6237360" y="5309280"/>
            <a:chExt cx="2633760" cy="1474920"/>
          </a:xfrm>
        </p:grpSpPr>
        <p:sp>
          <p:nvSpPr>
            <p:cNvPr id="2465" name="Text Box 407"/>
            <p:cNvSpPr/>
            <p:nvPr/>
          </p:nvSpPr>
          <p:spPr>
            <a:xfrm>
              <a:off x="6686640" y="5775480"/>
              <a:ext cx="2184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mall-molecule VEGFR inhibitors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(TKI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Line 408"/>
            <p:cNvSpPr/>
            <p:nvPr/>
          </p:nvSpPr>
          <p:spPr>
            <a:xfrm flipH="1" flipV="1">
              <a:off x="6237360" y="5309280"/>
              <a:ext cx="446760" cy="28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7" name="Group 409"/>
            <p:cNvGrpSpPr/>
            <p:nvPr/>
          </p:nvGrpSpPr>
          <p:grpSpPr>
            <a:xfrm>
              <a:off x="6664320" y="5556240"/>
              <a:ext cx="380520" cy="349200"/>
              <a:chOff x="6664320" y="5556240"/>
              <a:chExt cx="380520" cy="349200"/>
            </a:xfrm>
          </p:grpSpPr>
          <p:sp>
            <p:nvSpPr>
              <p:cNvPr id="2468" name="Oval 410"/>
              <p:cNvSpPr/>
              <p:nvPr/>
            </p:nvSpPr>
            <p:spPr>
              <a:xfrm>
                <a:off x="6664320" y="5597280"/>
                <a:ext cx="237960" cy="21456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693f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Oval 411"/>
              <p:cNvSpPr/>
              <p:nvPr/>
            </p:nvSpPr>
            <p:spPr>
              <a:xfrm>
                <a:off x="6748200" y="5689440"/>
                <a:ext cx="237960" cy="21600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6b2b6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Oval 412"/>
              <p:cNvSpPr/>
              <p:nvPr/>
            </p:nvSpPr>
            <p:spPr>
              <a:xfrm>
                <a:off x="6806880" y="5556240"/>
                <a:ext cx="237960" cy="21564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8f398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1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2" name="Group 423"/>
          <p:cNvGrpSpPr/>
          <p:nvPr/>
        </p:nvGrpSpPr>
        <p:grpSpPr>
          <a:xfrm>
            <a:off x="5523120" y="3512160"/>
            <a:ext cx="1748520" cy="1679760"/>
            <a:chOff x="5523120" y="3512160"/>
            <a:chExt cx="1748520" cy="1679760"/>
          </a:xfrm>
        </p:grpSpPr>
        <p:sp>
          <p:nvSpPr>
            <p:cNvPr id="2473" name="Oval 424"/>
            <p:cNvSpPr/>
            <p:nvPr/>
          </p:nvSpPr>
          <p:spPr>
            <a:xfrm rot="11488800">
              <a:off x="6467760" y="407016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Oval 425"/>
            <p:cNvSpPr/>
            <p:nvPr/>
          </p:nvSpPr>
          <p:spPr>
            <a:xfrm rot="11488800">
              <a:off x="6464520" y="466524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Rectangle 426"/>
            <p:cNvSpPr/>
            <p:nvPr/>
          </p:nvSpPr>
          <p:spPr>
            <a:xfrm rot="11488800">
              <a:off x="5662440" y="4578120"/>
              <a:ext cx="367560" cy="183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Oval 427"/>
            <p:cNvSpPr/>
            <p:nvPr/>
          </p:nvSpPr>
          <p:spPr>
            <a:xfrm rot="11488800">
              <a:off x="6300720" y="3890880"/>
              <a:ext cx="4816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Oval 428"/>
            <p:cNvSpPr/>
            <p:nvPr/>
          </p:nvSpPr>
          <p:spPr>
            <a:xfrm rot="11488800">
              <a:off x="6411960" y="4667760"/>
              <a:ext cx="4856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Rectangle 429"/>
            <p:cNvSpPr/>
            <p:nvPr/>
          </p:nvSpPr>
          <p:spPr>
            <a:xfrm rot="11488800">
              <a:off x="5537520" y="4517280"/>
              <a:ext cx="367560" cy="18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Oval 430"/>
            <p:cNvSpPr/>
            <p:nvPr/>
          </p:nvSpPr>
          <p:spPr>
            <a:xfrm rot="14359200">
              <a:off x="6651360" y="3899880"/>
              <a:ext cx="576000" cy="430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Oval 431"/>
            <p:cNvSpPr/>
            <p:nvPr/>
          </p:nvSpPr>
          <p:spPr>
            <a:xfrm rot="14359200">
              <a:off x="6492240" y="3973680"/>
              <a:ext cx="57600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Rectangle 432"/>
            <p:cNvSpPr/>
            <p:nvPr/>
          </p:nvSpPr>
          <p:spPr>
            <a:xfrm rot="14359200">
              <a:off x="6706440" y="457020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Oval 433"/>
            <p:cNvSpPr/>
            <p:nvPr/>
          </p:nvSpPr>
          <p:spPr>
            <a:xfrm rot="14359200">
              <a:off x="6635160" y="3701880"/>
              <a:ext cx="57564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Oval 434"/>
            <p:cNvSpPr/>
            <p:nvPr/>
          </p:nvSpPr>
          <p:spPr>
            <a:xfrm rot="14359200">
              <a:off x="6427800" y="3829680"/>
              <a:ext cx="576000" cy="461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Rectangle 435"/>
            <p:cNvSpPr/>
            <p:nvPr/>
          </p:nvSpPr>
          <p:spPr>
            <a:xfrm rot="14359200">
              <a:off x="6390720" y="396756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Oval 436"/>
            <p:cNvSpPr/>
            <p:nvPr/>
          </p:nvSpPr>
          <p:spPr>
            <a:xfrm rot="8841600">
              <a:off x="6135480" y="3615120"/>
              <a:ext cx="524520" cy="485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Oval 437"/>
            <p:cNvSpPr/>
            <p:nvPr/>
          </p:nvSpPr>
          <p:spPr>
            <a:xfrm rot="8841600">
              <a:off x="6308640" y="3873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Rectangle 438"/>
            <p:cNvSpPr/>
            <p:nvPr/>
          </p:nvSpPr>
          <p:spPr>
            <a:xfrm rot="8841600">
              <a:off x="6356880" y="3869640"/>
              <a:ext cx="183600" cy="3675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439"/>
            <p:cNvSpPr/>
            <p:nvPr/>
          </p:nvSpPr>
          <p:spPr>
            <a:xfrm rot="8841600">
              <a:off x="6175440" y="3859920"/>
              <a:ext cx="513360" cy="4834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440"/>
            <p:cNvSpPr/>
            <p:nvPr/>
          </p:nvSpPr>
          <p:spPr>
            <a:xfrm rot="8841600">
              <a:off x="6196320" y="3864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Rectangle 441"/>
            <p:cNvSpPr/>
            <p:nvPr/>
          </p:nvSpPr>
          <p:spPr>
            <a:xfrm rot="8841600">
              <a:off x="6250680" y="3955320"/>
              <a:ext cx="181800" cy="369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1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4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2495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2496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9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2500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5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2506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0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2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2513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7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2518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0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2521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9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2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2543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673200" y="5275080"/>
            <a:ext cx="2498760" cy="1150200"/>
            <a:chOff x="673200" y="5275080"/>
            <a:chExt cx="2498760" cy="1150200"/>
          </a:xfrm>
        </p:grpSpPr>
        <p:sp>
          <p:nvSpPr>
            <p:cNvPr id="2554" name="Line 415"/>
            <p:cNvSpPr/>
            <p:nvPr/>
          </p:nvSpPr>
          <p:spPr>
            <a:xfrm flipV="1">
              <a:off x="2697120" y="5275080"/>
              <a:ext cx="474840" cy="29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5" name="Group 416"/>
            <p:cNvGrpSpPr/>
            <p:nvPr/>
          </p:nvGrpSpPr>
          <p:grpSpPr>
            <a:xfrm>
              <a:off x="1748880" y="5390640"/>
              <a:ext cx="958320" cy="1034640"/>
              <a:chOff x="1748880" y="5390640"/>
              <a:chExt cx="958320" cy="1034640"/>
            </a:xfrm>
          </p:grpSpPr>
          <p:sp>
            <p:nvSpPr>
              <p:cNvPr id="2556" name="AutoShape 417"/>
              <p:cNvSpPr/>
              <p:nvPr/>
            </p:nvSpPr>
            <p:spPr>
              <a:xfrm rot="16009200">
                <a:off x="2089080" y="583956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dc70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AutoShape 418"/>
              <p:cNvSpPr/>
              <p:nvPr/>
            </p:nvSpPr>
            <p:spPr>
              <a:xfrm flipH="1" rot="6720000">
                <a:off x="2134080" y="549000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AutoShape 419"/>
              <p:cNvSpPr/>
              <p:nvPr/>
            </p:nvSpPr>
            <p:spPr>
              <a:xfrm rot="18147000">
                <a:off x="1875960" y="5805720"/>
                <a:ext cx="45936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AutoShape 420"/>
              <p:cNvSpPr/>
              <p:nvPr/>
            </p:nvSpPr>
            <p:spPr>
              <a:xfrm rot="18316800">
                <a:off x="2086200" y="546084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0" name="Text Box 414"/>
            <p:cNvSpPr/>
            <p:nvPr/>
          </p:nvSpPr>
          <p:spPr>
            <a:xfrm>
              <a:off x="673200" y="587700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bozy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380880" y="1219320"/>
          <a:ext cx="8382240" cy="4574880"/>
        </p:xfrm>
        <a:graphic>
          <a:graphicData uri="http://schemas.openxmlformats.org/drawingml/2006/table">
            <a:tbl>
              <a:tblPr/>
              <a:tblGrid>
                <a:gridCol w="1641600"/>
                <a:gridCol w="1219320"/>
                <a:gridCol w="1287360"/>
                <a:gridCol w="1197000"/>
                <a:gridCol w="1012680"/>
                <a:gridCol w="919440"/>
                <a:gridCol w="1104840"/>
              </a:tblGrid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C</a:t>
                      </a:r>
                      <a:r>
                        <a:rPr b="1" lang="en-US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nM)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PD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.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3" name="Text Box 90"/>
          <p:cNvSpPr/>
          <p:nvPr/>
        </p:nvSpPr>
        <p:spPr>
          <a:xfrm>
            <a:off x="152280" y="6103800"/>
            <a:ext cx="8915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**Biochemical IC50 values were determined using slightly different methods between the studies and are not directly comparable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Adapted from Lee and Heymach, Clin Lung Ca 2006.  Wedge SR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62:4645-55, 2002; Mendel DB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lin 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9:327-37, 2003; Wilhelm SM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64:7099-109, 2004;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Hess-Stumpp ChemBioChem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200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5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7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4:47:49Z</dcterms:created>
  <dc:creator>Research To Practice</dc:creator>
  <dc:description/>
  <cp:keywords/>
  <dc:language>en-US</dc:language>
  <cp:lastModifiedBy>Mac Pro E703803Y4PC</cp:lastModifiedBy>
  <cp:lastPrinted>2011-02-11T17:41:10Z</cp:lastPrinted>
  <dcterms:modified xsi:type="dcterms:W3CDTF">2011-05-11T17:28:52Z</dcterms:modified>
  <cp:revision>383</cp:revision>
  <dc:subject/>
  <dc:title>PowerPoint Presentation</dc:title>
</cp:coreProperties>
</file>