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155C0F-287B-4589-ACCC-E25D7B1AE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F06A10-6728-4CEE-9652-C6DD710AA2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A9619C-9B6B-4937-B092-ECC3CC899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5CE99B-774D-4858-B2C9-D0E46234D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0DF717-D5C6-41D3-AABE-C3E0C01455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C1EBD7-57B9-4111-827D-0209ED57A4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AD83CE-6B2B-4435-A609-0187C6ED31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21741C-032C-4D06-8801-B79ADDCBC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8E5FB8-6D80-4718-80FA-48CB0D3B1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7917E5-5103-478C-85E2-B36CC3E2BA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9A08A5-ECDB-46B3-BCD6-390A94B135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0060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79BA-095E-47D0-959C-66C02089636E}" type="slidenum">
              <a:rPr b="0" lang="fr-FR" sz="1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B0C7D5-DA55-407B-B070-E8C9E60828C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307DF2-7A7D-44D7-A94A-84EC24B7C1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176238-B7B8-4BF2-8BAF-3D15BCA5CC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CB1C18-A9D1-410C-BBDE-FBEC834DD6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8D95DEC-5C17-4851-97B8-BA532BDB9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90060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0C15-8E06-4241-875A-9CDF158E1612}" type="slidenum">
              <a:rPr b="0" lang="fr-FR" sz="1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D31737-86A3-45D6-A477-F2CB42B5F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4A8-EAC1-4C68-87DB-C05271B5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070-0C2C-4DE1-8E93-B17BCAA2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2E9-4A03-437B-8231-F1DEF1FA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965-67DC-4930-A2A6-8620F18B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FA4-9A92-4AD6-B636-5D7321B6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D4A-462D-4BD8-9409-C83E9153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8C3-0463-48A0-8C77-87688505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8B4-ED30-454C-A1B1-6DA485C3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910-E43E-4C20-A92A-75EA19A1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47C-8AED-4248-9FBD-37D41766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FA6-8C5A-4FAD-8C72-E99D82E5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237-94BE-432E-94CB-72FDDB8D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109800" tIns="0" bIns="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33F7-E52C-4949-AB90-10AC95B737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9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Biomarkers of Response or Resistanc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to Chemotherapy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3428640"/>
            <a:ext cx="71625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Karen Kelly, M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Professor of Medicin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University of California, Davis, Sacramento, CA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304920" y="731880"/>
          <a:ext cx="8458200" cy="581832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1676160"/>
                <a:gridCol w="1371600"/>
                <a:gridCol w="1447920"/>
                <a:gridCol w="144792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h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# of p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thod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pons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ime to prog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verall survival (medi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azard rat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777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oto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6 (cis or carbo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36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low:  28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794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.8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9 mth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801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0.96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8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Azum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(46 carbo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IHC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+: 28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-: 29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.5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75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8.3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6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TIP: 137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147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OS: 1.65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2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6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ol arm:  39.3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notype arm: 51.2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19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1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2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79***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8) and 0.9***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59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Cepp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high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low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0.9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7.3 mth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32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3.43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3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her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 (13 cis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+ vs. ERCC1-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+ vs. ERCC1-: N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l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low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8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12 mth 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19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56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72 mth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60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60948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L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RT-PC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high: 37.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low: 52%  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5.1 m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5.4 mth (</a:t>
                      </a:r>
                      <a:r>
                        <a:rPr b="0" i="1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y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C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/C:  56.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/T: 35.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/T: 7.8%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2 m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240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00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4"/>
          <p:cNvSpPr/>
          <p:nvPr/>
        </p:nvSpPr>
        <p:spPr>
          <a:xfrm>
            <a:off x="329400" y="152280"/>
            <a:ext cx="816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RCC1 as a Predictive Marker: Cisplatin Regim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5385600" y="6581880"/>
            <a:ext cx="33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 et al. 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28600" y="1066680"/>
          <a:ext cx="8610480" cy="5072040"/>
        </p:xfrm>
        <a:graphic>
          <a:graphicData uri="http://schemas.openxmlformats.org/drawingml/2006/table">
            <a:tbl>
              <a:tblPr/>
              <a:tblGrid>
                <a:gridCol w="1143000"/>
                <a:gridCol w="533520"/>
                <a:gridCol w="914400"/>
                <a:gridCol w="2273040"/>
                <a:gridCol w="1116000"/>
                <a:gridCol w="1435320"/>
                <a:gridCol w="1195200"/>
              </a:tblGrid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# of p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thod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ponse ra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ime to progres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verall survival (media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azard rat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ot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6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36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3.8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0.96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low: 28%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79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9 mth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80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Azuma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7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IH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+: 28% 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.5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TIP: 137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14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-:  29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7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8.3  mth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6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OS: 1.65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63576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: 44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6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3.3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44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pler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inversely correlated with response magnitude (r=0.283, 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32) but not with classification according to Recist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3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</a:tbl>
          </a:graphicData>
        </a:graphic>
      </p:graphicFrame>
      <p:sp>
        <p:nvSpPr>
          <p:cNvPr id="280" name="TextBox 4"/>
          <p:cNvSpPr/>
          <p:nvPr/>
        </p:nvSpPr>
        <p:spPr>
          <a:xfrm>
            <a:off x="302760" y="380880"/>
            <a:ext cx="860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RCC1 as a Predictive Marker: Carboplatin Regim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5385600" y="6505560"/>
            <a:ext cx="33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 et al. 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2007 ERCC1 Subset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gression-Free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negative, 7.4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positive, 5.6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-value = 0.0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negative, 11.8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positive, 9.8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-value = 0.0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840" y="6324480"/>
            <a:ext cx="46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lmar AC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n Onc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21:1817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830600" y="38088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RM1: Mechanism of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RM1 and Patient Survival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after Gem/DD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w levels (&lt;1.5) of RRM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all survival 13.7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likely to respond to gemcitab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igh levels (&gt;1.5) of RRM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all survival 3.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likely to be resistant to gemcitab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8800" y="6261120"/>
            <a:ext cx="40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lin Cancer R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004;10:1318-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2280" y="1143000"/>
          <a:ext cx="8763120" cy="5232240"/>
        </p:xfrm>
        <a:graphic>
          <a:graphicData uri="http://schemas.openxmlformats.org/drawingml/2006/table">
            <a:tbl>
              <a:tblPr/>
              <a:tblGrid>
                <a:gridCol w="1067040"/>
                <a:gridCol w="533160"/>
                <a:gridCol w="1447920"/>
                <a:gridCol w="5715000"/>
              </a:tblGrid>
              <a:tr h="33732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a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at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din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increased PF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5) and O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2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, Gem+Cis+Vin, 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Vin then Vin+If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S and PFS are associated with RRM1 mRNA expression in Gem+Cis treated pt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09 and 0.020, respectivel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+surgery 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n+Carbo+sur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associated with reduced relative risk of dea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3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Do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 associated with increased O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2) an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F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 expression level associated with reduced tumor shrinkag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0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Pemetrex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s associated with improved clinical respons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&lt;0.00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 or Gem+C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s associated with increased O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3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 or 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s associated with improved response to treatment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1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Gem+Do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xpression not predictive al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TextBox 4"/>
          <p:cNvSpPr/>
          <p:nvPr/>
        </p:nvSpPr>
        <p:spPr>
          <a:xfrm>
            <a:off x="546480" y="38088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ies of RRM1 as a Predictive Ma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5107680" y="6505560"/>
            <a:ext cx="39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rdhelm LP et al. Lancet Oncology epub Dec 15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2280" y="1219320"/>
          <a:ext cx="8686800" cy="4825800"/>
        </p:xfrm>
        <a:graphic>
          <a:graphicData uri="http://schemas.openxmlformats.org/drawingml/2006/table">
            <a:tbl>
              <a:tblPr/>
              <a:tblGrid>
                <a:gridCol w="990720"/>
                <a:gridCol w="609480"/>
                <a:gridCol w="1295640"/>
                <a:gridCol w="5790960"/>
              </a:tblGrid>
              <a:tr h="41976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a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d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5580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Protein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Gem or 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o significant association with protein expression level and 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ein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, Gem+Carbo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V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 protein expression level is associated with reduced survival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2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580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association between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, Gem+Carbo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V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ssociation between genotypes of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-524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 an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ponse rat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39), but not 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580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ssociation between genotypes of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PF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4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is+Vin, Cis+Pacli, Cis+Gem, Cis+Pacli+Vin, Cis+Eto+If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ssociation between genotypes of -524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 and respons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46),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t not in Cis+Gem 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56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is+Do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association between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response, toxicity or survi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Box 4"/>
          <p:cNvSpPr/>
          <p:nvPr/>
        </p:nvSpPr>
        <p:spPr>
          <a:xfrm>
            <a:off x="546480" y="38088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ies of RRM1 as a Predictive Ma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6"/>
          <p:cNvSpPr/>
          <p:nvPr/>
        </p:nvSpPr>
        <p:spPr>
          <a:xfrm>
            <a:off x="5107680" y="6353280"/>
            <a:ext cx="39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rdhelm LP et al. Lancet Oncology epub Dec 15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21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Feasibility and Efficacy of Molecular Analysis-</a:t>
            </a:r>
            <a:br>
              <a:rPr sz="2700"/>
            </a:b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Directed Individualized Therapy for Advanced NSCL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38"/>
          <p:cNvSpPr/>
          <p:nvPr/>
        </p:nvSpPr>
        <p:spPr>
          <a:xfrm>
            <a:off x="6594120" y="6477120"/>
            <a:ext cx="23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 G et al. J Clin Oncol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987480" y="1822320"/>
            <a:ext cx="7205760" cy="4449960"/>
            <a:chOff x="987480" y="1822320"/>
            <a:chExt cx="7205760" cy="4449960"/>
          </a:xfrm>
        </p:grpSpPr>
        <p:sp>
          <p:nvSpPr>
            <p:cNvPr id="301" name="Line 24"/>
            <p:cNvSpPr/>
            <p:nvPr/>
          </p:nvSpPr>
          <p:spPr>
            <a:xfrm>
              <a:off x="4583160" y="2530080"/>
              <a:ext cx="1369080" cy="456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5"/>
            <p:cNvSpPr/>
            <p:nvPr/>
          </p:nvSpPr>
          <p:spPr>
            <a:xfrm flipH="1">
              <a:off x="3137400" y="2530080"/>
              <a:ext cx="1369080" cy="456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Rounded Rectangle 12"/>
            <p:cNvGrpSpPr/>
            <p:nvPr/>
          </p:nvGrpSpPr>
          <p:grpSpPr>
            <a:xfrm>
              <a:off x="4736520" y="5419080"/>
              <a:ext cx="1563840" cy="834840"/>
              <a:chOff x="4736520" y="5419080"/>
              <a:chExt cx="1563840" cy="834840"/>
            </a:xfrm>
          </p:grpSpPr>
          <p:pic>
            <p:nvPicPr>
              <p:cNvPr id="304" name="Rounded Rectangl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4736520" y="541908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4782240" y="546552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 +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ocetaxel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Rounded Rectangle 15"/>
            <p:cNvGrpSpPr/>
            <p:nvPr/>
          </p:nvGrpSpPr>
          <p:grpSpPr>
            <a:xfrm>
              <a:off x="987480" y="5412960"/>
              <a:ext cx="1563840" cy="834840"/>
              <a:chOff x="987480" y="5412960"/>
              <a:chExt cx="1563840" cy="834840"/>
            </a:xfrm>
          </p:grpSpPr>
          <p:pic>
            <p:nvPicPr>
              <p:cNvPr id="307" name="Rounded Rectangl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87480" y="541296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1036440" y="545868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ocetaxel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+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norelbine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Rounded Rectangle 16"/>
            <p:cNvGrpSpPr/>
            <p:nvPr/>
          </p:nvGrpSpPr>
          <p:grpSpPr>
            <a:xfrm>
              <a:off x="6629400" y="5437440"/>
              <a:ext cx="1563840" cy="834840"/>
              <a:chOff x="6629400" y="5437440"/>
              <a:chExt cx="1563840" cy="834840"/>
            </a:xfrm>
          </p:grpSpPr>
          <p:pic>
            <p:nvPicPr>
              <p:cNvPr id="310" name="Rounded Rectangl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629400" y="543744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6672600" y="548064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 + gemcitabine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Rounded Rectangle 17"/>
            <p:cNvGrpSpPr/>
            <p:nvPr/>
          </p:nvGrpSpPr>
          <p:grpSpPr>
            <a:xfrm>
              <a:off x="2873880" y="5406840"/>
              <a:ext cx="1563840" cy="834840"/>
              <a:chOff x="2873880" y="5406840"/>
              <a:chExt cx="1563840" cy="834840"/>
            </a:xfrm>
          </p:grpSpPr>
          <p:pic>
            <p:nvPicPr>
              <p:cNvPr id="313" name="Rounded 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873880" y="540684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2917800" y="545364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Gemcitabine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+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ocetaxel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Box 18"/>
            <p:cNvSpPr/>
            <p:nvPr/>
          </p:nvSpPr>
          <p:spPr>
            <a:xfrm>
              <a:off x="1970640" y="3947400"/>
              <a:ext cx="14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RRM1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express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Rounded Rectangle 20"/>
            <p:cNvGrpSpPr/>
            <p:nvPr/>
          </p:nvGrpSpPr>
          <p:grpSpPr>
            <a:xfrm>
              <a:off x="3360960" y="1822320"/>
              <a:ext cx="2385720" cy="560520"/>
              <a:chOff x="3360960" y="1822320"/>
              <a:chExt cx="2385720" cy="560520"/>
            </a:xfrm>
          </p:grpSpPr>
          <p:pic>
            <p:nvPicPr>
              <p:cNvPr id="317" name="Rounded 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3360960" y="1822320"/>
                <a:ext cx="238572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3392640" y="1854720"/>
                <a:ext cx="232020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expression (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mRNA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Rounded Rectangle 23"/>
            <p:cNvGrpSpPr/>
            <p:nvPr/>
          </p:nvGrpSpPr>
          <p:grpSpPr>
            <a:xfrm>
              <a:off x="1693440" y="3163320"/>
              <a:ext cx="2063160" cy="371520"/>
              <a:chOff x="1693440" y="3163320"/>
              <a:chExt cx="2063160" cy="371520"/>
            </a:xfrm>
          </p:grpSpPr>
          <p:pic>
            <p:nvPicPr>
              <p:cNvPr id="320" name="Rounded Rectangle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1693440" y="3163320"/>
                <a:ext cx="206316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1715040" y="3184200"/>
                <a:ext cx="201636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latinum withheld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Rounded Rectangle 24"/>
            <p:cNvGrpSpPr/>
            <p:nvPr/>
          </p:nvGrpSpPr>
          <p:grpSpPr>
            <a:xfrm>
              <a:off x="5186880" y="3151080"/>
              <a:ext cx="2568240" cy="377640"/>
              <a:chOff x="5186880" y="3151080"/>
              <a:chExt cx="2568240" cy="377640"/>
            </a:xfrm>
          </p:grpSpPr>
          <p:pic>
            <p:nvPicPr>
              <p:cNvPr id="323" name="Rounded 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86880" y="3151080"/>
                <a:ext cx="256824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5211720" y="3172320"/>
                <a:ext cx="252036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eatment with platinum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5" name="TextBox 25"/>
            <p:cNvSpPr/>
            <p:nvPr/>
          </p:nvSpPr>
          <p:spPr>
            <a:xfrm>
              <a:off x="5741280" y="3901680"/>
              <a:ext cx="14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RRM1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express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>
              <a:off x="2778840" y="432864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5"/>
            <p:cNvSpPr/>
            <p:nvPr/>
          </p:nvSpPr>
          <p:spPr>
            <a:xfrm flipH="1">
              <a:off x="1713240" y="432864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"/>
            <p:cNvSpPr/>
            <p:nvPr/>
          </p:nvSpPr>
          <p:spPr>
            <a:xfrm>
              <a:off x="6549480" y="425268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"/>
            <p:cNvSpPr/>
            <p:nvPr/>
          </p:nvSpPr>
          <p:spPr>
            <a:xfrm flipH="1">
              <a:off x="5484240" y="425268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Box 30"/>
            <p:cNvSpPr/>
            <p:nvPr/>
          </p:nvSpPr>
          <p:spPr>
            <a:xfrm>
              <a:off x="1445040" y="50382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Box 31"/>
            <p:cNvSpPr/>
            <p:nvPr/>
          </p:nvSpPr>
          <p:spPr>
            <a:xfrm>
              <a:off x="3366360" y="5038200"/>
              <a:ext cx="5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Box 32"/>
            <p:cNvSpPr/>
            <p:nvPr/>
          </p:nvSpPr>
          <p:spPr>
            <a:xfrm>
              <a:off x="5209560" y="503352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Box 33"/>
            <p:cNvSpPr/>
            <p:nvPr/>
          </p:nvSpPr>
          <p:spPr>
            <a:xfrm>
              <a:off x="7134120" y="5038200"/>
              <a:ext cx="5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Up Arrow 34"/>
            <p:cNvSpPr/>
            <p:nvPr/>
          </p:nvSpPr>
          <p:spPr>
            <a:xfrm>
              <a:off x="2519640" y="2682360"/>
              <a:ext cx="183600" cy="457200"/>
            </a:xfrm>
            <a:prstGeom prst="upArrow">
              <a:avLst>
                <a:gd name="adj1" fmla="val 50000"/>
                <a:gd name="adj2" fmla="val 50138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Up Arrow 35"/>
            <p:cNvSpPr/>
            <p:nvPr/>
          </p:nvSpPr>
          <p:spPr>
            <a:xfrm>
              <a:off x="2735280" y="2682360"/>
              <a:ext cx="182160" cy="457200"/>
            </a:xfrm>
            <a:prstGeom prst="upArrow">
              <a:avLst>
                <a:gd name="adj1" fmla="val 50000"/>
                <a:gd name="adj2" fmla="val 5010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Down Arrow 36"/>
            <p:cNvSpPr/>
            <p:nvPr/>
          </p:nvSpPr>
          <p:spPr>
            <a:xfrm>
              <a:off x="6256800" y="2675880"/>
              <a:ext cx="182160" cy="457200"/>
            </a:xfrm>
            <a:prstGeom prst="downArrow">
              <a:avLst>
                <a:gd name="adj1" fmla="val 50000"/>
                <a:gd name="adj2" fmla="val 5010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Down Arrow 37"/>
            <p:cNvSpPr/>
            <p:nvPr/>
          </p:nvSpPr>
          <p:spPr>
            <a:xfrm>
              <a:off x="6480360" y="2675880"/>
              <a:ext cx="182160" cy="457200"/>
            </a:xfrm>
            <a:prstGeom prst="downArrow">
              <a:avLst>
                <a:gd name="adj1" fmla="val 50000"/>
                <a:gd name="adj2" fmla="val 5010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2716200" y="3619800"/>
              <a:ext cx="0" cy="3654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5"/>
            <p:cNvSpPr/>
            <p:nvPr/>
          </p:nvSpPr>
          <p:spPr>
            <a:xfrm>
              <a:off x="6462000" y="3603600"/>
              <a:ext cx="0" cy="3654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DeI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R 44%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2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FS 6.6 months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4 mont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dian OS 13.3 months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10 mont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-year OS 59%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3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2040" y="629136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on G et al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21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Phase III ERCC1/RRM1 Directed Tri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in Advanced NSCL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40"/>
          <p:cNvGrpSpPr/>
          <p:nvPr/>
        </p:nvGrpSpPr>
        <p:grpSpPr>
          <a:xfrm>
            <a:off x="152280" y="1676520"/>
            <a:ext cx="8763120" cy="4440240"/>
            <a:chOff x="152280" y="1676520"/>
            <a:chExt cx="8763120" cy="4440240"/>
          </a:xfrm>
        </p:grpSpPr>
        <p:sp>
          <p:nvSpPr>
            <p:cNvPr id="345" name="Freeform 186"/>
            <p:cNvSpPr/>
            <p:nvPr/>
          </p:nvSpPr>
          <p:spPr>
            <a:xfrm>
              <a:off x="420120" y="2139480"/>
              <a:ext cx="339840" cy="2222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AutoShape 93"/>
            <p:cNvGrpSpPr/>
            <p:nvPr/>
          </p:nvGrpSpPr>
          <p:grpSpPr>
            <a:xfrm>
              <a:off x="5569920" y="2754360"/>
              <a:ext cx="3040920" cy="395640"/>
              <a:chOff x="5569920" y="2754360"/>
              <a:chExt cx="3040920" cy="395640"/>
            </a:xfrm>
          </p:grpSpPr>
          <p:pic>
            <p:nvPicPr>
              <p:cNvPr id="347" name="AutoShape 93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9920" y="2754360"/>
                <a:ext cx="304092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5631840" y="2818440"/>
                <a:ext cx="29199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Gemcitabine + Carboplatin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Line 198"/>
            <p:cNvSpPr/>
            <p:nvPr/>
          </p:nvSpPr>
          <p:spPr>
            <a:xfrm>
              <a:off x="5167080" y="291348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AutoShape 99"/>
            <p:cNvGrpSpPr/>
            <p:nvPr/>
          </p:nvGrpSpPr>
          <p:grpSpPr>
            <a:xfrm>
              <a:off x="3845160" y="3594960"/>
              <a:ext cx="1340640" cy="694080"/>
              <a:chOff x="3845160" y="3594960"/>
              <a:chExt cx="1340640" cy="694080"/>
            </a:xfrm>
          </p:grpSpPr>
          <p:pic>
            <p:nvPicPr>
              <p:cNvPr id="351" name="AutoShape 99" descr=""/>
              <p:cNvPicPr/>
              <p:nvPr/>
            </p:nvPicPr>
            <p:blipFill>
              <a:blip r:embed="rId2"/>
              <a:stretch/>
            </p:blipFill>
            <p:spPr>
              <a:xfrm>
                <a:off x="3845160" y="3594960"/>
                <a:ext cx="1340640" cy="69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3906000" y="3652560"/>
                <a:ext cx="1221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CC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AutoShape 100"/>
            <p:cNvGrpSpPr/>
            <p:nvPr/>
          </p:nvGrpSpPr>
          <p:grpSpPr>
            <a:xfrm>
              <a:off x="731160" y="3820320"/>
              <a:ext cx="2480040" cy="901440"/>
              <a:chOff x="731160" y="3820320"/>
              <a:chExt cx="2480040" cy="901440"/>
            </a:xfrm>
          </p:grpSpPr>
          <p:pic>
            <p:nvPicPr>
              <p:cNvPr id="354" name="AutoShape 10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160" y="3820320"/>
                <a:ext cx="248004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809640" y="3903480"/>
                <a:ext cx="232128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xperimental Ar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Customize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AutoShape 184"/>
            <p:cNvSpPr/>
            <p:nvPr/>
          </p:nvSpPr>
          <p:spPr>
            <a:xfrm>
              <a:off x="799560" y="1676520"/>
              <a:ext cx="2791440" cy="864360"/>
            </a:xfrm>
            <a:prstGeom prst="roundRect">
              <a:avLst>
                <a:gd name="adj" fmla="val 2876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  <a:ea typeface="ヒラギノ角ゴ Pro W3"/>
                </a:rPr>
                <a:t>Control A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  <a:ea typeface="ヒラギノ角ゴ Pro W3"/>
                </a:rPr>
                <a:t>Gemcitabine + Carboplati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AutoShape 185"/>
            <p:cNvGrpSpPr/>
            <p:nvPr/>
          </p:nvGrpSpPr>
          <p:grpSpPr>
            <a:xfrm>
              <a:off x="3784320" y="2663280"/>
              <a:ext cx="1340640" cy="700200"/>
              <a:chOff x="3784320" y="2663280"/>
              <a:chExt cx="1340640" cy="700200"/>
            </a:xfrm>
          </p:grpSpPr>
          <p:pic>
            <p:nvPicPr>
              <p:cNvPr id="358" name="AutoShape 185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4320" y="2663280"/>
                <a:ext cx="13406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3853800" y="2730240"/>
                <a:ext cx="120420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RC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60" name="Picture 201" descr="Rvert"/>
            <p:cNvPicPr/>
            <p:nvPr/>
          </p:nvPicPr>
          <p:blipFill>
            <a:blip r:embed="rId5"/>
            <a:stretch/>
          </p:blipFill>
          <p:spPr>
            <a:xfrm>
              <a:off x="152280" y="2838960"/>
              <a:ext cx="550080" cy="51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AutoShape 99"/>
            <p:cNvGrpSpPr/>
            <p:nvPr/>
          </p:nvGrpSpPr>
          <p:grpSpPr>
            <a:xfrm>
              <a:off x="3881880" y="4509000"/>
              <a:ext cx="1334520" cy="694080"/>
              <a:chOff x="3881880" y="4509000"/>
              <a:chExt cx="1334520" cy="694080"/>
            </a:xfrm>
          </p:grpSpPr>
          <p:pic>
            <p:nvPicPr>
              <p:cNvPr id="362" name="AutoShape 99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1880" y="4509000"/>
                <a:ext cx="1334520" cy="69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3937320" y="4566600"/>
                <a:ext cx="1221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CC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AutoShape 99"/>
            <p:cNvGrpSpPr/>
            <p:nvPr/>
          </p:nvGrpSpPr>
          <p:grpSpPr>
            <a:xfrm>
              <a:off x="3881880" y="5422680"/>
              <a:ext cx="1334520" cy="694080"/>
              <a:chOff x="3881880" y="5422680"/>
              <a:chExt cx="1334520" cy="694080"/>
            </a:xfrm>
          </p:grpSpPr>
          <p:pic>
            <p:nvPicPr>
              <p:cNvPr id="365" name="AutoShape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3881880" y="5422680"/>
                <a:ext cx="1334520" cy="69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3937320" y="5480280"/>
                <a:ext cx="1221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CC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3"/>
            <p:cNvGrpSpPr/>
            <p:nvPr/>
          </p:nvGrpSpPr>
          <p:grpSpPr>
            <a:xfrm>
              <a:off x="3427920" y="3067560"/>
              <a:ext cx="228240" cy="2741040"/>
              <a:chOff x="3427920" y="3067560"/>
              <a:chExt cx="228240" cy="2741040"/>
            </a:xfrm>
          </p:grpSpPr>
          <p:sp>
            <p:nvSpPr>
              <p:cNvPr id="368" name="Straight Connector 26"/>
              <p:cNvSpPr/>
              <p:nvPr/>
            </p:nvSpPr>
            <p:spPr>
              <a:xfrm>
                <a:off x="3427920" y="3067560"/>
                <a:ext cx="0" cy="2741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Straight Connector 28"/>
              <p:cNvSpPr/>
              <p:nvPr/>
            </p:nvSpPr>
            <p:spPr>
              <a:xfrm>
                <a:off x="3427920" y="306756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Straight Connector 29"/>
              <p:cNvSpPr/>
              <p:nvPr/>
            </p:nvSpPr>
            <p:spPr>
              <a:xfrm>
                <a:off x="3427920" y="398124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Straight Connector 30"/>
              <p:cNvSpPr/>
              <p:nvPr/>
            </p:nvSpPr>
            <p:spPr>
              <a:xfrm>
                <a:off x="3427920" y="489492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Straight Connector 32"/>
              <p:cNvSpPr/>
              <p:nvPr/>
            </p:nvSpPr>
            <p:spPr>
              <a:xfrm>
                <a:off x="3427920" y="580860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AutoShape 93"/>
            <p:cNvGrpSpPr/>
            <p:nvPr/>
          </p:nvGrpSpPr>
          <p:grpSpPr>
            <a:xfrm>
              <a:off x="5582160" y="3747240"/>
              <a:ext cx="3180960" cy="414000"/>
              <a:chOff x="5582160" y="3747240"/>
              <a:chExt cx="3180960" cy="414000"/>
            </a:xfrm>
          </p:grpSpPr>
          <p:pic>
            <p:nvPicPr>
              <p:cNvPr id="374" name="AutoShape 9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2160" y="3747240"/>
                <a:ext cx="318096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>
                <a:off x="5647320" y="3810960"/>
                <a:ext cx="30542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Gemcitabine + Docetaxel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Line 198"/>
            <p:cNvSpPr/>
            <p:nvPr/>
          </p:nvSpPr>
          <p:spPr>
            <a:xfrm>
              <a:off x="5179680" y="392256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AutoShape 93"/>
            <p:cNvGrpSpPr/>
            <p:nvPr/>
          </p:nvGrpSpPr>
          <p:grpSpPr>
            <a:xfrm>
              <a:off x="5661360" y="4661280"/>
              <a:ext cx="3254040" cy="414000"/>
              <a:chOff x="5661360" y="4661280"/>
              <a:chExt cx="3254040" cy="414000"/>
            </a:xfrm>
          </p:grpSpPr>
          <p:pic>
            <p:nvPicPr>
              <p:cNvPr id="378" name="AutoShape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5661360" y="4661280"/>
                <a:ext cx="325404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5723640" y="4725000"/>
                <a:ext cx="313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Docetaxel + Carboplatin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Line 198"/>
            <p:cNvSpPr/>
            <p:nvPr/>
          </p:nvSpPr>
          <p:spPr>
            <a:xfrm>
              <a:off x="5256000" y="483624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AutoShape 93"/>
            <p:cNvGrpSpPr/>
            <p:nvPr/>
          </p:nvGrpSpPr>
          <p:grpSpPr>
            <a:xfrm>
              <a:off x="5661360" y="5495760"/>
              <a:ext cx="3254040" cy="468720"/>
              <a:chOff x="5661360" y="5495760"/>
              <a:chExt cx="3254040" cy="468720"/>
            </a:xfrm>
          </p:grpSpPr>
          <p:pic>
            <p:nvPicPr>
              <p:cNvPr id="382" name="AutoShape 93" descr=""/>
              <p:cNvPicPr/>
              <p:nvPr/>
            </p:nvPicPr>
            <p:blipFill>
              <a:blip r:embed="rId10"/>
              <a:stretch/>
            </p:blipFill>
            <p:spPr>
              <a:xfrm>
                <a:off x="5661360" y="5495760"/>
                <a:ext cx="3254040" cy="46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5731920" y="5571000"/>
                <a:ext cx="31136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Docetaxel + Vinorelbin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98"/>
            <p:cNvSpPr/>
            <p:nvPr/>
          </p:nvSpPr>
          <p:spPr>
            <a:xfrm>
              <a:off x="5256000" y="573084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420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Predictive Markers for Adjuvant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47480" y="3076560"/>
            <a:ext cx="2457720" cy="1008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fic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st a Mar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5724360" y="134136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5724360" y="1917720"/>
            <a:ext cx="1872000" cy="71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5724360" y="1917720"/>
            <a:ext cx="18720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 rot="16200000">
            <a:off x="4921920" y="217800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v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577920" y="1517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54600" y="2133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-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440040" y="33433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724360" y="3357720"/>
            <a:ext cx="201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666600" y="2263680"/>
            <a:ext cx="159660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T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724360" y="430056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5724360" y="4876920"/>
            <a:ext cx="1872000" cy="100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5724360" y="487692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 rot="16200000">
            <a:off x="4921920" y="513720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v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6577920" y="447660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6951240" y="52434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-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6440040" y="63025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724360" y="6323040"/>
            <a:ext cx="201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3878640" y="5229360"/>
            <a:ext cx="110124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3"/>
          <p:cNvSpPr/>
          <p:nvPr/>
        </p:nvSpPr>
        <p:spPr>
          <a:xfrm>
            <a:off x="2914560" y="3284640"/>
            <a:ext cx="36504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 Narrow"/>
              </a:rPr>
              <a:t>DNA Synthesis &amp; Repair Genes RRM1 and ERCC1 in Lung Cancer (N = 187)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457200" y="1981080"/>
            <a:ext cx="8064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Automated quantitative determination of RRM1, ERCC1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&amp; P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RRM1 &amp; ERCC1 determinants of survival after surgical treatment  in early stage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248520" y="64310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Zheng Z et al. NEJM 356:800-8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Text Box 3"/>
          <p:cNvGrpSpPr/>
          <p:nvPr/>
        </p:nvGrpSpPr>
        <p:grpSpPr>
          <a:xfrm>
            <a:off x="231840" y="1432080"/>
            <a:ext cx="1882800" cy="3998880"/>
            <a:chOff x="231840" y="1432080"/>
            <a:chExt cx="1882800" cy="3998880"/>
          </a:xfrm>
        </p:grpSpPr>
        <p:pic>
          <p:nvPicPr>
            <p:cNvPr id="389" name="Text Box 3" descr=""/>
            <p:cNvPicPr/>
            <p:nvPr/>
          </p:nvPicPr>
          <p:blipFill>
            <a:blip r:embed="rId1"/>
            <a:stretch/>
          </p:blipFill>
          <p:spPr>
            <a:xfrm>
              <a:off x="231840" y="1432080"/>
              <a:ext cx="188280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0280" y="1472040"/>
              <a:ext cx="1828800" cy="391536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SCL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ge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T1(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&gt;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c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T2N0M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0 resec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S 0-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=5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Text Box 4"/>
          <p:cNvGrpSpPr/>
          <p:nvPr/>
        </p:nvGrpSpPr>
        <p:grpSpPr>
          <a:xfrm>
            <a:off x="6016680" y="1438200"/>
            <a:ext cx="2590920" cy="2925720"/>
            <a:chOff x="6016680" y="1438200"/>
            <a:chExt cx="2590920" cy="2925720"/>
          </a:xfrm>
        </p:grpSpPr>
        <p:pic>
          <p:nvPicPr>
            <p:cNvPr id="392" name="Text Box 4" descr=""/>
            <p:cNvPicPr/>
            <p:nvPr/>
          </p:nvPicPr>
          <p:blipFill>
            <a:blip r:embed="rId2"/>
            <a:stretch/>
          </p:blipFill>
          <p:spPr>
            <a:xfrm>
              <a:off x="6016680" y="1438200"/>
              <a:ext cx="259092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039000" y="1465200"/>
              <a:ext cx="2539800" cy="287316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Assig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-Gemcitabin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V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Text Box 5"/>
          <p:cNvGrpSpPr/>
          <p:nvPr/>
        </p:nvGrpSpPr>
        <p:grpSpPr>
          <a:xfrm>
            <a:off x="3346560" y="2408400"/>
            <a:ext cx="1401480" cy="438120"/>
            <a:chOff x="3346560" y="2408400"/>
            <a:chExt cx="1401480" cy="438120"/>
          </a:xfrm>
        </p:grpSpPr>
        <p:pic>
          <p:nvPicPr>
            <p:cNvPr id="395" name="Text Box 5" descr=""/>
            <p:cNvPicPr/>
            <p:nvPr/>
          </p:nvPicPr>
          <p:blipFill>
            <a:blip r:embed="rId3"/>
            <a:stretch/>
          </p:blipFill>
          <p:spPr>
            <a:xfrm>
              <a:off x="3346560" y="2408400"/>
              <a:ext cx="14014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371760" y="2435400"/>
              <a:ext cx="1349640" cy="38340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rge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Line 6"/>
          <p:cNvSpPr/>
          <p:nvPr/>
        </p:nvSpPr>
        <p:spPr>
          <a:xfrm>
            <a:off x="4067280" y="305100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Text Box 7"/>
          <p:cNvGrpSpPr/>
          <p:nvPr/>
        </p:nvGrpSpPr>
        <p:grpSpPr>
          <a:xfrm>
            <a:off x="3249720" y="3328920"/>
            <a:ext cx="1719000" cy="730440"/>
            <a:chOff x="3249720" y="3328920"/>
            <a:chExt cx="1719000" cy="730440"/>
          </a:xfrm>
        </p:grpSpPr>
        <p:pic>
          <p:nvPicPr>
            <p:cNvPr id="399" name="Text Box 7" descr=""/>
            <p:cNvPicPr/>
            <p:nvPr/>
          </p:nvPicPr>
          <p:blipFill>
            <a:blip r:embed="rId4"/>
            <a:stretch/>
          </p:blipFill>
          <p:spPr>
            <a:xfrm>
              <a:off x="3249720" y="3328920"/>
              <a:ext cx="1719000" cy="7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276720" y="3355920"/>
              <a:ext cx="1668240" cy="67284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ecimen Col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Text Box 8"/>
          <p:cNvGrpSpPr/>
          <p:nvPr/>
        </p:nvGrpSpPr>
        <p:grpSpPr>
          <a:xfrm>
            <a:off x="2944800" y="4614840"/>
            <a:ext cx="2163600" cy="725400"/>
            <a:chOff x="2944800" y="4614840"/>
            <a:chExt cx="2163600" cy="725400"/>
          </a:xfrm>
        </p:grpSpPr>
        <p:pic>
          <p:nvPicPr>
            <p:cNvPr id="402" name="Text Box 8" descr=""/>
            <p:cNvPicPr/>
            <p:nvPr/>
          </p:nvPicPr>
          <p:blipFill>
            <a:blip r:embed="rId5"/>
            <a:stretch/>
          </p:blipFill>
          <p:spPr>
            <a:xfrm>
              <a:off x="2944800" y="4614840"/>
              <a:ext cx="2163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968560" y="4638600"/>
              <a:ext cx="2113200" cy="67284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CC1 &amp; RRM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UA test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Text Box 9"/>
          <p:cNvGrpSpPr/>
          <p:nvPr/>
        </p:nvGrpSpPr>
        <p:grpSpPr>
          <a:xfrm>
            <a:off x="3108240" y="1494000"/>
            <a:ext cx="1927440" cy="438120"/>
            <a:chOff x="3108240" y="1494000"/>
            <a:chExt cx="1927440" cy="438120"/>
          </a:xfrm>
        </p:grpSpPr>
        <p:pic>
          <p:nvPicPr>
            <p:cNvPr id="405" name="Text Box 9" descr=""/>
            <p:cNvPicPr/>
            <p:nvPr/>
          </p:nvPicPr>
          <p:blipFill>
            <a:blip r:embed="rId6"/>
            <a:stretch/>
          </p:blipFill>
          <p:spPr>
            <a:xfrm>
              <a:off x="3108240" y="1494000"/>
              <a:ext cx="19274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133800" y="1521000"/>
              <a:ext cx="1876320" cy="38340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rollmen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Line 10"/>
          <p:cNvSpPr/>
          <p:nvPr/>
        </p:nvSpPr>
        <p:spPr>
          <a:xfrm>
            <a:off x="4038480" y="206064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1"/>
          <p:cNvSpPr/>
          <p:nvPr/>
        </p:nvSpPr>
        <p:spPr>
          <a:xfrm>
            <a:off x="4067280" y="42703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811600" y="1374840"/>
            <a:ext cx="2438280" cy="426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  <a:ea typeface="Arial"/>
              </a:rPr>
              <a:t>S0720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: Biomarker-Directed Adjuvant Therap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of Stage I NSC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3124080" y="5638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RCC1: Excision Repair Cross-Complementing Group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RM1:  Ribonucleotide Reductase M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7"/>
          <p:cNvSpPr/>
          <p:nvPr/>
        </p:nvSpPr>
        <p:spPr>
          <a:xfrm rot="16200000">
            <a:off x="2384280" y="2612520"/>
            <a:ext cx="149400" cy="606600"/>
          </a:xfrm>
          <a:prstGeom prst="downArrow">
            <a:avLst>
              <a:gd name="adj1" fmla="val 50000"/>
              <a:gd name="adj2" fmla="val 101506"/>
            </a:avLst>
          </a:prstGeom>
          <a:solidFill>
            <a:srgbClr val="66ff33"/>
          </a:solid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8"/>
          <p:cNvSpPr/>
          <p:nvPr/>
        </p:nvSpPr>
        <p:spPr>
          <a:xfrm rot="16200000">
            <a:off x="5557680" y="2590560"/>
            <a:ext cx="149040" cy="606600"/>
          </a:xfrm>
          <a:prstGeom prst="downArrow">
            <a:avLst>
              <a:gd name="adj1" fmla="val 50000"/>
              <a:gd name="adj2" fmla="val 101751"/>
            </a:avLst>
          </a:prstGeom>
          <a:solidFill>
            <a:srgbClr val="66ff33"/>
          </a:solid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4267080" y="643104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Zheng, Bepler. NEJM 2007 (Moffitt SPORE); Simon. JCO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590400" y="2162160"/>
          <a:ext cx="7831440" cy="3081240"/>
        </p:xfrm>
        <a:graphic>
          <a:graphicData uri="http://schemas.openxmlformats.org/drawingml/2006/table">
            <a:tbl>
              <a:tblPr/>
              <a:tblGrid>
                <a:gridCol w="3654720"/>
                <a:gridCol w="417672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RM1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4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RCC1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66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tive Monito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l Other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RRM1&lt; 40.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RCC1 &lt; 66.0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isplatin-Gemcitab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16" name="AutoShape 10"/>
          <p:cNvSpPr/>
          <p:nvPr/>
        </p:nvSpPr>
        <p:spPr>
          <a:xfrm>
            <a:off x="2209680" y="3733920"/>
            <a:ext cx="160560" cy="900000"/>
          </a:xfrm>
          <a:prstGeom prst="downArrow">
            <a:avLst>
              <a:gd name="adj1" fmla="val 50000"/>
              <a:gd name="adj2" fmla="val 140135"/>
            </a:avLst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1"/>
          <p:cNvSpPr/>
          <p:nvPr/>
        </p:nvSpPr>
        <p:spPr>
          <a:xfrm>
            <a:off x="6095880" y="3733920"/>
            <a:ext cx="160560" cy="900000"/>
          </a:xfrm>
          <a:prstGeom prst="downArrow">
            <a:avLst>
              <a:gd name="adj1" fmla="val 50000"/>
              <a:gd name="adj2" fmla="val 140135"/>
            </a:avLst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S0720: Pharmacogenomic-Directed Adjuvant Therapy of NSCLC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439560" y="1600200"/>
            <a:ext cx="8128080" cy="58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008000" y="6035760"/>
            <a:ext cx="69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imary Endpoint: Feasibility measured as % of patients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hom treatment assignment can be made (&gt;75% = suc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153440" y="533412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Prognos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benefit from Ch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5109480" y="53341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Prognos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benefit from Ch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6"/>
          <p:cNvSpPr/>
          <p:nvPr/>
        </p:nvSpPr>
        <p:spPr>
          <a:xfrm>
            <a:off x="7632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09480" y="2057400"/>
          <a:ext cx="8001000" cy="258444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H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Q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-P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 intens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r vari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/quant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duci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Summary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304920" y="1523880"/>
            <a:ext cx="862812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16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C1 and RRM1 expression levels are promi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ive biomarkers for cisplatin and gemcitabine effica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15000"/>
              </a:lnSpc>
              <a:spcBef>
                <a:spcPts val="16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the results from validated studies become available,  ERCC1 and RRM1 are experimental tools and should no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used in routine clinical prac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4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RCC1: Mechanism of 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914400" y="1295280"/>
            <a:ext cx="7315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. DNA strand bre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. Recruitment of  DNA  repair protei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3. DNA unwin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4. Continued recruitment of repair proteins, including ERCC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5. Double incis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6. Excis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7. Filling in the gap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709600" y="6477120"/>
            <a:ext cx="329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et al.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 Narrow"/>
              </a:rPr>
              <a:t>ERCC1 Protein Expression Is a Predictive Marker for Adjuvant Cisplatin Chemotherapy in IALT</a:t>
            </a:r>
            <a:endParaRPr b="0" lang="en-US" sz="31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71800" y="15238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ect of adjuvant chemo on survival in patients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RCC1 nega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um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971800" y="411480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ect of adjuvant chemo on survival in patients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RCC1 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um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00400" y="5410080"/>
            <a:ext cx="30481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djusted HR = 1.14, 95%CI [0.84-1.55]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40</a:t>
            </a:r>
            <a:r>
              <a:rPr b="0" lang="fr-FR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124080" y="2743200"/>
            <a:ext cx="3124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djusted HR = 0.65, 95%CI [0.50-0.86]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002</a:t>
            </a:r>
            <a:r>
              <a:rPr b="0" lang="fr-FR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59360" y="632448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laussen. NEJM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1371600"/>
          <a:ext cx="8686800" cy="47322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1066680"/>
                <a:gridCol w="1752480"/>
                <a:gridCol w="1447920"/>
                <a:gridCol w="1219320"/>
                <a:gridCol w="106668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# of p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ho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me to progre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verall survival (media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zard rat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9158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wa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H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+: 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-: 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8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 m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1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5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.1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0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j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 (c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H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+:  42.9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-: 100% 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1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.5 m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4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4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9 m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5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91620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Kon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RT-PC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ERCC1 high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ERCC1 low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66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42.75 (</a:t>
                      </a:r>
                      <a:r>
                        <a:rPr b="0" i="1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=0.05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lausse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9 (c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H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+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-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=0.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4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5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0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4"/>
          <p:cNvSpPr/>
          <p:nvPr/>
        </p:nvSpPr>
        <p:spPr>
          <a:xfrm>
            <a:off x="474840" y="304920"/>
            <a:ext cx="78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CC1 as predictive marker in adjuv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platin- or carboplatin-based che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385600" y="6477120"/>
            <a:ext cx="33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 et al. 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  <a:ea typeface="Arial"/>
              </a:rPr>
              <a:t>ITACA: International Tailored Adjuvant Chemotherapy Trial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1" name="Text Box 49"/>
          <p:cNvSpPr/>
          <p:nvPr/>
        </p:nvSpPr>
        <p:spPr>
          <a:xfrm>
            <a:off x="468360" y="6275520"/>
            <a:ext cx="8351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  <a:ea typeface="Arial"/>
              </a:rPr>
              <a:t>* Control arm – Investigator choice of a DDP-based double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6"/>
          <p:cNvGrpSpPr/>
          <p:nvPr/>
        </p:nvGrpSpPr>
        <p:grpSpPr>
          <a:xfrm>
            <a:off x="642960" y="1214280"/>
            <a:ext cx="7674120" cy="4845600"/>
            <a:chOff x="642960" y="1214280"/>
            <a:chExt cx="7674120" cy="4845600"/>
          </a:xfrm>
        </p:grpSpPr>
        <p:sp>
          <p:nvSpPr>
            <p:cNvPr id="163" name="Text Box 3"/>
            <p:cNvSpPr/>
            <p:nvPr/>
          </p:nvSpPr>
          <p:spPr>
            <a:xfrm>
              <a:off x="642960" y="352260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CC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4"/>
            <p:cNvSpPr/>
            <p:nvPr/>
          </p:nvSpPr>
          <p:spPr>
            <a:xfrm>
              <a:off x="1697400" y="2946600"/>
              <a:ext cx="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1762200" y="2808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769040" y="4175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2803320" y="222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2798640" y="47530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3325680" y="1728720"/>
              <a:ext cx="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3425040" y="2943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1"/>
            <p:cNvSpPr/>
            <p:nvPr/>
          </p:nvSpPr>
          <p:spPr>
            <a:xfrm>
              <a:off x="3325680" y="4110480"/>
              <a:ext cx="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3425040" y="5324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3433320" y="159516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4"/>
            <p:cNvSpPr/>
            <p:nvPr/>
          </p:nvSpPr>
          <p:spPr>
            <a:xfrm>
              <a:off x="3418920" y="398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>
              <a:off x="4212000" y="1800000"/>
              <a:ext cx="2876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>
              <a:off x="4214880" y="3095640"/>
              <a:ext cx="284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>
              <a:off x="4212000" y="4255200"/>
              <a:ext cx="2876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4214880" y="5550840"/>
              <a:ext cx="284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4589640" y="1618920"/>
              <a:ext cx="12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0"/>
            <p:cNvSpPr/>
            <p:nvPr/>
          </p:nvSpPr>
          <p:spPr>
            <a:xfrm>
              <a:off x="4600440" y="29113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21"/>
            <p:cNvSpPr/>
            <p:nvPr/>
          </p:nvSpPr>
          <p:spPr>
            <a:xfrm>
              <a:off x="4600440" y="40705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22"/>
            <p:cNvSpPr/>
            <p:nvPr/>
          </p:nvSpPr>
          <p:spPr>
            <a:xfrm>
              <a:off x="4600440" y="53708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 flipV="1">
              <a:off x="5770080" y="139032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4"/>
            <p:cNvSpPr/>
            <p:nvPr/>
          </p:nvSpPr>
          <p:spPr>
            <a:xfrm>
              <a:off x="5769360" y="175860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1"/>
            <p:cNvSpPr/>
            <p:nvPr/>
          </p:nvSpPr>
          <p:spPr>
            <a:xfrm>
              <a:off x="6226560" y="1214280"/>
              <a:ext cx="173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Taxa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32"/>
            <p:cNvSpPr/>
            <p:nvPr/>
          </p:nvSpPr>
          <p:spPr>
            <a:xfrm>
              <a:off x="6239160" y="236664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Pemetrex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6237720" y="366876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Cis/G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4"/>
            <p:cNvSpPr/>
            <p:nvPr/>
          </p:nvSpPr>
          <p:spPr>
            <a:xfrm>
              <a:off x="6238080" y="50230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Cis/P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35"/>
            <p:cNvSpPr/>
            <p:nvPr/>
          </p:nvSpPr>
          <p:spPr>
            <a:xfrm>
              <a:off x="6221520" y="19382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6"/>
            <p:cNvSpPr/>
            <p:nvPr/>
          </p:nvSpPr>
          <p:spPr>
            <a:xfrm>
              <a:off x="6228000" y="30798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7"/>
            <p:cNvSpPr/>
            <p:nvPr/>
          </p:nvSpPr>
          <p:spPr>
            <a:xfrm>
              <a:off x="6240600" y="44611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8"/>
            <p:cNvSpPr/>
            <p:nvPr/>
          </p:nvSpPr>
          <p:spPr>
            <a:xfrm>
              <a:off x="6240600" y="56916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9"/>
            <p:cNvSpPr/>
            <p:nvPr/>
          </p:nvSpPr>
          <p:spPr>
            <a:xfrm>
              <a:off x="7618680" y="2085840"/>
              <a:ext cx="359640" cy="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0"/>
            <p:cNvSpPr/>
            <p:nvPr/>
          </p:nvSpPr>
          <p:spPr>
            <a:xfrm>
              <a:off x="7965000" y="2072160"/>
              <a:ext cx="0" cy="3841200"/>
            </a:xfrm>
            <a:prstGeom prst="line">
              <a:avLst/>
            </a:prstGeom>
            <a:ln w="381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>
              <a:off x="7605000" y="5880600"/>
              <a:ext cx="359640" cy="0"/>
            </a:xfrm>
            <a:prstGeom prst="line">
              <a:avLst/>
            </a:prstGeom>
            <a:ln w="381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7813440" y="1433160"/>
              <a:ext cx="50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43"/>
            <p:cNvSpPr/>
            <p:nvPr/>
          </p:nvSpPr>
          <p:spPr>
            <a:xfrm>
              <a:off x="8317080" y="1433160"/>
              <a:ext cx="0" cy="3749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4"/>
            <p:cNvSpPr/>
            <p:nvPr/>
          </p:nvSpPr>
          <p:spPr>
            <a:xfrm>
              <a:off x="7813440" y="5173560"/>
              <a:ext cx="50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5"/>
            <p:cNvSpPr/>
            <p:nvPr/>
          </p:nvSpPr>
          <p:spPr>
            <a:xfrm>
              <a:off x="7813440" y="2558880"/>
              <a:ext cx="50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6"/>
            <p:cNvSpPr/>
            <p:nvPr/>
          </p:nvSpPr>
          <p:spPr>
            <a:xfrm>
              <a:off x="7813440" y="3853800"/>
              <a:ext cx="50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7"/>
            <p:cNvSpPr/>
            <p:nvPr/>
          </p:nvSpPr>
          <p:spPr>
            <a:xfrm>
              <a:off x="7605000" y="3288600"/>
              <a:ext cx="359640" cy="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8"/>
            <p:cNvSpPr/>
            <p:nvPr/>
          </p:nvSpPr>
          <p:spPr>
            <a:xfrm>
              <a:off x="7605000" y="4659480"/>
              <a:ext cx="359640" cy="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3"/>
            <p:cNvSpPr/>
            <p:nvPr/>
          </p:nvSpPr>
          <p:spPr>
            <a:xfrm flipV="1">
              <a:off x="5772240" y="257832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4"/>
            <p:cNvSpPr/>
            <p:nvPr/>
          </p:nvSpPr>
          <p:spPr>
            <a:xfrm>
              <a:off x="5771880" y="294660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23"/>
            <p:cNvSpPr/>
            <p:nvPr/>
          </p:nvSpPr>
          <p:spPr>
            <a:xfrm flipV="1">
              <a:off x="5779800" y="387288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4"/>
            <p:cNvSpPr/>
            <p:nvPr/>
          </p:nvSpPr>
          <p:spPr>
            <a:xfrm>
              <a:off x="5779440" y="424116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3"/>
            <p:cNvSpPr/>
            <p:nvPr/>
          </p:nvSpPr>
          <p:spPr>
            <a:xfrm flipV="1">
              <a:off x="5774040" y="516636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4"/>
            <p:cNvSpPr/>
            <p:nvPr/>
          </p:nvSpPr>
          <p:spPr>
            <a:xfrm>
              <a:off x="5773680" y="553464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99"/>
          <p:cNvSpPr/>
          <p:nvPr/>
        </p:nvSpPr>
        <p:spPr>
          <a:xfrm>
            <a:off x="152280" y="2111400"/>
            <a:ext cx="8844120" cy="37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186"/>
          <p:cNvSpPr/>
          <p:nvPr/>
        </p:nvSpPr>
        <p:spPr>
          <a:xfrm>
            <a:off x="420840" y="2638440"/>
            <a:ext cx="339480" cy="151920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AutoShape 93"/>
          <p:cNvGrpSpPr/>
          <p:nvPr/>
        </p:nvGrpSpPr>
        <p:grpSpPr>
          <a:xfrm>
            <a:off x="5052960" y="3179880"/>
            <a:ext cx="2281320" cy="414360"/>
            <a:chOff x="5052960" y="3179880"/>
            <a:chExt cx="2281320" cy="414360"/>
          </a:xfrm>
        </p:grpSpPr>
        <p:pic>
          <p:nvPicPr>
            <p:cNvPr id="212" name="AutoShape 93" descr=""/>
            <p:cNvPicPr/>
            <p:nvPr/>
          </p:nvPicPr>
          <p:blipFill>
            <a:blip r:embed="rId1"/>
            <a:stretch/>
          </p:blipFill>
          <p:spPr>
            <a:xfrm>
              <a:off x="5052960" y="3179880"/>
              <a:ext cx="22813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116680" y="3245040"/>
              <a:ext cx="2152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rlotinib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AutoShape 94"/>
          <p:cNvGrpSpPr/>
          <p:nvPr/>
        </p:nvGrpSpPr>
        <p:grpSpPr>
          <a:xfrm>
            <a:off x="6450120" y="5349960"/>
            <a:ext cx="2286000" cy="407880"/>
            <a:chOff x="6450120" y="5349960"/>
            <a:chExt cx="2286000" cy="407880"/>
          </a:xfrm>
        </p:grpSpPr>
        <p:pic>
          <p:nvPicPr>
            <p:cNvPr id="215" name="AutoShape 94" descr=""/>
            <p:cNvPicPr/>
            <p:nvPr/>
          </p:nvPicPr>
          <p:blipFill>
            <a:blip r:embed="rId2"/>
            <a:stretch/>
          </p:blipFill>
          <p:spPr>
            <a:xfrm>
              <a:off x="6450120" y="5349960"/>
              <a:ext cx="228600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515280" y="5413680"/>
              <a:ext cx="21538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CDDP-Pemetrexe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AutoShape 95"/>
          <p:cNvGrpSpPr/>
          <p:nvPr/>
        </p:nvGrpSpPr>
        <p:grpSpPr>
          <a:xfrm>
            <a:off x="6394320" y="3935520"/>
            <a:ext cx="2279880" cy="409320"/>
            <a:chOff x="6394320" y="3935520"/>
            <a:chExt cx="2279880" cy="409320"/>
          </a:xfrm>
        </p:grpSpPr>
        <p:pic>
          <p:nvPicPr>
            <p:cNvPr id="218" name="AutoShape 95" descr=""/>
            <p:cNvPicPr/>
            <p:nvPr/>
          </p:nvPicPr>
          <p:blipFill>
            <a:blip r:embed="rId3"/>
            <a:stretch/>
          </p:blipFill>
          <p:spPr>
            <a:xfrm>
              <a:off x="6394320" y="3935520"/>
              <a:ext cx="227988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459480" y="3998520"/>
              <a:ext cx="215280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Observ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Line 196"/>
          <p:cNvSpPr/>
          <p:nvPr/>
        </p:nvSpPr>
        <p:spPr>
          <a:xfrm>
            <a:off x="6048360" y="556092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97"/>
          <p:cNvSpPr/>
          <p:nvPr/>
        </p:nvSpPr>
        <p:spPr>
          <a:xfrm>
            <a:off x="5943600" y="41338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98"/>
          <p:cNvSpPr/>
          <p:nvPr/>
        </p:nvSpPr>
        <p:spPr>
          <a:xfrm>
            <a:off x="4648320" y="341316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195"/>
          <p:cNvSpPr/>
          <p:nvPr/>
        </p:nvSpPr>
        <p:spPr>
          <a:xfrm>
            <a:off x="4422600" y="4129200"/>
            <a:ext cx="366840" cy="142380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193"/>
          <p:cNvSpPr/>
          <p:nvPr/>
        </p:nvSpPr>
        <p:spPr>
          <a:xfrm>
            <a:off x="2836800" y="3500280"/>
            <a:ext cx="366840" cy="13240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AutoShape 97"/>
          <p:cNvGrpSpPr/>
          <p:nvPr/>
        </p:nvGrpSpPr>
        <p:grpSpPr>
          <a:xfrm>
            <a:off x="4834080" y="5349960"/>
            <a:ext cx="1298520" cy="414360"/>
            <a:chOff x="4834080" y="5349960"/>
            <a:chExt cx="1298520" cy="414360"/>
          </a:xfrm>
        </p:grpSpPr>
        <p:pic>
          <p:nvPicPr>
            <p:cNvPr id="226" name="AutoShape 97" descr=""/>
            <p:cNvPicPr/>
            <p:nvPr/>
          </p:nvPicPr>
          <p:blipFill>
            <a:blip r:embed="rId4"/>
            <a:stretch/>
          </p:blipFill>
          <p:spPr>
            <a:xfrm>
              <a:off x="4834080" y="5349960"/>
              <a:ext cx="1298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896000" y="5416560"/>
              <a:ext cx="11746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RCC1-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AutoShape 98"/>
          <p:cNvGrpSpPr/>
          <p:nvPr/>
        </p:nvGrpSpPr>
        <p:grpSpPr>
          <a:xfrm>
            <a:off x="4821120" y="3935520"/>
            <a:ext cx="1305000" cy="409320"/>
            <a:chOff x="4821120" y="3935520"/>
            <a:chExt cx="1305000" cy="409320"/>
          </a:xfrm>
        </p:grpSpPr>
        <p:pic>
          <p:nvPicPr>
            <p:cNvPr id="229" name="AutoShape 98" descr=""/>
            <p:cNvPicPr/>
            <p:nvPr/>
          </p:nvPicPr>
          <p:blipFill>
            <a:blip r:embed="rId5"/>
            <a:stretch/>
          </p:blipFill>
          <p:spPr>
            <a:xfrm>
              <a:off x="4821120" y="3935520"/>
              <a:ext cx="130500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889520" y="3998520"/>
              <a:ext cx="11732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RCC1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AutoShape 99"/>
          <p:cNvGrpSpPr/>
          <p:nvPr/>
        </p:nvGrpSpPr>
        <p:grpSpPr>
          <a:xfrm>
            <a:off x="3267000" y="4478400"/>
            <a:ext cx="1341360" cy="695160"/>
            <a:chOff x="3267000" y="4478400"/>
            <a:chExt cx="1341360" cy="695160"/>
          </a:xfrm>
        </p:grpSpPr>
        <p:pic>
          <p:nvPicPr>
            <p:cNvPr id="232" name="AutoShape 99" descr=""/>
            <p:cNvPicPr/>
            <p:nvPr/>
          </p:nvPicPr>
          <p:blipFill>
            <a:blip r:embed="rId6"/>
            <a:stretch/>
          </p:blipFill>
          <p:spPr>
            <a:xfrm>
              <a:off x="3267000" y="4478400"/>
              <a:ext cx="1341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325680" y="4535280"/>
              <a:ext cx="122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GFR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w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AutoShape 100"/>
          <p:cNvGrpSpPr/>
          <p:nvPr/>
        </p:nvGrpSpPr>
        <p:grpSpPr>
          <a:xfrm>
            <a:off x="731880" y="3746520"/>
            <a:ext cx="2481120" cy="903240"/>
            <a:chOff x="731880" y="3746520"/>
            <a:chExt cx="2481120" cy="903240"/>
          </a:xfrm>
        </p:grpSpPr>
        <p:pic>
          <p:nvPicPr>
            <p:cNvPr id="235" name="AutoShape 100" descr=""/>
            <p:cNvPicPr/>
            <p:nvPr/>
          </p:nvPicPr>
          <p:blipFill>
            <a:blip r:embed="rId7"/>
            <a:stretch/>
          </p:blipFill>
          <p:spPr>
            <a:xfrm>
              <a:off x="731880" y="3746520"/>
              <a:ext cx="24811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809640" y="3829320"/>
              <a:ext cx="23223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xperimental A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Customiz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AutoShape 184"/>
          <p:cNvSpPr/>
          <p:nvPr/>
        </p:nvSpPr>
        <p:spPr>
          <a:xfrm>
            <a:off x="800280" y="2174760"/>
            <a:ext cx="2792160" cy="865440"/>
          </a:xfrm>
          <a:prstGeom prst="roundRect">
            <a:avLst>
              <a:gd name="adj" fmla="val 2876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Control A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CDDP-Pemetrex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AutoShape 185"/>
          <p:cNvGrpSpPr/>
          <p:nvPr/>
        </p:nvGrpSpPr>
        <p:grpSpPr>
          <a:xfrm>
            <a:off x="3267000" y="3162240"/>
            <a:ext cx="1341360" cy="699840"/>
            <a:chOff x="3267000" y="3162240"/>
            <a:chExt cx="1341360" cy="699840"/>
          </a:xfrm>
        </p:grpSpPr>
        <p:pic>
          <p:nvPicPr>
            <p:cNvPr id="239" name="AutoShape 185" descr=""/>
            <p:cNvPicPr/>
            <p:nvPr/>
          </p:nvPicPr>
          <p:blipFill>
            <a:blip r:embed="rId8"/>
            <a:stretch/>
          </p:blipFill>
          <p:spPr>
            <a:xfrm>
              <a:off x="3267000" y="3162240"/>
              <a:ext cx="13413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335400" y="3228840"/>
              <a:ext cx="12031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GFR</a:t>
              </a:r>
              <a:br>
                <a:rPr sz="1500"/>
              </a:b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mutate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1" name="Picture 201" descr="Rvert"/>
          <p:cNvPicPr/>
          <p:nvPr/>
        </p:nvPicPr>
        <p:blipFill>
          <a:blip r:embed="rId9"/>
          <a:stretch/>
        </p:blipFill>
        <p:spPr>
          <a:xfrm>
            <a:off x="133200" y="3181320"/>
            <a:ext cx="551160" cy="517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Narrow"/>
              </a:rPr>
              <a:t>TASTE design</a:t>
            </a:r>
            <a:endParaRPr b="0" lang="en-US" sz="28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0" y="617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Non-SC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SCLC Stage II and IIIA (non-N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0" y="32076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French Adjuvant Trial: Tailored Post Surgical Therapy in Early Stage NSCL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0"/>
          <p:cNvGrpSpPr/>
          <p:nvPr/>
        </p:nvGrpSpPr>
        <p:grpSpPr>
          <a:xfrm>
            <a:off x="1068120" y="2206800"/>
            <a:ext cx="7167960" cy="4108320"/>
            <a:chOff x="1068120" y="2206800"/>
            <a:chExt cx="7167960" cy="4108320"/>
          </a:xfrm>
        </p:grpSpPr>
        <p:sp>
          <p:nvSpPr>
            <p:cNvPr id="246" name="Line 8"/>
            <p:cNvSpPr/>
            <p:nvPr/>
          </p:nvSpPr>
          <p:spPr>
            <a:xfrm flipV="1">
              <a:off x="4741920" y="3985920"/>
              <a:ext cx="996480" cy="6580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Text Box 15"/>
            <p:cNvSpPr/>
            <p:nvPr/>
          </p:nvSpPr>
          <p:spPr>
            <a:xfrm>
              <a:off x="1068120" y="2401200"/>
              <a:ext cx="371160" cy="256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20"/>
            <p:cNvSpPr/>
            <p:nvPr/>
          </p:nvSpPr>
          <p:spPr>
            <a:xfrm>
              <a:off x="4741920" y="5293800"/>
              <a:ext cx="1074240" cy="5000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22"/>
            <p:cNvSpPr/>
            <p:nvPr/>
          </p:nvSpPr>
          <p:spPr>
            <a:xfrm>
              <a:off x="5045400" y="3513960"/>
              <a:ext cx="349920" cy="2527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24"/>
            <p:cNvSpPr/>
            <p:nvPr/>
          </p:nvSpPr>
          <p:spPr>
            <a:xfrm flipV="1">
              <a:off x="1533960" y="2745000"/>
              <a:ext cx="934200" cy="1032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25"/>
            <p:cNvSpPr/>
            <p:nvPr/>
          </p:nvSpPr>
          <p:spPr>
            <a:xfrm>
              <a:off x="1533960" y="3890520"/>
              <a:ext cx="934200" cy="1032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Rounded Rectangle 11"/>
            <p:cNvGrpSpPr/>
            <p:nvPr/>
          </p:nvGrpSpPr>
          <p:grpSpPr>
            <a:xfrm>
              <a:off x="1914120" y="3606480"/>
              <a:ext cx="755640" cy="419760"/>
              <a:chOff x="1914120" y="3606480"/>
              <a:chExt cx="755640" cy="419760"/>
            </a:xfrm>
          </p:grpSpPr>
          <p:pic>
            <p:nvPicPr>
              <p:cNvPr id="253" name="Rounded Rectangl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4120" y="3606480"/>
                <a:ext cx="755640" cy="41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1938960" y="3630240"/>
                <a:ext cx="707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 Narrow"/>
                  </a:rPr>
                  <a:t>1 : 2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Rounded Rectangle 12"/>
            <p:cNvGrpSpPr/>
            <p:nvPr/>
          </p:nvGrpSpPr>
          <p:grpSpPr>
            <a:xfrm>
              <a:off x="5888880" y="3460680"/>
              <a:ext cx="2347200" cy="943200"/>
              <a:chOff x="5888880" y="3460680"/>
              <a:chExt cx="2347200" cy="943200"/>
            </a:xfrm>
          </p:grpSpPr>
          <p:pic>
            <p:nvPicPr>
              <p:cNvPr id="256" name="Rounded Rectangl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888880" y="3460680"/>
                <a:ext cx="234720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939640" y="3514680"/>
                <a:ext cx="224532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ow 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mRNA (docetaxel and cisplatin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Rounded Rectangle 15"/>
            <p:cNvGrpSpPr/>
            <p:nvPr/>
          </p:nvGrpSpPr>
          <p:grpSpPr>
            <a:xfrm>
              <a:off x="2548080" y="4507560"/>
              <a:ext cx="2066760" cy="943200"/>
              <a:chOff x="2548080" y="4507560"/>
              <a:chExt cx="2066760" cy="943200"/>
            </a:xfrm>
          </p:grpSpPr>
          <p:pic>
            <p:nvPicPr>
              <p:cNvPr id="259" name="Rounded 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548080" y="4507560"/>
                <a:ext cx="206676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2598480" y="4561200"/>
                <a:ext cx="196488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xperimental arm 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ERCC1 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RNA level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" name="Rounded Rectangle 16"/>
            <p:cNvGrpSpPr/>
            <p:nvPr/>
          </p:nvGrpSpPr>
          <p:grpSpPr>
            <a:xfrm>
              <a:off x="2554200" y="2206800"/>
              <a:ext cx="2066760" cy="943200"/>
              <a:chOff x="2554200" y="2206800"/>
              <a:chExt cx="2066760" cy="943200"/>
            </a:xfrm>
          </p:grpSpPr>
          <p:pic>
            <p:nvPicPr>
              <p:cNvPr id="262" name="Rounded 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4200" y="2206800"/>
                <a:ext cx="206676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2603520" y="2261160"/>
                <a:ext cx="196488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ol arm (docetaxel and cisplatin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Rounded Rectangle 17"/>
            <p:cNvGrpSpPr/>
            <p:nvPr/>
          </p:nvGrpSpPr>
          <p:grpSpPr>
            <a:xfrm>
              <a:off x="5968440" y="5371920"/>
              <a:ext cx="2249640" cy="943200"/>
              <a:chOff x="5968440" y="5371920"/>
              <a:chExt cx="2249640" cy="943200"/>
            </a:xfrm>
          </p:grpSpPr>
          <p:pic>
            <p:nvPicPr>
              <p:cNvPr id="265" name="Rounded Rectangl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5968440" y="5371920"/>
                <a:ext cx="224964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6017760" y="5425920"/>
                <a:ext cx="215172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High 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mRNA (docetaxel and gemcitabine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7" name="TextBox 18"/>
            <p:cNvSpPr/>
            <p:nvPr/>
          </p:nvSpPr>
          <p:spPr>
            <a:xfrm>
              <a:off x="2805480" y="3545640"/>
              <a:ext cx="1486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imary endpoint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sponse r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TextBox 19"/>
          <p:cNvSpPr/>
          <p:nvPr/>
        </p:nvSpPr>
        <p:spPr>
          <a:xfrm>
            <a:off x="0" y="1482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Genotypic International Lung Trial (GIL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0" y="304920"/>
            <a:ext cx="9067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Customizing Chemotherapy by </a:t>
            </a:r>
            <a:r>
              <a:rPr b="1" i="1" lang="en-US" sz="3100" spc="-1" strike="noStrike">
                <a:solidFill>
                  <a:srgbClr val="ffff00"/>
                </a:solidFill>
                <a:latin typeface="Arial"/>
              </a:rPr>
              <a:t>ERCC1</a:t>
            </a: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 mRNA Profiling in Advanced NSCLC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6626880" y="6431040"/>
            <a:ext cx="23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bo M et al. J Clin Oncol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838080" y="1600200"/>
          <a:ext cx="7543800" cy="4195800"/>
        </p:xfrm>
        <a:graphic>
          <a:graphicData uri="http://schemas.openxmlformats.org/drawingml/2006/table">
            <a:tbl>
              <a:tblPr/>
              <a:tblGrid>
                <a:gridCol w="1905120"/>
                <a:gridCol w="990720"/>
                <a:gridCol w="1218960"/>
                <a:gridCol w="1600200"/>
                <a:gridCol w="1828800"/>
              </a:tblGrid>
              <a:tr h="867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com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4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otypic Gro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22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 Genotypic Gro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2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gh Genotypic Gro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96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 ra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39.3</a:t>
                      </a:r>
                      <a:r>
                        <a:rPr b="0" lang="en-US" sz="1600" spc="-1" strike="noStrike" baseline="30000">
                          <a:solidFill>
                            <a:srgbClr val="00ffff"/>
                          </a:solidFill>
                          <a:latin typeface="Arial Narrow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53.2</a:t>
                      </a:r>
                      <a:r>
                        <a:rPr b="0" lang="en-US" sz="1600" spc="-1" strike="noStrike" baseline="30000">
                          <a:solidFill>
                            <a:srgbClr val="00ffff"/>
                          </a:solidFill>
                          <a:latin typeface="Arial Narrow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7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nt to trea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7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0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3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viv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an, month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8.9-10.7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8.7-10.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7.86-12.8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9.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8.17-10.8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year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year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ast death at 27 months; longest alive at 33 month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TextBox 6"/>
          <p:cNvSpPr/>
          <p:nvPr/>
        </p:nvSpPr>
        <p:spPr>
          <a:xfrm>
            <a:off x="2160" y="6211800"/>
            <a:ext cx="242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ic (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= .0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ow genotypic (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= .0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ILT: Efficacy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4:50:18Z</dcterms:created>
  <dc:creator>Research To Practice</dc:creator>
  <dc:description/>
  <cp:keywords/>
  <dc:language>en-US</dc:language>
  <cp:lastModifiedBy>Mac Pro E703803Y4PC</cp:lastModifiedBy>
  <cp:lastPrinted>2011-04-21T13:26:07Z</cp:lastPrinted>
  <dcterms:modified xsi:type="dcterms:W3CDTF">2011-05-11T15:13:57Z</dcterms:modified>
  <cp:revision>150</cp:revision>
  <dc:subject/>
  <dc:title>PowerPoint Presentation</dc:title>
</cp:coreProperties>
</file>