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5CAA46-5046-440F-AABF-CED5F543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8DABC9-E9FC-45E1-981A-586810D55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79A36A-2684-4284-8820-D3A815D5D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 Rounded MT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hemobiologic Treatment of Advanced Squamous Carcinoma 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rial Outcome in Squamous Cell CA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523880"/>
          <a:ext cx="8305560" cy="4523040"/>
        </p:xfrm>
        <a:graphic>
          <a:graphicData uri="http://schemas.openxmlformats.org/drawingml/2006/table">
            <a:tbl>
              <a:tblPr/>
              <a:tblGrid>
                <a:gridCol w="1904760"/>
                <a:gridCol w="2286000"/>
                <a:gridCol w="411480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5328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vaciz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ociated with increased risk of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vere pulmonary 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4/13 pt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CAP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deat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es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hemopt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dir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2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ncreased toxicity or 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itum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IGO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 b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toxicity and no 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RIDGE: Phase II Trial of Paclitaxel and Carboplatin + Bevacizumab in Untreated Squamous Cell NSCLC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800600" cy="3129120"/>
          </a:xfrm>
          <a:prstGeom prst="rect">
            <a:avLst/>
          </a:prstGeom>
          <a:ln w="38160">
            <a:solidFill>
              <a:srgbClr val="b8b8ff"/>
            </a:solidFill>
            <a:miter/>
          </a:ln>
        </p:spPr>
      </p:pic>
      <p:sp>
        <p:nvSpPr>
          <p:cNvPr id="153" name="TextBox 3"/>
          <p:cNvSpPr/>
          <p:nvPr/>
        </p:nvSpPr>
        <p:spPr>
          <a:xfrm>
            <a:off x="5274720" y="6477120"/>
            <a:ext cx="38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nsworth JD, et al.  J Thorac Oncol 6:109-114,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Brace 4"/>
          <p:cNvSpPr/>
          <p:nvPr/>
        </p:nvSpPr>
        <p:spPr>
          <a:xfrm>
            <a:off x="5257800" y="2133720"/>
            <a:ext cx="533520" cy="34290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3429000"/>
              <a:gd name="textAreaBottom" fmla="*/ 34153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868720" y="3124080"/>
            <a:ext cx="29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H:  3.2%  (1 p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S:  6.2 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es of Bev:   6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13600" y="594360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fffd"/>
                </a:solidFill>
                <a:latin typeface="Arial"/>
              </a:rPr>
              <a:t>Phase II:Gemcitabine and Cisplatin + Axitinib in Squamous Cell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1"/>
          <p:cNvSpPr/>
          <p:nvPr/>
        </p:nvSpPr>
        <p:spPr>
          <a:xfrm>
            <a:off x="7632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mcitabine/Carboplat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iparib in Untreated Stage IV Squamous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133720" y="2363760"/>
            <a:ext cx="706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2743200" y="2819160"/>
            <a:ext cx="1295280" cy="990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Rounded Rectangle 16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3367080" cy="172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27560" y="2286000"/>
            <a:ext cx="2987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iparib 5.6 mg/kg 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1, 4, 8, and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emcitab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spl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743200" y="3962520"/>
            <a:ext cx="1295280" cy="12952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Rounded Rectangle 17"/>
          <p:cNvGrpSpPr/>
          <p:nvPr/>
        </p:nvGrpSpPr>
        <p:grpSpPr>
          <a:xfrm>
            <a:off x="4191120" y="4718160"/>
            <a:ext cx="3429000" cy="1149120"/>
            <a:chOff x="4191120" y="4718160"/>
            <a:chExt cx="3429000" cy="1149120"/>
          </a:xfrm>
        </p:grpSpPr>
        <p:pic>
          <p:nvPicPr>
            <p:cNvPr id="164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4191120" y="4718160"/>
              <a:ext cx="342900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99120" y="4777560"/>
              <a:ext cx="3211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Box 18"/>
          <p:cNvSpPr/>
          <p:nvPr/>
        </p:nvSpPr>
        <p:spPr>
          <a:xfrm>
            <a:off x="198288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8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citumumab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lly human IgG1 monoclonal antibody to EGF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s antitumor activity when combined with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mcitabine/cisplatin or pemetrexed/cisplatin 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xenograf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n human study:  DLT grade 3 headach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nausea, vomiting, and fever (2 pt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P2D 800 mg  weekly or every 2 week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-2 pts; SD-16 p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5254200" y="6429240"/>
            <a:ext cx="37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enen B et al. Clin Cancer Res 15:1915-1923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4"/>
          <p:cNvSpPr/>
          <p:nvPr/>
        </p:nvSpPr>
        <p:spPr>
          <a:xfrm flipV="1">
            <a:off x="2004840" y="2133720"/>
            <a:ext cx="565200" cy="10317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1884240" y="3429000"/>
            <a:ext cx="685800" cy="11430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7142040" y="1752120"/>
            <a:ext cx="30492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52480" y="1822320"/>
            <a:ext cx="3603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7066080" y="2286000"/>
            <a:ext cx="38088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907040" y="1643040"/>
            <a:ext cx="10814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C-11F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Rounded Rectangle 15"/>
          <p:cNvGrpSpPr/>
          <p:nvPr/>
        </p:nvGrpSpPr>
        <p:grpSpPr>
          <a:xfrm>
            <a:off x="2576520" y="4041720"/>
            <a:ext cx="4797360" cy="1219320"/>
            <a:chOff x="2576520" y="4041720"/>
            <a:chExt cx="4797360" cy="1219320"/>
          </a:xfrm>
        </p:grpSpPr>
        <p:pic>
          <p:nvPicPr>
            <p:cNvPr id="177" name="Rounded Rectangle 15" descr=""/>
            <p:cNvPicPr/>
            <p:nvPr/>
          </p:nvPicPr>
          <p:blipFill>
            <a:blip r:embed="rId1"/>
            <a:stretch/>
          </p:blipFill>
          <p:spPr>
            <a:xfrm>
              <a:off x="2576520" y="4041720"/>
              <a:ext cx="4797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1680" y="4105440"/>
              <a:ext cx="4670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rm B:  CIS + GE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 75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-60 min IV), D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mcitabine 1250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 min IV), D1, 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ounded Rectangle 16"/>
          <p:cNvGrpSpPr/>
          <p:nvPr/>
        </p:nvGrpSpPr>
        <p:grpSpPr>
          <a:xfrm>
            <a:off x="2563920" y="1444680"/>
            <a:ext cx="4584600" cy="1530360"/>
            <a:chOff x="2563920" y="1444680"/>
            <a:chExt cx="4584600" cy="1530360"/>
          </a:xfrm>
        </p:grpSpPr>
        <p:pic>
          <p:nvPicPr>
            <p:cNvPr id="180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2563920" y="1444680"/>
              <a:ext cx="45846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644920" y="1522440"/>
              <a:ext cx="44226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Arm A:  IMC-11F8 + CIS + GEM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C-11F8 800 mg (50-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 75 mg/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-60 min IV), D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 1250 mg 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 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Box 21"/>
          <p:cNvSpPr/>
          <p:nvPr/>
        </p:nvSpPr>
        <p:spPr>
          <a:xfrm>
            <a:off x="76320" y="30492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SQUIRE:  phase III, 1</a:t>
            </a:r>
            <a:r>
              <a:rPr b="1" lang="en-US" sz="31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line NSCLC, squamou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131760" y="21337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47 patients Stage 4 NSCLC Squamous ECOG PS 0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7426800" y="1384200"/>
            <a:ext cx="4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7439400" y="2322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209520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2093760" y="4175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35080" y="533520"/>
            <a:ext cx="87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Clinical Lung Cancer Genome Pro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97360" y="1447920"/>
            <a:ext cx="86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ion between 13 centers in Europe, Australia and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to perform genomic analysis on clinically annotated lung canc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700 fresh frozen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900 DNA 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hundred have had genomic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INGS:  FGFR1 amplification in squamous cell lung cancer associ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FGFR1 depend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FR1 –amplified cancers have a 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729240" y="6400800"/>
            <a:ext cx="37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ss J, et al.  Sci Transl Med 2: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201840" y="3808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33520" y="1371600"/>
            <a:ext cx="84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is a common h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ype of lung can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quamous cell specific treatments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sight into the biology of squamous c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cinoma is required to identify drug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istological  Subtypes of Lung Cancer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8381880" cy="3984480"/>
        </p:xfrm>
        <a:graphic>
          <a:graphicData uri="http://schemas.openxmlformats.org/drawingml/2006/table">
            <a:tbl>
              <a:tblPr/>
              <a:tblGrid>
                <a:gridCol w="1981080"/>
                <a:gridCol w="2667240"/>
                <a:gridCol w="373356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Mark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cular 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9587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K7+, CK20-, TTF1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:  mutation: 10%-40%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SH +: 45%-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+: 60%-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 mutations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50%-70%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ML4–ALK: 1-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 cel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TF1–, CK5+, CK6+, P6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mplification: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+:  very com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60%-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  <p:sp>
        <p:nvSpPr>
          <p:cNvPr id="87" name="TextBox 4"/>
          <p:cNvSpPr/>
          <p:nvPr/>
        </p:nvSpPr>
        <p:spPr>
          <a:xfrm>
            <a:off x="5443920" y="6353280"/>
            <a:ext cx="35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er CJ et al. J Clin Oncol 28:5311-5320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Lung Cancer Incidence by Histolog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1998-2002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371200" y="642924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lden DR et al. J Thorac Oncol 3:819-831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371600"/>
          <a:ext cx="8686800" cy="503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2057400"/>
                <a:gridCol w="1447560"/>
                <a:gridCol w="21337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gridSpan="2"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w Treatments for Lung Canc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000-2010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057400"/>
          <a:ext cx="6476760" cy="3367080"/>
        </p:xfrm>
        <a:graphic>
          <a:graphicData uri="http://schemas.openxmlformats.org/drawingml/2006/table">
            <a:tbl>
              <a:tblPr/>
              <a:tblGrid>
                <a:gridCol w="304776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eno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quamous Cell 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rst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cond and Third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emetrex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emetrexed in Squamous Carcinoma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86400" y="6324480"/>
            <a:ext cx="347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Scagliotti, G. V. et al. J Clin Oncol; 26:3543-3551 200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Ciuleanu T et al. Lancet 374:1432-1440, 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ubtitle 3"/>
          <p:cNvSpPr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tients with squamous cell carcin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first-line treatment was 9.4 months with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CP and 10.8 months with CG, HR = 1.23 (95% CI: 1.00, 1.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maintenance pemetrexed = 9.9 months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versus 10.8 months with placebo, HR = 1.07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6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0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08780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8"/>
          <p:cNvSpPr/>
          <p:nvPr/>
        </p:nvSpPr>
        <p:spPr>
          <a:xfrm>
            <a:off x="428760" y="196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terogeneity of mRNA Expression Levels in NSCLC:  AC versus SC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137160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 (N=965)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649 AC, 316 SC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2743200" cy="19684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(Reference &lt;2.33 for pemetrex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% Below Reference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1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Adeno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5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SC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84"/>
          <p:cNvGrpSpPr/>
          <p:nvPr/>
        </p:nvGrpSpPr>
        <p:grpSpPr>
          <a:xfrm>
            <a:off x="2209680" y="2438280"/>
            <a:ext cx="1523520" cy="369720"/>
            <a:chOff x="2209680" y="2438280"/>
            <a:chExt cx="1523520" cy="369720"/>
          </a:xfrm>
        </p:grpSpPr>
        <p:grpSp>
          <p:nvGrpSpPr>
            <p:cNvPr id="101" name="Group 85"/>
            <p:cNvGrpSpPr/>
            <p:nvPr/>
          </p:nvGrpSpPr>
          <p:grpSpPr>
            <a:xfrm>
              <a:off x="2209680" y="2732040"/>
              <a:ext cx="1523520" cy="75960"/>
              <a:chOff x="2209680" y="2732040"/>
              <a:chExt cx="1523520" cy="75960"/>
            </a:xfrm>
          </p:grpSpPr>
          <p:sp>
            <p:nvSpPr>
              <p:cNvPr id="102" name="Line 86"/>
              <p:cNvSpPr/>
              <p:nvPr/>
            </p:nvSpPr>
            <p:spPr>
              <a:xfrm>
                <a:off x="2209680" y="2732040"/>
                <a:ext cx="15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87"/>
              <p:cNvSpPr/>
              <p:nvPr/>
            </p:nvSpPr>
            <p:spPr>
              <a:xfrm>
                <a:off x="220968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88"/>
              <p:cNvSpPr/>
              <p:nvPr/>
            </p:nvSpPr>
            <p:spPr>
              <a:xfrm>
                <a:off x="373320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Text Box 89"/>
            <p:cNvSpPr/>
            <p:nvPr/>
          </p:nvSpPr>
          <p:spPr>
            <a:xfrm>
              <a:off x="2297160" y="24382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&lt;0.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Box 28"/>
          <p:cNvSpPr/>
          <p:nvPr/>
        </p:nvSpPr>
        <p:spPr>
          <a:xfrm>
            <a:off x="6245640" y="64008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dara D et al.  ASCO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04920" y="152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rospective Analysis of ECOG 1594 by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280" y="581976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fffd"/>
                </a:solidFill>
                <a:latin typeface="Arial"/>
              </a:rPr>
              <a:t>Histological subtypes did not influence overall survival and progression free survival in chemo-naïve patients treated with platin-based doublets involving paclitaxel, docetaxel or gemcitab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019920" y="650556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en H et al. J Thorac Oncol 4:S493, 20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733320"/>
          <a:ext cx="8763120" cy="5040360"/>
        </p:xfrm>
        <a:graphic>
          <a:graphicData uri="http://schemas.openxmlformats.org/drawingml/2006/table">
            <a:tbl>
              <a:tblPr/>
              <a:tblGrid>
                <a:gridCol w="609480"/>
                <a:gridCol w="747720"/>
                <a:gridCol w="700200"/>
                <a:gridCol w="1066680"/>
                <a:gridCol w="727200"/>
                <a:gridCol w="949320"/>
                <a:gridCol w="712800"/>
                <a:gridCol w="963720"/>
                <a:gridCol w="699840"/>
                <a:gridCol w="1014480"/>
                <a:gridCol w="57168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22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64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rge Ce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7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19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3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9, 10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9, 9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7, 15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8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5, 17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3, 11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5, 11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5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49, 11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6, 12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3, 12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6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6, 16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9, 11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F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1, 4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4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8, 4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3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8, 5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11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8, 5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4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6, 4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7, 5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0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9, 7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3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 rot="10800000">
            <a:off x="190440" y="30801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6320" y="108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ase III Trial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aclitaxel + Carboplatin Comp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Cremophor-based Paclitaxel + Carboplatin as First-line Therapy in Advanced Non-small Cell Lung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75248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5627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838080" y="1905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&lt; 0.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26668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006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8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400800" y="1905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4479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19520" y="6324480"/>
            <a:ext cx="152280" cy="152640"/>
          </a:xfrm>
          <a:prstGeom prst="rect">
            <a:avLst/>
          </a:prstGeom>
          <a:solidFill>
            <a:srgbClr val="c1d9f5"/>
          </a:solidFill>
          <a:ln w="93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75464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04992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3341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05720" y="6324480"/>
            <a:ext cx="152280" cy="152640"/>
          </a:xfrm>
          <a:prstGeom prst="rect">
            <a:avLst/>
          </a:prstGeom>
          <a:solidFill>
            <a:srgbClr val="c1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64228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93756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983120" y="6505560"/>
            <a:ext cx="39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ermission, Socinski MA et al.  ASCO 2010 #75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Chart 1"/>
          <p:cNvGraphicFramePr/>
          <p:nvPr/>
        </p:nvGraphicFramePr>
        <p:xfrm>
          <a:off x="838080" y="2133720"/>
          <a:ext cx="83059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772400" y="2286000"/>
            <a:ext cx="152280" cy="15228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solidFill>
            <a:srgbClr val="88b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2239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514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aclitaxel Phase II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Advanced Squamous Carcino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the L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838080" y="2362320"/>
            <a:ext cx="7391520" cy="3382920"/>
            <a:chOff x="838080" y="2362320"/>
            <a:chExt cx="7391520" cy="3382920"/>
          </a:xfrm>
        </p:grpSpPr>
        <p:grpSp>
          <p:nvGrpSpPr>
            <p:cNvPr id="136" name="AutoShape 39"/>
            <p:cNvGrpSpPr/>
            <p:nvPr/>
          </p:nvGrpSpPr>
          <p:grpSpPr>
            <a:xfrm>
              <a:off x="2845080" y="4181400"/>
              <a:ext cx="3057840" cy="1563840"/>
              <a:chOff x="2845080" y="4181400"/>
              <a:chExt cx="3057840" cy="1563840"/>
            </a:xfrm>
          </p:grpSpPr>
          <p:pic>
            <p:nvPicPr>
              <p:cNvPr id="137" name="AutoShap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5080" y="4181400"/>
                <a:ext cx="3057840" cy="15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927160" y="42660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b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Paclitax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AutoShape 39"/>
            <p:cNvGrpSpPr/>
            <p:nvPr/>
          </p:nvGrpSpPr>
          <p:grpSpPr>
            <a:xfrm>
              <a:off x="2845080" y="2362320"/>
              <a:ext cx="3057840" cy="1557720"/>
              <a:chOff x="2845080" y="2362320"/>
              <a:chExt cx="3057840" cy="1557720"/>
            </a:xfrm>
          </p:grpSpPr>
          <p:pic>
            <p:nvPicPr>
              <p:cNvPr id="140" name="AutoShap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5080" y="2362320"/>
                <a:ext cx="3057840" cy="15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927160" y="24408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AutoShape 39"/>
            <p:cNvGrpSpPr/>
            <p:nvPr/>
          </p:nvGrpSpPr>
          <p:grpSpPr>
            <a:xfrm>
              <a:off x="6493680" y="2891520"/>
              <a:ext cx="1735920" cy="1837440"/>
              <a:chOff x="6493680" y="2891520"/>
              <a:chExt cx="1735920" cy="1837440"/>
            </a:xfrm>
          </p:grpSpPr>
          <p:pic>
            <p:nvPicPr>
              <p:cNvPr id="143" name="AutoShap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3680" y="2891520"/>
                <a:ext cx="1735920" cy="18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581880" y="2981520"/>
                <a:ext cx="155736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mar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dpoint: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8"/>
            <p:cNvSpPr/>
            <p:nvPr/>
          </p:nvSpPr>
          <p:spPr>
            <a:xfrm>
              <a:off x="838080" y="3430080"/>
              <a:ext cx="862920" cy="6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Up Arrow 9"/>
            <p:cNvSpPr/>
            <p:nvPr/>
          </p:nvSpPr>
          <p:spPr>
            <a:xfrm flipV="1" rot="18360000">
              <a:off x="2214000" y="3827160"/>
              <a:ext cx="181800" cy="812160"/>
            </a:xfrm>
            <a:prstGeom prst="upArrow">
              <a:avLst>
                <a:gd name="adj1" fmla="val 50000"/>
                <a:gd name="adj2" fmla="val 55759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Up Arrow 10"/>
            <p:cNvSpPr/>
            <p:nvPr/>
          </p:nvSpPr>
          <p:spPr>
            <a:xfrm flipV="1" rot="14400000">
              <a:off x="2260800" y="3047040"/>
              <a:ext cx="183600" cy="812160"/>
            </a:xfrm>
            <a:prstGeom prst="upArrow">
              <a:avLst>
                <a:gd name="adj1" fmla="val 50000"/>
                <a:gd name="adj2" fmla="val 55683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1"/>
          <p:cNvSpPr/>
          <p:nvPr/>
        </p:nvSpPr>
        <p:spPr>
          <a:xfrm>
            <a:off x="883080" y="43434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=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dcterms:modified xsi:type="dcterms:W3CDTF">2011-05-11T16:02:22Z</dcterms:modified>
  <cp:revision>152</cp:revision>
  <dc:subject/>
  <dc:title>PowerPoint Presentation</dc:title>
</cp:coreProperties>
</file>