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pct" ContentType="image/x-pict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4.pct" ContentType="image/x-pict"/>
  <Override PartName="/ppt/media/image4.jpeg" ContentType="image/jpeg"/>
  <Override PartName="/ppt/media/image5.jpeg" ContentType="image/jpeg"/>
  <Override PartName="/ppt/media/image10.pct" ContentType="image/x-pict"/>
  <Override PartName="/ppt/media/image8.pct" ContentType="image/x-pict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3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ftr" idx="3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 type="sldNum" idx="3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70B-C2B8-4FF8-ADF9-9CE8C02F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789-6772-4868-AAE1-6131506E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BD09-D181-47E9-8570-A4424CBE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500-B67F-4DB3-AE09-61A43FA26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611-89A5-44C0-9BB2-B4B5EA7D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E15-7826-46D6-9F7B-DF8D04C6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AA3-B43F-4442-B20B-95F109E4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21B-7072-4FC2-98F7-09D7F20E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2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A82-C0C4-429D-9BF2-06546BA75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094-76CF-4EF7-9977-DC556FF5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072-931A-4F43-BF7E-71591803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EED0-25D8-42AD-8F1C-504000C7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77D-A5CD-4665-9E84-A07AE6CCB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C0E-DA7A-48FA-BA65-97D5A15DD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C56-B42A-41BC-AD5B-74CD0C69D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31D-BB8D-4623-B8BE-FBEA3866E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1D01-C2A9-4A59-B414-EDF3CB811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BCB-9FDC-42FB-A146-BA922AC9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E8BD-1FFF-458A-A7E2-C932C5685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4A1-0735-47F0-ABE8-7A255A7DF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825-0EC8-4E7B-B84E-4AC3661D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FB0D-DAED-4116-A2F6-ED1C458B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B34E-EAED-4623-9DF4-70777706B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86E-6B48-4925-A39B-931C053E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F0C8-620E-4684-9E6A-013A5B2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C23A8-7E3C-42BF-AE42-89C3B65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DAF8-D3F1-4CCB-B6EB-08ACDC7A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8D3D0-1378-40AE-81C0-EE49D8C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1A771-CAFD-4FB6-A37F-1FC4768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FDDE-FCA0-44E3-A4B9-80FE281B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4584-08D3-48E8-A5A7-36169B3D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E485-18DC-4DE3-BA33-5E53F28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0369-436D-423F-94ED-846C1D0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20EEF-0CFC-46BB-B3A1-086743A5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59079-9CAD-41B7-82EE-C64F5BF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43C06-6B8D-4095-BC08-B98EF005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6BB5-5AEA-4A59-AC73-72BDDD8E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6ADFF-FE83-48C2-8C39-A479B1E4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6633-97A8-439C-B1C3-BD166A62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39316-82B5-4FC1-916C-1377689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25379-3A80-4E54-B385-773C6AE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0DCA3-2115-46B4-9BBA-2712D43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127A9-0704-428B-AF76-0C64A1F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BF836-9CAD-47FA-8EF4-CCAEE164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DEB17-C2A3-4EDC-A7E6-05F8079A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8F787-58FD-4033-8DFC-26DB2A8E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A09B7-0210-4C6D-BD8A-1B5B830F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8C79-9B81-4BC8-A8F9-EBF0FF9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28A40-0CE9-4312-B66B-DB48974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0DBB9-1EAA-4AB0-9771-0B70457B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779C-CB53-4379-9DF5-EC9240B6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BF94C-069D-41C4-8AC9-8362FFC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1E22-0954-42C0-9EE8-7085A4A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C6ECD-0214-4069-87B9-0EE2C84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319-4130-4636-8DA3-EE67088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67D49-9FE7-4064-A764-F44AB26A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26597-CE41-4BC0-A1A5-40B634A7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BF482-AFD2-47C9-9C76-F02526E0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E6FC2-901F-4D16-8AB3-027C1973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996FF-F334-4264-8A52-B3167642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DE4DF-826D-4254-BB81-12C28A1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9A44-F25D-4A20-8908-FA159AC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57858-862C-4A16-9A3B-2B2ADFB6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13181-498D-4D66-A8AC-BB7005DD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B9CEE-C673-4999-AD4A-E6A96E0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021-B304-4F43-97D8-C37CBD66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F5B12-4772-4142-9AC7-11C4801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FE09-9711-4E15-9221-F8E5CAFF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DCD7-28B3-45A7-9D8D-445F9BFF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D0866-51BB-4F20-9251-AA9E79D7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6B7D3-7681-43C3-AEB6-4D1EAAB3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D2505-8E6C-4051-9394-81E8441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21498-76EF-466E-8739-3199002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5FA20-4537-48B8-9EAC-EF74A32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8781A-7D63-43FD-893B-713F651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6BBEB-3536-4D20-B344-76540B5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37A-C7CD-4C55-A528-445C44D7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02F24-B634-45FE-9892-56438D5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03DF9-7AF8-4101-A3F5-FADD7CD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400C6-9043-4397-9F39-3882ABA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CD9E1-F509-4895-B879-F03BC5E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31301-D801-4619-8612-37EA972F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09F8D-C983-407F-A042-8E68125F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83945-3673-4F66-88C1-E099620D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112-E0EC-4128-BCB3-F5C18DC6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80D-EC26-446E-8476-4D13073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B2E-1141-4332-A18F-9B50EA2C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5FD-41E4-4A1E-9AD4-512746B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4A2-DDC4-4334-B5D4-64AEA55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FAD-6827-4E64-A295-EAB46BD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7D7-BB91-4CCC-B513-C9EAE65C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D85-4DE1-4574-831B-E8044EBA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766-762D-42B8-B276-6E9EECAA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51EE-22F2-430F-A62D-54925C75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949-5B09-494D-A3E8-AEE14D8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6969-A89D-4AE0-855C-6414A07D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BBC-01E5-4339-BAF2-06392D1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D8A-A2B2-46B7-8AB0-B6635C4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742-4469-43CA-B67C-4A40B7F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01EB-6C6B-4C74-B924-3517C83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0BE3-324F-4288-9407-13DCB52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0AC-6DA9-486E-8644-73403FE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21C6-3224-4028-8C32-07194BCC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475F-D54A-4E25-A15D-9FC6C840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5A6E-0369-4124-A5FC-9E8ED45C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3181-2D17-41B3-86FB-3566D64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F5EB-D69C-4042-AB72-3F208D6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6588-6347-4ED4-9390-D85F184D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AED1-1BE4-485F-A264-ECA0BF13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2903-CCC8-4BF8-A561-C30C2B2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DB53-3198-4AD6-96AF-88A55445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C8E1-B5FD-46C2-AE29-FCEF53A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FA2B-A492-4E31-A51E-CBE86D1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1F98-8294-4808-A0D2-7F0E9562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DBE4-0E0D-4125-9D4D-37755720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015F-0DDF-4C09-8DA8-F987B07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9086-8EE2-4E16-974E-136361CE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F23B-C001-4543-A313-732EC31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4328-0F8C-494E-92CA-FB3A68D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919C7-83B0-4D86-9A58-A0523F9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4C52-E2A5-4311-A38B-FC175727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D26D-E219-4618-BE17-5595F32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224A-B351-4B9A-966D-C9FF1CA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8106-1043-44A3-97DC-711AF33D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5ACB-AE98-4689-AA72-13B5CFE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C238-33A0-4B74-9CCC-262F615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E176-39E7-41CC-907A-315279BE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19BC-7AD6-40B1-839C-834B66E8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953B-14F1-451A-AC72-25B8E68D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87A3-ED28-4035-8612-8A8CBECE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F8ED-BCF5-4D8C-B183-431A4C83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AFD6-831D-4EB4-BF66-AFAC057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8D47-FF49-4ABB-9372-00C31BF2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C99F-9865-440E-9670-9C9ED86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E3EF4-3606-49AB-AB85-04A80F3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06BA-CD42-482E-943B-FCE710C1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553AD-131C-43F7-ACA3-04E5391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7527-C161-4DCE-B49D-90517D9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2DDE-5EB6-4993-8AA7-66B3B492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0B68-4A38-416A-91CD-B3119403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481D0-7233-4394-BF3C-E75958B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515E-B50C-4D4A-9171-8B029144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A655-B2FE-4077-8469-3618DB09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9F011-C7A2-4546-910C-F8670C43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C165-771D-40D5-BBD6-64FE249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AAF34-E1BF-4F71-B993-A536A8C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0576-539F-4714-9200-025274F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9EEE-97F8-4A07-9AF6-433F33A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8F28-0733-4F5C-A0B2-37C877F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6AF3-F4A7-4904-8AAD-F8179FA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2E30-B3F9-400B-B4F5-016C450A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BE5D-BDEB-48F7-BE04-587CA784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2D4CC-C157-48F9-9F21-D3C99093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793A3-B65E-4743-B2C5-C0DD3F6D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F941-83D5-4DA6-A754-67E1A887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2871-016A-4745-B144-F05FDC5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E332-1713-49C9-801A-1310678C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3EDB-7579-427C-A108-3B4BED8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DAAA-8AA5-4212-9FD0-58A3F4D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FF039-3F59-42A3-B6DE-937FAD3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013DA-E20C-4277-A396-B8AE03D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334F-36DD-44F0-AB8D-DA91DF1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109B-3276-4C9A-A052-9971EB1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C655-2611-4BDF-A420-882E9710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9319-F327-4702-A28A-D39B7B04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0AC1-F1E3-468B-9B37-E08F6D3C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1327-D0F0-4B30-91CD-C29CAD9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4CA8D-3D1D-4C90-B450-80573F45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3A9-2DC3-4295-B4C9-A9B880B282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F5B7-51CD-401E-9FC3-1F1572475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B0A-EB32-4467-B19A-3907497330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D68-9AF7-4450-8367-A5C7725B0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0923-46D4-4896-9879-44FDF2B3E9B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E4A-E398-400E-91B8-2A1F8B2128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85C-A078-40FB-B80B-4F03D2303E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61D-6432-47C4-A6EA-AA4E8D0A8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0A9-3FF2-431F-B730-D54A4DF2D3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6ACF-38D0-4501-8915-A6FB734A4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403-78CC-4961-AC80-058557CD91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768-5053-4505-A194-080A0F6B4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84C-7E8E-407F-B83C-E620904D2E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1ECB-4727-4B3A-8374-312DF23F49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332-E526-4A74-B00F-8E5CC323D8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742-5040-4A25-BF53-E66A738F7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F1C6-C832-4109-BAC6-AE6397ED56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204-7923-4B65-BE9B-1AFD84702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49F-D225-4479-BF75-F67EC069D4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2CBB-5FEB-4406-9B23-6E2FD2616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053-37BE-41D0-B7BA-0C4E834F449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0EEE-22B4-4012-9E17-F233DF2B5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F67-160F-41BB-8C03-446F49BA549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B37-E185-44DE-9E80-010903B66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ct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ter J Curran, Jr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reotactic RT in Early Stage Lung Cancer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Is the Evidence Compelling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I Dose Response for Loca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1676520" y="1932120"/>
          <a:ext cx="579096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32120"/>
                    <a:ext cx="579096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mall cell lung cancer - biopsy prov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, T2 (≤ 5 cm) and T3 (chest wall only, ≤ 5 cm), N0, M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problems preclude surg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emphysema, heart disease, diabet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ther planned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TOG 0236: Preliminary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ed May 2004 and closed October 20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9 patients enrolled (55 evalu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2% female, median age 72 ye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brod performance 0 (12 patients), 1 (35), 2 (8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 patients with T1 tumors, 11 with T2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n follow-up = 34.4 months (range 4.8-49.9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ereotactic RT for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cal Tumor Control Rate: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TOG 023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88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failure within PTV, 0 within 1 cm of P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6 months local control = 98% (CI: 84 -10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ional and Disseminated Recurrence: 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atients have reported a regional failure, both after 2 years (2.8 and 3.0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ven patients (20%) have experienced disseminated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"/>
          <p:cNvGraphicFramePr/>
          <p:nvPr/>
        </p:nvGraphicFramePr>
        <p:xfrm>
          <a:off x="1600200" y="2133720"/>
          <a:ext cx="6095880" cy="3149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(4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al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(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evalu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(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 : Best Observe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SHIMMON1"/>
          <p:cNvPicPr/>
          <p:nvPr/>
        </p:nvPicPr>
        <p:blipFill>
          <a:blip r:embed="rId1"/>
          <a:srcRect l="9375" t="18750" r="6252" b="28124"/>
          <a:stretch/>
        </p:blipFill>
        <p:spPr>
          <a:xfrm>
            <a:off x="317520" y="1857240"/>
            <a:ext cx="4379760" cy="37227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SHIMMON3"/>
          <p:cNvPicPr/>
          <p:nvPr/>
        </p:nvPicPr>
        <p:blipFill>
          <a:blip r:embed="rId2"/>
          <a:srcRect l="0" t="10940" r="0" b="15627"/>
          <a:stretch/>
        </p:blipFill>
        <p:spPr>
          <a:xfrm>
            <a:off x="4762440" y="1857240"/>
            <a:ext cx="3810240" cy="3714840"/>
          </a:xfrm>
          <a:prstGeom prst="rect">
            <a:avLst/>
          </a:prstGeom>
          <a:ln w="0">
            <a:noFill/>
          </a:ln>
        </p:spPr>
      </p:pic>
      <p:sp>
        <p:nvSpPr>
          <p:cNvPr id="755" name="Oval 4"/>
          <p:cNvSpPr/>
          <p:nvPr/>
        </p:nvSpPr>
        <p:spPr>
          <a:xfrm>
            <a:off x="1397160" y="3071880"/>
            <a:ext cx="896760" cy="11653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"/>
          <p:cNvSpPr/>
          <p:nvPr/>
        </p:nvSpPr>
        <p:spPr>
          <a:xfrm>
            <a:off x="5524560" y="3121200"/>
            <a:ext cx="896760" cy="116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0" y="571680"/>
            <a:ext cx="914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-Treatment Lung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Grade 3-5 Toxicity:  Location, Loca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5" descr="zone%20of%20central%20chest"/>
          <p:cNvPicPr/>
          <p:nvPr/>
        </p:nvPicPr>
        <p:blipFill>
          <a:blip r:embed="rId1"/>
          <a:stretch/>
        </p:blipFill>
        <p:spPr>
          <a:xfrm>
            <a:off x="1689120" y="1676520"/>
            <a:ext cx="5765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618: SBRT for Operable Stage I NSCLC:  Accrual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813: SBRT for Central Early Stage N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RTOG Phase I/II Trials SB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2" name="Object 9"/>
          <p:cNvGraphicFramePr/>
          <p:nvPr/>
        </p:nvGraphicFramePr>
        <p:xfrm>
          <a:off x="165240" y="3591000"/>
          <a:ext cx="3035160" cy="22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3591000"/>
                    <a:ext cx="30351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4" name="Picture 10" descr="DSCN1573"/>
          <p:cNvPicPr/>
          <p:nvPr/>
        </p:nvPicPr>
        <p:blipFill>
          <a:blip r:embed="rId3"/>
          <a:srcRect l="0" t="0" r="0" b="2252"/>
          <a:stretch/>
        </p:blipFill>
        <p:spPr>
          <a:xfrm>
            <a:off x="3124080" y="358128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1" descr="zone%20of%20central%20chest"/>
          <p:cNvPicPr/>
          <p:nvPr/>
        </p:nvPicPr>
        <p:blipFill>
          <a:blip r:embed="rId4"/>
          <a:srcRect l="0" t="0" r="0" b="5335"/>
          <a:stretch/>
        </p:blipFill>
        <p:spPr>
          <a:xfrm>
            <a:off x="5703840" y="3592440"/>
            <a:ext cx="3287880" cy="2235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2"/>
          <p:cNvSpPr/>
          <p:nvPr/>
        </p:nvSpPr>
        <p:spPr>
          <a:xfrm>
            <a:off x="685800" y="5904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c85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gitimate Alternative to Lobectomy for Stage I NSCLC???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ntrol 90% or mor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60-80%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 III or higher toxicity &lt;15-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invasive than thoracot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more conven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cos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roven by prospectiv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cuss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 for Medically Inoperative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and Ongoing Clinic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Operabl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(SR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s 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Trial between ACOSOG and RT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ved by NCI Thoracic Malignancies Steering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scertain whether patients treated by SBRT have 3-year overall survival (OS) rate that is no more than 10% less than patients treated with S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vers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96920" y="2397240"/>
            <a:ext cx="6445440" cy="2790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2800" y="49896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ase III Study of SR vs SBRT in High Risk Pts with Stage I NSCLC:   Z4099 / R102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Inferiority Survival Design:  80% +/-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0 Pts to be Enro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Activated 3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chytherapy with Sublobar Re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s a new Standard for Medically Inoperable Stage I NSC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ble Patients:  Data from Phase II and Phase III Trials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Lesions:  Data on Dose Also Pen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 Fractionation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ventionally 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mall daily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o to very high cumulative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olerable for most normal 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po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larger daily doses (3-8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used mostly for pall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blative RT (Stereotacti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very high daily doses (8-20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verwhelm tumor re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auses “late” effects that may be intol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blative Treatments (Stereotactic)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Must Exclude Normal Tissue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blative hypofraction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andon prophylactic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 for organ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 sharper dose fall-off gradients to normal tissue (mimic radiosurge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quirements need advanced 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cyberknife1"/>
          <p:cNvPicPr/>
          <p:nvPr/>
        </p:nvPicPr>
        <p:blipFill>
          <a:blip r:embed="rId1"/>
          <a:stretch/>
        </p:blipFill>
        <p:spPr>
          <a:xfrm>
            <a:off x="762120" y="1447920"/>
            <a:ext cx="2198520" cy="26668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se Image Guid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Picture 4" descr="Varian Trilogy"/>
          <p:cNvPicPr/>
          <p:nvPr/>
        </p:nvPicPr>
        <p:blipFill>
          <a:blip r:embed="rId2"/>
          <a:stretch/>
        </p:blipFill>
        <p:spPr>
          <a:xfrm>
            <a:off x="3205080" y="1676520"/>
            <a:ext cx="2190960" cy="24256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Elekta Synergy"/>
          <p:cNvPicPr/>
          <p:nvPr/>
        </p:nvPicPr>
        <p:blipFill>
          <a:blip r:embed="rId3"/>
          <a:stretch/>
        </p:blipFill>
        <p:spPr>
          <a:xfrm>
            <a:off x="5778360" y="1828800"/>
            <a:ext cx="2451240" cy="20732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tomotherapy 1"/>
          <p:cNvPicPr/>
          <p:nvPr/>
        </p:nvPicPr>
        <p:blipFill>
          <a:blip r:embed="rId4"/>
          <a:stretch/>
        </p:blipFill>
        <p:spPr>
          <a:xfrm>
            <a:off x="1752480" y="4191120"/>
            <a:ext cx="2540160" cy="2209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NovalisPlatform"/>
          <p:cNvPicPr/>
          <p:nvPr/>
        </p:nvPicPr>
        <p:blipFill>
          <a:blip r:embed="rId5"/>
          <a:stretch/>
        </p:blipFill>
        <p:spPr>
          <a:xfrm>
            <a:off x="5334120" y="3886200"/>
            <a:ext cx="234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ct Dose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371600" y="2125800"/>
            <a:ext cx="6248520" cy="40464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6"/>
          <p:cNvSpPr/>
          <p:nvPr/>
        </p:nvSpPr>
        <p:spPr>
          <a:xfrm>
            <a:off x="5565240" y="3421080"/>
            <a:ext cx="232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659760" y="3497400"/>
            <a:ext cx="1467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n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594160" y="4335480"/>
            <a:ext cx="1703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430800" y="5021280"/>
            <a:ext cx="84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4114800" y="486864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V="1">
            <a:off x="3962520" y="425880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>
            <a:off x="5181120" y="3649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4572000" y="3801960"/>
            <a:ext cx="15228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4574880" y="5097600"/>
            <a:ext cx="77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5870160" y="441180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st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6"/>
          <p:cNvSpPr/>
          <p:nvPr/>
        </p:nvSpPr>
        <p:spPr>
          <a:xfrm flipH="1">
            <a:off x="5638320" y="4792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5257800" y="5326200"/>
            <a:ext cx="457200" cy="7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6095880" y="380196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 flipH="1">
            <a:off x="5715000" y="403056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8600" y="276552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417204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5553000"/>
            <a:ext cx="8610480" cy="6955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BRT vs. Conventional Radio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32400" y="554184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0-45 treatments (6-9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52280" y="5553000"/>
            <a:ext cx="4303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-5 treatments (1-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532400" y="275760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aths”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28600" y="275760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beam aper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4532400" y="345456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ek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228600" y="345456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4572000" y="4181400"/>
            <a:ext cx="430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228600" y="414972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rict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532400" y="484668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“forgiving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228600" y="484668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rge “ablative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4"/>
          <p:cNvSpPr/>
          <p:nvPr/>
        </p:nvSpPr>
        <p:spPr>
          <a:xfrm>
            <a:off x="4532400" y="2063880"/>
            <a:ext cx="43020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-4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5"/>
          <p:cNvSpPr/>
          <p:nvPr/>
        </p:nvSpPr>
        <p:spPr>
          <a:xfrm>
            <a:off x="228600" y="2063880"/>
            <a:ext cx="43038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y beams/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4532400" y="1438200"/>
            <a:ext cx="43020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onventional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7"/>
          <p:cNvSpPr/>
          <p:nvPr/>
        </p:nvSpPr>
        <p:spPr>
          <a:xfrm>
            <a:off x="228600" y="1438200"/>
            <a:ext cx="43038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SB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8"/>
          <p:cNvSpPr/>
          <p:nvPr/>
        </p:nvSpPr>
        <p:spPr>
          <a:xfrm>
            <a:off x="228600" y="14382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9"/>
          <p:cNvSpPr/>
          <p:nvPr/>
        </p:nvSpPr>
        <p:spPr>
          <a:xfrm>
            <a:off x="228600" y="20638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28600" y="275760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1"/>
          <p:cNvSpPr/>
          <p:nvPr/>
        </p:nvSpPr>
        <p:spPr>
          <a:xfrm>
            <a:off x="228600" y="62388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2"/>
          <p:cNvSpPr/>
          <p:nvPr/>
        </p:nvSpPr>
        <p:spPr>
          <a:xfrm>
            <a:off x="2286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3"/>
          <p:cNvSpPr/>
          <p:nvPr/>
        </p:nvSpPr>
        <p:spPr>
          <a:xfrm>
            <a:off x="4532400" y="14382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4"/>
          <p:cNvSpPr/>
          <p:nvPr/>
        </p:nvSpPr>
        <p:spPr>
          <a:xfrm>
            <a:off x="88344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5"/>
          <p:cNvSpPr/>
          <p:nvPr/>
        </p:nvSpPr>
        <p:spPr>
          <a:xfrm>
            <a:off x="228600" y="48466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6"/>
          <p:cNvSpPr/>
          <p:nvPr/>
        </p:nvSpPr>
        <p:spPr>
          <a:xfrm>
            <a:off x="228600" y="414972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7"/>
          <p:cNvSpPr/>
          <p:nvPr/>
        </p:nvSpPr>
        <p:spPr>
          <a:xfrm>
            <a:off x="228600" y="345456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8"/>
          <p:cNvSpPr/>
          <p:nvPr/>
        </p:nvSpPr>
        <p:spPr>
          <a:xfrm>
            <a:off x="228600" y="539892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4"/>
          <p:cNvSpPr/>
          <p:nvPr/>
        </p:nvSpPr>
        <p:spPr>
          <a:xfrm>
            <a:off x="0" y="228600"/>
            <a:ext cx="9144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mpact of Respiratory Motion on IM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5"/>
          <p:cNvGrpSpPr/>
          <p:nvPr/>
        </p:nvGrpSpPr>
        <p:grpSpPr>
          <a:xfrm>
            <a:off x="1447920" y="3767040"/>
            <a:ext cx="6324480" cy="423720"/>
            <a:chOff x="1447920" y="3767040"/>
            <a:chExt cx="6324480" cy="423720"/>
          </a:xfrm>
        </p:grpSpPr>
        <p:sp>
          <p:nvSpPr>
            <p:cNvPr id="722" name="Rectangle 6"/>
            <p:cNvSpPr/>
            <p:nvPr/>
          </p:nvSpPr>
          <p:spPr>
            <a:xfrm>
              <a:off x="1447920" y="3809880"/>
              <a:ext cx="6324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1600200" y="3886200"/>
              <a:ext cx="38124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2838600" y="3882960"/>
              <a:ext cx="380880" cy="22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038840" y="3886200"/>
              <a:ext cx="380880" cy="228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5257800" y="3886200"/>
              <a:ext cx="381240" cy="228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477120" y="3886200"/>
              <a:ext cx="38088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620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1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3169800" y="376704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4358880" y="37908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5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5582880" y="377496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6"/>
            <p:cNvSpPr/>
            <p:nvPr/>
          </p:nvSpPr>
          <p:spPr>
            <a:xfrm>
              <a:off x="682092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17"/>
          <p:cNvSpPr/>
          <p:nvPr/>
        </p:nvSpPr>
        <p:spPr>
          <a:xfrm>
            <a:off x="3961080" y="430056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3960360" y="1218960"/>
            <a:ext cx="155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6503040" y="6521400"/>
            <a:ext cx="2654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g, Zhang, et al  MD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North American cooperative group trial testing SB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activation, the RTOG and partners (ATC, RPC) developed extensive accreditation and compliance criteria for this new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 study based on the previously published phase I study from Indiana Uni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JAMA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4-22T14:34:46Z</cp:lastPrinted>
  <dcterms:modified xsi:type="dcterms:W3CDTF">2011-05-19T14:13:23Z</dcterms:modified>
  <cp:revision>1078</cp:revision>
  <dc:subject/>
  <dc:title>PowerPoint Presentation</dc:title>
</cp:coreProperties>
</file>