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7057-5BF0-4814-9286-BCB765EF3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5D1F-A7E1-4021-85C3-82244FDB9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C1E2-E0A6-48CE-AAF3-68D672DFE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2B4F-BEC0-464B-9683-9EB80318D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16000" y="6793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76520"/>
            <a:ext cx="502920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DAD8-2E6E-410B-A6FA-5C1B8FFB9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EA9-4F02-4C5F-A3D8-2AEDBE48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FD9B-55D0-4A9D-A953-4DEFFD3A5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93EA-C373-4565-A436-881928D97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A386-0AE1-48A9-880D-D5864610C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7B3-AAC7-40AB-A4EF-79A8188BF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C707-8B16-47A8-A7E8-C7CB8155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6938-E8B9-491B-8092-6AF457D67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3B89-74CF-4FD5-AD52-84580879E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416-6E68-4DE8-B25E-CC50F0A7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4C67-D139-48DC-B75A-6B3FB0283B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E95-BFDD-41CC-9D08-9E1B60FED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DE8D-4C4C-4607-9489-A6FFEF8AD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B664-77EA-4B1C-AE99-AAC14D7CF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F05C-C96C-4988-9EAA-AE11F5153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E93B-2D72-45DB-AF2B-9A37E8B20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AB31-153C-4317-B31F-459FE8C89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0CD4-AF82-4C93-BC98-60886B6A0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D1FE-B464-46AB-B2E0-0181367F5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3A8E-8F4D-4E81-9415-D814FB88D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174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A23C-9437-4D07-9A8C-E00D29968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765C-6512-4B5A-B0AF-A6381E723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52D-290B-4885-8BA0-B9A4C78F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6A5-ED2F-4885-A557-65D719EB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D3E-28E6-4863-9130-12310B7C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A8D-DD8D-4F21-8A2A-3B3AC5F5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DBA1-8AC5-40AA-B82E-AF973B38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7AF2-768B-4AEF-9298-97B43B4B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6B2F-20AA-465A-803A-37A49600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89A1-9F04-48BB-996C-B4254861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0FC2-C931-4AC0-A029-179C89DC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A746-7005-4AC1-BE6B-2A71AEE3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3492-827F-4396-876B-77E824E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490-8FAC-42C1-A70D-5ECB80F9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9A25-C022-4FC7-8C49-3901D722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3EB6-1B75-4E8C-A26F-0ED401D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ECC2-D094-4DC5-AF2B-56283260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D69C-283C-401C-A10F-5ADF7336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E2D0-29BB-4AC3-B866-2A950D4B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6416-CE44-497F-905A-41259562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2F50-C95B-4FEE-889C-1543418E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DD8E-558D-4A5D-96DB-B69FC3FE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AFBAB-1B2D-411A-BE67-C786A039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8987-91DB-4ED1-883B-BED836C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E7F-43BC-4623-8444-0641141F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10DE-F396-4932-8581-5E0684AD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B8EA-1822-43A2-BE99-45E459AD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A8DB-67CF-4B48-9EC6-3726BA27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9FEA-AF2E-4510-9B0E-6F18820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4262D-8419-456D-863E-76A92784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FFD2-0E5A-4048-A0AB-FA35282A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F7B5-FD9F-4214-837D-DCBBBCB4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502A-295A-4116-A4A9-FE0742CE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38AD-6FE3-4E93-A6CA-69E07A94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011B-EC96-4580-8BA6-78B7A4DA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DC2-9990-43A8-9C62-3FB39D5C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22C8A-3067-4266-9BED-CE1AF5FD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1E7FE-EA3A-4ACF-B567-0D1150C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6DA0-A696-4364-8E23-54F23D7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2D15-136A-46BD-9770-3DF753E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4997-CC76-4324-BDEB-EA8D433B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E5D32-E774-4E20-9389-062D3F1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5ED8-058D-4F37-A221-7C506E16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2A15F-4289-4735-ADA4-A4C634EA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850B-11D7-441E-98C7-99B5857D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62D00-5EF1-488E-A684-A8A33D44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013-5213-4C9C-9F14-C4E9784D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D212-A91A-4A1E-8854-0418D956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DAD6C-CBD0-4340-A40E-A023FFB4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7B71F-7979-4ECC-A114-6567B44E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87A5-FD06-4B3A-9DE0-7C3E08E0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8C577-98EF-4958-831C-32FB01A8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B9C1A-E80B-4911-87C5-1143761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1CA73-D897-4801-8CE6-769A845E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B175D-BCD3-4BAF-99B7-341D2627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8C5BE-89A1-4B3D-8796-166559C7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6189-E4B2-431B-B3C9-A07DCAD4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2B8-9BC5-4449-995E-6A808A8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F0BA9-4A14-4647-9C73-12EB63CF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222A3-DDBA-42D4-A7FC-9B04AC6E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C712-0E7F-4030-8F2A-16174910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97C3-2C84-47E0-BC29-73349051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E15D4-9169-49CF-96FA-4C6A7EB5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7D303-03F7-4C45-A03C-8A7A2DB9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9355E-2528-487A-A18C-4BE0F6AC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FAA0-AA90-48B0-ADDA-08342B89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B26EC-A381-4164-91F3-A8D18AE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EB6AC-91A6-4A2A-8B00-9F096F55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BE5-5BF7-45E9-9CB1-B69B4F9E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D5BBD-24C9-4D65-9151-FF10585E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8879-B55E-4DF0-8C25-1DE67A2B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4F38E-9EC8-49B2-BBDF-0A78AD8C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34DC6-C461-449B-A380-3943E026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E2AAB-9A0E-457B-A411-72ED6750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AD8CD-BC93-4005-929C-3EA54D1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9BCE5-9787-4CC7-8463-8AAC2DD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4865F-F5FC-4DF7-836D-ACFC32FB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82A7F-1C5B-4BD5-B71F-77EBB52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A19DC-3652-43BE-AD8F-C7BE34B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44E-5608-4662-A8F9-0993B7BE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819DF-2D93-4B0F-A28F-795EED6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08566-40A7-4F74-A1B6-F55BF8A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BF0AE-70AA-4CDF-AC32-E2865542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3EA7-323A-456B-8044-12D8DC48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C1EF6-1171-45A1-AA38-4E1E0237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F9394-821D-41C8-A54F-E7F0681D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CD6F7-181C-4DBC-90DF-E957A14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7E00-66A2-4D1E-8C29-A97311FE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1C676-7A99-4D3D-82E9-9C5E406C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89C64-30EF-4195-B11C-DED68819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12E-2E9C-4341-A265-B755BE2C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AC7E1-2031-4F9B-9C5E-0973363F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13B47-415B-4041-90E2-350195E8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F28CB-9C87-40D3-B222-8728C0A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04C39-11DE-4DA5-93B6-6854FE4C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1E85-D9A6-446E-9D75-120CD6E3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599BD-DDBA-4C16-AE69-18081257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C6728-7047-4A7E-BD83-67A8A524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3A9A-EAA0-4418-BEB6-CAC088BE3C9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2590-9165-4B7F-B7EB-A5CDCE358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39AB-3E6C-4A61-B745-7D3ABE4AD5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A562-A086-4D9D-B293-6A62EB64096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C536-288E-49C3-B7D7-F0C0B3D9BE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228600" y="1384200"/>
            <a:ext cx="8686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1E3A-2A92-4A0A-86AC-29F33B4C27D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5448-122F-48B2-ADC9-BD400207881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93FB-F6C3-4EC5-904B-85B0617D9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13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ultimodality Treatment of Locally Advanced NSCLC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ett E. Vok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University of Chicag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9801 Design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482760" y="1538280"/>
            <a:ext cx="44280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713960" y="1984320"/>
            <a:ext cx="256896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(Standard CT/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1701720" y="3840120"/>
            <a:ext cx="25732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 (Ind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T/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4888080" y="1908000"/>
            <a:ext cx="37224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5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1h/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 IV/30 min/w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6600 cGy (to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4915440" y="3824280"/>
            <a:ext cx="3559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20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3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6 IV/3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21 days for a total of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902120" y="5322960"/>
            <a:ext cx="36576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5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1h/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 IV/30 min/w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6600 cGy (total) (d 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6654960" y="4738680"/>
            <a:ext cx="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939960" y="2528640"/>
            <a:ext cx="83808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939960" y="3138480"/>
            <a:ext cx="83808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0" y="120024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642960" y="304920"/>
            <a:ext cx="7950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urrent Questions in Stage III NSCL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69920" y="1447920"/>
            <a:ext cx="8763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236520" y="1828800"/>
            <a:ext cx="8686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576360" y="2286000"/>
            <a:ext cx="7924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chemoradiotherapy plat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cycle number (consolid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of new cytotoxics (at   systemically active dos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radiotherapy dose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on of targeted therap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of predictive ma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236520" y="228600"/>
            <a:ext cx="86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 (PI: R. Govindan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838080" y="1905120"/>
            <a:ext cx="791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49840" y="2870280"/>
            <a:ext cx="40122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platin AUC 5  q3w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w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RT – 70 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4671720" y="2870280"/>
            <a:ext cx="4082040" cy="1618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platin AUC 5  q3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 w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RT – 70 G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tuximab 400mg/m² lo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250mg/m² wee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6"/>
          <p:cNvSpPr/>
          <p:nvPr/>
        </p:nvSpPr>
        <p:spPr>
          <a:xfrm flipH="1">
            <a:off x="2209320" y="1523880"/>
            <a:ext cx="20322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376880" y="1523880"/>
            <a:ext cx="19476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2075040" y="3886200"/>
            <a:ext cx="0" cy="1447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6858000" y="449568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968480" y="5342040"/>
            <a:ext cx="50418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wee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1"/>
          <p:cNvSpPr/>
          <p:nvPr/>
        </p:nvSpPr>
        <p:spPr>
          <a:xfrm>
            <a:off x="152280" y="1357200"/>
            <a:ext cx="8839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15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eatment Delivery During Chemoradi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" y="1913040"/>
          <a:ext cx="8153280" cy="319248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 and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, Carboplatin and Cetuxi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ur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eatment Delivery (Post Chemoradi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609480" y="1752480"/>
          <a:ext cx="8153280" cy="364176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 and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, Carboplatin and Cetuxi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ur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29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677880" y="1981080"/>
            <a:ext cx="782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2 months (95% CI: 7.4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.4 months (95% CI: 13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Month Overa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% (95% CI 43-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(95% CI 38-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600200" y="5334120"/>
            <a:ext cx="5850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an follow-up: 23 months (as of 7-23-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0: p≤0.35 versus H1: p≥0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 = survival probability at 18 months reg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 by Histolog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0920" y="1828800"/>
            <a:ext cx="616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 month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95% CI: 11.8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SCC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 month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95% CI: 17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Month Overall Survi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(95% CI: 34-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6% (95% CI: 44-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76000" y="1752120"/>
            <a:ext cx="8034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metrexed, carboplatin and thoracic radiation with or without cetuximab produced a median survival of 22 month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regimens met the pre-defined threshold (median survival of 20.9 months) to be considered worthy for further developme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nds toward better outcomes observed with non-squamous NSCLC in this stud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ities related to concurrent chemoradiation are similar to previous stud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11000" y="151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uture Direction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-squamous NSCLC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LAIM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555480" y="2209680"/>
            <a:ext cx="4352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1677960" y="289548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rm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600200" y="4403880"/>
            <a:ext cx="94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rm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2405160" y="2590920"/>
            <a:ext cx="406404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splatin 75 mg/m² q3 week x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metrexed 500 mg/m² q 3 week x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RT – 66 Gy in 33 fr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2471760" y="4162320"/>
            <a:ext cx="438624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splatin 50 mg/m² d1, 8 q4 week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toposide 50 mg/m²  d1-5 q4week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RT – 66 Gy in 33 fr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1150920" y="3886200"/>
            <a:ext cx="57636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20"/>
          <p:cNvSpPr/>
          <p:nvPr/>
        </p:nvSpPr>
        <p:spPr>
          <a:xfrm flipV="1">
            <a:off x="1150920" y="3276360"/>
            <a:ext cx="50796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2949480" y="16765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Randomized Phase III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3"/>
          <p:cNvSpPr/>
          <p:nvPr/>
        </p:nvSpPr>
        <p:spPr>
          <a:xfrm>
            <a:off x="6942240" y="4406760"/>
            <a:ext cx="182880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inum based doublets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6672240" y="2666880"/>
            <a:ext cx="1895400" cy="55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metrexed x 4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1930320" y="5673600"/>
            <a:ext cx="629928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Primary objective: survival</a:t>
            </a:r>
            <a:br>
              <a:rPr sz="1500"/>
            </a:b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Superiority design</a:t>
            </a:r>
            <a:br>
              <a:rPr sz="1500"/>
            </a:b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80% Powered to detect Hazard Ratio = 0.74 - Sample Size 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2" descr="Africa Asia Europe Globe"/>
          <p:cNvPicPr/>
          <p:nvPr/>
        </p:nvPicPr>
        <p:blipFill>
          <a:blip r:embed="rId1"/>
          <a:stretch/>
        </p:blipFill>
        <p:spPr>
          <a:xfrm>
            <a:off x="846000" y="228600"/>
            <a:ext cx="935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Integration of Cetuximab: RTOG 0324</a:t>
            </a:r>
            <a:endParaRPr b="1" lang="en-US" sz="3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241200" y="2505240"/>
            <a:ext cx="3810240" cy="201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tuximab 4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 to XRT then 25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x 7 during XRT (63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45mg/m² week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= 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1468440" y="5016600"/>
            <a:ext cx="115236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7"/>
          <p:cNvSpPr/>
          <p:nvPr/>
        </p:nvSpPr>
        <p:spPr>
          <a:xfrm flipV="1">
            <a:off x="1467000" y="3796920"/>
            <a:ext cx="1083960" cy="1219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380880" y="632448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lumenschein et al. ASCO abstract 7516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4813200" y="2695680"/>
            <a:ext cx="4114800" cy="1738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tuximab 25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x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6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2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21 days starting 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eek 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ight Arrow 12"/>
          <p:cNvSpPr/>
          <p:nvPr/>
        </p:nvSpPr>
        <p:spPr>
          <a:xfrm>
            <a:off x="4203720" y="3228840"/>
            <a:ext cx="533520" cy="484200"/>
          </a:xfrm>
          <a:prstGeom prst="rightArrow">
            <a:avLst>
              <a:gd name="adj1" fmla="val 50000"/>
              <a:gd name="adj2" fmla="val 44497"/>
            </a:avLst>
          </a:prstGeom>
          <a:solidFill>
            <a:srgbClr val="da1f28"/>
          </a:solidFill>
          <a:ln w="2556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4889520" y="216216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o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93840" y="2009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urrent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169920" y="137160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terogeneity of N2 disease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gle s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gle no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croscopic invol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5 or 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all volume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d Pro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station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nod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tracapsular exten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4L or 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lky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xed (invasion of mediastinal structur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kip metasta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838080" y="6324480"/>
            <a:ext cx="44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Kassis Thorac Surg Clin 18 (2008) 333-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1066680" y="4495680"/>
            <a:ext cx="22431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erformanc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igh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ulmonar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-morbid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169920" y="114300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Future Directions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RTOG 0617- Schema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522000" y="2286000"/>
            <a:ext cx="4352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1117440" y="2133720"/>
            <a:ext cx="426744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RT – 60 Gy in 6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1117440" y="3200400"/>
            <a:ext cx="4267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74 Gy in 7.5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7"/>
          <p:cNvSpPr/>
          <p:nvPr/>
        </p:nvSpPr>
        <p:spPr>
          <a:xfrm>
            <a:off x="1150920" y="4648320"/>
            <a:ext cx="57636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2949480" y="16002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Randomized Phase III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6197760" y="4648320"/>
            <a:ext cx="2234880" cy="12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plat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litax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6062760" y="2743200"/>
            <a:ext cx="21668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plat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1117440" y="4191120"/>
            <a:ext cx="426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60 Gy in 6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1117440" y="5486400"/>
            <a:ext cx="426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74 Gy in 7.5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ight Brace 35"/>
          <p:cNvSpPr/>
          <p:nvPr/>
        </p:nvSpPr>
        <p:spPr>
          <a:xfrm>
            <a:off x="5656320" y="2590920"/>
            <a:ext cx="135000" cy="1295280"/>
          </a:xfrm>
          <a:custGeom>
            <a:avLst/>
            <a:gdLst>
              <a:gd name="textAreaLeft" fmla="*/ 0 w 135000"/>
              <a:gd name="textAreaRight" fmla="*/ 48600 w 135000"/>
              <a:gd name="textAreaTop" fmla="*/ 3960 h 1295280"/>
              <a:gd name="textAreaBottom" fmla="*/ 1291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ight Brace 36"/>
          <p:cNvSpPr/>
          <p:nvPr/>
        </p:nvSpPr>
        <p:spPr>
          <a:xfrm>
            <a:off x="5656320" y="4724280"/>
            <a:ext cx="135000" cy="1295640"/>
          </a:xfrm>
          <a:custGeom>
            <a:avLst/>
            <a:gdLst>
              <a:gd name="textAreaLeft" fmla="*/ 0 w 135000"/>
              <a:gd name="textAreaRight" fmla="*/ 48600 w 135000"/>
              <a:gd name="textAreaTop" fmla="*/ 3960 h 1295640"/>
              <a:gd name="textAreaBottom" fmla="*/ 1291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0" y="74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Dominance of Systemic Failure</a:t>
            </a:r>
            <a:br>
              <a:rPr sz="2300"/>
            </a:b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Stage III Sites of Relapse in CALGB 39801 (n = 213) </a:t>
            </a:r>
            <a:br>
              <a:rPr sz="23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Vokes et al JCO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0" y="120024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284640" y="1676520"/>
            <a:ext cx="243828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 prog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4920" y="3124080"/>
            <a:ext cx="189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540160" y="3124080"/>
            <a:ext cx="216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nd di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4978440" y="3124080"/>
            <a:ext cx="19638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7213680" y="3124080"/>
            <a:ext cx="17604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060720" y="4452840"/>
            <a:ext cx="31147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 relap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168560" y="5824440"/>
            <a:ext cx="216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ain and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606840" y="5824440"/>
            <a:ext cx="19638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ain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5842080" y="5824440"/>
            <a:ext cx="257328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, but not 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1252080" y="2133720"/>
            <a:ext cx="2032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5722920" y="2133720"/>
            <a:ext cx="2031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6"/>
          <p:cNvSpPr/>
          <p:nvPr/>
        </p:nvSpPr>
        <p:spPr>
          <a:xfrm flipH="1">
            <a:off x="6197760" y="5029200"/>
            <a:ext cx="947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7"/>
          <p:cNvSpPr/>
          <p:nvPr/>
        </p:nvSpPr>
        <p:spPr>
          <a:xfrm flipH="1">
            <a:off x="2103120" y="4952880"/>
            <a:ext cx="949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1270080" y="21337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754760" y="210492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2120760" y="493884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7132680" y="501984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3827520" y="2548080"/>
            <a:ext cx="0" cy="423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5316480" y="2543040"/>
            <a:ext cx="0" cy="428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3624120" y="3976560"/>
            <a:ext cx="0" cy="424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5638680" y="3981600"/>
            <a:ext cx="0" cy="428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6"/>
          <p:cNvSpPr/>
          <p:nvPr/>
        </p:nvSpPr>
        <p:spPr>
          <a:xfrm>
            <a:off x="4640400" y="5334120"/>
            <a:ext cx="0" cy="423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ined Modality Therapy Approach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omitant chemotherapy can be sensitizing or system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69920" y="2438280"/>
            <a:ext cx="250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nduction 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218040" y="2438280"/>
            <a:ext cx="250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comitant CT/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6324480" y="2438280"/>
            <a:ext cx="281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solidation 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2608200" y="3200400"/>
            <a:ext cx="81288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5656320" y="3200400"/>
            <a:ext cx="81288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169920" y="200484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338040" y="6477120"/>
            <a:ext cx="661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Auperin, A. et al. J Clin Oncol; 28:2181-219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62000" y="162000"/>
            <a:ext cx="881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Induction versus Concomitant Therapy Meta-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Hazard Ratio (HR): Survival and P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171360" y="884160"/>
            <a:ext cx="8990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135080" y="1157400"/>
          <a:ext cx="6858000" cy="43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Survival HR (95% CI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ion-Free Survival H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5% CI)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GB 88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2 (0.73 to 1.7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8 (0.70 to 1.6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JLC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 (0.61 to 0.9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66 to 1.0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OG 94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 (0.65 to 0.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2 (0.67 to 1.0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MA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kara 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 (0.41 to 1.8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2 (0.38 to 1.7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T-GFP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 (0.60 to 1.0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63 to 1.1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RTC 089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 (0.69 to 1.3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8 (0.92 to 1.8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74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0 (0.79 to 1.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1015920" y="5562720"/>
            <a:ext cx="541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R &gt;1 favors RT + sequential C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RT + concurrent CT effect p = 0.004</a:t>
            </a:r>
            <a:br>
              <a:rPr sz="1400"/>
            </a:b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†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 + concurrent CT effect p = 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0" y="412920"/>
            <a:ext cx="91440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duction versus Concomitant Therapy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eta-analy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Hazard Ratio (HR):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Local Progression and Distant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71360" y="1447920"/>
            <a:ext cx="8990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38040" y="6477120"/>
            <a:ext cx="661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Auperin, A. et al. J Clin Oncol; 28:2181-219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15920" y="5518080"/>
            <a:ext cx="541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R &gt;1 favors RT + sequential C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RT + concurrent CT effect p = 0.01</a:t>
            </a:r>
            <a:br>
              <a:rPr sz="1400"/>
            </a:b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RT + concurrent CT effect p = 0.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135080" y="1677960"/>
          <a:ext cx="6858000" cy="3808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8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Progression HR (95% CI)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t Progression HR (95% CI)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JLC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9 (0.48 to 1.0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6 (0.88 to 1.7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OG 94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2 (0.64 to 1.3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 (0.69 to 1.25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MA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kara 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9 (0.19 to 2.5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5 (0.43 to 3.0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T-GFP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8 (0.35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(0.60 to 1.5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RTC 089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 (0.54 to 1.6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 (0.63 to 1.6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7 (0.62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4 (0.86 to 1.2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nduction (Consolidation) plus Concurrent Chemoradiation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dresses systemic and locoregional cancer compartments comprehensive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livers more cycles of chemotherap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ows for use of more than one regim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wo models: SWOG   (CT/X      CT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LGB (CT       CT/X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6095880" y="4343400"/>
            <a:ext cx="474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5943600" y="4952880"/>
            <a:ext cx="473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128320" y="1295280"/>
            <a:ext cx="5107320" cy="136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lIns="45720" r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hem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isplatin 5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IV d 1,8,29,36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toposide 5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IV d 1-5 &amp; 29-33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urrent RT 59.4 Gy (1.8 Gy/f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42800" y="2988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HOG LUN 01-24/USO 02-033 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73200" y="3417840"/>
            <a:ext cx="23414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tratification Variabl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PS 0-1 v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IIIA vs II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R vs. non-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530280" y="5721480"/>
            <a:ext cx="4192560" cy="533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cetaxel 75 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q 3 w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6"/>
          <p:cNvSpPr/>
          <p:nvPr/>
        </p:nvSpPr>
        <p:spPr>
          <a:xfrm flipH="1">
            <a:off x="3179880" y="4390560"/>
            <a:ext cx="891720" cy="90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4707000" y="2666880"/>
            <a:ext cx="0" cy="587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5489280" y="4428000"/>
            <a:ext cx="790920" cy="97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5181480" y="5686560"/>
            <a:ext cx="3505320" cy="55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908520" y="3465360"/>
            <a:ext cx="17539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andom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4584600" y="44467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0"/>
          <p:cNvSpPr/>
          <p:nvPr/>
        </p:nvSpPr>
        <p:spPr>
          <a:xfrm>
            <a:off x="5291280" y="6377040"/>
            <a:ext cx="36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anna et al JCO 26: 5755-5760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5888160" y="344016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7651800" y="215568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3994200" y="486576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6"/>
          <p:cNvSpPr/>
          <p:nvPr/>
        </p:nvSpPr>
        <p:spPr>
          <a:xfrm>
            <a:off x="6486480" y="482292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338040" y="1143000"/>
            <a:ext cx="880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1960" y="555120"/>
            <a:ext cx="802332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 (ITT)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47880" y="1752480"/>
            <a:ext cx="60958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ocetaxel: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dian: 21.5 months (17.0-34.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 year survival rate: 27.2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bservation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dian: 24.1 months (18.0-34.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 year survival rate: 27.6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-value: 0.94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0"/>
          <p:cNvSpPr/>
          <p:nvPr/>
        </p:nvSpPr>
        <p:spPr>
          <a:xfrm>
            <a:off x="5291280" y="6377040"/>
            <a:ext cx="36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anna et al JCO 26: 5755-5760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"/>
          <p:cNvSpPr/>
          <p:nvPr/>
        </p:nvSpPr>
        <p:spPr>
          <a:xfrm>
            <a:off x="338040" y="1295280"/>
            <a:ext cx="880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5:59:06Z</dcterms:created>
  <dc:creator>Research To Practice</dc:creator>
  <dc:description/>
  <cp:keywords/>
  <dc:language>en-US</dc:language>
  <cp:lastModifiedBy>Mac Pro E703803Y4PC</cp:lastModifiedBy>
  <cp:lastPrinted>2011-05-10T16:55:25Z</cp:lastPrinted>
  <dcterms:modified xsi:type="dcterms:W3CDTF">2011-05-11T16:49:21Z</dcterms:modified>
  <cp:revision>227</cp:revision>
  <dc:subject/>
  <dc:title>PowerPoint Presentation</dc:title>
</cp:coreProperties>
</file>