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59A4-6BA2-427D-A5D4-A296B9689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Cancer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658A-2885-4671-A35D-70E3E617D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782B-8443-4BF6-8238-4B0FFE98E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E162-FDB2-487D-B809-F5417556F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404A-B45A-4976-A70B-6CFF474C1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EAB8EC-98D9-4A33-B663-95451DB95B33}" type="slidenum"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7320" cy="3427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15E1-FCF2-40BF-B000-8C2F37934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1852-A7E2-4B95-997D-52B6F1992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746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5320" y="4352760"/>
            <a:ext cx="501336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97E9-AF7D-4671-936A-41D6B8704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BBC-84C8-442D-9024-C1E3A7D4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BB8-8B86-416B-A0AE-34AFF115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E6E-70EA-49AE-BB28-1E38303B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FB9-B850-4515-86FE-AEF70CDC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5BA-8C53-40FC-B247-1F71210C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AFB-2C5D-4A61-B641-4E30056A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547-3194-40F2-82D6-8809E61E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2F2-D5E0-4496-BE46-85A55527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964-1663-47D7-8208-8CE8A4C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54F1-24DF-4EAB-857C-31F87E9A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0038-5C11-409B-A5A1-10876867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8417-9A13-4A58-A870-13B24B55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6161-ED7F-4935-93E4-D2AB4B0C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8486-D2DF-4DFB-8924-7F0B0F24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9E0E-8915-49D8-AA64-B0EAD75D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F790-7E2C-47BC-9BBC-5830D34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1AAA-6C1C-4274-AD9C-12B39DC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A364-7C67-49EF-9956-C756AA2F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519-C62F-4C46-851A-69DEE47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BA8-C87A-479B-AADF-74355F67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F4A7-2F82-4042-BF75-95FCA515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9F73-68F2-4E77-AC1E-2D5491BE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0A6-00E3-4F72-B000-07536BF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5725-F420-4BCF-A1A9-DB7564BB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A1A8-E9A7-4D36-8417-A5D5AF2A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F64A-6C89-4D83-970A-E8B58907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AF03-6F87-4BE9-9B0E-62F12DE8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AF22-4C70-4A7E-B6B3-0DB9D3EF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F3F-4831-4C1B-B207-99CC8598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6B65-8E5F-4572-8D77-7AB4F614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9C90-6153-4D9B-B571-A257ADB6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05EA-07FC-47C8-893D-11B2DB81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8860-DEE8-414C-BB93-A0FC2E18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B658-9F44-4960-A9BA-49561C5A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907E-3AE8-4440-BF35-041E1AE8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5F09-2A6E-45E2-AEAD-5714122D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A95C-1E04-4297-8B3C-D9A58B765A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87280" indent="-2872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8584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775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09600" indent="-3492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87280" indent="-2872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8584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775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09600" indent="-3492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DEA-7898-47FA-B267-A29F723C0E0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7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7315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1280" indent="-341280">
              <a:lnSpc>
                <a:spcPct val="95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25320" indent="-16812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68400" indent="-1778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251000" indent="-1666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544760" indent="-10980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544760" indent="-1098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544760" indent="-1098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7"/>
          </p:nvPr>
        </p:nvSpPr>
        <p:spPr>
          <a:xfrm>
            <a:off x="5908680" y="669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8"/>
          </p:nvPr>
        </p:nvSpPr>
        <p:spPr>
          <a:xfrm>
            <a:off x="-360" y="66927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9"/>
          </p:nvPr>
        </p:nvSpPr>
        <p:spPr>
          <a:xfrm>
            <a:off x="7238880" y="669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2D6C-F67E-4204-8A61-936A9DA0D9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05228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3d17"/>
                </a:solidFill>
                <a:latin typeface="Lucida Grande"/>
              </a:rPr>
              <a:t>Leveraging the EML4-ALK fusion gene in NSCLC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036520" y="2971800"/>
            <a:ext cx="515808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useppe Giaccone, MD,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l Oncology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Cancer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esda, Mary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mi, February 12,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6760" y="632448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s C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Updated Results: Median Progression-Free Survival (PF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 = 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dian PFS, 9.2 months (95% Cl: 7.6, 10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FS probability at 6 months:  7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48% of patients in follow-up for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dian follow-up for PFS:  8.0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07880" y="1066680"/>
            <a:ext cx="8348760" cy="5727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Duff 9-16-08 2"/>
          <p:cNvPicPr/>
          <p:nvPr/>
        </p:nvPicPr>
        <p:blipFill>
          <a:blip r:embed="rId1"/>
          <a:srcRect l="22774" t="0" r="22579" b="0"/>
          <a:stretch/>
        </p:blipFill>
        <p:spPr>
          <a:xfrm>
            <a:off x="1041480" y="1066680"/>
            <a:ext cx="2651040" cy="267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Picture 8" descr="Duff 11-19-08, 2"/>
          <p:cNvPicPr/>
          <p:nvPr/>
        </p:nvPicPr>
        <p:blipFill>
          <a:blip r:embed="rId2"/>
          <a:srcRect l="21855" t="0" r="22346" b="0"/>
          <a:stretch/>
        </p:blipFill>
        <p:spPr>
          <a:xfrm>
            <a:off x="5116680" y="1179360"/>
            <a:ext cx="2703240" cy="2668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0"/>
          <p:cNvSpPr/>
          <p:nvPr/>
        </p:nvSpPr>
        <p:spPr>
          <a:xfrm>
            <a:off x="0" y="0"/>
            <a:ext cx="91440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849960" y="1152360"/>
            <a:ext cx="292032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95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-Trea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4317480" y="1143000"/>
            <a:ext cx="459540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fter 2 cycles PF-023410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8" descr="Duff 11-19-08,3"/>
          <p:cNvPicPr/>
          <p:nvPr/>
        </p:nvPicPr>
        <p:blipFill>
          <a:blip r:embed="rId3"/>
          <a:srcRect l="25003" t="0" r="25003" b="0"/>
          <a:stretch/>
        </p:blipFill>
        <p:spPr>
          <a:xfrm>
            <a:off x="5072040" y="3432240"/>
            <a:ext cx="3006720" cy="31446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Duff 9-16-08, 3"/>
          <p:cNvPicPr/>
          <p:nvPr/>
        </p:nvPicPr>
        <p:blipFill>
          <a:blip r:embed="rId4"/>
          <a:srcRect l="22614" t="0" r="22377" b="0"/>
          <a:stretch/>
        </p:blipFill>
        <p:spPr>
          <a:xfrm>
            <a:off x="961920" y="3660840"/>
            <a:ext cx="2927520" cy="29304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0"/>
          <p:cNvSpPr/>
          <p:nvPr/>
        </p:nvSpPr>
        <p:spPr>
          <a:xfrm>
            <a:off x="71280" y="208080"/>
            <a:ext cx="849168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422280" y="31680"/>
            <a:ext cx="85946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 Bold"/>
              </a:rPr>
              <a:t>48 yo Female Never Smoker with Stage IV NSCLC Positive for EML4-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380880" y="6629400"/>
            <a:ext cx="642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dfd"/>
                </a:solidFill>
                <a:latin typeface="Arial"/>
              </a:rPr>
              <a:t>With permission from Kwak EL et al. </a:t>
            </a:r>
            <a:r>
              <a:rPr b="0" i="1" lang="en-US" sz="2400" spc="-1" strike="noStrike" baseline="30000">
                <a:solidFill>
                  <a:srgbClr val="fffdfd"/>
                </a:solidFill>
                <a:latin typeface="Arial"/>
              </a:rPr>
              <a:t>Proc ASCO</a:t>
            </a:r>
            <a:r>
              <a:rPr b="0" lang="en-US" sz="2400" spc="-1" strike="noStrike" baseline="30000">
                <a:solidFill>
                  <a:srgbClr val="fffdfd"/>
                </a:solidFill>
                <a:latin typeface="Arial"/>
              </a:rPr>
              <a:t> 2009;Abstract 35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"/>
          <p:cNvSpPr/>
          <p:nvPr/>
        </p:nvSpPr>
        <p:spPr>
          <a:xfrm>
            <a:off x="0" y="0"/>
            <a:ext cx="91440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248880" y="2425680"/>
            <a:ext cx="292032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95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-Trea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337800" y="5127480"/>
            <a:ext cx="258228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fter 1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F-023410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1280" y="208080"/>
            <a:ext cx="849168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422280" y="31680"/>
            <a:ext cx="85946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 Bold"/>
              </a:rPr>
              <a:t>43 yo Male Never Smoker with Stage IV NSCLC Positive for EML4-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552600" y="1066680"/>
            <a:ext cx="5833800" cy="2873520"/>
            <a:chOff x="552600" y="1066680"/>
            <a:chExt cx="5833800" cy="2873520"/>
          </a:xfrm>
        </p:grpSpPr>
        <p:pic>
          <p:nvPicPr>
            <p:cNvPr id="409" name="Picture 5" descr=""/>
            <p:cNvPicPr/>
            <p:nvPr/>
          </p:nvPicPr>
          <p:blipFill>
            <a:blip r:embed="rId1"/>
            <a:srcRect l="0" t="45593" r="47241" b="12833"/>
            <a:stretch/>
          </p:blipFill>
          <p:spPr>
            <a:xfrm>
              <a:off x="552600" y="1066680"/>
              <a:ext cx="5833800" cy="28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10"/>
            <p:cNvSpPr/>
            <p:nvPr/>
          </p:nvSpPr>
          <p:spPr>
            <a:xfrm>
              <a:off x="623880" y="1066680"/>
              <a:ext cx="504360" cy="43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12"/>
          <p:cNvGrpSpPr/>
          <p:nvPr/>
        </p:nvGrpSpPr>
        <p:grpSpPr>
          <a:xfrm>
            <a:off x="552600" y="3962520"/>
            <a:ext cx="5833800" cy="2873160"/>
            <a:chOff x="552600" y="3962520"/>
            <a:chExt cx="5833800" cy="2873160"/>
          </a:xfrm>
        </p:grpSpPr>
        <p:pic>
          <p:nvPicPr>
            <p:cNvPr id="412" name="Picture 4" descr=""/>
            <p:cNvPicPr/>
            <p:nvPr/>
          </p:nvPicPr>
          <p:blipFill>
            <a:blip r:embed="rId2"/>
            <a:srcRect l="0" t="4016" r="47241" b="54410"/>
            <a:stretch/>
          </p:blipFill>
          <p:spPr>
            <a:xfrm>
              <a:off x="552600" y="3962520"/>
              <a:ext cx="5833800" cy="28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9"/>
            <p:cNvSpPr/>
            <p:nvPr/>
          </p:nvSpPr>
          <p:spPr>
            <a:xfrm>
              <a:off x="623880" y="4033440"/>
              <a:ext cx="504360" cy="43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71280"/>
            <a:ext cx="9144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91960" y="220680"/>
            <a:ext cx="8529840" cy="7272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urrent Crizotinib Clinical Trials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-568440" y="6327720"/>
            <a:ext cx="969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1007: NCT00932893; PROFILE 1005: NCT009324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36"/>
          <p:cNvSpPr/>
          <p:nvPr/>
        </p:nvSpPr>
        <p:spPr>
          <a:xfrm>
            <a:off x="419040" y="1674720"/>
            <a:ext cx="3676680" cy="171144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109800" anchor="t">
            <a:spAutoFit/>
          </a:bodyPr>
          <a:p>
            <a:pPr marL="203040" indent="-2030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y entry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itive for ALK by central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prior chemotherap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tinum-bas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8"/>
          <p:cNvSpPr/>
          <p:nvPr/>
        </p:nvSpPr>
        <p:spPr>
          <a:xfrm>
            <a:off x="4092480" y="3660840"/>
            <a:ext cx="103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N = 3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AutoShape 42"/>
          <p:cNvCxnSpPr/>
          <p:nvPr/>
        </p:nvCxnSpPr>
        <p:spPr>
          <a:xfrm flipH="1" flipV="1" rot="5400000">
            <a:off x="4754160" y="2283120"/>
            <a:ext cx="743760" cy="237240"/>
          </a:xfrm>
          <a:prstGeom prst="bentConnector2">
            <a:avLst/>
          </a:prstGeom>
          <a:ln w="3492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420" name="AutoShape 43"/>
          <p:cNvCxnSpPr/>
          <p:nvPr/>
        </p:nvCxnSpPr>
        <p:spPr>
          <a:xfrm>
            <a:off x="4119120" y="2550600"/>
            <a:ext cx="1151640" cy="605880"/>
          </a:xfrm>
          <a:prstGeom prst="bentConnector3">
            <a:avLst>
              <a:gd name="adj1" fmla="val 77235"/>
            </a:avLst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1" name="Text Box 19"/>
          <p:cNvSpPr/>
          <p:nvPr/>
        </p:nvSpPr>
        <p:spPr>
          <a:xfrm>
            <a:off x="1247400" y="130500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imes New Roman"/>
              </a:rPr>
              <a:t>PROFILE 1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AutoShape 6"/>
          <p:cNvCxnSpPr>
            <a:stCxn id="423" idx="3"/>
          </p:cNvCxnSpPr>
          <p:nvPr/>
        </p:nvCxnSpPr>
        <p:spPr>
          <a:xfrm>
            <a:off x="4154040" y="5227560"/>
            <a:ext cx="1166040" cy="140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424" name="AutoShape 40"/>
          <p:cNvSpPr/>
          <p:nvPr/>
        </p:nvSpPr>
        <p:spPr>
          <a:xfrm>
            <a:off x="5305320" y="4849920"/>
            <a:ext cx="3516480" cy="93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Crizotinib </a:t>
            </a: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250 mg BID (n = 4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1140120">
              <a:lnSpc>
                <a:spcPct val="100000"/>
              </a:lnSpc>
              <a:tabLst>
                <a:tab algn="l" pos="0"/>
                <a:tab algn="l" pos="1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administered on a continuo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1140120">
              <a:lnSpc>
                <a:spcPct val="100000"/>
              </a:lnSpc>
              <a:tabLst>
                <a:tab algn="l" pos="0"/>
                <a:tab algn="l" pos="1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dosing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36"/>
          <p:cNvSpPr/>
          <p:nvPr/>
        </p:nvSpPr>
        <p:spPr>
          <a:xfrm>
            <a:off x="411120" y="4272120"/>
            <a:ext cx="3729240" cy="206748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109800" anchor="t">
            <a:spAutoFit/>
          </a:bodyPr>
          <a:p>
            <a:pPr marL="203040" indent="-2030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y entry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itive for ALK by central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gressive disease in Arm B of study A8081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gt;1 prior chemothera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1263240" y="389088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c63f"/>
                </a:solidFill>
                <a:latin typeface="Times New Roman"/>
              </a:rPr>
              <a:t>PROFILE 1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37"/>
          <p:cNvSpPr/>
          <p:nvPr/>
        </p:nvSpPr>
        <p:spPr>
          <a:xfrm>
            <a:off x="4354560" y="1468440"/>
            <a:ext cx="417600" cy="2160000"/>
          </a:xfrm>
          <a:custGeom>
            <a:avLst/>
            <a:gdLst>
              <a:gd name="textAreaLeft" fmla="*/ 20160 w 417600"/>
              <a:gd name="textAreaRight" fmla="*/ 397440 w 417600"/>
              <a:gd name="textAreaTop" fmla="*/ 20160 h 2160000"/>
              <a:gd name="textAreaBottom" fmla="*/ 2139840 h 2160000"/>
            </a:gdLst>
            <a:ahLst/>
            <a:rect l="textAreaLeft" t="textAreaTop" r="textAreaRight" b="textAreaBottom"/>
            <a:pathLst>
              <a:path w="21600" h="111647">
                <a:moveTo>
                  <a:pt x="3600" y="0"/>
                </a:moveTo>
                <a:arcTo wR="3600" hR="3600" stAng="16200000" swAng="-5400000"/>
                <a:lnTo>
                  <a:pt x="0" y="108047"/>
                </a:lnTo>
                <a:arcTo wR="3600" hR="3600" stAng="10800000" swAng="-5400000"/>
                <a:lnTo>
                  <a:pt x="18000" y="111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7373"/>
          </a:solidFill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109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R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N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D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M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I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Z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8"/>
          <p:cNvSpPr/>
          <p:nvPr/>
        </p:nvSpPr>
        <p:spPr>
          <a:xfrm>
            <a:off x="4116240" y="5397480"/>
            <a:ext cx="103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N =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39"/>
          <p:cNvSpPr/>
          <p:nvPr/>
        </p:nvSpPr>
        <p:spPr>
          <a:xfrm>
            <a:off x="5275440" y="1332000"/>
            <a:ext cx="3546360" cy="1217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Crizotinib 250 mg BID (n=15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administered on a continuo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dosing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40"/>
          <p:cNvSpPr/>
          <p:nvPr/>
        </p:nvSpPr>
        <p:spPr>
          <a:xfrm>
            <a:off x="5322960" y="2813040"/>
            <a:ext cx="3498840" cy="1203480"/>
          </a:xfrm>
          <a:prstGeom prst="roundRect">
            <a:avLst>
              <a:gd name="adj" fmla="val 16667"/>
            </a:avLst>
          </a:prstGeom>
          <a:solidFill>
            <a:srgbClr val="badd8c"/>
          </a:solidFill>
          <a:ln w="28440">
            <a:solidFill>
              <a:srgbClr val="699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Pemetrexed </a:t>
            </a: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500 mg/m</a:t>
            </a:r>
            <a:r>
              <a:rPr b="0" lang="en-GB" sz="1500" spc="-1" strike="noStrike" baseline="30000">
                <a:solidFill>
                  <a:srgbClr val="00457c"/>
                </a:solidFill>
                <a:latin typeface="Times New Roman"/>
                <a:ea typeface="Arial"/>
              </a:rPr>
              <a:t>2</a:t>
            </a:r>
            <a:r>
              <a:rPr b="0" lang="en-GB" sz="1100" spc="-1" strike="noStrike">
                <a:solidFill>
                  <a:srgbClr val="00457c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457c"/>
                </a:solidFill>
                <a:latin typeface="Times New Roman"/>
                <a:ea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docetaxel 75 mg/m</a:t>
            </a:r>
            <a:r>
              <a:rPr b="0" lang="en-GB" sz="1500" spc="-1" strike="noStrike" baseline="30000">
                <a:solidFill>
                  <a:srgbClr val="00457c"/>
                </a:solidFill>
                <a:latin typeface="Times New Roman"/>
                <a:ea typeface="Arial"/>
              </a:rPr>
              <a:t>2</a:t>
            </a: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 (n=15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c"/>
                </a:solidFill>
                <a:latin typeface="Times New Roman"/>
                <a:ea typeface="Arial"/>
              </a:rPr>
              <a:t>infused on day 1 of a 21-day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038480" y="4800600"/>
            <a:ext cx="4572000" cy="24372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metrexed/cisplatin or pemetrexed/carbop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5029200"/>
            <a:ext cx="2667240" cy="24372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y 1 of a 21-day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7480" y="6095880"/>
            <a:ext cx="52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-Kenudson 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n Cancer 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16:156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5f55"/>
                </a:solidFill>
                <a:latin typeface="Tw Cen MT"/>
              </a:rPr>
              <a:t>Immunohistochemistry for AL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munohistochemical staining of FFPE tissues with D5F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r D9E4 antibodies detects ALK protein expression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K-rearranged tum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5F3:  high concordance with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Predicted Crystal Structure of the Kinase Domain of ALK and Resistant Muta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371880" y="6396120"/>
            <a:ext cx="3920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oi YL et al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10;363:1734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80880" y="1563840"/>
            <a:ext cx="8329680" cy="47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7480" y="6095880"/>
            <a:ext cx="52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-Kenudson 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n Cancer 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16:156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380880"/>
            <a:ext cx="87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5f55"/>
                </a:solidFill>
                <a:latin typeface="Tw Cen MT"/>
              </a:rPr>
              <a:t>17-DMAG less potent than TAE684 in EML4-ALK transgenic mouse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SP-9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ed extensively for tumors dependent on oncogenic drivers, such as EGFR and 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SP-90 inhibitors may be drugs that are potentially useful in resistant mutations for ALK or ALK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37480" y="6095880"/>
            <a:ext cx="48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ist LV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28(33):4953-6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5f55"/>
                </a:solidFill>
                <a:latin typeface="Tw Cen MT"/>
              </a:rPr>
              <a:t>Activity of IPI-50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9960" y="1901880"/>
            <a:ext cx="771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seen with IPI-504, a novel HSP-90 inhibitor in ALK-positive non-small cell lung cancer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1440">
              <a:lnSpc>
                <a:spcPct val="100000"/>
              </a:lnSpc>
              <a:buClr>
                <a:srgbClr val="94b6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rranged ALK FISH status showe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1440">
              <a:lnSpc>
                <a:spcPct val="100000"/>
              </a:lnSpc>
              <a:buClr>
                <a:srgbClr val="94b6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be useful for identifying patients for this type    of trea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609480" y="220968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CL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fitinib/erlo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CL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-023410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R-AB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tinib/dasata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Kit/PDG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tinib/suni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GFR-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st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stuzumab/lapa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ric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M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-665752</a:t>
            </a:r>
            <a:r>
              <a:rPr b="0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ric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GFR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D2171</a:t>
            </a:r>
            <a:r>
              <a:rPr b="0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n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-Ra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X4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n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atinib </a:t>
            </a:r>
            <a:r>
              <a:rPr b="0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al cell carcin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CH1/S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C-0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623880" y="1697040"/>
            <a:ext cx="147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umor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2756880" y="1697040"/>
            <a:ext cx="2998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utated/amplified kin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644520" y="1708200"/>
            <a:ext cx="73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5867640" y="5867280"/>
            <a:ext cx="302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6016680" y="579132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clinical data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222120" y="6095880"/>
            <a:ext cx="704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iction” to mutationally activated kinases can be faithfu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ed in cell 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9"/>
          <p:cNvSpPr/>
          <p:nvPr/>
        </p:nvSpPr>
        <p:spPr>
          <a:xfrm>
            <a:off x="457200" y="2209680"/>
            <a:ext cx="7848720" cy="685800"/>
          </a:xfrm>
          <a:prstGeom prst="roundRect">
            <a:avLst>
              <a:gd name="adj" fmla="val 16667"/>
            </a:avLst>
          </a:prstGeom>
          <a:solidFill>
            <a:srgbClr val="ffff7e">
              <a:alpha val="18000"/>
            </a:srgbClr>
          </a:solidFill>
          <a:ln w="57240">
            <a:solidFill>
              <a:srgbClr val="dd8047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5f55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775f55"/>
                </a:solidFill>
                <a:latin typeface="Arial"/>
              </a:rPr>
              <a:t>Oncogene addiction” may explain clinical</a:t>
            </a:r>
            <a:br>
              <a:rPr sz="2800"/>
            </a:br>
            <a:r>
              <a:rPr b="1" lang="en-US" sz="2800" spc="-1" strike="noStrike">
                <a:solidFill>
                  <a:srgbClr val="775f55"/>
                </a:solidFill>
                <a:latin typeface="Arial"/>
              </a:rPr>
              <a:t>responses to many kinase-targeted therapeutic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4a4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1676520"/>
            <a:ext cx="52578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intest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ural tissue/visual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Ligand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?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eiotroph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kine (M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phan recepto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ignal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P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/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K/STA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6445080"/>
            <a:ext cx="72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lmer et al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iochem 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763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b615"/>
                </a:solidFill>
                <a:latin typeface="Calibri"/>
              </a:rPr>
              <a:t>ALK: Wildtype Expression and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rcRect l="0" t="437" r="0" b="4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8600" y="152280"/>
            <a:ext cx="8610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3049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b615"/>
                </a:solidFill>
                <a:latin typeface="Calibri"/>
              </a:rPr>
              <a:t>Oncogenic Activation of AL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8839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ddc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EML4-ALK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Translocations in NSCL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52280" y="3581280"/>
            <a:ext cx="2551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 algn="ctr">
              <a:lnSpc>
                <a:spcPct val="95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75f55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775f55"/>
                </a:solidFill>
                <a:latin typeface="Arial"/>
              </a:rPr>
              <a:t>EML4-ALK</a:t>
            </a:r>
            <a:r>
              <a:rPr b="1" lang="en-US" sz="2400" spc="-1" strike="noStrike">
                <a:solidFill>
                  <a:srgbClr val="775f55"/>
                </a:solidFill>
                <a:latin typeface="Arial"/>
              </a:rPr>
              <a:t> frequen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5000"/>
              </a:lnSpc>
              <a:spcBef>
                <a:spcPts val="1012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4% (64/17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5000"/>
              </a:lnSpc>
              <a:spcBef>
                <a:spcPts val="1012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ily lung adeno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647640" y="4022640"/>
            <a:ext cx="5894280" cy="25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258480" y="6400800"/>
            <a:ext cx="3996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>
              <a:lnSpc>
                <a:spcPct val="95000"/>
              </a:lnSpc>
              <a:spcBef>
                <a:spcPts val="83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da M et al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07;448:561-66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895480" y="3124080"/>
            <a:ext cx="6096240" cy="2820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85800" y="1219320"/>
            <a:ext cx="7696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dentification of the transforming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EML4-ALK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fusion gene in non-small-cell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77320" cy="2819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1295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om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1066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1828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960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L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3581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Detects 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potential </a:t>
            </a:r>
            <a:r>
              <a:rPr b="0" i="1" lang="en-US" sz="2400" spc="-1" strike="noStrike">
                <a:solidFill>
                  <a:srgbClr val="7f7f7f"/>
                </a:solidFill>
                <a:latin typeface="Arial"/>
              </a:rPr>
              <a:t>ALK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Fusion Part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267080"/>
            <a:ext cx="830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K (chromosom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NSCL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L4 (chromosom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F5B (chromosome 10) (Ratio to EML4-ALK = 1:7;Takeuchi et al,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FG (chromosome 3) Ratio to EML4-ALK = 1:3; Rikova et al, 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320" y="15228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Break-Apart FISH Assay for </a:t>
            </a: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ALK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Fusion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14520" y="1652760"/>
            <a:ext cx="933120" cy="48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"/>
          <p:cNvSpPr/>
          <p:nvPr/>
        </p:nvSpPr>
        <p:spPr>
          <a:xfrm>
            <a:off x="4983120" y="3781440"/>
            <a:ext cx="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344520" y="3270240"/>
            <a:ext cx="0" cy="239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975280" y="1523880"/>
            <a:ext cx="29052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ectivity f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Crizotinib – ALK and </a:t>
            </a:r>
            <a:br>
              <a:rPr sz="1600"/>
            </a:b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c-MET inhibition at clinically relevant dos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Crizotinib – </a:t>
            </a:r>
            <a:r>
              <a:rPr b="1" lang="en-US" sz="1600" spc="-1" strike="noStrike" u="sng">
                <a:solidFill>
                  <a:srgbClr val="e9c550"/>
                </a:solidFill>
                <a:uFillTx/>
                <a:latin typeface="Arial"/>
              </a:rPr>
              <a:t>low</a:t>
            </a: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 probability of pharmacologically relevant inhibition of any other kinase at clinically relevant dos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6"/>
          <p:cNvSpPr/>
          <p:nvPr/>
        </p:nvSpPr>
        <p:spPr>
          <a:xfrm flipV="1">
            <a:off x="1560600" y="1601280"/>
            <a:ext cx="1279440" cy="9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1571760" y="2441520"/>
            <a:ext cx="1257120" cy="38196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2973240" y="1055520"/>
            <a:ext cx="26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llular selectivity on 10 of 13 relevant h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324000" y="1055520"/>
            <a:ext cx="150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state 102 kin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522440" y="1959120"/>
            <a:ext cx="142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kinase “hits” &lt;100X selective for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-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11" descr=""/>
          <p:cNvPicPr/>
          <p:nvPr/>
        </p:nvPicPr>
        <p:blipFill>
          <a:blip r:embed="rId1"/>
          <a:stretch/>
        </p:blipFill>
        <p:spPr>
          <a:xfrm>
            <a:off x="603360" y="1608120"/>
            <a:ext cx="965160" cy="4851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cxnSp>
        <p:nvCxnSpPr>
          <p:cNvPr id="362" name="AutoShape 12"/>
          <p:cNvCxnSpPr>
            <a:stCxn id="359" idx="3"/>
            <a:endCxn id="360" idx="0"/>
          </p:cNvCxnSpPr>
          <p:nvPr/>
        </p:nvCxnSpPr>
        <p:spPr>
          <a:xfrm>
            <a:off x="1825560" y="1314000"/>
            <a:ext cx="411840" cy="6454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3" name="Text Box 13"/>
          <p:cNvSpPr/>
          <p:nvPr/>
        </p:nvSpPr>
        <p:spPr>
          <a:xfrm>
            <a:off x="2752560" y="6286680"/>
            <a:ext cx="370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The cellular kinase activities we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asured using ELISA captur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844720" y="1595520"/>
          <a:ext cx="2854440" cy="4687920"/>
        </p:xfrm>
        <a:graphic>
          <a:graphicData uri="http://schemas.openxmlformats.org/drawingml/2006/table">
            <a:tbl>
              <a:tblPr/>
              <a:tblGrid>
                <a:gridCol w="952560"/>
                <a:gridCol w="909720"/>
                <a:gridCol w="992160"/>
              </a:tblGrid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C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n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n*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ectivity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-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e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k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7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k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6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8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4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3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,0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GF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,0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GFR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,0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52280"/>
            <a:ext cx="8529840" cy="7956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rizotinib Selectivity Profile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Object 3" descr=""/>
          <p:cNvPicPr/>
          <p:nvPr/>
        </p:nvPicPr>
        <p:blipFill>
          <a:blip r:embed="rId1"/>
          <a:stretch/>
        </p:blipFill>
        <p:spPr>
          <a:xfrm>
            <a:off x="971640" y="1096920"/>
            <a:ext cx="7848360" cy="45799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4"/>
          <p:cNvSpPr/>
          <p:nvPr/>
        </p:nvSpPr>
        <p:spPr>
          <a:xfrm>
            <a:off x="487440" y="1071720"/>
            <a:ext cx="4842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2666880" y="4556160"/>
            <a:ext cx="352440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gressive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le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rmed partial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rmed complet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"/>
          <p:cNvSpPr/>
          <p:nvPr/>
        </p:nvSpPr>
        <p:spPr>
          <a:xfrm rot="16200000">
            <a:off x="-1400040" y="3048120"/>
            <a:ext cx="3779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ximum change in tumor size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1103400" y="3645000"/>
            <a:ext cx="7718400" cy="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1282680" y="3352680"/>
            <a:ext cx="100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umor Responses to Crizotinib for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152280" y="5927760"/>
            <a:ext cx="8991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*Partial response patients with 100% change have non-target disease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8"/>
          <p:cNvSpPr/>
          <p:nvPr/>
        </p:nvSpPr>
        <p:spPr>
          <a:xfrm>
            <a:off x="8294760" y="5541840"/>
            <a:ext cx="288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752480" y="1143000"/>
            <a:ext cx="723924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7280" indent="-287280">
              <a:lnSpc>
                <a:spcPct val="100000"/>
              </a:lnSpc>
              <a:spcAft>
                <a:spcPts val="55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 response rate : 57% (95% CI: 46, 68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55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 duration: 1 to 15 month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55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R (CR/PR/SD at 8 weeks): 87% (95% CI: 77, 93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522520" y="4680000"/>
            <a:ext cx="144360" cy="12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522520" y="4979880"/>
            <a:ext cx="144360" cy="13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2522520" y="5272200"/>
            <a:ext cx="144360" cy="129960"/>
          </a:xfrm>
          <a:prstGeom prst="rect">
            <a:avLst/>
          </a:prstGeom>
          <a:solidFill>
            <a:srgbClr val="8c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2522520" y="5568840"/>
            <a:ext cx="144360" cy="1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52280" y="6461280"/>
            <a:ext cx="8991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ak EL et al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 Engl J M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010;363(18):1693-703. © 2010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ssachusetts Medical Society.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in Patient Characteristic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360" y="160020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with NSCLC screened = 150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with NSCLC with Alk translocation = 82 +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le 52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te 56%, Asian 35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&gt;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3 prior lines of therapy 41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enocarcinoma 96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ver-smoking 76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TextBox 4"/>
          <p:cNvSpPr/>
          <p:nvPr/>
        </p:nvSpPr>
        <p:spPr>
          <a:xfrm flipH="1">
            <a:off x="457200" y="6172200"/>
            <a:ext cx="5454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wak EL et al.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NEJM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2010;363:16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reatment-Related Grade 3/4 Adverse Events in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549440" y="1522440"/>
          <a:ext cx="6013440" cy="4129200"/>
        </p:xfrm>
        <a:graphic>
          <a:graphicData uri="http://schemas.openxmlformats.org/drawingml/2006/table">
            <a:tbl>
              <a:tblPr/>
              <a:tblGrid>
                <a:gridCol w="3112920"/>
                <a:gridCol w="1976400"/>
                <a:gridCol w="92412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ers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y advers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(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T elevation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T ele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ymphop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ypophosphat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rop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88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ypox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yspn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88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lmonary embo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Text Box 103"/>
          <p:cNvSpPr/>
          <p:nvPr/>
        </p:nvSpPr>
        <p:spPr>
          <a:xfrm>
            <a:off x="1468440" y="5667480"/>
            <a:ext cx="7550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Based on laboratory data (n=71), ALT increase to grade 1, 52%; to grade 2, 4%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In preclinical toxicology studies, no histologic changes in the liver were observ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patient discontinued for ALT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8"/>
          <p:cNvSpPr/>
          <p:nvPr/>
        </p:nvSpPr>
        <p:spPr>
          <a:xfrm>
            <a:off x="609480" y="6400800"/>
            <a:ext cx="271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k EL et al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0;363:16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2:20:38Z</dcterms:created>
  <dc:creator>Research To Practice</dc:creator>
  <dc:description/>
  <cp:keywords/>
  <dc:language>en-US</dc:language>
  <cp:lastModifiedBy>Aura Herrmann</cp:lastModifiedBy>
  <cp:lastPrinted>2011-02-03T20:41:57Z</cp:lastPrinted>
  <dcterms:modified xsi:type="dcterms:W3CDTF">2011-06-09T20:22:17Z</dcterms:modified>
  <cp:revision>633</cp:revision>
  <dc:subject/>
  <dc:title>PowerPoint Presentation</dc:title>
</cp:coreProperties>
</file>