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7.png" ContentType="image/png"/>
  <Override PartName="/ppt/media/image5.jpeg" ContentType="image/jpeg"/>
  <Override PartName="/ppt/media/image6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EF73-9A23-4614-BB70-6249879509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Click to move the slide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3BD4-5806-4235-90A3-56AE36F79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16AE-1218-4CEC-BD94-4B17C2EB9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351248E-A443-4FCC-AE57-9A38D0EE6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EEC-61EB-4543-BF64-5EB944B17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028ABB-BD3B-4993-983E-42C6B53622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679F-496D-4E00-8599-CF6F558D8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F990-3331-40AB-BA5A-3E85E8FB0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01CA-2987-40B1-9201-676C0B394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5CFB-0D0D-47F8-A031-27707B7DC4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AED2-F2D6-4A6B-A8B7-6E43DA3EC78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778A-E471-4766-B4E9-0D64558BA3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5000" y="685800"/>
            <a:ext cx="4248000" cy="3186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100160" y="4017960"/>
            <a:ext cx="46576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B7EF-6191-4606-93D5-60944319A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96F-FF7F-46E7-8440-7FFDC8658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934-7546-426C-8A7F-6F8CB0DF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A29-F2A6-42D3-B936-47DBA365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032-0117-4DCD-920C-218AEF5B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196-F7B5-436D-B60C-32C79CA1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3597-D3A2-4358-9DB4-47F840FD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7912-5A73-4506-BCA1-B4930A99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0DC2-A5C7-41F9-82CA-4BA341A0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0D3F-7F86-4ECE-8FE6-6926AFFA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23FA-9A6D-4BA6-9C8A-B2E4F331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C77A-C6A0-44CB-B433-3480213B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1968-1164-427C-B4F4-155B1149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7BA-DE24-49E6-84E3-51C2D1C8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9061-9854-4C97-B5F4-A82588BD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C94-3044-40DC-981D-D70E56B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8F64-101D-4B26-89EC-8AA1C60C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2BB0-59CD-4592-92EF-AE641045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3FFD-9D62-4593-97D1-C63AFAF8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E19D6-F8C9-40CC-9AFF-8D8B6B75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8EC5-6E2F-45BC-96A1-F7FEC442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FC534-4038-402E-AFFF-5038D97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F363-902F-4C42-BE5D-E0FE55D8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996C-F362-4E78-81E1-EA21CF90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D11-C456-4C6E-AAA1-FA257F50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AA29-28A8-4CB9-A122-87BFD43F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1177F-0495-4951-997C-3C301EF4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0F8D6-67F2-403C-96C7-D462F3B5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60B0-837F-4BA4-ABD1-FEF67DBF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F928-4A82-417D-A8A8-BB7AF57B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F44A2-A588-4788-9C2F-9DB6A00A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1C1F-732C-47B0-8294-62444506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6DB-A90C-4914-B342-FE99976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F38-9B84-4113-B0B5-78FD6071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EC6-0367-4E0B-B2FE-255397D5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C5E-8D81-48B0-97FE-A00339C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9A6-A88C-4F08-97CA-95A04782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E26-17DB-4F0C-8E75-19DD4E07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C8CB-3650-4384-94E6-CB30E0AA9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yccsmilowbackgrndwhite"/>
          <p:cNvPicPr/>
          <p:nvPr/>
        </p:nvPicPr>
        <p:blipFill>
          <a:blip r:embed="rId3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1" marL="704160" indent="-269640">
              <a:spcBef>
                <a:spcPts val="700"/>
              </a:spcBef>
              <a:buClr>
                <a:srgbClr val="002b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2" marL="1084320" indent="-21564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3" marL="1518480" indent="-215640">
              <a:spcBef>
                <a:spcPts val="700"/>
              </a:spcBef>
              <a:buClr>
                <a:srgbClr val="002b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4" marL="1953000" indent="-215640">
              <a:spcBef>
                <a:spcPts val="700"/>
              </a:spcBef>
              <a:buClr>
                <a:srgbClr val="002b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5" marL="1953000" indent="-2156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6" marL="1953000" indent="-2156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7289-23C7-46DE-B448-FF3721FC04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-360" y="75960"/>
            <a:ext cx="91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335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373680" indent="-373680">
              <a:spcBef>
                <a:spcPts val="1349"/>
              </a:spcBef>
              <a:spcAft>
                <a:spcPts val="1349"/>
              </a:spcAft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13960" indent="-291960">
              <a:spcBef>
                <a:spcPts val="1349"/>
              </a:spcBef>
              <a:spcAft>
                <a:spcPts val="1349"/>
              </a:spcAft>
              <a:buClr>
                <a:srgbClr val="ff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01320" indent="-174600">
              <a:spcBef>
                <a:spcPts val="1349"/>
              </a:spcBef>
              <a:spcAft>
                <a:spcPts val="1349"/>
              </a:spcAft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47280" indent="-198000">
              <a:spcBef>
                <a:spcPts val="1349"/>
              </a:spcBef>
              <a:spcAft>
                <a:spcPts val="1349"/>
              </a:spcAft>
              <a:buClr>
                <a:srgbClr val="ff33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1160" indent="-17460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1160" indent="-17460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1160" indent="-17460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1D01-EB52-4255-B39F-64B8FCBA50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EB64-90FD-47A8-B742-8508FAEF8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601"/>
              </a:spcAft>
              <a:buClr>
                <a:srgbClr val="e3195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4360" indent="-33984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7760">
              <a:spcAft>
                <a:spcPts val="601"/>
              </a:spcAft>
              <a:buClr>
                <a:srgbClr val="e319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-35388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79640" indent="-58428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79640" indent="-58428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79640" indent="-58428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38160">
            <a:solidFill>
              <a:srgbClr val="e319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01"/>
              </a:spcAft>
              <a:buClr>
                <a:srgbClr val="e3195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128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6800" indent="-349560">
              <a:spcAft>
                <a:spcPts val="601"/>
              </a:spcAft>
              <a:buClr>
                <a:srgbClr val="e319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93920" indent="-35568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5857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5857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5857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38160">
            <a:solidFill>
              <a:srgbClr val="e319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EGFR and KRAS Mutations: Prognostic and Predictive Utilit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Winter 2011 Lung Cancer Conference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838080" y="3962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  <a:ea typeface="ＭＳ Ｐゴシック"/>
              </a:rPr>
              <a:t>Thomas J. Lynch, Jr., M.D.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  <a:ea typeface="ＭＳ Ｐゴシック"/>
              </a:rPr>
              <a:t>Director, Yale Cancer Center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  <a:ea typeface="ＭＳ Ｐゴシック"/>
              </a:rPr>
              <a:t>Physician-in-Chief, Smilow Cancer Hospita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Progression-Free Survival (PFS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EGFR  Mutation-Positive and Negativ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2054160"/>
          <a:ext cx="8458200" cy="2556000"/>
        </p:xfrm>
        <a:graphic>
          <a:graphicData uri="http://schemas.openxmlformats.org/drawingml/2006/table">
            <a:tbl>
              <a:tblPr/>
              <a:tblGrid>
                <a:gridCol w="2286000"/>
                <a:gridCol w="1676520"/>
                <a:gridCol w="1935000"/>
                <a:gridCol w="1189080"/>
                <a:gridCol w="1371600"/>
              </a:tblGrid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FS, Events by Mutation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 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arboplatin + Paclitaxel 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Po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97 (13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11 (12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Neg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8 (9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0 (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.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1880" y="624852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k T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Engl J 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361(10):947-5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ASS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 (OS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by EGFR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981080"/>
          <a:ext cx="8153280" cy="2286000"/>
        </p:xfrm>
        <a:graphic>
          <a:graphicData uri="http://schemas.openxmlformats.org/drawingml/2006/table">
            <a:tbl>
              <a:tblPr/>
              <a:tblGrid>
                <a:gridCol w="2819520"/>
                <a:gridCol w="1741320"/>
                <a:gridCol w="2013120"/>
                <a:gridCol w="15793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S, Events by 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arboplatin + Paclitaxel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87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37588680" indent="9711720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8 (13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3 (12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37588680" indent="9711720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2 (9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2 (8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461160" y="6251400"/>
            <a:ext cx="47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ukuoka M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Abstract 8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6960" y="4572000"/>
            <a:ext cx="72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azard ratio &lt;1.00 implies a lower risk of death on gefitini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.21: Updated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ording to EGFR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1981080"/>
          <a:ext cx="8458200" cy="266724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752840"/>
                <a:gridCol w="1371600"/>
                <a:gridCol w="1371600"/>
              </a:tblGrid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xon 19 Deletions and L858R Mut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0.9 mo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.3 mos 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12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Wild-Type EGFR and Indeterminate Vari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.9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3 mos 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5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9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461160" y="6248520"/>
            <a:ext cx="44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hu 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;26(26):4268-7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0880" y="304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EST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by EGFR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04920" y="1981080"/>
          <a:ext cx="8458200" cy="228600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752840"/>
                <a:gridCol w="1371600"/>
                <a:gridCol w="1371600"/>
              </a:tblGrid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4.2 mos (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6.6 mos (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60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 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.4 mos (1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.0 mos (13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91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459720" y="624852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uillard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28(5):744-5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7080" y="435780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mutation status by treatment interaction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: 0.58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EGFR  Mutations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edictive for response and PFS benefit from tyrosine kinase inhibitors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edictive of response to chemotherapy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ognostic for overall survival in stage IV disease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ognostic for overall survival after surgery?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2b5c"/>
                </a:solidFill>
                <a:latin typeface="Arial Bold"/>
              </a:rPr>
              <a:t>RAS Mutations</a:t>
            </a:r>
            <a:endParaRPr b="0" lang="en-US" sz="11500" spc="-1" strike="noStrike">
              <a:solidFill>
                <a:srgbClr val="002b5c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0880" y="0"/>
            <a:ext cx="838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ival of Patients After Radical Surgery for Adenocarcinoma of the 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9360" y="6251400"/>
            <a:ext cx="44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ebos R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Engl J 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1990;323:561-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62120" y="1981080"/>
          <a:ext cx="7543800" cy="271620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  <a:gridCol w="2286000"/>
                <a:gridCol w="1371600"/>
              </a:tblGrid>
              <a:tr h="103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Point Mutation-Positive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Point Mutation-Negative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5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isease-free survival ev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3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all survival ev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BR.10: Results by RAS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9720" y="6251400"/>
            <a:ext cx="42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tts CA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28(1):29-3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S Wild-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 vs Chemotherapy, n = 170, 1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zard ratio, 0.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value, 0.2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S Mu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 vs Chemotherapy, n = 58, 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zard ratio, 0.8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value, 0.4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BR.21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ording to Updated KRAS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62120" y="1905120"/>
          <a:ext cx="7696080" cy="2122200"/>
        </p:xfrm>
        <a:graphic>
          <a:graphicData uri="http://schemas.openxmlformats.org/drawingml/2006/table">
            <a:tbl>
              <a:tblPr/>
              <a:tblGrid>
                <a:gridCol w="1523880"/>
                <a:gridCol w="1600200"/>
                <a:gridCol w="1600200"/>
                <a:gridCol w="1447920"/>
                <a:gridCol w="152388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all Survi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Mu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30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460800" y="6251400"/>
            <a:ext cx="438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hu 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;26(26):4268-7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4267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pite large numerical differences in the HRs, no significant        interaction could be demonstr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action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, 0.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0880" y="4572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TURN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PF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y KRAS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62120" y="1905120"/>
          <a:ext cx="7696080" cy="2122200"/>
        </p:xfrm>
        <a:graphic>
          <a:graphicData uri="http://schemas.openxmlformats.org/drawingml/2006/table">
            <a:tbl>
              <a:tblPr/>
              <a:tblGrid>
                <a:gridCol w="1981080"/>
                <a:gridCol w="1371600"/>
                <a:gridCol w="1600200"/>
                <a:gridCol w="1295280"/>
                <a:gridCol w="144792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n)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22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1520" y="6248520"/>
            <a:ext cx="46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ugger W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Abstract 802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560" y="44956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acti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, 0.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dictive and Prognostic Facto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799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nosti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actor is a baseline patient or tumour characteristic that identifies a better outcom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gardless of treat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Aft>
                <a:spcPts val="799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di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actor is a baseline patient or tumour characteristic that identifies a better outcom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rom treatm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response or surviv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307800" y="6400800"/>
            <a:ext cx="2719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urtesy of Dr. F. Shephe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EST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PF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y KRAS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04920" y="2135160"/>
          <a:ext cx="8458200" cy="197964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752840"/>
                <a:gridCol w="1371600"/>
                <a:gridCol w="1371600"/>
              </a:tblGrid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4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5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68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Mutat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.6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3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459720" y="625140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uillard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28(5):744-5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4000680" y="2354400"/>
          <a:ext cx="3743280" cy="262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354400"/>
                    <a:ext cx="374328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4"/>
          <p:cNvGraphicFramePr/>
          <p:nvPr/>
        </p:nvGraphicFramePr>
        <p:xfrm>
          <a:off x="0" y="1905120"/>
          <a:ext cx="4586400" cy="350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458640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5"/>
          <p:cNvSpPr/>
          <p:nvPr/>
        </p:nvSpPr>
        <p:spPr>
          <a:xfrm>
            <a:off x="2019960" y="3629160"/>
            <a:ext cx="113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48360" y="3019320"/>
            <a:ext cx="1198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34160" y="3629160"/>
            <a:ext cx="1012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23600" y="4390920"/>
            <a:ext cx="99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3390840" y="2638440"/>
            <a:ext cx="1219320" cy="380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516720" y="2104920"/>
            <a:ext cx="104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7360560" y="3095640"/>
            <a:ext cx="1553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639040" y="4086360"/>
            <a:ext cx="102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811320" y="3200400"/>
            <a:ext cx="99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534560" y="2181240"/>
            <a:ext cx="1808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 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797360" y="3511440"/>
            <a:ext cx="1526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5357880" y="262404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 flipV="1">
            <a:off x="6702480" y="2500200"/>
            <a:ext cx="1522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09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er Smok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ung Adenoca (US)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most All Molecular Subsets Defin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19"/>
          <p:cNvSpPr/>
          <p:nvPr/>
        </p:nvSpPr>
        <p:spPr>
          <a:xfrm flipV="1">
            <a:off x="7232760" y="3279600"/>
            <a:ext cx="158760" cy="4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7913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m D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6;24(11):1700; Stephens P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4;431(7008):525; Shaw AT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9;27(26):4247; Riely G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lin Cancer 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8;14(18):573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rcRect l="0" t="0" r="16128" b="7225"/>
          <a:stretch/>
        </p:blipFill>
        <p:spPr>
          <a:xfrm>
            <a:off x="2286000" y="1725480"/>
            <a:ext cx="3962520" cy="39132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c"/>
                </a:solidFill>
                <a:latin typeface="Arial Bold"/>
                <a:ea typeface="ＭＳ Ｐゴシック"/>
              </a:rPr>
              <a:t>Epidermal Growth Factor Receptor Mutations</a:t>
            </a:r>
            <a:endParaRPr b="0" lang="en-US" sz="32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2330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-l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3397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60a09"/>
                </a:solidFill>
                <a:latin typeface="Arial"/>
              </a:rPr>
              <a:t>L85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42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430d"/>
                </a:solidFill>
                <a:latin typeface="Arial"/>
              </a:rPr>
              <a:t>Activation lo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5181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-l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863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480"/>
                </a:solidFill>
                <a:latin typeface="Arial"/>
              </a:rPr>
              <a:t>P-lo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3092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60a09"/>
                </a:solidFill>
                <a:latin typeface="Arial"/>
              </a:rPr>
              <a:t>G7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217800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b60a09"/>
                </a:solidFill>
                <a:latin typeface="Arial"/>
              </a:rPr>
              <a:t>ELRE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30040" y="345960"/>
            <a:ext cx="8433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c"/>
                </a:solidFill>
                <a:latin typeface="Arial"/>
              </a:rPr>
              <a:t>Rapid and dramatic response to gefitinib in subset of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Image24 molina 6"/>
          <p:cNvPicPr/>
          <p:nvPr/>
        </p:nvPicPr>
        <p:blipFill>
          <a:blip r:embed="rId2"/>
          <a:stretch/>
        </p:blipFill>
        <p:spPr>
          <a:xfrm>
            <a:off x="609480" y="2022480"/>
            <a:ext cx="354492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2"/>
          <p:cNvGraphicFramePr/>
          <p:nvPr/>
        </p:nvGraphicFramePr>
        <p:xfrm>
          <a:off x="4933800" y="2009880"/>
          <a:ext cx="3524400" cy="367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3800" y="2009880"/>
                    <a:ext cx="352440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5"/>
          <p:cNvSpPr/>
          <p:nvPr/>
        </p:nvSpPr>
        <p:spPr>
          <a:xfrm>
            <a:off x="4686480" y="1600200"/>
            <a:ext cx="3231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Comic Sans MS"/>
              </a:rPr>
              <a:t>After Gefitinib (6 wee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17240" y="16002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Comic Sans MS"/>
              </a:rPr>
              <a:t>Before Gefitin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66680" y="762120"/>
          <a:ext cx="7010640" cy="5181480"/>
        </p:xfrm>
        <a:graphic>
          <a:graphicData uri="http://schemas.openxmlformats.org/drawingml/2006/table">
            <a:tbl>
              <a:tblPr/>
              <a:tblGrid>
                <a:gridCol w="4114800"/>
                <a:gridCol w="2286000"/>
                <a:gridCol w="609840"/>
              </a:tblGrid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Erlotinib therapy — no. 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 w="5760">
                      <a:solidFill>
                        <a:srgbClr val="002b5c"/>
                      </a:solidFill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2b5c"/>
                      </a:solidFill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First lin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13 (52.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Second or third lin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04 (47.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EGFR</a:t>
                      </a: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 mutation — no. 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del 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35 (62.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L858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82 (37.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EGFR</a:t>
                      </a: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 mutation in serum — no. (%)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del 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64 (39.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L858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33 (20.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Not detec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67 (40.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Response — no. (%)</a:t>
                      </a:r>
                      <a:r>
                        <a:rPr b="1" lang="en-US" sz="1500" spc="-1" strike="noStrike" baseline="30000">
                          <a:solidFill>
                            <a:srgbClr val="00007c"/>
                          </a:solidFill>
                          <a:latin typeface="Arial"/>
                        </a:rPr>
                        <a:t>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Complete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24 (12.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Partial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15 (58.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Complete or partial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39 (70.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Stable disea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38 (19.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Progressive disea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20 (10.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Stable or progressive disea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58 (29.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3ecf3"/>
                    </a:solidFill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c"/>
                </a:solidFill>
                <a:latin typeface="Arial"/>
              </a:rPr>
              <a:t>Characteristics and Treatment Responses (n = 217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594360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00e"/>
                </a:solidFill>
                <a:latin typeface="Arial"/>
              </a:rPr>
              <a:t>* The EGFR mutation was evaluated in the serum of 164 pat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9000e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09000e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9000e"/>
                </a:solidFill>
                <a:latin typeface="Arial"/>
              </a:rPr>
              <a:t>The response to erlotinib therapy was evalua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197 pat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647712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ell R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9;361:958-6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Mutations Ar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nostic After Surg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" y="6365880"/>
            <a:ext cx="56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saki H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ancer Res Clin Onc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09;135(2):313-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6765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prognosis was worse in the EGFR wild type than the EGFR mutan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p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0.003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wild type (GG), n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an follow-up = 23.7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mutant (GA or AA), n =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an follow-up = 55.1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dfd"/>
                </a:solidFill>
                <a:latin typeface="Arial"/>
              </a:rPr>
              <a:t>Study Desig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2384280" y="1512720"/>
            <a:ext cx="3473640" cy="3211200"/>
            <a:chOff x="2384280" y="1512720"/>
            <a:chExt cx="3473640" cy="3211200"/>
          </a:xfrm>
        </p:grpSpPr>
        <p:sp>
          <p:nvSpPr>
            <p:cNvPr id="258" name="Line 4"/>
            <p:cNvSpPr/>
            <p:nvPr/>
          </p:nvSpPr>
          <p:spPr>
            <a:xfrm>
              <a:off x="4251240" y="4059000"/>
              <a:ext cx="160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>
              <a:off x="4251240" y="2120040"/>
              <a:ext cx="160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6"/>
            <p:cNvSpPr/>
            <p:nvPr/>
          </p:nvSpPr>
          <p:spPr>
            <a:xfrm>
              <a:off x="3259080" y="3329640"/>
              <a:ext cx="2051280" cy="1394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7"/>
            <p:cNvSpPr/>
            <p:nvPr/>
          </p:nvSpPr>
          <p:spPr>
            <a:xfrm>
              <a:off x="3263760" y="1512720"/>
              <a:ext cx="2041560" cy="12164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8"/>
            <p:cNvSpPr/>
            <p:nvPr/>
          </p:nvSpPr>
          <p:spPr>
            <a:xfrm>
              <a:off x="3268800" y="1592640"/>
              <a:ext cx="2030400" cy="10580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efitinib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50 mg / day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 flipV="1">
              <a:off x="2384280" y="2113200"/>
              <a:ext cx="863640" cy="686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"/>
            <p:cNvSpPr/>
            <p:nvPr/>
          </p:nvSpPr>
          <p:spPr>
            <a:xfrm>
              <a:off x="2397240" y="3416040"/>
              <a:ext cx="850680" cy="661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1"/>
            <p:cNvSpPr/>
            <p:nvPr/>
          </p:nvSpPr>
          <p:spPr>
            <a:xfrm>
              <a:off x="3159000" y="3668760"/>
              <a:ext cx="2249640" cy="737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plati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AUC 5 or 6) / paclitaxel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00 mg / 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3 weekl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#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3146400" y="2948040"/>
              <a:ext cx="22939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78000" indent="-378000" algn="ctr">
                <a:lnSpc>
                  <a:spcPct val="80000"/>
                </a:lnSpc>
                <a:spcBef>
                  <a:spcPts val="499"/>
                </a:spcBef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:1 randomis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AutoShape 13"/>
          <p:cNvSpPr/>
          <p:nvPr/>
        </p:nvSpPr>
        <p:spPr>
          <a:xfrm>
            <a:off x="5867280" y="835200"/>
            <a:ext cx="2990880" cy="4655880"/>
          </a:xfrm>
          <a:custGeom>
            <a:avLst/>
            <a:gdLst>
              <a:gd name="textAreaLeft" fmla="*/ 145800 w 2990880"/>
              <a:gd name="textAreaRight" fmla="*/ 2845080 w 2990880"/>
              <a:gd name="textAreaTop" fmla="*/ 145800 h 4655880"/>
              <a:gd name="textAreaBottom" fmla="*/ 4510080 h 4655880"/>
            </a:gdLst>
            <a:ahLst/>
            <a:rect l="textAreaLeft" t="textAreaTop" r="textAreaRight" b="textAreaBottom"/>
            <a:pathLst>
              <a:path w="21600" h="33623">
                <a:moveTo>
                  <a:pt x="3600" y="0"/>
                </a:moveTo>
                <a:arcTo wR="3600" hR="3600" stAng="16200000" swAng="-5400000"/>
                <a:lnTo>
                  <a:pt x="0" y="30023"/>
                </a:lnTo>
                <a:arcTo wR="3600" hR="3600" stAng="10800000" swAng="-5400000"/>
                <a:lnTo>
                  <a:pt x="18000" y="33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1160" indent="-2811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5"/>
          <p:cNvSpPr/>
          <p:nvPr/>
        </p:nvSpPr>
        <p:spPr>
          <a:xfrm>
            <a:off x="390600" y="1216080"/>
            <a:ext cx="2354040" cy="3506760"/>
          </a:xfrm>
          <a:custGeom>
            <a:avLst/>
            <a:gdLst>
              <a:gd name="textAreaLeft" fmla="*/ 114840 w 2354040"/>
              <a:gd name="textAreaRight" fmla="*/ 2239200 w 2354040"/>
              <a:gd name="textAreaTop" fmla="*/ 114840 h 3506760"/>
              <a:gd name="textAreaBottom" fmla="*/ 3391920 h 3506760"/>
            </a:gdLst>
            <a:ahLst/>
            <a:rect l="textAreaLeft" t="textAreaTop" r="textAreaRight" b="textAreaBottom"/>
            <a:pathLst>
              <a:path w="21600" h="32175">
                <a:moveTo>
                  <a:pt x="3600" y="0"/>
                </a:moveTo>
                <a:arcTo wR="3600" hR="3600" stAng="16200000" swAng="-5400000"/>
                <a:lnTo>
                  <a:pt x="0" y="28575"/>
                </a:lnTo>
                <a:arcTo wR="3600" hR="3600" stAng="10800000" swAng="-5400000"/>
                <a:lnTo>
                  <a:pt x="18000" y="32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1160" indent="-2811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177840" y="5533920"/>
            <a:ext cx="86104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Never smokers, &lt;100 cigarettes in lifetime; light ex-smokers, stopped 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5 years ago and smoked 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0 pack years;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#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mited to a maximum of 6 cycles 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rboplatin / paclitaxel was offered to gefitinib patients upon progression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S, performance status; EGFR, epidermal growth factor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07960" y="1300320"/>
            <a:ext cx="224172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monaï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 ≥18 years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enocarcinoma hist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ver or light ex-smokers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 expectanc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≥12 wee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 0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able stage IIIB / IV dise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5954760" y="1409760"/>
            <a:ext cx="291132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ession-free survival   (non-inferiorit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response 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surviv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of l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-related symptom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and toler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or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omark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mu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-gene-copy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protein expr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6014880" y="1039680"/>
            <a:ext cx="267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6461280"/>
            <a:ext cx="777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Mok T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ESM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08;Abstract LBA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1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bjective Response Rate in EGFR Mutatio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sitive and Negative Pati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5" name="Chart Placeholder 6"/>
          <p:cNvGraphicFramePr/>
          <p:nvPr/>
        </p:nvGraphicFramePr>
        <p:xfrm>
          <a:off x="1343160" y="1436760"/>
          <a:ext cx="6762600" cy="448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6" name="Chart Placeholder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1436760"/>
                    <a:ext cx="67626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5"/>
          <p:cNvSpPr/>
          <p:nvPr/>
        </p:nvSpPr>
        <p:spPr>
          <a:xfrm>
            <a:off x="5232240" y="1569960"/>
            <a:ext cx="36259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ff00"/>
                </a:solidFill>
                <a:latin typeface="Arial"/>
              </a:rPr>
              <a:t>Gefitinib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"/>
              </a:rPr>
              <a:t>Carboplatin / paclitax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GFR M+ odds ratio (95% CI) = 2.75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1.65, 4.60), p = 0.000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GFR M- odds ratio (95% CI) = 0.04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0.01, 0.27), p = 0.0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76320" y="144612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verall response rate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338560" y="5245200"/>
            <a:ext cx="124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1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3392640" y="5245200"/>
            <a:ext cx="124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1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5611680" y="524520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6478560" y="524520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8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184320" y="6095880"/>
            <a:ext cx="86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dds ratio &gt;1 implies greater chance of response on gefitini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2514600" y="1600200"/>
            <a:ext cx="104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1.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3352680" y="2666880"/>
            <a:ext cx="104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7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5612040" y="478152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6400800" y="3733920"/>
            <a:ext cx="104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3.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6461280"/>
            <a:ext cx="777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Mok T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ESM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08;Abstract LBA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7:25:28Z</dcterms:created>
  <dc:creator>Research To Practice</dc:creator>
  <dc:description/>
  <cp:keywords/>
  <dc:language>en-US</dc:language>
  <cp:lastModifiedBy>Aura Herrmann</cp:lastModifiedBy>
  <cp:lastPrinted>2011-02-11T13:36:11Z</cp:lastPrinted>
  <dcterms:modified xsi:type="dcterms:W3CDTF">2011-06-09T21:33:53Z</dcterms:modified>
  <cp:revision>94</cp:revision>
  <dc:subject/>
  <dc:title>PowerPoint Presentation</dc:title>
</cp:coreProperties>
</file>