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18CE-777D-440E-9DE4-16A515CA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D2F5-059F-4014-B14C-3673130D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649F-857F-4F8B-A723-0CD83A5D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D3E-827F-4CF1-ACEE-C173244F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F71-527F-49F1-BC72-65E2CBF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D7F-299B-4288-9437-A11E5A69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281-26A1-4966-BB43-82080850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9B1-AE25-40FD-B1A0-9DC722C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C92-F52A-4CE2-A8C2-F8A12658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A426-163C-42BE-9AF9-7F9DBA3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2DB2-28A8-4CDC-B4CC-5140A9F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625-3714-48C8-BC5C-A4D1A5C6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80E-F56D-4852-BAEB-8245056E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307-D352-4832-822E-6FDA7A1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2D18-F426-4FB5-9923-92D0F99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61A5-5101-4DBE-83E5-D5D84BC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CDF-5C14-4446-8164-336AB37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9E56-01DB-415C-9DC0-9B3A842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3322-068F-47B4-A69C-B0EF50C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E5F-6655-4074-9424-8567634C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9FD5-C15A-4A65-B001-45787761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208F-733E-4D52-A785-B0335BBE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16EB-7D4B-4A48-92F9-D59DB2B6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86FA-504C-4205-A553-5B62F5A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B11-0157-4517-AF67-B539270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287F-4FFE-4747-83B9-8DA80FCC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AE32-CA21-4E70-B12A-C5C13469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F2AF-456F-4ED5-BB37-EE9A7DD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085E-E1D5-4314-8C44-FFACCDC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FC37-7882-4B1F-99F2-7682E04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7E4A-1F30-4963-A530-936D045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9B51-9380-40F2-BDA3-6E7E8C2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D5BC-8CEF-4E52-BD6C-4D7F88AF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E6EB-A2BF-49F3-A186-E8AC2320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2B2-7331-4D9B-A172-F334BA48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82D-5710-4406-9E7D-6A41AA09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22B-100A-4D9A-99D6-9D1CD04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1FE-4B43-40D3-89FB-0AAB5B3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A91-0A03-4B4E-A9CC-C45CC063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2646-ECD4-4D75-B8BA-A5A2C2E8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0520" y="1320840"/>
            <a:ext cx="8022960" cy="480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176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22440" indent="-177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9560" indent="-17784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8C2-D17B-4476-8549-33016D67F404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06E-787D-4C00-AAC2-D4C569E5850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AD8-2390-4825-A50F-209B07D79B9C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E00-184F-4185-93A1-D064C21197D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quired Resistance to EGFR-TKI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it and how do we tr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-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Analysis — Overall Surviva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83760" y="629280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 – HOPP Lab Anim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5800" y="1371600"/>
          <a:ext cx="7772400" cy="4549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ru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+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do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9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1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litax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tuxim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7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299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! (8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60"/>
          <p:cNvSpPr/>
          <p:nvPr/>
        </p:nvSpPr>
        <p:spPr>
          <a:xfrm>
            <a:off x="844560" y="6284880"/>
            <a:ext cx="74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umber in parentheses = no. of mice treated and assess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523880" y="1339920"/>
            <a:ext cx="5867640" cy="3155760"/>
          </a:xfrm>
          <a:prstGeom prst="rect">
            <a:avLst/>
          </a:prstGeom>
          <a:solidFill>
            <a:srgbClr val="ddddd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rollment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ge IIIB/IV lung adenocarcino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Partial Response (RECI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rlotinib   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xon 19 or 21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d erlotinib &gt;3 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Disease (RECIST) on erlotin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psy of a site of progressive dise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GFR and MET 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304920" y="4952880"/>
            <a:ext cx="4114800" cy="11052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erlotini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BIBW2992 40 mg da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2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122400" y="217440"/>
            <a:ext cx="87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1/2 BIBW2992+Cetuximab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 Sche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4724280" y="4699440"/>
            <a:ext cx="4038840" cy="1618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 BIBW299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dd cetuximab IV q 2w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1 – 25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2 – 375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3 – 50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16"/>
          <p:cNvCxnSpPr>
            <a:stCxn id="340" idx="3"/>
          </p:cNvCxnSpPr>
          <p:nvPr/>
        </p:nvCxnSpPr>
        <p:spPr>
          <a:xfrm>
            <a:off x="4419720" y="5505120"/>
            <a:ext cx="3052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causes non-T790M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 of 93 patients (51%) had tissue available for MET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patient specimens fail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of 38 patients (11%) had MET:CEP7 ratio 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pt with high level amplification +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of 3 pts with low level amplification had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FISH the optimal way to test for MET ampl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73120" y="3510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br>
              <a:rPr sz="2800"/>
            </a:b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andomized, placebo-controlled, double-blind clinical t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68440" y="1376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64508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42955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 flipV="1">
            <a:off x="43110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720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15504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8201160" y="3465360"/>
            <a:ext cx="323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852480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2008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140440" y="2960640"/>
            <a:ext cx="2916000" cy="876600"/>
          </a:xfrm>
          <a:prstGeom prst="rect">
            <a:avLst/>
          </a:prstGeom>
          <a:solidFill>
            <a:srgbClr val="7dc3f1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Placeb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140440" y="1808280"/>
            <a:ext cx="2919240" cy="901080"/>
          </a:xfrm>
          <a:prstGeom prst="rect">
            <a:avLst/>
          </a:prstGeom>
          <a:solidFill>
            <a:srgbClr val="7dc3f1"/>
          </a:solidFill>
          <a:ln w="2844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ARQ 197 360 mg PO BI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758880" y="4316400"/>
            <a:ext cx="310176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points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° PF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° ORR, 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set analy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rossover: O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747720" y="2133720"/>
            <a:ext cx="232236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SCL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operable locally adv/ metastatic dz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no prior EGFR TK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2440" y="4329000"/>
            <a:ext cx="464472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3 sites in 6 count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udy accrual over 11 months (10/08-9/09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andomization stratified by prognostic factors incl. sex, age, smoking, histology, performance status, prior therapy and best response, and geography (U.S. vs. ex-U.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856476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6400800"/>
            <a:ext cx="7772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AS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0880" y="6094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Progression-Free Survival (PFS), Intent-to-Treat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80880" y="2057400"/>
          <a:ext cx="8458200" cy="157644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447560"/>
                <a:gridCol w="1828800"/>
                <a:gridCol w="16002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ARQ 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Placeb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(n = 84, 83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1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7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 (0.68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4 (&lt;0.05*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380880" y="6172200"/>
            <a:ext cx="57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39625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ox regress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MAb Is an Anti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oval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y That Inhibits HGF-Mediated Ac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5983" t="0" r="5129" b="0"/>
          <a:stretch/>
        </p:blipFill>
        <p:spPr>
          <a:xfrm>
            <a:off x="609480" y="1371600"/>
            <a:ext cx="8229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6780" t="0" r="5084" b="0"/>
          <a:stretch/>
        </p:blipFill>
        <p:spPr>
          <a:xfrm>
            <a:off x="457200" y="132084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80880" y="6400800"/>
            <a:ext cx="594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gel D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 to Therapy of Acquired Resistance to EGFR-T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iopsy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790M prognostic and possibly predictive bio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re transformation to small cell 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an EGFR-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generation” EGFR/ErbB2 T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 combin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W2992 + cetuxi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SP-90 inhibitor + chemo or EGFR-T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ET inhibitor-best diagnostic un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with CML and GIST have a high rate of response to treatment with imatini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se patients commonly acquire resistance after an initial respon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re are a small number of conserved changes in the BCR-ABL tyrosine kinase domain which confer resistanc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ther patients with acquired resistance have amplification of the BCR-ABL gen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Virtually all patients with response to gefitinib or erlotinib eventually have progression of dise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Definition of Acquired Resistance to EGFR TKIs in Lung Adeno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  treatment with single agent T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ex 19 del, L858R, G719X, L861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 or CR with TKI or SD lasting ≥ 6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D by RECIST or WHO in previous 30 d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 therapy after TKI before start of new ag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ashout” after stopping TKI not &gt; 5 half-lives of the TKI (14 days for gefitinib or erlotini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tain baseline scan on day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200400" y="63244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ackman J Clin Onco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biopsy”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ith acquired resistance to TKI were consented to undergo biopsy of a growing l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from clinically indicated procedures (VATS, metastectomy) also studied if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studied for EGFR mutations and MET a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790M in acquired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quired exon 20 mutation found in &gt;50% of pts with acquired resistance to T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creases relative affinity of mutant EGFR for ATP, may also cause steric hindr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ess commonly detected in CNS, thought to be due to poor CNS penetrance of TK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790M as a biomar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olent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ity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e EGFR inhibi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n-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i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ggress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mechanisms better elucidated and alternate therap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atinib (BIBW 2992) - Irreversible Du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FR /HER2 Inhib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051440" y="4933800"/>
            <a:ext cx="1557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760" rIns="122760" tIns="61560" bIns="61560" anchor="t">
            <a:sp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FR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77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2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8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1463760"/>
            <a:ext cx="9144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6120" rIns="366120" tIns="183240" bIns="18324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ilino quinazoline deriva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y versus T790M (100 n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ds covalently to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EGFR and 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 HE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74600" y="6280200"/>
            <a:ext cx="865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ca F, et al., 17th EORTC-NCI-AACR Symposium on "Molecular Targets and Cancer Therapeutics” Philadelphia, PA, USA, November 14 – 18, 200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955960"/>
            <a:ext cx="711828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29000" y="3762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68600" y="38894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06400" y="3889440"/>
            <a:ext cx="180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4760" y="408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68600" y="403848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11240" y="4036680"/>
            <a:ext cx="12852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893960" y="4016520"/>
            <a:ext cx="10620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854000" y="3716280"/>
            <a:ext cx="185400" cy="1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855440" y="3760560"/>
            <a:ext cx="1443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30520" y="371628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39760" y="3822840"/>
            <a:ext cx="373320" cy="322200"/>
          </a:xfrm>
          <a:custGeom>
            <a:avLst/>
            <a:gdLst/>
            <a:ahLst/>
            <a:rect l="l" t="t" r="r" b="b"/>
            <a:pathLst>
              <a:path w="235" h="203">
                <a:moveTo>
                  <a:pt x="0" y="0"/>
                </a:moveTo>
                <a:lnTo>
                  <a:pt x="0" y="135"/>
                </a:lnTo>
                <a:lnTo>
                  <a:pt x="118" y="203"/>
                </a:lnTo>
                <a:lnTo>
                  <a:pt x="235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28760" y="4016160"/>
            <a:ext cx="1429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24080" y="371484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119" y="203"/>
                </a:moveTo>
                <a:lnTo>
                  <a:pt x="119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228400" y="376056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39760" y="3714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14760" y="3440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54360" y="35672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68600" y="3179880"/>
            <a:ext cx="125280" cy="287280"/>
          </a:xfrm>
          <a:custGeom>
            <a:avLst/>
            <a:gdLst/>
            <a:ahLst/>
            <a:rect l="l" t="t" r="r" b="b"/>
            <a:pathLst>
              <a:path w="79" h="181">
                <a:moveTo>
                  <a:pt x="79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30440" y="320472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073320"/>
            <a:ext cx="373320" cy="108000"/>
          </a:xfrm>
          <a:custGeom>
            <a:avLst/>
            <a:gdLst/>
            <a:ahLst/>
            <a:rect l="l" t="t" r="r" b="b"/>
            <a:pathLst>
              <a:path w="235" h="68">
                <a:moveTo>
                  <a:pt x="235" y="67"/>
                </a:moveTo>
                <a:lnTo>
                  <a:pt x="117" y="0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36320" y="311940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18132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0" y="0"/>
                </a:moveTo>
                <a:lnTo>
                  <a:pt x="0" y="136"/>
                </a:lnTo>
                <a:lnTo>
                  <a:pt x="119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3375000"/>
            <a:ext cx="14436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484280" y="339552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77840" y="301464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162080" y="3105000"/>
            <a:ext cx="1332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4448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99080" y="3444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6240" y="3397320"/>
            <a:ext cx="1490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4920" y="408312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3080" y="4037040"/>
            <a:ext cx="12060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2360" y="4341960"/>
            <a:ext cx="1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30848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7680" y="4276800"/>
            <a:ext cx="223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84440" y="42433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3000" y="421164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26760" y="4357800"/>
            <a:ext cx="17316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4360" y="46292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27120" y="4484520"/>
            <a:ext cx="21780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2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00280" y="4357800"/>
            <a:ext cx="174600" cy="26676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365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13080" y="3746160"/>
            <a:ext cx="12204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3710160"/>
            <a:ext cx="314280" cy="10764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22"/>
                </a:moveTo>
                <a:lnTo>
                  <a:pt x="81" y="68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38880" y="3973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3720" y="3814920"/>
            <a:ext cx="1800" cy="15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1880" y="3813120"/>
            <a:ext cx="180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68560" y="3710160"/>
            <a:ext cx="18576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08160" y="368928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54320" y="3708360"/>
            <a:ext cx="18576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86240" y="37544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0080" y="370836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370476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5840" y="387972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132440"/>
            <a:ext cx="795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1720" y="41194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5600" y="4113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3120" y="3708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54640" y="3660840"/>
            <a:ext cx="309600" cy="108000"/>
          </a:xfrm>
          <a:custGeom>
            <a:avLst/>
            <a:gdLst/>
            <a:ahLst/>
            <a:rect l="l" t="t" r="r" b="b"/>
            <a:pathLst>
              <a:path w="195" h="68">
                <a:moveTo>
                  <a:pt x="0" y="44"/>
                </a:moveTo>
                <a:lnTo>
                  <a:pt x="78" y="0"/>
                </a:lnTo>
                <a:lnTo>
                  <a:pt x="195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32796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449600" y="3371760"/>
            <a:ext cx="128880" cy="7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8520" y="3922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45160" y="376380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2960" y="3763800"/>
            <a:ext cx="180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4240" y="369684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246560" y="3679560"/>
            <a:ext cx="85680" cy="52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20640" y="3635280"/>
            <a:ext cx="41400" cy="98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875120" y="3650760"/>
            <a:ext cx="46080" cy="93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37600" y="43419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34440" y="4294080"/>
            <a:ext cx="314280" cy="10800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46"/>
                </a:moveTo>
                <a:lnTo>
                  <a:pt x="81" y="0"/>
                </a:lnTo>
                <a:lnTo>
                  <a:pt x="198" y="68"/>
                </a:lnTo>
              </a:path>
            </a:pathLst>
          </a:custGeom>
          <a:noFill/>
          <a:ln w="1908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3240" y="4076640"/>
            <a:ext cx="33480" cy="223920"/>
          </a:xfrm>
          <a:custGeom>
            <a:avLst/>
            <a:gdLst/>
            <a:ahLst/>
            <a:rect l="l" t="t" r="r" b="b"/>
            <a:pathLst>
              <a:path w="21" h="141">
                <a:moveTo>
                  <a:pt x="6" y="141"/>
                </a:moveTo>
                <a:lnTo>
                  <a:pt x="15" y="141"/>
                </a:lnTo>
                <a:lnTo>
                  <a:pt x="21" y="12"/>
                </a:lnTo>
                <a:lnTo>
                  <a:pt x="11" y="6"/>
                </a:lnTo>
                <a:lnTo>
                  <a:pt x="0" y="0"/>
                </a:lnTo>
                <a:lnTo>
                  <a:pt x="6" y="141"/>
                </a:lnTo>
                <a:close/>
              </a:path>
            </a:pathLst>
          </a:custGeom>
          <a:solidFill>
            <a:srgbClr val="ff8000"/>
          </a:soli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40480" y="39117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534080" y="4005000"/>
            <a:ext cx="128520" cy="7452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04440" y="45561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31080" y="4397400"/>
            <a:ext cx="180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67800" y="4397400"/>
            <a:ext cx="144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48720" y="4330800"/>
            <a:ext cx="125280" cy="71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7332840" y="4313160"/>
            <a:ext cx="85680" cy="5256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50080" y="3703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91120" y="3830760"/>
            <a:ext cx="180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27840" y="3830760"/>
            <a:ext cx="144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35840" y="40273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1120" y="3979800"/>
            <a:ext cx="12240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32680" y="3978000"/>
            <a:ext cx="12996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15040" y="3958920"/>
            <a:ext cx="10656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6175440" y="3657240"/>
            <a:ext cx="18720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8320" y="3701880"/>
            <a:ext cx="14292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51600" y="365760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2640" y="3763800"/>
            <a:ext cx="371520" cy="322560"/>
          </a:xfrm>
          <a:custGeom>
            <a:avLst/>
            <a:gdLst/>
            <a:ahLst/>
            <a:rect l="l" t="t" r="r" b="b"/>
            <a:pathLst>
              <a:path w="234" h="203">
                <a:moveTo>
                  <a:pt x="0" y="0"/>
                </a:moveTo>
                <a:lnTo>
                  <a:pt x="0" y="135"/>
                </a:lnTo>
                <a:lnTo>
                  <a:pt x="117" y="203"/>
                </a:lnTo>
                <a:lnTo>
                  <a:pt x="234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550200" y="3958920"/>
            <a:ext cx="1425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46960" y="365616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118" y="203"/>
                </a:moveTo>
                <a:lnTo>
                  <a:pt x="118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49840" y="3701880"/>
            <a:ext cx="14436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362640" y="3656160"/>
            <a:ext cx="184320" cy="107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35840" y="338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5440" y="350784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89680" y="3121200"/>
            <a:ext cx="127080" cy="287280"/>
          </a:xfrm>
          <a:custGeom>
            <a:avLst/>
            <a:gdLst/>
            <a:ahLst/>
            <a:rect l="l" t="t" r="r" b="b"/>
            <a:pathLst>
              <a:path w="80" h="181">
                <a:moveTo>
                  <a:pt x="80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951520" y="314604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18160" y="3016080"/>
            <a:ext cx="371520" cy="106560"/>
          </a:xfrm>
          <a:custGeom>
            <a:avLst/>
            <a:gdLst/>
            <a:ahLst/>
            <a:rect l="l" t="t" r="r" b="b"/>
            <a:pathLst>
              <a:path w="234" h="67">
                <a:moveTo>
                  <a:pt x="234" y="66"/>
                </a:moveTo>
                <a:lnTo>
                  <a:pt x="116" y="0"/>
                </a:lnTo>
                <a:lnTo>
                  <a:pt x="0" y="6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59560" y="3060720"/>
            <a:ext cx="1411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8160" y="312264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0" y="0"/>
                </a:moveTo>
                <a:lnTo>
                  <a:pt x="0" y="136"/>
                </a:lnTo>
                <a:lnTo>
                  <a:pt x="118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7760" y="3316320"/>
            <a:ext cx="1447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05360" y="3336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8920" y="2955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82800" y="3046320"/>
            <a:ext cx="1350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27640" y="3386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20160" y="3386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66960" y="3338640"/>
            <a:ext cx="1508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0" y="4024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4160" y="3978360"/>
            <a:ext cx="12060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13440" y="4282920"/>
            <a:ext cx="158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12000" y="424980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08760" y="4218120"/>
            <a:ext cx="23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05520" y="4184640"/>
            <a:ext cx="28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04080" y="415296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48560" y="4299120"/>
            <a:ext cx="17280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85440" y="4570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48560" y="4425840"/>
            <a:ext cx="21744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3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21360" y="4299120"/>
            <a:ext cx="174600" cy="26640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35942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734160" y="3688920"/>
            <a:ext cx="122400" cy="7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75360" y="3651120"/>
            <a:ext cx="314280" cy="109800"/>
          </a:xfrm>
          <a:custGeom>
            <a:avLst/>
            <a:gdLst/>
            <a:ahLst/>
            <a:rect l="l" t="t" r="r" b="b"/>
            <a:pathLst>
              <a:path w="198" h="69">
                <a:moveTo>
                  <a:pt x="0" y="22"/>
                </a:moveTo>
                <a:lnTo>
                  <a:pt x="81" y="69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59960" y="39146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375588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24760" y="3754440"/>
            <a:ext cx="144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89640" y="3649680"/>
            <a:ext cx="371520" cy="108000"/>
          </a:xfrm>
          <a:custGeom>
            <a:avLst/>
            <a:gdLst/>
            <a:ahLst/>
            <a:rect l="l" t="t" r="r" b="b"/>
            <a:pathLst>
              <a:path w="234" h="68">
                <a:moveTo>
                  <a:pt x="0" y="1"/>
                </a:moveTo>
                <a:lnTo>
                  <a:pt x="118" y="68"/>
                </a:lnTo>
                <a:lnTo>
                  <a:pt x="23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07320" y="36957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61160" y="3649680"/>
            <a:ext cx="1256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908840" y="364824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6920" y="3821040"/>
            <a:ext cx="180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7200" y="375768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305840" y="4268880"/>
            <a:ext cx="41040" cy="98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7959600" y="4284720"/>
            <a:ext cx="46080" cy="9360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UX-Lung 1: Trial Desig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1" name="AutoShape 30"/>
          <p:cNvCxnSpPr/>
          <p:nvPr/>
        </p:nvCxnSpPr>
        <p:spPr>
          <a:xfrm rot="5400000">
            <a:off x="3008880" y="2128680"/>
            <a:ext cx="921600" cy="24008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24"/>
          <p:cNvCxnSpPr/>
          <p:nvPr/>
        </p:nvCxnSpPr>
        <p:spPr>
          <a:xfrm flipH="1" rot="16200000">
            <a:off x="5371200" y="2167200"/>
            <a:ext cx="921600" cy="23234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Rectangle 20"/>
          <p:cNvSpPr/>
          <p:nvPr/>
        </p:nvSpPr>
        <p:spPr>
          <a:xfrm>
            <a:off x="3419640" y="3141720"/>
            <a:ext cx="2450880" cy="512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ndomization 2: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Double Bli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6980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afatinib 50 mg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519264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placebo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03280" y="4508640"/>
            <a:ext cx="8331120" cy="79200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: Overall survival (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ary: PFS, RECIST response, QoL (LC13 &amp; C30), safe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68360" y="5373720"/>
            <a:ext cx="792144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diographic assessments at 4, 8, 12 wks and every 8 wks thereaf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xploratory biomark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rchival tissue testing for EGFR mutations (optional; central la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erum EGFR mutational analysis (all pati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468360" y="1132560"/>
            <a:ext cx="8366040" cy="18284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tients with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denocarcinoma of the lu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tage IIIB/IV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gressed after one or two lines of chemotherapy (incl. one platinum-based regimen) and ≥12 weeks of  treatment with erlotinib or gefitin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COG 0–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=58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6477120"/>
            <a:ext cx="7543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Progression-Free Survival (PFS) by Independent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383760" y="624852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1:33:49Z</dcterms:created>
  <dc:creator>Research To Practice</dc:creator>
  <dc:description/>
  <cp:keywords/>
  <dc:language>en-US</dc:language>
  <cp:lastModifiedBy>Mac Pro E703803Y4PC</cp:lastModifiedBy>
  <cp:lastPrinted>2011-02-10T17:17:55Z</cp:lastPrinted>
  <dcterms:modified xsi:type="dcterms:W3CDTF">2011-05-20T11:42:19Z</dcterms:modified>
  <cp:revision>23</cp:revision>
  <dc:subject/>
  <dc:title>PowerPoint Presentation</dc:title>
</cp:coreProperties>
</file>