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04C-57C5-4E1D-B0C8-CAF5E3C8C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9A2D-0030-4D61-B74B-46EEA57A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7CE-94F1-4B4F-B1D5-FA878D4D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137-369F-48C6-A567-041D833A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C81-A9F3-45E0-9963-27722CF6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ABB-5B46-4D79-899B-41672CDBF2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33F-C907-4B0E-A1BA-B50E60F64B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3C5-1D9B-4C55-8696-60405A5366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0EDD-0989-4DA5-A865-8F6E9979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30A-70D5-4AB0-883D-7D4CB734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92E-1834-40C8-A961-34E4F6E7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878-868F-474E-9F19-7193701E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76C-7C50-4A2E-8E22-659D26D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D18-C1C2-41B9-8FF6-C8D81B76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0B9-A62B-4099-AB07-D1BEB963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BDEC-8F87-47BB-A0B0-19174070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58C-F929-436B-9831-0A6DEB38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0AC6-3B80-4767-8856-4712DF4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66AF-53EF-4967-9A09-11B302FB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6A1D-A08F-4A4D-A86D-53745AD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4303-D65B-49F4-935C-BD970965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7626-2AC8-49E3-8666-D84B9B8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FC1-3948-459B-B812-79681190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F40B-4515-4CF7-8157-FCD297C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E954-E1BF-4BAB-A6C9-00212B2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C038-680F-4CA9-AF0C-3A36524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5DAF-FB24-41ED-8BEA-EDED9FAD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AB2F-C852-4CA0-88D8-0EE68671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DA33-8DF1-4C0B-B246-08B130B9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24AA-0771-4D6A-AADA-059172C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F15C-418D-484E-A904-E8DFC38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4845-8B24-47BD-B5E6-7EA42B2B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E741-88EA-45E5-A857-91D8A0A5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794-4FB0-4D74-A293-6E2854D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A03B-0733-45B6-B56D-C47E5239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A847-9F92-429F-A70F-8986424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B02D-607A-448F-B078-417118A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1544-E9CD-4A7E-BA74-6F7D80E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8756-87A7-466A-96A1-675377AF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591D-2723-4992-8CBB-7989571E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FBA8-6F1D-4C90-AB1E-9564D2EC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82D-4080-4E91-B50E-0CD0AFB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5B4-B997-4B0C-8A2B-E97584B0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1EB-E75F-43E2-BAF8-EC65ACF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2A8-D21A-40B3-B4B6-5D8993D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A18-BF87-4BD1-BEB8-3BD42A0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FB5-B434-4815-BD74-1C6E14F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64DF-244B-4E82-9D3E-D3EAEB3D03D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B04-F66E-4429-9FEE-87C0058DD4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8D67-648C-41C6-ACED-585B36A66B6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E10-7A67-49C6-B510-FFF7891EB8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3927-6CE6-4C56-9785-DFF6E078E4E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6448-0295-4525-9A66-5C99D59B4E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lter J Curran J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ole of Consolidation RT for Extensive- Stage Small Cell Lung Cancer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TOG 0937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andomized Phase II Study Comparing PCI vs PCI and Consolidative Extra-Cranial RT for ED-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RT (4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:  1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5"/>
          <p:cNvSpPr/>
          <p:nvPr/>
        </p:nvSpPr>
        <p:spPr>
          <a:xfrm>
            <a:off x="5029200" y="2438280"/>
            <a:ext cx="914400" cy="9144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 flipH="1">
            <a:off x="2285640" y="2514600"/>
            <a:ext cx="762120" cy="83808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Agree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, 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the chest and/or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gree, 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 to the ch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/or the brain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228600"/>
            <a:ext cx="758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RTC 08993-22993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 Trial of PCI in E-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804000" y="1773360"/>
            <a:ext cx="1979640" cy="122400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-30 G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12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6804000" y="3357720"/>
            <a:ext cx="1979640" cy="107928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5076720" y="2744640"/>
            <a:ext cx="1322640" cy="792360"/>
          </a:xfrm>
          <a:prstGeom prst="flowChartDecision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7"/>
          <p:cNvCxnSpPr>
            <a:endCxn id="142" idx="1"/>
          </p:cNvCxnSpPr>
          <p:nvPr/>
        </p:nvCxnSpPr>
        <p:spPr>
          <a:xfrm flipV="1">
            <a:off x="6399360" y="2385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8"/>
          <p:cNvCxnSpPr>
            <a:endCxn id="143" idx="1"/>
          </p:cNvCxnSpPr>
          <p:nvPr/>
        </p:nvCxnSpPr>
        <p:spPr>
          <a:xfrm>
            <a:off x="6399360" y="3141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AutoShape 10"/>
          <p:cNvSpPr/>
          <p:nvPr/>
        </p:nvSpPr>
        <p:spPr>
          <a:xfrm>
            <a:off x="3117960" y="2960640"/>
            <a:ext cx="1682640" cy="397080"/>
          </a:xfrm>
          <a:prstGeom prst="flowChartTerminator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1"/>
          <p:cNvCxnSpPr>
            <a:stCxn id="147" idx="3"/>
          </p:cNvCxnSpPr>
          <p:nvPr/>
        </p:nvCxnSpPr>
        <p:spPr>
          <a:xfrm flipV="1">
            <a:off x="4800240" y="3141360"/>
            <a:ext cx="361080" cy="1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12"/>
          <p:cNvCxnSpPr>
            <a:stCxn id="150" idx="3"/>
            <a:endCxn id="147" idx="1"/>
          </p:cNvCxnSpPr>
          <p:nvPr/>
        </p:nvCxnSpPr>
        <p:spPr>
          <a:xfrm>
            <a:off x="2592360" y="2850840"/>
            <a:ext cx="526320" cy="30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Text Box 13"/>
          <p:cNvSpPr/>
          <p:nvPr/>
        </p:nvSpPr>
        <p:spPr>
          <a:xfrm>
            <a:off x="469440" y="547380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: Performance score and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556000" y="382428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700360" y="3824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5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2556000" y="4400640"/>
            <a:ext cx="42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700360" y="440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2895480" y="2286000"/>
            <a:ext cx="1970280" cy="38736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No respo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28"/>
          <p:cNvCxnSpPr>
            <a:stCxn id="150" idx="3"/>
            <a:endCxn id="156" idx="1"/>
          </p:cNvCxnSpPr>
          <p:nvPr/>
        </p:nvCxnSpPr>
        <p:spPr>
          <a:xfrm flipV="1">
            <a:off x="2592360" y="2479320"/>
            <a:ext cx="303840" cy="37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AutoShape 29"/>
          <p:cNvSpPr/>
          <p:nvPr/>
        </p:nvSpPr>
        <p:spPr>
          <a:xfrm>
            <a:off x="395280" y="2239920"/>
            <a:ext cx="2197080" cy="122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(4-6 cycl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3635280" y="2097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V="1">
            <a:off x="3564000" y="2096640"/>
            <a:ext cx="718920" cy="72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45720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62"/>
          <p:cNvSpPr/>
          <p:nvPr/>
        </p:nvSpPr>
        <p:spPr>
          <a:xfrm>
            <a:off x="4572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of Symptomat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Metast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80880" y="1676520"/>
            <a:ext cx="83822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irradiation group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4.4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14.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control group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32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40.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zard ratio for irradiation group: 0.27 (95% CI 0.16 - 0.44)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&lt; 0.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85"/>
          <p:cNvSpPr/>
          <p:nvPr/>
        </p:nvSpPr>
        <p:spPr>
          <a:xfrm>
            <a:off x="15228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Survival by Assigned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80880" y="1676520"/>
            <a:ext cx="8382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dian overall survival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6.7 mos vs 5.4 mo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0.003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zard ratio for irradiation group: 0.68 (95% CI 0.52 - 0.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rvival rate at 1 year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27.1% vs 13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ized Version of this Dat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 and PCI: My Opinion 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-SCLC Patient with CR or Near-CR to 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MR of Brain Pre- and Post-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ignificant Neuro-Cognitive Dys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: 25 Gy in ten 2.5 Gy f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OLIDATIVE THORACIC RT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with Timing of RT—Awfully Late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for Pts with Oligometastatic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with Hemi-Body RT (Bonner et 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n the Setting of a Clinical Trial (Ho H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06440">
              <a:lnSpc>
                <a:spcPct val="60000"/>
              </a:lnSpc>
              <a:spcBef>
                <a:spcPts val="7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 it or not, there is on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-ANALYSIS OF  TRT TIMING 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d et al. Lung Cancer 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24280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 Trials Published since 1985:  1524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te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R of Early vs Late 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2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0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1f497d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5.2% Higher 2-Yr Survival Rate with Early 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2-10T20:29:23Z</cp:lastPrinted>
  <dcterms:modified xsi:type="dcterms:W3CDTF">2011-05-16T11:35:29Z</dcterms:modified>
  <cp:revision>1086</cp:revision>
  <dc:subject/>
  <dc:title>PowerPoint Presentation</dc:title>
</cp:coreProperties>
</file>