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27A8-2779-41DF-9BA6-B7B94C01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7CD-FAED-49C5-A879-1D04EE3A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01B7-7639-4B60-9AD2-25412B29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E278-DBFF-4C47-B564-1B14EC34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DF01-ECC4-4938-93D1-8C8F27B8F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06440" y="685800"/>
            <a:ext cx="4248360" cy="3186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00160" y="4016520"/>
            <a:ext cx="4657680" cy="4441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F687A8D0-EE61-4386-BBE8-B43A4A624471}" type="slidenum"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2DA-A7EC-4731-B0AB-5C784ED0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B6D-19F4-43B0-8622-CA4AAB46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AA1-C782-458F-92DE-403F04C0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B0A-6456-4994-8BD2-7221DF17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10D-7BD2-4F27-A6E7-B94E3C9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89E-ED39-4E72-93E8-6D4B3562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531-B407-476C-9614-CBF0D68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673-9639-4F5E-9D64-8090A179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BCFF-0428-4DF4-A77C-67127C3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AF9-75AE-462F-AB77-8FA40E9F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F6A0-977B-475F-9113-1C113FE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2EB-7A79-4806-A42A-DCBC395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FE0-AD65-4030-8F43-3007712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448E-2531-453F-AEEB-DB8DCB5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6B5-9F59-4172-8DEA-EABA904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1F42-E2FB-428D-A23C-B2FFDB0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AE5F-F319-4F20-BE79-D0EDEAA1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A37-0858-48E2-B943-0C6FF6F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8DA8-BCB4-4EFE-B8C1-C7BD7323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EF49-4FD5-47BF-8BB1-8DC6D10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697E-9CA3-4719-8505-1BFE0D6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8E0-7FCD-4BC1-8891-E4400AD8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5FF1-A73A-4EA7-8D2E-8FCD187B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91D3-FE36-4468-92F2-98ACE8D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360A-CE20-4E4F-94B9-7D32895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EE1C-9F10-46D6-B3DF-D0F006A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04D3-320B-461F-BD7A-844BF1F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3E9A-7E86-4E6A-A35C-EF10950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84D1-C7DA-4BF1-85FB-BB914092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7ADA-3042-4970-81BC-A2A691B4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BB29-9675-42FD-876A-C5A2CA4E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B097-404E-47A6-A8F5-7FE8D808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F8A-6A6F-410D-806E-3CACB52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C0DE-CEDA-4848-A0D3-5EFB85DF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6022-308E-4664-A621-4D41007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9E08-EBE8-437C-B669-2DF6309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A11A-3520-4007-81BA-127AE556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EB6F-1B1A-4A49-BFFB-5912ECA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EE52-0BA7-4EB5-9469-E96DD34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F345-0F0C-49F3-A4FF-48AA280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1CC2-3004-4E33-915F-EA11DE6A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60DE-4A0F-4396-8CAB-A40AF17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3842-03F8-4091-8BA5-A8B16577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9FF-C579-43E3-A6BB-A01F6C3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EC45-34EB-4821-9732-2E04A48E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96FE-A4A9-4207-8094-90D303AC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8F2A-18F5-4E2D-88E0-D444DA4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D71B-69EC-440A-8A6A-E703CC7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6891-C3E8-486B-8158-6A694A79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07FF-720B-451B-8328-D263388B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CDC8-127A-42C5-9770-96BCB4B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E908-5F58-41BF-BABF-4D84C55B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1B79-510D-4CF0-80CD-ADD071C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EB4C-A187-43F3-BEC3-9AB63B9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D28-5E31-4E3A-95A5-6519435B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1AA6-5158-47AD-B2FD-DFEDA68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9864-3D2D-44B5-B291-03A3595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3158-BACE-4084-9FA5-568437FD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E5BF-4446-4ECD-BA06-59AC7948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1972-C2D6-40DB-B38E-BE5F8148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F582-1BDA-4A91-A5A1-A77338F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4D17-86E0-44CF-9B26-1ED785B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B786F-3943-4BBD-95BE-DCC269A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EECE-7D0A-4E98-99EA-BA3FEE0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EAFF0-2D16-4690-9FF4-F023BB3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0EE-F067-408F-BC70-0722147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D201-8F5E-4369-8E16-D7D1D49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AE12-5214-41B3-8624-6E889CA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6618-DA0D-49E9-8EDC-84AC1E9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CAE7-405F-4FCB-8515-56DDC01C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82B3-0E20-4A5D-8FA1-E5140C31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1853-8BF1-4CA4-87C9-53ADDC5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D1FB-28EC-4C24-A231-B73DD54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4B39C-4C67-47C9-9F3E-6CD293C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E90F-C145-4FE9-945F-9AE1CE7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9953-84FD-45DE-9FB4-7697A944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85A-80ED-46FB-B8D9-C239453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A02C-684E-4A81-B825-4CF3390E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706F-25A5-4FE2-AF76-156E3B9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91D7-6F00-4CEB-AE49-078E02A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0E8FC-7C22-4E49-B556-88E2BFB9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2FA7-E4A1-4C06-9E36-21BA215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AB50-E11A-4BF8-9299-0BCDC7C4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939F-7E0C-44F3-8E50-A00FD96D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AD70-511F-4540-9FF4-18A2C90B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546-336C-4645-B709-DC3B5860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105-45C9-49B6-AE91-C97FC99381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E74-3E87-474E-9AA1-BF92C0F772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74D-F6CF-4340-BAA6-96A660BCF8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CD4E-9F3A-49E9-B295-2AF82A418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2D5-FF44-4C9A-A4E2-E74435C61D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291960" y="3244680"/>
            <a:ext cx="8529840" cy="0"/>
          </a:xfrm>
          <a:prstGeom prst="line">
            <a:avLst/>
          </a:prstGeom>
          <a:ln w="28440">
            <a:solidFill>
              <a:srgbClr val="e9c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ng Advanced Lung Adenocarcinoma: 201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gorithm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 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7160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L-4 ALK Fusion in NSCLC: Clinical and Pathologic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tients may be younger and more commonly m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common in adenocarcinoma and never or modest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like EGFR mutation may NOT be progno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ke EGFR mutation largely exclusive from KRAS mut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re to occur with EGFR mu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urs in 25% of EGFR/KRAS WT never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 Fusions in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locations resulting in fusio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receptor tyrosine kinase (anaplastic lymphoma kinase [ALK] fuses to the echinoderm microtubule-associated protein-like 4 (EML-4) [Soda Nature 2007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ple chimeras f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oge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 enhances proliferation, survival, changes cell shape through KRAS-ERK, JAK3-STAT, PI3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1960" y="1271160"/>
            <a:ext cx="8529840" cy="190044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nical Activity of the Oral ALK Inhibitor, 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(PF-02341066), in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on-small Cell Lung Cancer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1960" y="3319560"/>
            <a:ext cx="8529840" cy="1752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 Y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wak EL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haw A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midge D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afrate AJ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ki RG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omon B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u SI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algia 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lark J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68360" y="3987720"/>
            <a:ext cx="8174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oul National University, Seoul, Kore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ssachusetts General Hospital, Boston, M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olorado Cancer Center, Aurora, CO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morial Sloan-Kettering Cancer Center,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w York, NY, USA;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eter MacCallum Cancer Centre, East Melbourne, Australia; </a:t>
            </a:r>
            <a:br>
              <a:rPr sz="1400"/>
            </a:b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alifornia at Irvine, Irvine, C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hicago Cancer Center, Chicago, IL, USA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297000" y="639144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trac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15640" y="646596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CO Annual Meeting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3" descr=""/>
          <p:cNvPicPr/>
          <p:nvPr/>
        </p:nvPicPr>
        <p:blipFill>
          <a:blip r:embed="rId1"/>
          <a:stretch/>
        </p:blipFill>
        <p:spPr>
          <a:xfrm>
            <a:off x="971640" y="139716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4"/>
          <p:cNvSpPr/>
          <p:nvPr/>
        </p:nvSpPr>
        <p:spPr>
          <a:xfrm>
            <a:off x="487440" y="1371600"/>
            <a:ext cx="484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987800" y="1625760"/>
            <a:ext cx="14472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4987800" y="1925640"/>
            <a:ext cx="14472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4987800" y="2217600"/>
            <a:ext cx="144720" cy="13032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4987800" y="2514600"/>
            <a:ext cx="14472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5132520" y="1533600"/>
            <a:ext cx="3524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gressiv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bl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partial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complete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 rot="16200000">
            <a:off x="-1517760" y="34704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ximum change in tumor size (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1103400" y="394488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82680" y="3740040"/>
            <a:ext cx="596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1278000" y="5450040"/>
            <a:ext cx="65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*Partial response patients with 100% change have non-target disease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8294760" y="58420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3691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NEJM 2010;363:1693-703 fig 2A. © Massachusetts Medical Society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1960" y="4176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Median PFS Has Not Been Reached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e9c550"/>
                </a:solidFill>
                <a:latin typeface="Arial"/>
              </a:rPr>
              <a:t>70% of Patients in Follow-up for PFS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762120" y="1828800"/>
            <a:ext cx="770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follow-up for PFS = 6.4 months (25-75% percentile: 3.5-10 month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S probability at 6 months = 72% (95% CI: 61, 8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2485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363:1693-703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93680" y="6324480"/>
            <a:ext cx="74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1007: NCT00932893; PROFILE 1005: NCT009324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6"/>
          <p:cNvSpPr/>
          <p:nvPr/>
        </p:nvSpPr>
        <p:spPr>
          <a:xfrm>
            <a:off x="419040" y="16765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latinum-bas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8"/>
          <p:cNvSpPr/>
          <p:nvPr/>
        </p:nvSpPr>
        <p:spPr>
          <a:xfrm>
            <a:off x="4187160" y="36608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3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11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2" name="Text Box 19"/>
          <p:cNvSpPr/>
          <p:nvPr/>
        </p:nvSpPr>
        <p:spPr>
          <a:xfrm>
            <a:off x="1351080" y="13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OFILE 1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6"/>
          <p:cNvCxnSpPr>
            <a:stCxn id="514" idx="3"/>
          </p:cNvCxnSpPr>
          <p:nvPr/>
        </p:nvCxnSpPr>
        <p:spPr>
          <a:xfrm>
            <a:off x="4154040" y="5125680"/>
            <a:ext cx="115164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515" name="AutoShape 40"/>
          <p:cNvSpPr/>
          <p:nvPr/>
        </p:nvSpPr>
        <p:spPr>
          <a:xfrm>
            <a:off x="5305320" y="4616280"/>
            <a:ext cx="351648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250 mg BID (N=25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11120" y="403848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ive disease in Arm B of study A8081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 prior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1366920" y="36576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c63f"/>
                </a:solidFill>
                <a:latin typeface="Arial"/>
              </a:rPr>
              <a:t>PROFILE 1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8"/>
          <p:cNvSpPr/>
          <p:nvPr/>
        </p:nvSpPr>
        <p:spPr>
          <a:xfrm>
            <a:off x="4210920" y="5164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2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250 mg BID 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Pemetrexed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500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1" lang="en-GB" sz="11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docetaxel 75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infused on day 1 of a 21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    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3429000" y="2819520"/>
            <a:ext cx="18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biops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990720" y="4038480"/>
            <a:ext cx="23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1"/>
          <p:cNvSpPr/>
          <p:nvPr/>
        </p:nvSpPr>
        <p:spPr>
          <a:xfrm>
            <a:off x="5410080" y="39625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14479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3"/>
          <p:cNvSpPr/>
          <p:nvPr/>
        </p:nvSpPr>
        <p:spPr>
          <a:xfrm>
            <a:off x="7238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"/>
          <p:cNvSpPr/>
          <p:nvPr/>
        </p:nvSpPr>
        <p:spPr>
          <a:xfrm>
            <a:off x="533520" y="524196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and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81"/>
          <p:cNvSpPr/>
          <p:nvPr/>
        </p:nvSpPr>
        <p:spPr>
          <a:xfrm>
            <a:off x="4876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23"/>
          <p:cNvCxnSpPr/>
          <p:nvPr/>
        </p:nvCxnSpPr>
        <p:spPr>
          <a:xfrm flipV="1">
            <a:off x="2055960" y="4496760"/>
            <a:ext cx="3600" cy="533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0" name="Straight Arrow Connector 25"/>
          <p:cNvCxnSpPr>
            <a:stCxn id="523" idx="2"/>
          </p:cNvCxnSpPr>
          <p:nvPr/>
        </p:nvCxnSpPr>
        <p:spPr>
          <a:xfrm flipH="1">
            <a:off x="2058120" y="4557240"/>
            <a:ext cx="89640" cy="467640"/>
          </a:xfrm>
          <a:prstGeom prst="straightConnector1">
            <a:avLst/>
          </a:prstGeom>
          <a:ln w="0">
            <a:noFill/>
          </a:ln>
        </p:spPr>
      </p:cxnSp>
      <p:sp>
        <p:nvSpPr>
          <p:cNvPr id="531" name=""/>
          <p:cNvSpPr/>
          <p:nvPr/>
        </p:nvSpPr>
        <p:spPr>
          <a:xfrm flipH="1">
            <a:off x="2209680" y="3048120"/>
            <a:ext cx="152424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3048120"/>
            <a:ext cx="129528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12"/>
          <p:cNvCxnSpPr>
            <a:stCxn id="535" idx="2"/>
            <a:endCxn id="536" idx="0"/>
          </p:cNvCxnSpPr>
          <p:nvPr/>
        </p:nvCxnSpPr>
        <p:spPr>
          <a:xfrm flipH="1">
            <a:off x="3250440" y="1874880"/>
            <a:ext cx="1397880" cy="1234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6" name="TextBox 13"/>
          <p:cNvSpPr/>
          <p:nvPr/>
        </p:nvSpPr>
        <p:spPr>
          <a:xfrm>
            <a:off x="2464200" y="31082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1"/>
          <p:cNvSpPr/>
          <p:nvPr/>
        </p:nvSpPr>
        <p:spPr>
          <a:xfrm>
            <a:off x="4952880" y="31240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4"/>
          <p:cNvCxnSpPr>
            <a:stCxn id="535" idx="2"/>
            <a:endCxn id="537" idx="0"/>
          </p:cNvCxnSpPr>
          <p:nvPr/>
        </p:nvCxnSpPr>
        <p:spPr>
          <a:xfrm>
            <a:off x="4648320" y="1874880"/>
            <a:ext cx="1296000" cy="1249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5" name="TextBox 20"/>
          <p:cNvSpPr/>
          <p:nvPr/>
        </p:nvSpPr>
        <p:spPr>
          <a:xfrm>
            <a:off x="22860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4"/>
          <p:cNvCxnSpPr>
            <a:stCxn id="537" idx="2"/>
            <a:endCxn id="540" idx="0"/>
          </p:cNvCxnSpPr>
          <p:nvPr/>
        </p:nvCxnSpPr>
        <p:spPr>
          <a:xfrm>
            <a:off x="5943600" y="3825720"/>
            <a:ext cx="381600" cy="13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1" name="TextBox 74"/>
          <p:cNvSpPr/>
          <p:nvPr/>
        </p:nvSpPr>
        <p:spPr>
          <a:xfrm>
            <a:off x="1773360" y="5013360"/>
            <a:ext cx="213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 be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75"/>
          <p:cNvCxnSpPr>
            <a:stCxn id="536" idx="2"/>
            <a:endCxn id="541" idx="0"/>
          </p:cNvCxnSpPr>
          <p:nvPr/>
        </p:nvCxnSpPr>
        <p:spPr>
          <a:xfrm flipH="1">
            <a:off x="2839680" y="3809520"/>
            <a:ext cx="411840" cy="12042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0" name="TextBox 26"/>
          <p:cNvSpPr/>
          <p:nvPr/>
        </p:nvSpPr>
        <p:spPr>
          <a:xfrm>
            <a:off x="5257800" y="51814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Straight Arrow Connector 6"/>
          <p:cNvCxnSpPr>
            <a:stCxn id="545" idx="3"/>
            <a:endCxn id="546" idx="0"/>
          </p:cNvCxnSpPr>
          <p:nvPr/>
        </p:nvCxnSpPr>
        <p:spPr>
          <a:xfrm>
            <a:off x="5866920" y="3017520"/>
            <a:ext cx="1791720" cy="6721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46" name="TextBox 7"/>
          <p:cNvSpPr/>
          <p:nvPr/>
        </p:nvSpPr>
        <p:spPr>
          <a:xfrm>
            <a:off x="6705720" y="3689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9"/>
          <p:cNvCxnSpPr>
            <a:stCxn id="548" idx="2"/>
            <a:endCxn id="545" idx="0"/>
          </p:cNvCxnSpPr>
          <p:nvPr/>
        </p:nvCxnSpPr>
        <p:spPr>
          <a:xfrm>
            <a:off x="4647960" y="2362320"/>
            <a:ext cx="108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5" name="TextBox 10"/>
          <p:cNvSpPr/>
          <p:nvPr/>
        </p:nvSpPr>
        <p:spPr>
          <a:xfrm>
            <a:off x="3429000" y="2819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Straight Arrow Connector 12"/>
          <p:cNvCxnSpPr>
            <a:stCxn id="545" idx="1"/>
            <a:endCxn id="550" idx="0"/>
          </p:cNvCxnSpPr>
          <p:nvPr/>
        </p:nvCxnSpPr>
        <p:spPr>
          <a:xfrm flipH="1">
            <a:off x="1530000" y="3017520"/>
            <a:ext cx="1899360" cy="64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0" name="TextBox 13"/>
          <p:cNvSpPr/>
          <p:nvPr/>
        </p:nvSpPr>
        <p:spPr>
          <a:xfrm>
            <a:off x="647640" y="3657600"/>
            <a:ext cx="17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xon 19, 2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1"/>
          <p:cNvSpPr/>
          <p:nvPr/>
        </p:nvSpPr>
        <p:spPr>
          <a:xfrm>
            <a:off x="30877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EGFR/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23"/>
          <p:cNvCxnSpPr>
            <a:stCxn id="553" idx="2"/>
            <a:endCxn id="554" idx="0"/>
          </p:cNvCxnSpPr>
          <p:nvPr/>
        </p:nvCxnSpPr>
        <p:spPr>
          <a:xfrm>
            <a:off x="4646520" y="5054400"/>
            <a:ext cx="118368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5" name="Straight Arrow Connector 25"/>
          <p:cNvCxnSpPr>
            <a:stCxn id="553" idx="2"/>
            <a:endCxn id="556" idx="0"/>
          </p:cNvCxnSpPr>
          <p:nvPr/>
        </p:nvCxnSpPr>
        <p:spPr>
          <a:xfrm flipH="1">
            <a:off x="3390480" y="5054400"/>
            <a:ext cx="125640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4" name="TextBox 26"/>
          <p:cNvSpPr/>
          <p:nvPr/>
        </p:nvSpPr>
        <p:spPr>
          <a:xfrm>
            <a:off x="4876920" y="6019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5909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nical t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4"/>
          <p:cNvCxnSpPr>
            <a:stCxn id="545" idx="2"/>
            <a:endCxn id="551" idx="0"/>
          </p:cNvCxnSpPr>
          <p:nvPr/>
        </p:nvCxnSpPr>
        <p:spPr>
          <a:xfrm>
            <a:off x="4648320" y="3216240"/>
            <a:ext cx="2160" cy="51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8" name="TextBox 20"/>
          <p:cNvSpPr/>
          <p:nvPr/>
        </p:nvSpPr>
        <p:spPr>
          <a:xfrm>
            <a:off x="2286000" y="12952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stained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3"/>
          <p:cNvSpPr/>
          <p:nvPr/>
        </p:nvSpPr>
        <p:spPr>
          <a:xfrm>
            <a:off x="6934320" y="5105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64"/>
          <p:cNvCxnSpPr>
            <a:stCxn id="546" idx="2"/>
            <a:endCxn id="558" idx="0"/>
          </p:cNvCxnSpPr>
          <p:nvPr/>
        </p:nvCxnSpPr>
        <p:spPr>
          <a:xfrm>
            <a:off x="7657920" y="4086000"/>
            <a:ext cx="191160" cy="1019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0" name="TextBox 74"/>
          <p:cNvSpPr/>
          <p:nvPr/>
        </p:nvSpPr>
        <p:spPr>
          <a:xfrm>
            <a:off x="228600" y="5181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T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/- 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75"/>
          <p:cNvCxnSpPr>
            <a:stCxn id="550" idx="2"/>
            <a:endCxn id="560" idx="0"/>
          </p:cNvCxnSpPr>
          <p:nvPr/>
        </p:nvCxnSpPr>
        <p:spPr>
          <a:xfrm flipH="1">
            <a:off x="1332720" y="4359240"/>
            <a:ext cx="197640" cy="822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3" name="TextBox 81"/>
          <p:cNvSpPr/>
          <p:nvPr/>
        </p:nvSpPr>
        <p:spPr>
          <a:xfrm>
            <a:off x="3084480" y="465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 FISH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8"/>
          <p:cNvSpPr/>
          <p:nvPr/>
        </p:nvSpPr>
        <p:spPr>
          <a:xfrm>
            <a:off x="29718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9"/>
          <p:cNvSpPr/>
          <p:nvPr/>
        </p:nvSpPr>
        <p:spPr>
          <a:xfrm>
            <a:off x="48006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90"/>
          <p:cNvCxnSpPr>
            <a:stCxn id="551" idx="2"/>
            <a:endCxn id="553" idx="0"/>
          </p:cNvCxnSpPr>
          <p:nvPr/>
        </p:nvCxnSpPr>
        <p:spPr>
          <a:xfrm flipH="1">
            <a:off x="4645800" y="4130640"/>
            <a:ext cx="3960" cy="527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-small cell lung cancer is no longer one disease treated empirically with one or two chemotherapy regim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SCLC”, and in particular adenocarcinoma, must be sub-typed both pathologically and genotyp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FR mutations served as a “watershed event” for this fundamental paradigm change but other “druggable” kinase mutations will continue to be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IOPSY/CYTOLOGY LUNG CANCER DIAGNOSIS: IN USA OVER 130,000 CASES IN 2009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9: ACS estimates for USA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9,440 Lung Canc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mal A et al: CA Cancer J Clin 2009:59:2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5% NSCLC = 186,524 (15% SCL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% Advanced Stage = 130,56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esectable: Diagnosed by small biopsies/cy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HISTOCHEMICAL MAR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9560" y="1752480"/>
            <a:ext cx="801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ENO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TF-1 (best), Napsin, PE-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UAMOUS 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63 (best), CK5/6, 34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mocollin-3 (need more tes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ktails – nuclear/cytoplasmic antibod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enocarcinoma – TTF-1/Nap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uamous – p63/CK5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GGESTED TERMINOLOG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SCLC: SMALL BIOPSIES/CYT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0680" y="190512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clear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quamous Cell Carcinoma or Adenocarcinom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NSCLC-NOS – do IH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ear IHC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squamous cell carcinoma (IHC: positive squamous, negative adenocarcinom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adenocarcinoma (IHC: positive adeno, negative squamou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HC negative or not clear: NSCLC-N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staining negati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flicting staining (both adenoCA and squamous IH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5880" y="6858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2286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11430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97324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438280"/>
            <a:ext cx="137160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1143000"/>
            <a:ext cx="152424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257800"/>
            <a:ext cx="160020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191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257800"/>
            <a:ext cx="2057400" cy="38088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5867280"/>
            <a:ext cx="3048120" cy="6858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5867280"/>
            <a:ext cx="304812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895480"/>
            <a:ext cx="160020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895480"/>
            <a:ext cx="160020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648320"/>
            <a:ext cx="152388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41148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648320"/>
            <a:ext cx="137160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27672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819520"/>
            <a:ext cx="167652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1447920"/>
            <a:ext cx="21337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80880"/>
            <a:ext cx="221004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80880"/>
            <a:ext cx="221004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2286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7200"/>
            <a:ext cx="221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609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BIOPSY (FOB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BBx, Core, SLBx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9907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CYTOLOG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ffusion, aspirate, washings, brushing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237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large cell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IHC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114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atinization, pearls and/or intercellular brid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2788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?LCNE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72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L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2193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ic morphology:SQC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15238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stology: Lepidic, papillary, and/or acinar architecture(s)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logy: 3-D arragements, delicate foamy/vacuolated (translucent) cytoplasm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e nuclear chromatin and often prominent nucleol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clei are often eccentrically situa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2475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SQC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29718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CC marker +v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-ve/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20976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 ancillary panel of one SQCC and one ADC marker +/OR Muc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971800"/>
            <a:ext cx="12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863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i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27672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and/or Mucin +ve; SQCC marker -ve (or weak in same cel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47041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1752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HC -ve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191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or Mucin +ve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well as SQCC marker +v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different cel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470412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 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318640"/>
            <a:ext cx="20574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lecular analysis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.g. EGFR muta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5880" y="5302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SCLC, NOS, possible adenosquamous c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0840" y="6140520"/>
            <a:ext cx="30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f tumor tissue inadequate for molecular testing, discuss need for further sampling - back to Step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90840" y="5943600"/>
            <a:ext cx="30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91440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6858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685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small cells, no nucleoli, NE IHC+, TTF-1 +/-, CK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276720" y="533520"/>
            <a:ext cx="60948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914400"/>
            <a:ext cx="60948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8380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12952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3808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1295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1143000"/>
            <a:ext cx="144756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28600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26668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00400"/>
            <a:ext cx="0" cy="2057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3434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3809880"/>
            <a:ext cx="1371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05720" y="274284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0" y="464832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90760" y="5410080"/>
            <a:ext cx="1904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56386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6172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057400" y="350532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81080"/>
            <a:ext cx="1295640" cy="5335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76640" y="2003400"/>
            <a:ext cx="12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 clear ADC or SQC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-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CHANGES IN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40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ng cancer diagnosis is multidisciplin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biopsy/cytology  specimens (Never in WH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ction specim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biopsies/cytolog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classify further than NSCLC-N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management for IHC/molecular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FR mutation testing is recommended in advanced stage lung adca and NSCLC-N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2384280" y="1673280"/>
            <a:ext cx="3473640" cy="3563280"/>
            <a:chOff x="2384280" y="1673280"/>
            <a:chExt cx="3473640" cy="3563280"/>
          </a:xfrm>
        </p:grpSpPr>
        <p:sp>
          <p:nvSpPr>
            <p:cNvPr id="456" name="Line 4"/>
            <p:cNvSpPr/>
            <p:nvPr/>
          </p:nvSpPr>
          <p:spPr>
            <a:xfrm>
              <a:off x="4251240" y="449892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4251240" y="234720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3259080" y="3689280"/>
              <a:ext cx="2051280" cy="1547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3263760" y="1673280"/>
              <a:ext cx="2041560" cy="1349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8"/>
            <p:cNvSpPr/>
            <p:nvPr/>
          </p:nvSpPr>
          <p:spPr>
            <a:xfrm>
              <a:off x="3268800" y="1761840"/>
              <a:ext cx="2030400" cy="117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50 mg / day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V="1">
              <a:off x="2384280" y="2340000"/>
              <a:ext cx="86364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2397240" y="3785400"/>
              <a:ext cx="850680" cy="73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1"/>
            <p:cNvSpPr/>
            <p:nvPr/>
          </p:nvSpPr>
          <p:spPr>
            <a:xfrm>
              <a:off x="3159000" y="4065840"/>
              <a:ext cx="2249640" cy="818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platin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UC 5 or 6) / paclitaxe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0 mg / 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weekl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3146400" y="3265920"/>
              <a:ext cx="2293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9440" indent="-379440" algn="ctr">
                <a:lnSpc>
                  <a:spcPct val="80000"/>
                </a:lnSpc>
                <a:spcBef>
                  <a:spcPts val="4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:1 randomiz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3"/>
          <p:cNvSpPr/>
          <p:nvPr/>
        </p:nvSpPr>
        <p:spPr>
          <a:xfrm>
            <a:off x="5867280" y="1058760"/>
            <a:ext cx="2990880" cy="435132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351320"/>
              <a:gd name="textAreaBottom" fmla="*/ 4205520 h 4351320"/>
            </a:gdLst>
            <a:ahLst/>
            <a:rect l="textAreaLeft" t="textAreaTop" r="textAreaRight" b="textAreaBottom"/>
            <a:pathLst>
              <a:path w="21600" h="31424">
                <a:moveTo>
                  <a:pt x="3600" y="0"/>
                </a:moveTo>
                <a:arcTo wR="3600" hR="3600" stAng="16200000" swAng="-5400000"/>
                <a:lnTo>
                  <a:pt x="0" y="27824"/>
                </a:lnTo>
                <a:arcTo wR="3600" hR="3600" stAng="10800000" swAng="-5400000"/>
                <a:lnTo>
                  <a:pt x="18000" y="31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390600" y="140004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177840" y="541008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Never smokers, &lt;100 cigarettes in lifetime; light ex-smokers, stopp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 years ago and smok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 pack years;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ed to a maximum of 6 cycl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, performance status; EGFR, epidermal growth factor recep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507960" y="1484280"/>
            <a:ext cx="224172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e ≥18 year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≥12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 0-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able stage IIIB / IV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791320" y="1593720"/>
            <a:ext cx="2911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-free survival   (non-inferior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 response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surviva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-related symptom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nd tol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14880" y="122400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64008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PFS by Mutation Status within Treatment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80880" y="2057400"/>
          <a:ext cx="8458200" cy="239076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676520"/>
                <a:gridCol w="121896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, Events by Mutation Stat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-Mutation Posi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 Neg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/ 1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/ 9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 + Paclitax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/ 1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/ 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29"/>
          <p:cNvSpPr/>
          <p:nvPr/>
        </p:nvSpPr>
        <p:spPr>
          <a:xfrm>
            <a:off x="571320" y="61261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k T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(10):947-5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7782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0" y="76320"/>
            <a:ext cx="91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88520" y="59878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verall EGFR mutation positive rate = 59.7% (261 / 437)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4480" y="6248520"/>
            <a:ext cx="62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05:33Z</dcterms:created>
  <dc:creator>Research To Practice</dc:creator>
  <dc:description/>
  <cp:keywords/>
  <dc:language>en-US</dc:language>
  <cp:lastModifiedBy>Mac Pro E703803Y4PC</cp:lastModifiedBy>
  <cp:lastPrinted>2011-02-11T13:58:42Z</cp:lastPrinted>
  <dcterms:modified xsi:type="dcterms:W3CDTF">2011-06-08T18:05:04Z</dcterms:modified>
  <cp:revision>33</cp:revision>
  <dc:subject/>
  <dc:title>PowerPoint Presentation</dc:title>
</cp:coreProperties>
</file>