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60738-9FC3-42A3-9608-54B4ECDFB0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CCAFB-7CE6-4D4A-86A2-FD478C363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6516B-0B68-4368-819E-C9712BBAAF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5"/>
          <p:cNvSpPr/>
          <p:nvPr/>
        </p:nvSpPr>
        <p:spPr>
          <a:xfrm>
            <a:off x="3900600" y="8704440"/>
            <a:ext cx="2990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E6B4CDC-8B0A-46D5-AF77-7DBFD0C08C4F}" type="slidenum">
              <a:rPr b="0" i="1" lang="nl-NL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93840" y="797040"/>
            <a:ext cx="4270320" cy="32036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C723F-0196-4439-9ABC-101E51B5B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FE355-AC64-45C5-AD32-3768CF5E4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5"/>
          <p:cNvSpPr/>
          <p:nvPr/>
        </p:nvSpPr>
        <p:spPr>
          <a:xfrm>
            <a:off x="3900600" y="8704440"/>
            <a:ext cx="2990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4BA0BB-67F8-4E45-9149-2DA33888439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293840" y="797040"/>
            <a:ext cx="4270320" cy="32036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33400" y="4346280"/>
            <a:ext cx="5191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B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7E3-B45C-4A0F-B559-2EAF9431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6E9-2AE2-4274-8778-E4808AD0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328-2101-4958-8899-855BE10C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7800-52AE-4EE5-B0B9-80835A69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5E2C-B8F1-4FD8-82F6-A4CDBD2E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B3A-3F43-4CE2-9525-819407FE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6E5-EC1A-427E-B4BA-837C74C2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D933-EBDC-4C8F-87F6-F1801CC7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1596-CA0C-4C5C-8B95-833E2962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C29-E163-4071-80A8-6086B96C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B74A-13B5-4224-B194-3C6738C1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555-6658-4EC0-B4DB-D64FC6AE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1C53-05E7-423A-803A-E47E4185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04FC-437A-4577-93EE-ED56D2CB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2A7D-7D98-431A-BB57-E27193C0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DD48-74E4-4B31-8242-C8626781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7763-C568-46FB-8F8D-F3B56083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ECE8-74CB-4F89-8D9F-8FD481AA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6EBB-FA5D-4BF5-A252-B6B5F6C4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9D3E-F14D-4AFB-A9A5-F39528DC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E16F-16B4-4EE4-9445-FF93B5D4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2B57-6B5B-4F23-AEA5-4F22B6C4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868F-2255-46B6-B7EA-80F30467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2A84-46A5-40E3-B309-E40C6DEF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7B01C-0515-479E-97FD-03FB7E5C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85533-866A-45E3-8BEB-B65E590B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A6795-A064-410D-810B-F49DB249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2FCF4-72BF-4562-B22D-62D5BF3B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F91F8-50E7-4ADB-8278-E89ABC88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4A313-4506-43D7-A14D-679362A7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5C6E3-4178-4E43-9F17-764502F4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96965-5898-4D76-A356-F6E174EC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622EE-ED93-4245-86DB-9A794653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70D86-EA4B-46FA-8E0A-2A22AE8E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6461D-993A-4ED8-9F66-5A02D1D2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58905-897F-402B-B8C9-A5CF97B5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9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d"/>
            </a:gs>
            <a:gs pos="50000">
              <a:srgbClr val="0000cc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2000" y="342720"/>
            <a:ext cx="79153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576360" y="1981080"/>
            <a:ext cx="8339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901"/>
              </a:spcBef>
              <a:buClr>
                <a:srgbClr val="fafd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90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901"/>
              </a:spcBef>
              <a:buClr>
                <a:srgbClr val="fafd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323300"/>
              </a:gs>
              <a:gs pos="50000">
                <a:srgbClr val="fafd00"/>
              </a:gs>
              <a:gs pos="100000">
                <a:srgbClr val="32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666679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98280" y="52560"/>
            <a:ext cx="1317600" cy="16254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677880" y="6242040"/>
            <a:ext cx="231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2000" y="342720"/>
            <a:ext cx="79153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76360" y="1981080"/>
            <a:ext cx="8339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901"/>
              </a:spcBef>
              <a:buClr>
                <a:srgbClr val="fafd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90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901"/>
              </a:spcBef>
              <a:buClr>
                <a:srgbClr val="fafd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323300"/>
              </a:gs>
              <a:gs pos="50000">
                <a:srgbClr val="fafd00"/>
              </a:gs>
              <a:gs pos="100000">
                <a:srgbClr val="32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666679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98280" y="52560"/>
            <a:ext cx="1317600" cy="1625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677880" y="6242040"/>
            <a:ext cx="231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19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dt" idx="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68EAC8-4E16-4247-8B56-48865B30C4F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B406A-9238-45AF-AC2C-FFA7CA3C29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19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BC010-9E5E-407F-9A4C-0BA5E0D1FF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19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AAD8B-8B8C-4EC1-ABE4-C009F09F08A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CE231-0A4E-4218-BA34-C253B7A301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2960" indent="-22716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0160" indent="-22716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7360" indent="-22716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560" y="140616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3d17"/>
                </a:solidFill>
                <a:latin typeface="Lucida Grande"/>
              </a:rPr>
              <a:t>Key questions being answered in ongoing clinical trials in NSCLC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903320" y="3451320"/>
            <a:ext cx="55771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useppe Giaccone, MD P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cal Oncology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Cancer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hesda, Mary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mi, February 11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d"/>
            </a:gs>
            <a:gs pos="50000">
              <a:srgbClr val="0000cc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Line 4"/>
          <p:cNvSpPr/>
          <p:nvPr/>
        </p:nvSpPr>
        <p:spPr>
          <a:xfrm flipV="1">
            <a:off x="4057560" y="2593440"/>
            <a:ext cx="488880" cy="584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"/>
          <p:cNvSpPr/>
          <p:nvPr/>
        </p:nvSpPr>
        <p:spPr>
          <a:xfrm>
            <a:off x="4057560" y="3243240"/>
            <a:ext cx="505080" cy="592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4"/>
          <p:cNvSpPr/>
          <p:nvPr/>
        </p:nvSpPr>
        <p:spPr>
          <a:xfrm>
            <a:off x="250920" y="2154240"/>
            <a:ext cx="3097080" cy="2233440"/>
          </a:xfrm>
          <a:prstGeom prst="roundRect">
            <a:avLst>
              <a:gd name="adj" fmla="val 16667"/>
            </a:avLst>
          </a:prstGeom>
          <a:solidFill>
            <a:srgbClr val="3f3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Stage IIIB/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isease control a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first-line thera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PS 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o brain m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o immun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4699080" y="2154240"/>
            <a:ext cx="4120920" cy="123660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-BLP25 vaccine (Stimuvax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,000 µg s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qw (x8) -&gt; q6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+ B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4714920" y="3548160"/>
            <a:ext cx="4105080" cy="97308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BSC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16"/>
          <p:cNvGrpSpPr/>
          <p:nvPr/>
        </p:nvGrpSpPr>
        <p:grpSpPr>
          <a:xfrm>
            <a:off x="3498840" y="2844720"/>
            <a:ext cx="673200" cy="660240"/>
            <a:chOff x="3498840" y="2844720"/>
            <a:chExt cx="673200" cy="660240"/>
          </a:xfrm>
        </p:grpSpPr>
        <p:sp>
          <p:nvSpPr>
            <p:cNvPr id="388" name="Oval 12"/>
            <p:cNvSpPr/>
            <p:nvPr/>
          </p:nvSpPr>
          <p:spPr>
            <a:xfrm>
              <a:off x="3498840" y="2844720"/>
              <a:ext cx="673200" cy="660240"/>
            </a:xfrm>
            <a:prstGeom prst="ellipse">
              <a:avLst/>
            </a:prstGeom>
            <a:solidFill>
              <a:srgbClr val="5353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3"/>
            <p:cNvSpPr/>
            <p:nvPr/>
          </p:nvSpPr>
          <p:spPr>
            <a:xfrm>
              <a:off x="3613320" y="2933640"/>
              <a:ext cx="444240" cy="459720"/>
            </a:xfrm>
            <a:prstGeom prst="rect">
              <a:avLst/>
            </a:prstGeom>
            <a:solidFill>
              <a:srgbClr val="535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ffffff"/>
                  </a:solidFill>
                  <a:latin typeface="Verdan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AutoShape 10"/>
          <p:cNvSpPr/>
          <p:nvPr/>
        </p:nvSpPr>
        <p:spPr>
          <a:xfrm>
            <a:off x="250920" y="5445000"/>
            <a:ext cx="4930560" cy="752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Primary endpoint: overall surv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BE" sz="1400" spc="-1" strike="noStrike">
                <a:solidFill>
                  <a:srgbClr val="ffffff"/>
                </a:solidFill>
                <a:latin typeface="Verdana"/>
              </a:rPr>
              <a:t>Other endpoints: safety, HRQoL, immune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208080" y="4457880"/>
            <a:ext cx="36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tratified  IIIB ‘dry’ vs. IIIB ‘wet’ vs. 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3639960" y="223200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=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3639960" y="380052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=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152360" y="343080"/>
            <a:ext cx="791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afd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&gt; MUC1 </a:t>
            </a:r>
            <a:r>
              <a:rPr b="1" lang="en-US" sz="2800" spc="-1" strike="noStrike">
                <a:solidFill>
                  <a:srgbClr val="fafd00"/>
                </a:solidFill>
                <a:latin typeface="Verdana"/>
              </a:rPr>
              <a:t>phase II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824040" y="6372360"/>
            <a:ext cx="269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Butts et al, J Clin Oncol 23:6674-6681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5184720" y="4591080"/>
            <a:ext cx="36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12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riming cyclophosphamide 300 mg/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d"/>
            </a:gs>
            <a:gs pos="50000">
              <a:srgbClr val="0000cc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1008000" y="2112840"/>
          <a:ext cx="6824880" cy="3510000"/>
        </p:xfrm>
        <a:graphic>
          <a:graphicData uri="http://schemas.openxmlformats.org/drawingml/2006/table">
            <a:tbl>
              <a:tblPr/>
              <a:tblGrid>
                <a:gridCol w="2295720"/>
                <a:gridCol w="2170080"/>
                <a:gridCol w="2359080"/>
              </a:tblGrid>
              <a:tr h="6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-BLP25 + B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dian 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3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[95% CI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.3 m  [9.6–28.1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.6 m  [13.4–NA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</a:tr>
              <a:tr h="68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R [95%CI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1" i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548 [0.301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–0.999</a:t>
                      </a: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] </a:t>
                      </a:r>
                      <a:br>
                        <a:rPr sz="1400"/>
                      </a:br>
                      <a:r>
                        <a:rPr b="1" i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</a:t>
                      </a: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=0.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YS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YS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YS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8080ff"/>
                    </a:solidFill>
                  </a:tcPr>
                </a:tc>
              </a:tr>
            </a:tbl>
          </a:graphicData>
        </a:graphic>
      </p:graphicFrame>
      <p:sp>
        <p:nvSpPr>
          <p:cNvPr id="398" name="Rectangle 3"/>
          <p:cNvSpPr/>
          <p:nvPr/>
        </p:nvSpPr>
        <p:spPr>
          <a:xfrm>
            <a:off x="1152360" y="343080"/>
            <a:ext cx="791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afd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1" lang="nl-BE" sz="2400" spc="-1" strike="noStrike">
                <a:solidFill>
                  <a:srgbClr val="fafd00"/>
                </a:solidFill>
                <a:latin typeface="Verdana"/>
              </a:rPr>
              <a:t>&gt; MUC1 phase II R: stage IIIB ‘dry’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484200" y="6335640"/>
            <a:ext cx="358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  <a:ea typeface="Verdana"/>
              </a:rPr>
              <a:t>Butts et al, WCLC2007 updated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d"/>
            </a:gs>
            <a:gs pos="50000">
              <a:srgbClr val="0000cc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Line 4"/>
          <p:cNvSpPr/>
          <p:nvPr/>
        </p:nvSpPr>
        <p:spPr>
          <a:xfrm flipV="1">
            <a:off x="4057560" y="2393640"/>
            <a:ext cx="498600" cy="584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5"/>
          <p:cNvSpPr/>
          <p:nvPr/>
        </p:nvSpPr>
        <p:spPr>
          <a:xfrm>
            <a:off x="4057560" y="3033720"/>
            <a:ext cx="523800" cy="519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250920" y="1963800"/>
            <a:ext cx="3097080" cy="2233440"/>
          </a:xfrm>
          <a:prstGeom prst="roundRect">
            <a:avLst>
              <a:gd name="adj" fmla="val 16667"/>
            </a:avLst>
          </a:prstGeom>
          <a:solidFill>
            <a:srgbClr val="3f3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Stage IIIB/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isease control a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first-line thera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PS 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o brain m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o immun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5"/>
          <p:cNvSpPr/>
          <p:nvPr/>
        </p:nvSpPr>
        <p:spPr>
          <a:xfrm>
            <a:off x="4699080" y="1963800"/>
            <a:ext cx="4120920" cy="97308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-BLP25 vaccin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1,000 µg s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qw (x8) -&gt; q6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+ B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4714920" y="3224160"/>
            <a:ext cx="4105080" cy="97308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Placebo same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+ B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16"/>
          <p:cNvGrpSpPr/>
          <p:nvPr/>
        </p:nvGrpSpPr>
        <p:grpSpPr>
          <a:xfrm>
            <a:off x="3498840" y="2654280"/>
            <a:ext cx="673200" cy="660240"/>
            <a:chOff x="3498840" y="2654280"/>
            <a:chExt cx="673200" cy="660240"/>
          </a:xfrm>
        </p:grpSpPr>
        <p:sp>
          <p:nvSpPr>
            <p:cNvPr id="406" name="Oval 12"/>
            <p:cNvSpPr/>
            <p:nvPr/>
          </p:nvSpPr>
          <p:spPr>
            <a:xfrm>
              <a:off x="3498840" y="2654280"/>
              <a:ext cx="673200" cy="660240"/>
            </a:xfrm>
            <a:prstGeom prst="ellipse">
              <a:avLst/>
            </a:prstGeom>
            <a:solidFill>
              <a:srgbClr val="5353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3"/>
            <p:cNvSpPr/>
            <p:nvPr/>
          </p:nvSpPr>
          <p:spPr>
            <a:xfrm>
              <a:off x="3613320" y="2743200"/>
              <a:ext cx="444240" cy="459720"/>
            </a:xfrm>
            <a:prstGeom prst="rect">
              <a:avLst/>
            </a:prstGeom>
            <a:solidFill>
              <a:srgbClr val="535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ffffff"/>
                  </a:solidFill>
                  <a:latin typeface="Verdan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AutoShape 10"/>
          <p:cNvSpPr/>
          <p:nvPr/>
        </p:nvSpPr>
        <p:spPr>
          <a:xfrm>
            <a:off x="250920" y="5445000"/>
            <a:ext cx="4930560" cy="752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Primary endpoint: overall surv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BE" sz="1400" spc="-1" strike="noStrike">
                <a:solidFill>
                  <a:srgbClr val="ffffff"/>
                </a:solidFill>
                <a:latin typeface="Verdana"/>
              </a:rPr>
              <a:t>Other endpoints: safety, TTP, sympto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208080" y="4267080"/>
            <a:ext cx="364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tratified   stage: IIIA  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vs.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III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ponse: SD 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vs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. 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T: concurrent 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vs.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sequ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3639960" y="204156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=8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3639960" y="355284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=4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1152360" y="343080"/>
            <a:ext cx="791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afd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&gt; MUC1 </a:t>
            </a:r>
            <a:r>
              <a:rPr b="1" lang="en-US" sz="2800" spc="-1" strike="noStrike">
                <a:solidFill>
                  <a:srgbClr val="fafd00"/>
                </a:solidFill>
                <a:latin typeface="Verdana"/>
              </a:rPr>
              <a:t>phase III (ST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1"/>
          <p:cNvSpPr/>
          <p:nvPr/>
        </p:nvSpPr>
        <p:spPr>
          <a:xfrm>
            <a:off x="824040" y="6372360"/>
            <a:ext cx="269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Butts et al, J Clin Oncol 23:6674-6681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5184720" y="4267080"/>
            <a:ext cx="36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12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riming cyclophosphamide 300 mg/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udy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2598840" y="1473120"/>
            <a:ext cx="3873240" cy="1081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vanced NSC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urrent or Refractory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ing for KRAS mu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1277640" y="3695760"/>
            <a:ext cx="1840320" cy="368280"/>
          </a:xfrm>
          <a:prstGeom prst="rect">
            <a:avLst/>
          </a:prstGeom>
          <a:solidFill>
            <a:srgbClr val="aa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RAS Wild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5722920" y="3695760"/>
            <a:ext cx="1706400" cy="368280"/>
          </a:xfrm>
          <a:prstGeom prst="rect">
            <a:avLst/>
          </a:prstGeom>
          <a:solidFill>
            <a:srgbClr val="e848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RAS Mut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403920" y="4762440"/>
            <a:ext cx="139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loti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0 mg Q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2551680" y="4762440"/>
            <a:ext cx="13924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ZD62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0 mg Q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loti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0 mg Q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1"/>
          <p:cNvSpPr/>
          <p:nvPr/>
        </p:nvSpPr>
        <p:spPr>
          <a:xfrm>
            <a:off x="4823640" y="4762440"/>
            <a:ext cx="13924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ZD62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0 mg Q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loti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0 mg Q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2"/>
          <p:cNvSpPr/>
          <p:nvPr/>
        </p:nvSpPr>
        <p:spPr>
          <a:xfrm>
            <a:off x="6899760" y="4762440"/>
            <a:ext cx="13100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ZD62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5 mg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3"/>
          <p:cNvSpPr/>
          <p:nvPr/>
        </p:nvSpPr>
        <p:spPr>
          <a:xfrm flipH="1">
            <a:off x="2095560" y="2565360"/>
            <a:ext cx="2247840" cy="11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4"/>
          <p:cNvSpPr/>
          <p:nvPr/>
        </p:nvSpPr>
        <p:spPr>
          <a:xfrm>
            <a:off x="4343400" y="2565360"/>
            <a:ext cx="2095560" cy="11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7"/>
          <p:cNvSpPr/>
          <p:nvPr/>
        </p:nvSpPr>
        <p:spPr>
          <a:xfrm flipH="1">
            <a:off x="5448240" y="40766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8"/>
          <p:cNvSpPr/>
          <p:nvPr/>
        </p:nvSpPr>
        <p:spPr>
          <a:xfrm>
            <a:off x="6438960" y="407664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9"/>
          <p:cNvSpPr/>
          <p:nvPr/>
        </p:nvSpPr>
        <p:spPr>
          <a:xfrm flipH="1">
            <a:off x="1028520" y="407664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0"/>
          <p:cNvSpPr/>
          <p:nvPr/>
        </p:nvSpPr>
        <p:spPr>
          <a:xfrm>
            <a:off x="2095560" y="40766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1"/>
          <p:cNvSpPr/>
          <p:nvPr/>
        </p:nvSpPr>
        <p:spPr>
          <a:xfrm>
            <a:off x="2168640" y="296712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0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2"/>
          <p:cNvSpPr/>
          <p:nvPr/>
        </p:nvSpPr>
        <p:spPr>
          <a:xfrm>
            <a:off x="5511960" y="259884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 enrollment 18 patients (9 per arm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0/9 responses then this arm will clo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1 response, then will enroll addi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 patients per arm (Max 6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3"/>
          <p:cNvSpPr/>
          <p:nvPr/>
        </p:nvSpPr>
        <p:spPr>
          <a:xfrm>
            <a:off x="568440" y="41860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4"/>
          <p:cNvSpPr/>
          <p:nvPr/>
        </p:nvSpPr>
        <p:spPr>
          <a:xfrm>
            <a:off x="2664000" y="418320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5"/>
          <p:cNvSpPr/>
          <p:nvPr/>
        </p:nvSpPr>
        <p:spPr>
          <a:xfrm>
            <a:off x="4975200" y="418320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0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6"/>
          <p:cNvSpPr/>
          <p:nvPr/>
        </p:nvSpPr>
        <p:spPr>
          <a:xfrm>
            <a:off x="6994440" y="418320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0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7"/>
          <p:cNvSpPr/>
          <p:nvPr/>
        </p:nvSpPr>
        <p:spPr>
          <a:xfrm>
            <a:off x="3421800" y="3195720"/>
            <a:ext cx="219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80%)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(2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ported incidence of K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tations in NSC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2"/>
          <p:cNvSpPr/>
          <p:nvPr/>
        </p:nvSpPr>
        <p:spPr>
          <a:xfrm>
            <a:off x="6096600" y="53352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TEP # 84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PARP-1 Inhibitors in NSCL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1452600" y="1265400"/>
          <a:ext cx="6205680" cy="5232240"/>
        </p:xfrm>
        <a:graphic>
          <a:graphicData uri="http://schemas.openxmlformats.org/drawingml/2006/table">
            <a:tbl>
              <a:tblPr/>
              <a:tblGrid>
                <a:gridCol w="2846520"/>
                <a:gridCol w="335916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5d87cf"/>
                          </a:solidFill>
                          <a:latin typeface="Arial"/>
                        </a:rPr>
                        <a:t>PARP-1 inhib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GB" sz="1600" spc="-1" strike="noStrike">
                          <a:solidFill>
                            <a:srgbClr val="5d87cf"/>
                          </a:solidFill>
                          <a:latin typeface="Arial"/>
                        </a:rPr>
                        <a:t>Lung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SI-201 (Inipari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III (SCC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II (all histologie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D2281 (Olapari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0146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T-8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-10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P-97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48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I 21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66760" y="34272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Verdana"/>
              </a:rPr>
              <a:t>Lung cancer vaccination</a:t>
            </a:r>
            <a:br>
              <a:rPr sz="44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54160" y="1612800"/>
          <a:ext cx="8686800" cy="4910040"/>
        </p:xfrm>
        <a:graphic>
          <a:graphicData uri="http://schemas.openxmlformats.org/drawingml/2006/table">
            <a:tbl>
              <a:tblPr/>
              <a:tblGrid>
                <a:gridCol w="1406520"/>
                <a:gridCol w="1436760"/>
                <a:gridCol w="1612800"/>
                <a:gridCol w="1409760"/>
                <a:gridCol w="1411200"/>
                <a:gridCol w="1409760"/>
              </a:tblGrid>
              <a:tr h="6102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GE-A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P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an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HU-EG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4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</a:tr>
              <a:tr h="610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prote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ptide in lipos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geneic ce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prote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ptide by viral ve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ase set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t-surg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t-CT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vanc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vanc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vanc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10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cifi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2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/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10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uno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ase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CT/placeb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CT/B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n/d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CT/B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CT/B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372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ase 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going – target 2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going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1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going – target 7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going – target 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ed – target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44280"/>
            <a:ext cx="9140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NSCLC First Line Phase III Trial 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Placebo-Controlled and Double-Bli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629080" y="1320840"/>
            <a:ext cx="352080" cy="2495520"/>
          </a:xfrm>
          <a:prstGeom prst="rect">
            <a:avLst/>
          </a:prstGeom>
          <a:solidFill>
            <a:srgbClr val="ffffdb"/>
          </a:solidFill>
          <a:ln w="2844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31760" y="1292400"/>
            <a:ext cx="185436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ge IIIB/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mo Na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able 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ain Metastases Allowed if S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OG 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ific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gra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ease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"/>
          <p:cNvSpPr/>
          <p:nvPr/>
        </p:nvSpPr>
        <p:spPr>
          <a:xfrm flipV="1">
            <a:off x="3143160" y="1951200"/>
            <a:ext cx="685800" cy="41400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3143160" y="2746440"/>
            <a:ext cx="609840" cy="44928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790800" y="159084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/P (6 cycles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Talactoferr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6572160" y="161604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actoferrin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6572160" y="298764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cebo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3790800" y="30384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/P (6 cycles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Placeb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5495760" y="1320840"/>
            <a:ext cx="352440" cy="2495520"/>
          </a:xfrm>
          <a:prstGeom prst="rect">
            <a:avLst/>
          </a:prstGeom>
          <a:solidFill>
            <a:srgbClr val="ffffdb"/>
          </a:solidFill>
          <a:ln w="2844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2"/>
          <p:cNvSpPr/>
          <p:nvPr/>
        </p:nvSpPr>
        <p:spPr>
          <a:xfrm>
            <a:off x="6010200" y="3127320"/>
            <a:ext cx="628560" cy="180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3"/>
          <p:cNvSpPr/>
          <p:nvPr/>
        </p:nvSpPr>
        <p:spPr>
          <a:xfrm>
            <a:off x="6010200" y="1851120"/>
            <a:ext cx="628560" cy="144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"/>
          <p:cNvSpPr/>
          <p:nvPr/>
        </p:nvSpPr>
        <p:spPr>
          <a:xfrm>
            <a:off x="2173320" y="3925800"/>
            <a:ext cx="4038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100 Patients in Tota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-Primary Endpoi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ession-Free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all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ary Endpoi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E Red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ration of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6568920" y="2011320"/>
            <a:ext cx="2405160" cy="946440"/>
          </a:xfrm>
          <a:prstGeom prst="rect">
            <a:avLst/>
          </a:prstGeom>
          <a:solidFill>
            <a:srgbClr val="ffffdb"/>
          </a:solidFill>
          <a:ln w="2556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tabLst>
                <a:tab algn="l" pos="0"/>
                <a:tab algn="l" pos="11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Phase 2, TLF or placebo was stopped when chemotherapy was discontinued or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3121920" y="239868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: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60920" y="4965480"/>
            <a:ext cx="4330800" cy="1460520"/>
          </a:xfrm>
          <a:prstGeom prst="rect">
            <a:avLst/>
          </a:prstGeom>
          <a:noFill/>
          <a:ln w="38160">
            <a:solidFill>
              <a:srgbClr val="99022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2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 1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actoferrin 1.5 g bid oral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platin AUC 6.0 min*mg/m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litaxel 200 mg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476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 2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bo bid orally + C/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actoferrin or placebo will be administered orally for 35 consecutive days, starting on Day 2 in the first, third and fifth 3-week C/P cycl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47240"/>
            <a:ext cx="91407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NSCLC Monotherapy Phase III Placebo-Controlled and Double-Bli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2901960" y="2247840"/>
            <a:ext cx="352440" cy="2495520"/>
          </a:xfrm>
          <a:prstGeom prst="rect">
            <a:avLst/>
          </a:prstGeom>
          <a:solidFill>
            <a:srgbClr val="ffffdb"/>
          </a:solidFill>
          <a:ln w="2844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203040" y="1300320"/>
            <a:ext cx="219744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ractory IIIB or 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prior regim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able 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G 0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 Metastases Allowed if S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if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ogra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umber of Prior Therap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ance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 flipV="1">
            <a:off x="3416400" y="2877840"/>
            <a:ext cx="685800" cy="41436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3416400" y="3673440"/>
            <a:ext cx="609480" cy="44928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064040" y="257796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ive Care*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Talactoferr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4064040" y="3787920"/>
            <a:ext cx="181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ive Care*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Placeb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6275520" y="2062080"/>
            <a:ext cx="2614320" cy="29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20 Patients in Tota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ry Endpoint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all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ary Endpoi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E Redu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 mo and 1 yr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ession-free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ve respons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ease stabilization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ety and tol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0"/>
          <p:cNvSpPr/>
          <p:nvPr/>
        </p:nvSpPr>
        <p:spPr>
          <a:xfrm>
            <a:off x="142920" y="6429240"/>
            <a:ext cx="880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Excludes any other anti-cancer 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3402720" y="33368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: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2955240" y="5162400"/>
            <a:ext cx="5848560" cy="734400"/>
          </a:xfrm>
          <a:prstGeom prst="rect">
            <a:avLst/>
          </a:prstGeom>
          <a:noFill/>
          <a:ln w="2844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lactoferrin 1.5 g bid, or an equivalent volume of placeb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weeks (84 days) on study drug and 2 weeks (14 days) off study dr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4"/>
          <p:cNvSpPr/>
          <p:nvPr/>
        </p:nvSpPr>
        <p:spPr>
          <a:xfrm>
            <a:off x="250920" y="1938240"/>
            <a:ext cx="3097080" cy="18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Resected NSC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p-stage IB /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complete re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MAGE-A3  rt PCR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PS 0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4686480" y="1874880"/>
            <a:ext cx="4133520" cy="72072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MAGE-A3 ASCI 300 µg i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q3w x5 -&gt; q3m x8 (27 m to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4673520" y="3025800"/>
            <a:ext cx="4146480" cy="72072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same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0"/>
          <p:cNvSpPr/>
          <p:nvPr/>
        </p:nvSpPr>
        <p:spPr>
          <a:xfrm>
            <a:off x="250920" y="5511960"/>
            <a:ext cx="4790880" cy="583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imary endpoint: disease-free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1"/>
          <p:cNvSpPr/>
          <p:nvPr/>
        </p:nvSpPr>
        <p:spPr>
          <a:xfrm>
            <a:off x="1104840" y="125280"/>
            <a:ext cx="79916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&gt;MAGE-A3 proof of concept phase II R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814680" y="6350040"/>
            <a:ext cx="278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Vansteenkiste et al, ASCO 2007 - IASLC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"/>
          <p:cNvSpPr/>
          <p:nvPr/>
        </p:nvSpPr>
        <p:spPr>
          <a:xfrm>
            <a:off x="208080" y="4076640"/>
            <a:ext cx="36432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17784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tratifi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460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tage:  IB vs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460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histology: squamous vs. non-squam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460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LN procedure: limited vs. dis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 flipV="1">
            <a:off x="4057560" y="2304720"/>
            <a:ext cx="498600" cy="584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4057560" y="2944800"/>
            <a:ext cx="523800" cy="592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16"/>
          <p:cNvGrpSpPr/>
          <p:nvPr/>
        </p:nvGrpSpPr>
        <p:grpSpPr>
          <a:xfrm>
            <a:off x="3498840" y="2565360"/>
            <a:ext cx="673200" cy="660240"/>
            <a:chOff x="3498840" y="2565360"/>
            <a:chExt cx="673200" cy="660240"/>
          </a:xfrm>
        </p:grpSpPr>
        <p:sp>
          <p:nvSpPr>
            <p:cNvPr id="334" name="Oval 12"/>
            <p:cNvSpPr/>
            <p:nvPr/>
          </p:nvSpPr>
          <p:spPr>
            <a:xfrm>
              <a:off x="3498840" y="2565360"/>
              <a:ext cx="673200" cy="660240"/>
            </a:xfrm>
            <a:prstGeom prst="ellipse">
              <a:avLst/>
            </a:prstGeom>
            <a:solidFill>
              <a:srgbClr val="535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3"/>
            <p:cNvSpPr/>
            <p:nvPr/>
          </p:nvSpPr>
          <p:spPr>
            <a:xfrm>
              <a:off x="3613320" y="2654280"/>
              <a:ext cx="444240" cy="429120"/>
            </a:xfrm>
            <a:prstGeom prst="rect">
              <a:avLst/>
            </a:prstGeom>
            <a:solidFill>
              <a:srgbClr val="535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nl-BE" sz="2200" spc="-1" strike="noStrike">
                  <a:solidFill>
                    <a:srgbClr val="ffffff"/>
                  </a:solidFill>
                  <a:latin typeface="Verdana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 Box 7"/>
          <p:cNvSpPr/>
          <p:nvPr/>
        </p:nvSpPr>
        <p:spPr>
          <a:xfrm>
            <a:off x="3639960" y="195264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N=1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639960" y="346392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N=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3"/>
          <p:cNvSpPr/>
          <p:nvPr/>
        </p:nvSpPr>
        <p:spPr>
          <a:xfrm>
            <a:off x="522360" y="1473120"/>
            <a:ext cx="8043840" cy="12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-A3 as </a:t>
            </a: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juvant Non-Small Cell Lun</a:t>
            </a: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Cance</a:t>
            </a: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muno</a:t>
            </a: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rap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orldwide multicenter, randomized, double-blind, placebo-controlled ph III 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expected N=10,000 screened  -&gt;  N=2,270 patients rando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primary endpoint: disease-free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1"/>
          <p:cNvSpPr/>
          <p:nvPr/>
        </p:nvSpPr>
        <p:spPr>
          <a:xfrm>
            <a:off x="1120680" y="100080"/>
            <a:ext cx="79153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erdana"/>
                <a:ea typeface="Verdana"/>
              </a:rPr>
              <a:t>Lung cancer vaccination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  <a:ea typeface="Verdana"/>
              </a:rPr>
              <a:t>&gt; MAGE-A3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phase III: MAGRIT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49280" y="3152880"/>
            <a:ext cx="7689960" cy="3227040"/>
            <a:chOff x="449280" y="3152880"/>
            <a:chExt cx="7689960" cy="3227040"/>
          </a:xfrm>
        </p:grpSpPr>
        <p:cxnSp>
          <p:nvCxnSpPr>
            <p:cNvPr id="341" name="AutoShape 2"/>
            <p:cNvCxnSpPr/>
            <p:nvPr/>
          </p:nvCxnSpPr>
          <p:spPr>
            <a:xfrm>
              <a:off x="6779880" y="4823640"/>
              <a:ext cx="1080" cy="483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2" name="Rectangle 8"/>
            <p:cNvSpPr/>
            <p:nvPr/>
          </p:nvSpPr>
          <p:spPr>
            <a:xfrm>
              <a:off x="1505520" y="5207400"/>
              <a:ext cx="2070360" cy="3466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Randomiz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3" name="AutoShape 9"/>
            <p:cNvCxnSpPr/>
            <p:nvPr/>
          </p:nvCxnSpPr>
          <p:spPr>
            <a:xfrm>
              <a:off x="4670640" y="3372840"/>
              <a:ext cx="1080" cy="483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4" name="Rectangle 10"/>
            <p:cNvSpPr/>
            <p:nvPr/>
          </p:nvSpPr>
          <p:spPr>
            <a:xfrm>
              <a:off x="2814120" y="3152880"/>
              <a:ext cx="3684960" cy="3524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Resected MAGE-A3 (+) NSCL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1"/>
            <p:cNvSpPr/>
            <p:nvPr/>
          </p:nvSpPr>
          <p:spPr>
            <a:xfrm>
              <a:off x="3424680" y="3768840"/>
              <a:ext cx="2461680" cy="3175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Decision for che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12"/>
            <p:cNvGrpSpPr/>
            <p:nvPr/>
          </p:nvGrpSpPr>
          <p:grpSpPr>
            <a:xfrm>
              <a:off x="5767560" y="5586480"/>
              <a:ext cx="1937520" cy="325080"/>
              <a:chOff x="5767560" y="5586480"/>
              <a:chExt cx="1937520" cy="325080"/>
            </a:xfrm>
          </p:grpSpPr>
          <p:cxnSp>
            <p:nvCxnSpPr>
              <p:cNvPr id="347" name="AutoShape 13"/>
              <p:cNvCxnSpPr/>
              <p:nvPr/>
            </p:nvCxnSpPr>
            <p:spPr>
              <a:xfrm rot="5400000">
                <a:off x="6095520" y="5258160"/>
                <a:ext cx="325440" cy="981720"/>
              </a:xfrm>
              <a:prstGeom prst="bentConnector3">
                <a:avLst>
                  <a:gd name="adj1" fmla="val 49944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348" name="AutoShape 14"/>
              <p:cNvCxnSpPr/>
              <p:nvPr/>
            </p:nvCxnSpPr>
            <p:spPr>
              <a:xfrm flipH="1" rot="16200000">
                <a:off x="7064640" y="5270760"/>
                <a:ext cx="325440" cy="956160"/>
              </a:xfrm>
              <a:prstGeom prst="bentConnector3">
                <a:avLst>
                  <a:gd name="adj1" fmla="val 49944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49" name="Text Box 15"/>
            <p:cNvSpPr/>
            <p:nvPr/>
          </p:nvSpPr>
          <p:spPr>
            <a:xfrm>
              <a:off x="449280" y="5879880"/>
              <a:ext cx="2550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BE" sz="1400" spc="-1" strike="noStrike">
                  <a:solidFill>
                    <a:srgbClr val="eaa307"/>
                  </a:solidFill>
                  <a:latin typeface="Verdana"/>
                </a:rPr>
                <a:t>MAGE-A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BE" sz="1400" spc="-1" strike="noStrike">
                  <a:solidFill>
                    <a:srgbClr val="eaa307"/>
                  </a:solidFill>
                  <a:latin typeface="Verdana"/>
                </a:rPr>
                <a:t>immunothera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6"/>
            <p:cNvSpPr/>
            <p:nvPr/>
          </p:nvSpPr>
          <p:spPr>
            <a:xfrm>
              <a:off x="3109320" y="5879880"/>
              <a:ext cx="858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eaa307"/>
                  </a:solidFill>
                  <a:latin typeface="Verdana"/>
                  <a:ea typeface="Verdana"/>
                </a:rPr>
                <a:t>Placeb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7"/>
            <p:cNvSpPr/>
            <p:nvPr/>
          </p:nvSpPr>
          <p:spPr>
            <a:xfrm>
              <a:off x="2044080" y="3902760"/>
              <a:ext cx="1064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eaa307"/>
                  </a:solidFill>
                  <a:latin typeface="Verdana"/>
                  <a:ea typeface="Verdana"/>
                </a:rPr>
                <a:t>No che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8"/>
            <p:cNvSpPr/>
            <p:nvPr/>
          </p:nvSpPr>
          <p:spPr>
            <a:xfrm>
              <a:off x="6264360" y="3902760"/>
              <a:ext cx="7873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eaa307"/>
                  </a:solidFill>
                  <a:latin typeface="Verdana"/>
                  <a:ea typeface="Verdana"/>
                </a:rPr>
                <a:t>Che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9"/>
            <p:cNvSpPr/>
            <p:nvPr/>
          </p:nvSpPr>
          <p:spPr>
            <a:xfrm>
              <a:off x="5285520" y="4614120"/>
              <a:ext cx="2814480" cy="344880"/>
            </a:xfrm>
            <a:prstGeom prst="rect">
              <a:avLst/>
            </a:prstGeom>
            <a:solidFill>
              <a:srgbClr val="e123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Up to 4 cycles of che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0"/>
            <p:cNvSpPr/>
            <p:nvPr/>
          </p:nvSpPr>
          <p:spPr>
            <a:xfrm>
              <a:off x="5576760" y="5207400"/>
              <a:ext cx="2347200" cy="346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Randomiz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4494960" y="5879880"/>
              <a:ext cx="2549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BE" sz="1400" spc="-1" strike="noStrike">
                  <a:solidFill>
                    <a:srgbClr val="eaa307"/>
                  </a:solidFill>
                  <a:latin typeface="Verdana"/>
                </a:rPr>
                <a:t>MAGE-A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BE" sz="1400" spc="-1" strike="noStrike">
                  <a:solidFill>
                    <a:srgbClr val="eaa307"/>
                  </a:solidFill>
                  <a:latin typeface="Verdana"/>
                </a:rPr>
                <a:t>immunothera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7280280" y="5879880"/>
              <a:ext cx="858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eaa307"/>
                  </a:solidFill>
                  <a:latin typeface="Verdana"/>
                  <a:ea typeface="Verdana"/>
                </a:rPr>
                <a:t>Placeb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23"/>
            <p:cNvGrpSpPr/>
            <p:nvPr/>
          </p:nvGrpSpPr>
          <p:grpSpPr>
            <a:xfrm>
              <a:off x="2532240" y="4050000"/>
              <a:ext cx="4248000" cy="552600"/>
              <a:chOff x="2532240" y="4050000"/>
              <a:chExt cx="4248000" cy="552600"/>
            </a:xfrm>
          </p:grpSpPr>
          <p:cxnSp>
            <p:nvCxnSpPr>
              <p:cNvPr id="358" name="AutoShape 24"/>
              <p:cNvCxnSpPr/>
              <p:nvPr/>
            </p:nvCxnSpPr>
            <p:spPr>
              <a:xfrm flipH="1" rot="16200000">
                <a:off x="5425200" y="3247200"/>
                <a:ext cx="552960" cy="2157840"/>
              </a:xfrm>
              <a:prstGeom prst="bentConnector3">
                <a:avLst>
                  <a:gd name="adj1" fmla="val 52312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359" name="AutoShape 25"/>
              <p:cNvCxnSpPr/>
              <p:nvPr/>
            </p:nvCxnSpPr>
            <p:spPr>
              <a:xfrm rot="5400000">
                <a:off x="3306240" y="3285720"/>
                <a:ext cx="542520" cy="2090520"/>
              </a:xfrm>
              <a:prstGeom prst="bentConnector3">
                <a:avLst>
                  <a:gd name="adj1" fmla="val 51195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360" name="Group 12"/>
            <p:cNvGrpSpPr/>
            <p:nvPr/>
          </p:nvGrpSpPr>
          <p:grpSpPr>
            <a:xfrm>
              <a:off x="1547280" y="5569920"/>
              <a:ext cx="1969200" cy="383400"/>
              <a:chOff x="1547280" y="5569920"/>
              <a:chExt cx="1969200" cy="383400"/>
            </a:xfrm>
          </p:grpSpPr>
          <p:cxnSp>
            <p:nvCxnSpPr>
              <p:cNvPr id="361" name="AutoShape 13"/>
              <p:cNvCxnSpPr/>
              <p:nvPr/>
            </p:nvCxnSpPr>
            <p:spPr>
              <a:xfrm rot="5400000">
                <a:off x="1883520" y="5265720"/>
                <a:ext cx="325440" cy="998280"/>
              </a:xfrm>
              <a:prstGeom prst="bentConnector3">
                <a:avLst>
                  <a:gd name="adj1" fmla="val 49944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362" name="AutoShape 14"/>
              <p:cNvCxnSpPr/>
              <p:nvPr/>
            </p:nvCxnSpPr>
            <p:spPr>
              <a:xfrm flipH="1" rot="16200000">
                <a:off x="2838960" y="5275440"/>
                <a:ext cx="383760" cy="972360"/>
              </a:xfrm>
              <a:prstGeom prst="bentConnector3">
                <a:avLst>
                  <a:gd name="adj1" fmla="val 49953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945200" cy="41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tigen (‘belagenpumatucel’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ased on </a:t>
            </a:r>
            <a:r>
              <a:rPr b="1" lang="nl-BE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ocktail of 4 different NSCLC cell lin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cessed to cell suspensio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yopreserv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juv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ffff"/>
                </a:solidFill>
                <a:latin typeface="Verdana"/>
              </a:rPr>
              <a:t>lowering of  TGF-</a:t>
            </a:r>
            <a:r>
              <a:rPr b="1" lang="el-GR" sz="2000" spc="-1" strike="noStrike">
                <a:solidFill>
                  <a:srgbClr val="ffffff"/>
                </a:solidFill>
                <a:latin typeface="Lucida Grande"/>
                <a:ea typeface="Times New Roman"/>
              </a:rPr>
              <a:t>β</a:t>
            </a:r>
            <a:r>
              <a:rPr b="1" lang="nl-BE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2 activity by </a:t>
            </a:r>
            <a:r>
              <a:rPr b="1" lang="nl-BE" sz="2000" spc="-1" strike="noStrike">
                <a:solidFill>
                  <a:srgbClr val="ffffff"/>
                </a:solidFill>
                <a:latin typeface="Verdana"/>
              </a:rPr>
              <a:t>TGF-</a:t>
            </a:r>
            <a:r>
              <a:rPr b="1" lang="el-GR" sz="2000" spc="-1" strike="noStrike">
                <a:solidFill>
                  <a:srgbClr val="ffffff"/>
                </a:solidFill>
                <a:latin typeface="Lucida Grande"/>
                <a:ea typeface="Times New Roman"/>
              </a:rPr>
              <a:t>β</a:t>
            </a:r>
            <a:r>
              <a:rPr b="1" lang="nl-BE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2 antisense gene modification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-&gt; increase immunogenicity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ministr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accinate every month up to 16 tim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1152360" y="209520"/>
            <a:ext cx="791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afd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&gt; TGF-</a:t>
            </a:r>
            <a:r>
              <a:rPr b="1" lang="el-GR" sz="2800" spc="-1" strike="noStrike">
                <a:solidFill>
                  <a:srgbClr val="fafd00"/>
                </a:solidFill>
                <a:latin typeface="Lucida Grande"/>
              </a:rPr>
              <a:t>β</a:t>
            </a: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2 allogeneic cells (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belagenpumatucel-L [</a:t>
            </a: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Lucanix</a:t>
            </a:r>
            <a:r>
              <a:rPr b="1" lang="nl-BE" sz="2800" spc="-1" strike="noStrike" baseline="30000">
                <a:solidFill>
                  <a:srgbClr val="fafd00"/>
                </a:solidFill>
                <a:latin typeface="Verdana"/>
              </a:rPr>
              <a:t>®</a:t>
            </a: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])</a:t>
            </a:r>
            <a:r>
              <a:rPr b="1" lang="en-US" sz="2800" spc="-1" strike="noStrike">
                <a:solidFill>
                  <a:srgbClr val="fafd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61760" y="1908000"/>
            <a:ext cx="8057880" cy="411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61 advanced NSCLC patien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 rate 15%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ose-related survival differenc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mising overall surviva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lation between clinical response and cytokine analysi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ell tolerated (mild local / systemic reactions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ustifies further phase III stud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24000" y="6292800"/>
            <a:ext cx="45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imes New Roman"/>
              </a:rPr>
              <a:t>Nemunaitis et al, J Clin Oncol 24:4721-4730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1152360" y="343080"/>
            <a:ext cx="791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afd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&gt; TGF-</a:t>
            </a:r>
            <a:r>
              <a:rPr b="1" lang="el-GR" sz="2800" spc="-1" strike="noStrike">
                <a:solidFill>
                  <a:srgbClr val="fafd00"/>
                </a:solidFill>
                <a:latin typeface="Lucida Grande"/>
              </a:rPr>
              <a:t>β</a:t>
            </a: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2 allogeneic cells: phase II</a:t>
            </a:r>
            <a:r>
              <a:rPr b="1" lang="en-US" sz="2800" spc="-1" strike="noStrike">
                <a:solidFill>
                  <a:srgbClr val="fafd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Line 4"/>
          <p:cNvSpPr/>
          <p:nvPr/>
        </p:nvSpPr>
        <p:spPr>
          <a:xfrm flipV="1">
            <a:off x="4057560" y="2406600"/>
            <a:ext cx="498600" cy="542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5"/>
          <p:cNvSpPr/>
          <p:nvPr/>
        </p:nvSpPr>
        <p:spPr>
          <a:xfrm>
            <a:off x="4057560" y="3046320"/>
            <a:ext cx="523800" cy="592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4"/>
          <p:cNvSpPr/>
          <p:nvPr/>
        </p:nvSpPr>
        <p:spPr>
          <a:xfrm>
            <a:off x="250920" y="1976400"/>
            <a:ext cx="3097080" cy="2233800"/>
          </a:xfrm>
          <a:prstGeom prst="roundRect">
            <a:avLst>
              <a:gd name="adj" fmla="val 16667"/>
            </a:avLst>
          </a:prstGeom>
          <a:solidFill>
            <a:srgbClr val="3f3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Stage III/IV NSC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disease control 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first-line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PS 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4699080" y="1976400"/>
            <a:ext cx="4120920" cy="97308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ctr" pos="7412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lagenpumatucel-L i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Verdana"/>
              <a:buChar char="•"/>
              <a:tabLst>
                <a:tab algn="ctr" pos="7412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m (18 m), at 21 and 24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4714920" y="3236760"/>
            <a:ext cx="4105080" cy="97344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Placebo same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6"/>
          <p:cNvGrpSpPr/>
          <p:nvPr/>
        </p:nvGrpSpPr>
        <p:grpSpPr>
          <a:xfrm>
            <a:off x="3498840" y="2666880"/>
            <a:ext cx="673200" cy="660240"/>
            <a:chOff x="3498840" y="2666880"/>
            <a:chExt cx="673200" cy="660240"/>
          </a:xfrm>
        </p:grpSpPr>
        <p:sp>
          <p:nvSpPr>
            <p:cNvPr id="374" name="Oval 12"/>
            <p:cNvSpPr/>
            <p:nvPr/>
          </p:nvSpPr>
          <p:spPr>
            <a:xfrm>
              <a:off x="3498840" y="2666880"/>
              <a:ext cx="673200" cy="660240"/>
            </a:xfrm>
            <a:prstGeom prst="ellipse">
              <a:avLst/>
            </a:prstGeom>
            <a:solidFill>
              <a:srgbClr val="535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13"/>
            <p:cNvSpPr/>
            <p:nvPr/>
          </p:nvSpPr>
          <p:spPr>
            <a:xfrm>
              <a:off x="3613320" y="2755800"/>
              <a:ext cx="444240" cy="459720"/>
            </a:xfrm>
            <a:prstGeom prst="rect">
              <a:avLst/>
            </a:prstGeom>
            <a:solidFill>
              <a:srgbClr val="535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nl-BE" sz="2400" spc="-1" strike="noStrike">
                  <a:solidFill>
                    <a:srgbClr val="ffffff"/>
                  </a:solidFill>
                  <a:latin typeface="Verdan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AutoShape 10"/>
          <p:cNvSpPr/>
          <p:nvPr/>
        </p:nvSpPr>
        <p:spPr>
          <a:xfrm>
            <a:off x="250920" y="5445000"/>
            <a:ext cx="4425840" cy="752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imary endpoint: overall surv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Other endpoints: 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6"/>
          <p:cNvSpPr/>
          <p:nvPr/>
        </p:nvSpPr>
        <p:spPr>
          <a:xfrm>
            <a:off x="246240" y="4343400"/>
            <a:ext cx="36432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tratifi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tage:  IIIA-IIIB-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response: CR-PR-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therapy: CT or CT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3639960" y="205416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N=3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3639960" y="356544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N=3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789120" y="100080"/>
            <a:ext cx="79153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&gt; TGF-</a:t>
            </a:r>
            <a:r>
              <a:rPr b="0" lang="el-GR" sz="2800" spc="-1" strike="noStrike">
                <a:solidFill>
                  <a:srgbClr val="000000"/>
                </a:solidFill>
                <a:latin typeface="Lucida Grande"/>
              </a:rPr>
              <a:t>β</a:t>
            </a: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2 allogeneic cells: phase II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761400" y="6359400"/>
            <a:ext cx="201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CT00676507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ClinicalTrials.g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01:37:37Z</dcterms:created>
  <dc:creator>Research To Practice</dc:creator>
  <dc:description/>
  <cp:keywords/>
  <dc:language>en-US</dc:language>
  <cp:lastModifiedBy>Mac Pro E703803Y4PC</cp:lastModifiedBy>
  <cp:lastPrinted>2011-02-11T14:47:47Z</cp:lastPrinted>
  <dcterms:modified xsi:type="dcterms:W3CDTF">2011-05-11T16:31:41Z</dcterms:modified>
  <cp:revision>39</cp:revision>
  <dc:subject/>
  <dc:title>PowerPoint Presentation</dc:title>
</cp:coreProperties>
</file>