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79AD-2E74-4E9E-A0C3-5F02ACD264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FA32-DBBD-41E9-9196-E5095881A3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CF52-B432-4CE1-88C9-B79A118AD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A396-6604-48D1-AC61-070DA5019E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BBF4-3239-46F2-B325-C90DDD3A6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3AA5-755F-4264-A306-A874FDBC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F748-C288-435F-B706-DA1A4170C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B4B6-7D62-4815-93CB-A88C886D9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7C3F-DD10-4037-BD86-1E4624FF1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292F-0643-4104-9E9B-4B5FA6CC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F9CC-9E76-4BE6-9124-329F64C0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87B9-6E06-4864-B6EE-2E3D17CE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A7BF-2B4F-49E4-82B8-34E29B7D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BF08-532F-4F98-B52D-4491BC17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9C73-627D-4BF1-BA27-94BC0526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BFC3-DE01-40D4-B799-BB680612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979C-9EC4-45F6-A6C8-114219F9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29B4-F0A0-4890-A894-EA9709AC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FD97-8A62-41D6-B94E-0B1DCF58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EEC5-E4FB-46C0-955C-C1C47AE73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BA70-5F06-4275-98C0-CAFBB950A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1136-915F-4208-A04E-CCF864BE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4F9F-3F1D-4AD2-AF65-EB2576B4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5B40-1173-4AB1-91A5-15DBE014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0470-39C4-442B-9746-89C59A10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A00D-AFB1-4869-BC06-2FC5CBE0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73D1-58D5-4BD7-8BB0-49374B85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85C2-3000-4212-8725-A2DC8715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03A3-3CAC-4079-B9A4-26D8733CC1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3900-F532-4FB2-818C-5A68201C8F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51EE-48AD-4DB6-B53B-B44B94073E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chniques to stag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ediastinum —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 EBUS the standard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rvey I Pass, 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YU Langone Medical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ew York, New Y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Day Mediastinosco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0880" y="9903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Video Assisted Mediastinoscop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etter, but not statistically better than conventional (comparing results with resection node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5413680" y="6248520"/>
            <a:ext cx="34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nn Thorac Surg 2010;89:1577– 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ight Arrow 7"/>
          <p:cNvSpPr/>
          <p:nvPr/>
        </p:nvSpPr>
        <p:spPr>
          <a:xfrm>
            <a:off x="762120" y="4876920"/>
            <a:ext cx="457200" cy="285480"/>
          </a:xfrm>
          <a:prstGeom prst="right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380880" y="5931000"/>
            <a:ext cx="45720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morbidity  wa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.9%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n the VAM group including perioperative bleeding , left recurrent laryngeal injury and  chyle le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371600" y="2743200"/>
          <a:ext cx="6934320" cy="2484360"/>
        </p:xfrm>
        <a:graphic>
          <a:graphicData uri="http://schemas.openxmlformats.org/drawingml/2006/table">
            <a:tbl>
              <a:tblPr/>
              <a:tblGrid>
                <a:gridCol w="1733400"/>
                <a:gridCol w="1733760"/>
                <a:gridCol w="1733400"/>
                <a:gridCol w="17337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ventional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n = 39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deo-Assisted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n = 10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n = 5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ue positive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ue neg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se posi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se neg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(2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(1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(2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23" name="Text Box 121"/>
          <p:cNvSpPr/>
          <p:nvPr/>
        </p:nvSpPr>
        <p:spPr>
          <a:xfrm>
            <a:off x="1371600" y="5257800"/>
            <a:ext cx="685800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acotomy for pulmonary resection was not performed in all but 11 cases because mediastinoscopy revealed mediastinal lymph node metastasis.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oracotomy with lymph node sampling or dissection was not performed; thus, the results of mediastinoscopy could not be compared with final pathology res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odal Size and EB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5-37% patients with nodes negative by CT criteria are found to have nodal involvement upon surgical sta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an EBUS be trusted to routinely give t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rrect assessment of these nod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038480" y="59436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th F., et al, ERJ 2007;n 28: 910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oes Nodal Size Matte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12840" y="1224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center study of patients wit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T negative mediastinal n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ltislice CT imaging followed by routine WLB and then EB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nodes 5-10mm punctu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486400" y="6400800"/>
            <a:ext cx="35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th F., et al, ERJ 2007; 28: 910-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3598560" y="5643720"/>
            <a:ext cx="5155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sitivity, 92.3%; Specificity, 100%; NPV 96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4_3_Pass_Slide6"/>
          <p:cNvPicPr/>
          <p:nvPr/>
        </p:nvPicPr>
        <p:blipFill>
          <a:blip r:embed="rId1"/>
          <a:stretch/>
        </p:blipFill>
        <p:spPr>
          <a:xfrm>
            <a:off x="4503600" y="1224000"/>
            <a:ext cx="35863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diastinoscopy vs EBUS: Suspected Lung Cancer and Enlarged CT n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5718240" y="632448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J Thorac Oncol. 2008;3: 577–5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838080" y="914400"/>
            <a:ext cx="754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BUS was performed either as separate procedure under moderate sedation and within 1 week before mediastinoscopy or concurrently at the time of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diastinoscopy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under general anesthe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304920" y="4952880"/>
            <a:ext cx="861048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nalysis of the cases where there was disagreement revealed that there were more cases when EBUS-TBNA resulted in definitive diagnosis and mediastinoscopy was negative (18%) compared with when mediastinoscopy yielded a positive diagnosis and EBUS-TBNA was negative (5%; </a:t>
            </a: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p&lt; 0.004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mbined EBUS and mediastinoscopy yielded accurate result in 95% of ca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3"/>
          <p:cNvGrpSpPr/>
          <p:nvPr/>
        </p:nvGrpSpPr>
        <p:grpSpPr>
          <a:xfrm>
            <a:off x="380880" y="3301920"/>
            <a:ext cx="8382240" cy="1676520"/>
            <a:chOff x="380880" y="3301920"/>
            <a:chExt cx="8382240" cy="1676520"/>
          </a:xfrm>
        </p:grpSpPr>
        <p:sp>
          <p:nvSpPr>
            <p:cNvPr id="137" name="TextBox 11"/>
            <p:cNvSpPr/>
            <p:nvPr/>
          </p:nvSpPr>
          <p:spPr>
            <a:xfrm>
              <a:off x="380880" y="3301920"/>
              <a:ext cx="4114800" cy="1676520"/>
            </a:xfrm>
            <a:prstGeom prst="rect">
              <a:avLst/>
            </a:prstGeom>
            <a:solidFill>
              <a:srgbClr val="93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Underwent subsequent surgical rese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n-small cell lung cancer n = 4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No further surgery n = 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rcoidosis n =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ymphoma n =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uberculosis n =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12"/>
            <p:cNvSpPr/>
            <p:nvPr/>
          </p:nvSpPr>
          <p:spPr>
            <a:xfrm>
              <a:off x="4648320" y="3301920"/>
              <a:ext cx="4114800" cy="1676520"/>
            </a:xfrm>
            <a:prstGeom prst="rect">
              <a:avLst/>
            </a:prstGeom>
            <a:solidFill>
              <a:srgbClr val="93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Underwent surgical resection and diagnos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n-small cell lung cancer n = 1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mall cell lung cancer n =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uberculosis n =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ronic inflammation n =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9" name="Straight Arrow Connector 15"/>
          <p:cNvCxnSpPr/>
          <p:nvPr/>
        </p:nvCxnSpPr>
        <p:spPr>
          <a:xfrm flipH="1">
            <a:off x="3276360" y="1523880"/>
            <a:ext cx="1296000" cy="61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Straight Arrow Connector 21"/>
          <p:cNvCxnSpPr/>
          <p:nvPr/>
        </p:nvCxnSpPr>
        <p:spPr>
          <a:xfrm>
            <a:off x="4648320" y="1523880"/>
            <a:ext cx="1094400" cy="61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TextBox 8"/>
          <p:cNvSpPr/>
          <p:nvPr/>
        </p:nvSpPr>
        <p:spPr>
          <a:xfrm>
            <a:off x="2552760" y="1447920"/>
            <a:ext cx="4038480" cy="33732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BUS-TBNA and Mediastinoscopy n = 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24"/>
          <p:cNvCxnSpPr/>
          <p:nvPr/>
        </p:nvCxnSpPr>
        <p:spPr>
          <a:xfrm flipH="1">
            <a:off x="2285640" y="2653200"/>
            <a:ext cx="1296000" cy="610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Straight Arrow Connector 25"/>
          <p:cNvCxnSpPr/>
          <p:nvPr/>
        </p:nvCxnSpPr>
        <p:spPr>
          <a:xfrm>
            <a:off x="5562720" y="2653920"/>
            <a:ext cx="1094400" cy="610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TextBox 9"/>
          <p:cNvSpPr/>
          <p:nvPr/>
        </p:nvSpPr>
        <p:spPr>
          <a:xfrm>
            <a:off x="1905120" y="2197080"/>
            <a:ext cx="2590560" cy="82404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ve histological diagnosis n = 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rom either procedu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0"/>
          <p:cNvSpPr/>
          <p:nvPr/>
        </p:nvSpPr>
        <p:spPr>
          <a:xfrm>
            <a:off x="4648320" y="2197080"/>
            <a:ext cx="2185920" cy="83808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diagnostic n = 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y either procedu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7" descr=""/>
          <p:cNvPicPr/>
          <p:nvPr/>
        </p:nvPicPr>
        <p:blipFill>
          <a:blip r:embed="rId1"/>
          <a:srcRect l="0" t="9802" r="0" b="0"/>
          <a:stretch/>
        </p:blipFill>
        <p:spPr>
          <a:xfrm>
            <a:off x="1066680" y="3352680"/>
            <a:ext cx="6794640" cy="3505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slide03"/>
          <p:cNvPicPr/>
          <p:nvPr/>
        </p:nvPicPr>
        <p:blipFill>
          <a:blip r:embed="rId2"/>
          <a:srcRect l="4758" t="13704" r="4758" b="16313"/>
          <a:stretch/>
        </p:blipFill>
        <p:spPr>
          <a:xfrm>
            <a:off x="1295280" y="1143000"/>
            <a:ext cx="2854440" cy="2144880"/>
          </a:xfrm>
          <a:prstGeom prst="rect">
            <a:avLst/>
          </a:prstGeom>
          <a:ln w="15840">
            <a:solidFill>
              <a:srgbClr val="92d050"/>
            </a:solidFill>
            <a:miter/>
          </a:ln>
        </p:spPr>
      </p:pic>
      <p:pic>
        <p:nvPicPr>
          <p:cNvPr id="148" name="Picture 3" descr=""/>
          <p:cNvPicPr/>
          <p:nvPr/>
        </p:nvPicPr>
        <p:blipFill>
          <a:blip r:embed="rId3"/>
          <a:srcRect l="15412" t="6411" r="0" b="8617"/>
          <a:stretch/>
        </p:blipFill>
        <p:spPr>
          <a:xfrm>
            <a:off x="4724280" y="1219320"/>
            <a:ext cx="2819520" cy="206532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do-bronchial/esophageal techniques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petition or Adjun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1"/>
          <p:cNvSpPr/>
          <p:nvPr/>
        </p:nvSpPr>
        <p:spPr>
          <a:xfrm>
            <a:off x="1905120" y="3352680"/>
            <a:ext cx="817560" cy="24386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77720" y="32508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anEndoscopic Staging of Consecutive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atients with Suspected Lung Canc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ight Arrow 2"/>
          <p:cNvSpPr/>
          <p:nvPr/>
        </p:nvSpPr>
        <p:spPr>
          <a:xfrm>
            <a:off x="114480" y="5511960"/>
            <a:ext cx="609480" cy="37116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1676520"/>
          <a:ext cx="7619760" cy="4300560"/>
        </p:xfrm>
        <a:graphic>
          <a:graphicData uri="http://schemas.openxmlformats.org/drawingml/2006/table">
            <a:tbl>
              <a:tblPr/>
              <a:tblGrid>
                <a:gridCol w="2539800"/>
                <a:gridCol w="2540160"/>
                <a:gridCol w="2539800"/>
              </a:tblGrid>
              <a:tr h="58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ced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nsitiv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P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B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/42 (36) [22-52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/123 (78) [70-85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S-F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/42 (69) [53-82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/109 (88) [80-93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BUS-F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/42 (69) [53-82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/109 (88) [80-93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S-FNA + TB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/42 (79) [63-90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/105 (91) [84-96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BUS-FNA + TB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/42 (76) [61-88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/106 (91) [83-95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S-FNA +EBUS-F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/42 (93) [81-99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/99 (97) [91-99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54" name="Text Box 4"/>
          <p:cNvSpPr/>
          <p:nvPr/>
        </p:nvSpPr>
        <p:spPr>
          <a:xfrm>
            <a:off x="4724280" y="6400800"/>
            <a:ext cx="428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MA, February 6, 2008 — Vol 299, No.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6"/>
          <p:cNvSpPr/>
          <p:nvPr/>
        </p:nvSpPr>
        <p:spPr>
          <a:xfrm>
            <a:off x="4618440" y="1219320"/>
            <a:ext cx="243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ction (%) [95% CI]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Diagram 2" descr=""/>
          <p:cNvPicPr/>
          <p:nvPr/>
        </p:nvPicPr>
        <p:blipFill>
          <a:blip r:embed="rId1"/>
          <a:stretch/>
        </p:blipFill>
        <p:spPr>
          <a:xfrm>
            <a:off x="274680" y="828720"/>
            <a:ext cx="8508960" cy="2762280"/>
          </a:xfrm>
          <a:prstGeom prst="rect">
            <a:avLst/>
          </a:prstGeom>
          <a:ln w="0">
            <a:noFill/>
          </a:ln>
        </p:spPr>
      </p:pic>
      <p:pic>
        <p:nvPicPr>
          <p:cNvPr id="157" name="Content Placeholder 8" descr=""/>
          <p:cNvPicPr/>
          <p:nvPr/>
        </p:nvPicPr>
        <p:blipFill>
          <a:blip r:embed="rId2"/>
          <a:stretch/>
        </p:blipFill>
        <p:spPr>
          <a:xfrm>
            <a:off x="920880" y="3581280"/>
            <a:ext cx="6699240" cy="28958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Mediastinoscopy vs Endosonography for Mediastinal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Nodal Staging of Lung Cancer: A Randomized Tr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5793840" y="6415200"/>
            <a:ext cx="312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AMA. 2010;304(20):2245-2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to do for  negative EBUS in the radiologically worrisome situatio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1351080" y="1523880"/>
            <a:ext cx="4829040" cy="5105520"/>
          </a:xfrm>
          <a:prstGeom prst="rect">
            <a:avLst/>
          </a:prstGeom>
          <a:ln w="0">
            <a:noFill/>
          </a:ln>
        </p:spPr>
      </p:pic>
      <p:sp>
        <p:nvSpPr>
          <p:cNvPr id="162" name="TextBox 2"/>
          <p:cNvSpPr/>
          <p:nvPr/>
        </p:nvSpPr>
        <p:spPr>
          <a:xfrm>
            <a:off x="5966280" y="4890960"/>
            <a:ext cx="28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voided Futile Thoracot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Straight Arrow Connector 4"/>
          <p:cNvCxnSpPr/>
          <p:nvPr/>
        </p:nvCxnSpPr>
        <p:spPr>
          <a:xfrm flipH="1">
            <a:off x="4876560" y="5105160"/>
            <a:ext cx="109296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4" name=""/>
          <p:cNvSpPr/>
          <p:nvPr/>
        </p:nvSpPr>
        <p:spPr>
          <a:xfrm>
            <a:off x="5334120" y="624852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n Thorac Surg 2010;90:1753–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BUS-FNA, if available, is a reasonable alternative to mediastinoscopy for primary evaluation of the mediastinu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bably = NPV in experienced hands, even with nodes close to 1 c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bably less potential com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BUS-FNA and EUS are synergist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patients with radiologic evidence of N2 disease (large nodes, PET avid nodes) and negative (lymphocytes present or not but no cancer) findings on EBUS/EUS aspirate,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invasive staging with mediastinoscopy, mediastinotomy, or VATS should be perform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229600" cy="127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itial IIIA-N2 disease staging was confirmed by cervical mediastinoscopy (63 patients [51%]), by EUS-FNA (28 patients [22%]), or by EBUS-TBNA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33 patients [27%]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5945760" y="6303960"/>
            <a:ext cx="28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JCO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6: 20, 2008, 3346-33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62120" y="2438280"/>
          <a:ext cx="7619760" cy="3483000"/>
        </p:xfrm>
        <a:graphic>
          <a:graphicData uri="http://schemas.openxmlformats.org/drawingml/2006/table">
            <a:tbl>
              <a:tblPr/>
              <a:tblGrid>
                <a:gridCol w="1981080"/>
                <a:gridCol w="2819520"/>
                <a:gridCol w="2819160"/>
              </a:tblGrid>
              <a:tr h="70380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utcomes for Restaging EBUS-TBNA According to Tumor Response After Chemotherapy as Assessed by RECIST Crite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umor Response Outcome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rite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ial Response (n = 6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ble Disease (n = 5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sitiv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fi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ura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71" name="TextBox 14"/>
          <p:cNvSpPr/>
          <p:nvPr/>
        </p:nvSpPr>
        <p:spPr>
          <a:xfrm>
            <a:off x="762840" y="5981760"/>
            <a:ext cx="574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V, positive predictive value; NPV negative predictive val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is EBU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4920" y="13716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BUS combines an endoscopic image with an ultrasound probe, giving a sonographic image through the airway w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ore commonly used linear probe EBUS has a lower frequency (7.5 MHz) with lower resolution but better depth penetration (up to 9 cm), allowing a sonographic view of mediastinal struc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cedure can be combined with Rapid On Site Evaluation (ROSE) to assess cytology posi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279360" y="5334120"/>
            <a:ext cx="86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other techniques are available for staging the mediastinu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ggestion for Future N2 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itial evaluation by PET/CT directed EBUS biop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ction 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-evaluation with CT to look for response (Possibly with CT-P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eat EBUS biop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persistent disease, decide on course of a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negative by EBUS, perform mediastinoscopy to rule out false negative EB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tle 2"/>
          <p:cNvSpPr/>
          <p:nvPr/>
        </p:nvSpPr>
        <p:spPr>
          <a:xfrm>
            <a:off x="304920" y="68580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ther Techniques Use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o Stage the Mediastin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ontent Placeholder 4"/>
          <p:cNvSpPr/>
          <p:nvPr/>
        </p:nvSpPr>
        <p:spPr>
          <a:xfrm>
            <a:off x="762120" y="1981080"/>
            <a:ext cx="6248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caling node biops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diastinosco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amberlain proced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ideo-assisted mediastinosco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doesophageal ultras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A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are the advantages and disadvantage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f EBUS? The Company L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520" y="2484360"/>
            <a:ext cx="40384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imally Inva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morbid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ectious/mediastinit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ss to hilar n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723920" y="2484360"/>
            <a:ext cx="403884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 front capital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ipment, needle, staff, repair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rning cur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questions must be answered to declare it “the standard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EBUS do overall in staging the mediastinu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EBUS do for staging the normal mediastinu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there any EBUS blindspo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EBUS compare directly to mediastinoscop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ventional Wisdo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5185080" y="6338880"/>
            <a:ext cx="385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at. Rev. Clin. Oncol. 6, 278–286 (20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43000" y="1676520"/>
          <a:ext cx="6858000" cy="25956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vestig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nsitiv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pecifi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6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stinoscop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doscopic ultras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dobronchial ultras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al Time-Linear EB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236600"/>
          <a:ext cx="8381880" cy="2971800"/>
        </p:xfrm>
        <a:graphic>
          <a:graphicData uri="http://schemas.openxmlformats.org/drawingml/2006/table">
            <a:tbl>
              <a:tblPr/>
              <a:tblGrid>
                <a:gridCol w="1828800"/>
                <a:gridCol w="990720"/>
                <a:gridCol w="1447560"/>
                <a:gridCol w="1524240"/>
                <a:gridCol w="685800"/>
                <a:gridCol w="707760"/>
                <a:gridCol w="1197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udy /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t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nsitivity 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pecificity 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P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N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ncer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rth/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gt;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uwens/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th/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cent/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e/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ntoul/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rade/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6858000" y="1160640"/>
            <a:ext cx="838080" cy="31240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itle 1"/>
          <p:cNvSpPr/>
          <p:nvPr/>
        </p:nvSpPr>
        <p:spPr>
          <a:xfrm>
            <a:off x="457200" y="4572000"/>
            <a:ext cx="822960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y the low NPV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ntent Placeholder 2"/>
          <p:cNvSpPr/>
          <p:nvPr/>
        </p:nvSpPr>
        <p:spPr>
          <a:xfrm>
            <a:off x="304920" y="53341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 lymph nod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pling err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-6480" y="609480"/>
            <a:ext cx="9122040" cy="37162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304920" y="3048120"/>
            <a:ext cx="4114800" cy="609480"/>
          </a:xfrm>
          <a:prstGeom prst="rect">
            <a:avLst/>
          </a:prstGeom>
          <a:solidFill>
            <a:srgbClr val="ffff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304920" y="3657600"/>
            <a:ext cx="4114800" cy="380880"/>
          </a:xfrm>
          <a:prstGeom prst="rect">
            <a:avLst/>
          </a:prstGeom>
          <a:solidFill>
            <a:srgbClr val="ffff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Straight Arrow Connector 6"/>
          <p:cNvCxnSpPr>
            <a:endCxn id="111" idx="0"/>
          </p:cNvCxnSpPr>
          <p:nvPr/>
        </p:nvCxnSpPr>
        <p:spPr>
          <a:xfrm flipV="1">
            <a:off x="380880" y="3657240"/>
            <a:ext cx="1982160" cy="19058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4667400" y="6324480"/>
            <a:ext cx="3771720" cy="324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Is The Reported FN Of “Historical” Mediastinoscop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7011360" y="990720"/>
            <a:ext cx="182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~10% F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85800" y="1676520"/>
          <a:ext cx="7238880" cy="4457520"/>
        </p:xfrm>
        <a:graphic>
          <a:graphicData uri="http://schemas.openxmlformats.org/drawingml/2006/table">
            <a:tbl>
              <a:tblPr/>
              <a:tblGrid>
                <a:gridCol w="1828800"/>
                <a:gridCol w="1066680"/>
                <a:gridCol w="1447920"/>
                <a:gridCol w="1447920"/>
                <a:gridCol w="14475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udy/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tients, N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nsitivity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pecificity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N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mmoud et al/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ghlin et al/19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ke et al/19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 Leyn et al/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dinois/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ion et al/19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lly et al/19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tto et al/1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bner et al/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deedo et al/1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neffe et al/19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by et al/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1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01:59:22Z</dcterms:created>
  <dc:creator>Research To Practice</dc:creator>
  <dc:description/>
  <cp:keywords/>
  <dc:language>en-US</dc:language>
  <cp:lastModifiedBy>Mac Pro E703803Y4PC</cp:lastModifiedBy>
  <cp:lastPrinted>2011-04-21T02:39:47Z</cp:lastPrinted>
  <dcterms:modified xsi:type="dcterms:W3CDTF">2011-05-11T17:42:43Z</dcterms:modified>
  <cp:revision>22</cp:revision>
  <dc:subject/>
  <dc:title>PowerPoint Presentation</dc:title>
</cp:coreProperties>
</file>