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847F-114E-4004-AD73-D7D0E347F4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9A26-6918-419F-AE60-6F139C3FB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E2400F6-B2C2-44CB-B557-B27908B81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197B7BA-199D-494A-B768-29F022B8B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3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1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3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1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1480" y="457200"/>
            <a:ext cx="82677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17136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06160" indent="-2127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58880" indent="-164520">
              <a:spcAft>
                <a:spcPts val="1400"/>
              </a:spcAft>
              <a:buClr>
                <a:srgbClr val="fdcc6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01844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222920" indent="-163080">
              <a:spcAft>
                <a:spcPts val="1400"/>
              </a:spcAft>
              <a:buClr>
                <a:srgbClr val="fdcc6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3920" y="131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s Cisplatin/Irinotecan the Preferred First-lin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reatment Approach in ES-SCLC?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0000" y="2960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rk A. Socinski, M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niversity of North Carolin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onclusions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1760" y="1406160"/>
            <a:ext cx="8047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rinotecan/Platinum is a reasonable choice for the first-line treatment of good PS with ES-SCL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does not appear to be significantly more efficacio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chedule may be preferable and favored for/by some pati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tandard of Care in ES-SCLC-2009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emotherapy- Cisplatin/carboplatin + VP-16     (4 cycles) (but many others wor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T- PCI and TRT in “selected case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onse rates- overall- 60-90%; CR rate 10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survival- 9-11 month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survival rate - 25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-year survival rate - 5-1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9480" y="1523880"/>
            <a:ext cx="8043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Strategies in ES-SCLC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1828800"/>
            <a:ext cx="5715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Duration of 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itial Dose Esca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intenanc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“High Dose” Therapy with GF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dified Schedule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New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“Targeted”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624640" y="1805040"/>
            <a:ext cx="351936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ositive/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914400" y="228600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900760" y="234792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72960" y="311040"/>
            <a:ext cx="842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platin + Irinotecan Randomized Trials in Patients with E-SCL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6"/>
          <p:cNvGrpSpPr/>
          <p:nvPr/>
        </p:nvGrpSpPr>
        <p:grpSpPr>
          <a:xfrm>
            <a:off x="101520" y="1682640"/>
            <a:ext cx="4289400" cy="4832640"/>
            <a:chOff x="101520" y="1682640"/>
            <a:chExt cx="4289400" cy="4832640"/>
          </a:xfrm>
        </p:grpSpPr>
        <p:sp>
          <p:nvSpPr>
            <p:cNvPr id="57" name="Rectangle 6"/>
            <p:cNvSpPr/>
            <p:nvPr/>
          </p:nvSpPr>
          <p:spPr>
            <a:xfrm>
              <a:off x="276480" y="2743200"/>
              <a:ext cx="456840" cy="37720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 rot="19910400">
              <a:off x="809280" y="377820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1190520" y="2971800"/>
              <a:ext cx="3178080" cy="10076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rino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, 8, 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4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1190520" y="5337360"/>
              <a:ext cx="3178080" cy="1008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 10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 to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8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3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101520" y="1682640"/>
              <a:ext cx="42894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7280" indent="-287280" algn="ctr">
                <a:lnSpc>
                  <a:spcPts val="1998"/>
                </a:lnSpc>
                <a:spcBef>
                  <a:spcPts val="64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JCOG 951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 Narrow"/>
                </a:rPr>
                <a:t>Noda et al. NEJM 346:85, 200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Font typeface="Arial Narrow"/>
                <a:buChar char="•"/>
                <a:tabLst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3"/>
            <p:cNvSpPr/>
            <p:nvPr/>
          </p:nvSpPr>
          <p:spPr>
            <a:xfrm flipV="1" rot="1689600">
              <a:off x="846000" y="502812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2"/>
          <p:cNvSpPr/>
          <p:nvPr/>
        </p:nvSpPr>
        <p:spPr>
          <a:xfrm>
            <a:off x="5796000" y="3009960"/>
            <a:ext cx="314496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no 65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3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80160" y="5378400"/>
            <a:ext cx="314460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12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 to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6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707000" y="1363680"/>
            <a:ext cx="429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ts val="2398"/>
              </a:lnSpc>
              <a:spcBef>
                <a:spcPts val="64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rth American/Australian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Hanna et al.  JCO 24:2038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•"/>
              <a:tabLst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881600" y="2781360"/>
            <a:ext cx="457200" cy="3771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flipV="1" rot="1689600">
            <a:off x="5389200" y="5137560"/>
            <a:ext cx="291960" cy="231840"/>
          </a:xfrm>
          <a:prstGeom prst="rightArrow">
            <a:avLst>
              <a:gd name="adj1" fmla="val 50000"/>
              <a:gd name="adj2" fmla="val 314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394960" y="43419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 flipV="1" rot="20283600">
            <a:off x="5402160" y="3652920"/>
            <a:ext cx="292320" cy="231840"/>
          </a:xfrm>
          <a:prstGeom prst="rightArrow">
            <a:avLst>
              <a:gd name="adj1" fmla="val 50000"/>
              <a:gd name="adj2" fmla="val 315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46040" y="2387520"/>
          <a:ext cx="8159760" cy="2119320"/>
        </p:xfrm>
        <a:graphic>
          <a:graphicData uri="http://schemas.openxmlformats.org/drawingml/2006/table">
            <a:tbl>
              <a:tblPr/>
              <a:tblGrid>
                <a:gridCol w="2001960"/>
                <a:gridCol w="1442880"/>
                <a:gridCol w="1443240"/>
                <a:gridCol w="1463400"/>
                <a:gridCol w="1808280"/>
              </a:tblGrid>
              <a:tr h="81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JCOG 95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N Amer / A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edian (95% c.i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3 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1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2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</a:tbl>
          </a:graphicData>
        </a:graphic>
      </p:graphicFrame>
      <p:sp>
        <p:nvSpPr>
          <p:cNvPr id="71" name="TextBox 2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Survival Outco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03640" y="246240"/>
            <a:ext cx="81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Meta-analysis of RCTs Comparing Irinotecan/Platinum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toposide/Platinum in Untreated EC-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640760" y="638964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60320" y="1390680"/>
            <a:ext cx="591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 trials analyzed: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Lar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ermes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chmittel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an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ann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Nod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, 476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9% m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6% PS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Median age 61 y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788480" y="29376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RR - Meta-analysis of IP Vs 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00520" y="637704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64600" y="2016000"/>
            <a:ext cx="275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1.10, p = 0.0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1.1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0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606840" y="1168560"/>
          <a:ext cx="4786200" cy="4611600"/>
        </p:xfrm>
        <a:graphic>
          <a:graphicData uri="http://schemas.openxmlformats.org/drawingml/2006/table">
            <a:tbl>
              <a:tblPr/>
              <a:tblGrid>
                <a:gridCol w="2814480"/>
                <a:gridCol w="1971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5 (0.92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Pan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9 (0.75, 1.5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85, 1.4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5 (1.04, 1.5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0.0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4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99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chmittel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0.0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6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1.00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4851720" y="64357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 5: 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520" y="363600"/>
            <a:ext cx="90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verall Survival – Meta-analysis of IP Vs EP in ES-SCL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18440" y="1735200"/>
            <a:ext cx="275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0.81, p = 0.04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0.85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1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06840" y="1168560"/>
          <a:ext cx="4929120" cy="4241520"/>
        </p:xfrm>
        <a:graphic>
          <a:graphicData uri="http://schemas.openxmlformats.org/drawingml/2006/table">
            <a:tbl>
              <a:tblPr/>
              <a:tblGrid>
                <a:gridCol w="2967120"/>
                <a:gridCol w="196200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4 (0.81, 1.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6 (0.76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60 (0.49, 0.8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69.1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5 (0.67, 1.0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emmes (200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66.7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1 (0.66, 0.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880" y="250560"/>
            <a:ext cx="82677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hase III – IP Vs EP in ES-SCLC</a:t>
            </a:r>
            <a:br>
              <a:rPr sz="3600"/>
            </a:b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7560" y="879120"/>
            <a:ext cx="8048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andomized phase III trial comparing cisplati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 with either irinoteca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, 8) or etoposide (10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-3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405 PS 0-1 ES-SCLC pts (76% male, med age 6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eriority design (but if not achieved, non-inferiority tested…and achiev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286000" y="310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35440" y="3975120"/>
          <a:ext cx="4824000" cy="2052360"/>
        </p:xfrm>
        <a:graphic>
          <a:graphicData uri="http://schemas.openxmlformats.org/drawingml/2006/table">
            <a:tbl>
              <a:tblPr/>
              <a:tblGrid>
                <a:gridCol w="1608840"/>
                <a:gridCol w="1608120"/>
                <a:gridCol w="1607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MST (m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 y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</a:tbl>
          </a:graphicData>
        </a:graphic>
      </p:graphicFrame>
      <p:sp>
        <p:nvSpPr>
          <p:cNvPr id="87" name="TextBox 7"/>
          <p:cNvSpPr/>
          <p:nvPr/>
        </p:nvSpPr>
        <p:spPr>
          <a:xfrm>
            <a:off x="4897080" y="635328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Zatloukal et al. Ann Oncol 21:1810-16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32:20Z</dcterms:created>
  <dc:creator>Research To Practice</dc:creator>
  <dc:description/>
  <cp:keywords/>
  <dc:language>en-US</dc:language>
  <cp:lastModifiedBy>Mac Pro E703803Y4PC</cp:lastModifiedBy>
  <cp:lastPrinted>2011-02-11T16:17:33Z</cp:lastPrinted>
  <dcterms:modified xsi:type="dcterms:W3CDTF">2011-05-18T20:22:50Z</dcterms:modified>
  <cp:revision>3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Content and Content Development</vt:lpwstr>
  </property>
  <property fmtid="{D5CDD505-2E9C-101B-9397-08002B2CF9AE}" pid="3" name="ContentType">
    <vt:lpwstr>Document</vt:lpwstr>
  </property>
  <property fmtid="{D5CDD505-2E9C-101B-9397-08002B2CF9AE}" pid="4" name="ContentTypeId">
    <vt:lpwstr>0x010100ED8F6667A719504E917DACE92AA12C18</vt:lpwstr>
  </property>
  <property fmtid="{D5CDD505-2E9C-101B-9397-08002B2CF9AE}" pid="5" name="Sub Category">
    <vt:lpwstr>Content and Content Development: Other Versions of Slide Set</vt:lpwstr>
  </property>
</Properties>
</file>