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pct" ContentType="image/x-pi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9144000" cy="6858000"/>
  <p:notesSz cx="71135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0"/>
            <a:ext cx="711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dt" idx="32"/>
          </p:nvPr>
        </p:nvSpPr>
        <p:spPr>
          <a:xfrm>
            <a:off x="4028760" y="-36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07E1-3E95-4001-9B84-8CDE6DD56A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sldImg"/>
          </p:nvPr>
        </p:nvSpPr>
        <p:spPr>
          <a:xfrm>
            <a:off x="1206000" y="704880"/>
            <a:ext cx="469908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body"/>
          </p:nvPr>
        </p:nvSpPr>
        <p:spPr>
          <a:xfrm>
            <a:off x="711360" y="4464000"/>
            <a:ext cx="5689440" cy="4229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ftr" idx="33"/>
          </p:nvPr>
        </p:nvSpPr>
        <p:spPr>
          <a:xfrm>
            <a:off x="-360" y="892620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 type="sldNum" idx="34"/>
          </p:nvPr>
        </p:nvSpPr>
        <p:spPr>
          <a:xfrm>
            <a:off x="4028760" y="892620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F450-72C4-497B-A4DE-61AB4DAD5C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30560" y="8928000"/>
            <a:ext cx="30816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8CA8B1A-8A5D-48EE-A328-8EA9E74CE7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542960" y="704880"/>
            <a:ext cx="4354560" cy="326556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11360" y="4464000"/>
            <a:ext cx="56894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53B16B-4B81-404A-B2E5-7C59F785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FB3295-F677-468A-A143-CFA1CDD4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0B5425-7614-424F-A73E-2FF30970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A2ACC2-D4AE-4C14-816C-8EC26797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DC8925-81D8-46D5-ABF9-AAC3ADF8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B6D921-2003-41E9-860A-73ED4751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9F338D-EF8C-4AD1-858C-FCA03ACE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7E5AA6-2F0A-4A38-940C-A01978EF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97FAB4-27C7-4150-9E23-BCF2473D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8F27F-869D-40D1-823A-AC74805F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9FAD0-C548-40F2-9204-F98A26D3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AB7A4-3E88-4B28-ACBD-C0A39B91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2FE1D6-B921-4520-AF48-C9B6E705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8EC2C-51AE-4BEA-9ACF-0B9DD6F1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78934-866E-4EBE-8CFD-CCED0B55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5FFCE3-139E-44AA-998D-804F6D13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19AAC8-0242-43C7-BABE-6DE62503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700723-CE60-481A-A8FC-642DA454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0C976-417D-4047-AC76-AC75B028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23DB3-FC1A-48F9-AD1F-8443AB6D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DB1A7A-8ADE-4970-9B0B-7CC7E2BC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3C5B24-46ED-444F-ABD5-3D1E0AA7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AE3A8-5CF7-4665-BD1E-CDB7A888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20B33-E72D-4D0F-8212-479688C0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C0D66-5E2E-415C-9A3B-7825C79E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6BB373-86BC-4344-AE08-81B38FDF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92CA9-ED4E-4904-91ED-8C0B46E9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789B92-2990-43A6-8EF0-97EE7B21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EFA2B5-709F-462C-9C07-D43912E1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2A3362-D518-4099-BF6F-334AA986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7563-64FB-4A9B-9BF7-83DEA472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493C96-FA33-4AE1-B69E-AFF014D2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4391A1-FB94-42F3-88F6-C1779B87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114A2-66FA-4ED1-B1DA-31496B85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24357F-E3C8-44C4-8ACD-A3778E7D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53E592-FB30-41BD-B794-743463BF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7B073C-AA47-4332-80D1-E2A346B5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29C003-4C3E-40FB-832D-C7D48A03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3AAE64-9FBC-4033-85CC-2B5E3D48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CA1FD0-6C7A-4695-AD72-37D920E3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D6A4B7-1A9E-47B1-BF8F-C439B313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6395-F659-4412-A450-E3899B81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2718D1-0A66-46A7-A3C0-03F45B36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E5A7FC-2657-434B-B1CE-FA5212A4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1E5AE3-05C6-45F2-AD3A-3E1945A0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27FDC44-DAD2-4BBA-B465-7F7A9D98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8AEAF4-6F50-4CC4-8AA3-83BEBE99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18C3-746A-4F75-8AA1-36399B55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BF9-90DF-4054-A85F-709B9707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1C6E-58B7-4FB1-98C5-22D44B1C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2BD0-E9C5-4D7D-8FBB-D1EE777A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5C8-1A8C-4D26-8883-926E309D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08CB-7CBC-46C2-85F7-B66BC735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E66-B5ED-48FA-A7B7-BEB1BDC3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E8E9-1A7B-49DA-B6D6-1B19B5F3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C8F-BF69-4814-9E0E-F7F2F40B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735-D0A5-49E8-A5AC-7F59C19E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18EF2-A98B-439F-AB96-2E3AE4BD77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A1803-B37F-4FB0-8BA7-1F4C0DB3C1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DC8F8-E34B-4027-A8D8-694F6483A9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6C287-F8D8-4B87-850F-734AA27D26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AFA52-3C71-4A33-B369-1E08605906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E737E-700D-4925-9F75-6C5C27D81E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7FFD9-746B-4B9B-A5B0-12B3A0D6CC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6A577-59C1-49C8-AE43-3834643881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3D427-A691-4D20-B915-A3AC16511A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1347C-2D41-4A54-9DAE-6B9F4E8F1F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EC885-2875-4E27-AD59-9CB57F9152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0A6C2-6796-4C7D-BD8E-C50CED9D98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03949-2631-481E-83C3-31645C13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F3444-3416-498A-8300-12F2AB67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25E42-6C41-42A4-8E9C-88B02BE0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AD77C-A143-4DBB-9794-68C398D9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835A1-E4EA-4BE7-B494-2591CD45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28368-DC65-4185-9880-CF0A73DA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5126D-B8A7-4F97-A28A-79716817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9D30B-3F41-40CE-A344-95A7FC29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4B6F8-F563-4637-929F-74AB5E7B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A3528-AA01-4631-A113-B186A220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5922F-D99B-4D9B-BD66-40939503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67270-1C6A-4208-A104-A86DD32B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BFE0B2-3FA7-4057-B43C-CE8AA0E2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3B3C1-D47B-4A70-8839-A5868DDD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329109-8E96-423F-9CF5-F6127D98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919859-5CA6-411F-A154-2490DFE6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9749F2-053F-4BAA-820C-CA639048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9E415C-F133-41F7-92E0-F53352CA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A87032-FE40-4DAE-8E16-A7C79DEA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A3EDCC-018A-4CCC-B2D3-4F021BC5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DEB378-146A-40DC-91FD-7641284A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7FEAE9-7EAA-47A6-9F7F-46CF185F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796F33-BE37-4298-BD30-3D2CB7D0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BD4C82-3562-4D7B-9E31-EC7D976A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2B868-FC82-4FEE-B267-8A789321457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AB02B-EB4D-4E0D-ACDE-5A7D8C8F947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B2ED8-C74E-4FB9-B965-9FAB750A945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0E522-12EE-484A-9C4B-C2231AA74FE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722E1-EC61-4418-900E-A6C82D69195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26B5E-FA0E-4BD4-8AD0-61C91002CAB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DE4A2-11F2-4A9E-8766-B83C9FC42E8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7DB70-269D-4AE0-8976-7AA91C8BBBB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ED844-4FED-47C3-B24B-D1372F29F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4591B-FA5A-45AB-91DE-12AD077E4E3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39358-7C2F-49E6-9FF5-D24564E39B9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EA363-0809-48CD-8D2A-DDF857C96DF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5D3F6C-D8FA-43DB-899B-E10AD731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C5D05C-CEFE-4D65-9DD1-2C42135C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15D819-CA48-4831-8295-6C5F764D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F2C166-9A32-4619-A785-1743F113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67D71C-EB54-4A6C-A737-D5177503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4D91C7-58BD-49FD-800E-2643EFD6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3A617C-C4CF-41AB-865F-A15AA6F0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1AD8EC-B12E-4DCB-9CCB-58DDE322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E9539F-5AC7-4883-A64D-5FA42501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8D8340-EB2F-4C63-899C-5522E55B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97D4CD-B746-4816-8312-167AFF15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AAC0E1-F86A-4057-9465-9A224082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C69871-9385-4214-BDB7-B23FAF1C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056CD8-BE05-47C5-90A1-C55A7970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68A2EF-14BE-4D06-B3C1-8CDEEC84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0D0F18-F908-46F0-BA1F-23272259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1A2026-1B1C-435A-BB3B-EA486195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AB559E-CBC7-4CF2-957F-E8DCB947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3074FE-0A7F-40BC-AA1A-B72530B4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C95917-14CC-4FC4-A93B-85EC2570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2492E7-4F02-4FC2-92C3-DCBE44D5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A3C790-3C0D-478C-AC2C-7CDA5CE8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2B855E-0E25-4785-AAC4-9CEC46B6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9B4C1D-E47F-4EAA-88BA-46A5110A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F0582F-9A55-4662-89A0-0C08C4B1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564AA1-ECCB-46A0-B1C5-51F9CF62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353C91-598C-4E9F-8BEA-303BFBF8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4417-0B9E-4D2F-BB8C-D9C9B1078B4A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5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8BFD-A08F-4FD4-BE3C-75A9D7C73BA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D8BB-925C-427B-805D-151BFAAAA3C0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8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F832-538E-417D-B0D6-C7FEBB21998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8C73-A651-4272-A6C0-D2313139ECCC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1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DA77-2381-4B95-987F-DC61B67F836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1" descr="Nsclc_GR_title slideUSE THIS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5AEB-4193-4D1B-9260-2E4DB8649406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9FA1-6F9A-4FF6-84F4-DFB2EB42244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457200" y="6160680"/>
            <a:ext cx="814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8621280" y="623844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5002-2D16-4D53-A45A-376C1C50E45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11D7-7AA2-4766-B645-77743C432618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8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982A-6F77-4AD9-A3F9-6CED0CBE93D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2977-6F84-428D-99E4-38475B4CA858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F0D1-B2A1-4E35-A2D4-0844863B06B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8621280" y="623844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0AC1-A6A7-4D96-8133-16F0B639CB2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3"/>
          </p:nvPr>
        </p:nvSpPr>
        <p:spPr>
          <a:xfrm>
            <a:off x="457200" y="6160680"/>
            <a:ext cx="814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267F-1CDA-41F2-87A4-6DE212F8FFA7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44F2-3DED-46BC-AC9C-31DF4A20D32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3172-C580-4D26-A29B-B947295B3945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9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95F3-0178-45CC-ADFD-A9F03467602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E398-33A8-4353-AB21-A2B1159A50F3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2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C1A7-5BDE-4E39-B3D4-A07533DA8FB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en/2/21/Mdanderson_logo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2" descr="aerials-2006-010"/>
          <p:cNvPicPr/>
          <p:nvPr/>
        </p:nvPicPr>
        <p:blipFill>
          <a:blip r:embed="rId1"/>
          <a:srcRect l="0" t="4981" r="0" b="6444"/>
          <a:stretch/>
        </p:blipFill>
        <p:spPr>
          <a:xfrm>
            <a:off x="182520" y="4446720"/>
            <a:ext cx="5405400" cy="22780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674" name="Rectangle 3"/>
          <p:cNvSpPr/>
          <p:nvPr/>
        </p:nvSpPr>
        <p:spPr>
          <a:xfrm>
            <a:off x="74520" y="181080"/>
            <a:ext cx="901872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Novel Agents and Targets in Lung C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4"/>
          <p:cNvSpPr/>
          <p:nvPr/>
        </p:nvSpPr>
        <p:spPr>
          <a:xfrm>
            <a:off x="3900600" y="3100320"/>
            <a:ext cx="1342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5"/>
          <p:cNvSpPr/>
          <p:nvPr/>
        </p:nvSpPr>
        <p:spPr>
          <a:xfrm>
            <a:off x="3900600" y="3100320"/>
            <a:ext cx="1342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6" descr="File:Mdanderson log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78360" y="4770360"/>
            <a:ext cx="3251520" cy="169092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7"/>
          <p:cNvSpPr/>
          <p:nvPr/>
        </p:nvSpPr>
        <p:spPr>
          <a:xfrm>
            <a:off x="1293840" y="2111400"/>
            <a:ext cx="66484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dward S. Kim, M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ssociate Professor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irector, Clinical Research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hief, Section of Head and Neck Medical Oncology Dept. Thoracic/Head and Neck Medical Onc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broblast Growth Factor (FGF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3903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3840" indent="-213840">
              <a:lnSpc>
                <a:spcPct val="95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amily composed of 22 members, FGF-1 through FGF-23 that variously bind to seven FGF receptor isoforms from four FGF receptor gen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69640">
              <a:lnSpc>
                <a:spcPct val="95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GFR1b and c; FGFR2b and c; FGFR3b and c; and FGFR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69640">
              <a:lnSpc>
                <a:spcPct val="95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volved in multiple processes ranging from cell transformation, angiogenesis and tissue repair to embryonic development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384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3840" indent="-213840">
              <a:lnSpc>
                <a:spcPct val="95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rant regulation (amplification, overexpression, upregulation) of FGF ligands and their receptors is associated with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69640">
              <a:lnSpc>
                <a:spcPct val="95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(breast, astrocytoma, myeloma, pancreatic, prostate, ovarian, gastric,  colorectal, and bladder cance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38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GF Pathwa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58400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0680" indent="-2206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any tumors express the FGF2, and increased levels of FGF are correlated with poor prognosis in pts with RCC, HCC, NSCLC, esophageal, and pancreatic cancer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GF pathway activation is a potent driver of lung tumor growt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~20% primary lung tumors with mutations/amplification in FGFR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utocrine activation of FGFR signaling in non-small-cell lung cancers may contribute to gefitinib insensitivit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44240" y="142920"/>
            <a:ext cx="86677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berrant  regulation of FGF/FGFR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ignaling occurs in many human tum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685800" y="1254240"/>
            <a:ext cx="8191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Proliferation/Migration/Anti-apoptosis/Angiogenesi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FGFR1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reast cancer: Amplification ~10% 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on-small cell lung cancer: Amplification 10% squa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state cancer: Upregulated FGF lig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FGFR2: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astric cancer: Amplification ~5% tum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dometrial cancer: Mutations ~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FGFR3: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oninvasive bladder cancer: Mutations ~70% tum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ultiple myeloma: ~20% tum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FGFR4: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lorectal cancer: Upregulated FGF19 lig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state cancer: Upregulated FGF lig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506520" y="156852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uine target - identified via screening with anti-tumor killer T-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uine tumor-specific - not expressed in normal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sy to detect in patients (RT-PCR on tumor tiss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in major tumor typ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ung          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35-5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ladder          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30-58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iver             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4-78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elanoma    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6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in early and advanced stages of a given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entially associated with poor survival pro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title"/>
          </p:nvPr>
        </p:nvSpPr>
        <p:spPr>
          <a:xfrm>
            <a:off x="441360" y="54468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GE-A3 tumor antig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GE Func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428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07000" indent="-207000">
              <a:spcBef>
                <a:spcPts val="476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E proteins could confer tumor survival advan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7000" indent="-207000">
              <a:spcBef>
                <a:spcPts val="476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E proteins interfere with p53 pro-apoptotic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7000" indent="-207000">
              <a:spcBef>
                <a:spcPts val="476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E-A antigens suggested to confer resistanc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hemotherapeutic agents by suppressing p53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7000" indent="-207000">
              <a:spcBef>
                <a:spcPts val="476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E-A3 downregulates p21, a transcriptional target of p5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7000" indent="-207000">
              <a:spcBef>
                <a:spcPts val="476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E-A3 expression stimulates tumor growth and meta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204840" y="981000"/>
            <a:ext cx="8748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-A3 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juvant Non-Small Cell Lu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 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mun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III Study: MAGRI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401760" y="1728720"/>
            <a:ext cx="8219520" cy="4662720"/>
            <a:chOff x="401760" y="1728720"/>
            <a:chExt cx="8219520" cy="4662720"/>
          </a:xfrm>
        </p:grpSpPr>
        <p:sp>
          <p:nvSpPr>
            <p:cNvPr id="754" name="Line 48"/>
            <p:cNvSpPr/>
            <p:nvPr/>
          </p:nvSpPr>
          <p:spPr>
            <a:xfrm>
              <a:off x="6526800" y="3367080"/>
              <a:ext cx="0" cy="16250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48"/>
            <p:cNvSpPr/>
            <p:nvPr/>
          </p:nvSpPr>
          <p:spPr>
            <a:xfrm>
              <a:off x="2933640" y="3381120"/>
              <a:ext cx="361152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Text Box 32"/>
            <p:cNvSpPr/>
            <p:nvPr/>
          </p:nvSpPr>
          <p:spPr>
            <a:xfrm>
              <a:off x="2787120" y="6103080"/>
              <a:ext cx="338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fr-BE" sz="1600" spc="-1" strike="noStrike">
                  <a:solidFill>
                    <a:srgbClr val="ffffff"/>
                  </a:solidFill>
                  <a:latin typeface="Arial"/>
                </a:rPr>
                <a:t>Powered for effica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17"/>
            <p:cNvSpPr/>
            <p:nvPr/>
          </p:nvSpPr>
          <p:spPr>
            <a:xfrm>
              <a:off x="2254320" y="3009600"/>
              <a:ext cx="13993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 chem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21"/>
            <p:cNvSpPr/>
            <p:nvPr/>
          </p:nvSpPr>
          <p:spPr>
            <a:xfrm flipV="1">
              <a:off x="5266440" y="4992120"/>
              <a:ext cx="2540880" cy="82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22"/>
            <p:cNvSpPr/>
            <p:nvPr/>
          </p:nvSpPr>
          <p:spPr>
            <a:xfrm>
              <a:off x="5280480" y="4996080"/>
              <a:ext cx="0" cy="20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23"/>
            <p:cNvSpPr/>
            <p:nvPr/>
          </p:nvSpPr>
          <p:spPr>
            <a:xfrm>
              <a:off x="4447440" y="5328000"/>
              <a:ext cx="16088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GE-A3 AS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24"/>
            <p:cNvSpPr/>
            <p:nvPr/>
          </p:nvSpPr>
          <p:spPr>
            <a:xfrm>
              <a:off x="7349400" y="5328000"/>
              <a:ext cx="90000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ceb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29"/>
            <p:cNvSpPr/>
            <p:nvPr/>
          </p:nvSpPr>
          <p:spPr>
            <a:xfrm>
              <a:off x="7805520" y="4999320"/>
              <a:ext cx="0" cy="2055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35"/>
            <p:cNvSpPr/>
            <p:nvPr/>
          </p:nvSpPr>
          <p:spPr>
            <a:xfrm>
              <a:off x="1184760" y="5089680"/>
              <a:ext cx="3463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fr-BE" sz="1600" spc="-1" strike="noStrike">
                  <a:solidFill>
                    <a:srgbClr val="ffffff"/>
                  </a:solidFill>
                  <a:latin typeface="Arial"/>
                </a:rPr>
                <a:t>Powered for effica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ight Bracket 33"/>
            <p:cNvSpPr/>
            <p:nvPr/>
          </p:nvSpPr>
          <p:spPr>
            <a:xfrm rot="5400000">
              <a:off x="4439160" y="1787760"/>
              <a:ext cx="144360" cy="821952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5760 h 8219520"/>
                <a:gd name="textAreaBottom" fmla="*/ 8213760 h 82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6"/>
                    <a:pt x="21600" y="32"/>
                  </a:cubicBezTo>
                  <a:lnTo>
                    <a:pt x="21600" y="21568"/>
                  </a:lnTo>
                  <a:cubicBezTo>
                    <a:pt x="21600" y="21584"/>
                    <a:pt x="108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d95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ight Bracket 35"/>
            <p:cNvSpPr/>
            <p:nvPr/>
          </p:nvSpPr>
          <p:spPr>
            <a:xfrm rot="5400000">
              <a:off x="2727360" y="2870280"/>
              <a:ext cx="175320" cy="3976200"/>
            </a:xfrm>
            <a:custGeom>
              <a:avLst/>
              <a:gdLst>
                <a:gd name="textAreaLeft" fmla="*/ 0 w 175320"/>
                <a:gd name="textAreaRight" fmla="*/ 123120 w 175320"/>
                <a:gd name="textAreaTop" fmla="*/ 7200 h 3976200"/>
                <a:gd name="textAreaBottom" fmla="*/ 3969000 h 39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40"/>
                    <a:pt x="21600" y="79"/>
                  </a:cubicBezTo>
                  <a:lnTo>
                    <a:pt x="21600" y="21521"/>
                  </a:lnTo>
                  <a:cubicBezTo>
                    <a:pt x="21600" y="21561"/>
                    <a:pt x="108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48"/>
            <p:cNvSpPr/>
            <p:nvPr/>
          </p:nvSpPr>
          <p:spPr>
            <a:xfrm>
              <a:off x="4975200" y="1982520"/>
              <a:ext cx="0" cy="14122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55"/>
            <p:cNvSpPr/>
            <p:nvPr/>
          </p:nvSpPr>
          <p:spPr>
            <a:xfrm>
              <a:off x="2949120" y="3394800"/>
              <a:ext cx="0" cy="8650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56"/>
            <p:cNvSpPr/>
            <p:nvPr/>
          </p:nvSpPr>
          <p:spPr>
            <a:xfrm flipV="1">
              <a:off x="1689120" y="4247640"/>
              <a:ext cx="2540520" cy="82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57"/>
            <p:cNvSpPr/>
            <p:nvPr/>
          </p:nvSpPr>
          <p:spPr>
            <a:xfrm>
              <a:off x="4215960" y="4246560"/>
              <a:ext cx="0" cy="2055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58"/>
            <p:cNvSpPr/>
            <p:nvPr/>
          </p:nvSpPr>
          <p:spPr>
            <a:xfrm>
              <a:off x="1704240" y="4258440"/>
              <a:ext cx="0" cy="20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59"/>
            <p:cNvSpPr/>
            <p:nvPr/>
          </p:nvSpPr>
          <p:spPr>
            <a:xfrm>
              <a:off x="879480" y="4556160"/>
              <a:ext cx="16408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GE-A3 AS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60"/>
            <p:cNvSpPr/>
            <p:nvPr/>
          </p:nvSpPr>
          <p:spPr>
            <a:xfrm>
              <a:off x="3765240" y="4564800"/>
              <a:ext cx="9428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laceb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6"/>
            <p:cNvSpPr/>
            <p:nvPr/>
          </p:nvSpPr>
          <p:spPr>
            <a:xfrm>
              <a:off x="1559160" y="3629520"/>
              <a:ext cx="2781000" cy="33732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andom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77"/>
            <p:cNvSpPr/>
            <p:nvPr/>
          </p:nvSpPr>
          <p:spPr>
            <a:xfrm>
              <a:off x="2884320" y="2420280"/>
              <a:ext cx="4158360" cy="33732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thological stage IB, 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78"/>
            <p:cNvSpPr/>
            <p:nvPr/>
          </p:nvSpPr>
          <p:spPr>
            <a:xfrm>
              <a:off x="2865600" y="1728720"/>
              <a:ext cx="4158000" cy="337320"/>
            </a:xfrm>
            <a:prstGeom prst="rect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ected MAGE-A3 (+) NSCL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84"/>
            <p:cNvSpPr/>
            <p:nvPr/>
          </p:nvSpPr>
          <p:spPr>
            <a:xfrm>
              <a:off x="5266440" y="3553200"/>
              <a:ext cx="2625840" cy="58068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p to 4 cycles of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latinum-based chem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93"/>
            <p:cNvSpPr/>
            <p:nvPr/>
          </p:nvSpPr>
          <p:spPr>
            <a:xfrm>
              <a:off x="5180040" y="4317840"/>
              <a:ext cx="2780640" cy="33732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andom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-360" y="342720"/>
            <a:ext cx="9132840" cy="65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BATTLE Trial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EGF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and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KRA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Mutation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ovel Discovery Finding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6215040" y="2100240"/>
            <a:ext cx="147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KRA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M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4"/>
          <p:cNvSpPr/>
          <p:nvPr/>
        </p:nvSpPr>
        <p:spPr>
          <a:xfrm>
            <a:off x="1380960" y="1741320"/>
            <a:ext cx="14400" cy="4162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5"/>
          <p:cNvSpPr/>
          <p:nvPr/>
        </p:nvSpPr>
        <p:spPr>
          <a:xfrm>
            <a:off x="1191960" y="5791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6"/>
          <p:cNvSpPr/>
          <p:nvPr/>
        </p:nvSpPr>
        <p:spPr>
          <a:xfrm>
            <a:off x="1070280" y="53481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1084320" y="24336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8"/>
          <p:cNvSpPr/>
          <p:nvPr/>
        </p:nvSpPr>
        <p:spPr>
          <a:xfrm>
            <a:off x="1082880" y="4938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9"/>
          <p:cNvSpPr/>
          <p:nvPr/>
        </p:nvSpPr>
        <p:spPr>
          <a:xfrm>
            <a:off x="1082880" y="4103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0"/>
          <p:cNvSpPr/>
          <p:nvPr/>
        </p:nvSpPr>
        <p:spPr>
          <a:xfrm>
            <a:off x="1082880" y="4533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1"/>
          <p:cNvSpPr/>
          <p:nvPr/>
        </p:nvSpPr>
        <p:spPr>
          <a:xfrm>
            <a:off x="1082880" y="32749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2"/>
          <p:cNvSpPr/>
          <p:nvPr/>
        </p:nvSpPr>
        <p:spPr>
          <a:xfrm>
            <a:off x="1082880" y="28702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7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13"/>
          <p:cNvSpPr/>
          <p:nvPr/>
        </p:nvSpPr>
        <p:spPr>
          <a:xfrm>
            <a:off x="1095480" y="36939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4"/>
          <p:cNvSpPr/>
          <p:nvPr/>
        </p:nvSpPr>
        <p:spPr>
          <a:xfrm>
            <a:off x="1070280" y="2033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5"/>
          <p:cNvSpPr/>
          <p:nvPr/>
        </p:nvSpPr>
        <p:spPr>
          <a:xfrm rot="16200000">
            <a:off x="-1006200" y="3575880"/>
            <a:ext cx="341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hieved 8 week DC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979560" y="16398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5508720" y="4589640"/>
            <a:ext cx="579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8"/>
          <p:cNvSpPr/>
          <p:nvPr/>
        </p:nvSpPr>
        <p:spPr>
          <a:xfrm>
            <a:off x="5983200" y="3827520"/>
            <a:ext cx="567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19"/>
          <p:cNvGrpSpPr/>
          <p:nvPr/>
        </p:nvGrpSpPr>
        <p:grpSpPr>
          <a:xfrm>
            <a:off x="7446240" y="2754360"/>
            <a:ext cx="1099440" cy="700560"/>
            <a:chOff x="7446240" y="2754360"/>
            <a:chExt cx="1099440" cy="700560"/>
          </a:xfrm>
        </p:grpSpPr>
        <p:sp>
          <p:nvSpPr>
            <p:cNvPr id="796" name="Rectangle 20"/>
            <p:cNvSpPr/>
            <p:nvPr/>
          </p:nvSpPr>
          <p:spPr>
            <a:xfrm>
              <a:off x="8028000" y="3149640"/>
              <a:ext cx="517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5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21"/>
            <p:cNvSpPr/>
            <p:nvPr/>
          </p:nvSpPr>
          <p:spPr>
            <a:xfrm>
              <a:off x="7446240" y="275436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6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Rectangle 22"/>
          <p:cNvSpPr/>
          <p:nvPr/>
        </p:nvSpPr>
        <p:spPr>
          <a:xfrm>
            <a:off x="5699160" y="4987800"/>
            <a:ext cx="355680" cy="884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23"/>
          <p:cNvSpPr/>
          <p:nvPr/>
        </p:nvSpPr>
        <p:spPr>
          <a:xfrm>
            <a:off x="6072120" y="4297320"/>
            <a:ext cx="341280" cy="1575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24"/>
          <p:cNvSpPr/>
          <p:nvPr/>
        </p:nvSpPr>
        <p:spPr>
          <a:xfrm>
            <a:off x="5783760" y="5783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Group 25"/>
          <p:cNvGrpSpPr/>
          <p:nvPr/>
        </p:nvGrpSpPr>
        <p:grpSpPr>
          <a:xfrm>
            <a:off x="6367680" y="3417840"/>
            <a:ext cx="1161720" cy="2850480"/>
            <a:chOff x="6367680" y="3417840"/>
            <a:chExt cx="1161720" cy="2850480"/>
          </a:xfrm>
        </p:grpSpPr>
        <p:sp>
          <p:nvSpPr>
            <p:cNvPr id="802" name="Rectangle 26"/>
            <p:cNvSpPr/>
            <p:nvPr/>
          </p:nvSpPr>
          <p:spPr>
            <a:xfrm>
              <a:off x="7024320" y="3417840"/>
              <a:ext cx="265320" cy="2457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7"/>
            <p:cNvSpPr/>
            <p:nvPr/>
          </p:nvSpPr>
          <p:spPr>
            <a:xfrm>
              <a:off x="7184880" y="5560920"/>
              <a:ext cx="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28"/>
            <p:cNvSpPr/>
            <p:nvPr/>
          </p:nvSpPr>
          <p:spPr>
            <a:xfrm>
              <a:off x="6435360" y="4910040"/>
              <a:ext cx="263520" cy="960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29"/>
            <p:cNvSpPr/>
            <p:nvPr/>
          </p:nvSpPr>
          <p:spPr>
            <a:xfrm>
              <a:off x="6689520" y="4299120"/>
              <a:ext cx="250920" cy="1571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30"/>
            <p:cNvSpPr/>
            <p:nvPr/>
          </p:nvSpPr>
          <p:spPr>
            <a:xfrm>
              <a:off x="7291080" y="4003560"/>
              <a:ext cx="238320" cy="1859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31"/>
            <p:cNvSpPr/>
            <p:nvPr/>
          </p:nvSpPr>
          <p:spPr>
            <a:xfrm>
              <a:off x="6367680" y="5796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32"/>
            <p:cNvSpPr/>
            <p:nvPr/>
          </p:nvSpPr>
          <p:spPr>
            <a:xfrm>
              <a:off x="6977160" y="580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33"/>
          <p:cNvGrpSpPr/>
          <p:nvPr/>
        </p:nvGrpSpPr>
        <p:grpSpPr>
          <a:xfrm>
            <a:off x="7605720" y="3260880"/>
            <a:ext cx="624960" cy="3020040"/>
            <a:chOff x="7605720" y="3260880"/>
            <a:chExt cx="624960" cy="3020040"/>
          </a:xfrm>
        </p:grpSpPr>
        <p:sp>
          <p:nvSpPr>
            <p:cNvPr id="810" name="Rectangle 34"/>
            <p:cNvSpPr/>
            <p:nvPr/>
          </p:nvSpPr>
          <p:spPr>
            <a:xfrm>
              <a:off x="7930080" y="3600360"/>
              <a:ext cx="300600" cy="22669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7625880" y="3260880"/>
              <a:ext cx="302400" cy="2617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7605720" y="5821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Rectangle 37"/>
          <p:cNvSpPr/>
          <p:nvPr/>
        </p:nvSpPr>
        <p:spPr>
          <a:xfrm>
            <a:off x="1854360" y="2073240"/>
            <a:ext cx="178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GF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M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38"/>
          <p:cNvGrpSpPr/>
          <p:nvPr/>
        </p:nvGrpSpPr>
        <p:grpSpPr>
          <a:xfrm>
            <a:off x="1898640" y="2544840"/>
            <a:ext cx="257040" cy="2108160"/>
            <a:chOff x="1898640" y="2544840"/>
            <a:chExt cx="257040" cy="2108160"/>
          </a:xfrm>
        </p:grpSpPr>
        <p:sp>
          <p:nvSpPr>
            <p:cNvPr id="815" name="Rectangle 39"/>
            <p:cNvSpPr/>
            <p:nvPr/>
          </p:nvSpPr>
          <p:spPr>
            <a:xfrm>
              <a:off x="1898640" y="25448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40"/>
            <p:cNvSpPr/>
            <p:nvPr/>
          </p:nvSpPr>
          <p:spPr>
            <a:xfrm>
              <a:off x="2155320" y="434844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41"/>
          <p:cNvGrpSpPr/>
          <p:nvPr/>
        </p:nvGrpSpPr>
        <p:grpSpPr>
          <a:xfrm>
            <a:off x="3780000" y="2970360"/>
            <a:ext cx="245880" cy="1957320"/>
            <a:chOff x="3780000" y="2970360"/>
            <a:chExt cx="245880" cy="1957320"/>
          </a:xfrm>
        </p:grpSpPr>
        <p:sp>
          <p:nvSpPr>
            <p:cNvPr id="818" name="Rectangle 42"/>
            <p:cNvSpPr/>
            <p:nvPr/>
          </p:nvSpPr>
          <p:spPr>
            <a:xfrm>
              <a:off x="3780000" y="462276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43"/>
            <p:cNvSpPr/>
            <p:nvPr/>
          </p:nvSpPr>
          <p:spPr>
            <a:xfrm>
              <a:off x="4025520" y="297036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4"/>
          <p:cNvGrpSpPr/>
          <p:nvPr/>
        </p:nvGrpSpPr>
        <p:grpSpPr>
          <a:xfrm>
            <a:off x="3313080" y="3286080"/>
            <a:ext cx="651600" cy="2952360"/>
            <a:chOff x="3313080" y="3286080"/>
            <a:chExt cx="651600" cy="2952360"/>
          </a:xfrm>
        </p:grpSpPr>
        <p:sp>
          <p:nvSpPr>
            <p:cNvPr id="821" name="Rectangle 45"/>
            <p:cNvSpPr/>
            <p:nvPr/>
          </p:nvSpPr>
          <p:spPr>
            <a:xfrm>
              <a:off x="3313080" y="4986360"/>
              <a:ext cx="329760" cy="8809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46"/>
            <p:cNvSpPr/>
            <p:nvPr/>
          </p:nvSpPr>
          <p:spPr>
            <a:xfrm>
              <a:off x="3648960" y="3286080"/>
              <a:ext cx="315720" cy="25923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47"/>
            <p:cNvSpPr/>
            <p:nvPr/>
          </p:nvSpPr>
          <p:spPr>
            <a:xfrm>
              <a:off x="3381120" y="5872320"/>
              <a:ext cx="550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48"/>
          <p:cNvGrpSpPr/>
          <p:nvPr/>
        </p:nvGrpSpPr>
        <p:grpSpPr>
          <a:xfrm>
            <a:off x="2225520" y="3359160"/>
            <a:ext cx="1095480" cy="2866320"/>
            <a:chOff x="2225520" y="3359160"/>
            <a:chExt cx="1095480" cy="2866320"/>
          </a:xfrm>
        </p:grpSpPr>
        <p:sp>
          <p:nvSpPr>
            <p:cNvPr id="825" name="Rectangle 49"/>
            <p:cNvSpPr/>
            <p:nvPr/>
          </p:nvSpPr>
          <p:spPr>
            <a:xfrm>
              <a:off x="2809800" y="3433680"/>
              <a:ext cx="255600" cy="2441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50"/>
            <p:cNvSpPr/>
            <p:nvPr/>
          </p:nvSpPr>
          <p:spPr>
            <a:xfrm>
              <a:off x="2982960" y="5560920"/>
              <a:ext cx="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2225520" y="3359160"/>
              <a:ext cx="266760" cy="25113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2482920" y="4591080"/>
              <a:ext cx="253800" cy="1279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3065400" y="4162320"/>
              <a:ext cx="255600" cy="1700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54"/>
            <p:cNvSpPr/>
            <p:nvPr/>
          </p:nvSpPr>
          <p:spPr>
            <a:xfrm>
              <a:off x="2890800" y="5859360"/>
              <a:ext cx="420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55"/>
            <p:cNvSpPr/>
            <p:nvPr/>
          </p:nvSpPr>
          <p:spPr>
            <a:xfrm>
              <a:off x="2235240" y="5859360"/>
              <a:ext cx="420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56"/>
          <p:cNvGrpSpPr/>
          <p:nvPr/>
        </p:nvGrpSpPr>
        <p:grpSpPr>
          <a:xfrm>
            <a:off x="1622520" y="2906640"/>
            <a:ext cx="591840" cy="3318840"/>
            <a:chOff x="1622520" y="2906640"/>
            <a:chExt cx="591840" cy="3318840"/>
          </a:xfrm>
        </p:grpSpPr>
        <p:sp>
          <p:nvSpPr>
            <p:cNvPr id="833" name="Rectangle 57"/>
            <p:cNvSpPr/>
            <p:nvPr/>
          </p:nvSpPr>
          <p:spPr>
            <a:xfrm>
              <a:off x="1622520" y="2906640"/>
              <a:ext cx="294120" cy="2965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58"/>
            <p:cNvSpPr/>
            <p:nvPr/>
          </p:nvSpPr>
          <p:spPr>
            <a:xfrm>
              <a:off x="1918080" y="4708440"/>
              <a:ext cx="296280" cy="11638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59"/>
            <p:cNvSpPr/>
            <p:nvPr/>
          </p:nvSpPr>
          <p:spPr>
            <a:xfrm>
              <a:off x="1631520" y="5859360"/>
              <a:ext cx="483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60"/>
          <p:cNvGrpSpPr/>
          <p:nvPr/>
        </p:nvGrpSpPr>
        <p:grpSpPr>
          <a:xfrm>
            <a:off x="3223440" y="2855880"/>
            <a:ext cx="934200" cy="1958040"/>
            <a:chOff x="3223440" y="2855880"/>
            <a:chExt cx="934200" cy="1958040"/>
          </a:xfrm>
        </p:grpSpPr>
        <p:sp>
          <p:nvSpPr>
            <p:cNvPr id="837" name="Rectangle 61"/>
            <p:cNvSpPr/>
            <p:nvPr/>
          </p:nvSpPr>
          <p:spPr>
            <a:xfrm>
              <a:off x="3223440" y="450864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62"/>
            <p:cNvSpPr/>
            <p:nvPr/>
          </p:nvSpPr>
          <p:spPr>
            <a:xfrm>
              <a:off x="3462480" y="2855880"/>
              <a:ext cx="69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64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Line 63"/>
          <p:cNvSpPr/>
          <p:nvPr/>
        </p:nvSpPr>
        <p:spPr>
          <a:xfrm>
            <a:off x="1393920" y="5891040"/>
            <a:ext cx="27684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64"/>
          <p:cNvSpPr/>
          <p:nvPr/>
        </p:nvSpPr>
        <p:spPr>
          <a:xfrm>
            <a:off x="5445000" y="1728720"/>
            <a:ext cx="14400" cy="4162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65"/>
          <p:cNvSpPr/>
          <p:nvPr/>
        </p:nvSpPr>
        <p:spPr>
          <a:xfrm>
            <a:off x="5256000" y="57783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6"/>
          <p:cNvSpPr/>
          <p:nvPr/>
        </p:nvSpPr>
        <p:spPr>
          <a:xfrm>
            <a:off x="5133960" y="53355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67"/>
          <p:cNvSpPr/>
          <p:nvPr/>
        </p:nvSpPr>
        <p:spPr>
          <a:xfrm>
            <a:off x="5148360" y="24210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8"/>
          <p:cNvSpPr/>
          <p:nvPr/>
        </p:nvSpPr>
        <p:spPr>
          <a:xfrm>
            <a:off x="5146920" y="49258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69"/>
          <p:cNvSpPr/>
          <p:nvPr/>
        </p:nvSpPr>
        <p:spPr>
          <a:xfrm>
            <a:off x="5146920" y="40910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70"/>
          <p:cNvSpPr/>
          <p:nvPr/>
        </p:nvSpPr>
        <p:spPr>
          <a:xfrm>
            <a:off x="5146920" y="4521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1"/>
          <p:cNvSpPr/>
          <p:nvPr/>
        </p:nvSpPr>
        <p:spPr>
          <a:xfrm>
            <a:off x="5146920" y="32623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72"/>
          <p:cNvSpPr/>
          <p:nvPr/>
        </p:nvSpPr>
        <p:spPr>
          <a:xfrm>
            <a:off x="5146920" y="28576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7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73"/>
          <p:cNvSpPr/>
          <p:nvPr/>
        </p:nvSpPr>
        <p:spPr>
          <a:xfrm>
            <a:off x="5159520" y="36813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74"/>
          <p:cNvSpPr/>
          <p:nvPr/>
        </p:nvSpPr>
        <p:spPr>
          <a:xfrm>
            <a:off x="5133960" y="20210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5"/>
          <p:cNvSpPr/>
          <p:nvPr/>
        </p:nvSpPr>
        <p:spPr>
          <a:xfrm>
            <a:off x="5043600" y="16272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76"/>
          <p:cNvSpPr/>
          <p:nvPr/>
        </p:nvSpPr>
        <p:spPr>
          <a:xfrm>
            <a:off x="5448240" y="5878440"/>
            <a:ext cx="29656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77"/>
          <p:cNvGrpSpPr/>
          <p:nvPr/>
        </p:nvGrpSpPr>
        <p:grpSpPr>
          <a:xfrm>
            <a:off x="1274760" y="1116000"/>
            <a:ext cx="7000920" cy="393840"/>
            <a:chOff x="1274760" y="1116000"/>
            <a:chExt cx="7000920" cy="393840"/>
          </a:xfrm>
        </p:grpSpPr>
        <p:sp>
          <p:nvSpPr>
            <p:cNvPr id="854" name="Rectangle 78"/>
            <p:cNvSpPr/>
            <p:nvPr/>
          </p:nvSpPr>
          <p:spPr>
            <a:xfrm>
              <a:off x="1274760" y="1116000"/>
              <a:ext cx="7000920" cy="393840"/>
            </a:xfrm>
            <a:prstGeom prst="rect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79"/>
            <p:cNvSpPr/>
            <p:nvPr/>
          </p:nvSpPr>
          <p:spPr>
            <a:xfrm>
              <a:off x="1344600" y="1230480"/>
              <a:ext cx="236520" cy="174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80"/>
            <p:cNvSpPr/>
            <p:nvPr/>
          </p:nvSpPr>
          <p:spPr>
            <a:xfrm>
              <a:off x="1663560" y="1187640"/>
              <a:ext cx="773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lotini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81"/>
            <p:cNvSpPr/>
            <p:nvPr/>
          </p:nvSpPr>
          <p:spPr>
            <a:xfrm>
              <a:off x="2690640" y="1235160"/>
              <a:ext cx="236880" cy="174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82"/>
            <p:cNvSpPr/>
            <p:nvPr/>
          </p:nvSpPr>
          <p:spPr>
            <a:xfrm>
              <a:off x="3003120" y="1181160"/>
              <a:ext cx="1027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detani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83"/>
            <p:cNvSpPr/>
            <p:nvPr/>
          </p:nvSpPr>
          <p:spPr>
            <a:xfrm>
              <a:off x="4206960" y="1231920"/>
              <a:ext cx="236520" cy="174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84"/>
            <p:cNvSpPr/>
            <p:nvPr/>
          </p:nvSpPr>
          <p:spPr>
            <a:xfrm>
              <a:off x="4523400" y="1192320"/>
              <a:ext cx="203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lotinib + Bexarote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85"/>
            <p:cNvSpPr/>
            <p:nvPr/>
          </p:nvSpPr>
          <p:spPr>
            <a:xfrm>
              <a:off x="6886440" y="1220760"/>
              <a:ext cx="236520" cy="174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86"/>
            <p:cNvSpPr/>
            <p:nvPr/>
          </p:nvSpPr>
          <p:spPr>
            <a:xfrm>
              <a:off x="7221960" y="1179360"/>
              <a:ext cx="880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Sorafeni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87"/>
          <p:cNvGrpSpPr/>
          <p:nvPr/>
        </p:nvGrpSpPr>
        <p:grpSpPr>
          <a:xfrm>
            <a:off x="1572480" y="2481120"/>
            <a:ext cx="921600" cy="2058120"/>
            <a:chOff x="1572480" y="2481120"/>
            <a:chExt cx="921600" cy="2058120"/>
          </a:xfrm>
        </p:grpSpPr>
        <p:sp>
          <p:nvSpPr>
            <p:cNvPr id="864" name="Rectangle 88"/>
            <p:cNvSpPr/>
            <p:nvPr/>
          </p:nvSpPr>
          <p:spPr>
            <a:xfrm>
              <a:off x="1572480" y="248112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7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89"/>
            <p:cNvSpPr/>
            <p:nvPr/>
          </p:nvSpPr>
          <p:spPr>
            <a:xfrm>
              <a:off x="1954080" y="4233960"/>
              <a:ext cx="54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9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90"/>
          <p:cNvGrpSpPr/>
          <p:nvPr/>
        </p:nvGrpSpPr>
        <p:grpSpPr>
          <a:xfrm>
            <a:off x="1538280" y="1511280"/>
            <a:ext cx="6813360" cy="403200"/>
            <a:chOff x="1538280" y="1511280"/>
            <a:chExt cx="6813360" cy="403200"/>
          </a:xfrm>
        </p:grpSpPr>
        <p:grpSp>
          <p:nvGrpSpPr>
            <p:cNvPr id="867" name="Group 91"/>
            <p:cNvGrpSpPr/>
            <p:nvPr/>
          </p:nvGrpSpPr>
          <p:grpSpPr>
            <a:xfrm>
              <a:off x="1538280" y="1511280"/>
              <a:ext cx="2689200" cy="393480"/>
              <a:chOff x="1538280" y="1511280"/>
              <a:chExt cx="2689200" cy="393480"/>
            </a:xfrm>
          </p:grpSpPr>
          <p:sp>
            <p:nvSpPr>
              <p:cNvPr id="868" name="Rectangle 92"/>
              <p:cNvSpPr/>
              <p:nvPr/>
            </p:nvSpPr>
            <p:spPr>
              <a:xfrm>
                <a:off x="1538280" y="1511280"/>
                <a:ext cx="2689200" cy="393480"/>
              </a:xfrm>
              <a:prstGeom prst="rect">
                <a:avLst/>
              </a:prstGeom>
              <a:noFill/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Rectangle 93"/>
              <p:cNvSpPr/>
              <p:nvPr/>
            </p:nvSpPr>
            <p:spPr>
              <a:xfrm>
                <a:off x="1608120" y="1625400"/>
                <a:ext cx="236520" cy="174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Rectangle 94"/>
              <p:cNvSpPr/>
              <p:nvPr/>
            </p:nvSpPr>
            <p:spPr>
              <a:xfrm>
                <a:off x="1927080" y="1582560"/>
                <a:ext cx="773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rlotini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Rectangle 95"/>
              <p:cNvSpPr/>
              <p:nvPr/>
            </p:nvSpPr>
            <p:spPr>
              <a:xfrm>
                <a:off x="2935080" y="1630440"/>
                <a:ext cx="236520" cy="174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96"/>
              <p:cNvSpPr/>
              <p:nvPr/>
            </p:nvSpPr>
            <p:spPr>
              <a:xfrm>
                <a:off x="3242160" y="1574640"/>
                <a:ext cx="880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rafeni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3" name="Group 97"/>
            <p:cNvGrpSpPr/>
            <p:nvPr/>
          </p:nvGrpSpPr>
          <p:grpSpPr>
            <a:xfrm>
              <a:off x="5662440" y="1521000"/>
              <a:ext cx="2689200" cy="393480"/>
              <a:chOff x="5662440" y="1521000"/>
              <a:chExt cx="2689200" cy="393480"/>
            </a:xfrm>
          </p:grpSpPr>
          <p:sp>
            <p:nvSpPr>
              <p:cNvPr id="874" name="Rectangle 98"/>
              <p:cNvSpPr/>
              <p:nvPr/>
            </p:nvSpPr>
            <p:spPr>
              <a:xfrm>
                <a:off x="5662440" y="1521000"/>
                <a:ext cx="2689200" cy="393480"/>
              </a:xfrm>
              <a:prstGeom prst="rect">
                <a:avLst/>
              </a:prstGeom>
              <a:noFill/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Rectangle 99"/>
              <p:cNvSpPr/>
              <p:nvPr/>
            </p:nvSpPr>
            <p:spPr>
              <a:xfrm>
                <a:off x="5732280" y="1635120"/>
                <a:ext cx="236520" cy="174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Rectangle 100"/>
              <p:cNvSpPr/>
              <p:nvPr/>
            </p:nvSpPr>
            <p:spPr>
              <a:xfrm>
                <a:off x="6051240" y="1592280"/>
                <a:ext cx="773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rlotini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Rectangle 101"/>
              <p:cNvSpPr/>
              <p:nvPr/>
            </p:nvSpPr>
            <p:spPr>
              <a:xfrm>
                <a:off x="7059240" y="1640160"/>
                <a:ext cx="236520" cy="174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Rectangle 102"/>
              <p:cNvSpPr/>
              <p:nvPr/>
            </p:nvSpPr>
            <p:spPr>
              <a:xfrm>
                <a:off x="7366320" y="1584360"/>
                <a:ext cx="880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rafeni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9" name="Rectangle 103"/>
          <p:cNvSpPr/>
          <p:nvPr/>
        </p:nvSpPr>
        <p:spPr>
          <a:xfrm>
            <a:off x="1113120" y="613080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04"/>
          <p:cNvSpPr/>
          <p:nvPr/>
        </p:nvSpPr>
        <p:spPr>
          <a:xfrm>
            <a:off x="1620720" y="6102360"/>
            <a:ext cx="25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7  45              13  67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105"/>
          <p:cNvGrpSpPr/>
          <p:nvPr/>
        </p:nvGrpSpPr>
        <p:grpSpPr>
          <a:xfrm>
            <a:off x="1785960" y="5413320"/>
            <a:ext cx="6175080" cy="520560"/>
            <a:chOff x="1785960" y="5413320"/>
            <a:chExt cx="6175080" cy="520560"/>
          </a:xfrm>
        </p:grpSpPr>
        <p:grpSp>
          <p:nvGrpSpPr>
            <p:cNvPr id="882" name="Group 106"/>
            <p:cNvGrpSpPr/>
            <p:nvPr/>
          </p:nvGrpSpPr>
          <p:grpSpPr>
            <a:xfrm>
              <a:off x="1785960" y="5413320"/>
              <a:ext cx="6175080" cy="520560"/>
              <a:chOff x="1785960" y="5413320"/>
              <a:chExt cx="6175080" cy="520560"/>
            </a:xfrm>
          </p:grpSpPr>
          <p:sp>
            <p:nvSpPr>
              <p:cNvPr id="883" name="Rectangle 107"/>
              <p:cNvSpPr/>
              <p:nvPr/>
            </p:nvSpPr>
            <p:spPr>
              <a:xfrm>
                <a:off x="1785960" y="5413320"/>
                <a:ext cx="183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Rectangle 108"/>
              <p:cNvSpPr/>
              <p:nvPr/>
            </p:nvSpPr>
            <p:spPr>
              <a:xfrm>
                <a:off x="3453480" y="54133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Rectangle 109"/>
              <p:cNvSpPr/>
              <p:nvPr/>
            </p:nvSpPr>
            <p:spPr>
              <a:xfrm>
                <a:off x="5925960" y="5413320"/>
                <a:ext cx="183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Rectangle 110"/>
              <p:cNvSpPr/>
              <p:nvPr/>
            </p:nvSpPr>
            <p:spPr>
              <a:xfrm>
                <a:off x="7681320" y="541332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Rectangle 111"/>
            <p:cNvSpPr/>
            <p:nvPr/>
          </p:nvSpPr>
          <p:spPr>
            <a:xfrm>
              <a:off x="5925960" y="541332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Rectangle 112"/>
          <p:cNvSpPr/>
          <p:nvPr/>
        </p:nvSpPr>
        <p:spPr>
          <a:xfrm>
            <a:off x="5175360" y="612936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113"/>
          <p:cNvSpPr/>
          <p:nvPr/>
        </p:nvSpPr>
        <p:spPr>
          <a:xfrm>
            <a:off x="5519880" y="6089760"/>
            <a:ext cx="31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9  43                 18  62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114"/>
          <p:cNvSpPr/>
          <p:nvPr/>
        </p:nvSpPr>
        <p:spPr>
          <a:xfrm>
            <a:off x="1463760" y="2322360"/>
            <a:ext cx="718920" cy="623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115"/>
          <p:cNvSpPr/>
          <p:nvPr/>
        </p:nvSpPr>
        <p:spPr>
          <a:xfrm>
            <a:off x="3095640" y="4371840"/>
            <a:ext cx="719280" cy="623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116"/>
          <p:cNvSpPr/>
          <p:nvPr/>
        </p:nvSpPr>
        <p:spPr>
          <a:xfrm>
            <a:off x="5477040" y="4438800"/>
            <a:ext cx="718920" cy="623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117"/>
          <p:cNvSpPr/>
          <p:nvPr/>
        </p:nvSpPr>
        <p:spPr>
          <a:xfrm>
            <a:off x="7323120" y="2602080"/>
            <a:ext cx="719280" cy="623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18"/>
          <p:cNvSpPr/>
          <p:nvPr/>
        </p:nvSpPr>
        <p:spPr>
          <a:xfrm>
            <a:off x="4883040" y="6535800"/>
            <a:ext cx="427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S Kim et al.  AACR 2010, Plenary Session LBA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35080" y="353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vel Therapies in Lung Canc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scale randomized trials in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ed to assess bioma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l targeted therapies will fail unless appropriate target or population ident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 modulation in a particular patient may be needed to assess effic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vel Therap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Nab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paclitax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ex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G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d-type or KRAS mu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rafeni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logic Rationale for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nab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Paclitax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254160" y="1092240"/>
            <a:ext cx="858492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olvent polyoxyethylated castor oil (cremophor) decreases efficacy and contributes to the toxicities observed with paclitaxel including hypersensitivity reactions and neuro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noparticle albumin-bound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paclitaxel has been shown to be more efficacious than solvent-based paclitaxel in breast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P leverages the gp60 / caveolin-1 / SPARC transcytosis pathway to establish a portal to the tumor microenvironment resulting in high intra-tumoral drug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expression of caveolin-1 and SPARC occurs in NSCLC and is associated with poor progn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83" name="Straight Arrow Connector 8"/>
          <p:cNvCxnSpPr/>
          <p:nvPr/>
        </p:nvCxnSpPr>
        <p:spPr>
          <a:xfrm flipV="1">
            <a:off x="3682800" y="2768400"/>
            <a:ext cx="635400" cy="280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4" name="Straight Arrow Connector 10"/>
          <p:cNvCxnSpPr/>
          <p:nvPr/>
        </p:nvCxnSpPr>
        <p:spPr>
          <a:xfrm>
            <a:off x="3683160" y="3580920"/>
            <a:ext cx="660600" cy="229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85" name="TextBox 11"/>
          <p:cNvSpPr/>
          <p:nvPr/>
        </p:nvSpPr>
        <p:spPr>
          <a:xfrm>
            <a:off x="0" y="101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III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nab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P/C vs P/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udy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6" name="Straight Arrow Connector 8"/>
          <p:cNvCxnSpPr/>
          <p:nvPr/>
        </p:nvCxnSpPr>
        <p:spPr>
          <a:xfrm>
            <a:off x="2463840" y="3276720"/>
            <a:ext cx="53424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87" name="AutoShape 13"/>
          <p:cNvSpPr/>
          <p:nvPr/>
        </p:nvSpPr>
        <p:spPr>
          <a:xfrm>
            <a:off x="254160" y="2362320"/>
            <a:ext cx="2166840" cy="1901880"/>
          </a:xfrm>
          <a:prstGeom prst="roundRect">
            <a:avLst>
              <a:gd name="adj" fmla="val 9963"/>
            </a:avLst>
          </a:pr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emo-na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S 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 IIIb/IV NSC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,0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7"/>
          <p:cNvSpPr/>
          <p:nvPr/>
        </p:nvSpPr>
        <p:spPr>
          <a:xfrm>
            <a:off x="482760" y="4495680"/>
            <a:ext cx="4495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tratification fa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age (IIIb vs 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ge (&lt;70 vs &gt;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tology (squamous vs nonsquam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graphic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3"/>
          <p:cNvSpPr/>
          <p:nvPr/>
        </p:nvSpPr>
        <p:spPr>
          <a:xfrm>
            <a:off x="4470480" y="1600200"/>
            <a:ext cx="4343400" cy="1752480"/>
          </a:xfrm>
          <a:prstGeom prst="roundRect">
            <a:avLst>
              <a:gd name="adj" fmla="val 9963"/>
            </a:avLst>
          </a:prstGeom>
          <a:solidFill>
            <a:srgbClr val="00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ab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Paclitaxel 100 mg/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d1, 8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platin AUC 6 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 Prem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5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3"/>
          <p:cNvSpPr/>
          <p:nvPr/>
        </p:nvSpPr>
        <p:spPr>
          <a:xfrm>
            <a:off x="2997360" y="3048120"/>
            <a:ext cx="685800" cy="457200"/>
          </a:xfrm>
          <a:prstGeom prst="roundRect">
            <a:avLst>
              <a:gd name="adj" fmla="val 996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3"/>
          <p:cNvSpPr/>
          <p:nvPr/>
        </p:nvSpPr>
        <p:spPr>
          <a:xfrm>
            <a:off x="4470480" y="3581280"/>
            <a:ext cx="4343400" cy="2006640"/>
          </a:xfrm>
          <a:prstGeom prst="roundRect">
            <a:avLst>
              <a:gd name="adj" fmla="val 9963"/>
            </a:avLst>
          </a:prstGeom>
          <a:solidFill>
            <a:srgbClr val="ccffff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clitaxel 200 mg/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platin AUC 6 d1 With Premedication of Dexamethasone + Antihistam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5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6"/>
          <p:cNvSpPr/>
          <p:nvPr/>
        </p:nvSpPr>
        <p:spPr>
          <a:xfrm>
            <a:off x="5307120" y="6428520"/>
            <a:ext cx="369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cinski et al. ASCO 2010 Abs #LBA75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1"/>
          <p:cNvSpPr/>
          <p:nvPr/>
        </p:nvSpPr>
        <p:spPr>
          <a:xfrm>
            <a:off x="0" y="419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Study End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673200" y="142236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imary end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bjective response rate b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ependent radiologic review based on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EC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855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omplete + partial response (CR, 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econdary end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ession-free and overall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sease control rate: CR + PR + stable disease (SD) ≥1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fety (NCI CTCAE v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Chart 1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516720" cy="4165560"/>
          </a:xfrm>
          <a:prstGeom prst="rect">
            <a:avLst/>
          </a:prstGeom>
          <a:ln w="0">
            <a:noFill/>
          </a:ln>
        </p:spPr>
      </p:pic>
      <p:sp>
        <p:nvSpPr>
          <p:cNvPr id="696" name="TextBox 8"/>
          <p:cNvSpPr/>
          <p:nvPr/>
        </p:nvSpPr>
        <p:spPr>
          <a:xfrm>
            <a:off x="7120080" y="256536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b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P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4"/>
          <p:cNvSpPr/>
          <p:nvPr/>
        </p:nvSpPr>
        <p:spPr>
          <a:xfrm>
            <a:off x="609480" y="1371600"/>
            <a:ext cx="75438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3"/>
          <p:cNvSpPr/>
          <p:nvPr/>
        </p:nvSpPr>
        <p:spPr>
          <a:xfrm>
            <a:off x="228600" y="1522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Primary Endpoint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bjective Responses – All Hist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5"/>
          <p:cNvSpPr/>
          <p:nvPr/>
        </p:nvSpPr>
        <p:spPr>
          <a:xfrm>
            <a:off x="1981080" y="16765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sponse Ratio = 1.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1.082 – 1.59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= 0.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7"/>
          <p:cNvSpPr/>
          <p:nvPr/>
        </p:nvSpPr>
        <p:spPr>
          <a:xfrm rot="10800000">
            <a:off x="833400" y="2906640"/>
            <a:ext cx="48528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erc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3973680" y="6446160"/>
            <a:ext cx="50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permission from Socinski et al. ASCO 2010 Abs #LBA75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7034040" y="2712960"/>
            <a:ext cx="123840" cy="123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3" name="Chart 1"/>
          <p:cNvGraphicFramePr/>
          <p:nvPr/>
        </p:nvGraphicFramePr>
        <p:xfrm>
          <a:off x="592200" y="1959120"/>
          <a:ext cx="8496360" cy="418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4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959120"/>
                    <a:ext cx="849636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Text Box 3"/>
          <p:cNvSpPr/>
          <p:nvPr/>
        </p:nvSpPr>
        <p:spPr>
          <a:xfrm rot="10800000">
            <a:off x="-6480" y="2770560"/>
            <a:ext cx="48528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erc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3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bjective Responses by Histology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1600200" y="10238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qua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5"/>
          <p:cNvSpPr/>
          <p:nvPr/>
        </p:nvSpPr>
        <p:spPr>
          <a:xfrm>
            <a:off x="5410080" y="10238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nsqua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10"/>
          <p:cNvSpPr/>
          <p:nvPr/>
        </p:nvSpPr>
        <p:spPr>
          <a:xfrm>
            <a:off x="685800" y="170964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&lt; 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12"/>
          <p:cNvSpPr/>
          <p:nvPr/>
        </p:nvSpPr>
        <p:spPr>
          <a:xfrm>
            <a:off x="2514600" y="170964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= 0.0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4648320" y="170964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= 0.8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14"/>
          <p:cNvSpPr/>
          <p:nvPr/>
        </p:nvSpPr>
        <p:spPr>
          <a:xfrm>
            <a:off x="6248520" y="170964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= 0.0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1"/>
          <p:cNvSpPr/>
          <p:nvPr/>
        </p:nvSpPr>
        <p:spPr>
          <a:xfrm>
            <a:off x="1295280" y="6205680"/>
            <a:ext cx="15264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2"/>
          <p:cNvSpPr/>
          <p:nvPr/>
        </p:nvSpPr>
        <p:spPr>
          <a:xfrm>
            <a:off x="2666880" y="6205680"/>
            <a:ext cx="152640" cy="15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1602360" y="612936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 = 2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2898000" y="612936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 = 2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5"/>
          <p:cNvSpPr/>
          <p:nvPr/>
        </p:nvSpPr>
        <p:spPr>
          <a:xfrm>
            <a:off x="5181480" y="6205680"/>
            <a:ext cx="15264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6"/>
          <p:cNvSpPr/>
          <p:nvPr/>
        </p:nvSpPr>
        <p:spPr>
          <a:xfrm>
            <a:off x="6553080" y="6205680"/>
            <a:ext cx="152640" cy="15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5490360" y="612936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 = 2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6785640" y="612936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 = 3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1"/>
          <p:cNvSpPr/>
          <p:nvPr/>
        </p:nvSpPr>
        <p:spPr>
          <a:xfrm>
            <a:off x="0" y="6372360"/>
            <a:ext cx="304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* Not a pre-specified end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4164120" y="6447600"/>
            <a:ext cx="480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permission from Socinski et al. ASCO 2010 Abs #LBA75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1"/>
          <p:cNvSpPr/>
          <p:nvPr/>
        </p:nvSpPr>
        <p:spPr>
          <a:xfrm>
            <a:off x="7840800" y="2219400"/>
            <a:ext cx="155520" cy="155520"/>
          </a:xfrm>
          <a:prstGeom prst="rect">
            <a:avLst/>
          </a:prstGeom>
          <a:solidFill>
            <a:srgbClr val="ffffcb"/>
          </a:solidFill>
          <a:ln w="0">
            <a:noFill/>
          </a:ln>
          <a:effectLst>
            <a:outerShdw dist="17819" dir="2700000" blurRad="0" rotWithShape="0">
              <a:srgbClr val="9999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2"/>
          <p:cNvSpPr/>
          <p:nvPr/>
        </p:nvSpPr>
        <p:spPr>
          <a:xfrm>
            <a:off x="7840800" y="2506680"/>
            <a:ext cx="155520" cy="155520"/>
          </a:xfrm>
          <a:prstGeom prst="rect">
            <a:avLst/>
          </a:prstGeom>
          <a:solidFill>
            <a:srgbClr val="9bccff"/>
          </a:solidFill>
          <a:ln w="0">
            <a:noFill/>
          </a:ln>
          <a:effectLst>
            <a:outerShdw dist="17819" dir="2700000" blurRad="0" rotWithShape="0">
              <a:srgbClr val="5d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23"/>
          <p:cNvSpPr/>
          <p:nvPr/>
        </p:nvSpPr>
        <p:spPr>
          <a:xfrm>
            <a:off x="7983360" y="2120760"/>
            <a:ext cx="90648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nab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P/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24"/>
          <p:cNvSpPr/>
          <p:nvPr/>
        </p:nvSpPr>
        <p:spPr>
          <a:xfrm>
            <a:off x="7983360" y="2408400"/>
            <a:ext cx="90648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/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3"/>
          <p:cNvSpPr/>
          <p:nvPr/>
        </p:nvSpPr>
        <p:spPr>
          <a:xfrm>
            <a:off x="911160" y="2317680"/>
            <a:ext cx="8028000" cy="31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rmal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.9%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6/122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3%  (4/1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quamous Cell Carcinom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7.2%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(34/39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2.1%  (32/3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enocarcinom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76.1%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(35/46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73.9%  (34/4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mall Cell Carcinoma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00.0%  (3/3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00.0%  (3/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rge Cell Carcinoma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00.0%  (4/4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00.0%  (4/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3929400" y="1781280"/>
            <a:ext cx="110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&gt;90% U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6542640" y="1781280"/>
            <a:ext cx="110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&gt;95% U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34880" y="358560"/>
            <a:ext cx="8344080" cy="113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RP1 Upregulation in Lung Cancer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Line 12"/>
          <p:cNvSpPr/>
          <p:nvPr/>
        </p:nvSpPr>
        <p:spPr>
          <a:xfrm>
            <a:off x="728640" y="2122560"/>
            <a:ext cx="797868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40840" y="617040"/>
            <a:ext cx="800892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CLIPSE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quamous NSCLC Study Desig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Rectangle 42"/>
          <p:cNvSpPr/>
          <p:nvPr/>
        </p:nvSpPr>
        <p:spPr>
          <a:xfrm>
            <a:off x="5603760" y="13748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43"/>
          <p:cNvSpPr/>
          <p:nvPr/>
        </p:nvSpPr>
        <p:spPr>
          <a:xfrm>
            <a:off x="5643360" y="13748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86"/>
          <p:cNvSpPr/>
          <p:nvPr/>
        </p:nvSpPr>
        <p:spPr>
          <a:xfrm>
            <a:off x="3765600" y="3767040"/>
            <a:ext cx="623880" cy="685800"/>
          </a:xfrm>
          <a:prstGeom prst="rightArrow">
            <a:avLst>
              <a:gd name="adj1" fmla="val 56148"/>
              <a:gd name="adj2" fmla="val 39694"/>
            </a:avLst>
          </a:prstGeom>
          <a:solidFill>
            <a:srgbClr val="00ff00"/>
          </a:solidFill>
          <a:ln w="15840">
            <a:solidFill>
              <a:srgbClr val="008000"/>
            </a:solidFill>
            <a:miter/>
          </a:ln>
          <a:effectLst>
            <a:outerShdw dist="17819" dir="2700000" blurRad="0" rotWithShape="0">
              <a:srgbClr val="004d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87"/>
          <p:cNvSpPr/>
          <p:nvPr/>
        </p:nvSpPr>
        <p:spPr>
          <a:xfrm>
            <a:off x="3773520" y="2322360"/>
            <a:ext cx="623880" cy="685800"/>
          </a:xfrm>
          <a:prstGeom prst="rightArrow">
            <a:avLst>
              <a:gd name="adj1" fmla="val 56148"/>
              <a:gd name="adj2" fmla="val 39694"/>
            </a:avLst>
          </a:prstGeom>
          <a:solidFill>
            <a:srgbClr val="00ff00"/>
          </a:solidFill>
          <a:ln w="15840">
            <a:solidFill>
              <a:srgbClr val="008000"/>
            </a:solidFill>
            <a:miter/>
          </a:ln>
          <a:effectLst>
            <a:outerShdw dist="17819" dir="2700000" blurRad="0" rotWithShape="0">
              <a:srgbClr val="004d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88"/>
          <p:cNvSpPr/>
          <p:nvPr/>
        </p:nvSpPr>
        <p:spPr>
          <a:xfrm>
            <a:off x="4605480" y="2025720"/>
            <a:ext cx="4116240" cy="12027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  <a:effectLst>
            <a:outerShdw dist="17819" dir="2700000" blurRad="0" rotWithShape="0">
              <a:srgbClr val="0099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emcitabine 1000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 1,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rboplatin AUC 5 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SI201 5.6 mg/kg D 4,8,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89"/>
          <p:cNvSpPr/>
          <p:nvPr/>
        </p:nvSpPr>
        <p:spPr>
          <a:xfrm>
            <a:off x="4649760" y="3811680"/>
            <a:ext cx="4116240" cy="78552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  <a:effectLst>
            <a:outerShdw dist="17819" dir="2700000" blurRad="0" rotWithShape="0">
              <a:srgbClr val="0099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emcitabine 1000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 1,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rboplatin AUC 5 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0"/>
          <p:cNvSpPr/>
          <p:nvPr/>
        </p:nvSpPr>
        <p:spPr>
          <a:xfrm>
            <a:off x="3030480" y="2228760"/>
            <a:ext cx="368280" cy="2284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2"/>
          <p:cNvSpPr/>
          <p:nvPr/>
        </p:nvSpPr>
        <p:spPr>
          <a:xfrm>
            <a:off x="384120" y="2598840"/>
            <a:ext cx="2322720" cy="112896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C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operable locally adv/ metastatic d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quam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1:19:19Z</dcterms:created>
  <dc:creator>Research To Practice</dc:creator>
  <dc:description/>
  <cp:keywords/>
  <dc:language>en-US</dc:language>
  <cp:lastModifiedBy>Mac Pro E703803Y4PC</cp:lastModifiedBy>
  <dcterms:modified xsi:type="dcterms:W3CDTF">2011-05-11T18:05:16Z</dcterms:modified>
  <cp:revision>363</cp:revision>
  <dc:subject/>
  <dc:title>PowerPoint Presentation</dc:title>
</cp:coreProperties>
</file>