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55ED-4E31-4FF6-947A-D4A8297400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F4EF-086D-4C84-83C5-D6CEB7E17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D26F-3EAE-4021-90F8-64896B16C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D9C6-ABF4-4B5D-BB12-EDEB5A5E3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EFEC-A05D-42D6-BB15-7A403D7B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A178-B12B-4935-9FA6-6BAAB1C1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DC3D-F48F-4B24-9436-9512BB80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FCB0-BE9A-4C5F-AEAF-1CEC419F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9326-01A9-451A-B7F7-E631489D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99F-9EAE-493C-9A8B-44EE7BA9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944C-10E8-4C6D-BA7C-14FE16D1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A8AA-58EE-4A54-B080-A7DDCB7F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8968-50F1-4291-BA48-AB6D0170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EF5D-5D51-4F17-8EEE-053BB68C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B662-DF7D-492C-BEA5-02752B16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AEE8-B31B-4E43-B55B-4503EA24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23DF-7D4E-4D8F-8B6F-1323619181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10AC-9A80-4952-98F7-81212EE82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136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gical treatment of N2 dise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rvey I Pass, 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YU Langone Medical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ew York, New Y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7010640" cy="2266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25905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and repeat FDG-PET after induction chemotherapy, as well as complete resection specimens of both mediastinal LNs and primary tumor  were available in 30 patients with mediastinoscopy-proven N2 dise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stologic response grading was performed by means of conventional morphometric procedur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astinal response grading combined with the percentage decrease of maximum standardized uptake value (SUVmax) on the primary tumor was correlated with surviv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5791320" y="636732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J Clin Oncol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008;26:1128-3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457200" y="624852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J Clin Oncol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008;26:1128-3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3_3_Pass_Slide10"/>
          <p:cNvPicPr/>
          <p:nvPr/>
        </p:nvPicPr>
        <p:blipFill>
          <a:blip r:embed="rId1"/>
          <a:stretch/>
        </p:blipFill>
        <p:spPr>
          <a:xfrm>
            <a:off x="762120" y="685800"/>
            <a:ext cx="739116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…how to get the best assess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EBUS first to document n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just biopsy the PET-positive ones…get all of them as possible bilater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t, then reassess by mediastinosco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clearance or a “significant?” change, operate if it is to be a lobectom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ould patients with limited N2 diseas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e offered surgery after chemotherapy and/or chemoradiation therap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re is no standard definition of limited lymph node diseas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believe that lobectomy is justified if there has been mediastinal downstaging (or near downstaging – selected on an individual basis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avoid right pneumonectomies at this time because I think they do have higher risk, and there is marginal data on long-term results (especially in adenocarcinomas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y biggest problem with this whole deal is the inability to “do the whole algorithm” for mediastinal downstaging as a justification for resection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What Is Limited N2 at Presentation and Do These Definitions Merit Surgical Resection After Induction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olitary lymph node that is involv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CCN survey says: 91%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or more stations with only microscopic involvement, or all stations &gt;3 c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CCN survey says: 48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resect all the disease even if it would take a pneumonectom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CCN survey says: 5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not that easy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Initial Multidisciplinary Surgical Opin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this N2 alone or N3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T/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only N2, then where and how much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vel 2, 4 vs 5, 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vel 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lky and multis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the patient lik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mal comorbid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le to tolerate chemoradiation to “potentially curative doses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ll it take a pneumonectomy or no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this initial presentation without a biopsy ye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so, the surgeon must make the call about whether he/she will consider them for surgery after indu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itial EBUS…..post treatment mediastinoscopy/otomy/V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ile the patient is being treated, what does the surgeon think abou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going to be the mortality of this oper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 I really helping the patient if there is residual mediastinal disease/disease in the primary and can this be quantitated/determined accurately before the patient goes to the operating ro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I (or should I) do a pneumonectom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914400"/>
          <a:ext cx="8229600" cy="5070600"/>
        </p:xfrm>
        <a:graphic>
          <a:graphicData uri="http://schemas.openxmlformats.org/drawingml/2006/table">
            <a:tbl>
              <a:tblPr/>
              <a:tblGrid>
                <a:gridCol w="1523880"/>
                <a:gridCol w="1270080"/>
                <a:gridCol w="1359000"/>
                <a:gridCol w="1359000"/>
                <a:gridCol w="1358640"/>
                <a:gridCol w="1359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SWOG 88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N=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GLCC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N=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EORT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N=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INT 0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N=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RTOG 02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Induction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ch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CDDP + etopo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CDDP + etopo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(Carbo/V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p R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CDDP combinations and surg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CDDP + etopo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Carbo + tax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Induction X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5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5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5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61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Mediastinal clea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5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6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Overall survi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6% (3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1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6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7.2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77% (1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</a:tr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OS mediastinal clea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4% (3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7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9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1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7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OS residual mediastinal dis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8% (3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7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7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4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Operative mort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9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9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7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Pneumonectomy mort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6-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7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025720" y="1295280"/>
            <a:ext cx="4638600" cy="5410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38160" y="12600"/>
            <a:ext cx="910908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09480" y="960480"/>
          <a:ext cx="8077320" cy="5448240"/>
        </p:xfrm>
        <a:graphic>
          <a:graphicData uri="http://schemas.openxmlformats.org/drawingml/2006/table">
            <a:tbl>
              <a:tblPr/>
              <a:tblGrid>
                <a:gridCol w="2286000"/>
                <a:gridCol w="2210040"/>
                <a:gridCol w="2133360"/>
                <a:gridCol w="1447920"/>
              </a:tblGrid>
              <a:tr h="68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Postoperative ev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Resection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(N = 4851)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No. of resections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Induction therapy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(N = 525)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No. of resections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 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Bronchoscop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62 (3.34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3 (6.29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00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Mechanical ventilation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&gt; 48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5 (0.72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 (0.57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57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Reintub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86 (3.83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2 (4.19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9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Tracheosto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62 (1.28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7 (1.33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87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ARD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68 (1.40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9 (1.71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77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Pneumo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12 (4.37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5 (4.76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9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Empyem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3 (0.47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 (0.38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65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Seps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5 (0.72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 (0.19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12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Blood transfu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84 (7.92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93 (17.71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&lt;.0001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Postoperative outcom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0-d morta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89 (1.83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2 (2.29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46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Discharge morta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81 (1.67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9 (1.71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93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Median length of stay (d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5 SD 6.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5 SD 5.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05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Length of stay &gt; 14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34 (6.89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1 (5.90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93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Composite of major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morbid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47 (9.21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55 (10.5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33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72"/>
          <p:cNvSpPr/>
          <p:nvPr/>
        </p:nvSpPr>
        <p:spPr>
          <a:xfrm>
            <a:off x="0" y="92160"/>
            <a:ext cx="914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ostoperative events and outcomes in resection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nd induction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27"/>
          <p:cNvSpPr/>
          <p:nvPr/>
        </p:nvSpPr>
        <p:spPr>
          <a:xfrm>
            <a:off x="609480" y="6477120"/>
            <a:ext cx="769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ns NR 3rd et al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 Thorac Cardovasc Sur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010;139(4):991-6.e1-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752480" y="990720"/>
          <a:ext cx="5664240" cy="5317920"/>
        </p:xfrm>
        <a:graphic>
          <a:graphicData uri="http://schemas.openxmlformats.org/drawingml/2006/table">
            <a:tbl>
              <a:tblPr/>
              <a:tblGrid>
                <a:gridCol w="1676520"/>
                <a:gridCol w="1270080"/>
                <a:gridCol w="1359000"/>
                <a:gridCol w="135864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We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Mans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Gaiss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Induction ch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N=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N=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Induction chem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N=141 (45G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N=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Mediastinal downstag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6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Overall survi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3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</a:tr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OS mediastinal clea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56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OS residual mediastinal dis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1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Operative mort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Pneumonectomy mort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ustification for Pneumonectom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We digress on pneumonectomies…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ucial Points (to 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are doing a lobectomy, the mortality is low (~ 3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nly winners are those with mediastinal nodal downstaging (doubling of surviv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what if it is not COMPLETELY downstaged and you only find, say, 10% viable in the nodes??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how the hell can you estimate 10% in the nod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01:21:32Z</dcterms:created>
  <dc:creator>Research To Practice</dc:creator>
  <dc:description/>
  <cp:keywords/>
  <dc:language>en-US</dc:language>
  <cp:lastModifiedBy>Mac Pro E703803Y4PC</cp:lastModifiedBy>
  <cp:lastPrinted>2011-04-20T19:59:52Z</cp:lastPrinted>
  <dcterms:modified xsi:type="dcterms:W3CDTF">2011-06-08T18:05:24Z</dcterms:modified>
  <cp:revision>51</cp:revision>
  <dc:subject/>
  <dc:title>PowerPoint Presentation</dc:title>
</cp:coreProperties>
</file>