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489B-49B9-4615-9339-DFE213CDB8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EDA2-E664-4247-949E-785398B9D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5182-212B-4074-AC2F-F0B92A063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3EE7-CDA6-4757-908D-ED8982E7B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5A8-7AB6-4B7A-BDC0-7B033B6B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2D5-D918-4670-9482-AE7A5F4E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F22-359F-47B1-9B38-6C4BF6C3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47E5-B020-42F7-B867-12DDC0A7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CB51-6305-4674-AF5C-0B6FA75D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927F-2824-41F0-8015-392E8AA5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1F21-E4B2-40A6-81CE-66845E3D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5994-80B8-4B74-9542-5BA1EE81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62A7-C2D8-4727-9400-EA174CFE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9E81-2441-4297-9C3F-3063F716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3A72-D772-4B34-9EC8-05D69F94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98D-145D-4E3C-ACBB-1DA12461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20A3-866D-41AE-A86B-2466C207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74A6-3610-4693-AB33-321CA38B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BC23-6AD6-4CE4-AB1F-88E45870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84E9-1339-4BEA-A6DE-A2D635A5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B430-63C1-4780-A4D4-21D56330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A8B-79E0-4069-BEFB-B2A5C3B3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93D-C181-4DCB-9CAD-FE628D5A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23E-B6A1-4763-B79E-51DF5322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782-FE8E-4D00-A886-E631686E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37C-73E0-4967-AFF7-28657C08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56B-76BA-4618-A2E6-54598080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8E4-0C10-4225-A270-9336C7F8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D398-68C4-4312-AD3D-35334F24B4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1FC0-E4A2-4E28-8C99-5E22DC7A6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2453-DEC2-438A-B870-9711F4CD4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iques to st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ediastinum —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EBUS the standard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rvey I Pass, 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YU Langone Medical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ew York, New Y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Day Mediastinosco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9903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Video Assisted Mediastinoscop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tter, but not statistically better than conventional (comparing results with resection nod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413680" y="624852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n Thorac Surg 2010;89:1577– 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ight Arrow 7"/>
          <p:cNvSpPr/>
          <p:nvPr/>
        </p:nvSpPr>
        <p:spPr>
          <a:xfrm>
            <a:off x="762120" y="4876920"/>
            <a:ext cx="457200" cy="28548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80880" y="5931000"/>
            <a:ext cx="4572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orbidity  wa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9%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the VAM group including perioperative bleeding , left recurrent laryngeal injury and  chyle l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371600" y="2743200"/>
          <a:ext cx="6934320" cy="248436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  <a:gridCol w="1733400"/>
                <a:gridCol w="1733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n = 39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deo-Assisted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n = 1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n = 5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 positiv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 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se 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se 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(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(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(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3" name="Text Box 121"/>
          <p:cNvSpPr/>
          <p:nvPr/>
        </p:nvSpPr>
        <p:spPr>
          <a:xfrm>
            <a:off x="1371600" y="5257800"/>
            <a:ext cx="68580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acotomy for pulmonary resection was not performed in all but 11 cases because mediastinoscopy revealed mediastinal lymph node metastasis.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oracotomy with lymph node sampling or dissection was not performed; thus, the results of mediastinoscopy could not be compared with final pathology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dal Size and EB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-37% patients with nodes negative by CT criteria are found to have nodal involvement upon surgical sta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n EBUS be trusted to routinely give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rrect assessment of these nod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038480" y="59436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th F., et al, ERJ 2007;n 28: 910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oes Nodal Size Mat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12840" y="1224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enter study of patients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T negative mediastinal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slice CT imaging followed by routine WLB and then EB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nodes 5-10mm punctu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486400" y="640080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h F., et al, ERJ 2007; 28: 910-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598560" y="5643720"/>
            <a:ext cx="5155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ity, 92.3%; Specificity, 100%; NPV 96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4_3_Pass_Slide6"/>
          <p:cNvPicPr/>
          <p:nvPr/>
        </p:nvPicPr>
        <p:blipFill>
          <a:blip r:embed="rId1"/>
          <a:stretch/>
        </p:blipFill>
        <p:spPr>
          <a:xfrm>
            <a:off x="4503600" y="1224000"/>
            <a:ext cx="3586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diastinoscopy vs EBUS: Suspected Lung Cancer and Enlarged CT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5718240" y="632448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 Thorac Oncol. 2008;3: 577–5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838080" y="91440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BUS was performed either as separate procedure under moderate sedation and within 1 week before mediastinoscopy or concurrently at the time of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diastinoscopy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under general anesthe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04920" y="4952880"/>
            <a:ext cx="86104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ysis of the cases where there was disagreement revealed that there were more cases when EBUS-TBNA resulted in definitive diagnosis and mediastinoscopy was negative (18%) compared with when mediastinoscopy yielded a positive diagnosis and EBUS-TBNA was negative (5%;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p&lt; 0.00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mbined EBUS and mediastinoscopy yielded accurate result in 95%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3"/>
          <p:cNvGrpSpPr/>
          <p:nvPr/>
        </p:nvGrpSpPr>
        <p:grpSpPr>
          <a:xfrm>
            <a:off x="380880" y="3301920"/>
            <a:ext cx="8382240" cy="1676520"/>
            <a:chOff x="380880" y="3301920"/>
            <a:chExt cx="8382240" cy="1676520"/>
          </a:xfrm>
        </p:grpSpPr>
        <p:sp>
          <p:nvSpPr>
            <p:cNvPr id="137" name="TextBox 11"/>
            <p:cNvSpPr/>
            <p:nvPr/>
          </p:nvSpPr>
          <p:spPr>
            <a:xfrm>
              <a:off x="380880" y="3301920"/>
              <a:ext cx="4114800" cy="167652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Underwent subsequent surgical res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-small cell lung cancer n = 4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No further surgery n =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rcoidosis n =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ymphoma n 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berculosis n 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2"/>
            <p:cNvSpPr/>
            <p:nvPr/>
          </p:nvSpPr>
          <p:spPr>
            <a:xfrm>
              <a:off x="4648320" y="3301920"/>
              <a:ext cx="4114800" cy="167652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Underwent surgical resection and diagno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-small cell lung cancer n = 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mall cell lung cancer n 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berculosis n 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ronic inflammation n =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9" name="Straight Arrow Connector 15"/>
          <p:cNvCxnSpPr/>
          <p:nvPr/>
        </p:nvCxnSpPr>
        <p:spPr>
          <a:xfrm flipH="1">
            <a:off x="3276360" y="1523880"/>
            <a:ext cx="129600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Straight Arrow Connector 21"/>
          <p:cNvCxnSpPr/>
          <p:nvPr/>
        </p:nvCxnSpPr>
        <p:spPr>
          <a:xfrm>
            <a:off x="4648320" y="1523880"/>
            <a:ext cx="109440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TextBox 8"/>
          <p:cNvSpPr/>
          <p:nvPr/>
        </p:nvSpPr>
        <p:spPr>
          <a:xfrm>
            <a:off x="2552760" y="1447920"/>
            <a:ext cx="4038480" cy="3373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BUS-TBNA and Mediastinoscopy n =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4"/>
          <p:cNvCxnSpPr/>
          <p:nvPr/>
        </p:nvCxnSpPr>
        <p:spPr>
          <a:xfrm flipH="1">
            <a:off x="2285640" y="2653200"/>
            <a:ext cx="129600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Straight Arrow Connector 25"/>
          <p:cNvCxnSpPr/>
          <p:nvPr/>
        </p:nvCxnSpPr>
        <p:spPr>
          <a:xfrm>
            <a:off x="5562720" y="2653920"/>
            <a:ext cx="109440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TextBox 9"/>
          <p:cNvSpPr/>
          <p:nvPr/>
        </p:nvSpPr>
        <p:spPr>
          <a:xfrm>
            <a:off x="1905120" y="2197080"/>
            <a:ext cx="2590560" cy="82404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ve histological diagnosis n = 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rom either proced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648320" y="2197080"/>
            <a:ext cx="2185920" cy="8380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diagnostic n = 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y either proced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"/>
          <p:cNvPicPr/>
          <p:nvPr/>
        </p:nvPicPr>
        <p:blipFill>
          <a:blip r:embed="rId1"/>
          <a:srcRect l="0" t="9802" r="0" b="0"/>
          <a:stretch/>
        </p:blipFill>
        <p:spPr>
          <a:xfrm>
            <a:off x="1066680" y="3352680"/>
            <a:ext cx="6794640" cy="3505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slide03"/>
          <p:cNvPicPr/>
          <p:nvPr/>
        </p:nvPicPr>
        <p:blipFill>
          <a:blip r:embed="rId2"/>
          <a:srcRect l="4758" t="13704" r="4758" b="16313"/>
          <a:stretch/>
        </p:blipFill>
        <p:spPr>
          <a:xfrm>
            <a:off x="1295280" y="1143000"/>
            <a:ext cx="2854440" cy="2144880"/>
          </a:xfrm>
          <a:prstGeom prst="rect">
            <a:avLst/>
          </a:prstGeom>
          <a:ln w="15840">
            <a:solidFill>
              <a:srgbClr val="92d050"/>
            </a:solidFill>
            <a:miter/>
          </a:ln>
        </p:spPr>
      </p:pic>
      <p:pic>
        <p:nvPicPr>
          <p:cNvPr id="148" name="Picture 3" descr=""/>
          <p:cNvPicPr/>
          <p:nvPr/>
        </p:nvPicPr>
        <p:blipFill>
          <a:blip r:embed="rId3"/>
          <a:srcRect l="15412" t="6411" r="0" b="8617"/>
          <a:stretch/>
        </p:blipFill>
        <p:spPr>
          <a:xfrm>
            <a:off x="4724280" y="1219320"/>
            <a:ext cx="2819520" cy="20653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do-bronchial/esophageal technique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petition or Adjun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1905120" y="3352680"/>
            <a:ext cx="817560" cy="2438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7720" y="32508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anEndoscopic Staging of Consecutiv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atients with Suspected Lung Canc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ight Arrow 2"/>
          <p:cNvSpPr/>
          <p:nvPr/>
        </p:nvSpPr>
        <p:spPr>
          <a:xfrm>
            <a:off x="114480" y="5511960"/>
            <a:ext cx="609480" cy="37116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676520"/>
          <a:ext cx="7619760" cy="430056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58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d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nsi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B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/42 (36) [22-5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123 (78) [70-8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S-F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/42 (69) [53-8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109 (88) [80-9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US-F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/42 (69) [53-8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109 (88) [80-9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S-FNA + TB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/42 (79) [63-90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105 (91) [84-96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US-FNA + TB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42 (76) [61-88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106 (91) [83-9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S-FNA +EBUS-F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/42 (93) [81-99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99 (97) [91-99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4" name="Text Box 4"/>
          <p:cNvSpPr/>
          <p:nvPr/>
        </p:nvSpPr>
        <p:spPr>
          <a:xfrm>
            <a:off x="4724280" y="6400800"/>
            <a:ext cx="428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A, February 6, 2008 — Vol 299, No.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4618440" y="1219320"/>
            <a:ext cx="24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 (%) [95% CI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Diagram 2" descr=""/>
          <p:cNvPicPr/>
          <p:nvPr/>
        </p:nvPicPr>
        <p:blipFill>
          <a:blip r:embed="rId1"/>
          <a:stretch/>
        </p:blipFill>
        <p:spPr>
          <a:xfrm>
            <a:off x="274680" y="828720"/>
            <a:ext cx="8508960" cy="2762280"/>
          </a:xfrm>
          <a:prstGeom prst="rect">
            <a:avLst/>
          </a:prstGeom>
          <a:ln w="0">
            <a:noFill/>
          </a:ln>
        </p:spPr>
      </p:pic>
      <p:pic>
        <p:nvPicPr>
          <p:cNvPr id="157" name="Content Placeholder 8" descr=""/>
          <p:cNvPicPr/>
          <p:nvPr/>
        </p:nvPicPr>
        <p:blipFill>
          <a:blip r:embed="rId2"/>
          <a:stretch/>
        </p:blipFill>
        <p:spPr>
          <a:xfrm>
            <a:off x="920880" y="3581280"/>
            <a:ext cx="6699240" cy="28958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Mediastinoscopy vs Endosonography for Mediastinal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Nodal Staging of Lung Cancer: A Randomized Tr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5793840" y="641520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MA. 2010;304(20):2245-2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to do for  negative EBUS in the radiologically worrisome situ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351080" y="1523880"/>
            <a:ext cx="4829040" cy="51055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5966280" y="489096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voided Futile Thoracot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4"/>
          <p:cNvCxnSpPr/>
          <p:nvPr/>
        </p:nvCxnSpPr>
        <p:spPr>
          <a:xfrm flipH="1">
            <a:off x="4876560" y="5105160"/>
            <a:ext cx="10929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4" name=""/>
          <p:cNvSpPr/>
          <p:nvPr/>
        </p:nvSpPr>
        <p:spPr>
          <a:xfrm>
            <a:off x="5334120" y="62485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n Thorac Surg 2010;90:1753–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BUS-FNA, if available, is a reasonable alternative to mediastinoscopy for primary evaluation of the mediastinu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ably = NPV in experienced hands, even with nodes close to 1 c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ably less potential co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BUS-FNA and EUS are synergist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patients with radiologic evidence of N2 disease (large nodes, PET avid nodes) and negative (lymphocytes present or not but no cancer) findings on EBUS/EUS aspirate,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invasive staging with mediastinoscopy, mediastinotomy, or VATS should be perform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229600" cy="127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l IIIA-N2 disease staging was confirmed by cervical mediastinoscopy (63 patients [51%]), by EUS-FNA (28 patients [22%]), or by EBUS-TBN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33 patients [27%]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5945760" y="6303960"/>
            <a:ext cx="28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CO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6: 20, 2008, 3346-3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2120" y="2438280"/>
          <a:ext cx="7619760" cy="3483000"/>
        </p:xfrm>
        <a:graphic>
          <a:graphicData uri="http://schemas.openxmlformats.org/drawingml/2006/table">
            <a:tbl>
              <a:tblPr/>
              <a:tblGrid>
                <a:gridCol w="1981080"/>
                <a:gridCol w="2819520"/>
                <a:gridCol w="2819160"/>
              </a:tblGrid>
              <a:tr h="703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comes for Restaging EBUS-TBNA According to Tumor Response After Chemotherapy as Assessed by RECIST Cri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umor Response Outcome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i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al Response (n = 6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ble Disease (n = 5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u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14"/>
          <p:cNvSpPr/>
          <p:nvPr/>
        </p:nvSpPr>
        <p:spPr>
          <a:xfrm>
            <a:off x="762840" y="5981760"/>
            <a:ext cx="574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V, positive predictive value; NPV negative predictive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EB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1371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BUS combines an endoscopic image with an ultrasound probe, giving a sonographic image through the airway w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re commonly used linear probe EBUS has a lower frequency (7.5 MHz) with lower resolution but better depth penetration (up to 9 cm), allowing a sonographic view of mediastinal struc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cedure can be combined with Rapid On Site Evaluation (ROSE) to assess cytology posi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79360" y="5334120"/>
            <a:ext cx="86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other techniques are available for staging the mediastinu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ggestion for Future N2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 evaluation by PET/CT directed EBUS biop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ction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-evaluation with CT to look for response (Possibly with CT-P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EBUS biop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ersistent disease, decide on course of 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negative by EBUS, perform mediastinoscopy to rule out false negative EB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le 2"/>
          <p:cNvSpPr/>
          <p:nvPr/>
        </p:nvSpPr>
        <p:spPr>
          <a:xfrm>
            <a:off x="304920" y="6858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ther Techniques Us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 Stage the Mediasti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ontent Placeholder 4"/>
          <p:cNvSpPr/>
          <p:nvPr/>
        </p:nvSpPr>
        <p:spPr>
          <a:xfrm>
            <a:off x="762120" y="1981080"/>
            <a:ext cx="6248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aling node biops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stinosco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mberlain proced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ideo-assisted mediastinosco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doesophageal ultras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re the advantages and disadvantag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EBUS? The Company 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248436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mally Inva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rbid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ectious/mediastin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to hilar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723920" y="2484360"/>
            <a:ext cx="403884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 front capital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, needle, staff, repair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cur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questions must be answered to declare it “the standar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EBUS do overall in staging the mediastinu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EBUS do for staging the normal mediastinu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re any EBUS blindspo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EBUS compare directly to mediastinoscop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ventional Wisd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185080" y="633888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. Rev. Clin. Oncol. 6, 278–286 (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676520"/>
          <a:ext cx="6858000" cy="25956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vestig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nsi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cifi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stin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oscopic ultra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obronchial ultra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al Time-Linear EB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236600"/>
          <a:ext cx="8381880" cy="297180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447560"/>
                <a:gridCol w="1524240"/>
                <a:gridCol w="685800"/>
                <a:gridCol w="707760"/>
                <a:gridCol w="1197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udy /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nsitivity 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cificity 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P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N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ncer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rth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uwens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th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cent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e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ntoul/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ade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6858000" y="1160640"/>
            <a:ext cx="838080" cy="3124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le 1"/>
          <p:cNvSpPr/>
          <p:nvPr/>
        </p:nvSpPr>
        <p:spPr>
          <a:xfrm>
            <a:off x="457200" y="4572000"/>
            <a:ext cx="8229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the low NPV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30492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lymph no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ing err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-6480" y="609480"/>
            <a:ext cx="9122040" cy="3716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304920" y="3048120"/>
            <a:ext cx="4114800" cy="609480"/>
          </a:xfrm>
          <a:prstGeom prst="rect">
            <a:avLst/>
          </a:prstGeom>
          <a:solidFill>
            <a:srgbClr val="ffff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04920" y="3657600"/>
            <a:ext cx="4114800" cy="380880"/>
          </a:xfrm>
          <a:prstGeom prst="rect">
            <a:avLst/>
          </a:prstGeom>
          <a:solidFill>
            <a:srgbClr val="ffff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6"/>
          <p:cNvCxnSpPr>
            <a:endCxn id="111" idx="0"/>
          </p:cNvCxnSpPr>
          <p:nvPr/>
        </p:nvCxnSpPr>
        <p:spPr>
          <a:xfrm flipV="1">
            <a:off x="380880" y="3657240"/>
            <a:ext cx="1982160" cy="19058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667400" y="6324480"/>
            <a:ext cx="3771720" cy="324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The Reported FN Of “Historical” Mediastinoscop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7011360" y="99072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~10% F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1676520"/>
          <a:ext cx="7238880" cy="4457520"/>
        </p:xfrm>
        <a:graphic>
          <a:graphicData uri="http://schemas.openxmlformats.org/drawingml/2006/table">
            <a:tbl>
              <a:tblPr/>
              <a:tblGrid>
                <a:gridCol w="1828800"/>
                <a:gridCol w="1066680"/>
                <a:gridCol w="1447920"/>
                <a:gridCol w="1447920"/>
                <a:gridCol w="1447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udy/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tients, 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nsitivity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cificity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N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mmoud et al/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ghlin et al/1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 et al/19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Leyn et al/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dinois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on et al/1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lly et al/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tto et al/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ner et al/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deedo et al/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effe et al/1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by et al/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01:59:22Z</dcterms:created>
  <dc:creator>Research To Practice</dc:creator>
  <dc:description/>
  <cp:keywords/>
  <dc:language>en-US</dc:language>
  <cp:lastModifiedBy>Mac Pro E703803Y4PC</cp:lastModifiedBy>
  <cp:lastPrinted>2011-04-21T02:39:47Z</cp:lastPrinted>
  <dcterms:modified xsi:type="dcterms:W3CDTF">2011-05-11T17:42:43Z</dcterms:modified>
  <cp:revision>22</cp:revision>
  <dc:subject/>
  <dc:title>PowerPoint Presentation</dc:title>
</cp:coreProperties>
</file>