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7.pct" ContentType="image/x-pict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4.pct" ContentType="image/x-pict"/>
  <Override PartName="/ppt/media/image4.jpeg" ContentType="image/jpeg"/>
  <Override PartName="/ppt/media/image5.jpeg" ContentType="image/jpeg"/>
  <Override PartName="/ppt/media/image10.pct" ContentType="image/x-pict"/>
  <Override PartName="/ppt/media/image8.pct" ContentType="image/x-pict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3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ftr" idx="3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 type="sldNum" idx="3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B99F-4A95-4F13-84DB-3117D7B4F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BB1B-74B8-4739-AFDD-536695B20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2036-CE51-4E05-837D-D94FA464F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5A17-4FCF-4C40-8023-AA992C21D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EC47-F2F1-4142-88F3-5BEBFEBC2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901C-683F-435B-BCB9-CD45EC683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6E4D-5496-420D-AEFD-7B440C9B7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5476-F818-4514-870B-C5D90BE91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2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4FB6-1B5A-4D36-8039-914D4BE22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4AFF-4D55-4A28-B136-154969860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6D7E-04DC-4D86-8087-B62356705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0EE5-5664-4C9A-9542-1F658F6E2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67BF-1BF9-4E5F-BC6F-FFBED816E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56D4-39A6-4B24-B050-0F3ABE7DA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2C19-E557-4EDD-A97E-BBE0FE73C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2D1E-E3D9-4AD3-87BA-311FCA3E0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66C5-D69C-4272-9EBC-934FEBFE7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24A-44A2-4742-B9D9-C2542AE39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5D69-9578-4094-9587-1DABA7ED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EB53-DA27-47D5-AB1C-21C8EC311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883C-53B7-4A69-BEE6-14092FBD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560E-5448-4493-8E91-AEA511009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AC86-E004-4516-BA77-9F1ED6C65B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4D47-F1D5-4CB3-B25A-85A9C87FD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D7DBD-4934-4C17-B338-9E59960B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5DBC5-030D-4FE7-84E4-F39C7F1E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57B0F-C929-43E5-A3F7-95F40147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F6CEF-765D-47A1-97E9-4E92E6DF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27488-841F-4241-B800-2AC4A8F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0E516-4699-4D1D-AD18-BA383DE7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22C62-49CF-4265-BC0A-0E5F6CED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8D4E1-B825-49FE-897E-C7FE5069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33317-CD86-4A4E-A5FD-569FB772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7F5F5-0795-4A84-A0F4-58BA119C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8FDB3-E9EB-4D06-A3C0-B0FC7C8E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19685-9123-4936-8368-A5B68C1A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085DA-6A2D-45F3-92BC-FE244F06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EEBE3-152E-4F2F-ACB6-CA7A59C9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1F7B5-A489-4FF1-A9CF-98C53AA0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4B8C6-0E74-4621-836D-D5F0770F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50C85-FD7D-4113-B7B9-65884D57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D84F1-C599-4CA7-B5FC-EC52C321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AEC7D-7541-4391-9888-164BE4C0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4189A-EDCA-408F-8D67-49A1D4DF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C280F-581F-4FCD-92F3-78E09E3A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C7394-8ACE-436B-924F-ED9CE6D8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8AA6E-F347-4C83-BE17-D6601B47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C1451-1F9D-4DC8-A19C-5E073E69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EA750-1C03-482E-92FF-BE2E2784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A9F1A-EB8F-4489-A0E8-62D73CC7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F2BEE-4ADF-48DD-BA83-3BD2F38D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AEA04-36E0-4437-AD14-92BDAA6D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9C65D-1853-4CFB-9504-C3331C70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CC320-140D-421B-B7AB-01BC60C0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FAF-B011-40AC-9CCD-B87145CE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3795D-BFAD-4FD7-A17F-C33D8C7D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D3807-6907-426C-A7E9-0CAFD299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91B18-B3BA-46C7-BAA6-5D35BE9D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4D6F6-A819-41F5-9138-90209736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3D4B9-7770-4278-B425-6AFFE84B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5D203-A6DE-449E-A6C6-EA2D2929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4F420-A971-404B-8A06-08F497DC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CB4AE-CD3B-49CD-B5A3-1A7F0ACD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39D35-BFAF-4F82-B762-5A993E87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182FA-DD26-4438-9FA0-2DF6D050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42A-9B5F-40E5-81DE-E0AB1E9A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46713-7E63-416B-82BB-78AC959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08F12-132B-4737-A88C-E4F873DF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9D8A0-7F88-40B4-B754-ABC6D429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8FCAB-E169-4FD8-8F60-619D6677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02AD1-D2FD-471A-BAEC-F869C41C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6B2C5-75BD-43B2-A0C1-49571037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435BC-321F-4877-98F1-80708D80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C66CD-71B8-47DA-9BA4-1B5AD713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36404-F44E-405B-97B8-4397432A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F1AF0-0A92-4B5D-9DDA-A9DBA93E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682-1AC6-48B9-8D12-542B0F4B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0E531-874C-46DF-B916-811F6C23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25A26-67CC-416A-B8BE-9AA1BF54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CC363-1D39-4451-A908-238CA496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9F526-EA74-4797-875A-3B1EB7E8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D5466-1746-4AB0-BA32-6A772A8F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AD6B6-9541-49A6-8CB1-D05ECCB8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ACCF9-219A-4A8D-A2F8-9D73A590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C0D-BBFB-4809-8307-904EE271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5EA-3E22-4A74-A6CC-4C1B2451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903-E72A-4754-8BCE-B4FAFBFA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29D-FBD7-4CD4-AE46-BD0FCF2E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04B-3800-4843-9623-6E27045B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29C-2BE9-47B2-B176-E6518A83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6C1-0088-41DC-884F-A3483C30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BFF-75E1-469A-85F6-3E8337E8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ACE-DE72-422E-A8E3-B7A4C12A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3A54-1240-46A4-B7A3-00697DD9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C6D1-B25B-4CAF-BD38-8CC8340B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06B5-43E9-452F-B44B-66DA9A79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D1B6-9E64-4CA4-A48B-0A0DCE0D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BBB-D0A1-4D8C-A303-A5287F52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AED3-4715-4E5F-875E-DC260DCA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F1F6-96B0-4A61-80A0-E7A1C7C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BB89-CDA3-4B2E-808F-9BDF796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D23B-F270-467F-B2BF-DB7D88B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02E5-C450-47BE-B2EF-20ABFA6A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43AC-97B2-4EC3-92A3-D52F67CF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C1F9-5FEB-4601-8A0F-5C063728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20262-50A8-417F-A177-E626785C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7F6B-B1E8-4F28-9F63-65C6D523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0DCA-CE9B-4EA4-ADD4-45B1C43E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9089D-AA27-4C86-8927-B8C99E92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0E33-0B9E-4FE1-8C07-0C9322DE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328F5-AE3C-4B6B-BE77-4B9167EC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5B20-0421-485D-B2D4-AEF144BE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26CD-075B-4DA4-945E-5183F373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C4E21-D47B-45EF-80AD-D671AD1B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91F4-5AD0-48FA-ADC4-C9D896F5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6902-1AB6-47E8-8D8D-1DFF9BDA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7F44-5CCB-472E-9546-FB9759BA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174BC-A120-43E0-8B87-325B001D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37790-B9D0-4390-989A-1CAB5296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8951A-E139-478D-B2E7-7C29F404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E68D3-C5A6-4302-99F9-63CDADD2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E2839-2180-44A2-BD70-288ED518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542D-1E1C-44E4-BE10-2CA61C1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B574-08C9-494C-9394-CABC581C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21F5-CF4B-45C3-AEC8-17F77960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7969A-5C7F-4C4E-9A04-A7D89B9D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D07F-843E-458C-ADF5-87F74B65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66FF-B730-4EB3-841F-589985EC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25C72-C33F-4486-9087-FB69E2C1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653E0-8193-4EFC-9C0B-5F3B5CFF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BAD61-6834-4057-9944-AAA65A68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56C3F-B4F8-4BBF-9316-B0131DE2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41EF3-64E8-42D2-A224-D02AC688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FEA44-9C61-4829-AC25-586CE8DA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1F698-1E2C-4129-8A37-B58CFA29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6AD2D-91BF-454F-87E8-E2E16C2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CC5BC-060A-44DE-B44E-27F0279C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BBF63-0012-411F-A0FA-38D97C1A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7B8E4-BAE0-443F-B502-5A484B8B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E04D-0DA9-4762-A6A7-62BCC8B7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62F6B-7351-4F83-9C22-121CBED6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3B66-DA72-4D54-A26C-8501BAFF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550D-3FA2-4FA2-95D1-6D77C91B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DCA98-5520-4510-9D7F-5235DD62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55584-58E3-44BB-B86C-591AE3CA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A93F-5EAC-4450-BC58-A17E1E70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F6065-3E70-47B4-BF4F-FAE9DA73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68874-77E1-4809-B6D6-6B46BC7A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195D0-68E1-4638-BD96-6145728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CD7FA-56E2-458D-AFBA-B24F769C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DB757-A1A1-4594-86C8-FFA1EC32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C5926-72C9-4FD5-8DF9-A0A0A686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DF7EA-61FA-4100-97F8-823A98AF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A1F5D-CAAD-42EA-95E7-C09FBC2C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1820B-A793-4B06-8287-80F20B30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5674B-7A90-46CA-BE44-1D24631F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913B6-1F4B-49A8-AA21-13EEC4F9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FE207-60A0-4A97-B115-4140F861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E8345-AD8B-4FEE-85CE-E8E32305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0F7BC-7226-4A1F-B897-071330FB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E66AB-767E-4614-9BA0-83FD5241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72D1D-C4B7-4617-91BB-E5526B2D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04199-A537-498C-B0BA-0CFC1402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02D6D-0186-4D6D-907C-B577E8E8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C4DEC-B4D2-413B-8600-03999B3F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1C112-A50F-42B5-86FC-700EA375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EF4D0-61CD-4A1A-851E-FF89E038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833F8-7A11-4FC9-9C4B-81C79D70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9FE-E09D-4BF3-89EE-4DB0EEDE257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3E60-8221-4371-9547-390023A6B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5CF3-54F6-4475-9F92-2F54F246664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7E85-1A13-4203-A267-CDCC4F131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22CC-DAEF-4FFF-9BFC-578874A84B6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F8FB-1C85-465D-BFB8-D92C23BED2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CDAB-2145-4079-A6B7-C3FC6A0779C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2A42-06D6-44E7-9EBB-9A6BA0ECC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108B-0E29-463B-A51A-0F4781D3614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603C-05CE-4A08-887F-3083E1D223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9FDF-9D93-4A3B-8E9C-BD0DE91AC50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77AC-3A4A-4DCA-AC98-B0D9D51DF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2038-E835-48E0-BF26-9CA43D0387A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F12B-7043-4585-8B3E-B6F64DD51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844A-A540-49EA-90B1-20FC9930160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A7D6-5B5C-4D7F-AB4A-498CC74DA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DD70-7EB9-43B1-A80F-5BA90DB046C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D667-067F-4005-A039-D55C98552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630D-EBE2-4FB3-9BE4-F55FE42144C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E7C8-C7F6-4A69-8528-2CDE7A59AE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A6FC-114B-486D-8A63-69CE0FB2957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9908-BA24-4815-9084-5D06A7FD4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970A-1724-4934-A9CB-DCBEFB7BA9A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ED47-B082-4B5B-92A5-87D81DF41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ct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emory_background2"/>
          <p:cNvPicPr/>
          <p:nvPr/>
        </p:nvPicPr>
        <p:blipFill>
          <a:blip r:embed="rId1"/>
          <a:srcRect l="0" t="7579" r="16085" b="166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4"/>
          <p:cNvSpPr/>
          <p:nvPr/>
        </p:nvSpPr>
        <p:spPr>
          <a:xfrm>
            <a:off x="228600" y="3124080"/>
            <a:ext cx="7162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ter J Curran, Jr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ship Cancer Institute of Emory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lanta, 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Chai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on Therapy Oncolog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04920" y="6029280"/>
            <a:ext cx="2049480" cy="53028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0676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reotactic RT in Early Stage Lung Cancer 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Is the Evidence Compelling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I Dose Response for Local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0" name="Object 2"/>
          <p:cNvGraphicFramePr/>
          <p:nvPr/>
        </p:nvGraphicFramePr>
        <p:xfrm>
          <a:off x="1676520" y="1932120"/>
          <a:ext cx="579096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32120"/>
                    <a:ext cx="579096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small cell lung cancer - biopsy prov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1, T2 (≤ 5 cm) and T3 (chest wall only, ≤ 5 cm), N0, M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problems preclude surge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.g. emphysema, heart disease, diabet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ther planned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TOG 0236: Preliminary Out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ed May 2004 and closed October 20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9 patients enrolled (55 evalu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2% female, median age 72 yea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ubrod performance 0 (12 patients), 1 (35), 2 (8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4 patients with T1 tumors, 11 with T2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an follow-up = 34.4 months (range 4.8-49.9 mon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457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ereotactic RT for Lung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cal Tumor Control Rate: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TOG 0236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088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 failure within PTV, 0 within 1 cm of P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6 months local control = 98% (CI: 84 -10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gional and Disseminated Recurrence: RTOG 023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patients have reported a regional failure, both after 2 years (2.8 and 3.0 ye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ven patients (20%) have experienced disseminated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1" name=""/>
          <p:cNvGraphicFramePr/>
          <p:nvPr/>
        </p:nvGraphicFramePr>
        <p:xfrm>
          <a:off x="1600200" y="2133720"/>
          <a:ext cx="6095880" cy="31496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e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(4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al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(4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(1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evalu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(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TOG 0236 : Best Observed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2" descr="SHIMMON1"/>
          <p:cNvPicPr/>
          <p:nvPr/>
        </p:nvPicPr>
        <p:blipFill>
          <a:blip r:embed="rId1"/>
          <a:srcRect l="9375" t="18750" r="6252" b="28124"/>
          <a:stretch/>
        </p:blipFill>
        <p:spPr>
          <a:xfrm>
            <a:off x="317520" y="1857240"/>
            <a:ext cx="4379760" cy="37227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" descr="SHIMMON3"/>
          <p:cNvPicPr/>
          <p:nvPr/>
        </p:nvPicPr>
        <p:blipFill>
          <a:blip r:embed="rId2"/>
          <a:srcRect l="0" t="10940" r="0" b="15627"/>
          <a:stretch/>
        </p:blipFill>
        <p:spPr>
          <a:xfrm>
            <a:off x="4762440" y="1857240"/>
            <a:ext cx="3810240" cy="3714840"/>
          </a:xfrm>
          <a:prstGeom prst="rect">
            <a:avLst/>
          </a:prstGeom>
          <a:ln w="0">
            <a:noFill/>
          </a:ln>
        </p:spPr>
      </p:pic>
      <p:sp>
        <p:nvSpPr>
          <p:cNvPr id="755" name="Oval 4"/>
          <p:cNvSpPr/>
          <p:nvPr/>
        </p:nvSpPr>
        <p:spPr>
          <a:xfrm>
            <a:off x="1397160" y="3071880"/>
            <a:ext cx="896760" cy="11653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5"/>
          <p:cNvSpPr/>
          <p:nvPr/>
        </p:nvSpPr>
        <p:spPr>
          <a:xfrm>
            <a:off x="5524560" y="3121200"/>
            <a:ext cx="896760" cy="11649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0" y="571680"/>
            <a:ext cx="9144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-Treatment Lung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Grade 3-5 Toxicity:  Location, Loca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Picture 5" descr="zone%20of%20central%20chest"/>
          <p:cNvPicPr/>
          <p:nvPr/>
        </p:nvPicPr>
        <p:blipFill>
          <a:blip r:embed="rId1"/>
          <a:stretch/>
        </p:blipFill>
        <p:spPr>
          <a:xfrm>
            <a:off x="1689120" y="1676520"/>
            <a:ext cx="5765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TOG 0618: SBRT for Operable Stage I NSCLC:  Accrual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TOG 0813: SBRT for Central Early Stage NSCL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RTOG Phase I/II Trials SB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2" name="Object 9"/>
          <p:cNvGraphicFramePr/>
          <p:nvPr/>
        </p:nvGraphicFramePr>
        <p:xfrm>
          <a:off x="165240" y="3591000"/>
          <a:ext cx="3035160" cy="226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3591000"/>
                    <a:ext cx="303516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4" name="Picture 10" descr="DSCN1573"/>
          <p:cNvPicPr/>
          <p:nvPr/>
        </p:nvPicPr>
        <p:blipFill>
          <a:blip r:embed="rId3"/>
          <a:srcRect l="0" t="0" r="0" b="2252"/>
          <a:stretch/>
        </p:blipFill>
        <p:spPr>
          <a:xfrm>
            <a:off x="3124080" y="3581280"/>
            <a:ext cx="2743200" cy="22464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1" descr="zone%20of%20central%20chest"/>
          <p:cNvPicPr/>
          <p:nvPr/>
        </p:nvPicPr>
        <p:blipFill>
          <a:blip r:embed="rId4"/>
          <a:srcRect l="0" t="0" r="0" b="5335"/>
          <a:stretch/>
        </p:blipFill>
        <p:spPr>
          <a:xfrm>
            <a:off x="5703840" y="3592440"/>
            <a:ext cx="3287880" cy="223524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12"/>
          <p:cNvSpPr/>
          <p:nvPr/>
        </p:nvSpPr>
        <p:spPr>
          <a:xfrm>
            <a:off x="685800" y="5904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c85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gitimate Alternative to Lobectomy for Stage I NSCLC????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ontrol 90% or more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 yea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r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al 60-80%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 yea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r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 III or higher toxicity &lt;15-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 less invasive than thoracot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 more conven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 less cos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roven by prospective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scuss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idence for Medically Inoperative 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and Ongoing Clinic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Operabl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III Study of Sublobar Resection (SR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us SBRT in High Risk Patients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I NSCLC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4099 / R1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 Trial between ACOSOG and RT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ved by NCI Thoracic Malignancies Steering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scertain whether patients treated by SBRT have 3-year overall survival (OS) rate that is no more than 10% less than patients treated with S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III Study of Sublobar Resection vers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RT in High Risk Patients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I NSCLC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4099 / R1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096920" y="2397240"/>
            <a:ext cx="6445440" cy="27907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552800" y="49896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ase III Study of SR vs SBRT in High Risk Pts with Stage I NSCLC:   Z4099 / R102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Inferiority Survival Design:  80% +/-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20 Pts to be Enro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Activated 3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chytherapy with Sublobar Re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RT is a new Standard for Medically Inoperable Stage I NSC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ble Patients:  Data from Phase II and Phase III Trials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 Lesions:  Data on Dose Also Pend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T Fractionation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ventionally Fractionated 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small daily do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go to very high cumulative do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tolerable for most normal tiss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ypofractionated 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larger daily doses (3-8 G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used mostly for pall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blative RT (Stereotacti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very high daily doses (8-20 G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overwhelm tumor re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causes “late” effects that may be intol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Ablative Treatments (Stereotactic)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Must Exclude Normal Tissue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for ablative hypofraction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andon prophylactic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unt for organ m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 sharper dose fall-off gradients to normal tissue (mimic radiosurge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quirements need advanced 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cyberknife1"/>
          <p:cNvPicPr/>
          <p:nvPr/>
        </p:nvPicPr>
        <p:blipFill>
          <a:blip r:embed="rId1"/>
          <a:stretch/>
        </p:blipFill>
        <p:spPr>
          <a:xfrm>
            <a:off x="762120" y="1447920"/>
            <a:ext cx="2198520" cy="26668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se Image Guid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Picture 4" descr="Varian Trilogy"/>
          <p:cNvPicPr/>
          <p:nvPr/>
        </p:nvPicPr>
        <p:blipFill>
          <a:blip r:embed="rId2"/>
          <a:stretch/>
        </p:blipFill>
        <p:spPr>
          <a:xfrm>
            <a:off x="3205080" y="1676520"/>
            <a:ext cx="2190960" cy="24256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Elekta Synergy"/>
          <p:cNvPicPr/>
          <p:nvPr/>
        </p:nvPicPr>
        <p:blipFill>
          <a:blip r:embed="rId3"/>
          <a:stretch/>
        </p:blipFill>
        <p:spPr>
          <a:xfrm>
            <a:off x="5778360" y="1828800"/>
            <a:ext cx="2451240" cy="20732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tomotherapy 1"/>
          <p:cNvPicPr/>
          <p:nvPr/>
        </p:nvPicPr>
        <p:blipFill>
          <a:blip r:embed="rId4"/>
          <a:stretch/>
        </p:blipFill>
        <p:spPr>
          <a:xfrm>
            <a:off x="1752480" y="4191120"/>
            <a:ext cx="2540160" cy="22096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7" descr="NovalisPlatform"/>
          <p:cNvPicPr/>
          <p:nvPr/>
        </p:nvPicPr>
        <p:blipFill>
          <a:blip r:embed="rId5"/>
          <a:stretch/>
        </p:blipFill>
        <p:spPr>
          <a:xfrm>
            <a:off x="5334120" y="3886200"/>
            <a:ext cx="234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act Dose De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1371600" y="2125800"/>
            <a:ext cx="6248520" cy="40464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6"/>
          <p:cNvSpPr/>
          <p:nvPr/>
        </p:nvSpPr>
        <p:spPr>
          <a:xfrm>
            <a:off x="5565240" y="3421080"/>
            <a:ext cx="2329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monary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3659760" y="3497400"/>
            <a:ext cx="1467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ron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2594160" y="4335480"/>
            <a:ext cx="1703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3430800" y="5021280"/>
            <a:ext cx="84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4114800" y="4868640"/>
            <a:ext cx="3808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1"/>
          <p:cNvSpPr/>
          <p:nvPr/>
        </p:nvSpPr>
        <p:spPr>
          <a:xfrm flipV="1">
            <a:off x="3962520" y="4258800"/>
            <a:ext cx="53316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 flipH="1">
            <a:off x="5181120" y="3649680"/>
            <a:ext cx="38124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>
            <a:off x="4572000" y="3801960"/>
            <a:ext cx="15228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4574880" y="5097600"/>
            <a:ext cx="77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5870160" y="441180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st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6"/>
          <p:cNvSpPr/>
          <p:nvPr/>
        </p:nvSpPr>
        <p:spPr>
          <a:xfrm flipH="1">
            <a:off x="5638320" y="4792680"/>
            <a:ext cx="38124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7"/>
          <p:cNvSpPr/>
          <p:nvPr/>
        </p:nvSpPr>
        <p:spPr>
          <a:xfrm>
            <a:off x="5257800" y="5326200"/>
            <a:ext cx="457200" cy="75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6095880" y="3801960"/>
            <a:ext cx="99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9"/>
          <p:cNvSpPr/>
          <p:nvPr/>
        </p:nvSpPr>
        <p:spPr>
          <a:xfrm flipH="1">
            <a:off x="5715000" y="4030560"/>
            <a:ext cx="3808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28600" y="2765520"/>
            <a:ext cx="8610480" cy="6951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" y="4172040"/>
            <a:ext cx="8610480" cy="6951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28600" y="5553000"/>
            <a:ext cx="8610480" cy="69552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BRT vs. Conventional Radio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32400" y="5541840"/>
            <a:ext cx="43020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30-45 treatments (6-9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152280" y="5553000"/>
            <a:ext cx="4303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-5 treatments (1-2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4532400" y="2757600"/>
            <a:ext cx="43020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waths” of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228600" y="2757600"/>
            <a:ext cx="43038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mall beam aper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4532400" y="3454560"/>
            <a:ext cx="43020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ekly imag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9"/>
          <p:cNvSpPr/>
          <p:nvPr/>
        </p:nvSpPr>
        <p:spPr>
          <a:xfrm>
            <a:off x="228600" y="3454560"/>
            <a:ext cx="43038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ily imag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4572000" y="4181400"/>
            <a:ext cx="4302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mo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1"/>
          <p:cNvSpPr/>
          <p:nvPr/>
        </p:nvSpPr>
        <p:spPr>
          <a:xfrm>
            <a:off x="228600" y="4149720"/>
            <a:ext cx="43038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rict mo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4532400" y="4846680"/>
            <a:ext cx="43020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mall “forgiving” daily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3"/>
          <p:cNvSpPr/>
          <p:nvPr/>
        </p:nvSpPr>
        <p:spPr>
          <a:xfrm>
            <a:off x="228600" y="4846680"/>
            <a:ext cx="43038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rge “ablative” daily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4"/>
          <p:cNvSpPr/>
          <p:nvPr/>
        </p:nvSpPr>
        <p:spPr>
          <a:xfrm>
            <a:off x="4532400" y="2063880"/>
            <a:ext cx="4302000" cy="69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-4 b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5"/>
          <p:cNvSpPr/>
          <p:nvPr/>
        </p:nvSpPr>
        <p:spPr>
          <a:xfrm>
            <a:off x="228600" y="2063880"/>
            <a:ext cx="4303800" cy="69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ny beams/a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6"/>
          <p:cNvSpPr/>
          <p:nvPr/>
        </p:nvSpPr>
        <p:spPr>
          <a:xfrm>
            <a:off x="4532400" y="1438200"/>
            <a:ext cx="430200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Conventional Radi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7"/>
          <p:cNvSpPr/>
          <p:nvPr/>
        </p:nvSpPr>
        <p:spPr>
          <a:xfrm>
            <a:off x="228600" y="1438200"/>
            <a:ext cx="430380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SB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8"/>
          <p:cNvSpPr/>
          <p:nvPr/>
        </p:nvSpPr>
        <p:spPr>
          <a:xfrm>
            <a:off x="228600" y="1438200"/>
            <a:ext cx="8605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9"/>
          <p:cNvSpPr/>
          <p:nvPr/>
        </p:nvSpPr>
        <p:spPr>
          <a:xfrm>
            <a:off x="228600" y="206388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0"/>
          <p:cNvSpPr/>
          <p:nvPr/>
        </p:nvSpPr>
        <p:spPr>
          <a:xfrm>
            <a:off x="228600" y="275760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1"/>
          <p:cNvSpPr/>
          <p:nvPr/>
        </p:nvSpPr>
        <p:spPr>
          <a:xfrm>
            <a:off x="228600" y="6238800"/>
            <a:ext cx="8605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2"/>
          <p:cNvSpPr/>
          <p:nvPr/>
        </p:nvSpPr>
        <p:spPr>
          <a:xfrm>
            <a:off x="228600" y="1438200"/>
            <a:ext cx="0" cy="4800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3"/>
          <p:cNvSpPr/>
          <p:nvPr/>
        </p:nvSpPr>
        <p:spPr>
          <a:xfrm>
            <a:off x="4532400" y="143820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24"/>
          <p:cNvSpPr/>
          <p:nvPr/>
        </p:nvSpPr>
        <p:spPr>
          <a:xfrm>
            <a:off x="8834400" y="1438200"/>
            <a:ext cx="0" cy="4800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5"/>
          <p:cNvSpPr/>
          <p:nvPr/>
        </p:nvSpPr>
        <p:spPr>
          <a:xfrm>
            <a:off x="228600" y="484668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6"/>
          <p:cNvSpPr/>
          <p:nvPr/>
        </p:nvSpPr>
        <p:spPr>
          <a:xfrm>
            <a:off x="228600" y="414972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7"/>
          <p:cNvSpPr/>
          <p:nvPr/>
        </p:nvSpPr>
        <p:spPr>
          <a:xfrm>
            <a:off x="228600" y="345456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8"/>
          <p:cNvSpPr/>
          <p:nvPr/>
        </p:nvSpPr>
        <p:spPr>
          <a:xfrm>
            <a:off x="228600" y="539892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575784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4"/>
          <p:cNvSpPr/>
          <p:nvPr/>
        </p:nvSpPr>
        <p:spPr>
          <a:xfrm>
            <a:off x="0" y="228600"/>
            <a:ext cx="9144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mpact of Respiratory Motion on IMR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5"/>
          <p:cNvGrpSpPr/>
          <p:nvPr/>
        </p:nvGrpSpPr>
        <p:grpSpPr>
          <a:xfrm>
            <a:off x="1447920" y="3767040"/>
            <a:ext cx="6324480" cy="423720"/>
            <a:chOff x="1447920" y="3767040"/>
            <a:chExt cx="6324480" cy="423720"/>
          </a:xfrm>
        </p:grpSpPr>
        <p:sp>
          <p:nvSpPr>
            <p:cNvPr id="722" name="Rectangle 6"/>
            <p:cNvSpPr/>
            <p:nvPr/>
          </p:nvSpPr>
          <p:spPr>
            <a:xfrm>
              <a:off x="1447920" y="3809880"/>
              <a:ext cx="6324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1600200" y="3886200"/>
              <a:ext cx="381240" cy="228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2838600" y="3882960"/>
              <a:ext cx="380880" cy="228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038840" y="3886200"/>
              <a:ext cx="380880" cy="228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5257800" y="3886200"/>
              <a:ext cx="381240" cy="228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6477120" y="3886200"/>
              <a:ext cx="38088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6200" y="377640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1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3169800" y="376704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2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4358880" y="379080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5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5"/>
            <p:cNvSpPr/>
            <p:nvPr/>
          </p:nvSpPr>
          <p:spPr>
            <a:xfrm>
              <a:off x="5582880" y="377496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5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6"/>
            <p:cNvSpPr/>
            <p:nvPr/>
          </p:nvSpPr>
          <p:spPr>
            <a:xfrm>
              <a:off x="6820920" y="377640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17"/>
          <p:cNvSpPr/>
          <p:nvPr/>
        </p:nvSpPr>
        <p:spPr>
          <a:xfrm>
            <a:off x="3961080" y="4300560"/>
            <a:ext cx="13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8"/>
          <p:cNvSpPr/>
          <p:nvPr/>
        </p:nvSpPr>
        <p:spPr>
          <a:xfrm>
            <a:off x="3960360" y="1218960"/>
            <a:ext cx="155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9"/>
          <p:cNvSpPr/>
          <p:nvPr/>
        </p:nvSpPr>
        <p:spPr>
          <a:xfrm>
            <a:off x="6503040" y="6521400"/>
            <a:ext cx="2654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g, Zhang, et al  MDA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TOG 023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North American cooperative group trial testing SB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activation, the RTOG and partners (ATC, RPC) developed extensive accreditation and compliance criteria for this new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II study based on the previously published phase I study from Indiana Uni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JAMA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2:45:28Z</dcterms:created>
  <dc:creator>Research To Practice</dc:creator>
  <dc:description/>
  <cp:keywords/>
  <dc:language>en-US</dc:language>
  <cp:lastModifiedBy>Mac Pro E703803Y4PC</cp:lastModifiedBy>
  <cp:lastPrinted>2011-04-22T14:34:46Z</cp:lastPrinted>
  <dcterms:modified xsi:type="dcterms:W3CDTF">2011-05-19T14:13:23Z</dcterms:modified>
  <cp:revision>1078</cp:revision>
  <dc:subject/>
  <dc:title>PowerPoint Presentation</dc:title>
</cp:coreProperties>
</file>