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711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2"/>
          </p:nvPr>
        </p:nvSpPr>
        <p:spPr>
          <a:xfrm>
            <a:off x="40287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A13-8C34-49B3-BDC8-1718A9EDD7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Img"/>
          </p:nvPr>
        </p:nvSpPr>
        <p:spPr>
          <a:xfrm>
            <a:off x="120600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33"/>
          </p:nvPr>
        </p:nvSpPr>
        <p:spPr>
          <a:xfrm>
            <a:off x="-3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 type="sldNum" idx="34"/>
          </p:nvPr>
        </p:nvSpPr>
        <p:spPr>
          <a:xfrm>
            <a:off x="40287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6CD-69DC-4F40-9D38-18154EB491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57EB23-4536-43B0-930A-E3AB3B24E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542960" y="70488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3B2EAB-0B78-40B6-9319-37D6E315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92D3F-99C9-4E4F-891F-63E3ABD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A6DAFB-DE27-4273-B6CD-CCB3FAE8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3B78A-A243-4C13-B356-3890FDC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122ACC-C4A6-4D8D-BFD7-B09CD5E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F2A6E-AC08-4116-BFE9-2556779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562AB-13E2-4A6B-957E-E7ACBEF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4F75B-53E2-4023-97F8-6DEB4A41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88FF84-DE6C-429F-8F44-4A98290D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2FEDE-477B-45BB-B849-A60F0B3E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04F92-0DF0-4ED2-B2EA-6E7CDD2A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354D7-04D9-4589-BEAB-3896396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292E1-881A-4D4A-A139-31A9BB6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AD871-BA2E-47C2-A2E6-0C544415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34305-65CB-42C4-97D0-667D629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45302-1654-4364-AB8C-DECF86C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E7852-8FF7-49A3-B487-533C74B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3E57F-1C62-4A63-95D8-A610652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89C95-DBC8-4DDD-9DAD-FD63AF8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85D01-79BF-4E43-9897-46050F2E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20A64-D21C-42AD-8FE9-CC3A22CC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34709-09B9-42D0-9045-9DA0D845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C0914-15F5-4909-BC98-B2C2E557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A4F93-8A17-4B82-B97C-22A8D33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1D5AD-3A75-4682-85DD-902783F4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86A99-BD9B-4A30-9179-80676C0E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F3582-053A-4C6F-A225-B82118F1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CEA37-5ECB-41D3-B20B-881E23AB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D04C2-8142-49D2-BA22-49EABE3E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52C12-85B6-45A5-8F00-9F7A73AB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04A-49D4-4B8A-B57C-93EE95FE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88FD6-C5EB-4065-91FE-8C8E0251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90A5D-2672-44D6-90CE-05B22930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8A5E3-A7AB-4C37-9012-E96BFA8A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305324-84D0-4F2B-AC04-0F5275AE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8F118B-743D-44B7-8269-D98E348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BC87C4-29C1-4F67-8BB9-7FB04EC1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A621FA-B7C4-49D1-806A-FB8AFBA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EEDFA9-1E32-4C2A-8440-A744B774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580DAF-5D22-4AF2-84B6-42B36C45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D71DFB-DB85-4D1B-B8FA-AA4DAAD0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1AE-86DD-4B8E-B0E4-8BA7025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8E71BD-447D-4879-AAD3-0A6BC817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7211F6-C70B-4051-A066-508151E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4F2C59-56FC-44A1-9FE2-6F61F1E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3AE8D7-E909-4920-9882-64EC4F75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E0B656-28C5-4D3D-AD58-731DB275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C5A-8A2B-4C5A-80E5-03AB4068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CB6-5FDB-4358-BEF8-73B59D66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AE1-98EB-4691-80FF-4B010A0D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6F8-7C3B-49C5-ACBF-0AE87011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F7E-784C-448B-BF99-1275868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E55-69E2-434D-9F94-6170CDA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070-C9E3-404D-9B02-03AF94B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8CC-69BB-4C23-9B33-E873A62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AA7-D3B5-4B2A-8D8D-CBDDE888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5A4-51C2-48D4-A897-ABC12A3D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1F5AF-CB6D-4583-98C2-27F9048D3F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638B0-84FB-457D-A402-E6F3DCE5CB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6D5DA-32BC-4B26-BCB1-49D3FAFB91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0CB3D-1BDB-4EDD-8BAC-B6C7611140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99A39-DA08-4D80-9A24-BE1BB08DA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2047D-0D6B-434A-AA01-95CAAAF074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16AB2-686E-47BF-8B01-3C3A5AC0F7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6760-0E57-48E4-B8CE-864B206C45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637C-766E-4DEC-A77D-41E976B515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24F7A-E307-448B-9E7A-22847446C8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5B435-3F23-488D-B334-A5FA603009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CB9F-DAC5-4125-A295-0AB1265B4F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249E2-C68F-4FE1-B420-3F47DE91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73758-452F-44FB-AEED-73C4AAA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35341-0903-4586-9DE5-CE255433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2B76A-B0B5-4FF2-8B9D-F6605D60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2BDA8-BF29-46A7-9882-9BD92501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5A84E-0773-44F0-806F-6FFE019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9E72B-79CC-4934-B07B-847FCA2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FB348-C776-403D-BDEF-CD607F23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A378D-BEAF-4F45-A040-2828AE6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AFAE6-95F3-4324-B835-3C0A094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D6943-51AF-4708-A0CE-21B00268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252AD-5B5D-4FAD-B002-5BB79D36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F3193-8464-4641-AF2C-6DDA83B7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B3A96-3468-4082-9F2B-73436FB0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0E152-0202-4145-AD7C-64CAD256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7661E-F000-492D-B891-A2789776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C72AE-1078-4094-A19D-3B74134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BEFA2-38B2-4D4F-BCB4-7B4E7CB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53BDD-24ED-495A-8E8E-95CF5EE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B7063-6E74-4A4F-B3D1-BF2EDDA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A1CA5-ACD6-4A74-BFA3-52802D5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EC858-4399-4566-BAE2-79F91E32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89DFD-A8A9-4C06-A818-F53F8C81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4CAB4-D0EE-4CA7-A2BB-64684F8C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D2AB-3719-41EA-A7F4-9D047DC567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8885-701F-4974-91E4-AB6E25F42F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5BC9-70DF-408D-B69A-41AC4F9999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6FED-87C6-41F2-95E0-F2D77BD952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0C2C-8A47-4DEE-827D-EDE73070AC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67E7-EE97-4778-B2C7-9786B4B4B0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B5FD-D042-44DF-AA3F-967BA46E1A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4C21-2D60-4A80-A181-584554DBC4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4D92-724A-40EF-9385-EE0E569D0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B137-4F20-4153-9E46-4CABBDA171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07C0-8417-4D19-BEDB-3A818C6E6A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A83C-54EA-4ACF-995E-85EEAD7F1E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04519-BE7C-452C-8CDA-A79F8CA4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BAC67-DAB1-4907-AD0E-BAD75F2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461D9-FC00-481F-BF39-DE6815BB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E2A05-60E3-4451-9198-3DCDF03E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D6640-2813-40C3-97BB-1C089CE1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77EDF-A69B-4415-8D97-78AF8A4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090250-60C9-4B94-9128-38F6C3A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E2560-58B5-4F8B-AD04-F124DA1B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935687-00BC-402E-A6EE-00F4E74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D5A96-9C8F-4023-A9C9-4C98423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19427-D3C4-4F19-BB44-A8914885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46F0A-9C7E-4B63-A69F-F5B6B3ED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E7C3CB-C92E-45D4-B713-18C2801E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55BDC-212F-44FB-B46B-E4680CD8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B8FBD-58EF-4B6D-92F1-03DA0E9D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24ACEC-B4B2-44C6-A870-DC6180EC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96C2E2-F321-4008-8882-09402AD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1F908-007A-4B52-90BE-EFFC2B29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50C9A-1DFD-431E-B41D-554362A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58F45A-C85F-45D2-87C4-2BAE598F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BA02B-CBB2-43E9-BC4B-40584AA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F581E-4A2C-48F3-B16D-1E4AA1A9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E04E44-DA62-44B3-BDC9-26850E09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74B620-19D7-439C-B597-BF7F7E22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68958-0C8E-4CBC-A835-174F1CAB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D7105-8948-409D-9C5A-7A0178A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1B3147-C3D7-440E-9B73-9E4FD884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C6C-FDD0-44A1-ABDE-439BBD5A759A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70D9-2C87-4FB4-AA32-FB9515A29B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314-CB1E-4D46-BFE0-2BBD8E71262D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8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33B4-2FA9-4CAF-8DDB-79E16C79C2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D0EC-1BED-4C5F-BA6F-DE96C99710A6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8CC-2928-48AE-99B3-B8B2DC1623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1" descr="Nsclc_GR_title slideUSE THIS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1CC2-29F6-4248-8E2D-BDABE021E029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8BE5-4D2C-4855-BA90-ABC42AA6ECD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5D3-7577-4A88-9A7E-8AB7FEDBF5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75EA-BBDF-4765-99F6-69D0173EDF9D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6BD0-7AE3-47EC-8DDE-58BE727997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78E3-AA2E-47E1-98AE-1616DAB039D8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60E-608E-415A-9394-FCD95DC7E9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EACE-9BD5-409F-A947-4F6DD1B8C29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CFB3-53C1-4C14-9EBF-54733BF9E12A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1DD5-D683-4F2F-8F5F-F619B60F56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315-4378-46D6-A928-E42E83290338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A1B8-2DE6-4508-97A5-388E47FCAD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82E-9ECE-49A7-BBFB-CFDF3DE04154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203-C3FC-408E-853F-DEAD58858E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en/2/21/Mdanderson_logo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aerials-2006-010"/>
          <p:cNvPicPr/>
          <p:nvPr/>
        </p:nvPicPr>
        <p:blipFill>
          <a:blip r:embed="rId1"/>
          <a:srcRect l="0" t="4981" r="0" b="6444"/>
          <a:stretch/>
        </p:blipFill>
        <p:spPr>
          <a:xfrm>
            <a:off x="182520" y="4446720"/>
            <a:ext cx="5405400" cy="2278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74" name="Rectangle 3"/>
          <p:cNvSpPr/>
          <p:nvPr/>
        </p:nvSpPr>
        <p:spPr>
          <a:xfrm>
            <a:off x="74520" y="181080"/>
            <a:ext cx="9018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Novel Agents and Targets in Lung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4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6" descr="File:Mdanderson 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8360" y="4770360"/>
            <a:ext cx="3251520" cy="16909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7"/>
          <p:cNvSpPr/>
          <p:nvPr/>
        </p:nvSpPr>
        <p:spPr>
          <a:xfrm>
            <a:off x="1293840" y="2111400"/>
            <a:ext cx="6648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ward S. Kim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ssociate Professor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rector, Clinical Research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ief, Section of Head and Neck Medical Oncology Dept. Thoracic/Head and Neck Med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oblast Growth Factor (FGF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3903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3840" indent="-2138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mily composed of 22 members, FGF-1 through FGF-23 that variously bind to seven FGF receptor isoforms from four FGF receptor gen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GFR1b and c; FGFR2b and c; FGFR3b and c; and FGFR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olved in multiple processes ranging from cell transformation, angiogenesis and tissue repair to embryonic developmen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3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3840" indent="-21384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regulation (amplification, overexpression, upregulation) of FGF ligands and their receptors is associated with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breast, astrocytoma, myeloma, pancreatic, prostate, ovarian, gastric,  colorectal, and bladder canc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3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GF Path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5840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y tumors express the FGF2, and increased levels of FGF are correlated with poor prognosis in pts with RCC, HCC, NSCLC, esophageal, and pancreatic cance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GF pathway activation is a potent driver of lung tumor grow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~20% primary lung tumors with mutations/amplification in FGF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utocrine activation of FGFR signaling in non-small-cell lung cancers may contribute to gefitinib insensitiv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4240" y="142920"/>
            <a:ext cx="8667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berrant  regulation of FGF/FGFR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ignaling occurs in many human tum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685800" y="1254240"/>
            <a:ext cx="8191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Proliferation/Migration/Anti-apoptosis/Angiogenes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reast cancer: Amplification ~10% 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n-small cell lung cancer: Amplification 10% squ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tate cancer: Upregulated FGF lig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2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astric cancer: Amplification ~5%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ometrial cancer: Mutations ~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3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ninvasive bladder cancer: Mutations ~70% tum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ltiple myeloma: ~20%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4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lorectal cancer: Upregulated FGF19 lig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tate cancer: Upregulated FGF lig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506520" y="15685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uine target - identified via screening with anti-tumor killer T-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uine tumor-specific - not expressed in normal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to detect in patients (RT-PCR on tumor t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 major tumor ty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ung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5-5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ladder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0-5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ver  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4-7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elanoma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 early and advanced stages of a given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entially associated with poor survival 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441360" y="54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GE-A3 tumor anti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GE Func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28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 proteins could confer tumor survival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 proteins interfere with p53 pro-apoptot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 antigens suggested to confer resist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hemotherapeutic agents by suppressing p53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3 downregulates p21, a transcriptional target of p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3 expression stimulates tumor growth and meta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204840" y="981000"/>
            <a:ext cx="8748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A3 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juvant Non-Small Cell L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III Study: MAGR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01760" y="1728720"/>
            <a:ext cx="8219520" cy="4662720"/>
            <a:chOff x="401760" y="1728720"/>
            <a:chExt cx="8219520" cy="4662720"/>
          </a:xfrm>
        </p:grpSpPr>
        <p:sp>
          <p:nvSpPr>
            <p:cNvPr id="754" name="Line 48"/>
            <p:cNvSpPr/>
            <p:nvPr/>
          </p:nvSpPr>
          <p:spPr>
            <a:xfrm>
              <a:off x="6526800" y="3367080"/>
              <a:ext cx="0" cy="1625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8"/>
            <p:cNvSpPr/>
            <p:nvPr/>
          </p:nvSpPr>
          <p:spPr>
            <a:xfrm>
              <a:off x="2933640" y="3381120"/>
              <a:ext cx="36115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2"/>
            <p:cNvSpPr/>
            <p:nvPr/>
          </p:nvSpPr>
          <p:spPr>
            <a:xfrm>
              <a:off x="2787120" y="6103080"/>
              <a:ext cx="338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BE" sz="1600" spc="-1" strike="noStrike">
                  <a:solidFill>
                    <a:srgbClr val="ffffff"/>
                  </a:solidFill>
                  <a:latin typeface="Arial"/>
                </a:rPr>
                <a:t>Powered for effica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17"/>
            <p:cNvSpPr/>
            <p:nvPr/>
          </p:nvSpPr>
          <p:spPr>
            <a:xfrm>
              <a:off x="2254320" y="3009600"/>
              <a:ext cx="1399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 che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1"/>
            <p:cNvSpPr/>
            <p:nvPr/>
          </p:nvSpPr>
          <p:spPr>
            <a:xfrm flipV="1">
              <a:off x="5266440" y="4992120"/>
              <a:ext cx="2540880" cy="8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2"/>
            <p:cNvSpPr/>
            <p:nvPr/>
          </p:nvSpPr>
          <p:spPr>
            <a:xfrm>
              <a:off x="5280480" y="4996080"/>
              <a:ext cx="0" cy="20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4447440" y="5328000"/>
              <a:ext cx="16088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GE-A3 A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7349400" y="5328000"/>
              <a:ext cx="9000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9"/>
            <p:cNvSpPr/>
            <p:nvPr/>
          </p:nvSpPr>
          <p:spPr>
            <a:xfrm>
              <a:off x="7805520" y="4999320"/>
              <a:ext cx="0" cy="205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35"/>
            <p:cNvSpPr/>
            <p:nvPr/>
          </p:nvSpPr>
          <p:spPr>
            <a:xfrm>
              <a:off x="1184760" y="5089680"/>
              <a:ext cx="3463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BE" sz="1600" spc="-1" strike="noStrike">
                  <a:solidFill>
                    <a:srgbClr val="ffffff"/>
                  </a:solidFill>
                  <a:latin typeface="Arial"/>
                </a:rPr>
                <a:t>Powered for effica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ight Bracket 33"/>
            <p:cNvSpPr/>
            <p:nvPr/>
          </p:nvSpPr>
          <p:spPr>
            <a:xfrm rot="5400000">
              <a:off x="4439160" y="1787760"/>
              <a:ext cx="144360" cy="82195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8219520"/>
                <a:gd name="textAreaBottom" fmla="*/ 8213760 h 82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"/>
                    <a:pt x="21600" y="32"/>
                  </a:cubicBezTo>
                  <a:lnTo>
                    <a:pt x="21600" y="21568"/>
                  </a:lnTo>
                  <a:cubicBezTo>
                    <a:pt x="21600" y="21584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d95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ight Bracket 35"/>
            <p:cNvSpPr/>
            <p:nvPr/>
          </p:nvSpPr>
          <p:spPr>
            <a:xfrm rot="5400000">
              <a:off x="2727360" y="2870280"/>
              <a:ext cx="175320" cy="3976200"/>
            </a:xfrm>
            <a:custGeom>
              <a:avLst/>
              <a:gdLst>
                <a:gd name="textAreaLeft" fmla="*/ 0 w 175320"/>
                <a:gd name="textAreaRight" fmla="*/ 123120 w 175320"/>
                <a:gd name="textAreaTop" fmla="*/ 7200 h 3976200"/>
                <a:gd name="textAreaBottom" fmla="*/ 3969000 h 39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0"/>
                    <a:pt x="21600" y="79"/>
                  </a:cubicBezTo>
                  <a:lnTo>
                    <a:pt x="21600" y="21521"/>
                  </a:lnTo>
                  <a:cubicBezTo>
                    <a:pt x="21600" y="21561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48"/>
            <p:cNvSpPr/>
            <p:nvPr/>
          </p:nvSpPr>
          <p:spPr>
            <a:xfrm>
              <a:off x="4975200" y="1982520"/>
              <a:ext cx="0" cy="1412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55"/>
            <p:cNvSpPr/>
            <p:nvPr/>
          </p:nvSpPr>
          <p:spPr>
            <a:xfrm>
              <a:off x="2949120" y="3394800"/>
              <a:ext cx="0" cy="865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56"/>
            <p:cNvSpPr/>
            <p:nvPr/>
          </p:nvSpPr>
          <p:spPr>
            <a:xfrm flipV="1">
              <a:off x="1689120" y="4247640"/>
              <a:ext cx="2540520" cy="8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57"/>
            <p:cNvSpPr/>
            <p:nvPr/>
          </p:nvSpPr>
          <p:spPr>
            <a:xfrm>
              <a:off x="4215960" y="4246560"/>
              <a:ext cx="0" cy="205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58"/>
            <p:cNvSpPr/>
            <p:nvPr/>
          </p:nvSpPr>
          <p:spPr>
            <a:xfrm>
              <a:off x="1704240" y="4258440"/>
              <a:ext cx="0" cy="20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59"/>
            <p:cNvSpPr/>
            <p:nvPr/>
          </p:nvSpPr>
          <p:spPr>
            <a:xfrm>
              <a:off x="879480" y="4556160"/>
              <a:ext cx="1640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GE-A3 A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60"/>
            <p:cNvSpPr/>
            <p:nvPr/>
          </p:nvSpPr>
          <p:spPr>
            <a:xfrm>
              <a:off x="3765240" y="4564800"/>
              <a:ext cx="942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6"/>
            <p:cNvSpPr/>
            <p:nvPr/>
          </p:nvSpPr>
          <p:spPr>
            <a:xfrm>
              <a:off x="1559160" y="3629520"/>
              <a:ext cx="2781000" cy="33732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ndom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7"/>
            <p:cNvSpPr/>
            <p:nvPr/>
          </p:nvSpPr>
          <p:spPr>
            <a:xfrm>
              <a:off x="2884320" y="2420280"/>
              <a:ext cx="4158360" cy="33732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thological stage IB,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8"/>
            <p:cNvSpPr/>
            <p:nvPr/>
          </p:nvSpPr>
          <p:spPr>
            <a:xfrm>
              <a:off x="2865600" y="1728720"/>
              <a:ext cx="4158000" cy="33732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ected MAGE-A3 (+) NSCL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84"/>
            <p:cNvSpPr/>
            <p:nvPr/>
          </p:nvSpPr>
          <p:spPr>
            <a:xfrm>
              <a:off x="5266440" y="3553200"/>
              <a:ext cx="2625840" cy="5806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p to 4 cycles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tinum-based che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3"/>
            <p:cNvSpPr/>
            <p:nvPr/>
          </p:nvSpPr>
          <p:spPr>
            <a:xfrm>
              <a:off x="5180040" y="4317840"/>
              <a:ext cx="2780640" cy="3373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ndom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9132840" cy="6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ATTLE Tri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EGF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KR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utatio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vel Discovery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6215040" y="210024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R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4"/>
          <p:cNvSpPr/>
          <p:nvPr/>
        </p:nvSpPr>
        <p:spPr>
          <a:xfrm>
            <a:off x="1380960" y="1741320"/>
            <a:ext cx="14400" cy="416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1191960" y="5791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1070280" y="5348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084320" y="2433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1082880" y="4938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1082880" y="4103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082880" y="4533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1082880" y="3274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1082880" y="287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1095480" y="3693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1070280" y="2033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 rot="16200000">
            <a:off x="-1006200" y="3575880"/>
            <a:ext cx="34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hieved 8 week DC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979560" y="16398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5508720" y="4589640"/>
            <a:ext cx="57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5983200" y="3827520"/>
            <a:ext cx="56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9"/>
          <p:cNvGrpSpPr/>
          <p:nvPr/>
        </p:nvGrpSpPr>
        <p:grpSpPr>
          <a:xfrm>
            <a:off x="7446240" y="2754360"/>
            <a:ext cx="1099440" cy="700560"/>
            <a:chOff x="7446240" y="2754360"/>
            <a:chExt cx="1099440" cy="700560"/>
          </a:xfrm>
        </p:grpSpPr>
        <p:sp>
          <p:nvSpPr>
            <p:cNvPr id="796" name="Rectangle 20"/>
            <p:cNvSpPr/>
            <p:nvPr/>
          </p:nvSpPr>
          <p:spPr>
            <a:xfrm>
              <a:off x="8028000" y="3149640"/>
              <a:ext cx="517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5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1"/>
            <p:cNvSpPr/>
            <p:nvPr/>
          </p:nvSpPr>
          <p:spPr>
            <a:xfrm>
              <a:off x="7446240" y="275436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22"/>
          <p:cNvSpPr/>
          <p:nvPr/>
        </p:nvSpPr>
        <p:spPr>
          <a:xfrm>
            <a:off x="5699160" y="4987800"/>
            <a:ext cx="355680" cy="884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6072120" y="4297320"/>
            <a:ext cx="341280" cy="1575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5783760" y="578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5"/>
          <p:cNvGrpSpPr/>
          <p:nvPr/>
        </p:nvGrpSpPr>
        <p:grpSpPr>
          <a:xfrm>
            <a:off x="6367680" y="3417840"/>
            <a:ext cx="1161720" cy="2850480"/>
            <a:chOff x="6367680" y="3417840"/>
            <a:chExt cx="1161720" cy="2850480"/>
          </a:xfrm>
        </p:grpSpPr>
        <p:sp>
          <p:nvSpPr>
            <p:cNvPr id="802" name="Rectangle 26"/>
            <p:cNvSpPr/>
            <p:nvPr/>
          </p:nvSpPr>
          <p:spPr>
            <a:xfrm>
              <a:off x="7024320" y="3417840"/>
              <a:ext cx="265320" cy="2457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7"/>
            <p:cNvSpPr/>
            <p:nvPr/>
          </p:nvSpPr>
          <p:spPr>
            <a:xfrm>
              <a:off x="7184880" y="5560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8"/>
            <p:cNvSpPr/>
            <p:nvPr/>
          </p:nvSpPr>
          <p:spPr>
            <a:xfrm>
              <a:off x="6435360" y="4910040"/>
              <a:ext cx="263520" cy="960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9"/>
            <p:cNvSpPr/>
            <p:nvPr/>
          </p:nvSpPr>
          <p:spPr>
            <a:xfrm>
              <a:off x="6689520" y="4299120"/>
              <a:ext cx="250920" cy="157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0"/>
            <p:cNvSpPr/>
            <p:nvPr/>
          </p:nvSpPr>
          <p:spPr>
            <a:xfrm>
              <a:off x="7291080" y="4003560"/>
              <a:ext cx="238320" cy="1859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31"/>
            <p:cNvSpPr/>
            <p:nvPr/>
          </p:nvSpPr>
          <p:spPr>
            <a:xfrm>
              <a:off x="6367680" y="579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2"/>
            <p:cNvSpPr/>
            <p:nvPr/>
          </p:nvSpPr>
          <p:spPr>
            <a:xfrm>
              <a:off x="6977160" y="580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33"/>
          <p:cNvGrpSpPr/>
          <p:nvPr/>
        </p:nvGrpSpPr>
        <p:grpSpPr>
          <a:xfrm>
            <a:off x="7605720" y="3260880"/>
            <a:ext cx="624960" cy="3020040"/>
            <a:chOff x="7605720" y="3260880"/>
            <a:chExt cx="624960" cy="3020040"/>
          </a:xfrm>
        </p:grpSpPr>
        <p:sp>
          <p:nvSpPr>
            <p:cNvPr id="810" name="Rectangle 34"/>
            <p:cNvSpPr/>
            <p:nvPr/>
          </p:nvSpPr>
          <p:spPr>
            <a:xfrm>
              <a:off x="7930080" y="3600360"/>
              <a:ext cx="300600" cy="2266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7625880" y="3260880"/>
              <a:ext cx="302400" cy="2617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7605720" y="5821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37"/>
          <p:cNvSpPr/>
          <p:nvPr/>
        </p:nvSpPr>
        <p:spPr>
          <a:xfrm>
            <a:off x="1854360" y="2073240"/>
            <a:ext cx="178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GF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8"/>
          <p:cNvGrpSpPr/>
          <p:nvPr/>
        </p:nvGrpSpPr>
        <p:grpSpPr>
          <a:xfrm>
            <a:off x="1898640" y="2544840"/>
            <a:ext cx="257040" cy="2108160"/>
            <a:chOff x="1898640" y="2544840"/>
            <a:chExt cx="257040" cy="2108160"/>
          </a:xfrm>
        </p:grpSpPr>
        <p:sp>
          <p:nvSpPr>
            <p:cNvPr id="815" name="Rectangle 39"/>
            <p:cNvSpPr/>
            <p:nvPr/>
          </p:nvSpPr>
          <p:spPr>
            <a:xfrm>
              <a:off x="1898640" y="25448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40"/>
            <p:cNvSpPr/>
            <p:nvPr/>
          </p:nvSpPr>
          <p:spPr>
            <a:xfrm>
              <a:off x="2155320" y="434844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1"/>
          <p:cNvGrpSpPr/>
          <p:nvPr/>
        </p:nvGrpSpPr>
        <p:grpSpPr>
          <a:xfrm>
            <a:off x="3780000" y="2970360"/>
            <a:ext cx="245880" cy="1957320"/>
            <a:chOff x="3780000" y="2970360"/>
            <a:chExt cx="245880" cy="1957320"/>
          </a:xfrm>
        </p:grpSpPr>
        <p:sp>
          <p:nvSpPr>
            <p:cNvPr id="818" name="Rectangle 42"/>
            <p:cNvSpPr/>
            <p:nvPr/>
          </p:nvSpPr>
          <p:spPr>
            <a:xfrm>
              <a:off x="3780000" y="462276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43"/>
            <p:cNvSpPr/>
            <p:nvPr/>
          </p:nvSpPr>
          <p:spPr>
            <a:xfrm>
              <a:off x="4025520" y="297036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3313080" y="3286080"/>
            <a:ext cx="651600" cy="2952360"/>
            <a:chOff x="3313080" y="3286080"/>
            <a:chExt cx="651600" cy="2952360"/>
          </a:xfrm>
        </p:grpSpPr>
        <p:sp>
          <p:nvSpPr>
            <p:cNvPr id="821" name="Rectangle 45"/>
            <p:cNvSpPr/>
            <p:nvPr/>
          </p:nvSpPr>
          <p:spPr>
            <a:xfrm>
              <a:off x="3313080" y="4986360"/>
              <a:ext cx="329760" cy="880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46"/>
            <p:cNvSpPr/>
            <p:nvPr/>
          </p:nvSpPr>
          <p:spPr>
            <a:xfrm>
              <a:off x="3648960" y="3286080"/>
              <a:ext cx="31572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47"/>
            <p:cNvSpPr/>
            <p:nvPr/>
          </p:nvSpPr>
          <p:spPr>
            <a:xfrm>
              <a:off x="3381120" y="5872320"/>
              <a:ext cx="55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48"/>
          <p:cNvGrpSpPr/>
          <p:nvPr/>
        </p:nvGrpSpPr>
        <p:grpSpPr>
          <a:xfrm>
            <a:off x="2225520" y="3359160"/>
            <a:ext cx="1095480" cy="2866320"/>
            <a:chOff x="2225520" y="3359160"/>
            <a:chExt cx="1095480" cy="2866320"/>
          </a:xfrm>
        </p:grpSpPr>
        <p:sp>
          <p:nvSpPr>
            <p:cNvPr id="825" name="Rectangle 49"/>
            <p:cNvSpPr/>
            <p:nvPr/>
          </p:nvSpPr>
          <p:spPr>
            <a:xfrm>
              <a:off x="2809800" y="3433680"/>
              <a:ext cx="255600" cy="2441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50"/>
            <p:cNvSpPr/>
            <p:nvPr/>
          </p:nvSpPr>
          <p:spPr>
            <a:xfrm>
              <a:off x="2982960" y="5560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2225520" y="3359160"/>
              <a:ext cx="266760" cy="2511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2482920" y="4591080"/>
              <a:ext cx="253800" cy="1279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3065400" y="4162320"/>
              <a:ext cx="255600" cy="1700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54"/>
            <p:cNvSpPr/>
            <p:nvPr/>
          </p:nvSpPr>
          <p:spPr>
            <a:xfrm>
              <a:off x="2890800" y="5859360"/>
              <a:ext cx="4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55"/>
            <p:cNvSpPr/>
            <p:nvPr/>
          </p:nvSpPr>
          <p:spPr>
            <a:xfrm>
              <a:off x="2235240" y="5859360"/>
              <a:ext cx="42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56"/>
          <p:cNvGrpSpPr/>
          <p:nvPr/>
        </p:nvGrpSpPr>
        <p:grpSpPr>
          <a:xfrm>
            <a:off x="1622520" y="2906640"/>
            <a:ext cx="591840" cy="3318840"/>
            <a:chOff x="1622520" y="2906640"/>
            <a:chExt cx="591840" cy="3318840"/>
          </a:xfrm>
        </p:grpSpPr>
        <p:sp>
          <p:nvSpPr>
            <p:cNvPr id="833" name="Rectangle 57"/>
            <p:cNvSpPr/>
            <p:nvPr/>
          </p:nvSpPr>
          <p:spPr>
            <a:xfrm>
              <a:off x="1622520" y="2906640"/>
              <a:ext cx="294120" cy="2965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58"/>
            <p:cNvSpPr/>
            <p:nvPr/>
          </p:nvSpPr>
          <p:spPr>
            <a:xfrm>
              <a:off x="1918080" y="4708440"/>
              <a:ext cx="296280" cy="1163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59"/>
            <p:cNvSpPr/>
            <p:nvPr/>
          </p:nvSpPr>
          <p:spPr>
            <a:xfrm>
              <a:off x="1631520" y="585936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60"/>
          <p:cNvGrpSpPr/>
          <p:nvPr/>
        </p:nvGrpSpPr>
        <p:grpSpPr>
          <a:xfrm>
            <a:off x="3223440" y="2855880"/>
            <a:ext cx="934200" cy="1958040"/>
            <a:chOff x="3223440" y="2855880"/>
            <a:chExt cx="934200" cy="1958040"/>
          </a:xfrm>
        </p:grpSpPr>
        <p:sp>
          <p:nvSpPr>
            <p:cNvPr id="837" name="Rectangle 61"/>
            <p:cNvSpPr/>
            <p:nvPr/>
          </p:nvSpPr>
          <p:spPr>
            <a:xfrm>
              <a:off x="3223440" y="45086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2"/>
            <p:cNvSpPr/>
            <p:nvPr/>
          </p:nvSpPr>
          <p:spPr>
            <a:xfrm>
              <a:off x="3462480" y="2855880"/>
              <a:ext cx="69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Line 63"/>
          <p:cNvSpPr/>
          <p:nvPr/>
        </p:nvSpPr>
        <p:spPr>
          <a:xfrm>
            <a:off x="1393920" y="5891040"/>
            <a:ext cx="2768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4"/>
          <p:cNvSpPr/>
          <p:nvPr/>
        </p:nvSpPr>
        <p:spPr>
          <a:xfrm>
            <a:off x="5445000" y="1728720"/>
            <a:ext cx="14400" cy="41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5"/>
          <p:cNvSpPr/>
          <p:nvPr/>
        </p:nvSpPr>
        <p:spPr>
          <a:xfrm>
            <a:off x="5256000" y="5778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6"/>
          <p:cNvSpPr/>
          <p:nvPr/>
        </p:nvSpPr>
        <p:spPr>
          <a:xfrm>
            <a:off x="5133960" y="5335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7"/>
          <p:cNvSpPr/>
          <p:nvPr/>
        </p:nvSpPr>
        <p:spPr>
          <a:xfrm>
            <a:off x="5148360" y="2421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8"/>
          <p:cNvSpPr/>
          <p:nvPr/>
        </p:nvSpPr>
        <p:spPr>
          <a:xfrm>
            <a:off x="5146920" y="4925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9"/>
          <p:cNvSpPr/>
          <p:nvPr/>
        </p:nvSpPr>
        <p:spPr>
          <a:xfrm>
            <a:off x="5146920" y="409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0"/>
          <p:cNvSpPr/>
          <p:nvPr/>
        </p:nvSpPr>
        <p:spPr>
          <a:xfrm>
            <a:off x="5146920" y="4521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1"/>
          <p:cNvSpPr/>
          <p:nvPr/>
        </p:nvSpPr>
        <p:spPr>
          <a:xfrm>
            <a:off x="5146920" y="326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2"/>
          <p:cNvSpPr/>
          <p:nvPr/>
        </p:nvSpPr>
        <p:spPr>
          <a:xfrm>
            <a:off x="5146920" y="2857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3"/>
          <p:cNvSpPr/>
          <p:nvPr/>
        </p:nvSpPr>
        <p:spPr>
          <a:xfrm>
            <a:off x="5159520" y="3681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4"/>
          <p:cNvSpPr/>
          <p:nvPr/>
        </p:nvSpPr>
        <p:spPr>
          <a:xfrm>
            <a:off x="5133960" y="202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5"/>
          <p:cNvSpPr/>
          <p:nvPr/>
        </p:nvSpPr>
        <p:spPr>
          <a:xfrm>
            <a:off x="5043600" y="1627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76"/>
          <p:cNvSpPr/>
          <p:nvPr/>
        </p:nvSpPr>
        <p:spPr>
          <a:xfrm>
            <a:off x="5448240" y="5878440"/>
            <a:ext cx="2965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77"/>
          <p:cNvGrpSpPr/>
          <p:nvPr/>
        </p:nvGrpSpPr>
        <p:grpSpPr>
          <a:xfrm>
            <a:off x="1274760" y="1116000"/>
            <a:ext cx="7000920" cy="393840"/>
            <a:chOff x="1274760" y="1116000"/>
            <a:chExt cx="7000920" cy="393840"/>
          </a:xfrm>
        </p:grpSpPr>
        <p:sp>
          <p:nvSpPr>
            <p:cNvPr id="854" name="Rectangle 78"/>
            <p:cNvSpPr/>
            <p:nvPr/>
          </p:nvSpPr>
          <p:spPr>
            <a:xfrm>
              <a:off x="1274760" y="1116000"/>
              <a:ext cx="7000920" cy="39384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79"/>
            <p:cNvSpPr/>
            <p:nvPr/>
          </p:nvSpPr>
          <p:spPr>
            <a:xfrm>
              <a:off x="1344600" y="1230480"/>
              <a:ext cx="236520" cy="174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80"/>
            <p:cNvSpPr/>
            <p:nvPr/>
          </p:nvSpPr>
          <p:spPr>
            <a:xfrm>
              <a:off x="1663560" y="118764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loti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81"/>
            <p:cNvSpPr/>
            <p:nvPr/>
          </p:nvSpPr>
          <p:spPr>
            <a:xfrm>
              <a:off x="2690640" y="1235160"/>
              <a:ext cx="236880" cy="174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82"/>
            <p:cNvSpPr/>
            <p:nvPr/>
          </p:nvSpPr>
          <p:spPr>
            <a:xfrm>
              <a:off x="3003120" y="1181160"/>
              <a:ext cx="102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deta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3"/>
            <p:cNvSpPr/>
            <p:nvPr/>
          </p:nvSpPr>
          <p:spPr>
            <a:xfrm>
              <a:off x="4206960" y="1231920"/>
              <a:ext cx="236520" cy="174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4"/>
            <p:cNvSpPr/>
            <p:nvPr/>
          </p:nvSpPr>
          <p:spPr>
            <a:xfrm>
              <a:off x="4523400" y="1192320"/>
              <a:ext cx="203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lotinib + Bexarote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85"/>
            <p:cNvSpPr/>
            <p:nvPr/>
          </p:nvSpPr>
          <p:spPr>
            <a:xfrm>
              <a:off x="6886440" y="1220760"/>
              <a:ext cx="236520" cy="174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86"/>
            <p:cNvSpPr/>
            <p:nvPr/>
          </p:nvSpPr>
          <p:spPr>
            <a:xfrm>
              <a:off x="7221960" y="1179360"/>
              <a:ext cx="88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rafe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87"/>
          <p:cNvGrpSpPr/>
          <p:nvPr/>
        </p:nvGrpSpPr>
        <p:grpSpPr>
          <a:xfrm>
            <a:off x="1572480" y="2481120"/>
            <a:ext cx="921600" cy="2058120"/>
            <a:chOff x="1572480" y="2481120"/>
            <a:chExt cx="921600" cy="2058120"/>
          </a:xfrm>
        </p:grpSpPr>
        <p:sp>
          <p:nvSpPr>
            <p:cNvPr id="864" name="Rectangle 88"/>
            <p:cNvSpPr/>
            <p:nvPr/>
          </p:nvSpPr>
          <p:spPr>
            <a:xfrm>
              <a:off x="1572480" y="248112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7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89"/>
            <p:cNvSpPr/>
            <p:nvPr/>
          </p:nvSpPr>
          <p:spPr>
            <a:xfrm>
              <a:off x="1954080" y="4233960"/>
              <a:ext cx="54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90"/>
          <p:cNvGrpSpPr/>
          <p:nvPr/>
        </p:nvGrpSpPr>
        <p:grpSpPr>
          <a:xfrm>
            <a:off x="1538280" y="1511280"/>
            <a:ext cx="6813360" cy="403200"/>
            <a:chOff x="1538280" y="1511280"/>
            <a:chExt cx="6813360" cy="403200"/>
          </a:xfrm>
        </p:grpSpPr>
        <p:grpSp>
          <p:nvGrpSpPr>
            <p:cNvPr id="867" name="Group 91"/>
            <p:cNvGrpSpPr/>
            <p:nvPr/>
          </p:nvGrpSpPr>
          <p:grpSpPr>
            <a:xfrm>
              <a:off x="1538280" y="1511280"/>
              <a:ext cx="2689200" cy="393480"/>
              <a:chOff x="1538280" y="1511280"/>
              <a:chExt cx="2689200" cy="393480"/>
            </a:xfrm>
          </p:grpSpPr>
          <p:sp>
            <p:nvSpPr>
              <p:cNvPr id="868" name="Rectangle 92"/>
              <p:cNvSpPr/>
              <p:nvPr/>
            </p:nvSpPr>
            <p:spPr>
              <a:xfrm>
                <a:off x="1538280" y="1511280"/>
                <a:ext cx="2689200" cy="393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93"/>
              <p:cNvSpPr/>
              <p:nvPr/>
            </p:nvSpPr>
            <p:spPr>
              <a:xfrm>
                <a:off x="1608120" y="1625400"/>
                <a:ext cx="236520" cy="174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94"/>
              <p:cNvSpPr/>
              <p:nvPr/>
            </p:nvSpPr>
            <p:spPr>
              <a:xfrm>
                <a:off x="1927080" y="1582560"/>
                <a:ext cx="773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loti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95"/>
              <p:cNvSpPr/>
              <p:nvPr/>
            </p:nvSpPr>
            <p:spPr>
              <a:xfrm>
                <a:off x="2935080" y="1630440"/>
                <a:ext cx="236520" cy="174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96"/>
              <p:cNvSpPr/>
              <p:nvPr/>
            </p:nvSpPr>
            <p:spPr>
              <a:xfrm>
                <a:off x="3242160" y="1574640"/>
                <a:ext cx="880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rafe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97"/>
            <p:cNvGrpSpPr/>
            <p:nvPr/>
          </p:nvGrpSpPr>
          <p:grpSpPr>
            <a:xfrm>
              <a:off x="5662440" y="1521000"/>
              <a:ext cx="2689200" cy="393480"/>
              <a:chOff x="5662440" y="1521000"/>
              <a:chExt cx="2689200" cy="393480"/>
            </a:xfrm>
          </p:grpSpPr>
          <p:sp>
            <p:nvSpPr>
              <p:cNvPr id="874" name="Rectangle 98"/>
              <p:cNvSpPr/>
              <p:nvPr/>
            </p:nvSpPr>
            <p:spPr>
              <a:xfrm>
                <a:off x="5662440" y="1521000"/>
                <a:ext cx="2689200" cy="393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99"/>
              <p:cNvSpPr/>
              <p:nvPr/>
            </p:nvSpPr>
            <p:spPr>
              <a:xfrm>
                <a:off x="5732280" y="1635120"/>
                <a:ext cx="236520" cy="174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00"/>
              <p:cNvSpPr/>
              <p:nvPr/>
            </p:nvSpPr>
            <p:spPr>
              <a:xfrm>
                <a:off x="6051240" y="1592280"/>
                <a:ext cx="773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loti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01"/>
              <p:cNvSpPr/>
              <p:nvPr/>
            </p:nvSpPr>
            <p:spPr>
              <a:xfrm>
                <a:off x="7059240" y="1640160"/>
                <a:ext cx="236520" cy="174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02"/>
              <p:cNvSpPr/>
              <p:nvPr/>
            </p:nvSpPr>
            <p:spPr>
              <a:xfrm>
                <a:off x="7366320" y="1584360"/>
                <a:ext cx="880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rafe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Rectangle 103"/>
          <p:cNvSpPr/>
          <p:nvPr/>
        </p:nvSpPr>
        <p:spPr>
          <a:xfrm>
            <a:off x="1113120" y="613080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04"/>
          <p:cNvSpPr/>
          <p:nvPr/>
        </p:nvSpPr>
        <p:spPr>
          <a:xfrm>
            <a:off x="1620720" y="6102360"/>
            <a:ext cx="25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7  45              13  67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5"/>
          <p:cNvGrpSpPr/>
          <p:nvPr/>
        </p:nvGrpSpPr>
        <p:grpSpPr>
          <a:xfrm>
            <a:off x="1785960" y="5413320"/>
            <a:ext cx="6175080" cy="520560"/>
            <a:chOff x="1785960" y="5413320"/>
            <a:chExt cx="6175080" cy="520560"/>
          </a:xfrm>
        </p:grpSpPr>
        <p:grpSp>
          <p:nvGrpSpPr>
            <p:cNvPr id="882" name="Group 106"/>
            <p:cNvGrpSpPr/>
            <p:nvPr/>
          </p:nvGrpSpPr>
          <p:grpSpPr>
            <a:xfrm>
              <a:off x="1785960" y="5413320"/>
              <a:ext cx="6175080" cy="520560"/>
              <a:chOff x="1785960" y="5413320"/>
              <a:chExt cx="6175080" cy="520560"/>
            </a:xfrm>
          </p:grpSpPr>
          <p:sp>
            <p:nvSpPr>
              <p:cNvPr id="883" name="Rectangle 107"/>
              <p:cNvSpPr/>
              <p:nvPr/>
            </p:nvSpPr>
            <p:spPr>
              <a:xfrm>
                <a:off x="1785960" y="541332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08"/>
              <p:cNvSpPr/>
              <p:nvPr/>
            </p:nvSpPr>
            <p:spPr>
              <a:xfrm>
                <a:off x="3453480" y="54133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109"/>
              <p:cNvSpPr/>
              <p:nvPr/>
            </p:nvSpPr>
            <p:spPr>
              <a:xfrm>
                <a:off x="5925960" y="5413320"/>
                <a:ext cx="183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10"/>
              <p:cNvSpPr/>
              <p:nvPr/>
            </p:nvSpPr>
            <p:spPr>
              <a:xfrm>
                <a:off x="7681320" y="54133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Rectangle 111"/>
            <p:cNvSpPr/>
            <p:nvPr/>
          </p:nvSpPr>
          <p:spPr>
            <a:xfrm>
              <a:off x="5925960" y="541332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112"/>
          <p:cNvSpPr/>
          <p:nvPr/>
        </p:nvSpPr>
        <p:spPr>
          <a:xfrm>
            <a:off x="5175360" y="61293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13"/>
          <p:cNvSpPr/>
          <p:nvPr/>
        </p:nvSpPr>
        <p:spPr>
          <a:xfrm>
            <a:off x="5519880" y="6089760"/>
            <a:ext cx="31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9  43                 18  62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14"/>
          <p:cNvSpPr/>
          <p:nvPr/>
        </p:nvSpPr>
        <p:spPr>
          <a:xfrm>
            <a:off x="1463760" y="2322360"/>
            <a:ext cx="71892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15"/>
          <p:cNvSpPr/>
          <p:nvPr/>
        </p:nvSpPr>
        <p:spPr>
          <a:xfrm>
            <a:off x="3095640" y="4371840"/>
            <a:ext cx="71928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16"/>
          <p:cNvSpPr/>
          <p:nvPr/>
        </p:nvSpPr>
        <p:spPr>
          <a:xfrm>
            <a:off x="5477040" y="4438800"/>
            <a:ext cx="71892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17"/>
          <p:cNvSpPr/>
          <p:nvPr/>
        </p:nvSpPr>
        <p:spPr>
          <a:xfrm>
            <a:off x="7323120" y="2602080"/>
            <a:ext cx="71928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8"/>
          <p:cNvSpPr/>
          <p:nvPr/>
        </p:nvSpPr>
        <p:spPr>
          <a:xfrm>
            <a:off x="4883040" y="6535800"/>
            <a:ext cx="42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S Kim et al.  AACR 2010, Plenary Session LBA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35080" y="35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vel Therapies in Lung Canc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randomized trial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ed to assess bio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 targeted therapies will fail unless appropriate target or population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modulation in a particular patient may be needed to assess 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vel Therap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aclitax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G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-type or KRAS mu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rafeni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logic Rationale for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Paclitax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254160" y="1092240"/>
            <a:ext cx="85849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olvent polyoxyethylated castor oil (cremophor) decreases efficacy and contributes to the toxicities observed with paclitaxel including hypersensitivity reactions and neuro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noparticle albumin-boun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paclitaxel has been shown to be more efficacious than solvent-based paclitaxel in breast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P leverages the gp60 / caveolin-1 / SPARC transcytosis pathway to establish a portal to the tumor microenvironment resulting in high intra-tumoral drug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expression of caveolin-1 and SPARC occurs in NSCLC and is associated with poor pro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3" name="Straight Arrow Connector 8"/>
          <p:cNvCxnSpPr/>
          <p:nvPr/>
        </p:nvCxnSpPr>
        <p:spPr>
          <a:xfrm flipV="1">
            <a:off x="3682800" y="2768400"/>
            <a:ext cx="635400" cy="280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4" name="Straight Arrow Connector 10"/>
          <p:cNvCxnSpPr/>
          <p:nvPr/>
        </p:nvCxnSpPr>
        <p:spPr>
          <a:xfrm>
            <a:off x="3683160" y="3580920"/>
            <a:ext cx="660600" cy="229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5" name="TextBox 11"/>
          <p:cNvSpPr/>
          <p:nvPr/>
        </p:nvSpPr>
        <p:spPr>
          <a:xfrm>
            <a:off x="0" y="10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P/C vs P/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Straight Arrow Connector 8"/>
          <p:cNvCxnSpPr/>
          <p:nvPr/>
        </p:nvCxnSpPr>
        <p:spPr>
          <a:xfrm>
            <a:off x="2463840" y="3276720"/>
            <a:ext cx="5342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7" name="AutoShape 13"/>
          <p:cNvSpPr/>
          <p:nvPr/>
        </p:nvSpPr>
        <p:spPr>
          <a:xfrm>
            <a:off x="254160" y="2362320"/>
            <a:ext cx="2166840" cy="1901880"/>
          </a:xfrm>
          <a:prstGeom prst="roundRect">
            <a:avLst>
              <a:gd name="adj" fmla="val 9963"/>
            </a:avLst>
          </a:pr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emo-na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 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IIIb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,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482760" y="4495680"/>
            <a:ext cx="4495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>
            <a:off x="4470480" y="1600200"/>
            <a:ext cx="4343400" cy="1752480"/>
          </a:xfrm>
          <a:prstGeom prst="roundRect">
            <a:avLst>
              <a:gd name="adj" fmla="val 9963"/>
            </a:avLst>
          </a:prstGeom>
          <a:solidFill>
            <a:srgbClr val="00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Paclitaxel 100 mg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1, 8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platin AUC 6 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Pre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2997360" y="3048120"/>
            <a:ext cx="685800" cy="457200"/>
          </a:xfrm>
          <a:prstGeom prst="roundRect">
            <a:avLst>
              <a:gd name="adj" fmla="val 996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3"/>
          <p:cNvSpPr/>
          <p:nvPr/>
        </p:nvSpPr>
        <p:spPr>
          <a:xfrm>
            <a:off x="4470480" y="3581280"/>
            <a:ext cx="4343400" cy="2006640"/>
          </a:xfrm>
          <a:prstGeom prst="roundRect">
            <a:avLst>
              <a:gd name="adj" fmla="val 9963"/>
            </a:avLst>
          </a:prstGeom>
          <a:solidFill>
            <a:srgbClr val="ccff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platin AUC 6 d1 With Premedication of Dexamethasone + Antihistam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5307120" y="6428520"/>
            <a:ext cx="36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1"/>
          <p:cNvSpPr/>
          <p:nvPr/>
        </p:nvSpPr>
        <p:spPr>
          <a:xfrm>
            <a:off x="0" y="41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tudy End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673200" y="142236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imary end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response rate b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ependent radiologic review based 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855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+ partial response (CR, 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ondary end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sion-free and overall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ease control rate: CR + PR + stable disease (SD) ≥1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fety (NCI CTCAE v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Chart 1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16720" cy="41655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8"/>
          <p:cNvSpPr/>
          <p:nvPr/>
        </p:nvSpPr>
        <p:spPr>
          <a:xfrm>
            <a:off x="7120080" y="2565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P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228600" y="152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rimary Endpoin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jective Responses – All His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5"/>
          <p:cNvSpPr/>
          <p:nvPr/>
        </p:nvSpPr>
        <p:spPr>
          <a:xfrm>
            <a:off x="1981080" y="16765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ponse Ratio = 1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1.082 – 1.59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=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 rot="10800000">
            <a:off x="833400" y="2906640"/>
            <a:ext cx="48528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c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3973680" y="6446160"/>
            <a:ext cx="50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permission from 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7034040" y="2712960"/>
            <a:ext cx="123840" cy="123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Chart 1"/>
          <p:cNvGraphicFramePr/>
          <p:nvPr/>
        </p:nvGraphicFramePr>
        <p:xfrm>
          <a:off x="592200" y="1959120"/>
          <a:ext cx="8496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59120"/>
                    <a:ext cx="8496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3"/>
          <p:cNvSpPr/>
          <p:nvPr/>
        </p:nvSpPr>
        <p:spPr>
          <a:xfrm rot="10800000">
            <a:off x="-6480" y="2770560"/>
            <a:ext cx="48528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c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jective Responses by Histology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1600200" y="1023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"/>
          <p:cNvSpPr/>
          <p:nvPr/>
        </p:nvSpPr>
        <p:spPr>
          <a:xfrm>
            <a:off x="5410080" y="1023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n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685800" y="17096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&lt; 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2"/>
          <p:cNvSpPr/>
          <p:nvPr/>
        </p:nvSpPr>
        <p:spPr>
          <a:xfrm>
            <a:off x="2514600" y="1709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0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4648320" y="170964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8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4"/>
          <p:cNvSpPr/>
          <p:nvPr/>
        </p:nvSpPr>
        <p:spPr>
          <a:xfrm>
            <a:off x="6248520" y="17096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0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1295280" y="620568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2666880" y="6205680"/>
            <a:ext cx="152640" cy="15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60236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289800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5181480" y="620568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6553080" y="6205680"/>
            <a:ext cx="152640" cy="15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549036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78564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0" y="63723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* Not a pre-specified end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4164120" y="6447600"/>
            <a:ext cx="48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permission from 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7840800" y="2219400"/>
            <a:ext cx="155520" cy="155520"/>
          </a:xfrm>
          <a:prstGeom prst="rect">
            <a:avLst/>
          </a:prstGeom>
          <a:solidFill>
            <a:srgbClr val="ffffcb"/>
          </a:solidFill>
          <a:ln w="0">
            <a:noFill/>
          </a:ln>
          <a:effectLst>
            <a:outerShdw dist="17819" dir="2700000" blurRad="0" rotWithShape="0">
              <a:srgbClr val="9999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7840800" y="2506680"/>
            <a:ext cx="155520" cy="155520"/>
          </a:xfrm>
          <a:prstGeom prst="rect">
            <a:avLst/>
          </a:prstGeom>
          <a:solidFill>
            <a:srgbClr val="9bccff"/>
          </a:solidFill>
          <a:ln w="0">
            <a:noFill/>
          </a:ln>
          <a:effectLst>
            <a:outerShdw dist="17819" dir="2700000" blurRad="0" rotWithShape="0">
              <a:srgbClr val="5d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983360" y="2120760"/>
            <a:ext cx="906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P/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7983360" y="2408400"/>
            <a:ext cx="906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3"/>
          <p:cNvSpPr/>
          <p:nvPr/>
        </p:nvSpPr>
        <p:spPr>
          <a:xfrm>
            <a:off x="911160" y="2317680"/>
            <a:ext cx="802800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rmal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9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6/122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3%  (4/1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quamous Cell Carcino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7.2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(34/39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2.1%  (32/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enocarcino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6.1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(35/46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3.9%  (34/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mall Cell Carcinoma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3/3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3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rge Cell Carcinoma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4/4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4/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3929400" y="178128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&gt;90% U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542640" y="178128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&gt;95% U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4880" y="358560"/>
            <a:ext cx="8344080" cy="113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P1 Upregulation in Lung Canc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728640" y="2122560"/>
            <a:ext cx="79786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40840" y="617040"/>
            <a:ext cx="800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LIPSE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NSCLC Study Desig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42"/>
          <p:cNvSpPr/>
          <p:nvPr/>
        </p:nvSpPr>
        <p:spPr>
          <a:xfrm>
            <a:off x="5603760" y="1374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3"/>
          <p:cNvSpPr/>
          <p:nvPr/>
        </p:nvSpPr>
        <p:spPr>
          <a:xfrm>
            <a:off x="5643360" y="1374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86"/>
          <p:cNvSpPr/>
          <p:nvPr/>
        </p:nvSpPr>
        <p:spPr>
          <a:xfrm>
            <a:off x="3765600" y="3767040"/>
            <a:ext cx="623880" cy="685800"/>
          </a:xfrm>
          <a:prstGeom prst="rightArrow">
            <a:avLst>
              <a:gd name="adj1" fmla="val 56148"/>
              <a:gd name="adj2" fmla="val 39694"/>
            </a:avLst>
          </a:prstGeom>
          <a:solidFill>
            <a:srgbClr val="00ff00"/>
          </a:solidFill>
          <a:ln w="15840">
            <a:solidFill>
              <a:srgbClr val="008000"/>
            </a:solidFill>
            <a:miter/>
          </a:ln>
          <a:effectLst>
            <a:outerShdw dist="17819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87"/>
          <p:cNvSpPr/>
          <p:nvPr/>
        </p:nvSpPr>
        <p:spPr>
          <a:xfrm>
            <a:off x="3773520" y="2322360"/>
            <a:ext cx="623880" cy="685800"/>
          </a:xfrm>
          <a:prstGeom prst="rightArrow">
            <a:avLst>
              <a:gd name="adj1" fmla="val 56148"/>
              <a:gd name="adj2" fmla="val 39694"/>
            </a:avLst>
          </a:prstGeom>
          <a:solidFill>
            <a:srgbClr val="00ff00"/>
          </a:solidFill>
          <a:ln w="15840">
            <a:solidFill>
              <a:srgbClr val="008000"/>
            </a:solidFill>
            <a:miter/>
          </a:ln>
          <a:effectLst>
            <a:outerShdw dist="17819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4605480" y="2025720"/>
            <a:ext cx="4116240" cy="12027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00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 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5 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SI201 5.6 mg/kg D 4,8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4649760" y="3811680"/>
            <a:ext cx="4116240" cy="78552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00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 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5 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3030480" y="22287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384120" y="2598840"/>
            <a:ext cx="2322720" cy="11289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operable locally adv/ metastatic d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1:19:19Z</dcterms:created>
  <dc:creator>Research To Practice</dc:creator>
  <dc:description/>
  <cp:keywords/>
  <dc:language>en-US</dc:language>
  <cp:lastModifiedBy>Mac Pro E703803Y4PC</cp:lastModifiedBy>
  <dcterms:modified xsi:type="dcterms:W3CDTF">2011-05-11T18:05:16Z</dcterms:modified>
  <cp:revision>363</cp:revision>
  <dc:subject/>
  <dc:title>PowerPoint Presentation</dc:title>
</cp:coreProperties>
</file>