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3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A12-AF57-4C18-93DC-CB1DB2F17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34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 type="sldNum" idx="35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D6E7-6A5F-4467-A1D8-9201CED5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9" name="Slide Number Placeholder 3"/>
          <p:cNvSpPr/>
          <p:nvPr/>
        </p:nvSpPr>
        <p:spPr>
          <a:xfrm>
            <a:off x="4029120" y="8926560"/>
            <a:ext cx="3081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fld id="{4905EBD6-7739-4E53-A8F5-6872FEF4A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2C22CB-64A2-4228-97CD-470D2318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CD7BF0-8FDA-4AB1-BDED-E8A53E14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694400" cy="35211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27320" y="8926560"/>
            <a:ext cx="3083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910436-A8C0-4701-80F3-CD624307D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831960" y="4376880"/>
            <a:ext cx="5332320" cy="4232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0606-7F59-4A0B-A913-5B8146F0C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B648-D89E-46B7-9534-51F8CB4F6F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7A8C1-B67D-4116-9D9E-0D2CD6C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DF1DF-D840-466B-B132-0063874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D28EE-6C86-4771-AE2B-C5FF6AF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4906B-4DC5-46EE-8E6E-826F2C7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1DE80-A152-4052-B2C0-93CFC78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193DE-68ED-4035-B24E-0BE8BB5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D0DE7-781E-4720-AA17-8FDC15DC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DFB95-2B93-4997-9D59-604FEA87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88015-F1C2-4202-BF2C-7B30B11A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4583A-7DBE-4FF9-89AB-20934F71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DFF1-D544-42CE-B25C-B72FE7B563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55C36-A229-40B1-8501-80B1AF6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30C88-3A40-4225-9927-C146AD9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028BA-D3D2-4889-B7D2-00AD742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5E58D-D0B8-471E-BC24-E7E117A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FD1EC-2895-4E22-803D-4A8D1A0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31EB8-276A-40EB-9B28-5E75433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93450-31C9-4586-8279-FCD1B28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FE06F-3FEB-42FA-9D1A-736E5AF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3873E-F308-456C-B1E8-CDB29F9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7375C-F5D1-4D35-BF08-34C49105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1890-DA4D-4B7F-8E50-8A0E16F06E3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E1287-A49A-48D4-9D1D-89BF89B3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25F6E-650B-4BBB-9740-2F4A5E59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650650-A113-4E0D-918C-28B428AC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380E09-97B6-43C8-94CD-1B77AC50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A4452-F1A0-4C76-B7EE-93B9310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55923B-E829-4DC9-9733-19C71D98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890FE3-BDFF-4CC6-A8CF-C9373F3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9EA168-44B7-4FFA-9A48-0C95381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9B3FC-9DB4-446A-BD2B-F1421CF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78094-D711-4F62-A1E1-D532976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9384A-FBCB-45AF-BDBD-5CFBC263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1BF62-DA93-4B5F-B5E7-1A61D68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AB80C3-A128-4D2F-8A9D-232C1053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926062-6788-42F3-9C63-5E08224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A15EDB-911A-469A-9F64-3334EFA5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E7C82E-6B54-4E8C-8377-60DAB14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26A6C6-8E9B-4D11-9104-56998B5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E1FEBB-32E6-46E4-B9ED-DC5DFAC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EC198-213E-43F7-B154-04FFEAA6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02AC68-A64E-4E4D-A87C-F111E70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6F16E2-6EAD-4C59-A018-6D48EAAC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CCF5B-2F7D-4D8F-866A-C50E1C2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B48D51-AA31-425E-A751-93F87E40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1546AE-EF54-4A5F-BB44-2CA3D2A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9CF6F-42D6-4BAC-A88E-BE5AB79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15A14-82E7-4D98-987D-B4AC9222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CE954A-9BD3-494F-A6C2-F4B2EB9E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274AC-7D00-44D7-880C-FE4BAFF6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19212-14F2-4C7A-AD42-D3A7C2E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B96DE-A405-447A-AC72-D1260102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F433A-3727-47AB-B4B8-9F62CCD2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49AC6-FBEC-4834-97C5-61CB505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461B-829E-4BCB-8B56-F00E60C36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DD04B-AE40-4F62-A039-35E59CB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32E67-CEB5-4761-9DD7-DE585A8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F417-B81C-4BEC-A6F8-2902187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FAC85-0D0B-46C4-9383-75AE8CEB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6D5B-5700-4F86-9B0F-B5E49581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DE9-45DF-4DE1-96A9-98190CEA41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3EB-2396-4A22-9272-E16EC7D320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B9D-2923-419D-9D23-C8A1DBAEDB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39B3-4E8B-4BCA-B786-4727F77E65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F514-3A00-4153-A7B9-7752DD2C8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8B28-AF7D-4745-B965-7D54E1307A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907-57AB-450D-A7EF-084F0E1018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408-F177-42BF-A7C0-11776B637B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13D6-B21C-4A57-A7D9-703106DE52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4A0-AB33-4360-94CD-CFF8C9A11A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CE81-DA5A-48D0-98FA-F1EC958DCB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745-AFD8-4A61-8DD9-2A4F1AFC8E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A00E-A592-4DA9-A426-DDEC723834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485B-4AC5-4647-A4C9-382DDF80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91BA-E829-4A53-83F0-F1A79CB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3120-16E1-4AE3-BB0A-EC9B340B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F335-C071-4493-81D8-07800D30C8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9D24-B555-4F41-B0FA-A94CC672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B6B9-A6A3-474C-85D0-120C156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F5FF-6A1B-42C1-9D5A-1F214B0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C03F-23FC-421B-9001-3A521A10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FD0C-A0FB-4844-9C50-BF0DEBA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D466-A554-4682-B000-B33F552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E62B-1E46-41F1-86D8-968803B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8E42-780B-48E8-87CA-D6B87020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8CF4-EE8E-4F8D-B331-E74514E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A494-5367-4511-87A5-EC8F97AC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2166-70CC-4E22-8094-6AD41F31AD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0B2A-199A-4F78-9940-B79A1C2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C910-A10A-406A-9BA4-E09207D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A060-D21D-443C-8911-DA20C2C3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D9D6-C7B9-4C52-A5BA-B4132B2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F284-2B30-4246-8081-5034FE0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402C-CF0F-4476-A8D8-40D704E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9241-D730-48C6-A416-B09299F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5BFF-955C-420C-ACDB-A0247A6E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7FD7-D8CB-4EC4-8FFB-A752B6E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F017-197C-44A1-B1DC-5BAF2A54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C6ED-5331-43C3-81DE-367AD2285F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0632-7C21-4F36-8947-B4F0F63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9782E-FF01-49F3-8CE8-198D4700EC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F7299-A98E-48E3-879A-87BA375EF8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DD57C-0B4A-44B3-AA16-6465435E41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558CD-654B-4F6B-B672-D51128083C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D8D5B-B6D6-408F-B908-491B7640D0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18EA07-2276-4AD1-B31A-C214DB9211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BF281-DCFA-4008-A1C8-FC865A4B9B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ED5B0-3874-4424-AD83-3BD508F98E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317FEA-49A0-4B40-A058-B9F6623A8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196C-1ADB-4116-A1A0-2D19087DDE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67AAF9-4168-4268-8733-D29DCEBC17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AC7FC-AE99-4208-88F3-65F8050072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ABF4D-4925-4D17-B1D1-F3F1A716C4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F30F6-9EC7-442B-89EE-CD23816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524BD-7C85-4B8A-90B1-9C54966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51AC5-20CE-4839-976D-A1BBDB3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40C67-F9D4-420D-B822-3458A9D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CA7E6-E733-44F8-BCAD-8DB792A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DC121-BDA9-4C76-9980-69206FF4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A4909-9A9F-4494-9511-281D7B2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13F6-CE51-4A10-9CBB-755F6934A5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0DD58-6843-42EA-8589-0B6183B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6F0CC-8DDF-447E-A98A-90FEE63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71E59-90D3-4919-9C47-61F1698C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349A7-8CA5-4D13-B9B7-AA42293D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F2A78-7F35-4930-85B4-9BAFBA86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02511-015E-4C80-B332-B20CEF36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08352-1193-49BA-8517-33F6D611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14DBC-7F1F-4CB1-9E87-820A707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E7C53-A20B-42E8-9B58-2AC4BAB2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C4071-8746-4D5C-8AF4-49E8FA63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133F-AA51-4C66-ADFE-4A3BF8F10A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4CCDC-9FA3-4157-9313-F5D778D2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1AD6D-9593-4D70-8F26-C3FE3E6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31970-4FF0-4ACF-9117-331C88A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7EAC1-4D38-4C2A-8B89-4D93A103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56644-896B-46B0-A0CC-201F343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DFB3F-2915-4270-9351-F564660A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5001E-109C-4488-8AC0-71AAD625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2F1A6-5D5A-4F08-98AA-5BC12BC5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75C05-D82D-4F67-8379-C05C8B0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A70F0-8DA7-4A07-864A-E76EEE9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DE3-3E88-41C7-8EFF-E419EE3E4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80D4-B559-409D-BA3D-A05617C66BF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3E0-0440-4CD2-AA70-51FBCDFF6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CD9-731A-4D0C-942B-CFE20CC6858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48F-488C-4811-8327-4F1598EC7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5A7-D71B-4E8E-91C2-1A369A4B287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FBA-AE6B-4521-80B0-42D7BF40F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030-D9FE-47DC-85B8-B113B5D34C9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4AC-6B82-4F57-A4DC-65799ABEF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536-5517-4580-ACF0-2CD82F7A0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1B58-DCC9-4F85-A18B-68A48903529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BD6-0FA3-44DB-9180-408E02F0C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588-FF06-43F6-BBF9-0CBC409C205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B4D-262F-4CEF-B2B9-8230A4700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3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AAB-BAAB-4D35-AEE1-F86B51DF0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A4F-D095-425C-A4B0-E79F1A8ED67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7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3A5-AB8D-44B9-8658-3B487AE6A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CA5A-EA8E-40FF-A9EC-D121118D09E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0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98B-E350-4FED-887E-CB6F68F10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31C5-BE86-4253-8FBF-2C349053853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3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EF96-EF94-4B8B-B1C0-3BF2060DD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5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ationale for Targeting c-MET in Lung Cancer:  The BATTL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FS and OS i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-Squamous Cell Histology Patients (n=117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90"/>
          <p:cNvSpPr/>
          <p:nvPr/>
        </p:nvSpPr>
        <p:spPr>
          <a:xfrm>
            <a:off x="114480" y="64162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PFS (Investigator Asses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18.9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9.7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 = 0.71 (95% CI 0.46 - 1.10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 = 0.61 (95% CI 0.47 - 0.98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43.1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29.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=0.72 (95% CI 0.60 - 1.30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=0.58 (95% CI 0.34 - 0.99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4600" y="6045120"/>
            <a:ext cx="676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45"/>
          <p:cNvSpPr/>
          <p:nvPr/>
        </p:nvSpPr>
        <p:spPr>
          <a:xfrm>
            <a:off x="196920" y="1523880"/>
            <a:ext cx="888372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ationale for targeting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is amplified, mutated, overexpressed in many tu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expression is associated with a worse prognosis in many cancers including NSC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activation is implicated in resistance to erlotinib/gefitinib in pts with activating EGFR mu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tMAb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ne-armed format designed to prevent HGF-mediated stimulation of pathw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clinical activity across multiple tumo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9200" y="209520"/>
            <a:ext cx="861048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tMAb is an Anti-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e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ovalen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t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dy that Inhibits HGF-Mediated Acti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Box 153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53"/>
          <p:cNvGrpSpPr/>
          <p:nvPr/>
        </p:nvGrpSpPr>
        <p:grpSpPr>
          <a:xfrm>
            <a:off x="5349240" y="3268800"/>
            <a:ext cx="810000" cy="711360"/>
            <a:chOff x="5349240" y="3268800"/>
            <a:chExt cx="810000" cy="711360"/>
          </a:xfrm>
        </p:grpSpPr>
        <p:sp>
          <p:nvSpPr>
            <p:cNvPr id="769" name="AutoShape 54"/>
            <p:cNvSpPr/>
            <p:nvPr/>
          </p:nvSpPr>
          <p:spPr>
            <a:xfrm flipV="1" rot="18306000">
              <a:off x="5649480" y="3548520"/>
              <a:ext cx="496800" cy="289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5"/>
            <p:cNvSpPr/>
            <p:nvPr/>
          </p:nvSpPr>
          <p:spPr>
            <a:xfrm flipV="1" rot="2106000">
              <a:off x="5361120" y="338472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52"/>
          <p:cNvGrpSpPr/>
          <p:nvPr/>
        </p:nvGrpSpPr>
        <p:grpSpPr>
          <a:xfrm>
            <a:off x="5363640" y="1591920"/>
            <a:ext cx="810000" cy="711360"/>
            <a:chOff x="5363640" y="1591920"/>
            <a:chExt cx="810000" cy="711360"/>
          </a:xfrm>
        </p:grpSpPr>
        <p:sp>
          <p:nvSpPr>
            <p:cNvPr id="772" name="AutoShape 50"/>
            <p:cNvSpPr/>
            <p:nvPr/>
          </p:nvSpPr>
          <p:spPr>
            <a:xfrm rot="3294000">
              <a:off x="5663880" y="1733760"/>
              <a:ext cx="49680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51"/>
            <p:cNvSpPr/>
            <p:nvPr/>
          </p:nvSpPr>
          <p:spPr>
            <a:xfrm rot="19494000">
              <a:off x="5375520" y="199800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12"/>
          <p:cNvSpPr/>
          <p:nvPr/>
        </p:nvSpPr>
        <p:spPr>
          <a:xfrm>
            <a:off x="6078600" y="1590840"/>
            <a:ext cx="2684520" cy="10047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 MetMAb (15 mg/kg 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6713640" y="5295960"/>
            <a:ext cx="1334880" cy="5806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ition of MetMAb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6"/>
          <p:cNvSpPr/>
          <p:nvPr/>
        </p:nvSpPr>
        <p:spPr>
          <a:xfrm>
            <a:off x="3801960" y="2203560"/>
            <a:ext cx="1943280" cy="1092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ratification Factor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obacco Histor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erformance Stat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7089840" y="490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458640" y="4265640"/>
            <a:ext cx="32306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-Primar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overall ITT pop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 Ke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Overall ITT pati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all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/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2240" y="230040"/>
            <a:ext cx="8612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6078600" y="3233880"/>
            <a:ext cx="2730600" cy="11318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 (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201600" y="1895400"/>
            <a:ext cx="2438280" cy="17643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Key Eligibilit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nd/3rd-line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issue 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S 0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7"/>
          <p:cNvSpPr/>
          <p:nvPr/>
        </p:nvSpPr>
        <p:spPr>
          <a:xfrm>
            <a:off x="3080160" y="1784520"/>
            <a:ext cx="307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3021120" y="1468440"/>
            <a:ext cx="7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40"/>
          <p:cNvGrpSpPr/>
          <p:nvPr/>
        </p:nvGrpSpPr>
        <p:grpSpPr>
          <a:xfrm>
            <a:off x="2631960" y="2357280"/>
            <a:ext cx="342720" cy="871560"/>
            <a:chOff x="2631960" y="2357280"/>
            <a:chExt cx="342720" cy="871560"/>
          </a:xfrm>
        </p:grpSpPr>
        <p:sp>
          <p:nvSpPr>
            <p:cNvPr id="785" name="AutoShape 36"/>
            <p:cNvSpPr/>
            <p:nvPr/>
          </p:nvSpPr>
          <p:spPr>
            <a:xfrm rot="5400000">
              <a:off x="2429280" y="268344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9"/>
            <p:cNvSpPr/>
            <p:nvPr/>
          </p:nvSpPr>
          <p:spPr>
            <a:xfrm>
              <a:off x="2631960" y="262728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"/>
          <p:cNvGrpSpPr/>
          <p:nvPr/>
        </p:nvGrpSpPr>
        <p:grpSpPr>
          <a:xfrm>
            <a:off x="3459240" y="2392200"/>
            <a:ext cx="342720" cy="871560"/>
            <a:chOff x="3459240" y="2392200"/>
            <a:chExt cx="342720" cy="871560"/>
          </a:xfrm>
        </p:grpSpPr>
        <p:sp>
          <p:nvSpPr>
            <p:cNvPr id="788" name="AutoShape 42"/>
            <p:cNvSpPr/>
            <p:nvPr/>
          </p:nvSpPr>
          <p:spPr>
            <a:xfrm rot="5400000">
              <a:off x="3256560" y="271836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3"/>
            <p:cNvSpPr/>
            <p:nvPr/>
          </p:nvSpPr>
          <p:spPr>
            <a:xfrm>
              <a:off x="3459240" y="266220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30"/>
          <p:cNvGrpSpPr/>
          <p:nvPr/>
        </p:nvGrpSpPr>
        <p:grpSpPr>
          <a:xfrm>
            <a:off x="6827400" y="4422600"/>
            <a:ext cx="945720" cy="474120"/>
            <a:chOff x="6827400" y="4422600"/>
            <a:chExt cx="945720" cy="474120"/>
          </a:xfrm>
        </p:grpSpPr>
        <p:sp>
          <p:nvSpPr>
            <p:cNvPr id="791" name="AutoShape 45"/>
            <p:cNvSpPr/>
            <p:nvPr/>
          </p:nvSpPr>
          <p:spPr>
            <a:xfrm rot="10800000">
              <a:off x="6827400" y="4709880"/>
              <a:ext cx="945720" cy="186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6"/>
            <p:cNvSpPr/>
            <p:nvPr/>
          </p:nvSpPr>
          <p:spPr>
            <a:xfrm rot="5400000">
              <a:off x="7157520" y="4388760"/>
              <a:ext cx="290520" cy="35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31"/>
          <p:cNvSpPr/>
          <p:nvPr/>
        </p:nvSpPr>
        <p:spPr>
          <a:xfrm>
            <a:off x="865440" y="14349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2"/>
          <p:cNvSpPr/>
          <p:nvPr/>
        </p:nvSpPr>
        <p:spPr>
          <a:xfrm>
            <a:off x="7445160" y="26290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3"/>
          <p:cNvSpPr/>
          <p:nvPr/>
        </p:nvSpPr>
        <p:spPr>
          <a:xfrm>
            <a:off x="7975440" y="4394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33"/>
          <p:cNvSpPr/>
          <p:nvPr/>
        </p:nvSpPr>
        <p:spPr>
          <a:xfrm>
            <a:off x="8070840" y="5375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35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81200" y="399960"/>
            <a:ext cx="77198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IT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9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11.1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71 - 1.67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6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7.1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8.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62 - 1.91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76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1"/>
          <p:cNvSpPr/>
          <p:nvPr/>
        </p:nvSpPr>
        <p:spPr>
          <a:xfrm>
            <a:off x="0" y="6400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2320" y="217440"/>
            <a:ext cx="832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Met High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12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6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6 (95% CI 0.31 - 1.02);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0.05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7.7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7.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5 (95% CI 0.26 - 1.16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1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MetMAb n=4 (6.3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Placebo n=3 (4.7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pts from the Erlotinib+Placebo arm crossed over to MetM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and OS are consistent with previously reported findings in similar disease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lotinib+MetMAb improves both PFS and OS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t 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SCLC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hibition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principles of real-time tumor biopsy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s are helpful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are not very positive or neg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ugs may add side effects/toxi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of c-MET/HGF in lung cancer to be 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1400" y="30636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BATTL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4240" y="1305000"/>
            <a:ext cx="815652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form for integrated translational re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nical trial progr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vel trial des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omarker disco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70000"/>
              </a:lnSpc>
              <a:spcBef>
                <a:spcPts val="18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Hypo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 time biopsies are possible to more accurately reflect aberrant signaling pathways of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ching targeted agents with abnormal pathways will improve disease control in lung cancer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-week disease control is an acceptable surrogate for efficacy in patients with pretreated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85"/>
          <p:cNvGrpSpPr/>
          <p:nvPr/>
        </p:nvGrpSpPr>
        <p:grpSpPr>
          <a:xfrm>
            <a:off x="289080" y="4711680"/>
            <a:ext cx="8363520" cy="1113840"/>
            <a:chOff x="289080" y="4711680"/>
            <a:chExt cx="8363520" cy="1113840"/>
          </a:xfrm>
        </p:grpSpPr>
        <p:sp>
          <p:nvSpPr>
            <p:cNvPr id="683" name="Line 54"/>
            <p:cNvSpPr/>
            <p:nvPr/>
          </p:nvSpPr>
          <p:spPr>
            <a:xfrm>
              <a:off x="4368960" y="4711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9"/>
            <p:cNvSpPr/>
            <p:nvPr/>
          </p:nvSpPr>
          <p:spPr>
            <a:xfrm>
              <a:off x="901800" y="5143680"/>
              <a:ext cx="6921360" cy="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0"/>
            <p:cNvSpPr/>
            <p:nvPr/>
          </p:nvSpPr>
          <p:spPr>
            <a:xfrm>
              <a:off x="91440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2590920" y="51688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4673520" y="5143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781056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"/>
            <p:cNvSpPr/>
            <p:nvPr/>
          </p:nvSpPr>
          <p:spPr>
            <a:xfrm>
              <a:off x="289080" y="5365800"/>
              <a:ext cx="1279440" cy="45972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7168680" y="5361120"/>
              <a:ext cx="1483920" cy="4597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rafe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1762560" y="5364000"/>
              <a:ext cx="172008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ndeta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3676680" y="5365800"/>
              <a:ext cx="3186000" cy="459720"/>
            </a:xfrm>
            <a:prstGeom prst="rect">
              <a:avLst/>
            </a:pr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 + Bexarot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AutoShape 3"/>
          <p:cNvSpPr/>
          <p:nvPr/>
        </p:nvSpPr>
        <p:spPr>
          <a:xfrm>
            <a:off x="3822840" y="1379520"/>
            <a:ext cx="1101600" cy="3614760"/>
          </a:xfrm>
          <a:prstGeom prst="downArrow">
            <a:avLst>
              <a:gd name="adj1" fmla="val 59944"/>
              <a:gd name="adj2" fmla="val 21906"/>
            </a:avLst>
          </a:prstGeom>
          <a:solidFill>
            <a:srgbClr val="ff00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2898720" y="3710160"/>
            <a:ext cx="2959200" cy="825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qual  </a:t>
            </a:r>
            <a:r>
              <a:rPr b="1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93600" y="6016680"/>
            <a:ext cx="89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end point: 8 week Disease Control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2362320" y="863640"/>
            <a:ext cx="4005000" cy="520560"/>
          </a:xfrm>
          <a:prstGeom prst="rect">
            <a:avLst/>
          </a:prstGeom>
          <a:noFill/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brell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2440" y="1224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TTLE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55"/>
          <p:cNvSpPr/>
          <p:nvPr/>
        </p:nvSpPr>
        <p:spPr>
          <a:xfrm>
            <a:off x="2567160" y="2652840"/>
            <a:ext cx="365436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KRAS/BRAF     VEGF      RXR/Cyclin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83"/>
          <p:cNvGrpSpPr/>
          <p:nvPr/>
        </p:nvGrpSpPr>
        <p:grpSpPr>
          <a:xfrm>
            <a:off x="2055960" y="1906560"/>
            <a:ext cx="5027400" cy="520560"/>
            <a:chOff x="2055960" y="1906560"/>
            <a:chExt cx="5027400" cy="520560"/>
          </a:xfrm>
        </p:grpSpPr>
        <p:sp>
          <p:nvSpPr>
            <p:cNvPr id="700" name="Line 59"/>
            <p:cNvSpPr/>
            <p:nvPr/>
          </p:nvSpPr>
          <p:spPr>
            <a:xfrm flipV="1">
              <a:off x="2055960" y="2146320"/>
              <a:ext cx="5027400" cy="1440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4"/>
            <p:cNvSpPr/>
            <p:nvPr/>
          </p:nvSpPr>
          <p:spPr>
            <a:xfrm>
              <a:off x="3200400" y="1906560"/>
              <a:ext cx="2408400" cy="520560"/>
            </a:xfrm>
            <a:prstGeom prst="rect">
              <a:avLst/>
            </a:prstGeom>
            <a:noFill/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re Biops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84"/>
          <p:cNvGrpSpPr/>
          <p:nvPr/>
        </p:nvGrpSpPr>
        <p:grpSpPr>
          <a:xfrm>
            <a:off x="6292800" y="1308240"/>
            <a:ext cx="2611440" cy="2868480"/>
            <a:chOff x="6292800" y="1308240"/>
            <a:chExt cx="2611440" cy="2868480"/>
          </a:xfrm>
        </p:grpSpPr>
        <p:sp>
          <p:nvSpPr>
            <p:cNvPr id="703" name="Rectangle 60"/>
            <p:cNvSpPr/>
            <p:nvPr/>
          </p:nvSpPr>
          <p:spPr>
            <a:xfrm>
              <a:off x="6292800" y="374976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5"/>
            <p:cNvSpPr/>
            <p:nvPr/>
          </p:nvSpPr>
          <p:spPr>
            <a:xfrm>
              <a:off x="648252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7"/>
            <p:cNvSpPr/>
            <p:nvPr/>
          </p:nvSpPr>
          <p:spPr>
            <a:xfrm>
              <a:off x="798120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8"/>
            <p:cNvSpPr/>
            <p:nvPr/>
          </p:nvSpPr>
          <p:spPr>
            <a:xfrm>
              <a:off x="6445080" y="2330280"/>
              <a:ext cx="2459160" cy="825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omarker Pro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75"/>
            <p:cNvGrpSpPr/>
            <p:nvPr/>
          </p:nvGrpSpPr>
          <p:grpSpPr>
            <a:xfrm>
              <a:off x="6459480" y="1308240"/>
              <a:ext cx="2433600" cy="2746080"/>
              <a:chOff x="6459480" y="1308240"/>
              <a:chExt cx="2433600" cy="2746080"/>
            </a:xfrm>
          </p:grpSpPr>
          <p:sp>
            <p:nvSpPr>
              <p:cNvPr id="708" name="Rectangle 58"/>
              <p:cNvSpPr/>
              <p:nvPr/>
            </p:nvSpPr>
            <p:spPr>
              <a:xfrm>
                <a:off x="6599160" y="3546360"/>
                <a:ext cx="3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2"/>
              <p:cNvSpPr/>
              <p:nvPr/>
            </p:nvSpPr>
            <p:spPr>
              <a:xfrm>
                <a:off x="6599160" y="374976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3"/>
              <p:cNvSpPr/>
              <p:nvPr/>
            </p:nvSpPr>
            <p:spPr>
              <a:xfrm>
                <a:off x="7882560" y="37497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2"/>
              <p:cNvSpPr/>
              <p:nvPr/>
            </p:nvSpPr>
            <p:spPr>
              <a:xfrm>
                <a:off x="6497640" y="1336680"/>
                <a:ext cx="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3"/>
              <p:cNvSpPr/>
              <p:nvPr/>
            </p:nvSpPr>
            <p:spPr>
              <a:xfrm>
                <a:off x="7647840" y="130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69"/>
              <p:cNvGrpSpPr/>
              <p:nvPr/>
            </p:nvGrpSpPr>
            <p:grpSpPr>
              <a:xfrm>
                <a:off x="6464160" y="3197160"/>
                <a:ext cx="1531800" cy="691920"/>
                <a:chOff x="6464160" y="3197160"/>
                <a:chExt cx="1531800" cy="691920"/>
              </a:xfrm>
            </p:grpSpPr>
            <p:sp>
              <p:nvSpPr>
                <p:cNvPr id="714" name="Rectangle 61"/>
                <p:cNvSpPr/>
                <p:nvPr/>
              </p:nvSpPr>
              <p:spPr>
                <a:xfrm>
                  <a:off x="6464160" y="3197160"/>
                  <a:ext cx="1531800" cy="69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5" name="Picture 63" descr=""/>
                <p:cNvPicPr/>
                <p:nvPr/>
              </p:nvPicPr>
              <p:blipFill>
                <a:blip r:embed="rId1"/>
                <a:srcRect l="0" t="-17939" r="36167" b="0"/>
                <a:stretch/>
              </p:blipFill>
              <p:spPr>
                <a:xfrm>
                  <a:off x="6491160" y="3232080"/>
                  <a:ext cx="148716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16" name="Pictur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6640" y="1554120"/>
                <a:ext cx="744840" cy="74772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7" name="Picture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97840" y="1557360"/>
                <a:ext cx="768240" cy="7412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8" name="Pictur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59480" y="1555920"/>
                <a:ext cx="822240" cy="74916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graphicFrame>
            <p:nvGraphicFramePr>
              <p:cNvPr id="719" name="Object 73"/>
              <p:cNvGraphicFramePr/>
              <p:nvPr/>
            </p:nvGraphicFramePr>
            <p:xfrm>
              <a:off x="8007480" y="3203640"/>
              <a:ext cx="885600" cy="67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0" name="Object 7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007480" y="3203640"/>
                        <a:ext cx="885600" cy="677880"/>
                      </a:xfrm>
                      <a:prstGeom prst="rect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21" name="Group 82"/>
          <p:cNvGrpSpPr/>
          <p:nvPr/>
        </p:nvGrpSpPr>
        <p:grpSpPr>
          <a:xfrm>
            <a:off x="171360" y="1300320"/>
            <a:ext cx="2092320" cy="2597040"/>
            <a:chOff x="171360" y="1300320"/>
            <a:chExt cx="2092320" cy="2597040"/>
          </a:xfrm>
        </p:grpSpPr>
        <p:sp>
          <p:nvSpPr>
            <p:cNvPr id="722" name="Line 76"/>
            <p:cNvSpPr/>
            <p:nvPr/>
          </p:nvSpPr>
          <p:spPr>
            <a:xfrm flipH="1">
              <a:off x="1584000" y="2013120"/>
              <a:ext cx="385560" cy="475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77" descr=""/>
            <p:cNvPicPr/>
            <p:nvPr/>
          </p:nvPicPr>
          <p:blipFill>
            <a:blip r:embed="rId7"/>
            <a:srcRect l="23435" t="13124" r="32064" b="36751"/>
            <a:stretch/>
          </p:blipFill>
          <p:spPr>
            <a:xfrm>
              <a:off x="171360" y="1539720"/>
              <a:ext cx="2092320" cy="235764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724" name="Line 78"/>
            <p:cNvSpPr/>
            <p:nvPr/>
          </p:nvSpPr>
          <p:spPr>
            <a:xfrm>
              <a:off x="258840" y="1300320"/>
              <a:ext cx="385560" cy="475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79"/>
            <p:cNvSpPr/>
            <p:nvPr/>
          </p:nvSpPr>
          <p:spPr>
            <a:xfrm>
              <a:off x="785880" y="2154240"/>
              <a:ext cx="69840" cy="10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45"/>
          <p:cNvSpPr/>
          <p:nvPr/>
        </p:nvSpPr>
        <p:spPr>
          <a:xfrm>
            <a:off x="4807080" y="650088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F/c-MET one of the most frequently dysregulated pathways in 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olid tumors and hematologic maligna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 tumors display c-MET 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lea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gration and inva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giogen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ected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36480" y="1571760"/>
          <a:ext cx="7871040" cy="4556160"/>
        </p:xfrm>
        <a:graphic>
          <a:graphicData uri="http://schemas.openxmlformats.org/drawingml/2006/table">
            <a:tbl>
              <a:tblPr/>
              <a:tblGrid>
                <a:gridCol w="787104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880 — Multi-target kinase inhibitor (c-MET, VEGFR, PDGFR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184 — Multi-target kinase inhibitor (c-MET, VEGFR, RET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Q197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2341066 — c-MET kinase inhibitor (also active against ALK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470 — Multi-target kinase inhibitor (mutant KIT, PDGFR, FLT3, and c-MET, RET, RAD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X523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G102 — Anti-human HGF fully humanized IgG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143966 — Anti-human c-MET humanized monovalent A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CD265 — Multi-target kinase inhibitor (c-MET, RON, VEGFR1/2/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Rectangle 111"/>
          <p:cNvSpPr/>
          <p:nvPr/>
        </p:nvSpPr>
        <p:spPr>
          <a:xfrm>
            <a:off x="136440" y="64612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. Liu et al. Expert Opinion on Investigational Drug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95440" y="514080"/>
            <a:ext cx="68911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Q 197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6124680" y="853920"/>
            <a:ext cx="2732040" cy="168444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734" name="TextBox 6"/>
          <p:cNvSpPr/>
          <p:nvPr/>
        </p:nvSpPr>
        <p:spPr>
          <a:xfrm>
            <a:off x="228600" y="1805040"/>
            <a:ext cx="8496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ATP competitive inhibitor of c-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 mechanism of binding stabiliz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ve conformation of c-ME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ound demonstrates broad-spectrum, anti-tumor activity in a number of tumor xenograft models (including NSC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vivo anti-tumor activity of ARQ 197 + EGFR inhibitor greater than either drug alon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stration of safety and linear PK in phase I combination with EGFR inhibitor erlotini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95200" y="6257880"/>
            <a:ext cx="84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nshi N et al. Mol Cancer Ther 2010;Epub ahead of print. 2.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ublished; courtesy of ArQule, Inc. and Kyowa Hakko Kirin Co., Ltd. 3. </a:t>
            </a:r>
            <a:r>
              <a:rPr b="0" lang="fi-FI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ux I et al. ASCO 2009. 4.</a:t>
            </a:r>
            <a:r>
              <a:rPr b="0" lang="da-DK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ldman J et al. IASLC 2009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47242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5"/>
          <p:cNvSpPr/>
          <p:nvPr/>
        </p:nvSpPr>
        <p:spPr>
          <a:xfrm>
            <a:off x="43747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 flipV="1">
            <a:off x="43902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38512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1"/>
          <p:cNvSpPr/>
          <p:nvPr/>
        </p:nvSpPr>
        <p:spPr>
          <a:xfrm flipV="1">
            <a:off x="323460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4"/>
          <p:cNvSpPr/>
          <p:nvPr/>
        </p:nvSpPr>
        <p:spPr>
          <a:xfrm>
            <a:off x="8280360" y="3465360"/>
            <a:ext cx="3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860436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>
            <a:off x="82800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219640" y="2960640"/>
            <a:ext cx="2916360" cy="8766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5219640" y="1808280"/>
            <a:ext cx="2919600" cy="9010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ARQ 197 360 mg PO B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6"/>
          <p:cNvSpPr/>
          <p:nvPr/>
        </p:nvSpPr>
        <p:spPr>
          <a:xfrm>
            <a:off x="838080" y="4316400"/>
            <a:ext cx="310212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points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° P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° ORR,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t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ossover: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826920" y="2133720"/>
            <a:ext cx="232272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 prior EGFR TK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4211640" y="4329000"/>
            <a:ext cx="464508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3 sites in 6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y accrual over 11 months (10/08-9/0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ization stratified by prognostic factors incl. sex, age, smoking, histology, performance status, prior therapy and best response, and geography (U.S. vs. ex-U.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864432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0"/>
          <p:cNvSpPr/>
          <p:nvPr/>
        </p:nvSpPr>
        <p:spPr>
          <a:xfrm>
            <a:off x="673200" y="6347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9840" y="274320"/>
            <a:ext cx="893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rogression-Free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90"/>
          <p:cNvSpPr/>
          <p:nvPr/>
        </p:nvSpPr>
        <p:spPr>
          <a:xfrm>
            <a:off x="376200" y="64684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an Progression-Free Survi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16.1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9.7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azard ratio (HR)=0.81 (95% CI 0.57 - 1.15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0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djusted HR=0.64 (95% CI 0.47 - 0.98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FS also measured by independent radiographic revi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dian 15.6 vs. 8.4 w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adjusted/adjusted HR= 0.74/0.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83"/>
          <p:cNvSpPr/>
          <p:nvPr/>
        </p:nvSpPr>
        <p:spPr>
          <a:xfrm>
            <a:off x="504000" y="5921280"/>
            <a:ext cx="25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Overall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90"/>
          <p:cNvSpPr/>
          <p:nvPr/>
        </p:nvSpPr>
        <p:spPr>
          <a:xfrm>
            <a:off x="0" y="63784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36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29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justed 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0.52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2760" y="5397480"/>
            <a:ext cx="435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2:46:40Z</dcterms:created>
  <dc:creator>Research To Practice</dc:creator>
  <dc:description/>
  <cp:keywords/>
  <dc:language>en-US</dc:language>
  <cp:lastModifiedBy>Mac Pro E703803Y4PC</cp:lastModifiedBy>
  <cp:lastPrinted>2011-02-11T14:56:55Z</cp:lastPrinted>
  <dcterms:modified xsi:type="dcterms:W3CDTF">2011-05-11T17:35:24Z</dcterms:modified>
  <cp:revision>412</cp:revision>
  <dc:subject/>
  <dc:title>PowerPoint Presentation</dc:title>
</cp:coreProperties>
</file>