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1250-7C28-49BD-AF1F-1A98BEACB34E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2E04-C5AF-4CE0-AE37-A6B1CB3F3C0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E93D-31EC-4597-B517-B25B0A7C91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C256-A6BA-4AF3-99F4-CF0FBF2863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022B-1D46-4464-B9FA-8B30E5C37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8D86-E274-4383-B38B-D83402E0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0E4B-0869-4E6F-9550-E3DB5C080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E825-4F70-4253-8EDD-9B4BCD35D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5E42-CFB1-436F-BC5F-D66078CD9C8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9C59-B6F9-446D-AF82-908FAA6A04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0ECC-1149-4E3E-9C04-CCF57830EBA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ACE-3EE6-4289-BEF2-8347405B3FD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9FB-279C-4C8C-8165-78BADB36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96C-EC19-428D-9CF6-F0E01421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374-2648-44E3-B8A6-66049102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236-FE8B-4F49-A03D-A64D58C8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CC2-36F0-4912-A4A8-94F01C72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62D-357E-4432-9EC0-412F371C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D33-A898-4AE1-8D6C-0D7FDE6C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6EF-4D5B-42C9-94E3-5C736475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B6A-BB49-4542-9E74-3792868F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CFF-BA5B-4AC8-8289-D2C31871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D4B-C0B6-4244-8119-79A52188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FC6-1878-4151-B078-C100C528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2D9F-1D18-45AA-ACD0-09826B245CF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87AB-7DC2-4AA5-BCC2-06D7D8CE08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calgb.org/Private/COOP_Groups/CALGB/member_news/broadcasts/2010/30506_07212010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JUVANT SYSTEMIC TREATMENT IN NSCLC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inter Lung Cancer Conferenc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1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ROGERIO LILENBAUM M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OUNT SINAI CANCER CEN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IAMI BEACH, F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0"/>
          <p:cNvSpPr/>
          <p:nvPr/>
        </p:nvSpPr>
        <p:spPr>
          <a:xfrm>
            <a:off x="0" y="465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djuvant Chemotherapy for NSCLC 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Chemotherapy Benefits BR.10 High-Risk 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but </a:t>
            </a: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Low-Risk Patients: 15-Gene Signature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Text Box 367"/>
          <p:cNvSpPr/>
          <p:nvPr/>
        </p:nvSpPr>
        <p:spPr>
          <a:xfrm>
            <a:off x="458640" y="6297480"/>
            <a:ext cx="44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sao MS et al. ASCO 2008;Abstract 7510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367"/>
          <p:cNvSpPr/>
          <p:nvPr/>
        </p:nvSpPr>
        <p:spPr>
          <a:xfrm>
            <a:off x="380880" y="1989000"/>
            <a:ext cx="8382240" cy="339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vel 15-gene signature may identify early stage non-small cell lung cancer patients who are most likely to benefit from chemotherapy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igh-risk patients (n=67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0.33 (95% CI 0.17 - 0.63)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05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w-risk patients (n=66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3.67 (95% CI 1.22 - 11.06)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133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st for interactio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0.000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3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lecular Profiling: CALGB 305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675440" y="5851440"/>
            <a:ext cx="58042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MPORARY SUSPENSION OF CALGB 30506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7/21/201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1447920"/>
            <a:ext cx="9144000" cy="53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Duke Scientist Suspended Over Rhodes Scholar Clai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New York Times: July 20, 2010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is week’s letter to Dr. Harold E. Varmus, the director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the National Cancer Institute, more than two dozen biostatisticians and oncology researchers from academic institutions recommended ending the studies pending further outside review. “Recently, published and peer-reviewed re-analyses of the work done by Potti and Nevins revealed serious errors that questioned the validity of the prediction models upon which these ongoing clinical trials are based”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0"/>
          <p:cNvSpPr/>
          <p:nvPr/>
        </p:nvSpPr>
        <p:spPr>
          <a:xfrm>
            <a:off x="647640" y="2065320"/>
            <a:ext cx="786924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ected tumors 2 cm-6 c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2361960" y="4308480"/>
            <a:ext cx="1274760" cy="4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5791320" y="4308480"/>
            <a:ext cx="1028520" cy="428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Picture 11" descr="im1"/>
          <p:cNvPicPr/>
          <p:nvPr/>
        </p:nvPicPr>
        <p:blipFill>
          <a:blip r:embed="rId1"/>
          <a:srcRect l="14035" t="8216" r="21987" b="13164"/>
          <a:stretch/>
        </p:blipFill>
        <p:spPr>
          <a:xfrm>
            <a:off x="3886200" y="3165480"/>
            <a:ext cx="175248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228600" y="4917960"/>
            <a:ext cx="4114800" cy="56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800600" y="4917960"/>
            <a:ext cx="3944880" cy="567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3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lecular Profiling: CALGB 305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1373400" y="4946760"/>
            <a:ext cx="1823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5869440" y="4946760"/>
            <a:ext cx="217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spective Biomarker Adj T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371600"/>
          <a:ext cx="8686800" cy="4438800"/>
        </p:xfrm>
        <a:graphic>
          <a:graphicData uri="http://schemas.openxmlformats.org/drawingml/2006/table">
            <a:tbl>
              <a:tblPr/>
              <a:tblGrid>
                <a:gridCol w="1479600"/>
                <a:gridCol w="1380960"/>
                <a:gridCol w="3654720"/>
                <a:gridCol w="21715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g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rker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0506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/- Chemo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G 0720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/- Chemo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is/Gem)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RRM1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C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/Pemetrexed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/TS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 / Erlotinib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/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mut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T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inum / Docetaxel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CA1/ RAP80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Schem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066680"/>
            <a:ext cx="3200400" cy="54864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ts with completely resected stage IB,II, and IIIA NSCL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Stratified by                   - stage                        - histology            - post-op RT        - sex                      - adjuvant  chemotherap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324480" y="1143000"/>
            <a:ext cx="2286000" cy="182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Gefitinib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50 mg p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aily x 2 y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324480" y="3886200"/>
            <a:ext cx="2286000" cy="182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0 mg po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aily x 2 y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 flipV="1">
            <a:off x="3505320" y="1981080"/>
            <a:ext cx="2590560" cy="13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505320" y="3657600"/>
            <a:ext cx="2743200" cy="1143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4191120" y="32767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domized 1:1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152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Disease-Free Surviva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Rectangle 822"/>
          <p:cNvSpPr/>
          <p:nvPr/>
        </p:nvSpPr>
        <p:spPr>
          <a:xfrm>
            <a:off x="684360" y="1528920"/>
            <a:ext cx="5454360" cy="269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50000"/>
              </a:lnSpc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disease-free surviv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fitinib arm (n=251): 4.2 yea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bo arm (n=252): N.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1.22 (95% CI 0.93 - 1.61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ratified log ran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15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Rectangle 823"/>
          <p:cNvSpPr/>
          <p:nvPr/>
        </p:nvSpPr>
        <p:spPr>
          <a:xfrm>
            <a:off x="459360" y="629748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152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Overall Surviva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Rectangle 828"/>
          <p:cNvSpPr/>
          <p:nvPr/>
        </p:nvSpPr>
        <p:spPr>
          <a:xfrm>
            <a:off x="228960" y="624852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Rectangle 829"/>
          <p:cNvSpPr/>
          <p:nvPr/>
        </p:nvSpPr>
        <p:spPr>
          <a:xfrm>
            <a:off x="758880" y="1447920"/>
            <a:ext cx="7470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50000"/>
              </a:lnSpc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fitinib arm (n=251): 5.1 yea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bo arm (n=252): N.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1.23 (95% CI 0.94 - 1.64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ratified log ran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13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30492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all Survival by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EGFR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tation Status and Treatm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57200" y="2362320"/>
            <a:ext cx="419112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HR Gef/placebo: 1.21 (0.84, 1.73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Log rank: </a:t>
            </a:r>
            <a:r>
              <a:rPr b="1" i="1" lang="en-CA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=0.30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Median (95% C.I.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  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Placebo: NR (5.1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  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Gefitinib: 5.0 yrs (4.3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861080" y="2362320"/>
            <a:ext cx="412740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HR Gef/placebo: 1.58 (0.83, 3.00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Log rank: </a:t>
            </a:r>
            <a:r>
              <a:rPr b="1" i="1" lang="en-CA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=0.16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Median (95% C.I.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Placebo: 5.1 yrs (4.4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Gefitinib: 3.7 yrs (2.6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Rectangle 778"/>
          <p:cNvSpPr/>
          <p:nvPr/>
        </p:nvSpPr>
        <p:spPr>
          <a:xfrm>
            <a:off x="228960" y="624852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Rectangle 781"/>
          <p:cNvSpPr/>
          <p:nvPr/>
        </p:nvSpPr>
        <p:spPr>
          <a:xfrm>
            <a:off x="453960" y="1905120"/>
            <a:ext cx="154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ffff"/>
                </a:solidFill>
                <a:uFillTx/>
                <a:latin typeface="Arial"/>
              </a:rPr>
              <a:t>Wild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Rectangle 782"/>
          <p:cNvSpPr/>
          <p:nvPr/>
        </p:nvSpPr>
        <p:spPr>
          <a:xfrm>
            <a:off x="4876920" y="1905120"/>
            <a:ext cx="329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ffff"/>
                </a:solidFill>
                <a:uFillTx/>
                <a:latin typeface="Arial"/>
              </a:rPr>
              <a:t>Sensitizing Mut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846" b="2873"/>
          <a:stretch/>
        </p:blipFill>
        <p:spPr>
          <a:xfrm>
            <a:off x="152280" y="152280"/>
            <a:ext cx="8839440" cy="6497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DIANT: Randomized Double-Blind Trial of Adjuvant Erlotinib in NSCL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2971800"/>
            <a:ext cx="1676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f5fe"/>
                </a:solidFill>
                <a:latin typeface="Verdana"/>
              </a:rPr>
              <a:t>Erlotinib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3835440" y="3794040"/>
            <a:ext cx="495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3835440" y="2241720"/>
            <a:ext cx="495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2832120" y="3073320"/>
            <a:ext cx="7491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36600" y="4789440"/>
            <a:ext cx="3083040" cy="10227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cified regime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docetax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vinorelbin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gemcitabin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711600" y="4789440"/>
            <a:ext cx="5280120" cy="11307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mary end poin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verall surviv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177840"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ary end points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ease-free survival, safet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bleeding and arterial thromboembolic events (ATEs)]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68360" y="2109960"/>
            <a:ext cx="2779560" cy="1928520"/>
          </a:xfrm>
          <a:prstGeom prst="rect">
            <a:avLst/>
          </a:prstGeom>
          <a:solidFill>
            <a:srgbClr val="043264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gibility (proposed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ected IB (&gt; 4 cm) - III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≥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bectomy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previous chemotherapy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planned XRT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CVA/TI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ATE in 12 month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04240" y="4226040"/>
            <a:ext cx="182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 = 150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583080" y="1690560"/>
            <a:ext cx="415800" cy="27673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OMI Z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73040" y="203040"/>
            <a:ext cx="8226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4362480" y="1922400"/>
            <a:ext cx="2958840" cy="639720"/>
            <a:chOff x="4362480" y="1922400"/>
            <a:chExt cx="2958840" cy="639720"/>
          </a:xfrm>
        </p:grpSpPr>
        <p:sp>
          <p:nvSpPr>
            <p:cNvPr id="166" name="AutoShape 12"/>
            <p:cNvSpPr/>
            <p:nvPr/>
          </p:nvSpPr>
          <p:spPr>
            <a:xfrm>
              <a:off x="4362480" y="2023920"/>
              <a:ext cx="2958840" cy="434520"/>
            </a:xfrm>
            <a:prstGeom prst="roundRect">
              <a:avLst>
                <a:gd name="adj" fmla="val 16667"/>
              </a:avLst>
            </a:prstGeom>
            <a:solidFill>
              <a:srgbClr val="043264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ffff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6984720" y="1949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pic>
          <p:nvPicPr>
            <p:cNvPr id="168" name="Picture 14" descr=""/>
            <p:cNvPicPr/>
            <p:nvPr/>
          </p:nvPicPr>
          <p:blipFill>
            <a:blip r:embed="rId1"/>
            <a:stretch/>
          </p:blipFill>
          <p:spPr>
            <a:xfrm>
              <a:off x="5110200" y="1922400"/>
              <a:ext cx="1828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5"/>
            <p:cNvSpPr/>
            <p:nvPr/>
          </p:nvSpPr>
          <p:spPr>
            <a:xfrm>
              <a:off x="4520880" y="210492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Tx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70" name="AutoShape 16"/>
          <p:cNvSpPr/>
          <p:nvPr/>
        </p:nvSpPr>
        <p:spPr>
          <a:xfrm>
            <a:off x="4362480" y="3573360"/>
            <a:ext cx="4038480" cy="435240"/>
          </a:xfrm>
          <a:prstGeom prst="roundRect">
            <a:avLst>
              <a:gd name="adj" fmla="val 16667"/>
            </a:avLst>
          </a:prstGeom>
          <a:solidFill>
            <a:srgbClr val="06468c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4495680" y="375444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x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4571640" y="3335400"/>
            <a:ext cx="26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v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7196040" y="3227400"/>
            <a:ext cx="193680" cy="466560"/>
          </a:xfrm>
          <a:prstGeom prst="rect">
            <a:avLst/>
          </a:prstGeom>
          <a:solidFill>
            <a:srgbClr val="33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7683840" y="368928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 1 yr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5" name="Picture 21" descr=""/>
          <p:cNvPicPr/>
          <p:nvPr/>
        </p:nvPicPr>
        <p:blipFill>
          <a:blip r:embed="rId2"/>
          <a:stretch/>
        </p:blipFill>
        <p:spPr>
          <a:xfrm>
            <a:off x="5084640" y="3373560"/>
            <a:ext cx="1828800" cy="874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2"/>
          <p:cNvSpPr/>
          <p:nvPr/>
        </p:nvSpPr>
        <p:spPr>
          <a:xfrm>
            <a:off x="7640640" y="3227400"/>
            <a:ext cx="193680" cy="466560"/>
          </a:xfrm>
          <a:prstGeom prst="rect">
            <a:avLst/>
          </a:prstGeom>
          <a:solidFill>
            <a:srgbClr val="33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7873920" y="3451320"/>
            <a:ext cx="406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959520" y="36259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1647720" y="23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0" y="25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B - IIIA Resectable NSCLC: 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1505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8493120" y="6415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Relapse Patterns:  NSCL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63680" y="6299280"/>
            <a:ext cx="57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ld 1984; Pairolero 1984; Martini 1980; Thomas 199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75560" y="1447920"/>
            <a:ext cx="8456400" cy="42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 (%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t (%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I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-2N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IIA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005280" y="2022480"/>
            <a:ext cx="298764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ctable NSCLC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008160" y="2668680"/>
            <a:ext cx="298944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03600" y="244620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4503600" y="307980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495680" y="374004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425680" y="395604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263600" y="4761000"/>
            <a:ext cx="231300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2422440" y="518472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1246320" y="5393880"/>
            <a:ext cx="2336760" cy="972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26640" bIns="-2664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71920" y="538632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1258920" y="539748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50280" y="5618160"/>
            <a:ext cx="19731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E-A3 ASC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033720" y="5630760"/>
            <a:ext cx="1086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1778040" y="4164120"/>
            <a:ext cx="1285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hem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2882880" y="3289320"/>
            <a:ext cx="3241800" cy="426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ological stage IB, II, II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>
            <a:off x="2422440" y="454968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0" y="30492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3 Study – MAGRIT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-A3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juvant Non-Small Cell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mu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ap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Line 19"/>
          <p:cNvSpPr/>
          <p:nvPr/>
        </p:nvSpPr>
        <p:spPr>
          <a:xfrm>
            <a:off x="4471920" y="374004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6342120" y="4876920"/>
            <a:ext cx="0" cy="44424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5180040" y="5329080"/>
            <a:ext cx="2311200" cy="538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6338880" y="585468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 flipV="1">
            <a:off x="5162400" y="6063840"/>
            <a:ext cx="2338560" cy="972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26640" bIns="-2664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5176800" y="606744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237920" y="6327720"/>
            <a:ext cx="19731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E-A3 ASC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6950160" y="6300720"/>
            <a:ext cx="1086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6323040" y="395280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Rectangle 28"/>
          <p:cNvSpPr/>
          <p:nvPr/>
        </p:nvSpPr>
        <p:spPr>
          <a:xfrm>
            <a:off x="4906800" y="4164120"/>
            <a:ext cx="2826000" cy="704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4 cycles of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tinum-based chem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7499520" y="607212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Line 30"/>
          <p:cNvSpPr/>
          <p:nvPr/>
        </p:nvSpPr>
        <p:spPr>
          <a:xfrm>
            <a:off x="2421000" y="3963960"/>
            <a:ext cx="389736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36360" bIns="-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74880" y="1355760"/>
            <a:ext cx="299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= 227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as primary endpoi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2518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Therapy for NSCLC: Treatment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1400" y="16416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juvant cisplatin-based chemotherapy is the standard of care for patients with resected stage II/IIA NSCL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chemotherapy for tumor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≥ 4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ractice, selection of patients must take into consideration benefit of therapy vs. overall health status and wishes of the pat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targeted therapies in the adjuvant setting is under investiga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selection of patients will soon optimize adjuvant therapy in NSCL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50840" y="174960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a-Analysis of Overall Survival by Tri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5226120" y="5715000"/>
            <a:ext cx="12189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230040" y="5972040"/>
            <a:ext cx="464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500400" y="2195640"/>
            <a:ext cx="183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LPI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MTC+VD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Rectangle 52"/>
          <p:cNvSpPr/>
          <p:nvPr/>
        </p:nvSpPr>
        <p:spPr>
          <a:xfrm>
            <a:off x="425520" y="2133720"/>
            <a:ext cx="1542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Rectangle 54"/>
          <p:cNvSpPr/>
          <p:nvPr/>
        </p:nvSpPr>
        <p:spPr>
          <a:xfrm>
            <a:off x="501480" y="2690640"/>
            <a:ext cx="139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NITA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Rectangle 55"/>
          <p:cNvSpPr/>
          <p:nvPr/>
        </p:nvSpPr>
        <p:spPr>
          <a:xfrm>
            <a:off x="2406600" y="2514600"/>
            <a:ext cx="477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Rectangle 56"/>
          <p:cNvSpPr/>
          <p:nvPr/>
        </p:nvSpPr>
        <p:spPr>
          <a:xfrm>
            <a:off x="498240" y="4465800"/>
            <a:ext cx="431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BLT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 / VDS / MTC+VDS / MTC+IFM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Rectangle 59"/>
          <p:cNvSpPr/>
          <p:nvPr/>
        </p:nvSpPr>
        <p:spPr>
          <a:xfrm>
            <a:off x="499320" y="3809880"/>
            <a:ext cx="32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ALT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 / VDS / VLB / VP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Rectangle 62"/>
          <p:cNvSpPr/>
          <p:nvPr/>
        </p:nvSpPr>
        <p:spPr>
          <a:xfrm>
            <a:off x="502560" y="324648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BR10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Rectangle 63"/>
          <p:cNvSpPr/>
          <p:nvPr/>
        </p:nvSpPr>
        <p:spPr>
          <a:xfrm>
            <a:off x="230040" y="5972040"/>
            <a:ext cx="464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Rectangle 64"/>
          <p:cNvSpPr/>
          <p:nvPr/>
        </p:nvSpPr>
        <p:spPr>
          <a:xfrm>
            <a:off x="501120" y="1569960"/>
            <a:ext cx="297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Trials </a:t>
            </a:r>
            <a:r>
              <a:rPr b="1" lang="fr-FR" sz="1800" spc="-1" strike="noStrike" u="sng">
                <a:solidFill>
                  <a:srgbClr val="ffff00"/>
                </a:solidFill>
                <a:uFillTx/>
                <a:latin typeface="Arial"/>
              </a:rPr>
              <a:t>(Associated drug(s))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790720" y="5715000"/>
            <a:ext cx="356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hemotherapy effect:   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=0.004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502560" y="4952880"/>
            <a:ext cx="727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6143040" y="152388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Hazard Ratio (95% CI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6486480" y="214776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5 (0.81, 1.12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6485040" y="264312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2 (0.68, 0.9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6485040" y="441972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.00 (0.72, 1.3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6486480" y="32004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71 (0.54, 0.94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6486480" y="37638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1 (0.80, 1.0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6486480" y="49528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9 (0.82, 0.9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3960" y="304560"/>
            <a:ext cx="69087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vant cisplatin-based chemotherapy  improves survival for stage II and III NSCL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s for further clinical researc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-dependent benef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and PS-dependent benef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term morbidity/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ar-based selecti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eta-analysis: CT Effect &amp; Stag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480060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 may be detrimental for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ge 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but stage IA patients were generally not given cisplatin+vinorelbine (13% of stage IA patients versus ~43% for other stage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6324480" y="2133720"/>
            <a:ext cx="609840" cy="4572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3581280" y="2133720"/>
            <a:ext cx="533520" cy="3808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88320" y="1600200"/>
            <a:ext cx="1169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Catego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974320" y="1600200"/>
            <a:ext cx="223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# Deaths/# Entere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022440" y="160020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Hazard Ratio (95% CI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97040" y="2050920"/>
            <a:ext cx="18396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87600" y="2171880"/>
            <a:ext cx="109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687600" y="2743200"/>
            <a:ext cx="109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B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686880" y="3352680"/>
            <a:ext cx="994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686880" y="3924360"/>
            <a:ext cx="1058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I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610440" y="217188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02/347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3515040" y="274320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509/1,37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3515040" y="335268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880/1,616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3515040" y="392436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865/1,247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6364440" y="21718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.41 (0.96, 2.09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6364440" y="27432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2 (0.78, 1.10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6364440" y="33526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3 (0.73, 0.95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6364440" y="392436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3 (0.73, 0.95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 We Identify High-Risk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ge IA Patient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ients with tumor size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≥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 cm may be candidates for postsurgical treatment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tology: no specific histological characteristics have been identified to dat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ce and extent of lymphovascular inva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gh rate of uptake on PET sc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95200" y="612792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mada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4; 23:615 (abstr 7002); Harpole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nc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;76:787; Harpole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ncer 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5;55:51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9600" y="5029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=positron emission tomography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nical Trial Patients 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al World Clinical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6360" y="1523880"/>
          <a:ext cx="8084880" cy="4507200"/>
        </p:xfrm>
        <a:graphic>
          <a:graphicData uri="http://schemas.openxmlformats.org/drawingml/2006/table">
            <a:tbl>
              <a:tblPr/>
              <a:tblGrid>
                <a:gridCol w="2695320"/>
                <a:gridCol w="2721240"/>
                <a:gridCol w="26683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Study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Median Age 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(2 arms)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Pts PS2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ALT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.1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GB 963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-62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ITA 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ST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-6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 Population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-48%*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459720" y="63244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Lilenbaum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T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2008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CE Meta-analysis: Late Deaths Among Adjuvant Chemotherapy Recipi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352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cess non-cancer deaths (1.4%) on pooled chemo arm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fter 5 year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wide range of causes: PEs, MIs, infections, and “other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0440" y="62974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gnon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 Clin Onc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2008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477800"/>
            <a:ext cx="291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5 trials, 4,584 pati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981080"/>
          <a:ext cx="7925040" cy="3213360"/>
        </p:xfrm>
        <a:graphic>
          <a:graphicData uri="http://schemas.openxmlformats.org/drawingml/2006/table">
            <a:tbl>
              <a:tblPr/>
              <a:tblGrid>
                <a:gridCol w="3522960"/>
                <a:gridCol w="1360440"/>
                <a:gridCol w="1360440"/>
                <a:gridCol w="1681200"/>
              </a:tblGrid>
              <a:tr h="6098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n-cancer deaths / person years by period</a:t>
                      </a:r>
                      <a:endParaRPr b="0" lang="en-US" sz="17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0-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4-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≥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482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 / 4,35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 / 1,399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/ 61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 / 4,6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/ 1,61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/ 70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cer deaths by perio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Molecular Profiling: ERCC1 and Survival in IALT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25360" y="6232680"/>
            <a:ext cx="846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Olaussen KA,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N Engl J Med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06;355:983-991; Le Chevalier T, et al. </a:t>
            </a:r>
            <a:br>
              <a:rPr sz="1500"/>
            </a:br>
            <a:r>
              <a:rPr b="0" i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J Clin Oncol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08(May 20 suppl);Abstract 7507.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85800" y="1219320"/>
            <a:ext cx="7772400" cy="49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ence of ERCC1 expression associated with survival benefit in response to adjuvant chemotherapy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0.65, 95% CI: 0.50 - 0.86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vant chemotherapy was not associated with a prolonged survival benefit in patients with tumors positive for ERCC1 expressio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1.14, 95% CI: 0.84 - 1.55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4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patients who did not receive adjuvant chemotherapy, those with ERCC1-positive tumors survived longer than those with ERCC1-negative tumor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0.66, 95% CI: 0.49 - 0.90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9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persist at 7.5 year follow-up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RCC1-negative: HR 0.76, (95% CI 0.59 - 0.9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RCC1-positive: HR 1.2 (95% CI 0.91 - 1.59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4:47:51Z</dcterms:created>
  <dc:creator>Research To Practice</dc:creator>
  <dc:description/>
  <cp:keywords/>
  <dc:language>en-US</dc:language>
  <cp:lastModifiedBy>Mac Pro E703803Y4PC</cp:lastModifiedBy>
  <cp:lastPrinted>2011-04-19T17:02:01Z</cp:lastPrinted>
  <dcterms:modified xsi:type="dcterms:W3CDTF">2011-05-11T16:41:09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ID">
    <vt:lpwstr>ece8ed369a0544a78ef6abfb82de03bf</vt:lpwstr>
  </property>
</Properties>
</file>