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05F6-C3A0-4D70-B3FE-5A86DB3E33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E11B-FE96-49E8-9247-49A70FDD3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AB3C-53F8-4480-B6BB-D3B954C7E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2965-C0AB-47FD-BE1D-DA895A815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037-585B-42AA-A171-5518AD67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E32-22F8-4659-83A6-52EBD3BE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E77-450C-4B2F-8B25-AC1DF283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03E-DC08-47F6-BF75-EF87DABE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BAA-6798-4247-A959-1EBE9E36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26B-D43A-4F57-9BFB-BFA57E2C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B1C-09B1-4C38-AF05-DBAB145C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9AB-2BBD-4921-A0A3-551E5C18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A9A-99B3-4A4E-9A1C-DF725504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DD8-28AB-4FDB-9D4F-6D8E038C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C8D-C84B-4714-A000-A7BA67FE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2A3-0494-48E8-A712-084BFFBC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09B0-F0E6-473B-8997-863AC38A98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ACD7-CC8C-41C5-83AE-2B963DB1D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136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gical treatment of N2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rvey I Pass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YU Langone Medical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ew York, New Y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7010640" cy="2266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5905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and repeat FDG-PET after induction chemotherapy, as well as complete resection specimens of both mediastinal LNs and primary tumor  were available in 30 patients with mediastinoscopy-proven N2 dis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logic response grading was performed by means of conventional morphometric procedu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astinal response grading combined with the percentage decrease of maximum standardized uptake value (SUVmax) on the primary tumor was correlated with surv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791320" y="63673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 Clin Onco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8;26:1128-3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57200" y="62485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 Clin Onco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8;26:1128-3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3_3_Pass_Slide10"/>
          <p:cNvPicPr/>
          <p:nvPr/>
        </p:nvPicPr>
        <p:blipFill>
          <a:blip r:embed="rId1"/>
          <a:stretch/>
        </p:blipFill>
        <p:spPr>
          <a:xfrm>
            <a:off x="762120" y="685800"/>
            <a:ext cx="73911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…how to get the best assess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EBUS first to document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just biopsy the PET-positive ones…get all of them as possible bilater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, then reassess by mediastinosc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clearance or a “significant?” change, operate if it is to be a lobectom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ould patients with limited N2 disea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 offered surgery after chemotherapy and/or chemoradiation therap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is no standard definition of limited lymph node diseas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believe that lobectomy is justified if there has been mediastinal downstaging (or near downstaging – selected on an individual basi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avoid right pneumonectomies at this time because I think they do have higher risk, and there is marginal data on long-term results (especially in adenocarcinoma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y biggest problem with this whole deal is the inability to “do the whole algorithm” for mediastinal downstaging as a justification for resec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at Is Limited N2 at Presentation and Do These Definitions Merit Surgical Resection After Induc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olitary lymph node that is involv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91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or more stations with only microscopic involvement, or all stations &gt;3 c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4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resect all the disease even if it would take a pneumonect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5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ot that easy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nitial Multidisciplinary Surgical Opin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is N2 alone or N3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T/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only N2, then where and how much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vel 2, 4 vs 5, 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vel 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lky and multis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patient lik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al comorbid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tolerate chemoradiation to “potentially curative dose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it take a pneumonectomy or no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is initial presentation without a biopsy ye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so, the surgeon must make the call about whether he/she will consider them for surgery after in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itial EBUS…..post treatment mediastinoscopy/otomy/V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le the patient is being treated, what does the surgeon think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going to be the mortality of this ope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 I really helping the patient if there is residual mediastinal disease/disease in the primary and can this be quantitated/determined accurately before the patient goes to the operating 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I (or should I) do a pneumonect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914400"/>
          <a:ext cx="8229600" cy="5070600"/>
        </p:xfrm>
        <a:graphic>
          <a:graphicData uri="http://schemas.openxmlformats.org/drawingml/2006/table">
            <a:tbl>
              <a:tblPr/>
              <a:tblGrid>
                <a:gridCol w="1523880"/>
                <a:gridCol w="1270080"/>
                <a:gridCol w="1359000"/>
                <a:gridCol w="1359000"/>
                <a:gridCol w="1358640"/>
                <a:gridCol w="1359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SWOG 8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LC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EOR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INT 0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RTOG 0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h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(Carbo/V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 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combinations and surg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arbo + tax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X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1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verall survi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6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6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7.2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7% (1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4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9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7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residual mediastinal dis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8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4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perative mort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ectomy mort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-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025720" y="1295280"/>
            <a:ext cx="4638600" cy="541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160" y="12600"/>
            <a:ext cx="9109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960480"/>
          <a:ext cx="8077320" cy="5448240"/>
        </p:xfrm>
        <a:graphic>
          <a:graphicData uri="http://schemas.openxmlformats.org/drawingml/2006/table">
            <a:tbl>
              <a:tblPr/>
              <a:tblGrid>
                <a:gridCol w="2286000"/>
                <a:gridCol w="2210040"/>
                <a:gridCol w="2133360"/>
                <a:gridCol w="1447920"/>
              </a:tblGrid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Postoperative ev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Resection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(N = 4851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o. of resections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Induction therapy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(N = 525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o. of resections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 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Bronchoscop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62 (3.34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 (6.2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00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chanical ventilation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&gt; 48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5 (0.7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 (0.5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57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Reintub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86 (3.8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2 (4.1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Tracheosto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2 (1.28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 (1.3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87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AR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8 (1.40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 (1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77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12 (4.3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5 (4.76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Empye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3 (0.4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 (0.38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65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Seps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5 (0.7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 (0.1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12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Blood transfu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84 (7.9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3 (17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&lt;.0001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ostoperative outcom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0-d morta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89 (1.8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2 (2.2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46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Discharge morta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81 (1.6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 (1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n length of stay (d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 SD 6.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 SD 5.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0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Length of stay &gt; 14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4 (6.8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1 (5.90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omposite of major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morbid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47 (9.2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5 (10.5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33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72"/>
          <p:cNvSpPr/>
          <p:nvPr/>
        </p:nvSpPr>
        <p:spPr>
          <a:xfrm>
            <a:off x="0" y="921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toperative events and outcomes in resectio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d inductio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27"/>
          <p:cNvSpPr/>
          <p:nvPr/>
        </p:nvSpPr>
        <p:spPr>
          <a:xfrm>
            <a:off x="609480" y="6477120"/>
            <a:ext cx="769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ns NR 3rd et al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 Thorac Cardovasc Sur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0;139(4):991-6.e1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52480" y="990720"/>
          <a:ext cx="5664240" cy="5317920"/>
        </p:xfrm>
        <a:graphic>
          <a:graphicData uri="http://schemas.openxmlformats.org/drawingml/2006/table">
            <a:tbl>
              <a:tblPr/>
              <a:tblGrid>
                <a:gridCol w="1676520"/>
                <a:gridCol w="1270080"/>
                <a:gridCol w="1359000"/>
                <a:gridCol w="1358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We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Mans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aiss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ch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chem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141 (45G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stinal downstag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verall survi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3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6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residual mediastinal dis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perative mort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ectomy mort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ustification for Pneumonectom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We digress on pneumonectomies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cial Points (to 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doing a lobectomy, the mortality is low (~ 3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nly winners are those with mediastinal nodal downstaging (doubling of surviv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what if it is not COMPLETELY downstaged and you only find, say, 10% viable in the nodes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the hell can you estimate 10% in the nod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1:21:32Z</dcterms:created>
  <dc:creator>Research To Practice</dc:creator>
  <dc:description/>
  <cp:keywords/>
  <dc:language>en-US</dc:language>
  <cp:lastModifiedBy>Mac Pro E703803Y4PC</cp:lastModifiedBy>
  <cp:lastPrinted>2011-04-20T19:59:52Z</cp:lastPrinted>
  <dcterms:modified xsi:type="dcterms:W3CDTF">2011-06-08T18:05:24Z</dcterms:modified>
  <cp:revision>51</cp:revision>
  <dc:subject/>
  <dc:title>PowerPoint Presentation</dc:title>
</cp:coreProperties>
</file>