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EB7A-2819-4A0C-91C8-9CB3E8BD7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8026-8B50-4AF7-A3A4-4B075A1B9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23A0-AB48-4CC1-BC12-30570337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7A52-E74D-41B2-BFFF-45B320AF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8F18-4AD7-4B74-BE3D-B5A175C61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0920-DE17-45FA-A0C2-AFB9741DEC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6D19-4E97-4B7F-8D5D-9783A2392F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61E4-74A3-425A-BF3F-AE2EC96D88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454D-6D8C-4F7B-A852-98400738A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B5EA-B217-4482-82FD-55674C4DD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11AD-4925-4C8A-B8F9-765BD5CE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058-B6DD-4F9D-9F62-C00462B1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14D-24E6-4097-AD23-E56C0084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609-9D66-4486-B135-EA725764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EEC-F83E-4F50-877D-C20CF995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076E-F27B-4011-BF3D-3B9D229A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383-1543-4647-B6C8-3F7DF62C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05E5-3FD7-473B-811F-8630444D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0EF7-E978-44B1-8510-BAD3C44B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1BBE-8FF3-49E8-8FB3-0515CD71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81F-EC1E-4B63-A073-2B29234C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D8F1-BD65-4E1E-98AF-744D2FDE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D07-732E-4F62-A267-E15DD336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7D68-F9E9-478D-8D39-C6ABE4D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02E4-7E75-4FFE-AD2F-1698B22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0179-C2F1-4764-90A4-024F5161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5470-691E-4D3F-B563-D1C1F748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5215-9041-431D-8A60-72683F90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0D09-F174-45C6-A8C6-01B2AD9C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1255-5D53-4AC0-B63E-F21718A3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B836-8E31-4158-88C7-1EADE772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09BA-B3F3-4112-A975-D6969362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87A2-5517-4E8B-AC87-DB15AD52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1D4-9B17-4C26-8A35-282CB9D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04B0-1DCD-4E68-9149-2DC0A8DA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32F2-8A99-4C2C-B66D-D5BF6F8A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DAF8-0E00-4C61-B20A-A54C74B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1AAE-CBFF-416F-929D-4462CDBC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6CCA-9E92-4C20-8150-661925FA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1DA8-8EFF-4D15-83BD-0DCE53C0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D606-539C-47E7-AB99-17F3C5E3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E7A-CE92-4BBC-8207-F61CEDD5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501-9452-4516-9D3F-6735CF6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BDB-9DC8-4840-A6D8-785848C5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3A0-EE68-40EC-8632-24E6FCC0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A60-5F7B-4009-B23D-998FDA4B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6F0-2730-4F78-AC59-AE8A0B0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8E2-B645-45C0-815C-D8DED92B6E0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6A3-3B03-4F1D-A0DD-6FD458B764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3EFA-CC79-4C93-8A01-FFFBE0424AB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DE90-6556-46D0-93B8-42D1920EE8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5557-57E8-45FF-816A-9580D405E5A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4C7B-9DAD-4482-81D6-D04017BDDE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mory_background2"/>
          <p:cNvPicPr/>
          <p:nvPr/>
        </p:nvPicPr>
        <p:blipFill>
          <a:blip r:embed="rId1"/>
          <a:srcRect l="0" t="7579" r="16085" b="166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28600" y="3124080"/>
            <a:ext cx="7162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lter J Curran J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ship Cancer Institute of Emo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lanta, Geo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oup Chai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diation Therapy Oncolog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04920" y="6029280"/>
            <a:ext cx="2049480" cy="530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Role of Consolidation RT for Extensive- Stage Small Cell Lung Cancer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TOG 0937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andomized Phase II Study Comparing PCI vs PCI and Consolidative Extra-Cranial RT for ED-SCL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 (25 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 (25 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RT (45 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:  1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5"/>
          <p:cNvSpPr/>
          <p:nvPr/>
        </p:nvSpPr>
        <p:spPr>
          <a:xfrm>
            <a:off x="5029200" y="2438280"/>
            <a:ext cx="914400" cy="9144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 flipH="1">
            <a:off x="2285640" y="2514600"/>
            <a:ext cx="762120" cy="83808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Agree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, Disagree or In Between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extensive-stage SCLC should recei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tion thera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the chest and/or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fter initial response to chemo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gree, 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Disagree or In Between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extensive-stage SCLC should recei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tion therapy to the che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/or the brain after initial response to chemo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57200" y="228600"/>
            <a:ext cx="758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RTC 08993-22993 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I Trial of PCI in E-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804000" y="1773360"/>
            <a:ext cx="1979640" cy="1224000"/>
          </a:xfrm>
          <a:prstGeom prst="flowChartAlternateProcess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-30 G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12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6804000" y="3357720"/>
            <a:ext cx="1979640" cy="1079280"/>
          </a:xfrm>
          <a:prstGeom prst="flowChartAlternateProcess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5076720" y="2744640"/>
            <a:ext cx="1322640" cy="792360"/>
          </a:xfrm>
          <a:prstGeom prst="flowChartDecision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7"/>
          <p:cNvCxnSpPr>
            <a:endCxn id="142" idx="1"/>
          </p:cNvCxnSpPr>
          <p:nvPr/>
        </p:nvCxnSpPr>
        <p:spPr>
          <a:xfrm flipV="1">
            <a:off x="6399360" y="2385360"/>
            <a:ext cx="405360" cy="75636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8"/>
          <p:cNvCxnSpPr>
            <a:endCxn id="143" idx="1"/>
          </p:cNvCxnSpPr>
          <p:nvPr/>
        </p:nvCxnSpPr>
        <p:spPr>
          <a:xfrm>
            <a:off x="6399360" y="3141360"/>
            <a:ext cx="405360" cy="75636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AutoShape 10"/>
          <p:cNvSpPr/>
          <p:nvPr/>
        </p:nvSpPr>
        <p:spPr>
          <a:xfrm>
            <a:off x="3117960" y="2960640"/>
            <a:ext cx="1682640" cy="397080"/>
          </a:xfrm>
          <a:prstGeom prst="flowChartTerminator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11"/>
          <p:cNvCxnSpPr>
            <a:stCxn id="147" idx="3"/>
          </p:cNvCxnSpPr>
          <p:nvPr/>
        </p:nvCxnSpPr>
        <p:spPr>
          <a:xfrm flipV="1">
            <a:off x="4800240" y="3141360"/>
            <a:ext cx="361080" cy="18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12"/>
          <p:cNvCxnSpPr>
            <a:stCxn id="150" idx="3"/>
            <a:endCxn id="147" idx="1"/>
          </p:cNvCxnSpPr>
          <p:nvPr/>
        </p:nvCxnSpPr>
        <p:spPr>
          <a:xfrm>
            <a:off x="2592360" y="2850840"/>
            <a:ext cx="526320" cy="30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Text Box 13"/>
          <p:cNvSpPr/>
          <p:nvPr/>
        </p:nvSpPr>
        <p:spPr>
          <a:xfrm>
            <a:off x="469440" y="5473800"/>
            <a:ext cx="63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: Performance score and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556000" y="382428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700360" y="3824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5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2556000" y="4400640"/>
            <a:ext cx="42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700360" y="4400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6"/>
          <p:cNvSpPr/>
          <p:nvPr/>
        </p:nvSpPr>
        <p:spPr>
          <a:xfrm>
            <a:off x="2895480" y="2286000"/>
            <a:ext cx="1970280" cy="38736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Verdana"/>
              </a:rPr>
              <a:t>No respon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28"/>
          <p:cNvCxnSpPr>
            <a:stCxn id="150" idx="3"/>
            <a:endCxn id="156" idx="1"/>
          </p:cNvCxnSpPr>
          <p:nvPr/>
        </p:nvCxnSpPr>
        <p:spPr>
          <a:xfrm flipV="1">
            <a:off x="2592360" y="2479320"/>
            <a:ext cx="303840" cy="372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AutoShape 29"/>
          <p:cNvSpPr/>
          <p:nvPr/>
        </p:nvSpPr>
        <p:spPr>
          <a:xfrm>
            <a:off x="395280" y="2239920"/>
            <a:ext cx="2197080" cy="122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(4-6 cycl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3635280" y="2097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V="1">
            <a:off x="3564000" y="2096640"/>
            <a:ext cx="718920" cy="72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4572000" y="6172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62"/>
          <p:cNvSpPr/>
          <p:nvPr/>
        </p:nvSpPr>
        <p:spPr>
          <a:xfrm>
            <a:off x="4572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of Symptomat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Metast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80880" y="1676520"/>
            <a:ext cx="83822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mulative risks of symptomatic brain metastases — irradiation group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 month incidence: 4.4%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onth incidence: 14.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mulative risks of symptomatic brain metastases — control group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 month incidence: 32%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onth incidence: 40.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zard ratio for irradiation group: 0.27 (95% CI 0.16 - 0.44)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&lt; 0.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040" y="6400800"/>
            <a:ext cx="259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85"/>
          <p:cNvSpPr/>
          <p:nvPr/>
        </p:nvSpPr>
        <p:spPr>
          <a:xfrm>
            <a:off x="15228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Survival by Assigned 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80880" y="1676520"/>
            <a:ext cx="8382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dian overall survival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rradiation vs control group: 6.7 mos vs 5.4 mo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0.003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zard ratio for irradiation group: 0.68 (95% CI 0.52 - 0.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rvival rate at 1 year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rradiation vs control group: 27.1% vs 13.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040" y="6400800"/>
            <a:ext cx="259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ized Version of this Dat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D-SCLC and PCI: My Opinion 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38224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-SCLC Patient with CR or Near-CR to Che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MR of Brain Pre- and Post-Che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ignificant Neuro-Cognitive Dys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: 25 Gy in ten 2.5 Gy f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984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OLIDATIVE THORACIC RT?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D-SCL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with Timing of RT—Awfully Late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for Pts with Oligometastatic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with Hemi-Body RT (Bonner et 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n the Setting of a Clinical Trial (Ho H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06440">
              <a:lnSpc>
                <a:spcPct val="60000"/>
              </a:lnSpc>
              <a:spcBef>
                <a:spcPts val="7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e it or not, there is on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984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-ANALYSIS OF  TRT TIMING 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d et al. Lung Cancer 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224280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 Trials Published since 1985:  1524 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T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 9 Weeks from Chemo Day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te T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9 Weeks from Chemo Day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R of Early vs Late 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2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0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1f497d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5.2% Higher 2-Yr Survival Rate with Early 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2:45:28Z</dcterms:created>
  <dc:creator>Research To Practice</dc:creator>
  <dc:description/>
  <cp:keywords/>
  <dc:language>en-US</dc:language>
  <cp:lastModifiedBy>Mac Pro E703803Y4PC</cp:lastModifiedBy>
  <cp:lastPrinted>2011-02-10T20:29:23Z</cp:lastPrinted>
  <dcterms:modified xsi:type="dcterms:W3CDTF">2011-05-16T11:35:29Z</dcterms:modified>
  <cp:revision>1086</cp:revision>
  <dc:subject/>
  <dc:title>PowerPoint Presentation</dc:title>
</cp:coreProperties>
</file>