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E7B3-AF7F-46DA-AF4B-5B0C4165AE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8E71-4067-4121-8040-53E93716C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3B0FFA7-C072-4B25-9D1F-6B0D23EF65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31A690B-C926-41C3-B3D3-42F40B1404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00" y="303480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448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336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136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00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336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136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1480" y="457200"/>
            <a:ext cx="82677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448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171360" indent="-171360">
              <a:spcAft>
                <a:spcPts val="1400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06160" indent="-212760">
              <a:spcAft>
                <a:spcPts val="1400"/>
              </a:spcAft>
              <a:buClr>
                <a:srgbClr val="fdcc6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758880" indent="-164520">
              <a:spcAft>
                <a:spcPts val="1400"/>
              </a:spcAft>
              <a:buClr>
                <a:srgbClr val="fdcc6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018440" indent="-171360">
              <a:spcAft>
                <a:spcPts val="1400"/>
              </a:spcAft>
              <a:buClr>
                <a:srgbClr val="fdcc6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1222920" indent="-163080">
              <a:spcAft>
                <a:spcPts val="1400"/>
              </a:spcAft>
              <a:buClr>
                <a:srgbClr val="fdcc6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1222920" indent="-163080">
              <a:spcAft>
                <a:spcPts val="1400"/>
              </a:spcAft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1222920" indent="-163080">
              <a:spcAft>
                <a:spcPts val="1400"/>
              </a:spcAft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3920" y="131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Is Cisplatin/Irinotecan the Preferred First-lin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reatment Approach in ES-SCLC?</a:t>
            </a:r>
            <a:endParaRPr b="1" lang="en-US" sz="32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0000" y="2960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rk A. Socinski, M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fessor of Medic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neberger Comprehensive Cancer Cen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niversity of North Carolin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880" y="34452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onclusions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1760" y="1406160"/>
            <a:ext cx="8047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rinotecan/Platinum is a reasonable choice for the first-line treatment of good PS with ES-SCL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t does not appear to be significantly more efficaciou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chedule may be preferable and favored for/by some pati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34452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Standard of Care in ES-SCLC-2009</a:t>
            </a:r>
            <a:endParaRPr b="1" lang="en-US" sz="32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emotherapy- Cisplatin/carboplatin + VP-16     (4 cycles) (but many others wor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T- PCI and TRT in “selected cases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ponse rates- overall- 60-90%; CR rate 10-3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dian survival- 9-11 month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-year survival rate - 25-3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2-year survival rate - 5-10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Line 4"/>
          <p:cNvSpPr/>
          <p:nvPr/>
        </p:nvSpPr>
        <p:spPr>
          <a:xfrm>
            <a:off x="609480" y="1523880"/>
            <a:ext cx="8043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Unicode MS"/>
              </a:rPr>
              <a:t>Strategies in ES-SCLC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1828800"/>
            <a:ext cx="57150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rease Duration of 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itial Dose Esca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intenanc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“High Dose” Therapy with GF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odified Schedule (Week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ion of New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ion of “Targeted”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624640" y="1805040"/>
            <a:ext cx="351936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Positive/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914400" y="228600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900760" y="234792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72960" y="311040"/>
            <a:ext cx="842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platin + Irinotecan Randomized Trials in Patients with E-SCL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6"/>
          <p:cNvGrpSpPr/>
          <p:nvPr/>
        </p:nvGrpSpPr>
        <p:grpSpPr>
          <a:xfrm>
            <a:off x="101520" y="1682640"/>
            <a:ext cx="4289400" cy="4832640"/>
            <a:chOff x="101520" y="1682640"/>
            <a:chExt cx="4289400" cy="4832640"/>
          </a:xfrm>
        </p:grpSpPr>
        <p:sp>
          <p:nvSpPr>
            <p:cNvPr id="57" name="Rectangle 6"/>
            <p:cNvSpPr/>
            <p:nvPr/>
          </p:nvSpPr>
          <p:spPr>
            <a:xfrm>
              <a:off x="276480" y="2743200"/>
              <a:ext cx="456840" cy="37720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AutoShape 7"/>
            <p:cNvSpPr/>
            <p:nvPr/>
          </p:nvSpPr>
          <p:spPr>
            <a:xfrm rot="19910400">
              <a:off x="809280" y="3778200"/>
              <a:ext cx="291960" cy="307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1190520" y="2971800"/>
              <a:ext cx="3178080" cy="100764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rino 6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, 8, 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 6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4 wks x 6 cyc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1190520" y="5337360"/>
              <a:ext cx="3178080" cy="1008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 10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 to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 8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3 wks x 6 cyc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101520" y="1682640"/>
              <a:ext cx="42894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7280" indent="-287280" algn="ctr">
                <a:lnSpc>
                  <a:spcPts val="1998"/>
                </a:lnSpc>
                <a:spcBef>
                  <a:spcPts val="649"/>
                </a:spcBef>
                <a:tabLst>
                  <a:tab algn="l" pos="0"/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JCOG 951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287280" indent="-287280" algn="ctr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Arial Narrow"/>
                </a:rPr>
                <a:t>Noda et al. NEJM 346:85, 200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7280" indent="-287280">
                <a:lnSpc>
                  <a:spcPct val="90000"/>
                </a:lnSpc>
                <a:spcBef>
                  <a:spcPts val="499"/>
                </a:spcBef>
                <a:buClr>
                  <a:srgbClr val="ffff00"/>
                </a:buClr>
                <a:buFont typeface="Arial Narrow"/>
                <a:buChar char="•"/>
                <a:tabLst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3"/>
            <p:cNvSpPr/>
            <p:nvPr/>
          </p:nvSpPr>
          <p:spPr>
            <a:xfrm flipV="1" rot="1689600">
              <a:off x="846000" y="5028120"/>
              <a:ext cx="291960" cy="307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2"/>
          <p:cNvSpPr/>
          <p:nvPr/>
        </p:nvSpPr>
        <p:spPr>
          <a:xfrm>
            <a:off x="5796000" y="3009960"/>
            <a:ext cx="3144960" cy="1008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no 65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,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3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,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3 wks x 4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80160" y="5378400"/>
            <a:ext cx="3144600" cy="1008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12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 to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6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3 wks x 4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707000" y="1363680"/>
            <a:ext cx="4290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ts val="2398"/>
              </a:lnSpc>
              <a:spcBef>
                <a:spcPts val="649"/>
              </a:spcBef>
              <a:tabLst>
                <a:tab algn="l" pos="0"/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North American/Australian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Hanna et al.  JCO 24:2038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•"/>
              <a:tabLst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881600" y="2781360"/>
            <a:ext cx="457200" cy="3771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flipV="1" rot="1689600">
            <a:off x="5389200" y="5137560"/>
            <a:ext cx="291960" cy="231840"/>
          </a:xfrm>
          <a:prstGeom prst="rightArrow">
            <a:avLst>
              <a:gd name="adj1" fmla="val 50000"/>
              <a:gd name="adj2" fmla="val 314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394960" y="43419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 flipV="1" rot="20283600">
            <a:off x="5402160" y="3652920"/>
            <a:ext cx="292320" cy="231840"/>
          </a:xfrm>
          <a:prstGeom prst="rightArrow">
            <a:avLst>
              <a:gd name="adj1" fmla="val 50000"/>
              <a:gd name="adj2" fmla="val 3152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46040" y="2387520"/>
          <a:ext cx="8159760" cy="2119320"/>
        </p:xfrm>
        <a:graphic>
          <a:graphicData uri="http://schemas.openxmlformats.org/drawingml/2006/table">
            <a:tbl>
              <a:tblPr/>
              <a:tblGrid>
                <a:gridCol w="2001960"/>
                <a:gridCol w="1442880"/>
                <a:gridCol w="1443240"/>
                <a:gridCol w="1463400"/>
                <a:gridCol w="1808280"/>
              </a:tblGrid>
              <a:tr h="81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JCOG 95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N Amer / Au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Irino + 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Etop +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Irino + 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Etop +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edian (95% c.i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4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3 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2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% 1 y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% 2 y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</a:tbl>
          </a:graphicData>
        </a:graphic>
      </p:graphicFrame>
      <p:sp>
        <p:nvSpPr>
          <p:cNvPr id="71" name="TextBox 2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arison of Survival Outco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503640" y="246240"/>
            <a:ext cx="812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Meta-analysis of RCTs Comparing Irinotecan/Platinum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toposide/Platinum in Untreated EC-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640760" y="638964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Jiang et al. J Thorac Oncology 5: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760320" y="1390680"/>
            <a:ext cx="591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6 trials analyzed: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Lara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ermes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Schmittel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an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anna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Noda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1, 476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69% m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16% PS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Median age 61 y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788480" y="293760"/>
            <a:ext cx="53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ORR - Meta-analysis of IP Vs 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800520" y="637704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iang et al. J Thorac Oncology 5: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64600" y="2016000"/>
            <a:ext cx="275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RR favors IP vs 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HR = 1.10, p = 0.04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ut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cluding the Cb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RR not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fferent (HR = 1.1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 = 0.0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606840" y="1168560"/>
          <a:ext cx="4786200" cy="4611600"/>
        </p:xfrm>
        <a:graphic>
          <a:graphicData uri="http://schemas.openxmlformats.org/drawingml/2006/table">
            <a:tbl>
              <a:tblPr/>
              <a:tblGrid>
                <a:gridCol w="2814480"/>
                <a:gridCol w="19717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tudy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RR (95% C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D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Lara (20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05 (0.92, 1.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Pan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09 (0.75, 1.5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anna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0.85, 1.4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Noda (200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5 (1.04, 1.5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(I-squared =  0.0%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49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0.99, 1.2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C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chmittel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0 (0.83, 1.7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0 (0.83, 1.7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Overall (I-squared = 0.0%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6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1.00, 1.2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4851720" y="64357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Jiang et al. J Thorac Oncol 5: 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7520" y="363600"/>
            <a:ext cx="90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Overall Survival – Meta-analysis of IP Vs EP in ES-SCL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18440" y="1735200"/>
            <a:ext cx="2751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S favors IP vs 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HR = 0.81, p = 0.04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ut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cluding the Cb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S not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fferent (HR = 0.85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 = 0.1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606840" y="1168560"/>
          <a:ext cx="4929120" cy="4241520"/>
        </p:xfrm>
        <a:graphic>
          <a:graphicData uri="http://schemas.openxmlformats.org/drawingml/2006/table">
            <a:tbl>
              <a:tblPr/>
              <a:tblGrid>
                <a:gridCol w="2967120"/>
                <a:gridCol w="196200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tudy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R (95% C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D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Lara (20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94 (0.81, 1.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anna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96 (0.76, 1.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Noda (200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60 (0.49, 0.8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(I-squared =  69.1%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0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85 (0.67, 1.0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C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emmes (200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70 (0.53, 0.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70 (0.53, 0.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Overall (I-squared = 66.7%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02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81 (0.66, 0.9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880" y="250560"/>
            <a:ext cx="82677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hase III – IP Vs EP in ES-SCLC</a:t>
            </a:r>
            <a:br>
              <a:rPr sz="3600"/>
            </a:b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47560" y="879120"/>
            <a:ext cx="80488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andomized phase III trial comparing cisplatin (8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 with either irinotecan (8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1, 8) or etoposide (10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1-3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405 PS 0-1 ES-SCLC pts (76% male, med age 60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periority design (but if not achieved, non-inferiority tested…and achieved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286000" y="3105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35440" y="3975120"/>
          <a:ext cx="4824000" cy="2052360"/>
        </p:xfrm>
        <a:graphic>
          <a:graphicData uri="http://schemas.openxmlformats.org/drawingml/2006/table">
            <a:tbl>
              <a:tblPr/>
              <a:tblGrid>
                <a:gridCol w="1608840"/>
                <a:gridCol w="1608120"/>
                <a:gridCol w="160704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E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RR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39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4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MST (m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 yr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4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3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</a:tbl>
          </a:graphicData>
        </a:graphic>
      </p:graphicFrame>
      <p:sp>
        <p:nvSpPr>
          <p:cNvPr id="87" name="TextBox 7"/>
          <p:cNvSpPr/>
          <p:nvPr/>
        </p:nvSpPr>
        <p:spPr>
          <a:xfrm>
            <a:off x="4897080" y="635328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Zatloukal et al. Ann Oncol 21:1810-16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3:32:20Z</dcterms:created>
  <dc:creator>Research To Practice</dc:creator>
  <dc:description/>
  <cp:keywords/>
  <dc:language>en-US</dc:language>
  <cp:lastModifiedBy>Mac Pro E703803Y4PC</cp:lastModifiedBy>
  <cp:lastPrinted>2011-02-11T16:17:33Z</cp:lastPrinted>
  <dcterms:modified xsi:type="dcterms:W3CDTF">2011-05-18T20:22:50Z</dcterms:modified>
  <cp:revision>3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Content and Content Development</vt:lpwstr>
  </property>
  <property fmtid="{D5CDD505-2E9C-101B-9397-08002B2CF9AE}" pid="3" name="ContentType">
    <vt:lpwstr>Document</vt:lpwstr>
  </property>
  <property fmtid="{D5CDD505-2E9C-101B-9397-08002B2CF9AE}" pid="4" name="ContentTypeId">
    <vt:lpwstr>0x010100ED8F6667A719504E917DACE92AA12C18</vt:lpwstr>
  </property>
  <property fmtid="{D5CDD505-2E9C-101B-9397-08002B2CF9AE}" pid="5" name="Sub Category">
    <vt:lpwstr>Content and Content Development: Other Versions of Slide Set</vt:lpwstr>
  </property>
</Properties>
</file>