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891-4249-49C3-B935-9FA6C95D6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317-BD5B-4452-9114-3DE123075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D9C8-BD6F-4D22-91B5-4E646C79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65A-A52C-4DF1-814B-6B7E72F6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600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76520"/>
            <a:ext cx="502920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68E1-FFF5-44BC-BABF-27F52CCD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1D5-E20E-4E64-BFDE-D7237EA0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E69-4CC8-42DD-960D-B33C2ED3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6D0-D2E9-475A-8FCB-8B7C8AAC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C17C-1176-4741-AC9F-AD5F0E90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65E-E862-4853-A18F-F2D8599C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44A-469A-4547-890F-2FE2AF2FA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56C-305B-4D25-8D2F-3A77796F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7E1-E2C8-4413-B566-060B8791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527-8D5C-44FB-8B39-A6C4A4796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B4D-361A-43C8-ABA0-467744E7E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0539-C056-49DD-825B-72116D77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42B5-83CF-4D99-94FC-8E42A793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9929-3064-49FF-BD1A-3BB31FD1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6D3-56A2-4AD3-B773-9D91CC5E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E51-1157-4B96-AED6-6CBEC5B11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CB78-C63D-42C7-A481-08C7E8EB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0C2D-F29B-4015-AE81-84DC8177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FADF-FFAE-44DD-97F0-CEACE1E2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67FC-55CE-46AC-89C2-B098A1FD0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174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EB48-2753-45FE-B4C8-2EAC6A52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13A-B2EB-4086-A352-79A1909E0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A37-FAF4-40BD-99B3-0724D6BC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814-D3A0-4A7D-8186-C2FCDF5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55B-B90B-44C7-82FE-AA7A131B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F1C-9109-4556-A4C5-50D6616D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6B3E-DD0D-46EA-A63A-2C8661A6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6EB-DEE5-4E36-B79B-7B4BF23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2DF-2C0C-4969-A1DE-3EFD905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175-891C-4CDE-BE60-1249F20F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B3C-F0A5-4C2E-AE13-D6926302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655-1C8C-46EA-AABC-39204BD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266E-EBB4-4569-A393-BDC78E1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3E4-9863-42EE-85B1-A2C94CA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C427-B4E5-45F4-8FCD-9DEB0A2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EF7C-4C4A-4A08-8659-6736D75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53DA-C43B-4A7E-8763-D6E6AE7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FB22-E1CA-4A54-B4AB-07375191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BC5-5E70-4B73-B5AF-F938CDD3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B76D-55F7-4E32-A1B5-B2A4185F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D6E5-D778-42C7-878E-7ED7234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94A7-1F5D-4B99-ABC3-0BD8B8D6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78F6-AC72-4A88-806E-5D1000A3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6160-D7D1-4A42-871A-C78B7C4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7E6-074F-4AFF-9430-344D4EA6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B557-90C5-466A-9E1F-A9B1DCB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DF1A-09D5-4A38-A5D2-D8445E6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63A6-7A9D-43D8-B7D6-07E96FF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DEE7-C668-4C2E-91B5-7E63038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A0B3-CA46-461C-924F-C4282CEE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B5B4-0750-49C6-8D04-C3006A2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52D5-94F3-4271-988A-AFAD4630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8771-6529-4CC0-9D1C-EA59ECF8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FC7D-1A4B-440A-ADB4-DF17B63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CD1B-7DF8-4626-BB57-AC15AA40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D8F-E171-4561-806A-5D7A2A3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0603-2879-4AC3-867E-EFD4475D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1B86-A498-4D44-B5FE-2759B12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8323-A562-48F0-940D-DDB6167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8B5A-C7F4-4E55-A226-D1BD296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3A17-B6FE-4F3A-BCEB-114DE79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A86E-412C-4F24-AE63-1AC7010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5B20-9EDD-42D9-A5F1-4713E69D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59FA-2AF6-40C5-9C86-7FB0086D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6282-BC85-44B9-9003-D6DD30AD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B672-F307-47BA-AC78-931B240E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8C8-2A81-49AF-A106-93B5439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E8AC-9990-4374-9799-93A2BA7D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6E7A-5C89-40A3-A521-047B8AD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7385-EF8E-4486-97D7-12E9477C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310FC-F5AB-49D1-8447-DF5D42CB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1207-3BBF-42A9-B42B-5DF455E5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77249-B383-47AA-8261-F78A8AA7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AF87-4888-4E59-BD2A-56A8BD6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FE14-9C73-42A0-BB5C-CBAC44F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8F8A-04E3-4293-957C-06CF9E93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8750-9886-4D0E-B3A6-37914EA5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742-36F0-4217-90E1-44BF6EB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27B9-F70D-4533-BE25-AE40CCD2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FDEE-7C24-4061-A848-1C1A32AE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2D09B-1696-4D43-B433-22CDB14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D2E2-DCE0-426A-8D42-F4BB9A5A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919B-1B02-48E2-8B03-45EB29F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2033-BE20-49BC-B20B-66E7DA9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3C35-925C-447B-ACDE-257F708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88F9-F2FD-457D-9477-6415EC1A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30C8-C976-44AD-BC73-34519CF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7F0B-CAA2-4F11-8E98-81E1C5A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CDA-2450-4AA8-A174-797F74F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557A-0613-4D9A-88DE-BB4020FF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4919-5186-48D8-8C7A-E590E7A6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9103-0D00-4E2F-9ED0-74EA7417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D159-9750-48C3-8A71-87AA944B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426A9-D3E7-41A5-B757-96E815B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A4C1C-38A0-4076-AA54-9988204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176C-7211-44BB-9FB6-4F40E33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705D-9F3A-49B9-9817-D3E7DAB0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ABE7B-5F2A-4BAE-8D38-8EFA817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6E0C-528A-40F9-98A9-C800F05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14D-1C19-4DBE-A758-6D00664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9ADB-26B7-4430-8984-826B0D5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464A-CF16-436E-81CA-9FBC12B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FB090-C1A4-4DDA-ACEB-31EE7BF7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FB53-9E8D-4C35-974C-270FE8C9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7B33-4068-4C9D-848D-A9655AEB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74B81-FF26-4809-8E9F-6BADFBD7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88A20-038D-4F1F-8BEE-5115C12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9B0F-9D8F-4B09-8C6E-26DC1CE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D392-0681-4AAA-9AB2-A9882952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EEAA-06C1-41F6-8F35-31A8E17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5D3-A2FC-48EF-B319-F9BCDADB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CCEE-CA85-4E88-B00D-FDC7FEAB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79A3-A78B-4647-8586-B070F7E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44F6-075D-4BE7-8527-05FADD9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7E58-8CE2-475B-971A-11DC0D75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836F-C074-46A2-9DB1-9A77A77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4B32F-7B33-43CD-BC94-BF0B33E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0FE9-6545-4E8A-A4C2-194FFA03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359-0044-4EB2-B074-9F8068A603A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57FF-5F20-4AD0-933D-B91FC9B68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243-FC4E-4A80-949F-841559B33A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A126-E58A-4CF7-8205-FB978DFF3A7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7F9D-CF45-474B-90DB-213D73A3F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28600" y="13842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63F-3B29-4CF6-84D2-02C98F36981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1BF8-3434-4DE1-917D-054E6F6C5A1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889-3853-41EF-994A-EB058E8D4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modality Treatment of Locally Advanced NSCL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ett E. Vok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niversity of Chica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9801 Design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2760" y="1538280"/>
            <a:ext cx="44280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13960" y="1984320"/>
            <a:ext cx="25689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(Standard 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701720" y="3840120"/>
            <a:ext cx="2573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 (Ind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888080" y="1908000"/>
            <a:ext cx="3722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915440" y="3824280"/>
            <a:ext cx="3559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3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IV/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for a total of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902120" y="5322960"/>
            <a:ext cx="36576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 (d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654960" y="47386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939960" y="252864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939960" y="313848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642960" y="304920"/>
            <a:ext cx="795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urrent Questions in Stage III NSCL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69920" y="1447920"/>
            <a:ext cx="8763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236520" y="1828800"/>
            <a:ext cx="8686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7636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hemoradiotherapy plat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ycle number (consolid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new cytotoxics (at   systemically active dos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radiotherapy dose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on of targeted therap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predictive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236520" y="228600"/>
            <a:ext cx="86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 (PI: R. Govindan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838080" y="1905120"/>
            <a:ext cx="791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9840" y="2870280"/>
            <a:ext cx="4012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671720" y="2870280"/>
            <a:ext cx="4082040" cy="1618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 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tuximab 400mg/m² lo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250mg/m² wee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"/>
          <p:cNvSpPr/>
          <p:nvPr/>
        </p:nvSpPr>
        <p:spPr>
          <a:xfrm flipH="1">
            <a:off x="2209320" y="1523880"/>
            <a:ext cx="20322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376880" y="1523880"/>
            <a:ext cx="19476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2075040" y="3886200"/>
            <a:ext cx="0" cy="1447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58000" y="44956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68480" y="5342040"/>
            <a:ext cx="50418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ee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52280" y="1357200"/>
            <a:ext cx="883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During Chemoradi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913040"/>
          <a:ext cx="8153280" cy="31924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(Post Chemoradi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09480" y="1752480"/>
          <a:ext cx="8153280" cy="3641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29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677880" y="1981080"/>
            <a:ext cx="78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2 months (95% CI: 7.4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.4 months (95% CI: 13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% (95% CI 43-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(95% CI 38-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600200" y="5334120"/>
            <a:ext cx="5850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an follow-up: 23 months (as of 7-23-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0: p≤0.35 versus H1: p≥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 = survival probability at 18 months 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by Histolog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0920" y="182880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1.8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7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(95% CI: 34-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6% (95% CI: 44-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6000" y="1752120"/>
            <a:ext cx="80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trexed, carboplatin and thoracic radiation with or without cetuximab produced a median survival of 22 month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regimens met the pre-defined threshold (median survival of 20.9 months) to be considered worthy for further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nds toward better outcomes observed with non-squamous NSCLC in this stu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ities related to concurrent chemoradiation are similar to previous stud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11000" y="151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squamous NSCL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LAIM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55480" y="220968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677960" y="289548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600200" y="4403880"/>
            <a:ext cx="94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405160" y="2590920"/>
            <a:ext cx="40640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75 mg/m² q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500 mg/m² q 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2471760" y="4162320"/>
            <a:ext cx="43862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50 mg/m² d1, 8 q4 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oposide 50 mg/m²  d1-5 q4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1150920" y="388620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1150920" y="3276360"/>
            <a:ext cx="50796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2949480" y="16765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6942240" y="4406760"/>
            <a:ext cx="182880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inum based doublets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672240" y="2666880"/>
            <a:ext cx="189540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x 4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1930320" y="5673600"/>
            <a:ext cx="629928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Primary objective: survival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Superiority design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80% Powered to detect Hazard Ratio = 0.74 - Sample Size 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Africa Asia Europe Globe"/>
          <p:cNvPicPr/>
          <p:nvPr/>
        </p:nvPicPr>
        <p:blipFill>
          <a:blip r:embed="rId1"/>
          <a:stretch/>
        </p:blipFill>
        <p:spPr>
          <a:xfrm>
            <a:off x="846000" y="228600"/>
            <a:ext cx="935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gration of Cetuximab: RTOG 0324</a:t>
            </a:r>
            <a:endParaRPr b="1" lang="en-US" sz="3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241200" y="2505240"/>
            <a:ext cx="3810240" cy="20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4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 to XRT then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 7 during XRT (63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45mg/m² week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468440" y="5016600"/>
            <a:ext cx="115236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1467000" y="3796920"/>
            <a:ext cx="1083960" cy="121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0880" y="632448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umenschein et al. ASCO abstract 7516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813200" y="2695680"/>
            <a:ext cx="4114800" cy="17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starting 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eek 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ight Arrow 12"/>
          <p:cNvSpPr/>
          <p:nvPr/>
        </p:nvSpPr>
        <p:spPr>
          <a:xfrm>
            <a:off x="4203720" y="3228840"/>
            <a:ext cx="533520" cy="484200"/>
          </a:xfrm>
          <a:prstGeom prst="rightArrow">
            <a:avLst>
              <a:gd name="adj1" fmla="val 50000"/>
              <a:gd name="adj2" fmla="val 44497"/>
            </a:avLst>
          </a:prstGeom>
          <a:solidFill>
            <a:srgbClr val="da1f28"/>
          </a:solidFill>
          <a:ln w="2556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4889520" y="21621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93840" y="20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urren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169920" y="13716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terogeneity of N2 diseas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s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n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invol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5 or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olume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ation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nod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tracapsular ex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4L or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lky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(invasion of mediastinal structur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ip meta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838080" y="6324480"/>
            <a:ext cx="44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Kassis Thorac Surg Clin 18 (2008) 333-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066680" y="4495680"/>
            <a:ext cx="22431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forman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ulmonar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-morbid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69920" y="11430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RTOG 0617- Schema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522000" y="228600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17440" y="2133720"/>
            <a:ext cx="42674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117440" y="3200400"/>
            <a:ext cx="426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1150920" y="464832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949480" y="16002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6197760" y="4648320"/>
            <a:ext cx="22348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6062760" y="2743200"/>
            <a:ext cx="2166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117440" y="419112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117440" y="548640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ight Brace 35"/>
          <p:cNvSpPr/>
          <p:nvPr/>
        </p:nvSpPr>
        <p:spPr>
          <a:xfrm>
            <a:off x="5656320" y="2590920"/>
            <a:ext cx="135000" cy="129528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280"/>
              <a:gd name="textAreaBottom" fmla="*/ 1291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ight Brace 36"/>
          <p:cNvSpPr/>
          <p:nvPr/>
        </p:nvSpPr>
        <p:spPr>
          <a:xfrm>
            <a:off x="5656320" y="4724280"/>
            <a:ext cx="135000" cy="129564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640"/>
              <a:gd name="textAreaBottom" fmla="*/ 1291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74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ominance of Systemic Failure</a:t>
            </a:r>
            <a:br>
              <a:rPr sz="2300"/>
            </a:b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tage III Sites of Relapse in CALGB 39801 (n = 213) </a:t>
            </a:r>
            <a:br>
              <a:rPr sz="23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okes et al JCO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4640" y="1676520"/>
            <a:ext cx="2438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prog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4920" y="3124080"/>
            <a:ext cx="189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40160" y="312408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nd 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978440" y="312408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213680" y="3124080"/>
            <a:ext cx="1760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060720" y="4452840"/>
            <a:ext cx="3114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rela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168560" y="582444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and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606840" y="582444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842080" y="5824440"/>
            <a:ext cx="2573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, but not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1252080" y="2133720"/>
            <a:ext cx="2032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5722920" y="2133720"/>
            <a:ext cx="2031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6"/>
          <p:cNvSpPr/>
          <p:nvPr/>
        </p:nvSpPr>
        <p:spPr>
          <a:xfrm flipH="1">
            <a:off x="6197760" y="5029200"/>
            <a:ext cx="947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7"/>
          <p:cNvSpPr/>
          <p:nvPr/>
        </p:nvSpPr>
        <p:spPr>
          <a:xfrm flipH="1">
            <a:off x="2103120" y="4952880"/>
            <a:ext cx="949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1270080" y="21337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754760" y="21049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2120760" y="4938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7132680" y="5019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3827520" y="254808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5316480" y="2543040"/>
            <a:ext cx="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3624120" y="3976560"/>
            <a:ext cx="0" cy="4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5638680" y="3981600"/>
            <a:ext cx="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4640400" y="533412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ed Modality Therapy Approach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omitant chemotherapy can be sensitizing or syste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69920" y="2438280"/>
            <a:ext cx="250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duc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218040" y="2438280"/>
            <a:ext cx="250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comitant CT/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324480" y="2438280"/>
            <a:ext cx="281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olida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60820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565632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69920" y="200484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2000" y="162000"/>
            <a:ext cx="881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duction versus Concomitant Therapy 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Hazard Ratio (HR): Survival and P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171360" y="88416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35080" y="1157400"/>
          <a:ext cx="6858000" cy="43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 HR (95% CI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on-Free Survival H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5% CI)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GB 88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2 (0.73 to 1.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 (0.70 to 1.6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 (0.61 to 0.9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6 to 1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5 to 0.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67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 (0.41 to 1.8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38 to 1.7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0 to 1.0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3 to 1.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 (0.69 to 1.3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 (0.92 to 1.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74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 (0.79 to 1.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1015920" y="556272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04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 + concurrent CT effect p = 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0" y="412920"/>
            <a:ext cx="91440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duction versus Concomitant Therapy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ta-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Hazard Ratio (HR):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Local Progression and Distant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71360" y="144792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5920" y="551808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1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RT + concurrent CT effect p = 0.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135080" y="1677960"/>
          <a:ext cx="6858000" cy="3808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8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Progression HR (95% CI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 Progression HR (95% CI)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48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6 (0.88 to 1.7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2 (0.64 to 1.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69 to 1.25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19 to 2.5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 (0.43 to 3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 (0.35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(0.60 to 1.5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54 to 1.6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 (0.63 to 1.6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7 (0.62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 (0.86 to 1.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nduction (Consolidation) plus Concurrent Chemoradiation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es systemic and locoregional cancer compartments comprehensive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livers more cycles of chemotherap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for use of more than one regi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wo models: SWOG   (CT/X      CT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GB (CT       CT/X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6095880" y="4343400"/>
            <a:ext cx="47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5943600" y="4952880"/>
            <a:ext cx="47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128320" y="1295280"/>
            <a:ext cx="5107320" cy="136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45720" r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hem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splatin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,8,29,36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toposide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-5 &amp; 29-3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urrent RT 59.4 Gy (1.8 Gy/f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42800" y="2988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OG LUN 01-24/USO 02-033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73200" y="3417840"/>
            <a:ext cx="23414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tratification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PS 0-1 v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IIA vs II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R vs. non-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530280" y="5721480"/>
            <a:ext cx="4192560" cy="533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cetaxel 75 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q 3 w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79880" y="4390560"/>
            <a:ext cx="891720" cy="90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4707000" y="2666880"/>
            <a:ext cx="0" cy="587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5489280" y="4428000"/>
            <a:ext cx="790920" cy="97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181480" y="5686560"/>
            <a:ext cx="3505320" cy="55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908520" y="3465360"/>
            <a:ext cx="17539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andom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4584600" y="44467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888160" y="3440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7651800" y="215568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3994200" y="486576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6486480" y="482292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338040" y="114300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1960" y="555120"/>
            <a:ext cx="802332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(ITT)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47880" y="1752480"/>
            <a:ext cx="6095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ocetaxel: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1.5 months (17.0-34.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2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bservatio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4.1 months (18.0-34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6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-value: 0.9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338040" y="129528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5:59:06Z</dcterms:created>
  <dc:creator>Research To Practice</dc:creator>
  <dc:description/>
  <cp:keywords/>
  <dc:language>en-US</dc:language>
  <cp:lastModifiedBy>Mac Pro E703803Y4PC</cp:lastModifiedBy>
  <cp:lastPrinted>2011-05-10T16:55:25Z</cp:lastPrinted>
  <dcterms:modified xsi:type="dcterms:W3CDTF">2011-05-11T16:49:21Z</dcterms:modified>
  <cp:revision>227</cp:revision>
  <dc:subject/>
  <dc:title>PowerPoint Presentation</dc:title>
</cp:coreProperties>
</file>