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EC41738-F43B-4876-B32A-057CE91D1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140E3C9-6A92-490C-BAD2-3C0275F8DC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0EB26D8-D37E-4B73-8B27-BDF4101E08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568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568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9"/>
            </a:outerShdw>
          </a:effectLst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0" rIns="109800" tIns="0" bIns="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SzPct val="80000"/>
              <a:buFont typeface="Arial Rounded MT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Chemobiologic Treatment of Advanced Squamous Carcinoma 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720" y="3428640"/>
            <a:ext cx="71625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Karen Kelly M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Professor of Medicine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University of California, Davis, Sacramento, CA 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9"/>
            </a:outerShdw>
          </a:effectLst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Trial Outcome in Squamous Cell CA</a:t>
            </a: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1523880"/>
          <a:ext cx="8305560" cy="4523040"/>
        </p:xfrm>
        <a:graphic>
          <a:graphicData uri="http://schemas.openxmlformats.org/drawingml/2006/table">
            <a:tbl>
              <a:tblPr/>
              <a:tblGrid>
                <a:gridCol w="1904760"/>
                <a:gridCol w="2286000"/>
                <a:gridCol w="4114800"/>
              </a:tblGrid>
              <a:tr h="343440"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g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ia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95328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vacizum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ase I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sociated with increased risk of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vere pulmonary hemorrh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4/13 pt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rafe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ase 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CAP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reased risk of deat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6483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tesa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ase 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reased risk of hemopty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edira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ase 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2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increased toxicity or efficac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6483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gitumum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ase 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VIGO (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histology specific findings b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reased toxicity and no bene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etuxim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ase 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LE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histology specific finding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9"/>
            </a:outerShdw>
          </a:effectLst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BRIDGE: Phase II Trial of Paclitaxel and Carboplatin + Bevacizumab in Untreated Squamous Cell NSCLC</a:t>
            </a:r>
            <a:endParaRPr b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4800600" cy="3129120"/>
          </a:xfrm>
          <a:prstGeom prst="rect">
            <a:avLst/>
          </a:prstGeom>
          <a:ln w="38160">
            <a:solidFill>
              <a:srgbClr val="b8b8ff"/>
            </a:solidFill>
            <a:miter/>
          </a:ln>
        </p:spPr>
      </p:pic>
      <p:sp>
        <p:nvSpPr>
          <p:cNvPr id="153" name="TextBox 3"/>
          <p:cNvSpPr/>
          <p:nvPr/>
        </p:nvSpPr>
        <p:spPr>
          <a:xfrm>
            <a:off x="5274720" y="6477120"/>
            <a:ext cx="38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insworth JD, et al.  J Thorac Oncol 6:109-114,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ight Brace 4"/>
          <p:cNvSpPr/>
          <p:nvPr/>
        </p:nvSpPr>
        <p:spPr>
          <a:xfrm>
            <a:off x="5257800" y="2133720"/>
            <a:ext cx="533520" cy="3429000"/>
          </a:xfrm>
          <a:custGeom>
            <a:avLst/>
            <a:gdLst>
              <a:gd name="textAreaLeft" fmla="*/ 0 w 533520"/>
              <a:gd name="textAreaRight" fmla="*/ 192600 w 533520"/>
              <a:gd name="textAreaTop" fmla="*/ 13680 h 3429000"/>
              <a:gd name="textAreaBottom" fmla="*/ 34153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0"/>
                  <a:pt x="10800" y="280"/>
                </a:cubicBezTo>
                <a:lnTo>
                  <a:pt x="10800" y="10520"/>
                </a:lnTo>
                <a:cubicBezTo>
                  <a:pt x="10800" y="10660"/>
                  <a:pt x="16200" y="10800"/>
                  <a:pt x="21600" y="10800"/>
                </a:cubicBezTo>
                <a:cubicBezTo>
                  <a:pt x="16200" y="10800"/>
                  <a:pt x="10800" y="10940"/>
                  <a:pt x="10800" y="11080"/>
                </a:cubicBezTo>
                <a:lnTo>
                  <a:pt x="10800" y="21320"/>
                </a:lnTo>
                <a:cubicBezTo>
                  <a:pt x="10800" y="2146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5868720" y="3124080"/>
            <a:ext cx="29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3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 PH:  3.2%  (1 p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FS:  6.2  m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ycles of Bev:   6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813600" y="5943600"/>
            <a:ext cx="74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5fffd"/>
                </a:solidFill>
                <a:latin typeface="Arial"/>
              </a:rPr>
              <a:t>Phase II:Gemcitabine and Cisplatin + Axitinib in Squamous Cell NSCL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21"/>
          <p:cNvSpPr/>
          <p:nvPr/>
        </p:nvSpPr>
        <p:spPr>
          <a:xfrm>
            <a:off x="76320" y="1522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mcitabine/Carboplatin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Iniparib in Untreated Stage IV Squamous NSC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2133720" y="2363760"/>
            <a:ext cx="70632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4"/>
          <p:cNvSpPr/>
          <p:nvPr/>
        </p:nvSpPr>
        <p:spPr>
          <a:xfrm flipV="1">
            <a:off x="2743200" y="2819160"/>
            <a:ext cx="1295280" cy="99036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Rounded Rectangle 16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3367080" cy="17226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327560" y="2286000"/>
            <a:ext cx="298764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iparib 5.6 mg/kg IV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y 1, 4, 8, and 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emcitab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isplat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25"/>
          <p:cNvSpPr/>
          <p:nvPr/>
        </p:nvSpPr>
        <p:spPr>
          <a:xfrm>
            <a:off x="2743200" y="3962520"/>
            <a:ext cx="1295280" cy="129528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Rounded Rectangle 17"/>
          <p:cNvGrpSpPr/>
          <p:nvPr/>
        </p:nvGrpSpPr>
        <p:grpSpPr>
          <a:xfrm>
            <a:off x="4191120" y="4718160"/>
            <a:ext cx="3429000" cy="1149120"/>
            <a:chOff x="4191120" y="4718160"/>
            <a:chExt cx="3429000" cy="1149120"/>
          </a:xfrm>
        </p:grpSpPr>
        <p:pic>
          <p:nvPicPr>
            <p:cNvPr id="164" name="Rounded Rectangle 17" descr=""/>
            <p:cNvPicPr/>
            <p:nvPr/>
          </p:nvPicPr>
          <p:blipFill>
            <a:blip r:embed="rId2"/>
            <a:stretch/>
          </p:blipFill>
          <p:spPr>
            <a:xfrm>
              <a:off x="4191120" y="4718160"/>
              <a:ext cx="3429000" cy="11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299120" y="4777560"/>
              <a:ext cx="321192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Gemcitabin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isplati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TextBox 18"/>
          <p:cNvSpPr/>
          <p:nvPr/>
        </p:nvSpPr>
        <p:spPr>
          <a:xfrm>
            <a:off x="1982880" y="557676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8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Necitumumab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144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lly human IgG1 monoclonal antibody to EGF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creases antitumor activity when combined with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mcitabine/cisplatin or pemetrexed/cisplatin i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SCLC xenograf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rst in human study:  DLT grade 3 headache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ociated with nausea, vomiting, and fever (2 pt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P2D 800 mg  weekly or every 2 weeks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-2 pts; SD-16 p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5254200" y="6429240"/>
            <a:ext cx="379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uenen B et al. Clin Cancer Res 15:1915-1923, 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24"/>
          <p:cNvSpPr/>
          <p:nvPr/>
        </p:nvSpPr>
        <p:spPr>
          <a:xfrm flipV="1">
            <a:off x="2004840" y="2133720"/>
            <a:ext cx="565200" cy="103176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25"/>
          <p:cNvSpPr/>
          <p:nvPr/>
        </p:nvSpPr>
        <p:spPr>
          <a:xfrm>
            <a:off x="1884240" y="3429000"/>
            <a:ext cx="685800" cy="114300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 flipV="1">
            <a:off x="7142040" y="1752120"/>
            <a:ext cx="304920" cy="22860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1752480" y="1822320"/>
            <a:ext cx="36036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20"/>
          <p:cNvSpPr/>
          <p:nvPr/>
        </p:nvSpPr>
        <p:spPr>
          <a:xfrm>
            <a:off x="7066080" y="2286000"/>
            <a:ext cx="380880" cy="22860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2"/>
          <p:cNvSpPr/>
          <p:nvPr/>
        </p:nvSpPr>
        <p:spPr>
          <a:xfrm>
            <a:off x="7907040" y="1643040"/>
            <a:ext cx="108144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C-11F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Rounded Rectangle 15"/>
          <p:cNvGrpSpPr/>
          <p:nvPr/>
        </p:nvGrpSpPr>
        <p:grpSpPr>
          <a:xfrm>
            <a:off x="2576520" y="4041720"/>
            <a:ext cx="4797360" cy="1219320"/>
            <a:chOff x="2576520" y="4041720"/>
            <a:chExt cx="4797360" cy="1219320"/>
          </a:xfrm>
        </p:grpSpPr>
        <p:pic>
          <p:nvPicPr>
            <p:cNvPr id="177" name="Rounded Rectangle 15" descr=""/>
            <p:cNvPicPr/>
            <p:nvPr/>
          </p:nvPicPr>
          <p:blipFill>
            <a:blip r:embed="rId1"/>
            <a:stretch/>
          </p:blipFill>
          <p:spPr>
            <a:xfrm>
              <a:off x="2576520" y="4041720"/>
              <a:ext cx="47973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641680" y="4105440"/>
              <a:ext cx="467064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rm B:  CIS + GE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splatin 75 mg/m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(30-60 min IV), D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emcitabine 1250 mg/m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(30 min IV), D1, 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Rounded Rectangle 16"/>
          <p:cNvGrpSpPr/>
          <p:nvPr/>
        </p:nvGrpSpPr>
        <p:grpSpPr>
          <a:xfrm>
            <a:off x="2563920" y="1444680"/>
            <a:ext cx="4584600" cy="1530360"/>
            <a:chOff x="2563920" y="1444680"/>
            <a:chExt cx="4584600" cy="1530360"/>
          </a:xfrm>
        </p:grpSpPr>
        <p:pic>
          <p:nvPicPr>
            <p:cNvPr id="180" name="Rounded Rectangle 16" descr=""/>
            <p:cNvPicPr/>
            <p:nvPr/>
          </p:nvPicPr>
          <p:blipFill>
            <a:blip r:embed="rId2"/>
            <a:stretch/>
          </p:blipFill>
          <p:spPr>
            <a:xfrm>
              <a:off x="2563920" y="1444680"/>
              <a:ext cx="458460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644920" y="1522440"/>
              <a:ext cx="4422600" cy="13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Arm A:  IMC-11F8 + CIS + GEM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C-11F8 800 mg (50-min IV), D1, 8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Cisplatin 75 mg/m</a:t>
              </a:r>
              <a:r>
                <a:rPr b="0" lang="en-US" sz="17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 (30-60 min IV), D1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Gemcitabine 1250 mg m</a:t>
              </a:r>
              <a:r>
                <a:rPr b="0" lang="en-US" sz="17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 (30 min IV), D1, 8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TextBox 21"/>
          <p:cNvSpPr/>
          <p:nvPr/>
        </p:nvSpPr>
        <p:spPr>
          <a:xfrm>
            <a:off x="76320" y="304920"/>
            <a:ext cx="89154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SQUIRE:  phase III, 1</a:t>
            </a:r>
            <a:r>
              <a:rPr b="1" lang="en-US" sz="31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 line NSCLC, squamou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8"/>
          <p:cNvSpPr/>
          <p:nvPr/>
        </p:nvSpPr>
        <p:spPr>
          <a:xfrm>
            <a:off x="131760" y="2133720"/>
            <a:ext cx="167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47 patients Stage 4 NSCLC Squamous ECOG PS 0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44"/>
          <p:cNvSpPr/>
          <p:nvPr/>
        </p:nvSpPr>
        <p:spPr>
          <a:xfrm>
            <a:off x="7426800" y="1384200"/>
            <a:ext cx="47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45"/>
          <p:cNvSpPr/>
          <p:nvPr/>
        </p:nvSpPr>
        <p:spPr>
          <a:xfrm>
            <a:off x="7439400" y="23223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46"/>
          <p:cNvSpPr/>
          <p:nvPr/>
        </p:nvSpPr>
        <p:spPr>
          <a:xfrm>
            <a:off x="2095200" y="2260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7"/>
          <p:cNvSpPr/>
          <p:nvPr/>
        </p:nvSpPr>
        <p:spPr>
          <a:xfrm>
            <a:off x="2093760" y="4175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235080" y="533520"/>
            <a:ext cx="8785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The Clinical Lung Cancer Genome Projec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297360" y="1447920"/>
            <a:ext cx="864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unched in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aboration between 13 centers in Europe, Australia and 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al: to perform genomic analysis on clinically annotated lung canc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m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1700 fresh frozen specim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900 DNA 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al hundred have had genomic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DINGS:  FGFR1 amplification in squamous cell lung cancer associa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FGFR1 depend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GFR1 –amplified cancers have a poor progn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3729240" y="6400800"/>
            <a:ext cx="371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iss J, et al.  Sci Transl Med 2:Epub Dec 15, 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3201840" y="380880"/>
            <a:ext cx="22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533520" y="1371600"/>
            <a:ext cx="8421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quamous cell carcinoma is a common hist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type of lung canc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quamous cell specific treatments are avail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insight into the biology of squamous ce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cinoma is required to identify drug targ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Histological  Subtypes of Lung Cancer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219320"/>
          <a:ext cx="8381880" cy="3984480"/>
        </p:xfrm>
        <a:graphic>
          <a:graphicData uri="http://schemas.openxmlformats.org/drawingml/2006/table">
            <a:tbl>
              <a:tblPr/>
              <a:tblGrid>
                <a:gridCol w="1981080"/>
                <a:gridCol w="2667240"/>
                <a:gridCol w="3733560"/>
              </a:tblGrid>
              <a:tr h="343440"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HC Mark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lecular Prof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9587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denocarcinom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K7+, CK20-, TTF1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GFR:  mutation: 10%-40%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ISH +: 45%-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HC +: 60%-9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AS mutations 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5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mutation: 50%-70%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I3KCA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tation: 2%, amplification: 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ML4–ALK: 1-1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444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quamous cel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rci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TF1–, CK5+, CK6+, P6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GF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mutations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: very r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mplification: 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HC+:  very comm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mutation: 60%-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I3KCA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tation: 2%, amplification: 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A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mutation: very r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</a:tbl>
          </a:graphicData>
        </a:graphic>
      </p:graphicFrame>
      <p:sp>
        <p:nvSpPr>
          <p:cNvPr id="87" name="TextBox 4"/>
          <p:cNvSpPr/>
          <p:nvPr/>
        </p:nvSpPr>
        <p:spPr>
          <a:xfrm>
            <a:off x="5443920" y="6353280"/>
            <a:ext cx="354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nger CJ et al. J Clin Oncol 28:5311-5320, 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Lung Cancer Incidence by Histology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1998-2002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5371200" y="6429240"/>
            <a:ext cx="361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lden DR et al. J Thorac Oncol 3:819-831,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8600" y="1371600"/>
          <a:ext cx="8686800" cy="50371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2057400"/>
                <a:gridCol w="1447560"/>
                <a:gridCol w="2133720"/>
              </a:tblGrid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 gridSpan="2"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QUAM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DENOCARCI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>
                  <a:txBody>
                    <a:bodyPr lIns="90000" rIns="90000" tIns="91440" bIns="91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QUAM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DENOCARCI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</a:tr>
              <a:tr h="51300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stral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n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51264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51264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ore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wed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51300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New Treatments for Lung Cancer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2000-2010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2057400"/>
          <a:ext cx="6476760" cy="3367080"/>
        </p:xfrm>
        <a:graphic>
          <a:graphicData uri="http://schemas.openxmlformats.org/drawingml/2006/table">
            <a:tbl>
              <a:tblPr/>
              <a:tblGrid>
                <a:gridCol w="3047760"/>
                <a:gridCol w="3429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enocarcino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quamous Cell Carcino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ff"/>
                    </a:solidFill>
                  </a:tcPr>
                </a:tc>
              </a:tr>
              <a:tr h="371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irst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l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evacizuma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emetrex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cond and Third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emetrex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emetrex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l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l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iz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Pemetrexed in Squamous Carcinoma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486400" y="6324480"/>
            <a:ext cx="347508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1100" spc="-1" strike="noStrike">
                <a:solidFill>
                  <a:srgbClr val="ffffff"/>
                </a:solidFill>
                <a:latin typeface="Arial"/>
              </a:rPr>
              <a:t>Scagliotti, G. V. et al. J Clin Oncol; 26:3543-3551 2008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1100" spc="-1" strike="noStrike">
                <a:solidFill>
                  <a:srgbClr val="ffffff"/>
                </a:solidFill>
                <a:latin typeface="Arial"/>
              </a:rPr>
              <a:t>Ciuleanu T et al. Lancet 374:1432-1440, 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Subtitle 3"/>
          <p:cNvSpPr/>
          <p:nvPr/>
        </p:nvSpPr>
        <p:spPr>
          <a:xfrm>
            <a:off x="6094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166680">
              <a:lnSpc>
                <a:spcPct val="130000"/>
              </a:lnSpc>
              <a:spcBef>
                <a:spcPts val="876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patients with squamous cell carcino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survival with first-line treatment was 9.4 months with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CP and 10.8 months with CG, HR = 1.23 (95% CI: 1.00, 1.5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survival with maintenance pemetrexed = 9.9 months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versus 10.8 months with placebo, HR = 1.07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6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166680">
              <a:lnSpc>
                <a:spcPct val="13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0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4087800" cy="3276360"/>
          </a:xfrm>
          <a:prstGeom prst="rect">
            <a:avLst/>
          </a:prstGeom>
          <a:ln w="0">
            <a:noFill/>
          </a:ln>
        </p:spPr>
      </p:pic>
      <p:sp>
        <p:nvSpPr>
          <p:cNvPr id="97" name="TextBox 18"/>
          <p:cNvSpPr/>
          <p:nvPr/>
        </p:nvSpPr>
        <p:spPr>
          <a:xfrm>
            <a:off x="428760" y="19692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Heterogeneity of mRNA Expression Levels in NSCLC:  AC versus SC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58"/>
          <p:cNvSpPr/>
          <p:nvPr/>
        </p:nvSpPr>
        <p:spPr>
          <a:xfrm>
            <a:off x="1371600" y="1295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S (N=965)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649 AC, 316 SC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486400" y="2438280"/>
          <a:ext cx="2743200" cy="1968480"/>
        </p:xfrm>
        <a:graphic>
          <a:graphicData uri="http://schemas.openxmlformats.org/drawingml/2006/table">
            <a:tbl>
              <a:tblPr/>
              <a:tblGrid>
                <a:gridCol w="1447920"/>
                <a:gridCol w="12952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(Reference &lt;2.33 for pemetrexe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% Below Reference Le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 Rounded MT Bold"/>
                        </a:rPr>
                        <a:t>NSCLC-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41.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 Rounded MT Bold"/>
                        </a:rPr>
                        <a:t>NSCLC-Adeno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45.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 Rounded MT Bold"/>
                        </a:rPr>
                        <a:t>NSCLC-SC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25.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0" name="Group 84"/>
          <p:cNvGrpSpPr/>
          <p:nvPr/>
        </p:nvGrpSpPr>
        <p:grpSpPr>
          <a:xfrm>
            <a:off x="2209680" y="2438280"/>
            <a:ext cx="1523520" cy="369720"/>
            <a:chOff x="2209680" y="2438280"/>
            <a:chExt cx="1523520" cy="369720"/>
          </a:xfrm>
        </p:grpSpPr>
        <p:grpSp>
          <p:nvGrpSpPr>
            <p:cNvPr id="101" name="Group 85"/>
            <p:cNvGrpSpPr/>
            <p:nvPr/>
          </p:nvGrpSpPr>
          <p:grpSpPr>
            <a:xfrm>
              <a:off x="2209680" y="2732040"/>
              <a:ext cx="1523520" cy="75960"/>
              <a:chOff x="2209680" y="2732040"/>
              <a:chExt cx="1523520" cy="75960"/>
            </a:xfrm>
          </p:grpSpPr>
          <p:sp>
            <p:nvSpPr>
              <p:cNvPr id="102" name="Line 86"/>
              <p:cNvSpPr/>
              <p:nvPr/>
            </p:nvSpPr>
            <p:spPr>
              <a:xfrm>
                <a:off x="2209680" y="2732040"/>
                <a:ext cx="152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Line 87"/>
              <p:cNvSpPr/>
              <p:nvPr/>
            </p:nvSpPr>
            <p:spPr>
              <a:xfrm>
                <a:off x="2209680" y="27320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Line 88"/>
              <p:cNvSpPr/>
              <p:nvPr/>
            </p:nvSpPr>
            <p:spPr>
              <a:xfrm>
                <a:off x="3733200" y="27320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" name="Text Box 89"/>
            <p:cNvSpPr/>
            <p:nvPr/>
          </p:nvSpPr>
          <p:spPr>
            <a:xfrm>
              <a:off x="2297160" y="2438280"/>
              <a:ext cx="82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&lt;0.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TextBox 28"/>
          <p:cNvSpPr/>
          <p:nvPr/>
        </p:nvSpPr>
        <p:spPr>
          <a:xfrm>
            <a:off x="6245640" y="6400800"/>
            <a:ext cx="220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ndara D et al.  ASCO 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304920" y="1522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trospective Analysis of ECOG 1594 by Hist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152280" y="5819760"/>
            <a:ext cx="89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5fffd"/>
                </a:solidFill>
                <a:latin typeface="Arial"/>
              </a:rPr>
              <a:t>Histological subtypes did not influence overall survival and progression free survival in chemo-naïve patients treated with platin-based doublets involving paclitaxel, docetaxel or gemcitab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6019920" y="650556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en H et al. J Thorac Oncol 4:S493, 2009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733320"/>
          <a:ext cx="8763120" cy="5040360"/>
        </p:xfrm>
        <a:graphic>
          <a:graphicData uri="http://schemas.openxmlformats.org/drawingml/2006/table">
            <a:tbl>
              <a:tblPr/>
              <a:tblGrid>
                <a:gridCol w="609480"/>
                <a:gridCol w="747720"/>
                <a:gridCol w="700200"/>
                <a:gridCol w="1066680"/>
                <a:gridCol w="727200"/>
                <a:gridCol w="949320"/>
                <a:gridCol w="712800"/>
                <a:gridCol w="963720"/>
                <a:gridCol w="699840"/>
                <a:gridCol w="1014480"/>
                <a:gridCol w="571680"/>
              </a:tblGrid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quamou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=22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enocarcino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=647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arge Cel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=7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th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=19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me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di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5% C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di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5% C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di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5% C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di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5% C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 valu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400">
                <a:tc rowSpan="5"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S (m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5.3, 9.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7.9, 10.9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9, inf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3.9, 9.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5.7, 15.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6.8, 9.8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4.5, 17.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7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6.3, 11.3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5.5, 11.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7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6.5, 9.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5.49, 11.7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5.6, 12.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b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7.3, 12.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7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6.6, 9.8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3.6, 16.7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4.9, 11.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 valu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3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401760">
                <a:tc rowSpan="5"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FS (m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1.7, 4.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3.1, 4.3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1.4, inf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1.8, 4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4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3.3, 6.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3.8, 5.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0, 11.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8, 5.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4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4, 5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6, 4.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0, 6.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7, 5.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b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3.0, 5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9, 4.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1.9, 7.8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1.7, 3.9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 valu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5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6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 rot="10800000">
            <a:off x="190440" y="3080160"/>
            <a:ext cx="48528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cent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76320" y="10800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hase III Trial of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ab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Paclitaxel + Carboplatin Compar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ith Cremophor-based Paclitaxel + Carboplatin as First-line Therapy in Advanced Non-small Cell Lung 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175248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quam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5562720" y="13716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Nonsquam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838080" y="1905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&lt; 0.00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12"/>
          <p:cNvSpPr/>
          <p:nvPr/>
        </p:nvSpPr>
        <p:spPr>
          <a:xfrm>
            <a:off x="26668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= 0.06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48006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= 0.80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6400800" y="1905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= 0.06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447920" y="6324480"/>
            <a:ext cx="152280" cy="152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2819520" y="6324480"/>
            <a:ext cx="152280" cy="152640"/>
          </a:xfrm>
          <a:prstGeom prst="rect">
            <a:avLst/>
          </a:prstGeom>
          <a:solidFill>
            <a:srgbClr val="c1d9f5"/>
          </a:solidFill>
          <a:ln w="9360">
            <a:solidFill>
              <a:srgbClr val="b8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1754640" y="62485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= 2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3049920" y="62485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= 2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5334120" y="6324480"/>
            <a:ext cx="152280" cy="152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6705720" y="6324480"/>
            <a:ext cx="152280" cy="152640"/>
          </a:xfrm>
          <a:prstGeom prst="rect">
            <a:avLst/>
          </a:prstGeom>
          <a:solidFill>
            <a:srgbClr val="c1d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5642280" y="62485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= 29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937560" y="62485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= 3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20"/>
          <p:cNvSpPr/>
          <p:nvPr/>
        </p:nvSpPr>
        <p:spPr>
          <a:xfrm>
            <a:off x="4983120" y="6505560"/>
            <a:ext cx="393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permission, Socinski MA et al.  ASCO 2010 #75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Chart 1"/>
          <p:cNvGraphicFramePr/>
          <p:nvPr/>
        </p:nvGraphicFramePr>
        <p:xfrm>
          <a:off x="838080" y="2133720"/>
          <a:ext cx="830592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830592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7772400" y="2286000"/>
            <a:ext cx="152280" cy="152280"/>
          </a:xfrm>
          <a:prstGeom prst="rect">
            <a:avLst/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72400" y="2590920"/>
            <a:ext cx="152280" cy="152280"/>
          </a:xfrm>
          <a:prstGeom prst="rect">
            <a:avLst/>
          </a:prstGeom>
          <a:solidFill>
            <a:srgbClr val="88bf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4680" y="22399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Nab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P/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24680" y="25146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/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Nab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aclitaxel Phase II Tr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 Advanced Squamous Carcinom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f the L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11"/>
          <p:cNvGrpSpPr/>
          <p:nvPr/>
        </p:nvGrpSpPr>
        <p:grpSpPr>
          <a:xfrm>
            <a:off x="838080" y="2362320"/>
            <a:ext cx="7391520" cy="3382920"/>
            <a:chOff x="838080" y="2362320"/>
            <a:chExt cx="7391520" cy="3382920"/>
          </a:xfrm>
        </p:grpSpPr>
        <p:grpSp>
          <p:nvGrpSpPr>
            <p:cNvPr id="136" name="AutoShape 39"/>
            <p:cNvGrpSpPr/>
            <p:nvPr/>
          </p:nvGrpSpPr>
          <p:grpSpPr>
            <a:xfrm>
              <a:off x="2845080" y="4181400"/>
              <a:ext cx="3057840" cy="1563840"/>
              <a:chOff x="2845080" y="4181400"/>
              <a:chExt cx="3057840" cy="1563840"/>
            </a:xfrm>
          </p:grpSpPr>
          <p:pic>
            <p:nvPicPr>
              <p:cNvPr id="137" name="AutoShape 39" descr=""/>
              <p:cNvPicPr/>
              <p:nvPr/>
            </p:nvPicPr>
            <p:blipFill>
              <a:blip r:embed="rId1"/>
              <a:stretch/>
            </p:blipFill>
            <p:spPr>
              <a:xfrm>
                <a:off x="2845080" y="4181400"/>
                <a:ext cx="3057840" cy="156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2927160" y="4266000"/>
                <a:ext cx="2894040" cy="14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ab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Paclitaxe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arboplatin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AutoShape 39"/>
            <p:cNvGrpSpPr/>
            <p:nvPr/>
          </p:nvGrpSpPr>
          <p:grpSpPr>
            <a:xfrm>
              <a:off x="2845080" y="2362320"/>
              <a:ext cx="3057840" cy="1557720"/>
              <a:chOff x="2845080" y="2362320"/>
              <a:chExt cx="3057840" cy="1557720"/>
            </a:xfrm>
          </p:grpSpPr>
          <p:pic>
            <p:nvPicPr>
              <p:cNvPr id="140" name="AutoShap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2845080" y="2362320"/>
                <a:ext cx="3057840" cy="155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2927160" y="2440800"/>
                <a:ext cx="2894040" cy="14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Gemcitabin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arboplatin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" name="AutoShape 39"/>
            <p:cNvGrpSpPr/>
            <p:nvPr/>
          </p:nvGrpSpPr>
          <p:grpSpPr>
            <a:xfrm>
              <a:off x="6493680" y="2891520"/>
              <a:ext cx="1735920" cy="1837440"/>
              <a:chOff x="6493680" y="2891520"/>
              <a:chExt cx="1735920" cy="1837440"/>
            </a:xfrm>
          </p:grpSpPr>
          <p:pic>
            <p:nvPicPr>
              <p:cNvPr id="143" name="AutoShape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6493680" y="2891520"/>
                <a:ext cx="1735920" cy="183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6581880" y="2981520"/>
                <a:ext cx="1557360" cy="165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imar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ndpoint: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R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Rectangle 8"/>
            <p:cNvSpPr/>
            <p:nvPr/>
          </p:nvSpPr>
          <p:spPr>
            <a:xfrm>
              <a:off x="838080" y="3430080"/>
              <a:ext cx="862920" cy="62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Up Arrow 9"/>
            <p:cNvSpPr/>
            <p:nvPr/>
          </p:nvSpPr>
          <p:spPr>
            <a:xfrm flipV="1" rot="18360000">
              <a:off x="2214000" y="3827160"/>
              <a:ext cx="181800" cy="812160"/>
            </a:xfrm>
            <a:prstGeom prst="upArrow">
              <a:avLst>
                <a:gd name="adj1" fmla="val 50000"/>
                <a:gd name="adj2" fmla="val 55759"/>
              </a:avLst>
            </a:prstGeom>
            <a:solidFill>
              <a:srgbClr val="00ff00"/>
            </a:solidFill>
            <a:ln w="0">
              <a:noFill/>
            </a:ln>
            <a:effectLst>
              <a:outerShdw dist="255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95000"/>
                </a:lnSpc>
                <a:buClr>
                  <a:srgbClr val="8cc63f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Up Arrow 10"/>
            <p:cNvSpPr/>
            <p:nvPr/>
          </p:nvSpPr>
          <p:spPr>
            <a:xfrm flipV="1" rot="14400000">
              <a:off x="2260800" y="3047040"/>
              <a:ext cx="183600" cy="812160"/>
            </a:xfrm>
            <a:prstGeom prst="upArrow">
              <a:avLst>
                <a:gd name="adj1" fmla="val 50000"/>
                <a:gd name="adj2" fmla="val 55683"/>
              </a:avLst>
            </a:prstGeom>
            <a:solidFill>
              <a:srgbClr val="00ff00"/>
            </a:solidFill>
            <a:ln w="0">
              <a:noFill/>
            </a:ln>
            <a:effectLst>
              <a:outerShdw dist="255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95000"/>
                </a:lnSpc>
                <a:buClr>
                  <a:srgbClr val="8cc63f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TextBox 11"/>
          <p:cNvSpPr/>
          <p:nvPr/>
        </p:nvSpPr>
        <p:spPr>
          <a:xfrm>
            <a:off x="883080" y="434340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=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8T14:50:18Z</dcterms:created>
  <dc:creator>Research To Practice</dc:creator>
  <dc:description/>
  <cp:keywords/>
  <dc:language>en-US</dc:language>
  <cp:lastModifiedBy>Mac Pro E703803Y4PC</cp:lastModifiedBy>
  <dcterms:modified xsi:type="dcterms:W3CDTF">2011-05-11T16:02:22Z</dcterms:modified>
  <cp:revision>152</cp:revision>
  <dc:subject/>
  <dc:title>PowerPoint Presentation</dc:title>
</cp:coreProperties>
</file>