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0EE-AB5F-4330-9998-B46558210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F36-29D9-4175-8455-968E4BB2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B00-2487-49E0-B683-588A0850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4D4-1C6B-4CC2-9328-45755C75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E11-6E0B-478A-8DF5-636F27C2E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06440" y="685800"/>
            <a:ext cx="4248360" cy="3186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00160" y="4016520"/>
            <a:ext cx="4657680" cy="4441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9F631E0D-4EDE-4542-96E5-80E36622F64E}" type="slidenum"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F86-AF73-45C4-887B-0EBD46FF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C63-0A4F-4B8E-9E31-5CD9360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705-D1F1-4F3F-A69C-A1754AB4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E4E-4F5F-4683-B73F-0056DDBE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8568-936E-4BE9-9198-3FBB7AF7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74DE-A6C7-4954-A279-425B158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CAF5-FD17-4EB9-B654-35FD23D9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7456-5CC3-4EB6-8402-BBC7ADB3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CD9-CF7F-457B-9625-88BD4E9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DE1-76FD-40C8-8959-23EB3B79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750E-7730-40C2-B798-C0BEA17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236-4378-4A85-A97B-8B3FEED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4F5-6555-41BF-AE42-9129B1C6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D06-B068-40F3-B07C-44968408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097C-FA6C-47E2-AADB-079502C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E357-6DAF-4B03-AA5B-912C6766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E11A-4E7E-445F-903A-5B08C3D6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395-01D2-499F-997A-6E5A92E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0996-3FCB-4D5D-BC5F-4940355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1C80-86FE-4B49-B8B9-CB651893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E158-A18E-47DE-93CD-B56F3486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70B-C6E1-471F-8B2B-9132E6A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D430-79DD-42F3-B5F6-065D917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EBFF-9180-4215-AF72-0F8CF3AB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EF9A-29E8-48D4-9B62-3B92E68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E3C1-F83D-440F-8DAC-6E3F02C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B07E-5F4F-430D-979D-80987B85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C3F5-CB1E-48D8-BB21-7ED2734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D9B1-A5B3-4BE8-A07C-BE075659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9D60-3D62-4DB9-AA3C-D5A96A0B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F6E1-6D39-42CB-875B-17F85207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8830-4F0C-4FCE-A2C7-27D953B2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550-02DA-4A64-9C7C-A6E4D66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C593-F4DD-43C2-945F-F622570F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02CC-ADED-4EF5-B68B-31B3CC1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35ED2-39EA-4C75-9479-CD775E3A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7E0F4-A927-413E-9D52-1E682D0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4FC2-2C35-46B0-AEFE-0C691A8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0BE2-469E-40FD-91B5-2F868D0A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CBB9-6C6E-457F-84FB-A0A348B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E18A-AE9E-48C7-BF83-7CB3C785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7EA67-75E8-47FC-A98A-9906210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D63D-20B8-4E5F-9C42-12AF1288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93B-E121-4251-BE25-80C4F86A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52D1-3BB7-416C-8678-FC31A703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3B6A-2780-475D-AD23-CE2124E6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E308-79B9-4721-9216-2BF3DE1C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CA24-CC00-4145-88EE-9D2FE2B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EE7B6-90AF-491E-902F-36880F2D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FFD59-2EEE-49BD-8AB4-70A4DB9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F93CE-BCF1-46D6-9457-B8F93EA6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4CD06-3424-452F-B976-282CA8D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2EDD-BDEE-4E47-8520-D2046337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D3A86-B7FD-4654-A720-79DBF682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6C2-6509-41A9-A0BB-8AA84F2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EAFF-E122-477A-BF61-C89CD3C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BB487-02EB-4F3B-9959-DE271D8E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55A2-BA69-4C58-8727-3885686D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BE8B7-5215-4E62-AD1E-0ECD9EB9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E270-8AE5-4B62-951B-51C50398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9F75A-4694-47A3-A01F-535616DE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BF3F7-4AB1-4868-95F4-1C39CC3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CFEB-9AB9-4B73-92EF-D30F4070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4037-AC1D-4E11-9C24-FF632B3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2145-DA5E-4F1B-9AA9-0BA19F4B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84C-23EA-433C-ADF3-BA2667CC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05884-F118-4603-927A-C03C918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B26A-51DE-419F-BB39-D736F5C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264E-A65F-4BEA-8C95-AEB12EE0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CC3E-DB3C-464C-9227-8C6BC88B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8733-BC96-4621-A359-D28FD89D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4F990-FC0E-4A94-BEB6-720F151E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C74A-8EB0-4DA7-9734-90EC8FAE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B01B-1FE0-4E77-8BA8-88DB26C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51B5C-6424-43B5-8457-859D5AE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B37A-3842-4DB4-8259-57F0CC56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125-45FA-4827-8041-2453D47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A44A-27D5-4867-8B4A-434E98BF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C009-63FA-4A63-8C6A-0D0BD7E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45F29-4FF1-4C67-8CBE-5E4F6F6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AEA9F-1CAA-455E-954B-0B68C3B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55BCF-83ED-435F-BB97-D608A96C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679A-CD00-4B14-9C0D-8A241486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DBE2-9386-4BBD-AD9E-EEC01F4E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E07B-6509-4774-B333-B1DAD9DE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B0B7-B044-4BA1-8689-AD748291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8CB-C01D-4B60-B6D5-9489BA041F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9A9F-48DD-40EC-9A18-41116843D4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2AE-4D7F-4E57-A37C-9AA407A475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38B4-7F53-4A86-A5D4-90E8B8D90E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2625-EAC6-417D-98B7-43441C9961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291960" y="3244680"/>
            <a:ext cx="8529840" cy="0"/>
          </a:xfrm>
          <a:prstGeom prst="line">
            <a:avLst/>
          </a:prstGeom>
          <a:ln w="28440">
            <a:solidFill>
              <a:srgbClr val="e9c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ing Advanced Lung Adenocarcinoma: 201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gorithm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 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71604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L-4 ALK Fusion in NSCLC: Clinical and Pathologic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tients may be younger and more commonly m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common in adenocarcinoma and never or modest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like EGFR mutation may NOT be progno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ke EGFR mutation largely exclusive from KRAS mut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re to occur with EGFR mu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ccurs in 25% of EGFR/KRAS WT never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 Fusions in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locations resulting in fusion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receptor tyrosine kinase (anaplastic lymphoma kinase [ALK] fuses to the echinoderm microtubule-associated protein-like 4 (EML-4) [Soda Nature 2007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ple chimeras f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coge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ation enhances proliferation, survival, changes cell shape through KRAS-ERK, JAK3-STAT, PI3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1960" y="1271160"/>
            <a:ext cx="8529840" cy="190044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nical Activity of the Oral ALK Inhibitor, 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(PF-02341066), in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on-small Cell Lung Cancer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1960" y="3319560"/>
            <a:ext cx="8529840" cy="1752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g Y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wak EL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haw A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midge D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afrate AJ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ki RG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omon B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u SI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algia 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lark J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468360" y="3987720"/>
            <a:ext cx="8174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oul National University, Seoul, Kore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ssachusetts General Hospital, Boston, M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olorado Cancer Center, Aurora, CO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morial Sloan-Kettering Cancer Center,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New York, NY, USA;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eter MacCallum Cancer Centre, East Melbourne, Australia; </a:t>
            </a:r>
            <a:br>
              <a:rPr sz="1400"/>
            </a:b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alifornia at Irvine, Irvine, C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hicago Cancer Center, Chicago, IL, USA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297000" y="6391440"/>
            <a:ext cx="85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trac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15640" y="6465960"/>
            <a:ext cx="21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CO Annual Meeting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3" descr=""/>
          <p:cNvPicPr/>
          <p:nvPr/>
        </p:nvPicPr>
        <p:blipFill>
          <a:blip r:embed="rId1"/>
          <a:stretch/>
        </p:blipFill>
        <p:spPr>
          <a:xfrm>
            <a:off x="971640" y="139716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4"/>
          <p:cNvSpPr/>
          <p:nvPr/>
        </p:nvSpPr>
        <p:spPr>
          <a:xfrm>
            <a:off x="487440" y="1371600"/>
            <a:ext cx="484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987800" y="1625760"/>
            <a:ext cx="14472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4987800" y="1925640"/>
            <a:ext cx="14472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4987800" y="2217600"/>
            <a:ext cx="144720" cy="13032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4987800" y="2514600"/>
            <a:ext cx="14472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5132520" y="1533600"/>
            <a:ext cx="35240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gressiv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bl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partial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complete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 rot="16200000">
            <a:off x="-1517760" y="34704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ximum change in tumor size (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1103400" y="394488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82680" y="3740040"/>
            <a:ext cx="596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1278000" y="5450040"/>
            <a:ext cx="65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*Partial response patients with 100% change have non-target disease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"/>
          <p:cNvSpPr/>
          <p:nvPr/>
        </p:nvSpPr>
        <p:spPr>
          <a:xfrm>
            <a:off x="8294760" y="58420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63691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NEJM 2010;363:1693-703 fig 2A. © Massachusetts Medical Society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1960" y="4176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Median PFS Has Not Been Reached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e9c550"/>
                </a:solidFill>
                <a:latin typeface="Arial"/>
              </a:rPr>
              <a:t>70% of Patients in Follow-up for PFS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762120" y="1828800"/>
            <a:ext cx="770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follow-up for PFS = 6.4 months (25-75% percentile: 3.5-10 month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S probability at 6 months = 72% (95% CI: 61, 83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2485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w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363:1693-703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93680" y="6324480"/>
            <a:ext cx="74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1007: NCT00932893; PROFILE 1005: NCT0093245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6"/>
          <p:cNvSpPr/>
          <p:nvPr/>
        </p:nvSpPr>
        <p:spPr>
          <a:xfrm>
            <a:off x="419040" y="1676520"/>
            <a:ext cx="3676680" cy="17114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latinum-bas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8"/>
          <p:cNvSpPr/>
          <p:nvPr/>
        </p:nvSpPr>
        <p:spPr>
          <a:xfrm>
            <a:off x="4187160" y="36608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3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511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2" name="Text Box 19"/>
          <p:cNvSpPr/>
          <p:nvPr/>
        </p:nvSpPr>
        <p:spPr>
          <a:xfrm>
            <a:off x="1351080" y="1305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OFILE 1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6"/>
          <p:cNvCxnSpPr>
            <a:stCxn id="514" idx="3"/>
          </p:cNvCxnSpPr>
          <p:nvPr/>
        </p:nvCxnSpPr>
        <p:spPr>
          <a:xfrm>
            <a:off x="4154040" y="5125680"/>
            <a:ext cx="115164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5" name="AutoShape 40"/>
          <p:cNvSpPr/>
          <p:nvPr/>
        </p:nvSpPr>
        <p:spPr>
          <a:xfrm>
            <a:off x="5305320" y="4616280"/>
            <a:ext cx="3516480" cy="93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250 mg BID (N=25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6"/>
          <p:cNvSpPr/>
          <p:nvPr/>
        </p:nvSpPr>
        <p:spPr>
          <a:xfrm>
            <a:off x="411120" y="4038480"/>
            <a:ext cx="3729240" cy="20674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ive disease in Arm B of study A8081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 prior chemotherap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1366920" y="36576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c63f"/>
                </a:solidFill>
                <a:latin typeface="Arial"/>
              </a:rPr>
              <a:t>PROFILE 1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8"/>
          <p:cNvSpPr/>
          <p:nvPr/>
        </p:nvSpPr>
        <p:spPr>
          <a:xfrm>
            <a:off x="4210920" y="51642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2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250 mg BID 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Pemetrexed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500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1" lang="en-GB" sz="11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docetaxel 75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infused on day 1 of a 21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    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3429000" y="2819520"/>
            <a:ext cx="18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biops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990720" y="4038480"/>
            <a:ext cx="23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!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1"/>
          <p:cNvSpPr/>
          <p:nvPr/>
        </p:nvSpPr>
        <p:spPr>
          <a:xfrm>
            <a:off x="5410080" y="39625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 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0"/>
          <p:cNvSpPr/>
          <p:nvPr/>
        </p:nvSpPr>
        <p:spPr>
          <a:xfrm>
            <a:off x="1447920" y="1295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3"/>
          <p:cNvSpPr/>
          <p:nvPr/>
        </p:nvSpPr>
        <p:spPr>
          <a:xfrm>
            <a:off x="7238880" y="5791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"/>
          <p:cNvSpPr/>
          <p:nvPr/>
        </p:nvSpPr>
        <p:spPr>
          <a:xfrm>
            <a:off x="533520" y="524196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and o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81"/>
          <p:cNvSpPr/>
          <p:nvPr/>
        </p:nvSpPr>
        <p:spPr>
          <a:xfrm>
            <a:off x="4876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23"/>
          <p:cNvCxnSpPr/>
          <p:nvPr/>
        </p:nvCxnSpPr>
        <p:spPr>
          <a:xfrm flipV="1">
            <a:off x="2055960" y="4496760"/>
            <a:ext cx="3600" cy="5338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0" name="Straight Arrow Connector 25"/>
          <p:cNvCxnSpPr>
            <a:stCxn id="523" idx="2"/>
          </p:cNvCxnSpPr>
          <p:nvPr/>
        </p:nvCxnSpPr>
        <p:spPr>
          <a:xfrm flipH="1">
            <a:off x="2058120" y="4557240"/>
            <a:ext cx="89640" cy="467640"/>
          </a:xfrm>
          <a:prstGeom prst="straightConnector1">
            <a:avLst/>
          </a:prstGeom>
          <a:ln w="0">
            <a:noFill/>
          </a:ln>
        </p:spPr>
      </p:cxnSp>
      <p:sp>
        <p:nvSpPr>
          <p:cNvPr id="531" name=""/>
          <p:cNvSpPr/>
          <p:nvPr/>
        </p:nvSpPr>
        <p:spPr>
          <a:xfrm flipH="1">
            <a:off x="2209680" y="3048120"/>
            <a:ext cx="152424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3048120"/>
            <a:ext cx="129528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12"/>
          <p:cNvCxnSpPr>
            <a:stCxn id="535" idx="2"/>
            <a:endCxn id="536" idx="0"/>
          </p:cNvCxnSpPr>
          <p:nvPr/>
        </p:nvCxnSpPr>
        <p:spPr>
          <a:xfrm flipH="1">
            <a:off x="3250440" y="1874880"/>
            <a:ext cx="1397880" cy="1234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36" name="TextBox 13"/>
          <p:cNvSpPr/>
          <p:nvPr/>
        </p:nvSpPr>
        <p:spPr>
          <a:xfrm>
            <a:off x="2464200" y="310824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1"/>
          <p:cNvSpPr/>
          <p:nvPr/>
        </p:nvSpPr>
        <p:spPr>
          <a:xfrm>
            <a:off x="4952880" y="31240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Straight Arrow Connector 14"/>
          <p:cNvCxnSpPr>
            <a:stCxn id="535" idx="2"/>
            <a:endCxn id="537" idx="0"/>
          </p:cNvCxnSpPr>
          <p:nvPr/>
        </p:nvCxnSpPr>
        <p:spPr>
          <a:xfrm>
            <a:off x="4648320" y="1874880"/>
            <a:ext cx="1296000" cy="1249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35" name="TextBox 20"/>
          <p:cNvSpPr/>
          <p:nvPr/>
        </p:nvSpPr>
        <p:spPr>
          <a:xfrm>
            <a:off x="22860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4"/>
          <p:cNvCxnSpPr>
            <a:stCxn id="537" idx="2"/>
            <a:endCxn id="540" idx="0"/>
          </p:cNvCxnSpPr>
          <p:nvPr/>
        </p:nvCxnSpPr>
        <p:spPr>
          <a:xfrm>
            <a:off x="5943600" y="3825720"/>
            <a:ext cx="381600" cy="1356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41" name="TextBox 74"/>
          <p:cNvSpPr/>
          <p:nvPr/>
        </p:nvSpPr>
        <p:spPr>
          <a:xfrm>
            <a:off x="1773360" y="5013360"/>
            <a:ext cx="213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 be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75"/>
          <p:cNvCxnSpPr>
            <a:stCxn id="536" idx="2"/>
            <a:endCxn id="541" idx="0"/>
          </p:cNvCxnSpPr>
          <p:nvPr/>
        </p:nvCxnSpPr>
        <p:spPr>
          <a:xfrm flipH="1">
            <a:off x="2839680" y="3809520"/>
            <a:ext cx="411840" cy="12042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40" name="TextBox 26"/>
          <p:cNvSpPr/>
          <p:nvPr/>
        </p:nvSpPr>
        <p:spPr>
          <a:xfrm>
            <a:off x="5257800" y="51814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Straight Arrow Connector 6"/>
          <p:cNvCxnSpPr>
            <a:stCxn id="545" idx="3"/>
            <a:endCxn id="546" idx="0"/>
          </p:cNvCxnSpPr>
          <p:nvPr/>
        </p:nvCxnSpPr>
        <p:spPr>
          <a:xfrm>
            <a:off x="5866920" y="3017520"/>
            <a:ext cx="1791720" cy="6721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546" name="TextBox 7"/>
          <p:cNvSpPr/>
          <p:nvPr/>
        </p:nvSpPr>
        <p:spPr>
          <a:xfrm>
            <a:off x="6705720" y="3689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Straight Arrow Connector 9"/>
          <p:cNvCxnSpPr>
            <a:stCxn id="548" idx="2"/>
            <a:endCxn id="545" idx="0"/>
          </p:cNvCxnSpPr>
          <p:nvPr/>
        </p:nvCxnSpPr>
        <p:spPr>
          <a:xfrm>
            <a:off x="4647960" y="2362320"/>
            <a:ext cx="1080" cy="4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5" name="TextBox 10"/>
          <p:cNvSpPr/>
          <p:nvPr/>
        </p:nvSpPr>
        <p:spPr>
          <a:xfrm>
            <a:off x="3429000" y="2819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Straight Arrow Connector 12"/>
          <p:cNvCxnSpPr>
            <a:stCxn id="545" idx="1"/>
            <a:endCxn id="550" idx="0"/>
          </p:cNvCxnSpPr>
          <p:nvPr/>
        </p:nvCxnSpPr>
        <p:spPr>
          <a:xfrm flipH="1">
            <a:off x="1530000" y="3017520"/>
            <a:ext cx="1899360" cy="640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50" name="TextBox 13"/>
          <p:cNvSpPr/>
          <p:nvPr/>
        </p:nvSpPr>
        <p:spPr>
          <a:xfrm>
            <a:off x="647640" y="3657600"/>
            <a:ext cx="17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Exon 19, 2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1"/>
          <p:cNvSpPr/>
          <p:nvPr/>
        </p:nvSpPr>
        <p:spPr>
          <a:xfrm>
            <a:off x="308772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 EGFR/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23"/>
          <p:cNvCxnSpPr>
            <a:stCxn id="553" idx="2"/>
            <a:endCxn id="554" idx="0"/>
          </p:cNvCxnSpPr>
          <p:nvPr/>
        </p:nvCxnSpPr>
        <p:spPr>
          <a:xfrm>
            <a:off x="4646520" y="5054400"/>
            <a:ext cx="118368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55" name="Straight Arrow Connector 25"/>
          <p:cNvCxnSpPr>
            <a:stCxn id="553" idx="2"/>
            <a:endCxn id="556" idx="0"/>
          </p:cNvCxnSpPr>
          <p:nvPr/>
        </p:nvCxnSpPr>
        <p:spPr>
          <a:xfrm flipH="1">
            <a:off x="3390480" y="5054400"/>
            <a:ext cx="125640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54" name="TextBox 26"/>
          <p:cNvSpPr/>
          <p:nvPr/>
        </p:nvSpPr>
        <p:spPr>
          <a:xfrm>
            <a:off x="4876920" y="60199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5909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nical t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14"/>
          <p:cNvCxnSpPr>
            <a:stCxn id="545" idx="2"/>
            <a:endCxn id="551" idx="0"/>
          </p:cNvCxnSpPr>
          <p:nvPr/>
        </p:nvCxnSpPr>
        <p:spPr>
          <a:xfrm>
            <a:off x="4648320" y="3216240"/>
            <a:ext cx="2160" cy="51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8" name="TextBox 20"/>
          <p:cNvSpPr/>
          <p:nvPr/>
        </p:nvSpPr>
        <p:spPr>
          <a:xfrm>
            <a:off x="2286000" y="12952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stained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3"/>
          <p:cNvSpPr/>
          <p:nvPr/>
        </p:nvSpPr>
        <p:spPr>
          <a:xfrm>
            <a:off x="6934320" y="5105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64"/>
          <p:cNvCxnSpPr>
            <a:stCxn id="546" idx="2"/>
            <a:endCxn id="558" idx="0"/>
          </p:cNvCxnSpPr>
          <p:nvPr/>
        </p:nvCxnSpPr>
        <p:spPr>
          <a:xfrm>
            <a:off x="7657920" y="4086000"/>
            <a:ext cx="191160" cy="1019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60" name="TextBox 74"/>
          <p:cNvSpPr/>
          <p:nvPr/>
        </p:nvSpPr>
        <p:spPr>
          <a:xfrm>
            <a:off x="228600" y="5181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T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/- 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75"/>
          <p:cNvCxnSpPr>
            <a:stCxn id="550" idx="2"/>
            <a:endCxn id="560" idx="0"/>
          </p:cNvCxnSpPr>
          <p:nvPr/>
        </p:nvCxnSpPr>
        <p:spPr>
          <a:xfrm flipH="1">
            <a:off x="1332720" y="4359240"/>
            <a:ext cx="197640" cy="822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53" name="TextBox 81"/>
          <p:cNvSpPr/>
          <p:nvPr/>
        </p:nvSpPr>
        <p:spPr>
          <a:xfrm>
            <a:off x="3084480" y="4657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K FISH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8"/>
          <p:cNvSpPr/>
          <p:nvPr/>
        </p:nvSpPr>
        <p:spPr>
          <a:xfrm>
            <a:off x="29718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9"/>
          <p:cNvSpPr/>
          <p:nvPr/>
        </p:nvSpPr>
        <p:spPr>
          <a:xfrm>
            <a:off x="48006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traight Arrow Connector 90"/>
          <p:cNvCxnSpPr>
            <a:stCxn id="551" idx="2"/>
            <a:endCxn id="553" idx="0"/>
          </p:cNvCxnSpPr>
          <p:nvPr/>
        </p:nvCxnSpPr>
        <p:spPr>
          <a:xfrm flipH="1">
            <a:off x="4645800" y="4130640"/>
            <a:ext cx="3960" cy="527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-small cell lung cancer is no longer one disease treated empirically with one or two chemotherapy regim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SCLC”, and in particular adenocarcinoma, must be sub-typed both pathologically and genotyp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GFR mutations served as a “watershed event” for this fundamental paradigm change but other “druggable” kinase mutations will continue to be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BIOPSY/CYTOLOGY LUNG CANCER DIAGNOSIS: IN USA OVER 130,000 CASES IN 2009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13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9: ACS estimates for USA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9,440 Lung Canc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mal A et al: CA Cancer J Clin 2009:59:2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5% NSCLC = 186,524 (15% SCL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% Advanced Stage = 130,56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esectable: Diagnosed by small biopsies/cy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HISTOCHEMICAL MAR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9560" y="1752480"/>
            <a:ext cx="801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ENO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TF-1 (best), Napsin, PE-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UAMOUS 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63 (best), CK5/6, 34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mocollin-3 (need more test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ktails – nuclear/cytoplasmic antibod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enocarcinoma – TTF-1/Nap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uamous – p63/CK5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GGESTED TERMINOLOG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SCLC: SMALL BIOPSIES/CYT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0680" y="190512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clear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quamous Cell Carcinoma or Adenocarcinom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NSCLC-NOS – do IH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ear IHC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squamous cell carcinoma (IHC: positive squamous, negative adenocarcinoma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adenocarcinoma (IHC: positive adeno, negative squamou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HC negative or not clear: NSCLC-N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staining negativ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flicting staining (both adenoCA and squamous IH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5880" y="6858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2286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11430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97324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2438280"/>
            <a:ext cx="137160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1143000"/>
            <a:ext cx="152424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257800"/>
            <a:ext cx="160020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1911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257800"/>
            <a:ext cx="2057400" cy="38088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5867280"/>
            <a:ext cx="3048120" cy="6858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5867280"/>
            <a:ext cx="304812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2895480"/>
            <a:ext cx="160020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2895480"/>
            <a:ext cx="160020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648320"/>
            <a:ext cx="152388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41148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648320"/>
            <a:ext cx="137160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276720"/>
            <a:ext cx="762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819520"/>
            <a:ext cx="167652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1447920"/>
            <a:ext cx="21337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80880"/>
            <a:ext cx="221004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80880"/>
            <a:ext cx="221004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2286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57200"/>
            <a:ext cx="221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609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BIOPSY (FOB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BBx, Core, SLBx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9907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CYTOLOG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ffusion, aspirate, washings, brushing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2379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large cells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IHC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114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atinization, pearls and/or intercellular brid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2788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?LCNE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5880" y="722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L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2193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assic morphology:SQC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15238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stology: Lepidic, papillary, and/or acinar architecture(s)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logy: 3-D arragements, delicate foamy/vacuolated (translucent) cytoplasm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e nuclear chromatin and often prominent nucleol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clei are often eccentrically situa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247536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SQC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29718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CC marker +v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-ve/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20976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y ancillary panel of one SQCC and one ADC marker +/OR Muc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971800"/>
            <a:ext cx="12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863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ssi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3276720"/>
            <a:ext cx="76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and/or Mucin +ve; SQCC marker -ve (or weak in same cel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47041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17528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HC -ve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1911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or Mucin +ve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 well as SQCC marker +v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different cel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1120" y="470412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 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318640"/>
            <a:ext cx="20574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lecular analysis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.g. EGFR mutati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95880" y="5302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SCLC, NOS, possible adenosquamous c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0840" y="6140520"/>
            <a:ext cx="30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f tumor tissue inadequate for molecular testing, discuss need for further sampling - back to Step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90840" y="5943600"/>
            <a:ext cx="30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91440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6858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685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small cells, no nucleoli, NE IHC+, TTF-1 +/-, CK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276720" y="533520"/>
            <a:ext cx="60948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914400"/>
            <a:ext cx="60948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8380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12952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3808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1295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1143000"/>
            <a:ext cx="144756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28600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26668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00400"/>
            <a:ext cx="0" cy="2057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3434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3809880"/>
            <a:ext cx="13716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05720" y="274284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0" y="464832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90760" y="5410080"/>
            <a:ext cx="1904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56386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6172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057400" y="3505320"/>
            <a:ext cx="1828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81080"/>
            <a:ext cx="1295640" cy="5335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76640" y="2003400"/>
            <a:ext cx="12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 clear ADC or SQC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-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CHANGES IN PRACTI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05740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ng cancer diagnosis is multidisciplin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tion f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biopsy/cytology  specimens (Never in WH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ction specim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biopsies/cytolog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to classify further than NSCLC-N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ssue management for IHC/molecular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FR mutation testing is recommended in advanced stage lung adca and NSCLC-N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2384280" y="1673280"/>
            <a:ext cx="3473640" cy="3563280"/>
            <a:chOff x="2384280" y="1673280"/>
            <a:chExt cx="3473640" cy="3563280"/>
          </a:xfrm>
        </p:grpSpPr>
        <p:sp>
          <p:nvSpPr>
            <p:cNvPr id="456" name="Line 4"/>
            <p:cNvSpPr/>
            <p:nvPr/>
          </p:nvSpPr>
          <p:spPr>
            <a:xfrm>
              <a:off x="4251240" y="449892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4251240" y="234720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3259080" y="3689280"/>
              <a:ext cx="2051280" cy="1547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3263760" y="1673280"/>
              <a:ext cx="2041560" cy="13496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8"/>
            <p:cNvSpPr/>
            <p:nvPr/>
          </p:nvSpPr>
          <p:spPr>
            <a:xfrm>
              <a:off x="3268800" y="1761840"/>
              <a:ext cx="2030400" cy="117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50 mg / day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V="1">
              <a:off x="2384280" y="2340000"/>
              <a:ext cx="86364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2397240" y="3785400"/>
              <a:ext cx="850680" cy="73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1"/>
            <p:cNvSpPr/>
            <p:nvPr/>
          </p:nvSpPr>
          <p:spPr>
            <a:xfrm>
              <a:off x="3159000" y="4065840"/>
              <a:ext cx="2249640" cy="818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platin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AUC 5 or 6) / paclitaxe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0 mg / 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weekly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3146400" y="3265920"/>
              <a:ext cx="22939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9440" indent="-379440" algn="ctr">
                <a:lnSpc>
                  <a:spcPct val="80000"/>
                </a:lnSpc>
                <a:spcBef>
                  <a:spcPts val="4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:1 randomiz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3"/>
          <p:cNvSpPr/>
          <p:nvPr/>
        </p:nvSpPr>
        <p:spPr>
          <a:xfrm>
            <a:off x="5867280" y="1058760"/>
            <a:ext cx="2990880" cy="435132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351320"/>
              <a:gd name="textAreaBottom" fmla="*/ 4205520 h 4351320"/>
            </a:gdLst>
            <a:ahLst/>
            <a:rect l="textAreaLeft" t="textAreaTop" r="textAreaRight" b="textAreaBottom"/>
            <a:pathLst>
              <a:path w="21600" h="31424">
                <a:moveTo>
                  <a:pt x="3600" y="0"/>
                </a:moveTo>
                <a:arcTo wR="3600" hR="3600" stAng="16200000" swAng="-5400000"/>
                <a:lnTo>
                  <a:pt x="0" y="27824"/>
                </a:lnTo>
                <a:arcTo wR="3600" hR="3600" stAng="10800000" swAng="-5400000"/>
                <a:lnTo>
                  <a:pt x="18000" y="31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5"/>
          <p:cNvSpPr/>
          <p:nvPr/>
        </p:nvSpPr>
        <p:spPr>
          <a:xfrm>
            <a:off x="390600" y="140004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177840" y="541008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Never smokers, &lt;100 cigarettes in lifetime; light ex-smokers, stopp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 years ago and smok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 pack years;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ited to a maximum of 6 cycles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, performance status; EGFR, epidermal growth factor recep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507960" y="1484280"/>
            <a:ext cx="224172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emonaï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e ≥18 year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≥12 wee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 0-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able stage IIIB / IV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5791320" y="1593720"/>
            <a:ext cx="29113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ession-free survival   (non-inferior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 response r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surviva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-related symptom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fety and toler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mark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14880" y="1224000"/>
            <a:ext cx="26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64008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PFS by Mutation Status within Treatment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80880" y="2057400"/>
          <a:ext cx="8458200" cy="239076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1676520"/>
                <a:gridCol w="121896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, Events by Mutation Stat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-Mutation Posi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ation Neg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/ 1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/ 9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platin + Paclitaxel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/ 1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/ 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Rectangle 29"/>
          <p:cNvSpPr/>
          <p:nvPr/>
        </p:nvSpPr>
        <p:spPr>
          <a:xfrm>
            <a:off x="571320" y="61261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k TS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(10):947-5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7782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0" y="76320"/>
            <a:ext cx="91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488520" y="5987880"/>
            <a:ext cx="70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verall EGFR mutation positive rate = 59.7% (261 / 437) 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4480" y="6248520"/>
            <a:ext cx="62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0:05:33Z</dcterms:created>
  <dc:creator>Research To Practice</dc:creator>
  <dc:description/>
  <cp:keywords/>
  <dc:language>en-US</dc:language>
  <cp:lastModifiedBy>Mac Pro E703803Y4PC</cp:lastModifiedBy>
  <cp:lastPrinted>2011-02-11T13:58:42Z</cp:lastPrinted>
  <dcterms:modified xsi:type="dcterms:W3CDTF">2011-06-08T18:05:04Z</dcterms:modified>
  <cp:revision>33</cp:revision>
  <dc:subject/>
  <dc:title>PowerPoint Presentation</dc:title>
</cp:coreProperties>
</file>