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5F58820-BA3E-4752-9261-203B3FDF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888735A-431B-404C-82DA-E10D2518A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1E1AFD8-C2A8-4B2E-BB50-16F5507F4C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0" y="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884760" y="8827920"/>
            <a:ext cx="297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171FE6-94FA-4E5D-AE56-15CE5578DF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1800"/>
            <a:ext cx="52084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489E78-832B-4BD2-ACB0-73620F67BF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EC19AD-0719-4937-AF85-2E62BDB56E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E6BBA54-44A2-4961-BA43-8097C9F322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D3F935-B1FA-433B-8126-AEC77C446E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07F2DE-3778-423E-8C2E-8A57762ACC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95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42BCAFB-5478-4A7F-BE58-ECF2CD1AD0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1C471D-DE4D-4FF2-A098-6F75CD530F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95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46A68FA-1A91-43A6-95C7-700447F68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276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D6DFFE9-9F41-496F-B813-A7682FDCF6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1276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283DC5-6373-4A7A-967A-35733C84C8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20" y="39254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900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552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12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900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552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320" y="231480"/>
            <a:ext cx="89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37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37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37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5080" y="117144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eatment Paradigms in Advanced Stage IIIB/IV Non-small Cell Lung Canc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33200" y="2543040"/>
            <a:ext cx="883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 A. Socinski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sor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disciplinary Thoracic Oncology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eberger Comprehensive Cancer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ty of North Caroli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55260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Overall Survival Time: 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11320" y="662796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65120" y="1652760"/>
          <a:ext cx="6421680" cy="3747960"/>
        </p:xfrm>
        <a:graphic>
          <a:graphicData uri="http://schemas.openxmlformats.org/drawingml/2006/table">
            <a:tbl>
              <a:tblPr/>
              <a:tblGrid>
                <a:gridCol w="2629080"/>
                <a:gridCol w="1695240"/>
                <a:gridCol w="474840"/>
                <a:gridCol w="162252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CT +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(n=55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(n=56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. of  ev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dian OS, mon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4–12.4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1–10.9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0.762–0.996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year survival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53964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Subgroup Analyse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ucasians 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4840" y="1668600"/>
          <a:ext cx="6413400" cy="3647880"/>
        </p:xfrm>
        <a:graphic>
          <a:graphicData uri="http://schemas.openxmlformats.org/drawingml/2006/table">
            <a:tbl>
              <a:tblPr/>
              <a:tblGrid>
                <a:gridCol w="2574720"/>
                <a:gridCol w="2208240"/>
                <a:gridCol w="163044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CT +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(n=46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(n=48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. of ev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dian 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2 – 12.0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8.2 – 10.1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3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0.694–0.928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year survival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s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532440" y="3422520"/>
            <a:ext cx="187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707640" y="3448080"/>
            <a:ext cx="2010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mcita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658920" y="3462480"/>
            <a:ext cx="1738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tuxi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 flipH="1">
            <a:off x="1645560" y="2049840"/>
            <a:ext cx="2429640" cy="1267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Straight Arrow Connector 9"/>
          <p:cNvCxnSpPr/>
          <p:nvPr/>
        </p:nvCxnSpPr>
        <p:spPr>
          <a:xfrm flipH="1">
            <a:off x="4571280" y="2077920"/>
            <a:ext cx="13320" cy="1253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2" name="Straight Arrow Connector 11"/>
          <p:cNvCxnSpPr/>
          <p:nvPr/>
        </p:nvCxnSpPr>
        <p:spPr>
          <a:xfrm>
            <a:off x="5223960" y="2103120"/>
            <a:ext cx="2116800" cy="12279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3" name="Straight Arrow Connector 8"/>
          <p:cNvCxnSpPr/>
          <p:nvPr/>
        </p:nvCxnSpPr>
        <p:spPr>
          <a:xfrm flipV="1">
            <a:off x="3619080" y="2424960"/>
            <a:ext cx="816840" cy="648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" name="Straight Arrow Connector 10"/>
          <p:cNvCxnSpPr/>
          <p:nvPr/>
        </p:nvCxnSpPr>
        <p:spPr>
          <a:xfrm>
            <a:off x="3631680" y="3556080"/>
            <a:ext cx="839160" cy="800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" name="TextBox 11"/>
          <p:cNvSpPr/>
          <p:nvPr/>
        </p:nvSpPr>
        <p:spPr>
          <a:xfrm>
            <a:off x="0" y="13968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ase III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P/C vs P/C Stud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cinski MA et al. ASCO 2010, LBA# 75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Straight Arrow Connector 8"/>
          <p:cNvCxnSpPr/>
          <p:nvPr/>
        </p:nvCxnSpPr>
        <p:spPr>
          <a:xfrm>
            <a:off x="2425680" y="3289320"/>
            <a:ext cx="53424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7" name="AutoShape 13"/>
          <p:cNvSpPr/>
          <p:nvPr/>
        </p:nvSpPr>
        <p:spPr>
          <a:xfrm>
            <a:off x="216000" y="2362320"/>
            <a:ext cx="2166840" cy="190188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hemo-na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S 0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tage IIIb/IV NSC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,0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80880" y="4495680"/>
            <a:ext cx="4496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atification fac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ge (IIIb vs 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e (&lt;70 vs &gt;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logy (squamous vs nonsquam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4508640" y="1600200"/>
            <a:ext cx="4343400" cy="175248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Paclitaxel 100 mg/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1, 8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6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 Preme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5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959200" y="3098880"/>
            <a:ext cx="685800" cy="45720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: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4548240" y="3697200"/>
            <a:ext cx="4260960" cy="201132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clitaxel 200 mg/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6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Premedication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xamethasone + Antihist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5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4"/>
          <p:cNvSpPr/>
          <p:nvPr/>
        </p:nvSpPr>
        <p:spPr>
          <a:xfrm>
            <a:off x="609480" y="1371600"/>
            <a:ext cx="754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Chart 1"/>
          <p:cNvGraphicFramePr/>
          <p:nvPr/>
        </p:nvGraphicFramePr>
        <p:xfrm>
          <a:off x="1450800" y="2276640"/>
          <a:ext cx="651672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2276640"/>
                    <a:ext cx="651672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5"/>
          <p:cNvSpPr/>
          <p:nvPr/>
        </p:nvSpPr>
        <p:spPr>
          <a:xfrm>
            <a:off x="1981080" y="1514520"/>
            <a:ext cx="2514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ponse Ratio = 1.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1.082 – 1.59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= 0.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419720" y="1522440"/>
            <a:ext cx="2666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ponse Ratio = 1.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1.060 – 1.49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= 0.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 rot="10800000">
            <a:off x="831960" y="2826360"/>
            <a:ext cx="4852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28600" y="152280"/>
            <a:ext cx="891540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mary Endpoin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 Responses – All Hist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7619760" y="24289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n = 52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7162560" y="280980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n = 53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520" y="6470640"/>
            <a:ext cx="731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permission, Socinski MA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;Abstract LBA75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Chart 1"/>
          <p:cNvGraphicFramePr/>
          <p:nvPr/>
        </p:nvGraphicFramePr>
        <p:xfrm>
          <a:off x="630360" y="1722600"/>
          <a:ext cx="846612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722600"/>
                    <a:ext cx="84661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3"/>
          <p:cNvSpPr/>
          <p:nvPr/>
        </p:nvSpPr>
        <p:spPr>
          <a:xfrm rot="10800000">
            <a:off x="81000" y="2427120"/>
            <a:ext cx="4698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 Responses by Histology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600200" y="920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410080" y="92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n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901800" y="149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&lt; 0.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2793960" y="149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0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84600" y="1492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= 0.8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5981760" y="1492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= 0.0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1295280" y="5987880"/>
            <a:ext cx="15264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2666880" y="598788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60200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89764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181480" y="5987880"/>
            <a:ext cx="15264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553080" y="598788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49000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78528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26880" y="6154560"/>
            <a:ext cx="30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Arial"/>
              </a:rPr>
              <a:t>* Not a pre-specified endpoi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8520" y="6470640"/>
            <a:ext cx="731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permission, Socinski MA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;Abstract LBA75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20" y="8856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iming of 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line Therapy in Advanced NSCL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Group 304"/>
          <p:cNvGrpSpPr/>
          <p:nvPr/>
        </p:nvGrpSpPr>
        <p:grpSpPr>
          <a:xfrm>
            <a:off x="73080" y="1060560"/>
            <a:ext cx="8969400" cy="5006160"/>
            <a:chOff x="73080" y="1060560"/>
            <a:chExt cx="8969400" cy="5006160"/>
          </a:xfrm>
        </p:grpSpPr>
        <p:sp>
          <p:nvSpPr>
            <p:cNvPr id="164" name="AutoShape 5"/>
            <p:cNvSpPr/>
            <p:nvPr/>
          </p:nvSpPr>
          <p:spPr>
            <a:xfrm>
              <a:off x="2067120" y="2316240"/>
              <a:ext cx="2342880" cy="1401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112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tinum-based double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4 cyc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Bevacizumab – ATLA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>
              <a:off x="4716720" y="1847880"/>
              <a:ext cx="315720" cy="2306520"/>
            </a:xfrm>
            <a:custGeom>
              <a:avLst/>
              <a:gdLst>
                <a:gd name="textAreaLeft" fmla="*/ 15120 w 315720"/>
                <a:gd name="textAreaRight" fmla="*/ 300600 w 315720"/>
                <a:gd name="textAreaTop" fmla="*/ 15120 h 2306520"/>
                <a:gd name="textAreaBottom" fmla="*/ 2291400 h 2306520"/>
              </a:gdLst>
              <a:ahLst/>
              <a:rect l="textAreaLeft" t="textAreaTop" r="textAreaRight" b="textAreaBottom"/>
              <a:pathLst>
                <a:path w="21600" h="157646">
                  <a:moveTo>
                    <a:pt x="3600" y="0"/>
                  </a:moveTo>
                  <a:arcTo wR="3600" hR="3600" stAng="16200000" swAng="-5400000"/>
                  <a:lnTo>
                    <a:pt x="0" y="154046"/>
                  </a:lnTo>
                  <a:arcTo wR="3600" hR="3600" stAng="10800000" swAng="-5400000"/>
                  <a:lnTo>
                    <a:pt x="18000" y="1576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AutoShape 12"/>
            <p:cNvSpPr/>
            <p:nvPr/>
          </p:nvSpPr>
          <p:spPr>
            <a:xfrm>
              <a:off x="5734080" y="3347280"/>
              <a:ext cx="3290760" cy="2719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Delayed 2</a:t>
              </a:r>
              <a:r>
                <a:rPr b="1" lang="en-US" sz="1800" spc="-1" strike="noStrike" u="sng" baseline="30000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nd</a:t>
              </a:r>
              <a:r>
                <a:rPr b="1" lang="en-US" sz="18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 line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Docetaxel (Fidi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JME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SATUR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ATL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13"/>
            <p:cNvSpPr/>
            <p:nvPr/>
          </p:nvSpPr>
          <p:spPr>
            <a:xfrm>
              <a:off x="5661000" y="1060560"/>
              <a:ext cx="3381480" cy="2719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Immediate 2</a:t>
              </a:r>
              <a:r>
                <a:rPr b="1" lang="en-US" sz="1800" spc="-1" strike="noStrike" u="sng" baseline="30000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nd</a:t>
              </a: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 line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ocetaxel (Fidi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Pemetrexed (JME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lotinib (SATUR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lotinib (ATL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16"/>
            <p:cNvSpPr/>
            <p:nvPr/>
          </p:nvSpPr>
          <p:spPr>
            <a:xfrm>
              <a:off x="73080" y="2490840"/>
              <a:ext cx="1708200" cy="1014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112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motherapy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ïve stage IV NSCL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255"/>
            <p:cNvSpPr/>
            <p:nvPr/>
          </p:nvSpPr>
          <p:spPr>
            <a:xfrm>
              <a:off x="1785960" y="300816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56"/>
            <p:cNvSpPr/>
            <p:nvPr/>
          </p:nvSpPr>
          <p:spPr>
            <a:xfrm>
              <a:off x="4422960" y="300816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1" name="AutoShape 257"/>
            <p:cNvCxnSpPr/>
            <p:nvPr/>
          </p:nvCxnSpPr>
          <p:spPr>
            <a:xfrm flipV="1">
              <a:off x="5060880" y="2586960"/>
              <a:ext cx="308880" cy="4179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2" name="AutoShape 258"/>
            <p:cNvCxnSpPr/>
            <p:nvPr/>
          </p:nvCxnSpPr>
          <p:spPr>
            <a:xfrm>
              <a:off x="5060520" y="2994120"/>
              <a:ext cx="267120" cy="4658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73" name="Text Box 302"/>
          <p:cNvSpPr/>
          <p:nvPr/>
        </p:nvSpPr>
        <p:spPr>
          <a:xfrm>
            <a:off x="228600" y="5773680"/>
            <a:ext cx="862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is “maintenance”, “sequential”, prolonged duration or j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ier use of effective second-line therap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2127240" y="4343400"/>
            <a:ext cx="20764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arly PD or D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tients drop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Straight Arrow Connector 15"/>
          <p:cNvCxnSpPr>
            <a:endCxn id="174" idx="0"/>
          </p:cNvCxnSpPr>
          <p:nvPr/>
        </p:nvCxnSpPr>
        <p:spPr>
          <a:xfrm>
            <a:off x="3161880" y="3784680"/>
            <a:ext cx="3960" cy="559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33360" y="1359000"/>
          <a:ext cx="8594640" cy="4606920"/>
        </p:xfrm>
        <a:graphic>
          <a:graphicData uri="http://schemas.openxmlformats.org/drawingml/2006/table">
            <a:tbl>
              <a:tblPr/>
              <a:tblGrid>
                <a:gridCol w="1596960"/>
                <a:gridCol w="619200"/>
                <a:gridCol w="1571400"/>
                <a:gridCol w="2384640"/>
                <a:gridCol w="242244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78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1800" y="1371600"/>
          <a:ext cx="8595000" cy="4606920"/>
        </p:xfrm>
        <a:graphic>
          <a:graphicData uri="http://schemas.openxmlformats.org/drawingml/2006/table">
            <a:tbl>
              <a:tblPr/>
              <a:tblGrid>
                <a:gridCol w="1567080"/>
                <a:gridCol w="630000"/>
                <a:gridCol w="1570320"/>
                <a:gridCol w="2355840"/>
                <a:gridCol w="247176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s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33360" y="1447920"/>
          <a:ext cx="8594640" cy="4606920"/>
        </p:xfrm>
        <a:graphic>
          <a:graphicData uri="http://schemas.openxmlformats.org/drawingml/2006/table">
            <a:tbl>
              <a:tblPr/>
              <a:tblGrid>
                <a:gridCol w="1587600"/>
                <a:gridCol w="630000"/>
                <a:gridCol w="1541520"/>
                <a:gridCol w="2374920"/>
                <a:gridCol w="246060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85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0" y="177840"/>
            <a:ext cx="905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odern Day “Maintenance” T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458200" cy="4539960"/>
        </p:xfrm>
        <a:graphic>
          <a:graphicData uri="http://schemas.openxmlformats.org/drawingml/2006/table">
            <a:tbl>
              <a:tblPr/>
              <a:tblGrid>
                <a:gridCol w="1498320"/>
                <a:gridCol w="1625760"/>
                <a:gridCol w="838080"/>
                <a:gridCol w="1384560"/>
                <a:gridCol w="1282680"/>
                <a:gridCol w="1828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(H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H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tax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p=0.0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p=0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t only in non-squamo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%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S 2 p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RTC 080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d ear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0" name="TextBox 3"/>
          <p:cNvSpPr/>
          <p:nvPr/>
        </p:nvSpPr>
        <p:spPr>
          <a:xfrm>
            <a:off x="96480" y="609588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*p&lt;0.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61440" y="3484440"/>
            <a:ext cx="19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metre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61640" y="3511440"/>
            <a:ext cx="334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/paclita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338160" y="3537000"/>
            <a:ext cx="273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apy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geno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FR, EML4-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H="1">
            <a:off x="1515240" y="2896200"/>
            <a:ext cx="2521800" cy="587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10"/>
          <p:cNvCxnSpPr/>
          <p:nvPr/>
        </p:nvCxnSpPr>
        <p:spPr>
          <a:xfrm>
            <a:off x="4388400" y="2923920"/>
            <a:ext cx="13320" cy="548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2"/>
          <p:cNvCxnSpPr/>
          <p:nvPr/>
        </p:nvCxnSpPr>
        <p:spPr>
          <a:xfrm>
            <a:off x="4871880" y="2923920"/>
            <a:ext cx="2221560" cy="523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61440" y="3484440"/>
            <a:ext cx="19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metre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861640" y="3511440"/>
            <a:ext cx="334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/paclita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338160" y="3537000"/>
            <a:ext cx="273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apy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Geno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FR, EML4-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" name="Straight Arrow Connector 7"/>
          <p:cNvCxnSpPr/>
          <p:nvPr/>
        </p:nvCxnSpPr>
        <p:spPr>
          <a:xfrm flipH="1">
            <a:off x="1515240" y="2896200"/>
            <a:ext cx="2521800" cy="587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>
            <a:off x="4388400" y="2923920"/>
            <a:ext cx="13320" cy="548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/>
          <p:nvPr/>
        </p:nvCxnSpPr>
        <p:spPr>
          <a:xfrm>
            <a:off x="4871880" y="2923920"/>
            <a:ext cx="2221560" cy="523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8"/>
          <p:cNvSpPr/>
          <p:nvPr/>
        </p:nvSpPr>
        <p:spPr>
          <a:xfrm>
            <a:off x="813240" y="3981600"/>
            <a:ext cx="7564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Where does anti-EGFR MoAb therapy fit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0600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 III Trial: Cisplatin/Pemetrexed vs Cisplatin/Gemcitabine in Advanced NSCL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66720" y="6465960"/>
            <a:ext cx="771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cagliotti GV et al: </a:t>
            </a:r>
            <a:r>
              <a:rPr b="1" i="1" lang="en-US" sz="1300" spc="-1" strike="noStrike">
                <a:solidFill>
                  <a:srgbClr val="ffff00"/>
                </a:solidFill>
                <a:latin typeface="Arial"/>
              </a:rPr>
              <a:t>J Clin Oncol.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26 (21), 2008: 3543-3551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223920" y="3475080"/>
            <a:ext cx="30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AutoShape 6"/>
          <p:cNvCxnSpPr>
            <a:stCxn id="67" idx="3"/>
            <a:endCxn id="68" idx="1"/>
          </p:cNvCxnSpPr>
          <p:nvPr/>
        </p:nvCxnSpPr>
        <p:spPr>
          <a:xfrm>
            <a:off x="3450960" y="2909520"/>
            <a:ext cx="494280" cy="13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9" name="AutoShape 7"/>
          <p:cNvCxnSpPr>
            <a:stCxn id="68" idx="3"/>
            <a:endCxn id="70" idx="1"/>
          </p:cNvCxnSpPr>
          <p:nvPr/>
        </p:nvCxnSpPr>
        <p:spPr>
          <a:xfrm flipV="1">
            <a:off x="4351320" y="2258280"/>
            <a:ext cx="559080" cy="664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" name="AutoShape 10"/>
          <p:cNvCxnSpPr>
            <a:stCxn id="68" idx="3"/>
            <a:endCxn id="72" idx="1"/>
          </p:cNvCxnSpPr>
          <p:nvPr/>
        </p:nvCxnSpPr>
        <p:spPr>
          <a:xfrm>
            <a:off x="4351320" y="2922480"/>
            <a:ext cx="565920" cy="673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3" name="Rectangle 54"/>
          <p:cNvSpPr/>
          <p:nvPr/>
        </p:nvSpPr>
        <p:spPr>
          <a:xfrm>
            <a:off x="5286240" y="27399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y 3 weeks up to 6 cyc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28680" y="2413080"/>
            <a:ext cx="3109680" cy="99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0840" y="2414520"/>
            <a:ext cx="28573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motherapy-naïv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17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983120" y="1754280"/>
            <a:ext cx="35416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isplatin 75 mg/m</a:t>
            </a:r>
            <a:r>
              <a:rPr b="1" lang="en-US" sz="16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Pemetrexed 500 mg/m</a:t>
            </a:r>
            <a:r>
              <a:rPr b="1" lang="en-US" sz="16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=8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4923000" y="1776240"/>
            <a:ext cx="3563640" cy="965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929120" y="3081240"/>
            <a:ext cx="3567240" cy="102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976640" y="3107520"/>
            <a:ext cx="36529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splatin 75 mg/m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mcitabine 1250 mg/m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1,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8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957480" y="1717560"/>
            <a:ext cx="381240" cy="2408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371520" y="4759200"/>
            <a:ext cx="843912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an survival, CP=10.3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an survival, CG=10.3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justed HR=0.9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8477640" y="199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61"/>
          <p:cNvSpPr/>
          <p:nvPr/>
        </p:nvSpPr>
        <p:spPr>
          <a:xfrm>
            <a:off x="8534160" y="3321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968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platin/Pemetrexed vs Cisplatin/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mcitabine in Advanced NSCLC: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66720" y="6362640"/>
            <a:ext cx="771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cagliotti GV et al: </a:t>
            </a:r>
            <a:r>
              <a:rPr b="1" i="1" lang="en-US" sz="1300" spc="-1" strike="noStrike">
                <a:solidFill>
                  <a:srgbClr val="ffff00"/>
                </a:solidFill>
                <a:latin typeface="Arial"/>
              </a:rPr>
              <a:t>J Clin Oncol.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26 (21), 2008: 3543-3551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9720" y="1550880"/>
            <a:ext cx="7386840" cy="29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spcBef>
                <a:spcPts val="178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patients with nonsquamous histology, the median survival with CP and CG = 11.8 and 10.4 months, respectively; HR (CP vs CG) = 0.8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178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patients with squamous histology, the median survival with CP and CG = 9.4 and 10.8 months, respectively; HR (CP vs CG) = 1.2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695160" y="1927080"/>
            <a:ext cx="2370240" cy="96192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st-line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(N=87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4330800" y="1452600"/>
            <a:ext cx="3535200" cy="78048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clitaxel/carbopla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no crossover allowed)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4321080" y="2478240"/>
            <a:ext cx="3537000" cy="105480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Paclitaxel/carboplatin + Bevacizum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15 mg/kg every 3 wks until 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COG 4599: Phase III Trial of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clitaxel/Carboplat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evacizumab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76440" y="6465960"/>
            <a:ext cx="78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Engl J Med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;355:2542; A. Sandler, MD, personal communic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47640" y="3441600"/>
            <a:ext cx="78152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eligibility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emotherapy-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ïve stage IIIB/I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nsqua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 CNS metast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uncontrolled hyper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history of thrombotic or hemorrhagic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history of or current gros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emopty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½ 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 bright red bl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 NOS permitted (20% of patients enrolled as NSCLC N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AutoShape 8"/>
          <p:cNvCxnSpPr>
            <a:stCxn id="83" idx="3"/>
            <a:endCxn id="84" idx="1"/>
          </p:cNvCxnSpPr>
          <p:nvPr/>
        </p:nvCxnSpPr>
        <p:spPr>
          <a:xfrm flipV="1">
            <a:off x="3078000" y="1853640"/>
            <a:ext cx="1240560" cy="565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0" name="AutoShape 9"/>
          <p:cNvCxnSpPr>
            <a:stCxn id="83" idx="3"/>
            <a:endCxn id="85" idx="1"/>
          </p:cNvCxnSpPr>
          <p:nvPr/>
        </p:nvCxnSpPr>
        <p:spPr>
          <a:xfrm>
            <a:off x="3078000" y="2419200"/>
            <a:ext cx="1231200" cy="5976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91" name="Text Box 11"/>
          <p:cNvSpPr/>
          <p:nvPr/>
        </p:nvSpPr>
        <p:spPr>
          <a:xfrm>
            <a:off x="674640" y="585000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S=central nervous system; NOS=not otherwise specified; PC=paclitaxel/carboplatin; PCB=paclitaxel/carboplatin + bevacizum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765920" y="1563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505640" y="284328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9440"/>
            <a:ext cx="905976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COG 4599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: Key Outcom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7040" y="1041480"/>
            <a:ext cx="834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R: 15% for PC versus 35% for PCB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0.00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survival PC, PCB: 10.3 months, 12.3 months; HR=0.79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0.003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on-free survival: Favored PCB (HR=0.62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0.000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65160" y="2436840"/>
          <a:ext cx="5454720" cy="3395520"/>
        </p:xfrm>
        <a:graphic>
          <a:graphicData uri="http://schemas.openxmlformats.org/drawingml/2006/table">
            <a:tbl>
              <a:tblPr/>
              <a:tblGrid>
                <a:gridCol w="1871640"/>
                <a:gridCol w="1252800"/>
                <a:gridCol w="1320840"/>
                <a:gridCol w="1009440"/>
              </a:tblGrid>
              <a:tr h="64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xi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N=4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C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N=42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rrh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 marL="6480" indent="288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erten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</a:tr>
              <a:tr h="53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ous Thrombo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53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erial Thrombosis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 marL="1173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pty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anchor="ctr">
                      <a:noAutofit/>
                    </a:bodyPr>
                    <a:p>
                      <a:pPr marL="1173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 Bl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7"/>
          <p:cNvSpPr/>
          <p:nvPr/>
        </p:nvSpPr>
        <p:spPr>
          <a:xfrm>
            <a:off x="668160" y="6313320"/>
            <a:ext cx="77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Engl J Med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;355:2542; 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SCO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05 (abstr 4); A. Sandler, MD, personal communic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2"/>
          <p:cNvSpPr/>
          <p:nvPr/>
        </p:nvSpPr>
        <p:spPr>
          <a:xfrm>
            <a:off x="658800" y="6048360"/>
            <a:ext cx="73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=gastrointestinal; ND=not done; NS=not significa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8856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EX Phase III Trial: Cisplatin/Vinorelbi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± Cetuximab in EGFR+ Advanced NSCLC</a:t>
            </a: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irker R et al. ASCO 2008, abstr # 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34880" y="4581360"/>
            <a:ext cx="82454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endpoint: 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 endpoints: 1- and 2-year survival rat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-month and 12-month PFS rates, response rate, safety, quality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95360" y="6116760"/>
            <a:ext cx="83455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rker R et al. Lancet 373: 1525-1531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1100160" y="1844640"/>
            <a:ext cx="6729480" cy="2612880"/>
            <a:chOff x="1100160" y="1844640"/>
            <a:chExt cx="6729480" cy="2612880"/>
          </a:xfrm>
        </p:grpSpPr>
        <p:sp>
          <p:nvSpPr>
            <p:cNvPr id="103" name="AutoShape 4"/>
            <p:cNvSpPr/>
            <p:nvPr/>
          </p:nvSpPr>
          <p:spPr>
            <a:xfrm>
              <a:off x="1100160" y="2573280"/>
              <a:ext cx="2471760" cy="1147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ge IIIB or 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GFR-express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motherapy-naïv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CL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4199040" y="1844640"/>
              <a:ext cx="417240" cy="2612880"/>
            </a:xfrm>
            <a:custGeom>
              <a:avLst/>
              <a:gdLst>
                <a:gd name="textAreaLeft" fmla="*/ 20160 w 417240"/>
                <a:gd name="textAreaRight" fmla="*/ 397080 w 417240"/>
                <a:gd name="textAreaTop" fmla="*/ 20160 h 2612880"/>
                <a:gd name="textAreaBottom" fmla="*/ 2592720 h 2612880"/>
              </a:gdLst>
              <a:ahLst/>
              <a:rect l="textAreaLeft" t="textAreaTop" r="textAreaRight" b="textAreaBottom"/>
              <a:pathLst>
                <a:path w="21600" h="135168">
                  <a:moveTo>
                    <a:pt x="3600" y="0"/>
                  </a:moveTo>
                  <a:arcTo wR="3600" hR="3600" stAng="16200000" swAng="-5400000"/>
                  <a:lnTo>
                    <a:pt x="0" y="131568"/>
                  </a:lnTo>
                  <a:arcTo wR="3600" hR="3600" stAng="10800000" swAng="-5400000"/>
                  <a:lnTo>
                    <a:pt x="18000" y="135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marL="285840" indent="-28584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5202360" y="2046240"/>
              <a:ext cx="2627280" cy="110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/Vinorel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tuxima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=5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7"/>
            <p:cNvSpPr/>
            <p:nvPr/>
          </p:nvSpPr>
          <p:spPr>
            <a:xfrm>
              <a:off x="5202360" y="3230640"/>
              <a:ext cx="2622600" cy="1071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splatin/Vinorel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=5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" name="AutoShape 8"/>
            <p:cNvCxnSpPr>
              <a:stCxn id="104" idx="3"/>
              <a:endCxn id="105" idx="1"/>
            </p:cNvCxnSpPr>
            <p:nvPr/>
          </p:nvCxnSpPr>
          <p:spPr>
            <a:xfrm flipV="1">
              <a:off x="4616280" y="2596320"/>
              <a:ext cx="586800" cy="55476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8" name="AutoShape 9"/>
            <p:cNvCxnSpPr>
              <a:stCxn id="104" idx="3"/>
              <a:endCxn id="106" idx="1"/>
            </p:cNvCxnSpPr>
            <p:nvPr/>
          </p:nvCxnSpPr>
          <p:spPr>
            <a:xfrm>
              <a:off x="4616280" y="3150720"/>
              <a:ext cx="586800" cy="61668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9" name="Line 15"/>
            <p:cNvSpPr/>
            <p:nvPr/>
          </p:nvSpPr>
          <p:spPr>
            <a:xfrm>
              <a:off x="3570120" y="3141720"/>
              <a:ext cx="552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49:58Z</dcterms:created>
  <dc:creator>Research To Practice</dc:creator>
  <dc:description/>
  <cp:keywords/>
  <dc:language>en-US</dc:language>
  <cp:lastModifiedBy>Mac Pro E703803Y4PC</cp:lastModifiedBy>
  <cp:lastPrinted>2007-09-24T21:37:34Z</cp:lastPrinted>
  <dcterms:modified xsi:type="dcterms:W3CDTF">2011-05-20T17:31:10Z</dcterms:modified>
  <cp:revision>1526</cp:revision>
  <dc:subject/>
  <dc:title>PowerPoint Presentation</dc:title>
</cp:coreProperties>
</file>