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2CE07-655D-4E82-88F5-15C04CAC5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61236-F4D8-4C82-A047-392E7D1C9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585D2-3947-4434-A4F0-D603590B9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7800E3-3CA5-4900-A6E8-2CDBFA3350DC}" type="slidenum">
              <a:rPr b="0" i="1" lang="nl-NL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9A0FF-6319-459D-9A81-31B864021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DA9F3-7B1E-4C16-AAE2-5FC2CD393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01E395-E346-47E3-A2D4-31482F4C808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3400" y="4346280"/>
            <a:ext cx="5191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E91-830A-4BEE-9028-A7C31320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429-9756-4A7D-B3B5-96A1D57C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20D-8BCF-4CDE-B8FD-D99FF6A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836-F178-4435-922F-2298E19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BC1-732C-4D10-85F4-64AA8E9E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5DB-53E8-47D2-ADD5-89F9FD7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AC6-DA5D-43A3-AAC7-2ADC529F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819-616C-4732-A3F2-A2FB326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D0C-1EEE-41EC-90F2-0332147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A7C-5A32-49AD-99E6-79AC520F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F49-B110-45A7-A35E-E53FACEB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20F-3C89-4C22-9BC5-3FBC7D7D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F1E-1CA1-4CB9-B80A-37A6463C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B62-9539-4091-BDED-D3F848F6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A48B-E20E-4D48-9264-59F03DFF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138B-A03A-456B-89CE-8B55902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0E33-20BC-4D8D-8C72-840A66A5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CEBF-1161-41E0-95D6-AAB13B0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A902-3A66-4D78-A745-C9F9B13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A819-8CFF-47D7-9694-753F91B8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7FD-335A-46FB-ABF0-4C975D3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CB4B-1E37-42CD-8C51-0DBCD9F4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7B57-2DAA-4866-B994-65512063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595-C260-40F4-A0F7-5487917F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EEB8-D97F-42B5-9B3B-7FCFA9D5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C690-0924-4975-8DC6-1A2A301C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BA21-E992-4678-8CAC-D749711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FE55-44D4-48AF-8721-F272CB82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2DBD-EFF2-4ED1-98C7-F27349C9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9FBF-4B3D-4B43-A531-F690CFC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16E2-2F0F-44DE-A6AA-ED0F2B4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0F07-EDFE-47CA-B5D5-1F3BEE5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98D6-AE4D-457B-A42C-E6397BA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6A1D-B9C7-4DD4-B102-2E3503D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173B-730E-4E60-B1AA-837D37A4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B68E-D7FA-4842-8FB5-863FF9F5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0BB56-02CD-420B-AA6E-0D9960E518A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C63BD-7E22-400A-9AE9-52EF5A2F8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D7037-4CEF-40B1-8252-7B32209B2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EC6F2-1EB9-4987-89A3-C030DD87BBC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80F74-9FC6-427E-A05E-6294E8EDB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14061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Key questions being answered in ongoing clinical trials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903320" y="3451320"/>
            <a:ext cx="55771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4"/>
          <p:cNvSpPr/>
          <p:nvPr/>
        </p:nvSpPr>
        <p:spPr>
          <a:xfrm flipV="1">
            <a:off x="4057560" y="2593440"/>
            <a:ext cx="48888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4057560" y="3243240"/>
            <a:ext cx="505080" cy="592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250920" y="215424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4699080" y="2154240"/>
            <a:ext cx="4120920" cy="123660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 (Stimuvax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714920" y="3548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SC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3498840" y="2844720"/>
            <a:ext cx="673200" cy="660240"/>
            <a:chOff x="3498840" y="2844720"/>
            <a:chExt cx="673200" cy="660240"/>
          </a:xfrm>
        </p:grpSpPr>
        <p:sp>
          <p:nvSpPr>
            <p:cNvPr id="388" name="Oval 12"/>
            <p:cNvSpPr/>
            <p:nvPr/>
          </p:nvSpPr>
          <p:spPr>
            <a:xfrm>
              <a:off x="3498840" y="284472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3"/>
            <p:cNvSpPr/>
            <p:nvPr/>
          </p:nvSpPr>
          <p:spPr>
            <a:xfrm>
              <a:off x="3613320" y="293364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HRQoL, immun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208080" y="44578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IIIB ‘dry’ vs. IIIB ‘wet’ vs. 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639960" y="223200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639960" y="38005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5184720" y="4591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08000" y="2112840"/>
          <a:ext cx="6824880" cy="3510000"/>
        </p:xfrm>
        <a:graphic>
          <a:graphicData uri="http://schemas.openxmlformats.org/drawingml/2006/table">
            <a:tbl>
              <a:tblPr/>
              <a:tblGrid>
                <a:gridCol w="2295720"/>
                <a:gridCol w="2170080"/>
                <a:gridCol w="2359080"/>
              </a:tblGrid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-BLP25 + 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n 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[95% 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.3 m  [9.6–28.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.6 m  [13.4–N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 [95%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548 [0.30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–0.999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] </a:t>
                      </a:r>
                      <a:br>
                        <a:rPr sz="1400"/>
                      </a:b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=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</a:tr>
            </a:tbl>
          </a:graphicData>
        </a:graphic>
      </p:graphicFrame>
      <p:sp>
        <p:nvSpPr>
          <p:cNvPr id="398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400" spc="-1" strike="noStrike">
                <a:solidFill>
                  <a:srgbClr val="fafd00"/>
                </a:solidFill>
                <a:latin typeface="Verdana"/>
              </a:rPr>
              <a:t>&gt; MUC1 phase II R: stage IIIB ‘dry’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484200" y="6335640"/>
            <a:ext cx="35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WCLC2007 updat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4"/>
          <p:cNvSpPr/>
          <p:nvPr/>
        </p:nvSpPr>
        <p:spPr>
          <a:xfrm flipV="1">
            <a:off x="4057560" y="2393640"/>
            <a:ext cx="49860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4057560" y="3033720"/>
            <a:ext cx="523800" cy="519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250920" y="196380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699080" y="19638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714920" y="3224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6"/>
          <p:cNvGrpSpPr/>
          <p:nvPr/>
        </p:nvGrpSpPr>
        <p:grpSpPr>
          <a:xfrm>
            <a:off x="3498840" y="2654280"/>
            <a:ext cx="673200" cy="660240"/>
            <a:chOff x="3498840" y="2654280"/>
            <a:chExt cx="673200" cy="660240"/>
          </a:xfrm>
        </p:grpSpPr>
        <p:sp>
          <p:nvSpPr>
            <p:cNvPr id="406" name="Oval 12"/>
            <p:cNvSpPr/>
            <p:nvPr/>
          </p:nvSpPr>
          <p:spPr>
            <a:xfrm>
              <a:off x="3498840" y="26542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3"/>
            <p:cNvSpPr/>
            <p:nvPr/>
          </p:nvSpPr>
          <p:spPr>
            <a:xfrm>
              <a:off x="3613320" y="27432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TTP, sympt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208080" y="4267080"/>
            <a:ext cx="36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 stage: IIIA 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II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ponse: SD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.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T: concurrent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sequ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3639960" y="20415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639960" y="35528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I (ST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5184720" y="4267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2598840" y="1473120"/>
            <a:ext cx="3873240" cy="10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c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rent or Refracto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for KRAS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277640" y="3695760"/>
            <a:ext cx="1840320" cy="368280"/>
          </a:xfrm>
          <a:prstGeom prst="rect">
            <a:avLst/>
          </a:prstGeom>
          <a:solidFill>
            <a:srgbClr val="aa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Wil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5722920" y="3695760"/>
            <a:ext cx="1706400" cy="368280"/>
          </a:xfrm>
          <a:prstGeom prst="rect">
            <a:avLst/>
          </a:prstGeom>
          <a:solidFill>
            <a:srgbClr val="e848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Mu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03920" y="4762440"/>
            <a:ext cx="139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255168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482364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6899760" y="4762440"/>
            <a:ext cx="1310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5 mg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"/>
          <p:cNvSpPr/>
          <p:nvPr/>
        </p:nvSpPr>
        <p:spPr>
          <a:xfrm flipH="1">
            <a:off x="2095560" y="2565360"/>
            <a:ext cx="224784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4343400" y="2565360"/>
            <a:ext cx="209556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 flipH="1">
            <a:off x="5448240" y="40766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643896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 flipH="1">
            <a:off x="102852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095560" y="4076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2168640" y="29671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5511960" y="259884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 enrollment 18 patients (9 per ar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0/9 responses then this arm will cl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1 response, then will enroll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 patients per arm (Max 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568440" y="41860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6640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49752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99444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3421800" y="3195720"/>
            <a:ext cx="219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80%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(2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orted incidence of K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tations in NSC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2"/>
          <p:cNvSpPr/>
          <p:nvPr/>
        </p:nvSpPr>
        <p:spPr>
          <a:xfrm>
            <a:off x="6096600" y="533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TEP # 84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PARP-1 Inhibitors in NSCL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452600" y="1265400"/>
          <a:ext cx="6205680" cy="5232240"/>
        </p:xfrm>
        <a:graphic>
          <a:graphicData uri="http://schemas.openxmlformats.org/drawingml/2006/table">
            <a:tbl>
              <a:tblPr/>
              <a:tblGrid>
                <a:gridCol w="2846520"/>
                <a:gridCol w="335916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PARP-1 inhib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Lung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I-201 (Ini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I (SCC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all histologi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D2281 (Ola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0146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T-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-1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P-97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4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I 21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760" y="3427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44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4160" y="1612800"/>
          <a:ext cx="8686800" cy="4910040"/>
        </p:xfrm>
        <a:graphic>
          <a:graphicData uri="http://schemas.openxmlformats.org/drawingml/2006/table">
            <a:tbl>
              <a:tblPr/>
              <a:tblGrid>
                <a:gridCol w="1406520"/>
                <a:gridCol w="1436760"/>
                <a:gridCol w="1612800"/>
                <a:gridCol w="1409760"/>
                <a:gridCol w="1411200"/>
                <a:gridCol w="1409760"/>
              </a:tblGrid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GE-A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P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a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HU-EG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4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in lipos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geneic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by viral v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CT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/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uno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plac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/d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37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1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– target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First Line Phase III Trial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629080" y="1320840"/>
            <a:ext cx="35208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31760" y="1292400"/>
            <a:ext cx="185436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IIIB/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 Na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G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 flipV="1">
            <a:off x="3143160" y="1951200"/>
            <a:ext cx="685800" cy="4140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143160" y="2746440"/>
            <a:ext cx="60984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790800" y="15908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6572160" y="16160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actoferrin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572160" y="29876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bo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3790800" y="3038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495760" y="1320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6010200" y="3127320"/>
            <a:ext cx="628560" cy="18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6010200" y="1851120"/>
            <a:ext cx="628560" cy="144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2173320" y="3925800"/>
            <a:ext cx="4038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10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Primary End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tion of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6568920" y="2011320"/>
            <a:ext cx="2405160" cy="946440"/>
          </a:xfrm>
          <a:prstGeom prst="rect">
            <a:avLst/>
          </a:prstGeom>
          <a:solidFill>
            <a:srgbClr val="ffffdb"/>
          </a:solidFill>
          <a:ln w="255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11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hase 2, TLF or placebo was stopped when chemotherapy was discontinued or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121920" y="23986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60920" y="4965480"/>
            <a:ext cx="4330800" cy="1460520"/>
          </a:xfrm>
          <a:prstGeom prst="rect">
            <a:avLst/>
          </a:prstGeom>
          <a:noFill/>
          <a:ln w="38160">
            <a:solidFill>
              <a:srgbClr val="9902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1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actoferrin 1.5 g bid oral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platin AUC 6.0 min*mg/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2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bo bid orally + C/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actoferrin or placebo will be administered orally for 35 consecutive days, starting on Day 2 in the first, third and fifth 3-week C/P cyc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47240"/>
            <a:ext cx="91407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Monotherapy Phase III 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901960" y="2247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03040" y="1300320"/>
            <a:ext cx="219744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actory IIIB or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or regi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G 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Prior 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ance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3416400" y="2877840"/>
            <a:ext cx="685800" cy="41436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3416400" y="3673440"/>
            <a:ext cx="60948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064040" y="257796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064040" y="3787920"/>
            <a:ext cx="18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275520" y="2062080"/>
            <a:ext cx="2614320" cy="29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ndpoin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o and 1 yr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bilizat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142920" y="6429240"/>
            <a:ext cx="88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Excludes any other anti-cancer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02720" y="33368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2955240" y="5162400"/>
            <a:ext cx="5848560" cy="734400"/>
          </a:xfrm>
          <a:prstGeom prst="rect">
            <a:avLst/>
          </a:prstGeom>
          <a:noFill/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actoferrin 1.5 g bid, or an equivalent volume of placeb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weeks (84 days) on study drug and 2 weeks (14 days) off study dr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4"/>
          <p:cNvSpPr/>
          <p:nvPr/>
        </p:nvSpPr>
        <p:spPr>
          <a:xfrm>
            <a:off x="250920" y="1938240"/>
            <a:ext cx="309708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esect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-stage IB /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omplete re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MAGE-A3  rt PC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S 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86480" y="1874880"/>
            <a:ext cx="4133520" cy="720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MAGE-A3 ASCI 300 µg i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q3w x5 -&gt; q3m x8 (27 m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4673520" y="3025800"/>
            <a:ext cx="4146480" cy="7207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sam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250920" y="5511960"/>
            <a:ext cx="4790880" cy="583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disease-free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1104840" y="125280"/>
            <a:ext cx="7991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gt;MAGE-A3 proof of concept phase II 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814680" y="6350040"/>
            <a:ext cx="278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Vansteenkiste et al, ASCO 2007 - IASLC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208080" y="407664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B vs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stology: squamous vs. non-squa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LN procedure: limited vs. dis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 flipV="1">
            <a:off x="4057560" y="2304720"/>
            <a:ext cx="498600" cy="58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4057560" y="294480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3498840" y="2565360"/>
            <a:ext cx="673200" cy="660240"/>
            <a:chOff x="3498840" y="2565360"/>
            <a:chExt cx="673200" cy="660240"/>
          </a:xfrm>
        </p:grpSpPr>
        <p:sp>
          <p:nvSpPr>
            <p:cNvPr id="334" name="Oval 12"/>
            <p:cNvSpPr/>
            <p:nvPr/>
          </p:nvSpPr>
          <p:spPr>
            <a:xfrm>
              <a:off x="3498840" y="256536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3"/>
            <p:cNvSpPr/>
            <p:nvPr/>
          </p:nvSpPr>
          <p:spPr>
            <a:xfrm>
              <a:off x="3613320" y="2654280"/>
              <a:ext cx="444240" cy="4291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2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7"/>
          <p:cNvSpPr/>
          <p:nvPr/>
        </p:nvSpPr>
        <p:spPr>
          <a:xfrm>
            <a:off x="3639960" y="19526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1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639960" y="34639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522360" y="1473120"/>
            <a:ext cx="8043840" cy="12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-A3 as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juvant Non-Small Cell Lun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ance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uno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ap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ldwide multicenter, randomized, double-blind, placebo-controlled ph III 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xpected N=10,000 screened  -&gt;  N=2,270 patients rando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rimary endpoint: disease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120680" y="100080"/>
            <a:ext cx="79153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  <a:ea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  <a:ea typeface="Verdana"/>
              </a:rPr>
              <a:t>&gt; MAGE-A3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hase III: MAGRIT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9280" y="3152880"/>
            <a:ext cx="7689960" cy="3227040"/>
            <a:chOff x="449280" y="3152880"/>
            <a:chExt cx="7689960" cy="3227040"/>
          </a:xfrm>
        </p:grpSpPr>
        <p:cxnSp>
          <p:nvCxnSpPr>
            <p:cNvPr id="341" name="AutoShape 2"/>
            <p:cNvCxnSpPr/>
            <p:nvPr/>
          </p:nvCxnSpPr>
          <p:spPr>
            <a:xfrm>
              <a:off x="6779880" y="4823640"/>
              <a:ext cx="1080" cy="48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2" name="Rectangle 8"/>
            <p:cNvSpPr/>
            <p:nvPr/>
          </p:nvSpPr>
          <p:spPr>
            <a:xfrm>
              <a:off x="1505520" y="5207400"/>
              <a:ext cx="2070360" cy="346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3" name="AutoShape 9"/>
            <p:cNvCxnSpPr/>
            <p:nvPr/>
          </p:nvCxnSpPr>
          <p:spPr>
            <a:xfrm>
              <a:off x="4670640" y="3372840"/>
              <a:ext cx="1080" cy="48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Rectangle 10"/>
            <p:cNvSpPr/>
            <p:nvPr/>
          </p:nvSpPr>
          <p:spPr>
            <a:xfrm>
              <a:off x="2814120" y="3152880"/>
              <a:ext cx="3684960" cy="3524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esected MAGE-A3 (+) NSC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3424680" y="3768840"/>
              <a:ext cx="2461680" cy="317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Decision for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2"/>
            <p:cNvGrpSpPr/>
            <p:nvPr/>
          </p:nvGrpSpPr>
          <p:grpSpPr>
            <a:xfrm>
              <a:off x="5767560" y="5586480"/>
              <a:ext cx="1937520" cy="325080"/>
              <a:chOff x="5767560" y="5586480"/>
              <a:chExt cx="1937520" cy="325080"/>
            </a:xfrm>
          </p:grpSpPr>
          <p:cxnSp>
            <p:nvCxnSpPr>
              <p:cNvPr id="347" name="AutoShape 13"/>
              <p:cNvCxnSpPr/>
              <p:nvPr/>
            </p:nvCxnSpPr>
            <p:spPr>
              <a:xfrm rot="5400000">
                <a:off x="6095520" y="5258160"/>
                <a:ext cx="325440" cy="98172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48" name="AutoShape 14"/>
              <p:cNvCxnSpPr/>
              <p:nvPr/>
            </p:nvCxnSpPr>
            <p:spPr>
              <a:xfrm flipH="1" rot="16200000">
                <a:off x="7064640" y="5270760"/>
                <a:ext cx="325440" cy="95616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9" name="Text Box 15"/>
            <p:cNvSpPr/>
            <p:nvPr/>
          </p:nvSpPr>
          <p:spPr>
            <a:xfrm>
              <a:off x="449280" y="5879880"/>
              <a:ext cx="2550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10932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2044080" y="3902760"/>
              <a:ext cx="1064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No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64360" y="3902760"/>
              <a:ext cx="787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285520" y="4614120"/>
              <a:ext cx="2814480" cy="344880"/>
            </a:xfrm>
            <a:prstGeom prst="rect">
              <a:avLst/>
            </a:prstGeom>
            <a:solidFill>
              <a:srgbClr val="e123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p to 4 cycles of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5576760" y="5207400"/>
              <a:ext cx="2347200" cy="34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4494960" y="5879880"/>
              <a:ext cx="25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728028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3"/>
            <p:cNvGrpSpPr/>
            <p:nvPr/>
          </p:nvGrpSpPr>
          <p:grpSpPr>
            <a:xfrm>
              <a:off x="2532240" y="4050000"/>
              <a:ext cx="4248000" cy="552600"/>
              <a:chOff x="2532240" y="4050000"/>
              <a:chExt cx="4248000" cy="552600"/>
            </a:xfrm>
          </p:grpSpPr>
          <p:cxnSp>
            <p:nvCxnSpPr>
              <p:cNvPr id="358" name="AutoShape 24"/>
              <p:cNvCxnSpPr/>
              <p:nvPr/>
            </p:nvCxnSpPr>
            <p:spPr>
              <a:xfrm flipH="1" rot="16200000">
                <a:off x="5425200" y="3247200"/>
                <a:ext cx="552960" cy="2157840"/>
              </a:xfrm>
              <a:prstGeom prst="bentConnector3">
                <a:avLst>
                  <a:gd name="adj1" fmla="val 52312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AutoShape 25"/>
              <p:cNvCxnSpPr/>
              <p:nvPr/>
            </p:nvCxnSpPr>
            <p:spPr>
              <a:xfrm rot="5400000">
                <a:off x="3306240" y="3285720"/>
                <a:ext cx="542520" cy="2090520"/>
              </a:xfrm>
              <a:prstGeom prst="bentConnector3">
                <a:avLst>
                  <a:gd name="adj1" fmla="val 51195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60" name="Group 12"/>
            <p:cNvGrpSpPr/>
            <p:nvPr/>
          </p:nvGrpSpPr>
          <p:grpSpPr>
            <a:xfrm>
              <a:off x="1547280" y="5569920"/>
              <a:ext cx="1969200" cy="383400"/>
              <a:chOff x="1547280" y="5569920"/>
              <a:chExt cx="1969200" cy="383400"/>
            </a:xfrm>
          </p:grpSpPr>
          <p:cxnSp>
            <p:nvCxnSpPr>
              <p:cNvPr id="361" name="AutoShape 13"/>
              <p:cNvCxnSpPr/>
              <p:nvPr/>
            </p:nvCxnSpPr>
            <p:spPr>
              <a:xfrm rot="5400000">
                <a:off x="1883520" y="5265720"/>
                <a:ext cx="325440" cy="99828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AutoShape 14"/>
              <p:cNvCxnSpPr/>
              <p:nvPr/>
            </p:nvCxnSpPr>
            <p:spPr>
              <a:xfrm flipH="1" rot="16200000">
                <a:off x="2838960" y="5275440"/>
                <a:ext cx="383760" cy="972360"/>
              </a:xfrm>
              <a:prstGeom prst="bentConnector3">
                <a:avLst>
                  <a:gd name="adj1" fmla="val 49953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45200" cy="41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gen (‘belagenpumatucel’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sed on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cktail of 4 different NSCLC cell lin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cessed to cell suspens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yopreserv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uv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lowering of  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ctivity by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ntisense gene modificatio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&gt; increase immunogenicit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nistr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accinate every month up to 16 ti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152360" y="20952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 (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lagenpumatucel-L [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Lucanix</a:t>
            </a:r>
            <a:r>
              <a:rPr b="1" lang="nl-BE" sz="2800" spc="-1" strike="noStrike" baseline="30000">
                <a:solidFill>
                  <a:srgbClr val="fafd00"/>
                </a:solidFill>
                <a:latin typeface="Verdana"/>
              </a:rPr>
              <a:t>®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])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61760" y="1908000"/>
            <a:ext cx="8057880" cy="41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1 advanced NSCLC pati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 rate 15%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se-related survival differenc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ising overall surviv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lation between clinical response and cytokine analysi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ll tolerated (mild local / systemic reaction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ifies further phase III stud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24000" y="629280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imes New Roman"/>
              </a:rPr>
              <a:t>Nemunaitis et al, J Clin Oncol 24:4721-4730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: phase II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4"/>
          <p:cNvSpPr/>
          <p:nvPr/>
        </p:nvSpPr>
        <p:spPr>
          <a:xfrm flipV="1">
            <a:off x="4057560" y="2406600"/>
            <a:ext cx="498600" cy="542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>
            <a:off x="4057560" y="304632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250920" y="1976400"/>
            <a:ext cx="3097080" cy="223380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Stage III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699080" y="19764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agenpumatucel-L i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m (18 m), at 21 and 2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4714920" y="3236760"/>
            <a:ext cx="4105080" cy="97344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6"/>
          <p:cNvGrpSpPr/>
          <p:nvPr/>
        </p:nvGrpSpPr>
        <p:grpSpPr>
          <a:xfrm>
            <a:off x="3498840" y="2666880"/>
            <a:ext cx="673200" cy="660240"/>
            <a:chOff x="3498840" y="2666880"/>
            <a:chExt cx="673200" cy="660240"/>
          </a:xfrm>
        </p:grpSpPr>
        <p:sp>
          <p:nvSpPr>
            <p:cNvPr id="374" name="Oval 12"/>
            <p:cNvSpPr/>
            <p:nvPr/>
          </p:nvSpPr>
          <p:spPr>
            <a:xfrm>
              <a:off x="3498840" y="26668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3"/>
            <p:cNvSpPr/>
            <p:nvPr/>
          </p:nvSpPr>
          <p:spPr>
            <a:xfrm>
              <a:off x="3613320" y="27558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AutoShape 10"/>
          <p:cNvSpPr/>
          <p:nvPr/>
        </p:nvSpPr>
        <p:spPr>
          <a:xfrm>
            <a:off x="250920" y="5445000"/>
            <a:ext cx="442584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Other endpoints: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246240" y="434340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IIA-IIIB-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response: CR-PR-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rapy: CT or C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3639960" y="20541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639960" y="35654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89120" y="100080"/>
            <a:ext cx="7915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&gt; TGF-</a:t>
            </a:r>
            <a:r>
              <a:rPr b="0" lang="el-GR" sz="2800" spc="-1" strike="noStrike">
                <a:solidFill>
                  <a:srgbClr val="000000"/>
                </a:solidFill>
                <a:latin typeface="Lucida Grande"/>
              </a:rPr>
              <a:t>β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 allogeneic cells: phase I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61400" y="6359400"/>
            <a:ext cx="20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CT0067650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ClinicalTrial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7:37Z</dcterms:created>
  <dc:creator>Research To Practice</dc:creator>
  <dc:description/>
  <cp:keywords/>
  <dc:language>en-US</dc:language>
  <cp:lastModifiedBy>Mac Pro E703803Y4PC</cp:lastModifiedBy>
  <cp:lastPrinted>2011-02-11T14:47:47Z</cp:lastPrinted>
  <dcterms:modified xsi:type="dcterms:W3CDTF">2011-05-11T16:31:41Z</dcterms:modified>
  <cp:revision>39</cp:revision>
  <dc:subject/>
  <dc:title>PowerPoint Presentation</dc:title>
</cp:coreProperties>
</file>