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37CA-E42B-4486-A867-A1943466B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Cancer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8F8C-C14C-4A2C-8C76-A1D0DAF8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1C91-84CA-4CE6-8382-14442F2F84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8E1D-75E3-4909-B509-F1377AD0F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D774-6EB2-4742-B257-7FB52FDAF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B83351-7A87-49B7-8072-58EB2427DBCA}" type="slidenum"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7320" cy="3427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4001-8DFE-41D6-ADC7-B5476A74B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5ECB-69AF-405A-BC77-7FC821551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746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95320" y="4352760"/>
            <a:ext cx="501336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E577-7C4F-4B5B-BA65-A32897C93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8D9-0775-4433-9CAB-339D9D84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A0E-930F-4C1F-A0A9-400ACC2F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1A2-B4CA-4DCF-BBCF-35F1DCA7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910-AE81-4F77-AA31-7C833C8E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AB6-5F45-4478-ADD1-8158C299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954-C1A1-4772-B6F2-26C0F221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47D-286C-433E-9682-6269404F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39D-E1C6-4589-B437-5AAF0408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EDA-7F89-41A6-8409-D03B9A36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4C5B-0273-4044-8A86-E53D3E52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3B8B-75A5-4496-9D79-44E01CBB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8950-4F1F-4969-8D6C-DEC7F301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2926-C0CC-4E75-B513-92341262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C46A-0E1E-482F-B5B9-8F53389F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3DFA-7B3C-4E86-AE90-E0A28319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40F0-8751-46EF-A090-72CB7FE8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A801-3F09-4183-9114-C4F36DA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D73A-97CB-4697-8ED5-4E47D2DD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9AA-8EE5-4832-98D9-1DF2DE1E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1A97-FC44-463B-ACD3-6EF1B933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6D3F-C333-47D3-AB76-53D127B7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1EDE-FAB7-4D12-96F2-431F5FC9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569-1F2B-49D1-A9F5-F09919D7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0423-572D-4B6A-B3E0-01EEDE10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48C1-2EAB-4810-85EE-D1A43612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C811-B3B0-4A26-960D-EF1D930E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4C26-1774-4BDE-BF7C-E261E582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4D01-96E1-4DCB-B4EF-25E8CE92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04B-8497-4BE6-827C-5A49A9B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FC31-1259-4EA1-A8B5-A61FACA7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CFD5-751C-4159-958F-531121FC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2B16-9063-450D-80B4-5BE2A1BC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F941-C99C-40DC-8D1A-D1C9F66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27D9-94FE-476D-A7CD-F8FFF9F1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9D84-8308-4E55-9AAD-28043623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18CD-04F1-4407-9623-7518E9B4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65AB-CCC9-4CCC-A652-59AEB3243F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87280" indent="-2872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8584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775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09600" indent="-3492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87280" indent="-2872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8584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775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09600" indent="-3492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BC4D-E052-4DD8-86B0-2B55585B7DF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7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7315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1280" indent="-341280">
              <a:lnSpc>
                <a:spcPct val="95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25320" indent="-16812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68400" indent="-17784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251000" indent="-1666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544760" indent="-10980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544760" indent="-1098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544760" indent="-1098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7"/>
          </p:nvPr>
        </p:nvSpPr>
        <p:spPr>
          <a:xfrm>
            <a:off x="5908680" y="669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8"/>
          </p:nvPr>
        </p:nvSpPr>
        <p:spPr>
          <a:xfrm>
            <a:off x="-360" y="66927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9"/>
          </p:nvPr>
        </p:nvSpPr>
        <p:spPr>
          <a:xfrm>
            <a:off x="7238880" y="669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639E-69AC-412A-8387-6185E350C2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05228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3d17"/>
                </a:solidFill>
                <a:latin typeface="Lucida Grande"/>
              </a:rPr>
              <a:t>Leveraging the EML4-ALK fusion gene in NSCLC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2971800"/>
            <a:ext cx="91440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useppe Giaccone, MD, P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l Oncology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Cancer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hesda, Mary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mi, February 12,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36760" y="632448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s C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Updated Results: Median Progression-Free Survival (PF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 = 1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dian PFS, 9.2 months (95% Cl: 7.6, 10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FS probability at 6 months:  7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48% of patients in follow-up for P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dian follow-up for PFS:  8.0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07880" y="1066680"/>
            <a:ext cx="8348760" cy="5727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4" descr="Duff 9-16-08 2"/>
          <p:cNvPicPr/>
          <p:nvPr/>
        </p:nvPicPr>
        <p:blipFill>
          <a:blip r:embed="rId1"/>
          <a:srcRect l="22774" t="0" r="22579" b="0"/>
          <a:stretch/>
        </p:blipFill>
        <p:spPr>
          <a:xfrm>
            <a:off x="1041480" y="1066680"/>
            <a:ext cx="2651040" cy="267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4" name="Picture 8" descr="Duff 11-19-08, 2"/>
          <p:cNvPicPr/>
          <p:nvPr/>
        </p:nvPicPr>
        <p:blipFill>
          <a:blip r:embed="rId2"/>
          <a:srcRect l="21855" t="0" r="22346" b="0"/>
          <a:stretch/>
        </p:blipFill>
        <p:spPr>
          <a:xfrm>
            <a:off x="5116680" y="1179360"/>
            <a:ext cx="2703240" cy="26686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0"/>
          <p:cNvSpPr/>
          <p:nvPr/>
        </p:nvSpPr>
        <p:spPr>
          <a:xfrm>
            <a:off x="0" y="0"/>
            <a:ext cx="91440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849960" y="1152360"/>
            <a:ext cx="292032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95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-Trea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4317480" y="1143000"/>
            <a:ext cx="459540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fter 2 cycles PF-023410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8" descr="Duff 11-19-08,3"/>
          <p:cNvPicPr/>
          <p:nvPr/>
        </p:nvPicPr>
        <p:blipFill>
          <a:blip r:embed="rId3"/>
          <a:srcRect l="25003" t="0" r="25003" b="0"/>
          <a:stretch/>
        </p:blipFill>
        <p:spPr>
          <a:xfrm>
            <a:off x="5072040" y="3432240"/>
            <a:ext cx="3006720" cy="31446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Duff 9-16-08, 3"/>
          <p:cNvPicPr/>
          <p:nvPr/>
        </p:nvPicPr>
        <p:blipFill>
          <a:blip r:embed="rId4"/>
          <a:srcRect l="22614" t="0" r="22377" b="0"/>
          <a:stretch/>
        </p:blipFill>
        <p:spPr>
          <a:xfrm>
            <a:off x="961920" y="3660840"/>
            <a:ext cx="2927520" cy="29304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0"/>
          <p:cNvSpPr/>
          <p:nvPr/>
        </p:nvSpPr>
        <p:spPr>
          <a:xfrm>
            <a:off x="71280" y="208080"/>
            <a:ext cx="849168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422280" y="31680"/>
            <a:ext cx="85946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 Bold"/>
              </a:rPr>
              <a:t>48 yo Female Never Smoker with Stage IV NSCLC Positive for EML4-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380880" y="6629400"/>
            <a:ext cx="6429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dfd"/>
                </a:solidFill>
                <a:latin typeface="Arial"/>
              </a:rPr>
              <a:t>With permission from Kwak EL et al. </a:t>
            </a:r>
            <a:r>
              <a:rPr b="0" i="1" lang="en-US" sz="2400" spc="-1" strike="noStrike" baseline="30000">
                <a:solidFill>
                  <a:srgbClr val="fffdfd"/>
                </a:solidFill>
                <a:latin typeface="Arial"/>
              </a:rPr>
              <a:t>Proc ASCO</a:t>
            </a:r>
            <a:r>
              <a:rPr b="0" lang="en-US" sz="2400" spc="-1" strike="noStrike" baseline="30000">
                <a:solidFill>
                  <a:srgbClr val="fffdfd"/>
                </a:solidFill>
                <a:latin typeface="Arial"/>
              </a:rPr>
              <a:t> 2009;Abstract 35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"/>
          <p:cNvSpPr/>
          <p:nvPr/>
        </p:nvSpPr>
        <p:spPr>
          <a:xfrm>
            <a:off x="0" y="0"/>
            <a:ext cx="91440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248880" y="2425680"/>
            <a:ext cx="292032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95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-Trea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337800" y="5127480"/>
            <a:ext cx="258228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fter 1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F-023410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1280" y="208080"/>
            <a:ext cx="849168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422280" y="31680"/>
            <a:ext cx="85946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 Bold"/>
              </a:rPr>
              <a:t>43 yo Male Never Smoker with Stage IV NSCLC Positive for EML4-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552600" y="1066680"/>
            <a:ext cx="5833800" cy="2873520"/>
            <a:chOff x="552600" y="1066680"/>
            <a:chExt cx="5833800" cy="2873520"/>
          </a:xfrm>
        </p:grpSpPr>
        <p:pic>
          <p:nvPicPr>
            <p:cNvPr id="409" name="Picture 5" descr=""/>
            <p:cNvPicPr/>
            <p:nvPr/>
          </p:nvPicPr>
          <p:blipFill>
            <a:blip r:embed="rId1"/>
            <a:srcRect l="0" t="45593" r="47241" b="12833"/>
            <a:stretch/>
          </p:blipFill>
          <p:spPr>
            <a:xfrm>
              <a:off x="552600" y="1066680"/>
              <a:ext cx="5833800" cy="28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Rectangle 10"/>
            <p:cNvSpPr/>
            <p:nvPr/>
          </p:nvSpPr>
          <p:spPr>
            <a:xfrm>
              <a:off x="623880" y="1066680"/>
              <a:ext cx="504360" cy="43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12"/>
          <p:cNvGrpSpPr/>
          <p:nvPr/>
        </p:nvGrpSpPr>
        <p:grpSpPr>
          <a:xfrm>
            <a:off x="552600" y="3962520"/>
            <a:ext cx="5833800" cy="2873160"/>
            <a:chOff x="552600" y="3962520"/>
            <a:chExt cx="5833800" cy="2873160"/>
          </a:xfrm>
        </p:grpSpPr>
        <p:pic>
          <p:nvPicPr>
            <p:cNvPr id="412" name="Picture 4" descr=""/>
            <p:cNvPicPr/>
            <p:nvPr/>
          </p:nvPicPr>
          <p:blipFill>
            <a:blip r:embed="rId2"/>
            <a:srcRect l="0" t="4016" r="47241" b="54410"/>
            <a:stretch/>
          </p:blipFill>
          <p:spPr>
            <a:xfrm>
              <a:off x="552600" y="3962520"/>
              <a:ext cx="5833800" cy="28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9"/>
            <p:cNvSpPr/>
            <p:nvPr/>
          </p:nvSpPr>
          <p:spPr>
            <a:xfrm>
              <a:off x="623880" y="4033440"/>
              <a:ext cx="504360" cy="43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71280"/>
            <a:ext cx="9144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91960" y="220680"/>
            <a:ext cx="8529840" cy="7272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urrent Crizotinib Clinical Trials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96560" y="6327720"/>
            <a:ext cx="816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 1007: NCT00932893; PROFILE 1005: NCT009324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36"/>
          <p:cNvSpPr/>
          <p:nvPr/>
        </p:nvSpPr>
        <p:spPr>
          <a:xfrm>
            <a:off x="419040" y="1674720"/>
            <a:ext cx="3676680" cy="145008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109800" anchor="t">
            <a:spAutoFit/>
          </a:bodyPr>
          <a:p>
            <a:pPr marL="203040" indent="-2030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y entry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itive for ALK by central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 prior chemotherap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latinum-bas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8"/>
          <p:cNvSpPr/>
          <p:nvPr/>
        </p:nvSpPr>
        <p:spPr>
          <a:xfrm>
            <a:off x="4185360" y="3660840"/>
            <a:ext cx="851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N = 3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AutoShape 42"/>
          <p:cNvCxnSpPr/>
          <p:nvPr/>
        </p:nvCxnSpPr>
        <p:spPr>
          <a:xfrm flipH="1" flipV="1" rot="5400000">
            <a:off x="4754160" y="2283120"/>
            <a:ext cx="743760" cy="237240"/>
          </a:xfrm>
          <a:prstGeom prst="bentConnector2">
            <a:avLst/>
          </a:prstGeom>
          <a:ln w="3492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420" name="AutoShape 43"/>
          <p:cNvCxnSpPr/>
          <p:nvPr/>
        </p:nvCxnSpPr>
        <p:spPr>
          <a:xfrm>
            <a:off x="4119120" y="2550600"/>
            <a:ext cx="1151640" cy="605880"/>
          </a:xfrm>
          <a:prstGeom prst="bentConnector3">
            <a:avLst>
              <a:gd name="adj1" fmla="val 77235"/>
            </a:avLst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1" name="Text Box 19"/>
          <p:cNvSpPr/>
          <p:nvPr/>
        </p:nvSpPr>
        <p:spPr>
          <a:xfrm>
            <a:off x="1349280" y="1305000"/>
            <a:ext cx="162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imes New Roman"/>
              </a:rPr>
              <a:t>PROFILE 1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AutoShape 6"/>
          <p:cNvCxnSpPr>
            <a:stCxn id="423" idx="3"/>
          </p:cNvCxnSpPr>
          <p:nvPr/>
        </p:nvCxnSpPr>
        <p:spPr>
          <a:xfrm>
            <a:off x="4154040" y="5227560"/>
            <a:ext cx="1166040" cy="140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4" name="AutoShape 40"/>
          <p:cNvSpPr/>
          <p:nvPr/>
        </p:nvSpPr>
        <p:spPr>
          <a:xfrm>
            <a:off x="5305320" y="4849920"/>
            <a:ext cx="3516480" cy="93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Crizotinib </a:t>
            </a: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250 mg BID (n = 4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1140120">
              <a:lnSpc>
                <a:spcPct val="100000"/>
              </a:lnSpc>
              <a:tabLst>
                <a:tab algn="l" pos="0"/>
                <a:tab algn="l" pos="1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administered on a continuo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1140120">
              <a:lnSpc>
                <a:spcPct val="100000"/>
              </a:lnSpc>
              <a:tabLst>
                <a:tab algn="l" pos="0"/>
                <a:tab algn="l" pos="1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dosing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36"/>
          <p:cNvSpPr/>
          <p:nvPr/>
        </p:nvSpPr>
        <p:spPr>
          <a:xfrm>
            <a:off x="411120" y="4272120"/>
            <a:ext cx="3729240" cy="180684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109800" anchor="t">
            <a:spAutoFit/>
          </a:bodyPr>
          <a:p>
            <a:pPr marL="203040" indent="-2030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y entry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itive for ALK by central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gressive disease in Arm B of study A8081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gt;1 prior chemothera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1365120" y="3890880"/>
            <a:ext cx="162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c63f"/>
                </a:solidFill>
                <a:latin typeface="Times New Roman"/>
              </a:rPr>
              <a:t>PROFILE 1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37"/>
          <p:cNvSpPr/>
          <p:nvPr/>
        </p:nvSpPr>
        <p:spPr>
          <a:xfrm>
            <a:off x="4354560" y="1468440"/>
            <a:ext cx="417600" cy="2160000"/>
          </a:xfrm>
          <a:custGeom>
            <a:avLst/>
            <a:gdLst>
              <a:gd name="textAreaLeft" fmla="*/ 20160 w 417600"/>
              <a:gd name="textAreaRight" fmla="*/ 397440 w 417600"/>
              <a:gd name="textAreaTop" fmla="*/ 20160 h 2160000"/>
              <a:gd name="textAreaBottom" fmla="*/ 2139840 h 2160000"/>
            </a:gdLst>
            <a:ahLst/>
            <a:rect l="textAreaLeft" t="textAreaTop" r="textAreaRight" b="textAreaBottom"/>
            <a:pathLst>
              <a:path w="21600" h="111647">
                <a:moveTo>
                  <a:pt x="3600" y="0"/>
                </a:moveTo>
                <a:arcTo wR="3600" hR="3600" stAng="16200000" swAng="-5400000"/>
                <a:lnTo>
                  <a:pt x="0" y="108047"/>
                </a:lnTo>
                <a:arcTo wR="3600" hR="3600" stAng="10800000" swAng="-5400000"/>
                <a:lnTo>
                  <a:pt x="18000" y="111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7373"/>
          </a:solidFill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109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R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N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D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O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M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I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Z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8"/>
          <p:cNvSpPr/>
          <p:nvPr/>
        </p:nvSpPr>
        <p:spPr>
          <a:xfrm>
            <a:off x="4209120" y="5397480"/>
            <a:ext cx="851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N =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39"/>
          <p:cNvSpPr/>
          <p:nvPr/>
        </p:nvSpPr>
        <p:spPr>
          <a:xfrm>
            <a:off x="5275440" y="1332000"/>
            <a:ext cx="3546360" cy="1217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Crizotinib 250 mg BID (n=15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administered on a continuo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dosing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40"/>
          <p:cNvSpPr/>
          <p:nvPr/>
        </p:nvSpPr>
        <p:spPr>
          <a:xfrm>
            <a:off x="5322960" y="2813040"/>
            <a:ext cx="3498840" cy="1203480"/>
          </a:xfrm>
          <a:prstGeom prst="roundRect">
            <a:avLst>
              <a:gd name="adj" fmla="val 16667"/>
            </a:avLst>
          </a:prstGeom>
          <a:solidFill>
            <a:srgbClr val="badd8c"/>
          </a:solidFill>
          <a:ln w="28440">
            <a:solidFill>
              <a:srgbClr val="699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Pemetrexed </a:t>
            </a: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500 mg/m</a:t>
            </a:r>
            <a:r>
              <a:rPr b="0" lang="en-GB" sz="1500" spc="-1" strike="noStrike" baseline="30000">
                <a:solidFill>
                  <a:srgbClr val="00457c"/>
                </a:solidFill>
                <a:latin typeface="Times New Roman"/>
                <a:ea typeface="Arial"/>
              </a:rPr>
              <a:t>2</a:t>
            </a:r>
            <a:r>
              <a:rPr b="0" lang="en-GB" sz="1100" spc="-1" strike="noStrike">
                <a:solidFill>
                  <a:srgbClr val="00457c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457c"/>
                </a:solidFill>
                <a:latin typeface="Times New Roman"/>
                <a:ea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docetaxel 75 mg/m</a:t>
            </a:r>
            <a:r>
              <a:rPr b="0" lang="en-GB" sz="1500" spc="-1" strike="noStrike" baseline="30000">
                <a:solidFill>
                  <a:srgbClr val="00457c"/>
                </a:solidFill>
                <a:latin typeface="Times New Roman"/>
                <a:ea typeface="Arial"/>
              </a:rPr>
              <a:t>2</a:t>
            </a: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 (n=15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c"/>
                </a:solidFill>
                <a:latin typeface="Times New Roman"/>
                <a:ea typeface="Arial"/>
              </a:rPr>
              <a:t>infused on day 1 of a 21-day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038480" y="4800600"/>
            <a:ext cx="4572000" cy="243720"/>
          </a:xfrm>
          <a:prstGeom prst="rect">
            <a:avLst/>
          </a:pr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metrexed/cisplatin or pemetrexed/carbop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5029200"/>
            <a:ext cx="2667240" cy="243720"/>
          </a:xfrm>
          <a:prstGeom prst="rect">
            <a:avLst/>
          </a:pr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y 1 of a 21-day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7480" y="6095880"/>
            <a:ext cx="52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o-Kenudson 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n Cancer 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16:156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5f55"/>
                </a:solidFill>
                <a:latin typeface="Tw Cen MT"/>
              </a:rPr>
              <a:t>Immunohistochemistry for AL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munohistochemical staining of FFPE tissues with D5F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r D9E4 antibodies detects ALK protein expression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K-rearranged tum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5F3:  high concordance with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75f55"/>
                </a:solidFill>
                <a:latin typeface="Tw Cen MT"/>
              </a:rPr>
              <a:t>Predicted Crystal Structure of the Kinase Domain of ALK and Resistant Mutants</a:t>
            </a:r>
            <a:endParaRPr b="0" lang="en-US" sz="3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371880" y="6396120"/>
            <a:ext cx="3920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oi YL et al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010;363:1734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80880" y="1563840"/>
            <a:ext cx="8329680" cy="47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7480" y="6095880"/>
            <a:ext cx="52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o-Kenudson 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n Cancer 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16:156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380880"/>
            <a:ext cx="87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5f55"/>
                </a:solidFill>
                <a:latin typeface="Tw Cen MT"/>
              </a:rPr>
              <a:t>17-DMAG less potent than TAE684 in EML4-ALK transgenic mouse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SP-9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ed extensively for tumors dependent on oncogenic drivers, such as EGFR and 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SP-90 inhibitors may be drugs that are potentially useful in resistant mutations for ALK or ALK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37480" y="6095880"/>
            <a:ext cx="48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ist LV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28(33):4953-6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5f55"/>
                </a:solidFill>
                <a:latin typeface="Tw Cen MT"/>
              </a:rPr>
              <a:t>Activity of IPI-50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9960" y="1901880"/>
            <a:ext cx="771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seen with IPI-504, a novel HSP-90 inhibitor in ALK-positive non-small cell lung cancer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1440">
              <a:lnSpc>
                <a:spcPct val="100000"/>
              </a:lnSpc>
              <a:buClr>
                <a:srgbClr val="94b6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rranged ALK FISH status showe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1440">
              <a:lnSpc>
                <a:spcPct val="100000"/>
              </a:lnSpc>
              <a:buClr>
                <a:srgbClr val="94b6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be useful for identifying patients for this type    of trea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609480" y="220968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CL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fitinib/erlo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CL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-023410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R-AB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tinib/dasata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Kit/PDGF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tinib/suni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GFR-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st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stuzumab/lapa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ric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M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-665752</a:t>
            </a:r>
            <a:r>
              <a:rPr b="0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ric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GFR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D2171</a:t>
            </a:r>
            <a:r>
              <a:rPr b="0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n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-Ra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X4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n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patinib </a:t>
            </a:r>
            <a:r>
              <a:rPr b="0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al cell carcin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CH1/S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C-0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623880" y="1697040"/>
            <a:ext cx="147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umor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2756880" y="1697040"/>
            <a:ext cx="2998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utated/amplified kin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644520" y="1708200"/>
            <a:ext cx="73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r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5867640" y="5867280"/>
            <a:ext cx="302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6016680" y="5791320"/>
            <a:ext cx="253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clinical data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222120" y="6095880"/>
            <a:ext cx="704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iction” to mutationally activated kinases can be faithfu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ed in cell cul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ounded Rectangle 9"/>
          <p:cNvSpPr/>
          <p:nvPr/>
        </p:nvSpPr>
        <p:spPr>
          <a:xfrm>
            <a:off x="457200" y="2209680"/>
            <a:ext cx="7848720" cy="685800"/>
          </a:xfrm>
          <a:prstGeom prst="roundRect">
            <a:avLst>
              <a:gd name="adj" fmla="val 16667"/>
            </a:avLst>
          </a:prstGeom>
          <a:solidFill>
            <a:srgbClr val="ffff7e">
              <a:alpha val="18000"/>
            </a:srgbClr>
          </a:solidFill>
          <a:ln w="57240">
            <a:solidFill>
              <a:srgbClr val="dd8047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5f55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775f55"/>
                </a:solidFill>
                <a:latin typeface="Arial"/>
              </a:rPr>
              <a:t>Oncogene addiction” may explain clinical</a:t>
            </a:r>
            <a:br>
              <a:rPr sz="2800"/>
            </a:br>
            <a:r>
              <a:rPr b="1" lang="en-US" sz="2800" spc="-1" strike="noStrike">
                <a:solidFill>
                  <a:srgbClr val="775f55"/>
                </a:solidFill>
                <a:latin typeface="Arial"/>
              </a:rPr>
              <a:t>responses to many kinase-targeted therapeutic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4a4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1676520"/>
            <a:ext cx="52578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intest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ural tissue/visual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Ligand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?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eiotroph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kine (M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phan recepto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ignal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P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/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K/STA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6445080"/>
            <a:ext cx="72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lmer et al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iochem 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763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b615"/>
                </a:solidFill>
                <a:latin typeface="Calibri"/>
              </a:rPr>
              <a:t>ALK: Wildtype Expression and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rcRect l="0" t="437" r="0" b="4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28600" y="152280"/>
            <a:ext cx="86104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30492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b615"/>
                </a:solidFill>
                <a:latin typeface="Calibri"/>
              </a:rPr>
              <a:t>Oncogenic Activation of AL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ddc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75f55"/>
                </a:solidFill>
                <a:latin typeface="Tw Cen MT"/>
              </a:rPr>
              <a:t>EML4-ALK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Translocations in NSCLC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52280" y="3581280"/>
            <a:ext cx="2551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 algn="ctr">
              <a:lnSpc>
                <a:spcPct val="95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75f55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775f55"/>
                </a:solidFill>
                <a:latin typeface="Arial"/>
              </a:rPr>
              <a:t>EML4-ALK</a:t>
            </a:r>
            <a:r>
              <a:rPr b="1" lang="en-US" sz="2400" spc="-1" strike="noStrike">
                <a:solidFill>
                  <a:srgbClr val="775f55"/>
                </a:solidFill>
                <a:latin typeface="Arial"/>
              </a:rPr>
              <a:t> frequen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5000"/>
              </a:lnSpc>
              <a:spcBef>
                <a:spcPts val="1012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4% (64/17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5000"/>
              </a:lnSpc>
              <a:spcBef>
                <a:spcPts val="1012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ily lung adenocarci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647640" y="4022640"/>
            <a:ext cx="5894280" cy="25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258480" y="6400800"/>
            <a:ext cx="39963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>
              <a:lnSpc>
                <a:spcPct val="95000"/>
              </a:lnSpc>
              <a:spcBef>
                <a:spcPts val="836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da M et al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007;448:561-66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895480" y="3124080"/>
            <a:ext cx="6096240" cy="2820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85800" y="1219320"/>
            <a:ext cx="7696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Identification of the transforming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EML4-ALK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fusion gene in non-small-cell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77320" cy="2819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" y="1295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om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1066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1828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960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L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3581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Detects 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 potential </a:t>
            </a:r>
            <a:r>
              <a:rPr b="0" i="1" lang="en-US" sz="2400" spc="-1" strike="noStrike">
                <a:solidFill>
                  <a:srgbClr val="7f7f7f"/>
                </a:solidFill>
                <a:latin typeface="Arial"/>
              </a:rPr>
              <a:t>ALK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 Fusion Partn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267080"/>
            <a:ext cx="830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K (chromosom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NSCL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L4 (chromosom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IF5B (chromosome 10) (Ratio to EML4-ALK = 1:7;Takeuchi et al,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FG (chromosome 3) Ratio to EML4-ALK = 1:3; Rikova et al, 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320" y="15228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Break-Apart FISH Assay for </a:t>
            </a:r>
            <a:r>
              <a:rPr b="0" i="1" lang="en-US" sz="3600" spc="-1" strike="noStrike">
                <a:solidFill>
                  <a:srgbClr val="775f55"/>
                </a:solidFill>
                <a:latin typeface="Tw Cen MT"/>
              </a:rPr>
              <a:t>ALK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Fusion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14520" y="1652760"/>
            <a:ext cx="933120" cy="48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"/>
          <p:cNvSpPr/>
          <p:nvPr/>
        </p:nvSpPr>
        <p:spPr>
          <a:xfrm>
            <a:off x="4983120" y="3781440"/>
            <a:ext cx="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344520" y="3270240"/>
            <a:ext cx="0" cy="239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975280" y="1523880"/>
            <a:ext cx="29052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ectivity f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Crizotinib – ALK and </a:t>
            </a:r>
            <a:br>
              <a:rPr sz="1600"/>
            </a:b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c-MET inhibition at clinically relevant dos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Crizotinib – </a:t>
            </a:r>
            <a:r>
              <a:rPr b="1" lang="en-US" sz="1600" spc="-1" strike="noStrike" u="sng">
                <a:solidFill>
                  <a:srgbClr val="e9c550"/>
                </a:solidFill>
                <a:uFillTx/>
                <a:latin typeface="Arial"/>
              </a:rPr>
              <a:t>low</a:t>
            </a: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 probability of pharmacologically relevant inhibition of any other kinase at clinically relevant dos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6"/>
          <p:cNvSpPr/>
          <p:nvPr/>
        </p:nvSpPr>
        <p:spPr>
          <a:xfrm flipV="1">
            <a:off x="1560600" y="1601280"/>
            <a:ext cx="1279440" cy="9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1571760" y="2441520"/>
            <a:ext cx="1257120" cy="38196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2973240" y="1055520"/>
            <a:ext cx="26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llular selectivity on 10 of 13 relevant h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324000" y="1055520"/>
            <a:ext cx="150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state 102 kin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522440" y="1959120"/>
            <a:ext cx="142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kinase “hits” &lt;100X selective for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-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11" descr=""/>
          <p:cNvPicPr/>
          <p:nvPr/>
        </p:nvPicPr>
        <p:blipFill>
          <a:blip r:embed="rId1"/>
          <a:stretch/>
        </p:blipFill>
        <p:spPr>
          <a:xfrm>
            <a:off x="603360" y="1608120"/>
            <a:ext cx="965160" cy="4851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cxnSp>
        <p:nvCxnSpPr>
          <p:cNvPr id="362" name="AutoShape 12"/>
          <p:cNvCxnSpPr>
            <a:stCxn id="359" idx="3"/>
            <a:endCxn id="360" idx="0"/>
          </p:cNvCxnSpPr>
          <p:nvPr/>
        </p:nvCxnSpPr>
        <p:spPr>
          <a:xfrm>
            <a:off x="1825560" y="1314000"/>
            <a:ext cx="411840" cy="6454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63" name="Text Box 13"/>
          <p:cNvSpPr/>
          <p:nvPr/>
        </p:nvSpPr>
        <p:spPr>
          <a:xfrm>
            <a:off x="2752560" y="6286680"/>
            <a:ext cx="370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The cellular kinase activities we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asured using ELISA captur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844720" y="1595520"/>
          <a:ext cx="2854440" cy="4687920"/>
        </p:xfrm>
        <a:graphic>
          <a:graphicData uri="http://schemas.openxmlformats.org/drawingml/2006/table">
            <a:tbl>
              <a:tblPr/>
              <a:tblGrid>
                <a:gridCol w="952560"/>
                <a:gridCol w="909720"/>
                <a:gridCol w="992160"/>
              </a:tblGrid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C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n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n*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ectivity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-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4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4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e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k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7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k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b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6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8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4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7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3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,000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GF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,000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GFR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,000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52280"/>
            <a:ext cx="8529840" cy="7956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rizotinib Selectivity Profile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Object 3" descr=""/>
          <p:cNvPicPr/>
          <p:nvPr/>
        </p:nvPicPr>
        <p:blipFill>
          <a:blip r:embed="rId1"/>
          <a:stretch/>
        </p:blipFill>
        <p:spPr>
          <a:xfrm>
            <a:off x="971640" y="1096920"/>
            <a:ext cx="7848360" cy="45799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4"/>
          <p:cNvSpPr/>
          <p:nvPr/>
        </p:nvSpPr>
        <p:spPr>
          <a:xfrm>
            <a:off x="487440" y="1071720"/>
            <a:ext cx="484200" cy="46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2666880" y="4556160"/>
            <a:ext cx="352440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gressive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ble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rmed partial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rmed complet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"/>
          <p:cNvSpPr/>
          <p:nvPr/>
        </p:nvSpPr>
        <p:spPr>
          <a:xfrm rot="16200000">
            <a:off x="-1521720" y="3169800"/>
            <a:ext cx="3779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ximum change in tumor size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1103400" y="3645000"/>
            <a:ext cx="7718400" cy="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1282680" y="3352680"/>
            <a:ext cx="100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Tumor Responses to Crizotinib for Patients with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SCLC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373" name="Text Box 17"/>
          <p:cNvSpPr/>
          <p:nvPr/>
        </p:nvSpPr>
        <p:spPr>
          <a:xfrm>
            <a:off x="152280" y="5927760"/>
            <a:ext cx="8991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*Partial response patients with 100% change have non-target disease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8"/>
          <p:cNvSpPr/>
          <p:nvPr/>
        </p:nvSpPr>
        <p:spPr>
          <a:xfrm>
            <a:off x="8294760" y="5541840"/>
            <a:ext cx="288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1752480" y="1143000"/>
            <a:ext cx="723924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7280" indent="-287280">
              <a:lnSpc>
                <a:spcPct val="100000"/>
              </a:lnSpc>
              <a:spcAft>
                <a:spcPts val="55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ive response rate : 57% (95% CI: 46, 68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55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 duration: 1 to 15 month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55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R (CR/PR/SD at 8 weeks): 87% (95% CI: 77, 93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2522520" y="4680000"/>
            <a:ext cx="144360" cy="12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522520" y="4979880"/>
            <a:ext cx="144360" cy="13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2522520" y="5272200"/>
            <a:ext cx="144360" cy="129960"/>
          </a:xfrm>
          <a:prstGeom prst="rect">
            <a:avLst/>
          </a:prstGeom>
          <a:solidFill>
            <a:srgbClr val="8c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2522520" y="5568840"/>
            <a:ext cx="144360" cy="13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52280" y="6461280"/>
            <a:ext cx="899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ak EL et al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 Engl J M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010;363(18):1693-703. © 2010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ssachusetts Medical Society.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in Patient Characteristic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360" y="160020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ients with NSCLC screened = 150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ients with NSCLC with Alk translocation = 82 +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le 52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te 56%, Asian 35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&gt;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3 prior lines of therapy 41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enocarcinoma 96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ver-smoking 76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TextBox 4"/>
          <p:cNvSpPr/>
          <p:nvPr/>
        </p:nvSpPr>
        <p:spPr>
          <a:xfrm flipH="1">
            <a:off x="457200" y="6172200"/>
            <a:ext cx="545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wak EL et al.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NEJM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2010;363:16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Treatment-Related Grade 3/4 Adverse Events in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SCLC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549440" y="1522440"/>
          <a:ext cx="6013440" cy="4129200"/>
        </p:xfrm>
        <a:graphic>
          <a:graphicData uri="http://schemas.openxmlformats.org/drawingml/2006/table">
            <a:tbl>
              <a:tblPr/>
              <a:tblGrid>
                <a:gridCol w="3112920"/>
                <a:gridCol w="1976400"/>
                <a:gridCol w="92412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vers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y advers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(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T elevation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T ele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(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ymphop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ypophosphat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rop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88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ypox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yspn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88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lmonary embo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Text Box 103"/>
          <p:cNvSpPr/>
          <p:nvPr/>
        </p:nvSpPr>
        <p:spPr>
          <a:xfrm>
            <a:off x="1468440" y="5667480"/>
            <a:ext cx="7550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Based on laboratory data (n=71), ALT increase to grade 1, 52%; to grade 2, 4%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In preclinical toxicology studies, no histologic changes in the liver were observ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patient discontinued for ALT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8"/>
          <p:cNvSpPr/>
          <p:nvPr/>
        </p:nvSpPr>
        <p:spPr>
          <a:xfrm>
            <a:off x="609480" y="6400800"/>
            <a:ext cx="271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k EL et al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0;363:16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2:20:38Z</dcterms:created>
  <dc:creator>Research To Practice</dc:creator>
  <dc:description/>
  <cp:keywords/>
  <dc:language>en-US</dc:language>
  <cp:lastModifiedBy>Mac Pro E703803Y4PC</cp:lastModifiedBy>
  <cp:lastPrinted>2011-02-03T20:41:57Z</cp:lastPrinted>
  <dcterms:modified xsi:type="dcterms:W3CDTF">2011-06-23T15:53:11Z</dcterms:modified>
  <cp:revision>635</cp:revision>
  <dc:subject/>
  <dc:title>PowerPoint Presentation</dc:title>
</cp:coreProperties>
</file>