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CDCB34-EFE0-42CD-ABEB-0E8FABCA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B21667-0B10-4101-9356-109DCA4BC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4E1C21-2EE8-4526-9281-DEA72FD0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640C7D-716B-46B2-AC8A-F0B2D03B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A50DFD-7BB0-41EF-A725-729177D7A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C200D1-A85B-4996-B5AB-C6CF688F0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667DDE-721F-44E9-9AD1-F7C89C140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FAD543-1718-4789-B5A1-DFB7C0E7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46320B-780D-48D7-88A4-02C470B4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C17083-972F-44FE-8C1E-9F43090DA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14C128-2D6F-4092-A171-451B73D28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1D3-9052-4E45-A0DA-7DC4B40A8FAB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083CBA-42E2-4997-8681-0AF5E266027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221126-1647-41B0-B57C-FC6D8851A5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829EB6-75A9-48BB-8A93-5025EB8D8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DBE7E0-7346-45A5-8E69-78B977BB2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266036-D51C-45A8-9695-3F86BEAA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72D-AB8C-4F54-8D16-5C98978F1E64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57BD43-D444-46BD-A271-5AA388CA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CC4-A98D-4448-9959-BB27D0BD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DBB-0D69-46E0-8853-FF71B1C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451-8741-4EE2-991C-85F85A7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0F9-E0AB-4A0D-97E4-6FE7B17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420-4B40-41D6-B655-A83F4DC5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E5F-2059-4F92-A70F-08222AD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1CB-31BC-4DE6-AE83-D21A4D1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4F4-05CD-4DE1-8B48-96E116C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A8E-4696-4F19-89C4-10C4CE0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4AB-FE5C-48E9-8FA2-38E7792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C4E-BC18-4088-AE42-92928BB4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A44-5E38-4B8D-A3A8-2FB9A358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BD8-3473-40EF-B91C-4A5D59F4F8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9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Biomarkers of Response or Resistanc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to Chemotherapy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,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04920" y="731880"/>
          <a:ext cx="8458200" cy="58183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1676160"/>
                <a:gridCol w="1371600"/>
                <a:gridCol w="1447920"/>
                <a:gridCol w="14479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h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(cis or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46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29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arm:  39.3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otype arm: 51.2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1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7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 and 0.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5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Cepp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0.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.3 mth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3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.43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3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her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 (13 ci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 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l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2 mth 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1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56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72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60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094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L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37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52%  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.1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5.4 mth (</a:t>
                      </a:r>
                      <a:r>
                        <a:rPr b="0" i="1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C:  56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T: 35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/T: 7.8%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2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240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4"/>
          <p:cNvSpPr/>
          <p:nvPr/>
        </p:nvSpPr>
        <p:spPr>
          <a:xfrm>
            <a:off x="329400" y="152280"/>
            <a:ext cx="816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is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5385600" y="658188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066680"/>
          <a:ext cx="8610480" cy="5072040"/>
        </p:xfrm>
        <a:graphic>
          <a:graphicData uri="http://schemas.openxmlformats.org/drawingml/2006/table">
            <a:tbl>
              <a:tblPr/>
              <a:tblGrid>
                <a:gridCol w="1143000"/>
                <a:gridCol w="533520"/>
                <a:gridCol w="914400"/>
                <a:gridCol w="2273040"/>
                <a:gridCol w="1116000"/>
                <a:gridCol w="1435320"/>
                <a:gridCol w="1195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8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28%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 2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57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: 4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6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3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pler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inversely correlated with response magnitude (r=0.283, 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 but not with classification according to Recist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80" name="TextBox 4"/>
          <p:cNvSpPr/>
          <p:nvPr/>
        </p:nvSpPr>
        <p:spPr>
          <a:xfrm>
            <a:off x="302760" y="380880"/>
            <a:ext cx="86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arbo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85600" y="650556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2007 ERCC1 Subse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7.4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5.6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11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9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840" y="632448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lmar AC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21:1817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830600" y="3808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RM1: Mechanism of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RM1 and Patient Surviv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after Gem/DD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w levels (&l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1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respond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 levels (&g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3.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be resistant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" y="6261120"/>
            <a:ext cx="40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4;10:1318-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1143000"/>
          <a:ext cx="8763120" cy="5232240"/>
        </p:xfrm>
        <a:graphic>
          <a:graphicData uri="http://schemas.openxmlformats.org/drawingml/2006/table">
            <a:tbl>
              <a:tblPr/>
              <a:tblGrid>
                <a:gridCol w="1067040"/>
                <a:gridCol w="533160"/>
                <a:gridCol w="1447920"/>
                <a:gridCol w="5715000"/>
              </a:tblGrid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increase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5) an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is+Vin,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 then Vin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and PFS are associated with RRM1 mRNA expression in Gem+Cis treated pt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9 and 0.020, respectivel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+surgery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+Carbo+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associated with reduced relative risk of dea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)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expression level associated with reduced tumor shrinkag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Pemetrex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clinical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 or 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response to treatment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1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xpression not predictive al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107680" y="650556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1219320"/>
          <a:ext cx="8686800" cy="4825800"/>
        </p:xfrm>
        <a:graphic>
          <a:graphicData uri="http://schemas.openxmlformats.org/drawingml/2006/table">
            <a:tbl>
              <a:tblPr/>
              <a:tblGrid>
                <a:gridCol w="990720"/>
                <a:gridCol w="609480"/>
                <a:gridCol w="1295640"/>
                <a:gridCol w="5790960"/>
              </a:tblGrid>
              <a:tr h="41976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o significant association with protein expression level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protein expression level is associated with reduced survival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, but not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Vin, Cis+Pacli, Cis+Gem, Cis+Pacli+Vin, Cis+Eto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6)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t not in Cis+Gem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6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response, toxicity or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6"/>
          <p:cNvSpPr/>
          <p:nvPr/>
        </p:nvSpPr>
        <p:spPr>
          <a:xfrm>
            <a:off x="5107680" y="635328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1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Feasibility and Efficacy of Molecular Analysis-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Directed Individualized Therapy for Advanced NSCL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8"/>
          <p:cNvSpPr/>
          <p:nvPr/>
        </p:nvSpPr>
        <p:spPr>
          <a:xfrm>
            <a:off x="6594120" y="6477120"/>
            <a:ext cx="23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 G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987480" y="1822320"/>
            <a:ext cx="7205760" cy="4449960"/>
            <a:chOff x="987480" y="1822320"/>
            <a:chExt cx="7205760" cy="4449960"/>
          </a:xfrm>
        </p:grpSpPr>
        <p:sp>
          <p:nvSpPr>
            <p:cNvPr id="301" name="Line 24"/>
            <p:cNvSpPr/>
            <p:nvPr/>
          </p:nvSpPr>
          <p:spPr>
            <a:xfrm>
              <a:off x="458316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5"/>
            <p:cNvSpPr/>
            <p:nvPr/>
          </p:nvSpPr>
          <p:spPr>
            <a:xfrm flipH="1">
              <a:off x="313740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Rounded Rectangle 12"/>
            <p:cNvGrpSpPr/>
            <p:nvPr/>
          </p:nvGrpSpPr>
          <p:grpSpPr>
            <a:xfrm>
              <a:off x="4736520" y="5419080"/>
              <a:ext cx="1563840" cy="834840"/>
              <a:chOff x="4736520" y="5419080"/>
              <a:chExt cx="1563840" cy="834840"/>
            </a:xfrm>
          </p:grpSpPr>
          <p:pic>
            <p:nvPicPr>
              <p:cNvPr id="304" name="Rounded Rectangl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736520" y="541908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782240" y="546552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Rounded Rectangle 15"/>
            <p:cNvGrpSpPr/>
            <p:nvPr/>
          </p:nvGrpSpPr>
          <p:grpSpPr>
            <a:xfrm>
              <a:off x="987480" y="5412960"/>
              <a:ext cx="1563840" cy="834840"/>
              <a:chOff x="987480" y="5412960"/>
              <a:chExt cx="1563840" cy="834840"/>
            </a:xfrm>
          </p:grpSpPr>
          <p:pic>
            <p:nvPicPr>
              <p:cNvPr id="307" name="Rounded Rectangl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541296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036440" y="545868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norel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Rounded Rectangle 16"/>
            <p:cNvGrpSpPr/>
            <p:nvPr/>
          </p:nvGrpSpPr>
          <p:grpSpPr>
            <a:xfrm>
              <a:off x="6629400" y="5437440"/>
              <a:ext cx="1563840" cy="834840"/>
              <a:chOff x="6629400" y="5437440"/>
              <a:chExt cx="1563840" cy="834840"/>
            </a:xfrm>
          </p:grpSpPr>
          <p:pic>
            <p:nvPicPr>
              <p:cNvPr id="310" name="Rounded 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9400" y="54374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672600" y="5480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 gemcita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Rounded Rectangle 17"/>
            <p:cNvGrpSpPr/>
            <p:nvPr/>
          </p:nvGrpSpPr>
          <p:grpSpPr>
            <a:xfrm>
              <a:off x="2873880" y="5406840"/>
              <a:ext cx="1563840" cy="834840"/>
              <a:chOff x="2873880" y="5406840"/>
              <a:chExt cx="1563840" cy="834840"/>
            </a:xfrm>
          </p:grpSpPr>
          <p:pic>
            <p:nvPicPr>
              <p:cNvPr id="313" name="Rounded 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873880" y="54068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917800" y="5453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Box 18"/>
            <p:cNvSpPr/>
            <p:nvPr/>
          </p:nvSpPr>
          <p:spPr>
            <a:xfrm>
              <a:off x="1970640" y="394740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Rounded Rectangle 20"/>
            <p:cNvGrpSpPr/>
            <p:nvPr/>
          </p:nvGrpSpPr>
          <p:grpSpPr>
            <a:xfrm>
              <a:off x="3360960" y="1822320"/>
              <a:ext cx="2385720" cy="560520"/>
              <a:chOff x="3360960" y="1822320"/>
              <a:chExt cx="2385720" cy="560520"/>
            </a:xfrm>
          </p:grpSpPr>
          <p:pic>
            <p:nvPicPr>
              <p:cNvPr id="317" name="Rounded 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360960" y="1822320"/>
                <a:ext cx="238572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3392640" y="1854720"/>
                <a:ext cx="232020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expression (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Rounded Rectangle 23"/>
            <p:cNvGrpSpPr/>
            <p:nvPr/>
          </p:nvGrpSpPr>
          <p:grpSpPr>
            <a:xfrm>
              <a:off x="1693440" y="3163320"/>
              <a:ext cx="2063160" cy="371520"/>
              <a:chOff x="1693440" y="3163320"/>
              <a:chExt cx="2063160" cy="371520"/>
            </a:xfrm>
          </p:grpSpPr>
          <p:pic>
            <p:nvPicPr>
              <p:cNvPr id="320" name="Rounded Rectang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1693440" y="3163320"/>
                <a:ext cx="206316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715040" y="3184200"/>
                <a:ext cx="2016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latinum withhel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Rounded Rectangle 24"/>
            <p:cNvGrpSpPr/>
            <p:nvPr/>
          </p:nvGrpSpPr>
          <p:grpSpPr>
            <a:xfrm>
              <a:off x="5186880" y="3151080"/>
              <a:ext cx="2568240" cy="377640"/>
              <a:chOff x="5186880" y="3151080"/>
              <a:chExt cx="2568240" cy="377640"/>
            </a:xfrm>
          </p:grpSpPr>
          <p:pic>
            <p:nvPicPr>
              <p:cNvPr id="323" name="Rounded 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6880" y="3151080"/>
                <a:ext cx="256824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211720" y="3172320"/>
                <a:ext cx="2520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eatment with platinum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TextBox 25"/>
            <p:cNvSpPr/>
            <p:nvPr/>
          </p:nvSpPr>
          <p:spPr>
            <a:xfrm>
              <a:off x="5741280" y="390168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27788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 flipH="1">
              <a:off x="17132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"/>
            <p:cNvSpPr/>
            <p:nvPr/>
          </p:nvSpPr>
          <p:spPr>
            <a:xfrm>
              <a:off x="654948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"/>
            <p:cNvSpPr/>
            <p:nvPr/>
          </p:nvSpPr>
          <p:spPr>
            <a:xfrm flipH="1">
              <a:off x="548424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Box 30"/>
            <p:cNvSpPr/>
            <p:nvPr/>
          </p:nvSpPr>
          <p:spPr>
            <a:xfrm>
              <a:off x="1445040" y="50382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31"/>
            <p:cNvSpPr/>
            <p:nvPr/>
          </p:nvSpPr>
          <p:spPr>
            <a:xfrm>
              <a:off x="336636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Box 32"/>
            <p:cNvSpPr/>
            <p:nvPr/>
          </p:nvSpPr>
          <p:spPr>
            <a:xfrm>
              <a:off x="5209560" y="50335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Box 33"/>
            <p:cNvSpPr/>
            <p:nvPr/>
          </p:nvSpPr>
          <p:spPr>
            <a:xfrm>
              <a:off x="713412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Up Arrow 34"/>
            <p:cNvSpPr/>
            <p:nvPr/>
          </p:nvSpPr>
          <p:spPr>
            <a:xfrm>
              <a:off x="2519640" y="2682360"/>
              <a:ext cx="183600" cy="457200"/>
            </a:xfrm>
            <a:prstGeom prst="upArrow">
              <a:avLst>
                <a:gd name="adj1" fmla="val 50000"/>
                <a:gd name="adj2" fmla="val 50138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Up Arrow 35"/>
            <p:cNvSpPr/>
            <p:nvPr/>
          </p:nvSpPr>
          <p:spPr>
            <a:xfrm>
              <a:off x="2735280" y="2682360"/>
              <a:ext cx="182160" cy="457200"/>
            </a:xfrm>
            <a:prstGeom prst="up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Down Arrow 36"/>
            <p:cNvSpPr/>
            <p:nvPr/>
          </p:nvSpPr>
          <p:spPr>
            <a:xfrm>
              <a:off x="625680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Down Arrow 37"/>
            <p:cNvSpPr/>
            <p:nvPr/>
          </p:nvSpPr>
          <p:spPr>
            <a:xfrm>
              <a:off x="648036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2716200" y="36198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5"/>
            <p:cNvSpPr/>
            <p:nvPr/>
          </p:nvSpPr>
          <p:spPr>
            <a:xfrm>
              <a:off x="6462000" y="36036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DeI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R 44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FS 6.6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4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OS 13.3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10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OS 59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3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2040" y="629136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on G et al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21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Phase III ERCC1/RRM1 Directed Tri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 Advanced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40"/>
          <p:cNvGrpSpPr/>
          <p:nvPr/>
        </p:nvGrpSpPr>
        <p:grpSpPr>
          <a:xfrm>
            <a:off x="152280" y="1676520"/>
            <a:ext cx="8763120" cy="4440240"/>
            <a:chOff x="152280" y="1676520"/>
            <a:chExt cx="8763120" cy="4440240"/>
          </a:xfrm>
        </p:grpSpPr>
        <p:sp>
          <p:nvSpPr>
            <p:cNvPr id="345" name="Freeform 186"/>
            <p:cNvSpPr/>
            <p:nvPr/>
          </p:nvSpPr>
          <p:spPr>
            <a:xfrm>
              <a:off x="420120" y="2139480"/>
              <a:ext cx="339840" cy="2222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AutoShape 93"/>
            <p:cNvGrpSpPr/>
            <p:nvPr/>
          </p:nvGrpSpPr>
          <p:grpSpPr>
            <a:xfrm>
              <a:off x="5569920" y="2754360"/>
              <a:ext cx="3040920" cy="395640"/>
              <a:chOff x="5569920" y="2754360"/>
              <a:chExt cx="3040920" cy="395640"/>
            </a:xfrm>
          </p:grpSpPr>
          <p:pic>
            <p:nvPicPr>
              <p:cNvPr id="347" name="AutoShape 9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9920" y="2754360"/>
                <a:ext cx="304092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631840" y="2818440"/>
                <a:ext cx="29199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198"/>
            <p:cNvSpPr/>
            <p:nvPr/>
          </p:nvSpPr>
          <p:spPr>
            <a:xfrm>
              <a:off x="5167080" y="291348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AutoShape 99"/>
            <p:cNvGrpSpPr/>
            <p:nvPr/>
          </p:nvGrpSpPr>
          <p:grpSpPr>
            <a:xfrm>
              <a:off x="3845160" y="3594960"/>
              <a:ext cx="1340640" cy="694080"/>
              <a:chOff x="3845160" y="3594960"/>
              <a:chExt cx="1340640" cy="694080"/>
            </a:xfrm>
          </p:grpSpPr>
          <p:pic>
            <p:nvPicPr>
              <p:cNvPr id="351" name="AutoShape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5160" y="3594960"/>
                <a:ext cx="134064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906000" y="365256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AutoShape 100"/>
            <p:cNvGrpSpPr/>
            <p:nvPr/>
          </p:nvGrpSpPr>
          <p:grpSpPr>
            <a:xfrm>
              <a:off x="731160" y="3820320"/>
              <a:ext cx="2480040" cy="901440"/>
              <a:chOff x="731160" y="3820320"/>
              <a:chExt cx="2480040" cy="901440"/>
            </a:xfrm>
          </p:grpSpPr>
          <p:pic>
            <p:nvPicPr>
              <p:cNvPr id="354" name="AutoShap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160" y="3820320"/>
                <a:ext cx="2480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809640" y="3903480"/>
                <a:ext cx="23212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xperimental Ar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Customiz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84"/>
            <p:cNvSpPr/>
            <p:nvPr/>
          </p:nvSpPr>
          <p:spPr>
            <a:xfrm>
              <a:off x="799560" y="1676520"/>
              <a:ext cx="2791440" cy="864360"/>
            </a:xfrm>
            <a:prstGeom prst="roundRect">
              <a:avLst>
                <a:gd name="adj" fmla="val 287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Contro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Gemcitabine + Carboplat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AutoShape 185"/>
            <p:cNvGrpSpPr/>
            <p:nvPr/>
          </p:nvGrpSpPr>
          <p:grpSpPr>
            <a:xfrm>
              <a:off x="3784320" y="2663280"/>
              <a:ext cx="1340640" cy="700200"/>
              <a:chOff x="3784320" y="2663280"/>
              <a:chExt cx="1340640" cy="700200"/>
            </a:xfrm>
          </p:grpSpPr>
          <p:pic>
            <p:nvPicPr>
              <p:cNvPr id="358" name="AutoShape 185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320" y="2663280"/>
                <a:ext cx="13406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853800" y="2730240"/>
                <a:ext cx="120420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R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60" name="Picture 201" descr="Rvert"/>
            <p:cNvPicPr/>
            <p:nvPr/>
          </p:nvPicPr>
          <p:blipFill>
            <a:blip r:embed="rId5"/>
            <a:stretch/>
          </p:blipFill>
          <p:spPr>
            <a:xfrm>
              <a:off x="152280" y="2838960"/>
              <a:ext cx="550080" cy="51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AutoShape 99"/>
            <p:cNvGrpSpPr/>
            <p:nvPr/>
          </p:nvGrpSpPr>
          <p:grpSpPr>
            <a:xfrm>
              <a:off x="3881880" y="4509000"/>
              <a:ext cx="1334520" cy="694080"/>
              <a:chOff x="3881880" y="4509000"/>
              <a:chExt cx="1334520" cy="694080"/>
            </a:xfrm>
          </p:grpSpPr>
          <p:pic>
            <p:nvPicPr>
              <p:cNvPr id="362" name="AutoShape 99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1880" y="450900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3937320" y="456660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AutoShape 99"/>
            <p:cNvGrpSpPr/>
            <p:nvPr/>
          </p:nvGrpSpPr>
          <p:grpSpPr>
            <a:xfrm>
              <a:off x="3881880" y="5422680"/>
              <a:ext cx="1334520" cy="694080"/>
              <a:chOff x="3881880" y="5422680"/>
              <a:chExt cx="1334520" cy="694080"/>
            </a:xfrm>
          </p:grpSpPr>
          <p:pic>
            <p:nvPicPr>
              <p:cNvPr id="365" name="AutoShape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1880" y="542268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3937320" y="548028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3427920" y="3067560"/>
              <a:ext cx="228240" cy="2741040"/>
              <a:chOff x="3427920" y="3067560"/>
              <a:chExt cx="228240" cy="2741040"/>
            </a:xfrm>
          </p:grpSpPr>
          <p:sp>
            <p:nvSpPr>
              <p:cNvPr id="368" name="Straight Connector 26"/>
              <p:cNvSpPr/>
              <p:nvPr/>
            </p:nvSpPr>
            <p:spPr>
              <a:xfrm>
                <a:off x="3427920" y="3067560"/>
                <a:ext cx="0" cy="2741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Straight Connector 28"/>
              <p:cNvSpPr/>
              <p:nvPr/>
            </p:nvSpPr>
            <p:spPr>
              <a:xfrm>
                <a:off x="3427920" y="306756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Straight Connector 29"/>
              <p:cNvSpPr/>
              <p:nvPr/>
            </p:nvSpPr>
            <p:spPr>
              <a:xfrm>
                <a:off x="3427920" y="398124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Straight Connector 30"/>
              <p:cNvSpPr/>
              <p:nvPr/>
            </p:nvSpPr>
            <p:spPr>
              <a:xfrm>
                <a:off x="3427920" y="489492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Straight Connector 32"/>
              <p:cNvSpPr/>
              <p:nvPr/>
            </p:nvSpPr>
            <p:spPr>
              <a:xfrm>
                <a:off x="3427920" y="580860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AutoShape 93"/>
            <p:cNvGrpSpPr/>
            <p:nvPr/>
          </p:nvGrpSpPr>
          <p:grpSpPr>
            <a:xfrm>
              <a:off x="5582160" y="3747240"/>
              <a:ext cx="3180960" cy="414000"/>
              <a:chOff x="5582160" y="3747240"/>
              <a:chExt cx="3180960" cy="414000"/>
            </a:xfrm>
          </p:grpSpPr>
          <p:pic>
            <p:nvPicPr>
              <p:cNvPr id="374" name="AutoShape 9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2160" y="3747240"/>
                <a:ext cx="31809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647320" y="3810960"/>
                <a:ext cx="30542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Docetaxel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Line 198"/>
            <p:cNvSpPr/>
            <p:nvPr/>
          </p:nvSpPr>
          <p:spPr>
            <a:xfrm>
              <a:off x="5179680" y="392256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AutoShape 93"/>
            <p:cNvGrpSpPr/>
            <p:nvPr/>
          </p:nvGrpSpPr>
          <p:grpSpPr>
            <a:xfrm>
              <a:off x="5661360" y="4661280"/>
              <a:ext cx="3254040" cy="414000"/>
              <a:chOff x="5661360" y="4661280"/>
              <a:chExt cx="3254040" cy="414000"/>
            </a:xfrm>
          </p:grpSpPr>
          <p:pic>
            <p:nvPicPr>
              <p:cNvPr id="378" name="AutoShape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5661360" y="4661280"/>
                <a:ext cx="325404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5723640" y="4725000"/>
                <a:ext cx="313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Line 198"/>
            <p:cNvSpPr/>
            <p:nvPr/>
          </p:nvSpPr>
          <p:spPr>
            <a:xfrm>
              <a:off x="5256000" y="48362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AutoShape 93"/>
            <p:cNvGrpSpPr/>
            <p:nvPr/>
          </p:nvGrpSpPr>
          <p:grpSpPr>
            <a:xfrm>
              <a:off x="5661360" y="5495760"/>
              <a:ext cx="3254040" cy="468720"/>
              <a:chOff x="5661360" y="5495760"/>
              <a:chExt cx="3254040" cy="468720"/>
            </a:xfrm>
          </p:grpSpPr>
          <p:pic>
            <p:nvPicPr>
              <p:cNvPr id="382" name="AutoShape 9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61360" y="5495760"/>
                <a:ext cx="3254040" cy="46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5731920" y="5571000"/>
                <a:ext cx="31136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Vinorelbin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98"/>
            <p:cNvSpPr/>
            <p:nvPr/>
          </p:nvSpPr>
          <p:spPr>
            <a:xfrm>
              <a:off x="5256000" y="57308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420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edictive Markers for Adjuvant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7480" y="3076560"/>
            <a:ext cx="2457720" cy="1008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st a Ma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5724360" y="134136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724360" y="1917720"/>
            <a:ext cx="1872000" cy="71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5724360" y="1917720"/>
            <a:ext cx="1872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 rot="16200000">
            <a:off x="4921920" y="21780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577920" y="1517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54600" y="2133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440040" y="33433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724360" y="335772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666600" y="2263680"/>
            <a:ext cx="159660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724360" y="430056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724360" y="4876920"/>
            <a:ext cx="187200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724360" y="487692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 rot="16200000">
            <a:off x="4921920" y="51372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577920" y="44766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951240" y="52434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440040" y="63025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724360" y="632304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878640" y="5229360"/>
            <a:ext cx="110124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2914560" y="3284640"/>
            <a:ext cx="3650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 Narrow"/>
              </a:rPr>
              <a:t>DNA Synthesis &amp; Repair Genes RRM1 and ERCC1 in Lung Cancer (N = 187)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57200" y="198108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Automated quantitative determination of RRM1, ERCC1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&amp; P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RRM1 &amp; ERCC1 determinants of survival after surgical treatment  in early stag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248520" y="64310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Zheng Z et al. NEJM 356:800-8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Text Box 3"/>
          <p:cNvGrpSpPr/>
          <p:nvPr/>
        </p:nvGrpSpPr>
        <p:grpSpPr>
          <a:xfrm>
            <a:off x="231840" y="1432080"/>
            <a:ext cx="1882800" cy="3998880"/>
            <a:chOff x="231840" y="1432080"/>
            <a:chExt cx="1882800" cy="3998880"/>
          </a:xfrm>
        </p:grpSpPr>
        <p:pic>
          <p:nvPicPr>
            <p:cNvPr id="389" name="Text Box 3" descr=""/>
            <p:cNvPicPr/>
            <p:nvPr/>
          </p:nvPicPr>
          <p:blipFill>
            <a:blip r:embed="rId1"/>
            <a:stretch/>
          </p:blipFill>
          <p:spPr>
            <a:xfrm>
              <a:off x="231840" y="1432080"/>
              <a:ext cx="188280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0280" y="1472040"/>
              <a:ext cx="1828800" cy="39153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1(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&gt;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c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2N0M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0 rese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S 0-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Text Box 4"/>
          <p:cNvGrpSpPr/>
          <p:nvPr/>
        </p:nvGrpSpPr>
        <p:grpSpPr>
          <a:xfrm>
            <a:off x="6016680" y="1438200"/>
            <a:ext cx="2590920" cy="2925720"/>
            <a:chOff x="6016680" y="1438200"/>
            <a:chExt cx="2590920" cy="2925720"/>
          </a:xfrm>
        </p:grpSpPr>
        <p:pic>
          <p:nvPicPr>
            <p:cNvPr id="392" name="Text Box 4" descr=""/>
            <p:cNvPicPr/>
            <p:nvPr/>
          </p:nvPicPr>
          <p:blipFill>
            <a:blip r:embed="rId2"/>
            <a:stretch/>
          </p:blipFill>
          <p:spPr>
            <a:xfrm>
              <a:off x="6016680" y="1438200"/>
              <a:ext cx="25909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039000" y="1465200"/>
              <a:ext cx="2539800" cy="28731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ssig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-Gemcitab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Text Box 5"/>
          <p:cNvGrpSpPr/>
          <p:nvPr/>
        </p:nvGrpSpPr>
        <p:grpSpPr>
          <a:xfrm>
            <a:off x="3346560" y="2408400"/>
            <a:ext cx="1401480" cy="438120"/>
            <a:chOff x="3346560" y="2408400"/>
            <a:chExt cx="1401480" cy="438120"/>
          </a:xfrm>
        </p:grpSpPr>
        <p:pic>
          <p:nvPicPr>
            <p:cNvPr id="395" name="Text Box 5" descr=""/>
            <p:cNvPicPr/>
            <p:nvPr/>
          </p:nvPicPr>
          <p:blipFill>
            <a:blip r:embed="rId3"/>
            <a:stretch/>
          </p:blipFill>
          <p:spPr>
            <a:xfrm>
              <a:off x="3346560" y="2408400"/>
              <a:ext cx="14014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371760" y="2435400"/>
              <a:ext cx="134964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rg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Line 6"/>
          <p:cNvSpPr/>
          <p:nvPr/>
        </p:nvSpPr>
        <p:spPr>
          <a:xfrm>
            <a:off x="4067280" y="3051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Text Box 7"/>
          <p:cNvGrpSpPr/>
          <p:nvPr/>
        </p:nvGrpSpPr>
        <p:grpSpPr>
          <a:xfrm>
            <a:off x="3249720" y="3328920"/>
            <a:ext cx="1719000" cy="730440"/>
            <a:chOff x="3249720" y="3328920"/>
            <a:chExt cx="1719000" cy="730440"/>
          </a:xfrm>
        </p:grpSpPr>
        <p:pic>
          <p:nvPicPr>
            <p:cNvPr id="399" name="Text Box 7" descr=""/>
            <p:cNvPicPr/>
            <p:nvPr/>
          </p:nvPicPr>
          <p:blipFill>
            <a:blip r:embed="rId4"/>
            <a:stretch/>
          </p:blipFill>
          <p:spPr>
            <a:xfrm>
              <a:off x="3249720" y="3328920"/>
              <a:ext cx="171900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276720" y="3355920"/>
              <a:ext cx="166824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men Col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Text Box 8"/>
          <p:cNvGrpSpPr/>
          <p:nvPr/>
        </p:nvGrpSpPr>
        <p:grpSpPr>
          <a:xfrm>
            <a:off x="2944800" y="4614840"/>
            <a:ext cx="2163600" cy="725400"/>
            <a:chOff x="2944800" y="4614840"/>
            <a:chExt cx="2163600" cy="725400"/>
          </a:xfrm>
        </p:grpSpPr>
        <p:pic>
          <p:nvPicPr>
            <p:cNvPr id="402" name="Text Box 8" descr=""/>
            <p:cNvPicPr/>
            <p:nvPr/>
          </p:nvPicPr>
          <p:blipFill>
            <a:blip r:embed="rId5"/>
            <a:stretch/>
          </p:blipFill>
          <p:spPr>
            <a:xfrm>
              <a:off x="2944800" y="4614840"/>
              <a:ext cx="2163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968560" y="4638600"/>
              <a:ext cx="211320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CC1 &amp; RRM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UA test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Text Box 9"/>
          <p:cNvGrpSpPr/>
          <p:nvPr/>
        </p:nvGrpSpPr>
        <p:grpSpPr>
          <a:xfrm>
            <a:off x="3108240" y="1494000"/>
            <a:ext cx="1927440" cy="438120"/>
            <a:chOff x="3108240" y="1494000"/>
            <a:chExt cx="1927440" cy="438120"/>
          </a:xfrm>
        </p:grpSpPr>
        <p:pic>
          <p:nvPicPr>
            <p:cNvPr id="405" name="Text Box 9" descr=""/>
            <p:cNvPicPr/>
            <p:nvPr/>
          </p:nvPicPr>
          <p:blipFill>
            <a:blip r:embed="rId6"/>
            <a:stretch/>
          </p:blipFill>
          <p:spPr>
            <a:xfrm>
              <a:off x="3108240" y="1494000"/>
              <a:ext cx="1927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133800" y="1521000"/>
              <a:ext cx="187632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rollmen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Line 10"/>
          <p:cNvSpPr/>
          <p:nvPr/>
        </p:nvSpPr>
        <p:spPr>
          <a:xfrm>
            <a:off x="4038480" y="2060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4067280" y="42703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811600" y="1374840"/>
            <a:ext cx="2438280" cy="426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  <a:ea typeface="Arial"/>
              </a:rPr>
              <a:t>S0720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: Biomarker-Directed Adjuvant Therap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of Stage I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12408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CC1: Excision Repair Cross-Complementing Group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RM1:  Ribonucleotide Reductase M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 rot="16200000">
            <a:off x="2384280" y="2612520"/>
            <a:ext cx="149400" cy="606600"/>
          </a:xfrm>
          <a:prstGeom prst="downArrow">
            <a:avLst>
              <a:gd name="adj1" fmla="val 50000"/>
              <a:gd name="adj2" fmla="val 101506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 rot="16200000">
            <a:off x="5557680" y="2590560"/>
            <a:ext cx="149040" cy="606600"/>
          </a:xfrm>
          <a:prstGeom prst="downArrow">
            <a:avLst>
              <a:gd name="adj1" fmla="val 50000"/>
              <a:gd name="adj2" fmla="val 101751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4267080" y="643104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Zheng, Bepler. NEJM 2007 (Moffitt SPORE); Simon. JCO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90400" y="2162160"/>
          <a:ext cx="7831440" cy="3081240"/>
        </p:xfrm>
        <a:graphic>
          <a:graphicData uri="http://schemas.openxmlformats.org/drawingml/2006/table">
            <a:tbl>
              <a:tblPr/>
              <a:tblGrid>
                <a:gridCol w="3654720"/>
                <a:gridCol w="417672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RM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4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6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tive Monito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Othe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RRM1&lt; 40.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&lt; 66.0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isplatin-Gemcitab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16" name="AutoShape 10"/>
          <p:cNvSpPr/>
          <p:nvPr/>
        </p:nvSpPr>
        <p:spPr>
          <a:xfrm>
            <a:off x="22096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60958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0720: Pharmacogenomic-Directed Adjuvant Therapy of NSCLC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439560" y="1600200"/>
            <a:ext cx="8128080" cy="58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008000" y="603576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mary Endpoint: Feasibility measured as % of patients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hom treatment assignment can be made (&gt;75% = su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153440" y="53341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5109480" y="53341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6"/>
          <p:cNvSpPr/>
          <p:nvPr/>
        </p:nvSpPr>
        <p:spPr>
          <a:xfrm>
            <a:off x="763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2057400"/>
          <a:ext cx="8001000" cy="258444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H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Q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-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intens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r 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/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304920" y="1523880"/>
            <a:ext cx="86281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C1 and RRM1 expression levels are promi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ve biomarkers for cisplatin and gemcitabine effic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the results from validated studies become available,  ERCC1 and RRM1 are experimental tools and should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used in routine clinical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CC1: Mechanism of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14400" y="1295280"/>
            <a:ext cx="7315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 DNA strand bre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. Recruitment of  DNA  repair protei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. DNA unwin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. Continued recruitment of repair proteins, including ERCC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. Double in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6. Ex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. Filling in the g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709600" y="6477120"/>
            <a:ext cx="32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et al.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 Narrow"/>
              </a:rPr>
              <a:t>ERCC1 Protein Expression Is a Predictive Marker for Adjuvant Cisplatin Chemotherapy in IALT</a:t>
            </a:r>
            <a:endParaRPr b="0" lang="en-US" sz="31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718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nega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41148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00400" y="5410080"/>
            <a:ext cx="3048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1.14, 95%CI [0.84-1.55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40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124080" y="2743200"/>
            <a:ext cx="3124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0.65, 95%CI [0.50-0.86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002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9360" y="63244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laussen. NEJM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371600"/>
          <a:ext cx="8686800" cy="47322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1066680"/>
                <a:gridCol w="1752480"/>
                <a:gridCol w="1447920"/>
                <a:gridCol w="1219320"/>
                <a:gridCol w="10666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of 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 to progr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erall survival (media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zard rat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wa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8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5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.1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j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42.9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100% 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.5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4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9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5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9162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Kon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RT-P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high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low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66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42.75 (</a:t>
                      </a:r>
                      <a:r>
                        <a:rPr b="0" i="1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=0.05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auss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9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=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4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5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4"/>
          <p:cNvSpPr/>
          <p:nvPr/>
        </p:nvSpPr>
        <p:spPr>
          <a:xfrm>
            <a:off x="474840" y="304920"/>
            <a:ext cx="78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CC1 as predictive marker in adjuv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- or carboplatin-based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385600" y="647712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ITACA: International Tailored Adjuvant Chemotherapy Trial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468360" y="6275520"/>
            <a:ext cx="835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  <a:ea typeface="Arial"/>
              </a:rPr>
              <a:t>* Control arm – Investigator choice of a DDP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642960" y="1214280"/>
            <a:ext cx="7674120" cy="4845600"/>
            <a:chOff x="642960" y="1214280"/>
            <a:chExt cx="7674120" cy="4845600"/>
          </a:xfrm>
        </p:grpSpPr>
        <p:sp>
          <p:nvSpPr>
            <p:cNvPr id="163" name="Text Box 3"/>
            <p:cNvSpPr/>
            <p:nvPr/>
          </p:nvSpPr>
          <p:spPr>
            <a:xfrm>
              <a:off x="642960" y="35226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CC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4"/>
            <p:cNvSpPr/>
            <p:nvPr/>
          </p:nvSpPr>
          <p:spPr>
            <a:xfrm>
              <a:off x="1697400" y="294660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1762200" y="2808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769040" y="4175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03320" y="222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2798640" y="47530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3325680" y="172872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3425040" y="2943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3325680" y="411048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425040" y="532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3433320" y="1595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3418920" y="398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4212000" y="18000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4214880" y="30956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4212000" y="42552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4214880" y="55508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4589640" y="1618920"/>
              <a:ext cx="12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4600440" y="2911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4600440" y="4070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600440" y="5370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 flipV="1">
              <a:off x="5770080" y="1390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5769360" y="1758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1"/>
            <p:cNvSpPr/>
            <p:nvPr/>
          </p:nvSpPr>
          <p:spPr>
            <a:xfrm>
              <a:off x="6226560" y="1214280"/>
              <a:ext cx="17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Taxa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6239160" y="23666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Pemetrex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6237720" y="36687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6238080" y="5023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P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35"/>
            <p:cNvSpPr/>
            <p:nvPr/>
          </p:nvSpPr>
          <p:spPr>
            <a:xfrm>
              <a:off x="6221520" y="19382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6228000" y="3079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6240600" y="4461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6240600" y="56916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7618680" y="208584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7965000" y="2072160"/>
              <a:ext cx="0" cy="384120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>
              <a:off x="7605000" y="5880600"/>
              <a:ext cx="359640" cy="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7813440" y="1433160"/>
              <a:ext cx="5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3"/>
            <p:cNvSpPr/>
            <p:nvPr/>
          </p:nvSpPr>
          <p:spPr>
            <a:xfrm>
              <a:off x="8317080" y="1433160"/>
              <a:ext cx="0" cy="3749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>
              <a:off x="7813440" y="517356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>
              <a:off x="7813440" y="255888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7813440" y="385380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7605000" y="328860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7605000" y="465948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V="1">
              <a:off x="5772240" y="2578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5771880" y="2946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 flipV="1">
              <a:off x="5779800" y="387288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>
              <a:off x="5779440" y="424116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3"/>
            <p:cNvSpPr/>
            <p:nvPr/>
          </p:nvSpPr>
          <p:spPr>
            <a:xfrm flipV="1">
              <a:off x="5774040" y="516636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>
              <a:off x="5773680" y="553464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99"/>
          <p:cNvSpPr/>
          <p:nvPr/>
        </p:nvSpPr>
        <p:spPr>
          <a:xfrm>
            <a:off x="152280" y="2111400"/>
            <a:ext cx="884412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86"/>
          <p:cNvSpPr/>
          <p:nvPr/>
        </p:nvSpPr>
        <p:spPr>
          <a:xfrm>
            <a:off x="420840" y="2638440"/>
            <a:ext cx="339480" cy="15192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AutoShape 93"/>
          <p:cNvGrpSpPr/>
          <p:nvPr/>
        </p:nvGrpSpPr>
        <p:grpSpPr>
          <a:xfrm>
            <a:off x="5052960" y="3179880"/>
            <a:ext cx="2281320" cy="414360"/>
            <a:chOff x="5052960" y="3179880"/>
            <a:chExt cx="2281320" cy="414360"/>
          </a:xfrm>
        </p:grpSpPr>
        <p:pic>
          <p:nvPicPr>
            <p:cNvPr id="212" name="AutoShape 93" descr=""/>
            <p:cNvPicPr/>
            <p:nvPr/>
          </p:nvPicPr>
          <p:blipFill>
            <a:blip r:embed="rId1"/>
            <a:stretch/>
          </p:blipFill>
          <p:spPr>
            <a:xfrm>
              <a:off x="5052960" y="3179880"/>
              <a:ext cx="2281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16680" y="3245040"/>
              <a:ext cx="2152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lotinib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AutoShape 94"/>
          <p:cNvGrpSpPr/>
          <p:nvPr/>
        </p:nvGrpSpPr>
        <p:grpSpPr>
          <a:xfrm>
            <a:off x="6450120" y="5349960"/>
            <a:ext cx="2286000" cy="407880"/>
            <a:chOff x="6450120" y="5349960"/>
            <a:chExt cx="2286000" cy="407880"/>
          </a:xfrm>
        </p:grpSpPr>
        <p:pic>
          <p:nvPicPr>
            <p:cNvPr id="215" name="AutoShape 94" descr=""/>
            <p:cNvPicPr/>
            <p:nvPr/>
          </p:nvPicPr>
          <p:blipFill>
            <a:blip r:embed="rId2"/>
            <a:stretch/>
          </p:blipFill>
          <p:spPr>
            <a:xfrm>
              <a:off x="6450120" y="5349960"/>
              <a:ext cx="22860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515280" y="5413680"/>
              <a:ext cx="21538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DDP-Pemetrex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AutoShape 95"/>
          <p:cNvGrpSpPr/>
          <p:nvPr/>
        </p:nvGrpSpPr>
        <p:grpSpPr>
          <a:xfrm>
            <a:off x="6394320" y="3935520"/>
            <a:ext cx="2279880" cy="409320"/>
            <a:chOff x="6394320" y="3935520"/>
            <a:chExt cx="2279880" cy="409320"/>
          </a:xfrm>
        </p:grpSpPr>
        <p:pic>
          <p:nvPicPr>
            <p:cNvPr id="218" name="AutoShape 95" descr=""/>
            <p:cNvPicPr/>
            <p:nvPr/>
          </p:nvPicPr>
          <p:blipFill>
            <a:blip r:embed="rId3"/>
            <a:stretch/>
          </p:blipFill>
          <p:spPr>
            <a:xfrm>
              <a:off x="6394320" y="3935520"/>
              <a:ext cx="227988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459480" y="3998520"/>
              <a:ext cx="21528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Observ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Line 196"/>
          <p:cNvSpPr/>
          <p:nvPr/>
        </p:nvSpPr>
        <p:spPr>
          <a:xfrm>
            <a:off x="6048360" y="55609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97"/>
          <p:cNvSpPr/>
          <p:nvPr/>
        </p:nvSpPr>
        <p:spPr>
          <a:xfrm>
            <a:off x="5943600" y="41338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98"/>
          <p:cNvSpPr/>
          <p:nvPr/>
        </p:nvSpPr>
        <p:spPr>
          <a:xfrm>
            <a:off x="4648320" y="341316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95"/>
          <p:cNvSpPr/>
          <p:nvPr/>
        </p:nvSpPr>
        <p:spPr>
          <a:xfrm>
            <a:off x="4422600" y="4129200"/>
            <a:ext cx="366840" cy="14238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93"/>
          <p:cNvSpPr/>
          <p:nvPr/>
        </p:nvSpPr>
        <p:spPr>
          <a:xfrm>
            <a:off x="2836800" y="3500280"/>
            <a:ext cx="366840" cy="1324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AutoShape 97"/>
          <p:cNvGrpSpPr/>
          <p:nvPr/>
        </p:nvGrpSpPr>
        <p:grpSpPr>
          <a:xfrm>
            <a:off x="4834080" y="5349960"/>
            <a:ext cx="1298520" cy="414360"/>
            <a:chOff x="4834080" y="5349960"/>
            <a:chExt cx="1298520" cy="414360"/>
          </a:xfrm>
        </p:grpSpPr>
        <p:pic>
          <p:nvPicPr>
            <p:cNvPr id="226" name="AutoShape 97" descr=""/>
            <p:cNvPicPr/>
            <p:nvPr/>
          </p:nvPicPr>
          <p:blipFill>
            <a:blip r:embed="rId4"/>
            <a:stretch/>
          </p:blipFill>
          <p:spPr>
            <a:xfrm>
              <a:off x="4834080" y="5349960"/>
              <a:ext cx="1298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896000" y="5416560"/>
              <a:ext cx="1174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AutoShape 98"/>
          <p:cNvGrpSpPr/>
          <p:nvPr/>
        </p:nvGrpSpPr>
        <p:grpSpPr>
          <a:xfrm>
            <a:off x="4821120" y="3935520"/>
            <a:ext cx="1305000" cy="409320"/>
            <a:chOff x="4821120" y="3935520"/>
            <a:chExt cx="1305000" cy="409320"/>
          </a:xfrm>
        </p:grpSpPr>
        <p:pic>
          <p:nvPicPr>
            <p:cNvPr id="229" name="AutoShape 98" descr=""/>
            <p:cNvPicPr/>
            <p:nvPr/>
          </p:nvPicPr>
          <p:blipFill>
            <a:blip r:embed="rId5"/>
            <a:stretch/>
          </p:blipFill>
          <p:spPr>
            <a:xfrm>
              <a:off x="4821120" y="3935520"/>
              <a:ext cx="130500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889520" y="3998520"/>
              <a:ext cx="1173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AutoShape 99"/>
          <p:cNvGrpSpPr/>
          <p:nvPr/>
        </p:nvGrpSpPr>
        <p:grpSpPr>
          <a:xfrm>
            <a:off x="3267000" y="4478400"/>
            <a:ext cx="1341360" cy="695160"/>
            <a:chOff x="3267000" y="4478400"/>
            <a:chExt cx="1341360" cy="695160"/>
          </a:xfrm>
        </p:grpSpPr>
        <p:pic>
          <p:nvPicPr>
            <p:cNvPr id="232" name="AutoShape 99" descr=""/>
            <p:cNvPicPr/>
            <p:nvPr/>
          </p:nvPicPr>
          <p:blipFill>
            <a:blip r:embed="rId6"/>
            <a:stretch/>
          </p:blipFill>
          <p:spPr>
            <a:xfrm>
              <a:off x="3267000" y="447840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325680" y="4535280"/>
              <a:ext cx="122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w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AutoShape 100"/>
          <p:cNvGrpSpPr/>
          <p:nvPr/>
        </p:nvGrpSpPr>
        <p:grpSpPr>
          <a:xfrm>
            <a:off x="731880" y="3746520"/>
            <a:ext cx="2481120" cy="903240"/>
            <a:chOff x="731880" y="3746520"/>
            <a:chExt cx="2481120" cy="903240"/>
          </a:xfrm>
        </p:grpSpPr>
        <p:pic>
          <p:nvPicPr>
            <p:cNvPr id="235" name="AutoShape 100" descr=""/>
            <p:cNvPicPr/>
            <p:nvPr/>
          </p:nvPicPr>
          <p:blipFill>
            <a:blip r:embed="rId7"/>
            <a:stretch/>
          </p:blipFill>
          <p:spPr>
            <a:xfrm>
              <a:off x="731880" y="3746520"/>
              <a:ext cx="24811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09640" y="3829320"/>
              <a:ext cx="23223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xperimenta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ustomiz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AutoShape 184"/>
          <p:cNvSpPr/>
          <p:nvPr/>
        </p:nvSpPr>
        <p:spPr>
          <a:xfrm>
            <a:off x="800280" y="2174760"/>
            <a:ext cx="2792160" cy="865440"/>
          </a:xfrm>
          <a:prstGeom prst="roundRect">
            <a:avLst>
              <a:gd name="adj" fmla="val 2876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ontrol 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DDP-Pemetrex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AutoShape 185"/>
          <p:cNvGrpSpPr/>
          <p:nvPr/>
        </p:nvGrpSpPr>
        <p:grpSpPr>
          <a:xfrm>
            <a:off x="3267000" y="3162240"/>
            <a:ext cx="1341360" cy="699840"/>
            <a:chOff x="3267000" y="3162240"/>
            <a:chExt cx="1341360" cy="699840"/>
          </a:xfrm>
        </p:grpSpPr>
        <p:pic>
          <p:nvPicPr>
            <p:cNvPr id="239" name="AutoShape 185" descr=""/>
            <p:cNvPicPr/>
            <p:nvPr/>
          </p:nvPicPr>
          <p:blipFill>
            <a:blip r:embed="rId8"/>
            <a:stretch/>
          </p:blipFill>
          <p:spPr>
            <a:xfrm>
              <a:off x="3267000" y="3162240"/>
              <a:ext cx="13413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335400" y="3228840"/>
              <a:ext cx="1203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</a:t>
              </a:r>
              <a:br>
                <a:rPr sz="1500"/>
              </a:b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mutat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201" descr="Rvert"/>
          <p:cNvPicPr/>
          <p:nvPr/>
        </p:nvPicPr>
        <p:blipFill>
          <a:blip r:embed="rId9"/>
          <a:stretch/>
        </p:blipFill>
        <p:spPr>
          <a:xfrm>
            <a:off x="133200" y="3181320"/>
            <a:ext cx="551160" cy="517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TASTE design</a:t>
            </a: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Non-SC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Stage II and IIIA (non-N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0" y="32076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French Adjuvant Trial: Tailored Post Surgical Therapy in Early Stage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0"/>
          <p:cNvGrpSpPr/>
          <p:nvPr/>
        </p:nvGrpSpPr>
        <p:grpSpPr>
          <a:xfrm>
            <a:off x="1068120" y="2206800"/>
            <a:ext cx="7167960" cy="4108320"/>
            <a:chOff x="1068120" y="2206800"/>
            <a:chExt cx="7167960" cy="4108320"/>
          </a:xfrm>
        </p:grpSpPr>
        <p:sp>
          <p:nvSpPr>
            <p:cNvPr id="246" name="Line 8"/>
            <p:cNvSpPr/>
            <p:nvPr/>
          </p:nvSpPr>
          <p:spPr>
            <a:xfrm flipV="1">
              <a:off x="4741920" y="3985920"/>
              <a:ext cx="996480" cy="658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1068120" y="2401200"/>
              <a:ext cx="371160" cy="25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4741920" y="5293800"/>
              <a:ext cx="1074240" cy="5000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5045400" y="3513960"/>
              <a:ext cx="349920" cy="2527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 flipV="1">
              <a:off x="1533960" y="274500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33960" y="389052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Rounded Rectangle 11"/>
            <p:cNvGrpSpPr/>
            <p:nvPr/>
          </p:nvGrpSpPr>
          <p:grpSpPr>
            <a:xfrm>
              <a:off x="1914120" y="3606480"/>
              <a:ext cx="755640" cy="419760"/>
              <a:chOff x="1914120" y="3606480"/>
              <a:chExt cx="755640" cy="419760"/>
            </a:xfrm>
          </p:grpSpPr>
          <p:pic>
            <p:nvPicPr>
              <p:cNvPr id="253" name="Rounded 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4120" y="3606480"/>
                <a:ext cx="755640" cy="41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938960" y="3630240"/>
                <a:ext cx="707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 Narrow"/>
                  </a:rPr>
                  <a:t>1 : 2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Rounded Rectangle 12"/>
            <p:cNvGrpSpPr/>
            <p:nvPr/>
          </p:nvGrpSpPr>
          <p:grpSpPr>
            <a:xfrm>
              <a:off x="5888880" y="3460680"/>
              <a:ext cx="2347200" cy="943200"/>
              <a:chOff x="5888880" y="3460680"/>
              <a:chExt cx="2347200" cy="943200"/>
            </a:xfrm>
          </p:grpSpPr>
          <p:pic>
            <p:nvPicPr>
              <p:cNvPr id="256" name="Rounded 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8880" y="3460680"/>
                <a:ext cx="234720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939640" y="3514680"/>
                <a:ext cx="22453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ow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Rounded Rectangle 15"/>
            <p:cNvGrpSpPr/>
            <p:nvPr/>
          </p:nvGrpSpPr>
          <p:grpSpPr>
            <a:xfrm>
              <a:off x="2548080" y="4507560"/>
              <a:ext cx="2066760" cy="943200"/>
              <a:chOff x="2548080" y="4507560"/>
              <a:chExt cx="2066760" cy="943200"/>
            </a:xfrm>
          </p:grpSpPr>
          <p:pic>
            <p:nvPicPr>
              <p:cNvPr id="259" name="Rounded 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48080" y="450756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598480" y="456120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xperimental arm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ERCC1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RNA level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Rounded Rectangle 16"/>
            <p:cNvGrpSpPr/>
            <p:nvPr/>
          </p:nvGrpSpPr>
          <p:grpSpPr>
            <a:xfrm>
              <a:off x="2554200" y="2206800"/>
              <a:ext cx="2066760" cy="943200"/>
              <a:chOff x="2554200" y="2206800"/>
              <a:chExt cx="2066760" cy="943200"/>
            </a:xfrm>
          </p:grpSpPr>
          <p:pic>
            <p:nvPicPr>
              <p:cNvPr id="262" name="Rounded 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4200" y="220680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603520" y="226116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ol arm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Rounded Rectangle 17"/>
            <p:cNvGrpSpPr/>
            <p:nvPr/>
          </p:nvGrpSpPr>
          <p:grpSpPr>
            <a:xfrm>
              <a:off x="5968440" y="5371920"/>
              <a:ext cx="2249640" cy="943200"/>
              <a:chOff x="5968440" y="5371920"/>
              <a:chExt cx="2249640" cy="943200"/>
            </a:xfrm>
          </p:grpSpPr>
          <p:pic>
            <p:nvPicPr>
              <p:cNvPr id="265" name="Rounded Rectangl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8440" y="5371920"/>
                <a:ext cx="224964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6017760" y="5425920"/>
                <a:ext cx="21517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High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gemcitabine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TextBox 18"/>
            <p:cNvSpPr/>
            <p:nvPr/>
          </p:nvSpPr>
          <p:spPr>
            <a:xfrm>
              <a:off x="2805480" y="3545640"/>
              <a:ext cx="148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 endpoint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ponse r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TextBox 19"/>
          <p:cNvSpPr/>
          <p:nvPr/>
        </p:nvSpPr>
        <p:spPr>
          <a:xfrm>
            <a:off x="0" y="1482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enotypic International Lung Trial (GI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0" y="304920"/>
            <a:ext cx="9067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ustomizing Chemotherapy by </a:t>
            </a:r>
            <a:r>
              <a:rPr b="1" i="1" lang="en-US" sz="3100" spc="-1" strike="noStrike">
                <a:solidFill>
                  <a:srgbClr val="ffff00"/>
                </a:solidFill>
                <a:latin typeface="Arial"/>
              </a:rPr>
              <a:t>ERCC1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mRNA Profiling in Advanced NSCLC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6626880" y="6431040"/>
            <a:ext cx="23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bo M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38080" y="1600200"/>
          <a:ext cx="7543800" cy="4195800"/>
        </p:xfrm>
        <a:graphic>
          <a:graphicData uri="http://schemas.openxmlformats.org/drawingml/2006/table">
            <a:tbl>
              <a:tblPr/>
              <a:tblGrid>
                <a:gridCol w="1905120"/>
                <a:gridCol w="990720"/>
                <a:gridCol w="1218960"/>
                <a:gridCol w="1600200"/>
                <a:gridCol w="1828800"/>
              </a:tblGrid>
              <a:tr h="867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co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4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22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9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9.3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3.2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nt to tre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, month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9-10.7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7-10.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86-12.8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9.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17-10.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st death at 27 months; longest alive at 33 month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Box 6"/>
          <p:cNvSpPr/>
          <p:nvPr/>
        </p:nvSpPr>
        <p:spPr>
          <a:xfrm>
            <a:off x="2160" y="6211800"/>
            <a:ext cx="24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ow 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ILT: Efficacy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cp:lastPrinted>2011-04-21T13:26:07Z</cp:lastPrinted>
  <dcterms:modified xsi:type="dcterms:W3CDTF">2011-05-11T15:13:57Z</dcterms:modified>
  <cp:revision>150</cp:revision>
  <dc:subject/>
  <dc:title>PowerPoint Presentation</dc:title>
</cp:coreProperties>
</file>