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FBB-CFB7-4174-AAA6-3D84D6652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D6C4-C632-43D9-867C-FC305E7EA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027-4E0C-48E5-BA21-78AE880BA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400040" y="914400"/>
            <a:ext cx="405612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E0E-CC08-423B-A7CA-3060E3C6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607-642E-452B-8C0F-EF78174E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5A1-CC5E-465F-9005-8F53B75B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BAD-3FCE-4DEA-8B72-F27F1CF8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78B-8D70-4E90-845B-EE361632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39CD-CC42-42AD-A384-18B48981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5AAB-48DC-4C4C-9A6B-73A8128A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40C2-0D69-44C3-8F2B-2227DE07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9B8A-5769-43D5-973E-CC5E8748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04A-3AD8-4C95-BA56-D8D67502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D229-45C9-49A2-998F-B38CCF19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1937-3BE1-42A0-BB9B-CD27B7C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E0B-2CA4-4E4C-B7C7-0B89EC5D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79E-0505-4820-B9B2-02670E4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2E13-2A90-4E9F-B321-BD5BF3B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2111-FE01-4EFB-A50B-E569B4B7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1BB-E538-4550-AB76-FE483BE8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473-8CC3-4D34-8F64-E54EEEA6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330F-CFFC-4DE1-922A-1675D122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9330-FB67-4BDE-9968-8C5219B1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C2B6-7C0D-404B-B7AD-E9872BF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BA01-43F1-4E85-B3D1-386C9B1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A97D-8975-4801-AEE7-E5E941B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E48-43D4-4074-A0BE-A6691175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D686-8404-475C-80C6-347C8CD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4B09-7954-4606-81D8-1A2D207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FB7F-C94B-4652-AD4B-3D10E67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61A8-52DA-4885-8CF7-07E92EEB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D2BF-D5E5-4A55-A66D-F5C71D8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3C15-7E17-45E2-9EC7-05AF72E5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47E2-CA67-46EF-B4EF-8AA0B3F7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E3D1-8AD4-473A-A97D-B3DCD1E9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8C45-FDB9-4CB2-A264-4C9F478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13D1-AE13-4F22-B5D1-6FCF07E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433-B55A-4CAF-94A2-9B35589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B707-995B-40E9-918C-BD17FCB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4E1B-FEF9-48B3-8707-51991174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8393-30A2-4538-9484-97C08B0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E9EA-C1B0-4ECB-A9B1-B470A05F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542F-4AC5-400F-9F26-424BCA4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DFC3-97F8-4079-A48B-30380FC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4659-53FE-4EB0-AEE1-4E6CFDA6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889F-B68E-46F2-B9AC-5BB5C99A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F551-484B-4E08-8B0C-FDF7F885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95FF-9FBB-4004-9197-5B7E5905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352-F4A8-4AB0-B676-67FD21E8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B983-AC03-45B0-BA6F-7057761A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4C441-6FE7-4E87-8BC5-DBC8C59B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C8CDF-6108-4ADA-90CA-397F168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D7A88-102F-4DA3-89DD-BEBF386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046D-1484-4FCA-A948-0A1DE3D0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BFA8-BD03-4427-984B-C1603417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8135-0E5F-47D9-9DB3-6186A3F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432F-0FF4-47F3-9E6B-4F6EE7B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FFEE-17FA-4B8F-ABEB-BCBB7365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1052-3B58-4215-8A10-2FB29C86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D6C-31D8-4D4F-8B26-623CE026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B6BC-868D-4AAF-912F-20A60CB3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963-C2F3-467B-A99C-E7DC662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30B-3469-4633-B103-09BCD6D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B30-A2E3-4EDF-90AA-EC9B46C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BEF-3F81-4AA2-B784-8215D0A3ED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2D9-A65D-40E8-AEDE-614DB3DC2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61152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D3B6-C066-4065-9D70-1154F4F4FD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09D2-30EE-4721-9971-2E6077825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1523880" cy="74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532-535E-46A7-8112-EE6A5EBF18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E370-2609-43D9-B583-39A2071C8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3DD6-0FD2-4F01-8396-6AEE0481E0A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CDA8-8510-450E-ACC6-2BB05CEAE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173-6D48-409D-9A48-648EF3A45C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6EA-5869-49C1-BC53-95363A53F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0" y="0"/>
            <a:ext cx="28954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01600" y="378000"/>
            <a:ext cx="2533680" cy="217620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18" name="Picture 6" descr="MDACC_Rev_PMS_TC_tag_V.png"/>
          <p:cNvPicPr/>
          <p:nvPr/>
        </p:nvPicPr>
        <p:blipFill>
          <a:blip r:embed="rId2"/>
          <a:stretch/>
        </p:blipFill>
        <p:spPr>
          <a:xfrm>
            <a:off x="243000" y="5403960"/>
            <a:ext cx="2428920" cy="1185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3429000" y="609480"/>
            <a:ext cx="5410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ing multigene signatures for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cer risk stratification and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733920" y="3649680"/>
            <a:ext cx="5105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 Heymach, M.D.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oracic/Head and Neck Medical Oncology and Cancer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nual Lung Canc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b.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2743200" y="6400800"/>
            <a:ext cx="39178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Zhu C et al. JCO 2010;28:4417-4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98280" y="6613560"/>
            <a:ext cx="4930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320" indent="-76320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©2010 by American Society of Clinical On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nostic and predictive gene signature for adjuvant chemotherapy in resected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R.10 showed benefit for adjuvant cis/vinorelbine (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expression profiling from 133 tumors (62 obs, 71 adjuv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gene signature for risk in ob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in 4 different independent sets (N=3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also predictive for ACT: HR 0.33 for ACT in high risk, 3.67 in low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expression signatures predicting drug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we need more markers for EGFR inhibi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FR mutation is the best-validated marker for NSCL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: patients with wild-type EGFR also benefit from EGFR TKIs (but are much less likely to have a partial respon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no markers for selecting who is likely to benefit from EGFR TK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3400" y="624852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ao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BR.21: Erlotinib vs Placebo in Patients with Wild-Type EG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ith wild-type EGFR benefit more from erlotinib vs mutated EG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any markers identifying patients with wild-type EGFR that may show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1157040" y="2876400"/>
            <a:ext cx="1806120" cy="2294280"/>
            <a:chOff x="1157040" y="2876400"/>
            <a:chExt cx="1806120" cy="2294280"/>
          </a:xfrm>
        </p:grpSpPr>
        <p:sp>
          <p:nvSpPr>
            <p:cNvPr id="404" name="Line 3"/>
            <p:cNvSpPr/>
            <p:nvPr/>
          </p:nvSpPr>
          <p:spPr>
            <a:xfrm flipH="1">
              <a:off x="1323720" y="2876400"/>
              <a:ext cx="1639440" cy="21409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 rot="19386000">
              <a:off x="1188000" y="4971960"/>
              <a:ext cx="17532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"/>
          <p:cNvGrpSpPr/>
          <p:nvPr/>
        </p:nvGrpSpPr>
        <p:grpSpPr>
          <a:xfrm>
            <a:off x="5126040" y="2707560"/>
            <a:ext cx="2178720" cy="2454120"/>
            <a:chOff x="5126040" y="2707560"/>
            <a:chExt cx="2178720" cy="2454120"/>
          </a:xfrm>
        </p:grpSpPr>
        <p:sp>
          <p:nvSpPr>
            <p:cNvPr id="407" name="Line 6"/>
            <p:cNvSpPr/>
            <p:nvPr/>
          </p:nvSpPr>
          <p:spPr>
            <a:xfrm>
              <a:off x="5126040" y="2707560"/>
              <a:ext cx="1993320" cy="22903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 rot="2106600">
              <a:off x="7078320" y="4957200"/>
              <a:ext cx="19764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8"/>
          <p:cNvGrpSpPr/>
          <p:nvPr/>
        </p:nvGrpSpPr>
        <p:grpSpPr>
          <a:xfrm>
            <a:off x="2653560" y="3624480"/>
            <a:ext cx="567000" cy="1547280"/>
            <a:chOff x="2653560" y="3624480"/>
            <a:chExt cx="567000" cy="1547280"/>
          </a:xfrm>
        </p:grpSpPr>
        <p:sp>
          <p:nvSpPr>
            <p:cNvPr id="410" name="Line 9"/>
            <p:cNvSpPr/>
            <p:nvPr/>
          </p:nvSpPr>
          <p:spPr>
            <a:xfrm flipH="1">
              <a:off x="2822040" y="3624480"/>
              <a:ext cx="398520" cy="136980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 rot="18887400">
              <a:off x="2676600" y="4952160"/>
              <a:ext cx="230400" cy="161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1"/>
          <p:cNvGrpSpPr/>
          <p:nvPr/>
        </p:nvGrpSpPr>
        <p:grpSpPr>
          <a:xfrm>
            <a:off x="4609440" y="4269600"/>
            <a:ext cx="243360" cy="889200"/>
            <a:chOff x="4609440" y="4269600"/>
            <a:chExt cx="243360" cy="889200"/>
          </a:xfrm>
        </p:grpSpPr>
        <p:sp>
          <p:nvSpPr>
            <p:cNvPr id="413" name="Line 12"/>
            <p:cNvSpPr/>
            <p:nvPr/>
          </p:nvSpPr>
          <p:spPr>
            <a:xfrm flipH="1">
              <a:off x="4705200" y="4269600"/>
              <a:ext cx="2160" cy="71856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3"/>
            <p:cNvSpPr/>
            <p:nvPr/>
          </p:nvSpPr>
          <p:spPr>
            <a:xfrm rot="3406800">
              <a:off x="4632480" y="4951080"/>
              <a:ext cx="19692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4"/>
          <p:cNvGrpSpPr/>
          <p:nvPr/>
        </p:nvGrpSpPr>
        <p:grpSpPr>
          <a:xfrm>
            <a:off x="90360" y="5292720"/>
            <a:ext cx="1668240" cy="561960"/>
            <a:chOff x="90360" y="5292720"/>
            <a:chExt cx="1668240" cy="561960"/>
          </a:xfrm>
        </p:grpSpPr>
        <p:sp>
          <p:nvSpPr>
            <p:cNvPr id="416" name="Rectangle 15"/>
            <p:cNvSpPr/>
            <p:nvPr/>
          </p:nvSpPr>
          <p:spPr>
            <a:xfrm>
              <a:off x="90360" y="5292720"/>
              <a:ext cx="166824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6"/>
            <p:cNvSpPr/>
            <p:nvPr/>
          </p:nvSpPr>
          <p:spPr>
            <a:xfrm>
              <a:off x="405720" y="5461200"/>
              <a:ext cx="103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lotin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7"/>
          <p:cNvGrpSpPr/>
          <p:nvPr/>
        </p:nvGrpSpPr>
        <p:grpSpPr>
          <a:xfrm>
            <a:off x="3645000" y="5292720"/>
            <a:ext cx="1966680" cy="561960"/>
            <a:chOff x="3645000" y="5292720"/>
            <a:chExt cx="1966680" cy="561960"/>
          </a:xfrm>
        </p:grpSpPr>
        <p:sp>
          <p:nvSpPr>
            <p:cNvPr id="419" name="Rectangle 18"/>
            <p:cNvSpPr/>
            <p:nvPr/>
          </p:nvSpPr>
          <p:spPr>
            <a:xfrm>
              <a:off x="3645000" y="5292720"/>
              <a:ext cx="196668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"/>
            <p:cNvSpPr/>
            <p:nvPr/>
          </p:nvSpPr>
          <p:spPr>
            <a:xfrm>
              <a:off x="4220280" y="5459400"/>
              <a:ext cx="90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D647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0"/>
            <p:cNvSpPr/>
            <p:nvPr/>
          </p:nvSpPr>
          <p:spPr>
            <a:xfrm>
              <a:off x="4875840" y="5459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1"/>
          <p:cNvGrpSpPr/>
          <p:nvPr/>
        </p:nvGrpSpPr>
        <p:grpSpPr>
          <a:xfrm>
            <a:off x="5715000" y="5292720"/>
            <a:ext cx="3289320" cy="561960"/>
            <a:chOff x="5715000" y="5292720"/>
            <a:chExt cx="3289320" cy="561960"/>
          </a:xfrm>
        </p:grpSpPr>
        <p:sp>
          <p:nvSpPr>
            <p:cNvPr id="423" name="Rectangle 22"/>
            <p:cNvSpPr/>
            <p:nvPr/>
          </p:nvSpPr>
          <p:spPr>
            <a:xfrm>
              <a:off x="5715000" y="5292720"/>
              <a:ext cx="328932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3"/>
            <p:cNvSpPr/>
            <p:nvPr/>
          </p:nvSpPr>
          <p:spPr>
            <a:xfrm>
              <a:off x="6022800" y="5459400"/>
              <a:ext cx="270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lotinib + Bexarote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4"/>
            <p:cNvSpPr/>
            <p:nvPr/>
          </p:nvSpPr>
          <p:spPr>
            <a:xfrm>
              <a:off x="8493840" y="5459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1994040" y="5284800"/>
            <a:ext cx="1428480" cy="565200"/>
            <a:chOff x="1994040" y="5284800"/>
            <a:chExt cx="1428480" cy="565200"/>
          </a:xfrm>
        </p:grpSpPr>
        <p:sp>
          <p:nvSpPr>
            <p:cNvPr id="427" name="Rectangle 26"/>
            <p:cNvSpPr/>
            <p:nvPr/>
          </p:nvSpPr>
          <p:spPr>
            <a:xfrm>
              <a:off x="1994040" y="5284800"/>
              <a:ext cx="1428480" cy="565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2141640" y="5443560"/>
              <a:ext cx="117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rafen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8"/>
            <p:cNvSpPr/>
            <p:nvPr/>
          </p:nvSpPr>
          <p:spPr>
            <a:xfrm>
              <a:off x="3290040" y="54435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29"/>
          <p:cNvSpPr/>
          <p:nvPr/>
        </p:nvSpPr>
        <p:spPr>
          <a:xfrm>
            <a:off x="1143000" y="2333520"/>
            <a:ext cx="7139160" cy="581040"/>
          </a:xfrm>
          <a:prstGeom prst="rect">
            <a:avLst/>
          </a:prstGeom>
          <a:solidFill>
            <a:srgbClr val="b26b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1893600" y="2425680"/>
            <a:ext cx="5683680" cy="305280"/>
          </a:xfrm>
          <a:prstGeom prst="rect">
            <a:avLst/>
          </a:pr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marker Profile and Adaptive Rand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1"/>
          <p:cNvGrpSpPr/>
          <p:nvPr/>
        </p:nvGrpSpPr>
        <p:grpSpPr>
          <a:xfrm>
            <a:off x="1143000" y="993600"/>
            <a:ext cx="7139160" cy="1216080"/>
            <a:chOff x="1143000" y="993600"/>
            <a:chExt cx="7139160" cy="1216080"/>
          </a:xfrm>
        </p:grpSpPr>
        <p:sp>
          <p:nvSpPr>
            <p:cNvPr id="433" name="Rectangle 32"/>
            <p:cNvSpPr/>
            <p:nvPr/>
          </p:nvSpPr>
          <p:spPr>
            <a:xfrm>
              <a:off x="1143000" y="1600200"/>
              <a:ext cx="7139160" cy="579240"/>
            </a:xfrm>
            <a:prstGeom prst="rect">
              <a:avLst/>
            </a:prstGeom>
            <a:solidFill>
              <a:srgbClr val="3366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3"/>
            <p:cNvSpPr/>
            <p:nvPr/>
          </p:nvSpPr>
          <p:spPr>
            <a:xfrm>
              <a:off x="2092320" y="1692000"/>
              <a:ext cx="519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rollment into BATTLE Umbrella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4"/>
            <p:cNvSpPr/>
            <p:nvPr/>
          </p:nvSpPr>
          <p:spPr>
            <a:xfrm>
              <a:off x="6984720" y="9936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>
              <a:off x="4718160" y="1822320"/>
              <a:ext cx="3240" cy="2221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6"/>
            <p:cNvSpPr/>
            <p:nvPr/>
          </p:nvSpPr>
          <p:spPr>
            <a:xfrm>
              <a:off x="4626000" y="2039760"/>
              <a:ext cx="187560" cy="169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38"/>
          <p:cNvSpPr/>
          <p:nvPr/>
        </p:nvSpPr>
        <p:spPr>
          <a:xfrm>
            <a:off x="1887840" y="6103800"/>
            <a:ext cx="5639400" cy="2746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:  Progression-free survival rate at 8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39" descr=""/>
          <p:cNvPicPr/>
          <p:nvPr/>
        </p:nvPicPr>
        <p:blipFill>
          <a:blip r:embed="rId1"/>
          <a:stretch/>
        </p:blipFill>
        <p:spPr>
          <a:xfrm>
            <a:off x="1157400" y="2905200"/>
            <a:ext cx="7116480" cy="1819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9"/>
          <p:cNvSpPr/>
          <p:nvPr/>
        </p:nvSpPr>
        <p:spPr>
          <a:xfrm>
            <a:off x="5412960" y="643896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, Herbst, Wistuba, Hong et 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: biomarker-driven personalized cancer therap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evelop an EMT sign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old-standard for determining if tumor cell is epithelial-like or mesenchymal-like, despite an association with clinical outcome and response to certain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new genes/proteins/pathways involved with EMT (and potential therapeutic targets of EM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ignature that can robustly predict EMT phenotype across different microarray platforms and different epithelial tumo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ell lines are classified as E-like or M-like, investigate associations between EMT phenotype and dru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T signature is predictive of DC in BATTLE patients with wt EGFR/wtKras treated with erlotini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ao.png"/>
          <p:cNvPicPr/>
          <p:nvPr/>
        </p:nvPicPr>
        <p:blipFill>
          <a:blip r:embed="rId1"/>
          <a:srcRect l="0" t="0" r="0" b="21673"/>
          <a:stretch/>
        </p:blipFill>
        <p:spPr>
          <a:xfrm>
            <a:off x="166680" y="1851120"/>
            <a:ext cx="8748720" cy="32544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3581280" y="5181480"/>
            <a:ext cx="178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epithel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esenchy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601992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T signature is not predictive of DC in 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 expression signatures show promise for risk stratification (in combination with clinical staging) and potentially for predicting benefit from AC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 expression signatures for predicting drug response are fea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when oncogenic driver is not targ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T and wt EGFR signatures predict DC in wt EGFR BATTLE patients treated with erlotin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stacles remain for routine clinical application of signa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ssues; FFPE vs frozen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, standardized data sets ar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gnatures may provide information about pathways, targ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e expression signatures for lung cancer: what does the future h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520" y="198108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gene expression signatures that are validated for routine clinical use in NSCL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ion is very hard, especially about the future - Yogi B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ight signatures be usefu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sk stra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are presumed to be molecular features of the tumor that predict risk independent of, or in addition to, clinical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ng 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ticularly for tumors without defined targetable mutations (e.g. virtually all except EGFR mutations and EML4-ALK fus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protein or gene markers may give incomplet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standing biology of tum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athways active in a t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y new therapeutic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utility of signatures in early stage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657600" y="1689120"/>
            <a:ext cx="1465200" cy="1373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ly stage NS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3"/>
          <p:cNvGrpSpPr/>
          <p:nvPr/>
        </p:nvGrpSpPr>
        <p:grpSpPr>
          <a:xfrm>
            <a:off x="5321160" y="1930320"/>
            <a:ext cx="1447920" cy="959040"/>
            <a:chOff x="5321160" y="1930320"/>
            <a:chExt cx="1447920" cy="959040"/>
          </a:xfrm>
        </p:grpSpPr>
        <p:sp>
          <p:nvSpPr>
            <p:cNvPr id="229" name="Freeform 19"/>
            <p:cNvSpPr/>
            <p:nvPr/>
          </p:nvSpPr>
          <p:spPr>
            <a:xfrm>
              <a:off x="5767560" y="201924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332320" y="193032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5629320" y="2127240"/>
              <a:ext cx="3142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5486400" y="206064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570060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5321160" y="2160720"/>
              <a:ext cx="316080" cy="50148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540864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6453360" y="201924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6018120" y="193032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6315120" y="2127240"/>
              <a:ext cx="3142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"/>
            <p:cNvSpPr/>
            <p:nvPr/>
          </p:nvSpPr>
          <p:spPr>
            <a:xfrm>
              <a:off x="6172200" y="206064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0"/>
            <p:cNvSpPr/>
            <p:nvPr/>
          </p:nvSpPr>
          <p:spPr>
            <a:xfrm>
              <a:off x="638640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1"/>
            <p:cNvSpPr/>
            <p:nvPr/>
          </p:nvSpPr>
          <p:spPr>
            <a:xfrm>
              <a:off x="6006960" y="2160720"/>
              <a:ext cx="316080" cy="50148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"/>
            <p:cNvSpPr/>
            <p:nvPr/>
          </p:nvSpPr>
          <p:spPr>
            <a:xfrm>
              <a:off x="5996160" y="2387520"/>
              <a:ext cx="31572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4"/>
          <p:cNvSpPr/>
          <p:nvPr/>
        </p:nvSpPr>
        <p:spPr>
          <a:xfrm>
            <a:off x="1638360" y="3454560"/>
            <a:ext cx="1463760" cy="703800"/>
          </a:xfrm>
          <a:prstGeom prst="rect">
            <a:avLst/>
          </a:prstGeom>
          <a:solidFill>
            <a:srgbClr val="00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Low risk of re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5"/>
          <p:cNvSpPr/>
          <p:nvPr/>
        </p:nvSpPr>
        <p:spPr>
          <a:xfrm>
            <a:off x="635040" y="341316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6"/>
          <p:cNvSpPr/>
          <p:nvPr/>
        </p:nvSpPr>
        <p:spPr>
          <a:xfrm>
            <a:off x="863640" y="336564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7"/>
          <p:cNvSpPr/>
          <p:nvPr/>
        </p:nvSpPr>
        <p:spPr>
          <a:xfrm>
            <a:off x="1015920" y="3517920"/>
            <a:ext cx="31608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8"/>
          <p:cNvSpPr/>
          <p:nvPr/>
        </p:nvSpPr>
        <p:spPr>
          <a:xfrm>
            <a:off x="863640" y="367020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9"/>
          <p:cNvSpPr/>
          <p:nvPr/>
        </p:nvSpPr>
        <p:spPr>
          <a:xfrm>
            <a:off x="558720" y="3670200"/>
            <a:ext cx="31608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0"/>
          <p:cNvSpPr/>
          <p:nvPr/>
        </p:nvSpPr>
        <p:spPr>
          <a:xfrm>
            <a:off x="1168560" y="367020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1"/>
          <p:cNvGrpSpPr/>
          <p:nvPr/>
        </p:nvGrpSpPr>
        <p:grpSpPr>
          <a:xfrm>
            <a:off x="6207120" y="3195720"/>
            <a:ext cx="2326680" cy="1205640"/>
            <a:chOff x="6207120" y="3195720"/>
            <a:chExt cx="2326680" cy="1205640"/>
          </a:xfrm>
        </p:grpSpPr>
        <p:sp>
          <p:nvSpPr>
            <p:cNvPr id="251" name="Freeform 15"/>
            <p:cNvSpPr/>
            <p:nvPr/>
          </p:nvSpPr>
          <p:spPr>
            <a:xfrm>
              <a:off x="7937280" y="3195720"/>
              <a:ext cx="316080" cy="499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1"/>
            <p:cNvGrpSpPr/>
            <p:nvPr/>
          </p:nvGrpSpPr>
          <p:grpSpPr>
            <a:xfrm>
              <a:off x="6207120" y="3235320"/>
              <a:ext cx="2326680" cy="1166040"/>
              <a:chOff x="6207120" y="3235320"/>
              <a:chExt cx="2326680" cy="1166040"/>
            </a:xfrm>
          </p:grpSpPr>
          <p:sp>
            <p:nvSpPr>
              <p:cNvPr id="253" name="Text Box 42"/>
              <p:cNvSpPr/>
              <p:nvPr/>
            </p:nvSpPr>
            <p:spPr>
              <a:xfrm>
                <a:off x="6207120" y="3471480"/>
                <a:ext cx="1463400" cy="398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61616"/>
                    </a:solidFill>
                    <a:latin typeface="Arial"/>
                    <a:ea typeface="Arial"/>
                  </a:rPr>
                  <a:t>High ris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3"/>
              <p:cNvSpPr/>
              <p:nvPr/>
            </p:nvSpPr>
            <p:spPr>
              <a:xfrm>
                <a:off x="8132400" y="3323520"/>
                <a:ext cx="315720" cy="5000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4"/>
              <p:cNvSpPr/>
              <p:nvPr/>
            </p:nvSpPr>
            <p:spPr>
              <a:xfrm>
                <a:off x="7697520" y="323532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5"/>
              <p:cNvSpPr/>
              <p:nvPr/>
            </p:nvSpPr>
            <p:spPr>
              <a:xfrm>
                <a:off x="7994520" y="3431520"/>
                <a:ext cx="313920" cy="4996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"/>
              <p:cNvSpPr/>
              <p:nvPr/>
            </p:nvSpPr>
            <p:spPr>
              <a:xfrm>
                <a:off x="8065800" y="359532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7"/>
              <p:cNvSpPr/>
              <p:nvPr/>
            </p:nvSpPr>
            <p:spPr>
              <a:xfrm>
                <a:off x="7686360" y="346500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8"/>
              <p:cNvSpPr/>
              <p:nvPr/>
            </p:nvSpPr>
            <p:spPr>
              <a:xfrm>
                <a:off x="7773840" y="3598200"/>
                <a:ext cx="315360" cy="501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9"/>
              <p:cNvSpPr/>
              <p:nvPr/>
            </p:nvSpPr>
            <p:spPr>
              <a:xfrm>
                <a:off x="7914960" y="374760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0"/>
              <p:cNvSpPr/>
              <p:nvPr/>
            </p:nvSpPr>
            <p:spPr>
              <a:xfrm>
                <a:off x="8218440" y="3747600"/>
                <a:ext cx="31536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1"/>
              <p:cNvSpPr/>
              <p:nvPr/>
            </p:nvSpPr>
            <p:spPr>
              <a:xfrm>
                <a:off x="8067600" y="3899880"/>
                <a:ext cx="315360" cy="501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Line 75"/>
          <p:cNvSpPr/>
          <p:nvPr/>
        </p:nvSpPr>
        <p:spPr>
          <a:xfrm flipH="1">
            <a:off x="2292120" y="4230720"/>
            <a:ext cx="468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6"/>
          <p:cNvSpPr/>
          <p:nvPr/>
        </p:nvSpPr>
        <p:spPr>
          <a:xfrm>
            <a:off x="1752480" y="4800600"/>
            <a:ext cx="14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juvan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7"/>
          <p:cNvSpPr/>
          <p:nvPr/>
        </p:nvSpPr>
        <p:spPr>
          <a:xfrm>
            <a:off x="3605040" y="3454560"/>
            <a:ext cx="20955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risk stra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5"/>
          <p:cNvSpPr/>
          <p:nvPr/>
        </p:nvSpPr>
        <p:spPr>
          <a:xfrm flipH="1">
            <a:off x="4424400" y="3116160"/>
            <a:ext cx="648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5"/>
          <p:cNvSpPr/>
          <p:nvPr/>
        </p:nvSpPr>
        <p:spPr>
          <a:xfrm flipV="1">
            <a:off x="3139920" y="3645000"/>
            <a:ext cx="406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5"/>
          <p:cNvSpPr/>
          <p:nvPr/>
        </p:nvSpPr>
        <p:spPr>
          <a:xfrm flipV="1">
            <a:off x="5743440" y="3645000"/>
            <a:ext cx="406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7"/>
          <p:cNvGrpSpPr/>
          <p:nvPr/>
        </p:nvGrpSpPr>
        <p:grpSpPr>
          <a:xfrm>
            <a:off x="7696080" y="2743200"/>
            <a:ext cx="468360" cy="1643040"/>
            <a:chOff x="7696080" y="2743200"/>
            <a:chExt cx="468360" cy="1643040"/>
          </a:xfrm>
        </p:grpSpPr>
        <p:sp>
          <p:nvSpPr>
            <p:cNvPr id="270" name="Freeform 38"/>
            <p:cNvSpPr/>
            <p:nvPr/>
          </p:nvSpPr>
          <p:spPr>
            <a:xfrm>
              <a:off x="7696080" y="388620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848360" y="274320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75"/>
          <p:cNvSpPr/>
          <p:nvPr/>
        </p:nvSpPr>
        <p:spPr>
          <a:xfrm flipH="1">
            <a:off x="6960960" y="4267080"/>
            <a:ext cx="468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6188040" y="4979880"/>
            <a:ext cx="227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van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atinum doublet; histology 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3581280" y="4226040"/>
            <a:ext cx="20955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risk stra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66"/>
          <p:cNvGrpSpPr/>
          <p:nvPr/>
        </p:nvGrpSpPr>
        <p:grpSpPr>
          <a:xfrm>
            <a:off x="369720" y="2895480"/>
            <a:ext cx="468360" cy="1643040"/>
            <a:chOff x="369720" y="2895480"/>
            <a:chExt cx="468360" cy="1643040"/>
          </a:xfrm>
        </p:grpSpPr>
        <p:sp>
          <p:nvSpPr>
            <p:cNvPr id="276" name="Freeform 38"/>
            <p:cNvSpPr/>
            <p:nvPr/>
          </p:nvSpPr>
          <p:spPr>
            <a:xfrm>
              <a:off x="369720" y="4038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522000" y="2895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69"/>
          <p:cNvGrpSpPr/>
          <p:nvPr/>
        </p:nvGrpSpPr>
        <p:grpSpPr>
          <a:xfrm>
            <a:off x="8447040" y="3124080"/>
            <a:ext cx="327240" cy="1414440"/>
            <a:chOff x="8447040" y="3124080"/>
            <a:chExt cx="327240" cy="1414440"/>
          </a:xfrm>
        </p:grpSpPr>
        <p:sp>
          <p:nvSpPr>
            <p:cNvPr id="279" name="Freeform 38"/>
            <p:cNvSpPr/>
            <p:nvPr/>
          </p:nvSpPr>
          <p:spPr>
            <a:xfrm>
              <a:off x="8457840" y="3124080"/>
              <a:ext cx="31644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8447040" y="4038480"/>
              <a:ext cx="31644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8"/>
          <p:cNvGrpSpPr/>
          <p:nvPr/>
        </p:nvGrpSpPr>
        <p:grpSpPr>
          <a:xfrm>
            <a:off x="1273320" y="3124080"/>
            <a:ext cx="326880" cy="1414440"/>
            <a:chOff x="1273320" y="3124080"/>
            <a:chExt cx="326880" cy="1414440"/>
          </a:xfrm>
        </p:grpSpPr>
        <p:sp>
          <p:nvSpPr>
            <p:cNvPr id="282" name="Freeform 38"/>
            <p:cNvSpPr/>
            <p:nvPr/>
          </p:nvSpPr>
          <p:spPr>
            <a:xfrm>
              <a:off x="1284120" y="31240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1273320" y="4038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96"/>
          <p:cNvSpPr/>
          <p:nvPr/>
        </p:nvSpPr>
        <p:spPr>
          <a:xfrm>
            <a:off x="6172200" y="5029200"/>
            <a:ext cx="2270160" cy="131364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adjuvant therapy (mutations, signatur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utility for signature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st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ext Box 3" descr=""/>
          <p:cNvPicPr/>
          <p:nvPr/>
        </p:nvPicPr>
        <p:blipFill>
          <a:blip r:embed="rId1"/>
          <a:stretch/>
        </p:blipFill>
        <p:spPr>
          <a:xfrm>
            <a:off x="3193920" y="1657440"/>
            <a:ext cx="1474920" cy="5317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78"/>
          <p:cNvGrpSpPr/>
          <p:nvPr/>
        </p:nvGrpSpPr>
        <p:grpSpPr>
          <a:xfrm>
            <a:off x="3733920" y="3505320"/>
            <a:ext cx="2678040" cy="2672640"/>
            <a:chOff x="3733920" y="3505320"/>
            <a:chExt cx="2678040" cy="2672640"/>
          </a:xfrm>
        </p:grpSpPr>
        <p:sp>
          <p:nvSpPr>
            <p:cNvPr id="288" name="Text Box 6"/>
            <p:cNvSpPr/>
            <p:nvPr/>
          </p:nvSpPr>
          <p:spPr>
            <a:xfrm>
              <a:off x="3733920" y="4357800"/>
              <a:ext cx="99036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d07"/>
                  </a:solidFill>
                  <a:latin typeface="Arial"/>
                  <a:ea typeface="Arial"/>
                </a:rPr>
                <a:t>EGFR T790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4876920" y="4357800"/>
              <a:ext cx="1066680" cy="580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 ampl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9"/>
            <p:cNvSpPr/>
            <p:nvPr/>
          </p:nvSpPr>
          <p:spPr>
            <a:xfrm>
              <a:off x="5105520" y="5840640"/>
              <a:ext cx="1066680" cy="33732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3ded1"/>
                  </a:solidFill>
                  <a:latin typeface="Arial"/>
                  <a:ea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3975120" y="3748320"/>
              <a:ext cx="315720" cy="500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6095880" y="519588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3809880" y="3767400"/>
              <a:ext cx="316080" cy="500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52"/>
            <p:cNvGrpSpPr/>
            <p:nvPr/>
          </p:nvGrpSpPr>
          <p:grpSpPr>
            <a:xfrm>
              <a:off x="4419720" y="3505320"/>
              <a:ext cx="685800" cy="700200"/>
              <a:chOff x="4419720" y="3505320"/>
              <a:chExt cx="685800" cy="700200"/>
            </a:xfrm>
          </p:grpSpPr>
          <p:sp>
            <p:nvSpPr>
              <p:cNvPr id="295" name="Line 53"/>
              <p:cNvSpPr/>
              <p:nvPr/>
            </p:nvSpPr>
            <p:spPr>
              <a:xfrm>
                <a:off x="4753080" y="35053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54"/>
              <p:cNvSpPr/>
              <p:nvPr/>
            </p:nvSpPr>
            <p:spPr>
              <a:xfrm>
                <a:off x="4419720" y="4205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5"/>
            <p:cNvSpPr/>
            <p:nvPr/>
          </p:nvSpPr>
          <p:spPr>
            <a:xfrm>
              <a:off x="5475240" y="3748320"/>
              <a:ext cx="316080" cy="5000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6"/>
            <p:cNvSpPr/>
            <p:nvPr/>
          </p:nvSpPr>
          <p:spPr>
            <a:xfrm>
              <a:off x="5310360" y="3767400"/>
              <a:ext cx="315720" cy="5000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9"/>
            <p:cNvSpPr/>
            <p:nvPr/>
          </p:nvSpPr>
          <p:spPr>
            <a:xfrm>
              <a:off x="5257800" y="527220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0"/>
            <p:cNvSpPr/>
            <p:nvPr/>
          </p:nvSpPr>
          <p:spPr>
            <a:xfrm>
              <a:off x="5486400" y="522936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1"/>
            <p:cNvSpPr/>
            <p:nvPr/>
          </p:nvSpPr>
          <p:spPr>
            <a:xfrm>
              <a:off x="5791320" y="527220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77"/>
          <p:cNvGrpSpPr/>
          <p:nvPr/>
        </p:nvGrpSpPr>
        <p:grpSpPr>
          <a:xfrm>
            <a:off x="60480" y="3352680"/>
            <a:ext cx="3520440" cy="2289240"/>
            <a:chOff x="60480" y="3352680"/>
            <a:chExt cx="3520440" cy="2289240"/>
          </a:xfrm>
        </p:grpSpPr>
        <p:sp>
          <p:nvSpPr>
            <p:cNvPr id="303" name="Text Box 4"/>
            <p:cNvSpPr/>
            <p:nvPr/>
          </p:nvSpPr>
          <p:spPr>
            <a:xfrm>
              <a:off x="60480" y="3962520"/>
              <a:ext cx="14641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quam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2118240" y="3962520"/>
              <a:ext cx="1462680" cy="703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d07"/>
                  </a:solidFill>
                  <a:latin typeface="Arial"/>
                  <a:ea typeface="Arial"/>
                </a:rPr>
                <a:t>Non-squam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1220040" y="3352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2134080" y="3352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2"/>
            <p:cNvSpPr/>
            <p:nvPr/>
          </p:nvSpPr>
          <p:spPr>
            <a:xfrm>
              <a:off x="2884320" y="4865760"/>
              <a:ext cx="3157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3"/>
            <p:cNvSpPr/>
            <p:nvPr/>
          </p:nvSpPr>
          <p:spPr>
            <a:xfrm>
              <a:off x="2449800" y="4776840"/>
              <a:ext cx="31536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4"/>
            <p:cNvSpPr/>
            <p:nvPr/>
          </p:nvSpPr>
          <p:spPr>
            <a:xfrm>
              <a:off x="2702160" y="4724280"/>
              <a:ext cx="3157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5"/>
            <p:cNvSpPr/>
            <p:nvPr/>
          </p:nvSpPr>
          <p:spPr>
            <a:xfrm>
              <a:off x="2746800" y="4973760"/>
              <a:ext cx="3139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2818080" y="5137200"/>
              <a:ext cx="31572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438640" y="5006880"/>
              <a:ext cx="315720" cy="5018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8"/>
            <p:cNvSpPr/>
            <p:nvPr/>
          </p:nvSpPr>
          <p:spPr>
            <a:xfrm>
              <a:off x="2526120" y="5140440"/>
              <a:ext cx="31536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9"/>
            <p:cNvSpPr/>
            <p:nvPr/>
          </p:nvSpPr>
          <p:spPr>
            <a:xfrm>
              <a:off x="3047760" y="4800600"/>
              <a:ext cx="31572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0"/>
            <p:cNvSpPr/>
            <p:nvPr/>
          </p:nvSpPr>
          <p:spPr>
            <a:xfrm>
              <a:off x="674280" y="4813200"/>
              <a:ext cx="317160" cy="500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1"/>
            <p:cNvSpPr/>
            <p:nvPr/>
          </p:nvSpPr>
          <p:spPr>
            <a:xfrm>
              <a:off x="239400" y="4724280"/>
              <a:ext cx="315720" cy="5018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2"/>
            <p:cNvSpPr/>
            <p:nvPr/>
          </p:nvSpPr>
          <p:spPr>
            <a:xfrm>
              <a:off x="536400" y="4921200"/>
              <a:ext cx="315360" cy="500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3"/>
            <p:cNvSpPr/>
            <p:nvPr/>
          </p:nvSpPr>
          <p:spPr>
            <a:xfrm>
              <a:off x="228240" y="4954680"/>
              <a:ext cx="315720" cy="5014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95"/>
          <p:cNvGrpSpPr/>
          <p:nvPr/>
        </p:nvGrpSpPr>
        <p:grpSpPr>
          <a:xfrm>
            <a:off x="3941640" y="2249640"/>
            <a:ext cx="3538440" cy="1984320"/>
            <a:chOff x="3941640" y="2249640"/>
            <a:chExt cx="3538440" cy="1984320"/>
          </a:xfrm>
        </p:grpSpPr>
        <p:sp>
          <p:nvSpPr>
            <p:cNvPr id="320" name="Line 75"/>
            <p:cNvSpPr/>
            <p:nvPr/>
          </p:nvSpPr>
          <p:spPr>
            <a:xfrm>
              <a:off x="3941640" y="2249640"/>
              <a:ext cx="2830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9"/>
            <p:cNvGrpSpPr/>
            <p:nvPr/>
          </p:nvGrpSpPr>
          <p:grpSpPr>
            <a:xfrm>
              <a:off x="6016680" y="2803680"/>
              <a:ext cx="1463400" cy="1430280"/>
              <a:chOff x="6016680" y="2803680"/>
              <a:chExt cx="1463400" cy="1430280"/>
            </a:xfrm>
          </p:grpSpPr>
          <p:sp>
            <p:nvSpPr>
              <p:cNvPr id="322" name="Text Box 10"/>
              <p:cNvSpPr/>
              <p:nvPr/>
            </p:nvSpPr>
            <p:spPr>
              <a:xfrm>
                <a:off x="6016680" y="2803680"/>
                <a:ext cx="1463400" cy="703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ML4-ALK fu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74"/>
              <p:cNvSpPr/>
              <p:nvPr/>
            </p:nvSpPr>
            <p:spPr>
              <a:xfrm>
                <a:off x="6783480" y="3733920"/>
                <a:ext cx="315720" cy="500040"/>
              </a:xfrm>
              <a:prstGeom prst="pie">
                <a:avLst/>
              </a:prstGeom>
              <a:solidFill>
                <a:srgbClr val="33cccc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98"/>
          <p:cNvGrpSpPr/>
          <p:nvPr/>
        </p:nvGrpSpPr>
        <p:grpSpPr>
          <a:xfrm>
            <a:off x="3537000" y="2247840"/>
            <a:ext cx="2241000" cy="1259640"/>
            <a:chOff x="3537000" y="2247840"/>
            <a:chExt cx="2241000" cy="1259640"/>
          </a:xfrm>
        </p:grpSpPr>
        <p:grpSp>
          <p:nvGrpSpPr>
            <p:cNvPr id="325" name="Group 84"/>
            <p:cNvGrpSpPr/>
            <p:nvPr/>
          </p:nvGrpSpPr>
          <p:grpSpPr>
            <a:xfrm>
              <a:off x="3537000" y="2527200"/>
              <a:ext cx="2241000" cy="980280"/>
              <a:chOff x="3537000" y="2527200"/>
              <a:chExt cx="2241000" cy="980280"/>
            </a:xfrm>
          </p:grpSpPr>
          <p:sp>
            <p:nvSpPr>
              <p:cNvPr id="326" name="Freeform 15"/>
              <p:cNvSpPr/>
              <p:nvPr/>
            </p:nvSpPr>
            <p:spPr>
              <a:xfrm>
                <a:off x="5267160" y="2527200"/>
                <a:ext cx="316080" cy="5000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41"/>
              <p:cNvGrpSpPr/>
              <p:nvPr/>
            </p:nvGrpSpPr>
            <p:grpSpPr>
              <a:xfrm>
                <a:off x="3537000" y="2567160"/>
                <a:ext cx="2241000" cy="940320"/>
                <a:chOff x="3537000" y="2567160"/>
                <a:chExt cx="2241000" cy="940320"/>
              </a:xfrm>
            </p:grpSpPr>
            <p:sp>
              <p:nvSpPr>
                <p:cNvPr id="328" name="Text Box 42"/>
                <p:cNvSpPr/>
                <p:nvPr/>
              </p:nvSpPr>
              <p:spPr>
                <a:xfrm>
                  <a:off x="3537000" y="2803680"/>
                  <a:ext cx="1463400" cy="70380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d07"/>
                      </a:solidFill>
                      <a:latin typeface="Arial"/>
                      <a:ea typeface="Arial"/>
                    </a:rPr>
                    <a:t>EGFR mut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5462280" y="2655720"/>
                  <a:ext cx="315720" cy="50040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5027400" y="2567160"/>
                  <a:ext cx="315720" cy="5014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5324400" y="2763720"/>
                  <a:ext cx="313920" cy="5000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47"/>
                <p:cNvSpPr/>
                <p:nvPr/>
              </p:nvSpPr>
              <p:spPr>
                <a:xfrm>
                  <a:off x="5016240" y="2797200"/>
                  <a:ext cx="315720" cy="5014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Line 11"/>
            <p:cNvSpPr/>
            <p:nvPr/>
          </p:nvSpPr>
          <p:spPr>
            <a:xfrm>
              <a:off x="3976560" y="2247840"/>
              <a:ext cx="2685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96"/>
          <p:cNvGrpSpPr/>
          <p:nvPr/>
        </p:nvGrpSpPr>
        <p:grpSpPr>
          <a:xfrm>
            <a:off x="3963960" y="2232000"/>
            <a:ext cx="5091120" cy="2484360"/>
            <a:chOff x="3963960" y="2232000"/>
            <a:chExt cx="5091120" cy="2484360"/>
          </a:xfrm>
        </p:grpSpPr>
        <p:sp>
          <p:nvSpPr>
            <p:cNvPr id="335" name="Text Box 10"/>
            <p:cNvSpPr/>
            <p:nvPr/>
          </p:nvSpPr>
          <p:spPr>
            <a:xfrm>
              <a:off x="7591320" y="2803680"/>
              <a:ext cx="1463760" cy="1008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AS, other driv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4"/>
            <p:cNvSpPr/>
            <p:nvPr/>
          </p:nvSpPr>
          <p:spPr>
            <a:xfrm>
              <a:off x="8358120" y="3911760"/>
              <a:ext cx="31608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4"/>
            <p:cNvSpPr/>
            <p:nvPr/>
          </p:nvSpPr>
          <p:spPr>
            <a:xfrm>
              <a:off x="8510760" y="4064040"/>
              <a:ext cx="31572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8244000" y="4216320"/>
              <a:ext cx="31572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74"/>
            <p:cNvSpPr/>
            <p:nvPr/>
          </p:nvSpPr>
          <p:spPr>
            <a:xfrm>
              <a:off x="8078760" y="4013280"/>
              <a:ext cx="31608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5"/>
            <p:cNvSpPr/>
            <p:nvPr/>
          </p:nvSpPr>
          <p:spPr>
            <a:xfrm>
              <a:off x="3963960" y="2232000"/>
              <a:ext cx="4319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571680" y="1709640"/>
            <a:ext cx="3367080" cy="1797480"/>
            <a:chOff x="571680" y="1709640"/>
            <a:chExt cx="3367080" cy="1797480"/>
          </a:xfrm>
        </p:grpSpPr>
        <p:grpSp>
          <p:nvGrpSpPr>
            <p:cNvPr id="342" name="Group 97"/>
            <p:cNvGrpSpPr/>
            <p:nvPr/>
          </p:nvGrpSpPr>
          <p:grpSpPr>
            <a:xfrm>
              <a:off x="571680" y="1904760"/>
              <a:ext cx="3367080" cy="1602360"/>
              <a:chOff x="571680" y="1904760"/>
              <a:chExt cx="3367080" cy="1602360"/>
            </a:xfrm>
          </p:grpSpPr>
          <p:sp>
            <p:nvSpPr>
              <p:cNvPr id="343" name="Line 11"/>
              <p:cNvSpPr/>
              <p:nvPr/>
            </p:nvSpPr>
            <p:spPr>
              <a:xfrm flipH="1">
                <a:off x="2103480" y="2246040"/>
                <a:ext cx="1835280" cy="42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33"/>
              <p:cNvGrpSpPr/>
              <p:nvPr/>
            </p:nvGrpSpPr>
            <p:grpSpPr>
              <a:xfrm>
                <a:off x="571680" y="1904760"/>
                <a:ext cx="1463400" cy="1602360"/>
                <a:chOff x="571680" y="1904760"/>
                <a:chExt cx="1463400" cy="1602360"/>
              </a:xfrm>
            </p:grpSpPr>
            <p:sp>
              <p:nvSpPr>
                <p:cNvPr id="345" name="Text Box 34"/>
                <p:cNvSpPr/>
                <p:nvPr/>
              </p:nvSpPr>
              <p:spPr>
                <a:xfrm>
                  <a:off x="571680" y="2803320"/>
                  <a:ext cx="1463400" cy="703800"/>
                </a:xfrm>
                <a:prstGeom prst="rect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d07"/>
                      </a:solidFill>
                      <a:latin typeface="Arial"/>
                      <a:ea typeface="Arial"/>
                    </a:rPr>
                    <a:t>EGFR wild-typ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799920" y="195228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028520" y="190476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7"/>
                <p:cNvSpPr/>
                <p:nvPr/>
              </p:nvSpPr>
              <p:spPr>
                <a:xfrm>
                  <a:off x="1180800" y="205704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8"/>
                <p:cNvSpPr/>
                <p:nvPr/>
              </p:nvSpPr>
              <p:spPr>
                <a:xfrm>
                  <a:off x="1028520" y="220932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9"/>
                <p:cNvSpPr/>
                <p:nvPr/>
              </p:nvSpPr>
              <p:spPr>
                <a:xfrm>
                  <a:off x="723600" y="220932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40"/>
                <p:cNvSpPr/>
                <p:nvPr/>
              </p:nvSpPr>
              <p:spPr>
                <a:xfrm>
                  <a:off x="1333440" y="2209320"/>
                  <a:ext cx="31536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Group 119"/>
            <p:cNvGrpSpPr/>
            <p:nvPr/>
          </p:nvGrpSpPr>
          <p:grpSpPr>
            <a:xfrm>
              <a:off x="1360440" y="1709640"/>
              <a:ext cx="772920" cy="1000080"/>
              <a:chOff x="1360440" y="1709640"/>
              <a:chExt cx="772920" cy="1000080"/>
            </a:xfrm>
          </p:grpSpPr>
          <p:sp>
            <p:nvSpPr>
              <p:cNvPr id="353" name="Freeform 36"/>
              <p:cNvSpPr/>
              <p:nvPr/>
            </p:nvSpPr>
            <p:spPr>
              <a:xfrm>
                <a:off x="1360440" y="190476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7"/>
              <p:cNvSpPr/>
              <p:nvPr/>
            </p:nvSpPr>
            <p:spPr>
              <a:xfrm>
                <a:off x="1512720" y="205740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38"/>
              <p:cNvSpPr/>
              <p:nvPr/>
            </p:nvSpPr>
            <p:spPr>
              <a:xfrm>
                <a:off x="1360440" y="220968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0"/>
              <p:cNvSpPr/>
              <p:nvPr/>
            </p:nvSpPr>
            <p:spPr>
              <a:xfrm>
                <a:off x="1665000" y="220968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36"/>
              <p:cNvSpPr/>
              <p:nvPr/>
            </p:nvSpPr>
            <p:spPr>
              <a:xfrm>
                <a:off x="1665000" y="170964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1817640" y="186192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1665000" y="201420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Freeform 37"/>
          <p:cNvSpPr/>
          <p:nvPr/>
        </p:nvSpPr>
        <p:spPr>
          <a:xfrm>
            <a:off x="4724280" y="12193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7"/>
          <p:cNvSpPr/>
          <p:nvPr/>
        </p:nvSpPr>
        <p:spPr>
          <a:xfrm>
            <a:off x="4876920" y="13716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7"/>
          <p:cNvSpPr/>
          <p:nvPr/>
        </p:nvSpPr>
        <p:spPr>
          <a:xfrm>
            <a:off x="5029200" y="152388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7"/>
          <p:cNvSpPr/>
          <p:nvPr/>
        </p:nvSpPr>
        <p:spPr>
          <a:xfrm>
            <a:off x="5181480" y="16765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7"/>
          <p:cNvSpPr/>
          <p:nvPr/>
        </p:nvSpPr>
        <p:spPr>
          <a:xfrm>
            <a:off x="4800600" y="16002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7"/>
          <p:cNvSpPr/>
          <p:nvPr/>
        </p:nvSpPr>
        <p:spPr>
          <a:xfrm>
            <a:off x="5334120" y="18288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7"/>
          <p:cNvSpPr/>
          <p:nvPr/>
        </p:nvSpPr>
        <p:spPr>
          <a:xfrm>
            <a:off x="5334120" y="15238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5181480" y="13716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563868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7"/>
          <p:cNvSpPr/>
          <p:nvPr/>
        </p:nvSpPr>
        <p:spPr>
          <a:xfrm>
            <a:off x="55515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7"/>
          <p:cNvSpPr/>
          <p:nvPr/>
        </p:nvSpPr>
        <p:spPr>
          <a:xfrm>
            <a:off x="54864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7"/>
          <p:cNvSpPr/>
          <p:nvPr/>
        </p:nvSpPr>
        <p:spPr>
          <a:xfrm>
            <a:off x="585612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7"/>
          <p:cNvSpPr/>
          <p:nvPr/>
        </p:nvSpPr>
        <p:spPr>
          <a:xfrm>
            <a:off x="50292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5791320" y="14050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7"/>
          <p:cNvSpPr/>
          <p:nvPr/>
        </p:nvSpPr>
        <p:spPr>
          <a:xfrm>
            <a:off x="60087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1"/>
          <p:cNvSpPr/>
          <p:nvPr/>
        </p:nvSpPr>
        <p:spPr>
          <a:xfrm>
            <a:off x="1676520" y="6019920"/>
            <a:ext cx="2819160" cy="703800"/>
          </a:xfrm>
          <a:prstGeom prst="rect">
            <a:avLst/>
          </a:prstGeom>
          <a:solidFill>
            <a:srgbClr val="e3ded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rs for treatment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21"/>
          <p:cNvGrpSpPr/>
          <p:nvPr/>
        </p:nvGrpSpPr>
        <p:grpSpPr>
          <a:xfrm>
            <a:off x="1294560" y="5333400"/>
            <a:ext cx="1144080" cy="533880"/>
            <a:chOff x="1294560" y="5333400"/>
            <a:chExt cx="1144080" cy="533880"/>
          </a:xfrm>
        </p:grpSpPr>
        <p:cxnSp>
          <p:nvCxnSpPr>
            <p:cNvPr id="377" name="Straight Arrow Connector 99"/>
            <p:cNvCxnSpPr/>
            <p:nvPr/>
          </p:nvCxnSpPr>
          <p:spPr>
            <a:xfrm flipH="1" flipV="1">
              <a:off x="1294560" y="5409720"/>
              <a:ext cx="610200" cy="457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78" name="Straight Arrow Connector 102"/>
            <p:cNvCxnSpPr/>
            <p:nvPr/>
          </p:nvCxnSpPr>
          <p:spPr>
            <a:xfrm flipV="1">
              <a:off x="1904760" y="5333400"/>
              <a:ext cx="534240" cy="5338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379" name="Straight Arrow Connector 119"/>
          <p:cNvCxnSpPr/>
          <p:nvPr/>
        </p:nvCxnSpPr>
        <p:spPr>
          <a:xfrm flipV="1">
            <a:off x="8458200" y="4876560"/>
            <a:ext cx="2160" cy="838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Straight Arrow Connector 122"/>
          <p:cNvCxnSpPr/>
          <p:nvPr/>
        </p:nvCxnSpPr>
        <p:spPr>
          <a:xfrm flipV="1">
            <a:off x="5637600" y="6171840"/>
            <a:ext cx="2520" cy="457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04920" y="4952880"/>
            <a:ext cx="365760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 for signature development and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We need large datase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umors from patient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ll-defined response to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 majority are from resected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all are from previously untreat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anels of well-characterized cell lines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ifferent platfor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ually not done with FF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TextBox 5" descr=""/>
          <p:cNvPicPr/>
          <p:nvPr/>
        </p:nvPicPr>
        <p:blipFill>
          <a:blip r:embed="rId1"/>
          <a:stretch/>
        </p:blipFill>
        <p:spPr>
          <a:xfrm>
            <a:off x="255600" y="4937040"/>
            <a:ext cx="3687840" cy="9572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4267080" y="42670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groups ever get the same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no one even gets vaguely similar or overlapping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test and verify others- so just derive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signa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a predictive biomarker signature, four groups of patients are need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and untre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nd negative biomark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high- and low-risk signatur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648320" y="6324480"/>
            <a:ext cx="431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ie Y, Minna JD. J Clin Oncol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dre F, Pusztai L. Nat Clin Pract Oncol 20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2" descr="D:\My Pictures\ncponc0636-f2.jpg"/>
          <p:cNvPicPr/>
          <p:nvPr/>
        </p:nvPicPr>
        <p:blipFill>
          <a:blip r:embed="rId1"/>
          <a:srcRect l="0" t="0" r="0" b="69350"/>
          <a:stretch/>
        </p:blipFill>
        <p:spPr>
          <a:xfrm>
            <a:off x="990720" y="4572000"/>
            <a:ext cx="70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wards making signatures more robust and reprodu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nd multiple independent validation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aw da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istical algorithms full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DACC THNMO stand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“S-weave” file provides actual computer cod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nalyses are confirmed by an independent biostatistician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licly available S-weave file and raw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nostic (and sometimes predictive) signatures for resected NSC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5:04:29Z</dcterms:created>
  <dc:creator>Research To Practice</dc:creator>
  <dc:description/>
  <cp:keywords/>
  <dc:language>en-US</dc:language>
  <cp:lastModifiedBy>Mac Pro E703803Y4PC</cp:lastModifiedBy>
  <cp:lastPrinted>2011-02-12T01:28:42Z</cp:lastPrinted>
  <dcterms:modified xsi:type="dcterms:W3CDTF">2011-05-11T14:59:18Z</dcterms:modified>
  <cp:revision>86</cp:revision>
  <dc:subject/>
  <dc:title>PowerPoint Presentation</dc:title>
</cp:coreProperties>
</file>