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49E-B985-4271-89C2-A99C9FB1E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6A20-75E7-437D-A47C-9E2E0419E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58D-BA1D-456B-A133-48BB2F7D89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4CEF-CE02-46F9-BAA7-633086A958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A6D5-C46F-4534-8168-A44CCDD00F2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D419-772A-4C9E-9105-6006645BA0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6E52-AFE2-4201-95DB-D6484F4E3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1447920" y="2362320"/>
            <a:ext cx="6324480" cy="251460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828800" y="297180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</a:rPr>
              <a:t>Triple-Negative and/or BRCA Mutation-Positive Breast Canc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905120" y="236232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4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hat is your usual preferred first-line systemic approach to a younger patient with metastatic, symptomatic triple-negative breast cancer (TNBC) with a known BRCA mutation and without?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228600" y="304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mprovement in PFS with Addition of Bevacizumab (B) in E2100, AVADO and RIBBON 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380880" y="1752480"/>
            <a:ext cx="8305920" cy="32767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905120"/>
          <a:ext cx="8001000" cy="2979720"/>
        </p:xfrm>
        <a:graphic>
          <a:graphicData uri="http://schemas.openxmlformats.org/drawingml/2006/table">
            <a:tbl>
              <a:tblPr/>
              <a:tblGrid>
                <a:gridCol w="3698640"/>
                <a:gridCol w="1359000"/>
                <a:gridCol w="1433520"/>
                <a:gridCol w="1509840"/>
              </a:tblGrid>
              <a:tr h="368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sub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 in PFS,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2100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DO*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3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BON 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,23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 mo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 mo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mone receptor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ple-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 mo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mo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3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134"/>
          <p:cNvSpPr/>
          <p:nvPr/>
        </p:nvSpPr>
        <p:spPr>
          <a:xfrm>
            <a:off x="457200" y="5149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7.5 mg/kg, 15 mg/k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ecitabine/B; taxane/B or anthracycline/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40"/>
          <p:cNvSpPr/>
          <p:nvPr/>
        </p:nvSpPr>
        <p:spPr>
          <a:xfrm>
            <a:off x="380880" y="6019920"/>
            <a:ext cx="685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’Shaughnessy J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Proc SABC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09;Abstract 207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380880" y="2438280"/>
            <a:ext cx="8382240" cy="18288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2590920"/>
          <a:ext cx="8076960" cy="1517400"/>
        </p:xfrm>
        <a:graphic>
          <a:graphicData uri="http://schemas.openxmlformats.org/drawingml/2006/table">
            <a:tbl>
              <a:tblPr/>
              <a:tblGrid>
                <a:gridCol w="2765160"/>
                <a:gridCol w="1382760"/>
                <a:gridCol w="1309680"/>
                <a:gridCol w="1309680"/>
                <a:gridCol w="13096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, mon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, mon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29"/>
          <p:cNvSpPr/>
          <p:nvPr/>
        </p:nvSpPr>
        <p:spPr>
          <a:xfrm>
            <a:off x="685800" y="530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hase III Trial of Iniparib (I) plus Gemcitabine (G)/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arboplatin (C) in Metastatic TNB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152280" y="571500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’Shaughnessy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1007. Oral Session Monday, June 6, 9:30 AM to 12:30 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04920" y="379440"/>
            <a:ext cx="7669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reclinical Pharmacodynamic and Pathway Analysis of Three Presumed Inhibitors of Poly(ADP-ribose) Polymerase: ABT-888, AZD2281 and BSI-201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56680" y="6019920"/>
            <a:ext cx="40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i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AC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4527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580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ABT-888 and AZD2281 are mediated by PARP1 or PARP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Iniparib (BSI-201) suppressed genes in the telomere pathway, suggesting PARP5/6 as potential targe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22096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The Effect on pCR of Bevacizumab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and/or Antimetabolites Added to Standard Neoadjuvant Chemotherapy: NSABP Protocol B-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85800" y="4114800"/>
            <a:ext cx="79246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Bear HD et al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roc ASCO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11;Abstract LBA1005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Oral Session Monday, June 6, 9:30 AM – 12:30 P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3"/>
          <p:cNvSpPr/>
          <p:nvPr/>
        </p:nvSpPr>
        <p:spPr>
          <a:xfrm>
            <a:off x="457200" y="2286000"/>
            <a:ext cx="8229600" cy="23623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6858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GEPARQUINTO: pCR Benefit of Neoadjuvant Chemo plus Bevacizumab in TNBC Subset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of Pati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451480"/>
            <a:ext cx="87631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n Minckwitz G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S4-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rber B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1006. Oral Session Monday, June 6, 9:3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 to 12:30 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438280"/>
          <a:ext cx="7925040" cy="2052720"/>
        </p:xfrm>
        <a:graphic>
          <a:graphicData uri="http://schemas.openxmlformats.org/drawingml/2006/table">
            <a:tbl>
              <a:tblPr/>
              <a:tblGrid>
                <a:gridCol w="3505320"/>
                <a:gridCol w="1523880"/>
                <a:gridCol w="1447920"/>
                <a:gridCol w="1447920"/>
              </a:tblGrid>
              <a:tr h="4726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-d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-doc + b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(n = 968; 959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NBC subset (n = 345; 339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28"/>
          <p:cNvSpPr/>
          <p:nvPr/>
        </p:nvSpPr>
        <p:spPr>
          <a:xfrm>
            <a:off x="534240" y="472428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S = not signific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27T19:38:13Z</dcterms:modified>
  <cp:revision>394</cp:revision>
  <dc:subject/>
  <dc:title>PowerPoint Presentation</dc:title>
</cp:coreProperties>
</file>