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F3C8-E2C9-4E5B-BC74-F1138E77B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7B5D-57AA-4484-A939-8B9290FEDE2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8C6E-79AA-4A00-AB76-5FD0EBBBAD1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AB64-EF6A-4A0F-AE13-32F8E242436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C7F7-5E60-47CD-9700-AB452AE2F15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RTP09_SlideBackground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7"/>
          <p:cNvSpPr/>
          <p:nvPr/>
        </p:nvSpPr>
        <p:spPr>
          <a:xfrm>
            <a:off x="3963240" y="4800600"/>
            <a:ext cx="114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Facul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53416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Consensus or Controversy?</a:t>
            </a:r>
            <a:br>
              <a:rPr sz="2400"/>
            </a:br>
            <a:br>
              <a:rPr sz="1400"/>
            </a:br>
            <a:r>
              <a:rPr b="1" lang="en-US" sz="2000" spc="-1" strike="noStrike">
                <a:solidFill>
                  <a:srgbClr val="efc53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Clinical investigators provide their perspectives </a:t>
            </a:r>
            <a:br>
              <a:rPr sz="2600"/>
            </a:b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on practical issues and research questions </a:t>
            </a:r>
            <a:br>
              <a:rPr sz="2600"/>
            </a:b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in the management of breast cancer</a:t>
            </a:r>
            <a:br>
              <a:rPr sz="2400"/>
            </a:br>
            <a:br>
              <a:rPr sz="1400"/>
            </a:b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Saturday, June 4, 2011</a:t>
            </a:r>
            <a:br>
              <a:rPr sz="2400"/>
            </a:b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7:00 PM – 9:00 PM</a:t>
            </a:r>
            <a:br>
              <a:rPr sz="2400"/>
            </a:b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Chicago, Illino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145160" y="5191200"/>
            <a:ext cx="310212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bert W Carlson, MD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 Crown, MD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arles E Geyer Jr, MD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yce O’Shaughnessy, M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859200" y="403848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</a:rPr>
              <a:t>Mode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371760" y="4343400"/>
            <a:ext cx="24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il Love, M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726800" y="5191200"/>
            <a:ext cx="402876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 D Pegram, MD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tine J Piccart-Gebhart, MD, PhD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chael Untch, MD, PhD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ic P Winer, M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596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c53d"/>
                </a:solidFill>
                <a:latin typeface="Arial"/>
              </a:rPr>
              <a:t>Agen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85800" y="1905120"/>
          <a:ext cx="7923240" cy="4111560"/>
        </p:xfrm>
        <a:graphic>
          <a:graphicData uri="http://schemas.openxmlformats.org/drawingml/2006/table">
            <a:tbl>
              <a:tblPr/>
              <a:tblGrid>
                <a:gridCol w="7923240"/>
              </a:tblGrid>
              <a:tr h="58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Module 1 –</a:t>
                      </a: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 HER2-Positive Early-Stage Disea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Module 2 – </a:t>
                      </a: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Special Issues in Early Breast Canc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Module 3 – </a:t>
                      </a: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Genomic Predictors of Response to Adjuvant Chemotherap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Module 4 – </a:t>
                      </a: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Triple-Negative and/or BRCA Mutation-Positive Breast Canc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Module 5 –</a:t>
                      </a: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 Integration of Novel Agents into the Metastatic Sett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Module 6 – </a:t>
                      </a: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HER2-Positive Advanced Disea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Module 7 – </a:t>
                      </a: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Rapid-Fire CoC (</a:t>
                      </a:r>
                      <a:r>
                        <a:rPr b="0" i="1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time permitting</a:t>
                      </a: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4T00:16:54Z</dcterms:created>
  <dc:creator>Research To Practice</dc:creator>
  <dc:description/>
  <cp:keywords/>
  <dc:language>en-US</dc:language>
  <cp:lastModifiedBy>Marie Philemon</cp:lastModifiedBy>
  <cp:lastPrinted>2011-06-02T12:39:26Z</cp:lastPrinted>
  <dcterms:modified xsi:type="dcterms:W3CDTF">2011-11-16T14:19:40Z</dcterms:modified>
  <cp:revision>241</cp:revision>
  <dc:subject/>
  <dc:title>PowerPoint Presentation</dc:title>
</cp:coreProperties>
</file>