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AA7-B05C-4448-A75F-FC395B85B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7F0-F334-429E-84B7-0E08EB07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ADF-FDE8-4006-9DF6-123D593C2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260C-10A1-46ED-B6CE-1F07EB86E6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05B-AB98-4CA5-B654-7215215F53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869-4C75-4769-9085-022165DF18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07F-D231-4D07-BD40-17DDCB695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0CD-E0D9-41D3-B085-49524C4023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EDC-2CCC-4B6D-8DED-438466E423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EE91-E672-4C8E-9103-D0391F2790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AB2-99DC-44CA-92E8-9ED654709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86B-00F6-4B9B-B832-961EEF3309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14A-DD8B-4915-8D29-9350CDB980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98A1-7A0E-451B-9B9A-B6E9409D3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BE7-E932-49BC-BBBC-2B69A77B25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8CF-CD0D-4C06-8210-218A1F910A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1003-7E2D-4441-B0EF-87311A5EF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E79-4800-4C81-AA6E-76A9922A87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528-613D-44A9-90A3-6C8C14E888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4B7-38CB-4BD6-9266-3BF702E5FE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049-53D5-4781-A2F1-B3D0046985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4690-EFFD-4264-9A9E-980FDD3BE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575-6BA2-4C2E-9D1A-725AF98714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5FC-3327-471D-A428-D14477660D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7FB-9346-42B7-8024-E928FC84B9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124-546A-4BC9-B635-8DDE0A544C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F60-B889-4B04-BC94-44723C28ED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81A-9A33-4775-87C7-EF186C6FD8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530-CD01-4267-A244-B4AF9191E7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3623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29718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Integration of Novel Agents into the Metastatic</a:t>
            </a:r>
            <a:r>
              <a:rPr b="1" lang="en-US" sz="2600" spc="-1" strike="noStrike" baseline="30000">
                <a:solidFill>
                  <a:srgbClr val="001665"/>
                </a:solidFill>
                <a:latin typeface="Arial"/>
                <a:ea typeface="ヒラギノ角ゴ Pro W3"/>
              </a:rPr>
              <a:t> </a:t>
            </a: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Se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23623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c744"/>
                </a:solidFill>
                <a:latin typeface="Arial"/>
                <a:ea typeface="ＭＳ Ｐゴシック"/>
              </a:rPr>
              <a:t>Survival and PFS with Eribulin According to Age: EMBRACE Analysis</a:t>
            </a:r>
            <a:r>
              <a:rPr b="1" lang="en-US" sz="3000" spc="-1" strike="noStrike">
                <a:solidFill>
                  <a:srgbClr val="ecbb33"/>
                </a:solidFill>
                <a:latin typeface="Arial"/>
                <a:ea typeface="ＭＳ Ｐゴシック"/>
              </a:rPr>
              <a:t>  </a:t>
            </a:r>
            <a:endParaRPr b="1" lang="en-US" sz="30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37960" y="5987880"/>
            <a:ext cx="54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welves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Abstract 1060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1066680" y="2362320"/>
            <a:ext cx="6858000" cy="32004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19320" y="2506680"/>
          <a:ext cx="6553080" cy="2903400"/>
        </p:xfrm>
        <a:graphic>
          <a:graphicData uri="http://schemas.openxmlformats.org/drawingml/2006/table">
            <a:tbl>
              <a:tblPr/>
              <a:tblGrid>
                <a:gridCol w="1752480"/>
                <a:gridCol w="1523880"/>
                <a:gridCol w="1600200"/>
                <a:gridCol w="1676520"/>
              </a:tblGrid>
              <a:tr h="5904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ge at 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recruit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TT popul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OS (mo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FS (mo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&lt;5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0-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60-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≥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7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Should survival be the primary endpoint in trials evaluating systemic treatment for metastatic breast cancer (mBC)? 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9" descr=""/>
          <p:cNvPicPr/>
          <p:nvPr/>
        </p:nvPicPr>
        <p:blipFill>
          <a:blip r:embed="rId1"/>
          <a:stretch/>
        </p:blipFill>
        <p:spPr>
          <a:xfrm>
            <a:off x="747720" y="1981080"/>
            <a:ext cx="8015400" cy="423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Should survival be a primary endpoint in trials evaluating systemic treatment for metastatic breast cancer (MBC)?</a:t>
            </a:r>
            <a:endParaRPr b="1" lang="en-US" sz="22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Do you or would you like to be able to use ixabepilone in mBC?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19" descr=""/>
          <p:cNvPicPr/>
          <p:nvPr/>
        </p:nvPicPr>
        <p:blipFill>
          <a:blip r:embed="rId1"/>
          <a:stretch/>
        </p:blipFill>
        <p:spPr>
          <a:xfrm>
            <a:off x="533520" y="1974960"/>
            <a:ext cx="7918200" cy="424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Do you or would you like to be able to use ixabepilone in MBC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Do you or would you like to be able to use eribulin in mBC?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37960" y="596592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62 women with locally recurrent or metastatic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breast canc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-5 prior chemo regimens, including anthracyclin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nd taxan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hase III: Eribulin vs treatment of physician’s choice (</a:t>
            </a:r>
            <a:r>
              <a:rPr b="0" lang="en-US" sz="2500" spc="-1" strike="noStrike">
                <a:solidFill>
                  <a:srgbClr val="c2e2f0"/>
                </a:solidFill>
                <a:latin typeface="Arial"/>
              </a:rPr>
              <a:t>vinorelbine, gemcitabine, capecitabine, taxanes, hormonal therapy, anthracyclines or other single-agent chemotherapy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: Efficacy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edian OS = 13.1 vs 10.6 mos (HR = 0.81, 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41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edian PFS = 3.6 vs 2.2 mos (HR = 0.76, 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02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Objective response rate = 13% vs 7% (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28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nical benefit rate = 28% vs 20%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7960" y="596592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3"/>
          <p:cNvSpPr/>
          <p:nvPr/>
        </p:nvSpPr>
        <p:spPr>
          <a:xfrm>
            <a:off x="380880" y="2057400"/>
            <a:ext cx="8458200" cy="37339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: Toxicity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37960" y="598788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2209680"/>
          <a:ext cx="8153280" cy="3413160"/>
        </p:xfrm>
        <a:graphic>
          <a:graphicData uri="http://schemas.openxmlformats.org/drawingml/2006/table">
            <a:tbl>
              <a:tblPr/>
              <a:tblGrid>
                <a:gridCol w="2133360"/>
                <a:gridCol w="1524240"/>
                <a:gridCol w="1447560"/>
                <a:gridCol w="1524240"/>
                <a:gridCol w="1523880"/>
              </a:tblGrid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Eribuli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P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ll grad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3/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ll grad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3/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eutropeni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8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nemi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8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sthenia/fatigu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4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eripheral neuropath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41:14Z</dcterms:modified>
  <cp:revision>399</cp:revision>
  <dc:subject/>
  <dc:title>PowerPoint Presentation</dc:title>
</cp:coreProperties>
</file>