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A4E9-8F39-4CE7-A2C6-2FC50903C9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1655-678B-4EA9-8CD7-D2B4986AE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A9E5-402F-485A-85BB-ABB6FB4F59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F910-1D49-4311-A352-3DA253A24CD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9EB4-6E55-49B5-87B5-826EBDACC53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CDD5-523C-4103-A6D7-82D89565CD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8EC6-230E-436C-A835-DE1989AD12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E611-BCE9-4DEA-B660-9BF7875176D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9F39-9489-48E1-BCC5-5E9F1E70A73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3"/>
          <p:cNvSpPr/>
          <p:nvPr/>
        </p:nvSpPr>
        <p:spPr>
          <a:xfrm>
            <a:off x="1447920" y="2590920"/>
            <a:ext cx="6324480" cy="2514600"/>
          </a:xfrm>
          <a:prstGeom prst="pi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828800" y="3200400"/>
            <a:ext cx="5791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665"/>
                </a:solidFill>
                <a:latin typeface="Arial"/>
              </a:rPr>
              <a:t>Genomic Predictors of Response to Adjuvant Chemotherap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905120" y="2590920"/>
            <a:ext cx="2895480" cy="518040"/>
          </a:xfrm>
          <a:prstGeom prst="rect">
            <a:avLst/>
          </a:prstGeom>
          <a:solidFill>
            <a:srgbClr val="da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ODULE 3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uld you offer/recommend a multigene assay (MammaPrint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r Onco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X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for a patient with a node-positive tumor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19" descr=""/>
          <p:cNvPicPr/>
          <p:nvPr/>
        </p:nvPicPr>
        <p:blipFill>
          <a:blip r:embed="rId1"/>
          <a:stretch/>
        </p:blipFill>
        <p:spPr>
          <a:xfrm>
            <a:off x="736560" y="1981080"/>
            <a:ext cx="8178840" cy="4230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ould you offer/recommend a multigene assay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MammaPrint or Onco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DX) for a patient with a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de-positive tumor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26"/>
          <p:cNvSpPr/>
          <p:nvPr/>
        </p:nvSpPr>
        <p:spPr>
          <a:xfrm>
            <a:off x="228600" y="38088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cbb33"/>
                </a:solidFill>
                <a:latin typeface="Arial"/>
                <a:ea typeface="ヒラギノ角ゴ Pro W3"/>
              </a:rPr>
              <a:t>SWOG-S1007 (RxPONDER): Invasive Breast Cancer and Recurrence Score</a:t>
            </a:r>
            <a:r>
              <a:rPr b="1" lang="en-US" sz="2600" spc="-1" strike="noStrike" baseline="30000">
                <a:solidFill>
                  <a:srgbClr val="ecbb33"/>
                </a:solidFill>
                <a:latin typeface="Arial"/>
                <a:ea typeface="ヒラギノ角ゴ Pro W3"/>
              </a:rPr>
              <a:t>®</a:t>
            </a:r>
            <a:r>
              <a:rPr b="1" lang="en-US" sz="2600" spc="-1" strike="noStrike">
                <a:solidFill>
                  <a:srgbClr val="ecbb33"/>
                </a:solidFill>
                <a:latin typeface="Arial"/>
                <a:ea typeface="ヒラギノ角ゴ Pro W3"/>
              </a:rPr>
              <a:t> (RS) ≤2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1027"/>
          <p:cNvSpPr/>
          <p:nvPr/>
        </p:nvSpPr>
        <p:spPr>
          <a:xfrm>
            <a:off x="457200" y="5562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Clinicaltrials.gov, June 201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onzalez-Angulo AM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Abstract TPS104. Poster Session, Monday, June 6, 8:00 AM to 12:00 P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685800" y="175248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ER- and/or PR-positive, HER2-negative invasive BC, 1-3 positive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Randomiz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Chemo + endocrine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Endocrine therapy al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Primary endpoint: Invasive D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arget enrollment: 4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the Onco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X Recurrence Score (RS) impact your selection of a particular chemotherapy regimen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efc53d"/>
                </a:solidFill>
                <a:uFillTx/>
                <a:latin typeface="Arial"/>
              </a:rPr>
              <a:t>60 yo woman</a:t>
            </a: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: 1.0-cm sentinel node-negative, ER-positive, HER2-negative IDC. Which adjuvant chemotherapy treatment would you recommend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609588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tterns of Ca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 Breast Cancer, Research To Practice 201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33"/>
          <p:cNvSpPr/>
          <p:nvPr/>
        </p:nvSpPr>
        <p:spPr>
          <a:xfrm flipH="1">
            <a:off x="685080" y="1905120"/>
            <a:ext cx="7924680" cy="373356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38080" y="2057400"/>
          <a:ext cx="7620120" cy="3425760"/>
        </p:xfrm>
        <a:graphic>
          <a:graphicData uri="http://schemas.openxmlformats.org/drawingml/2006/table">
            <a:tbl>
              <a:tblPr/>
              <a:tblGrid>
                <a:gridCol w="2590920"/>
                <a:gridCol w="1371600"/>
                <a:gridCol w="990720"/>
                <a:gridCol w="914400"/>
                <a:gridCol w="914400"/>
                <a:gridCol w="83808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hra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xan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169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uld order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co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X</a:t>
                      </a:r>
                      <a:r>
                        <a:rPr b="0" i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8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 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mediate 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98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uld </a:t>
                      </a:r>
                      <a:r>
                        <a:rPr b="0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rder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co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X (n = 1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19" descr=""/>
          <p:cNvPicPr/>
          <p:nvPr/>
        </p:nvPicPr>
        <p:blipFill>
          <a:blip r:embed="rId1"/>
          <a:stretch/>
        </p:blipFill>
        <p:spPr>
          <a:xfrm>
            <a:off x="797040" y="2081160"/>
            <a:ext cx="7889760" cy="42562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6680" y="1255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the Onco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X Recurrence Score (RS) affect your choice of a particular chemotherapy regimen? (Eg, would you use a different chemotherapy regimen for a patient with an intermediate versus a high RS?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9:45:49Z</dcterms:created>
  <dc:creator>Research To Practice</dc:creator>
  <dc:description/>
  <cp:keywords/>
  <dc:language>en-US</dc:language>
  <cp:lastModifiedBy>Mac Pro E703803Y4PC</cp:lastModifiedBy>
  <cp:lastPrinted>2011-09-01T15:41:25Z</cp:lastPrinted>
  <dcterms:modified xsi:type="dcterms:W3CDTF">2011-10-14T12:21:23Z</dcterms:modified>
  <cp:revision>397</cp:revision>
  <dc:subject/>
  <dc:title>PowerPoint Presentation</dc:title>
</cp:coreProperties>
</file>