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7.png" ContentType="image/png"/>
  <Override PartName="/ppt/media/image6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86A2-C637-425D-B6D1-7EAA67522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CF8C-B120-493A-B62E-EA83B5C7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6114-C364-4F6F-AFD6-CFB0A6DB58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A41-0D46-47C5-98BC-2C723279CE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24A6-7E49-413A-9022-B9775F4C50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ACD9-3F56-4C0C-927B-834D16DF4A7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A592-1F32-4A5B-9EC4-6246F366AC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0A5-EDB8-4030-BE10-7CC7AEB97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F5F-A376-4C12-9CE5-6332E20956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B309-1379-43AE-BBFA-95742AA2CAD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774D-E8C7-485F-B9B3-D5FDE1DB5E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82B6-B6E5-459E-945C-F7CE6AFEDAE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F4B-6AA4-44C0-B4CC-FD6A812AE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B295-253F-492F-8E7D-EBB795E0C7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298C-D549-4F06-B251-6BA4E4942E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C665-95B0-442E-B8B7-428A368C31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5FA-047D-4548-B694-B8E1255E9C9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1447920" y="2666880"/>
            <a:ext cx="6324480" cy="198144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28800" y="3048120"/>
            <a:ext cx="4724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HER2-Positive </a:t>
            </a:r>
            <a:br>
              <a:rPr sz="3600"/>
            </a:b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Early-Stage Dis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905120" y="266688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1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19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850160" cy="4167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e there situations in which you would us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eoadjuvan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trastuzumab/lapatinib/chemotherapy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adjuvant treatment recommendation for a patient with ER-negative, HER2-positive early breast cancer and multiple positive nodes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19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370720" cy="4256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adjuvant treatment recommendation for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ounger patient (younger than age 60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th ER-negative, HER2-positive disease and multiple positive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28960" y="4843440"/>
            <a:ext cx="23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90840" y="27590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adjuvant treatment recommendation for a patient with a small (5-mm) ER-negative, HER2-positive, node-negative breast tumor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914400" y="1523880"/>
            <a:ext cx="7315200" cy="41911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Locoregional and Distant Relapse in Node-Negative Breast Cancer (≤1 cm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07880" y="6064200"/>
            <a:ext cx="85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ncello G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east Cancer Res Trea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127:713-2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6680" y="1676520"/>
          <a:ext cx="7010640" cy="3886200"/>
        </p:xfrm>
        <a:graphic>
          <a:graphicData uri="http://schemas.openxmlformats.org/drawingml/2006/table">
            <a:tbl>
              <a:tblPr/>
              <a:tblGrid>
                <a:gridCol w="5410440"/>
                <a:gridCol w="1600200"/>
              </a:tblGrid>
              <a:tr h="64584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unohistochemical sub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4620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minal A (ER/PR+, HER2-ne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4476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minal B (ER/PR+, HER2-ne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4584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minal B (ER/PR+, HER2++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b3d335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b3d335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4620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2+++ (ER-/PR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13680">
                      <a:solidFill>
                        <a:srgbClr val="b3d335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b3d335"/>
                      </a:solidFill>
                    </a:lnT>
                    <a:lnB w="13680">
                      <a:solidFill>
                        <a:srgbClr val="b3d335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b3d335"/>
                      </a:solidFill>
                    </a:lnR>
                    <a:lnT w="13680">
                      <a:solidFill>
                        <a:srgbClr val="b3d335"/>
                      </a:solidFill>
                    </a:lnT>
                    <a:lnB w="13680">
                      <a:solidFill>
                        <a:srgbClr val="b3d335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5736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ple-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b3d33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762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b3d33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762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19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85200" cy="4230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adjuvant treatment recommendation for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ounger patient (younger than age 60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th a small (5-mm) ER-negative, HER2-positive, node-negative tumo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4680" y="32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90720" y="49989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Ongoing Adjuvant Trials of Chemotherapy with Biologic Agents in HER2-Positive Breast Canc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228600">
              <a:lnSpc>
                <a:spcPct val="9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de7f3"/>
                </a:solidFill>
                <a:latin typeface="Arial"/>
              </a:rPr>
              <a:t>BETH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              Chemotherapy + H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H 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     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or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Chemotherapy + H + bev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H + bev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de7f3"/>
                </a:solidFill>
                <a:latin typeface="Arial"/>
              </a:rPr>
              <a:t>ALTTO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            Chemotherapy (concurrent or sequential) +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     </a:t>
            </a:r>
            <a:br>
              <a:rPr sz="2100"/>
            </a:b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                        L alone 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or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H alone 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or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H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L 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or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L + H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de7f3"/>
                </a:solidFill>
                <a:latin typeface="Arial"/>
              </a:rPr>
              <a:t>Dana Farber    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Paclitaxel + H (node-negative)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4920" y="6019920"/>
            <a:ext cx="85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ClinicalTrials.gov, June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neoadjuvant treatment for younger patients with locally advanced ER-negative, HER2-positive breast cancer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53960" y="5756400"/>
            <a:ext cx="82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8600" y="58672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tch M et al.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S3-1.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anni L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 Abstract S3-2.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lga J et al.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Abstract S3-3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914400" y="1698480"/>
            <a:ext cx="693432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GEPARQUINTO</a:t>
            </a:r>
            <a:r>
              <a:rPr b="1" lang="en-US" sz="2000" spc="-1" strike="noStrike" baseline="30000">
                <a:solidFill>
                  <a:srgbClr val="efc53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cde7f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Trastuzumab/EC-docetaxel: 50.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Lapatinib/EC-docetaxel: 35.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NeoSphere</a:t>
            </a:r>
            <a:r>
              <a:rPr b="1" lang="en-US" sz="2000" spc="-1" strike="noStrike" baseline="30000">
                <a:solidFill>
                  <a:srgbClr val="efc53d"/>
                </a:solidFill>
                <a:latin typeface="Arial"/>
                <a:ea typeface="ヒラギノ角ゴ Pro W3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Docetaxel/trastuzumab/pertuzumab: 45.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Docetaxel/trastuzumab: 29.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Docetaxel/pertuzumab: 24.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Trastuzumab/pertuzumab: 16.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NeoALTTO</a:t>
            </a:r>
            <a:r>
              <a:rPr b="1" lang="en-US" sz="2000" spc="-1" strike="noStrike" baseline="30000">
                <a:solidFill>
                  <a:srgbClr val="efc53d"/>
                </a:solidFill>
                <a:latin typeface="Arial"/>
                <a:ea typeface="ヒラギノ角ゴ Pro W3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spcBef>
                <a:spcPts val="2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Paclitaxel/trastuzumab/lapatinib: 51.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spcBef>
                <a:spcPts val="2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Paclitaxel/trastuzumab: 29.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spcBef>
                <a:spcPts val="2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Paclitaxel/lapitinib: 24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Neoadjuvant Anti-HER2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27T19:33:50Z</dcterms:modified>
  <cp:revision>400</cp:revision>
  <dc:subject/>
  <dc:title>PowerPoint Presentation</dc:title>
</cp:coreProperties>
</file>