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F96C-852A-4543-9DF1-D683CE4D0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6D90-1D67-41F4-9B8B-14EDED118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C538-8EF5-400A-9159-FCFA759542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4A4A-A051-415F-8704-2078DEB09F3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E101-6DAF-434A-AFED-41D756C4B5D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E877-57C5-4D46-BD22-FF7831F0939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5EA5-0B04-43EA-83D2-1266650738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5BC9-3822-49D0-ABE2-C4EBE49725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39F3-48F0-4455-ABE1-315FB1C60D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1447920" y="2743200"/>
            <a:ext cx="6324480" cy="167652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828800" y="3352680"/>
            <a:ext cx="5791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665"/>
                </a:solidFill>
                <a:latin typeface="Arial"/>
                <a:ea typeface="ヒラギノ角ゴ Pro W3"/>
              </a:rPr>
              <a:t>Rapid Fi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905120" y="2743200"/>
            <a:ext cx="2895480" cy="533520"/>
          </a:xfrm>
          <a:prstGeom prst="rect">
            <a:avLst/>
          </a:prstGeom>
          <a:solidFill>
            <a:srgbClr val="efc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905120" y="2743200"/>
            <a:ext cx="2895480" cy="518040"/>
          </a:xfrm>
          <a:prstGeom prst="rect">
            <a:avLst/>
          </a:prstGeom>
          <a:solidFill>
            <a:srgbClr val="da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ODULE 7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most common endocrine treatment you use for a premenopausal woman who develops disease relapse while receiving tamoxife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most common endocrine treatment you use for a postmenopausal woman who develops disease relapse while receiving a nonsteroidal AI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generally change your approach to adjuvant chemotherapy for patients diagnosed with breast cancer during late pregnancy, relevant to the issue of possibly delaying therapy until after deliver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09480" y="1752480"/>
            <a:ext cx="8305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313 Patients with Breast Cancer 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During Pregnancy — Results from a Prospective and Retrospective Registry 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(GBG-20/BIG02-0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09480" y="4114800"/>
            <a:ext cx="746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Loibl S et al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Proc SABCS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2010;Abstract S6-2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9:45:49Z</dcterms:created>
  <dc:creator>Research To Practice</dc:creator>
  <dc:description/>
  <cp:keywords/>
  <dc:language>en-US</dc:language>
  <cp:lastModifiedBy>Mac Pro E703803Y4PC</cp:lastModifiedBy>
  <cp:lastPrinted>2011-06-04T15:29:24Z</cp:lastPrinted>
  <dcterms:modified xsi:type="dcterms:W3CDTF">2011-10-04T17:26:03Z</dcterms:modified>
  <cp:revision>392</cp:revision>
  <dc:subject/>
  <dc:title>PowerPoint Presentation</dc:title>
</cp:coreProperties>
</file>