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AFC-CDE5-43D2-B41F-B65706C80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384-F4AC-4185-A0E2-12CACC383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4DF-B089-43C7-BE84-AB53ACE138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00D-ED4E-4320-8E10-C1CC9B7FD2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A77-9BD2-4E50-92E7-785982C204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D5D-D910-40C8-95B0-B6D130A60B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D6B5-A121-499E-87AE-A3014E997F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C9F-7EA1-4E25-AD93-80137E77D4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953-40D9-4D04-9280-2EE9F0916D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C3CF-5730-4360-B645-DBE0E71B07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2AFE-B62C-4857-8A43-22BE21D5C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9F2-770B-4D27-858E-E3406719F3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702-77C6-42D1-B026-739DCC7412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EBF6-6AA7-4131-ADCB-F253A68002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427-DC9F-4A60-B7D2-545F878C8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DB6E-65F9-407D-8523-0E106539BA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2FE-2383-4FBB-AF3E-0A966EACD6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0564-3F90-4781-87C4-45D6E0551F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1A72-1450-4B0E-90BE-2ADC31589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6E8-C436-4514-84B1-78FE6DF61F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F82-E8A0-4EAA-8A9F-835CEF4499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290E-9CC5-47FB-B059-630812BCF2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ABBA-F635-4C7F-889F-D31C9E6BE8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3AD-BC64-4485-B175-3980C5E3FF0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666880"/>
            <a:ext cx="6324480" cy="20574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27672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HER2-Positive Advanced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6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patients with HER2-positive metastatic disease generally be continued on some type of anti-HER2 therapy indefinitely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19"/>
          <p:cNvGraphicFramePr/>
          <p:nvPr/>
        </p:nvGraphicFramePr>
        <p:xfrm>
          <a:off x="914400" y="2006640"/>
          <a:ext cx="7469280" cy="41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06640"/>
                    <a:ext cx="74692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hould patients with HER2-positive metastatic disease generally be continued on some type of anti-HER2 therapy indefinitely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09480" y="1905120"/>
            <a:ext cx="8305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Trastuzumab Beyond Progression in Human Epidermal Growth Factor Receptor 2-Positive Advanced Breast Cancer: A German Breast Group 26/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Breast International Group 03-05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41148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Von Minckwitz G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J Clin Oncol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09;27(12):1999-2006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ld you use T-DM1 if it were available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 Study of Trastuzumab-DM1 (T-DM1) for the Treatment of HER2-Positive Metastatic Breast Cancer After Prior HER2-Directed 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112 heavily pretreated patients with HER2+ metastatic BC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# systemic agents in all settings: 8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# systemic agents in metastatic setting: 5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ORR = 25.9%; Median PFS = 4.6 mo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duration of response not reached (F/U ≥12 mos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ost AEs Grade 1/2; No dose-limiting cardiotoxicity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" y="6019920"/>
            <a:ext cx="79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ris HA 3r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29(4):398-4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RIANNE: A Phase III Study of First-Line Therapy for HER2-Positive Progressive, Recurrent Locally Advanced or Metastatic Breast Canc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rastuzumab + taxane (docetaxel or paclitaxel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 + pertuzuma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 + placebo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Primary endpoint: PF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arget enrollment: 1,092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28600" y="5867280"/>
            <a:ext cx="79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s PA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02 (Trials in Progress Poster Session, Monday, June 6, 8 AM to 12 P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ILIA: A Phase III Study in HER2-Positive, Locally Advanced or Metastatic Breast Cancer Previously Treated with Trastuzumab-Based 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Lapatinib + capecitabine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Primary endpoint: PF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arget enrollment: 980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8600" y="5867280"/>
            <a:ext cx="79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ma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16 (Trials in Progress Poster Session, Monday, June 6, 8 AM to 12 P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9"/>
          <p:cNvGraphicFramePr/>
          <p:nvPr/>
        </p:nvGraphicFramePr>
        <p:xfrm>
          <a:off x="617400" y="1981080"/>
          <a:ext cx="768852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981080"/>
                    <a:ext cx="76885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you use T-DM1 if it were availabl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14T12:23:54Z</dcterms:modified>
  <cp:revision>394</cp:revision>
  <dc:subject/>
  <dc:title>PowerPoint Presentation</dc:title>
</cp:coreProperties>
</file>