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ct" ContentType="image/x-pict"/>
  <Override PartName="/ppt/media/image4.png" ContentType="image/png"/>
  <Override PartName="/ppt/media/image5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3C475-73B3-42C0-BA99-AFE3F6390A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E7E9B-C45A-4739-8A13-428303699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55D56-D31B-41D1-A878-DA84413D671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60207-1C74-4114-89EA-6AD8D9CC576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F9ECF-CA71-497A-A182-B7E36665891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AE0E9-046B-4C27-9979-A3AF5A16A7E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C0DBB-78C6-477A-8BE9-08014475859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02320-2981-4A74-A6AA-7CCC7CE78AE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6B5C6-D1F9-4232-AE85-9439268559F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31840" y="701640"/>
            <a:ext cx="4581720" cy="343692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21960" y="4349880"/>
            <a:ext cx="5000760" cy="414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762A1-60C1-45EE-A131-867171FA99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8677C-191C-43A9-A5F6-AFC2C5D3F3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B1B18-4CDA-4363-AD9E-0AADCED518D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AA5D2-B889-4AB7-B6B8-0922C6FBCC0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0DE98-E664-4C5E-87DA-48E024A148D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87171-D3B1-47D6-8D58-0FD77D3500C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525A-C90E-4007-AF7C-ABF9FAE4DEC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31840" y="701640"/>
            <a:ext cx="4581720" cy="3436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21960" y="4349880"/>
            <a:ext cx="5000760" cy="414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6" descr="RTP09_SlideBackground"/>
          <p:cNvPicPr/>
          <p:nvPr/>
        </p:nvPicPr>
        <p:blipFill>
          <a:blip r:embed="rId2"/>
          <a:stretch/>
        </p:blipFill>
        <p:spPr>
          <a:xfrm>
            <a:off x="0" y="0"/>
            <a:ext cx="9150480" cy="6862680"/>
          </a:xfrm>
          <a:prstGeom prst="rect">
            <a:avLst/>
          </a:prstGeom>
          <a:ln w="0">
            <a:noFill/>
          </a:ln>
        </p:spPr>
      </p:pic>
      <p:sp>
        <p:nvSpPr>
          <p:cNvPr id="1" name="Text Box 18"/>
          <p:cNvSpPr/>
          <p:nvPr/>
        </p:nvSpPr>
        <p:spPr>
          <a:xfrm>
            <a:off x="2840040" y="6505560"/>
            <a:ext cx="5997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d65a8"/>
                </a:solidFill>
                <a:latin typeface="Arial"/>
              </a:rPr>
              <a:t>Copyright © 2011 Research To Practice. All rights reserved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cde7f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reeform 3"/>
          <p:cNvSpPr/>
          <p:nvPr/>
        </p:nvSpPr>
        <p:spPr>
          <a:xfrm>
            <a:off x="1447920" y="2666880"/>
            <a:ext cx="6324480" cy="1981440"/>
          </a:xfrm>
          <a:prstGeom prst="pie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1828800" y="3048120"/>
            <a:ext cx="4800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665"/>
                </a:solidFill>
                <a:latin typeface="Arial"/>
                <a:ea typeface="ヒラギノ角ゴ Pro W3"/>
              </a:rPr>
              <a:t>Special Issues in </a:t>
            </a:r>
            <a:br>
              <a:rPr sz="3600"/>
            </a:br>
            <a:r>
              <a:rPr b="1" lang="en-US" sz="3600" spc="-1" strike="noStrike">
                <a:solidFill>
                  <a:srgbClr val="001665"/>
                </a:solidFill>
                <a:latin typeface="Arial"/>
                <a:ea typeface="ヒラギノ角ゴ Pro W3"/>
              </a:rPr>
              <a:t>Early Breast Canc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1905120" y="2666880"/>
            <a:ext cx="2895480" cy="533520"/>
          </a:xfrm>
          <a:prstGeom prst="rect">
            <a:avLst/>
          </a:prstGeom>
          <a:solidFill>
            <a:srgbClr val="efc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1905120" y="2666880"/>
            <a:ext cx="2895480" cy="518040"/>
          </a:xfrm>
          <a:prstGeom prst="rect">
            <a:avLst/>
          </a:prstGeom>
          <a:solidFill>
            <a:srgbClr val="da9a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ODULE 2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 you offer zoledronic acid (or another bisphosphonate) as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component of adjuvant therapy to a woman with normal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ne health?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685800" y="1295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fc53d"/>
                </a:solidFill>
                <a:latin typeface="Arial"/>
                <a:ea typeface="ヒラギノ角ゴ Pro W3"/>
              </a:rPr>
              <a:t>AZURE: Adjuvant Zoledronic Acid versus Control in Stage II/III BC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407880" y="5987880"/>
            <a:ext cx="850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leman RE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Proc SABC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2010;Abstract S4-5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Rectangle 33"/>
          <p:cNvSpPr/>
          <p:nvPr/>
        </p:nvSpPr>
        <p:spPr>
          <a:xfrm>
            <a:off x="1143000" y="3048120"/>
            <a:ext cx="6934320" cy="2133360"/>
          </a:xfrm>
          <a:prstGeom prst="rect">
            <a:avLst/>
          </a:prstGeom>
          <a:solidFill>
            <a:srgbClr val="9cc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295280" y="3200400"/>
          <a:ext cx="6629400" cy="1828800"/>
        </p:xfrm>
        <a:graphic>
          <a:graphicData uri="http://schemas.openxmlformats.org/drawingml/2006/table">
            <a:tbl>
              <a:tblPr/>
              <a:tblGrid>
                <a:gridCol w="3353040"/>
                <a:gridCol w="3276360"/>
              </a:tblGrid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Patient subs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6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Reduction in recur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663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Overal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a639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2%  (HR = 0.98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a639c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Postmenopausal subset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a639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24%  (HR = 0.76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a639c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380880" y="2209680"/>
            <a:ext cx="83059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c53d"/>
                </a:solidFill>
                <a:latin typeface="Arial"/>
                <a:ea typeface="ヒラギノ角ゴ Pro W3"/>
              </a:rPr>
              <a:t>Overall Survival with Adjuvant </a:t>
            </a:r>
            <a:br>
              <a:rPr sz="3200"/>
            </a:br>
            <a:r>
              <a:rPr b="1" lang="en-US" sz="3200" spc="-1" strike="noStrike">
                <a:solidFill>
                  <a:srgbClr val="efc53d"/>
                </a:solidFill>
                <a:latin typeface="Arial"/>
                <a:ea typeface="ヒラギノ角ゴ Pro W3"/>
              </a:rPr>
              <a:t>Zoledronic Acid in Patients with Premenopausal Breast Cancer with Complete Endocrine Blockade: </a:t>
            </a:r>
            <a:br>
              <a:rPr sz="3200"/>
            </a:br>
            <a:r>
              <a:rPr b="1" lang="en-US" sz="3200" spc="-1" strike="noStrike">
                <a:solidFill>
                  <a:srgbClr val="efc53d"/>
                </a:solidFill>
                <a:latin typeface="Arial"/>
                <a:ea typeface="ヒラギノ角ゴ Pro W3"/>
              </a:rPr>
              <a:t>Long-Term Results from ABCSG-1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380880" y="3962520"/>
            <a:ext cx="8686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  <a:ea typeface="ヒラギノ角ゴ Pro W3"/>
              </a:rPr>
              <a:t>Gnant M et al.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cde7f3"/>
                </a:solidFill>
                <a:latin typeface="Arial"/>
                <a:ea typeface="ヒラギノ角ゴ Pro W3"/>
              </a:rPr>
              <a:t>Proc ASCO </a:t>
            </a:r>
            <a:r>
              <a:rPr b="0" lang="en-US" sz="2500" spc="-1" strike="noStrike">
                <a:solidFill>
                  <a:srgbClr val="cde7f3"/>
                </a:solidFill>
                <a:latin typeface="Arial"/>
                <a:ea typeface="ヒラギノ角ゴ Pro W3"/>
              </a:rPr>
              <a:t>2011;Abstract 520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  <a:ea typeface="ヒラギノ角ゴ Pro W3"/>
              </a:rPr>
              <a:t>Poster Discussion, Tuesday, June 7, </a:t>
            </a: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11:30 AM – 12:30 PM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Key Maturing Trials of Adjuvant Bisphosphonat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83059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90000"/>
              </a:lnSpc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2116080"/>
                <a:tab algn="l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de7f3"/>
                </a:solidFill>
                <a:latin typeface="Arial"/>
              </a:rPr>
              <a:t>NSABP-B-34</a:t>
            </a:r>
            <a:r>
              <a:rPr b="1" lang="en-US" sz="2500" spc="-1" strike="noStrike">
                <a:solidFill>
                  <a:srgbClr val="cde7f3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Clodronate </a:t>
            </a:r>
            <a:r>
              <a:rPr b="0" i="1" lang="en-US" sz="2500" spc="-1" strike="noStrike">
                <a:solidFill>
                  <a:srgbClr val="cde7f3"/>
                </a:solidFill>
                <a:latin typeface="Arial"/>
              </a:rPr>
              <a:t>vs</a:t>
            </a: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 placebo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38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2116080"/>
                <a:tab algn="l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2116080"/>
                <a:tab algn="l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de7f3"/>
                </a:solidFill>
                <a:latin typeface="Arial"/>
              </a:rPr>
              <a:t>SWOG-S0307</a:t>
            </a:r>
            <a:r>
              <a:rPr b="1" lang="en-US" sz="2500" spc="-1" strike="noStrike">
                <a:solidFill>
                  <a:srgbClr val="cde7f3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Zoledronate </a:t>
            </a:r>
            <a:r>
              <a:rPr b="0" i="1" lang="en-US" sz="2500" spc="-1" strike="noStrike">
                <a:solidFill>
                  <a:srgbClr val="cde7f3"/>
                </a:solidFill>
                <a:latin typeface="Arial"/>
              </a:rPr>
              <a:t>vs</a:t>
            </a: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 clodronate </a:t>
            </a:r>
            <a:r>
              <a:rPr b="0" i="1" lang="en-US" sz="2500" spc="-1" strike="noStrike">
                <a:solidFill>
                  <a:srgbClr val="cde7f3"/>
                </a:solidFill>
                <a:latin typeface="Arial"/>
              </a:rPr>
              <a:t>vs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38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2116080"/>
                <a:tab algn="l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                                           </a:t>
            </a: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ibandronate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407880" y="5987880"/>
            <a:ext cx="37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ww.ClinicalTrials.gov, June 201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19"/>
          <p:cNvGraphicFramePr/>
          <p:nvPr/>
        </p:nvGraphicFramePr>
        <p:xfrm>
          <a:off x="838080" y="1981080"/>
          <a:ext cx="7902720" cy="423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81080"/>
                    <a:ext cx="7902720" cy="42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8. Do you offer zoledronic acid (or another bisphosphonate) as a component of adjuvant therapy to a woman with normal bone density?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 you believe a complete axillary dissection may be avoided in patients with a positive sentinel lymph node biopsy?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Outcomes of ALND versus Not in 891 Patients with Positive SLNB (ACOSOG-Z0011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12"/>
          <p:cNvSpPr/>
          <p:nvPr/>
        </p:nvSpPr>
        <p:spPr>
          <a:xfrm>
            <a:off x="457200" y="5562720"/>
            <a:ext cx="850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Giuliano AE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Proc ASC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2010;Abstract CRA506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†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iuliano AE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JAM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2011;305:569-75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Rectangle 33"/>
          <p:cNvSpPr/>
          <p:nvPr/>
        </p:nvSpPr>
        <p:spPr>
          <a:xfrm>
            <a:off x="685800" y="2895480"/>
            <a:ext cx="7772400" cy="2210040"/>
          </a:xfrm>
          <a:prstGeom prst="rect">
            <a:avLst/>
          </a:prstGeom>
          <a:solidFill>
            <a:srgbClr val="9cc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838080" y="3048120"/>
          <a:ext cx="7467840" cy="1904760"/>
        </p:xfrm>
        <a:graphic>
          <a:graphicData uri="http://schemas.openxmlformats.org/drawingml/2006/table">
            <a:tbl>
              <a:tblPr/>
              <a:tblGrid>
                <a:gridCol w="3810240"/>
                <a:gridCol w="3657600"/>
              </a:tblGrid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5-yr in-breast recurrence*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6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3.7%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vs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 2.1% (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p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= 0.16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663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5-yr nodal recurrence*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a639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0.6%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vs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 1.3% (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p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= 0.4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a639c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5-yr overall survival rate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†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91.8%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vs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 92.5%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19"/>
          <p:cNvGraphicFramePr/>
          <p:nvPr/>
        </p:nvGraphicFramePr>
        <p:xfrm>
          <a:off x="838080" y="1981080"/>
          <a:ext cx="7721640" cy="423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81080"/>
                    <a:ext cx="7721640" cy="42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9. Do you believe it is appropriate to avoid a complete axillary dissection in some patients younger than age 70 with a positive sentinel lymph node biopsy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4T19:45:49Z</dcterms:created>
  <dc:creator>Research To Practice</dc:creator>
  <dc:description/>
  <cp:keywords/>
  <dc:language>en-US</dc:language>
  <cp:lastModifiedBy>Mac Pro E703803Y4PC</cp:lastModifiedBy>
  <cp:lastPrinted>2011-06-04T15:29:24Z</cp:lastPrinted>
  <dcterms:modified xsi:type="dcterms:W3CDTF">2011-09-01T15:36:23Z</dcterms:modified>
  <cp:revision>394</cp:revision>
  <dc:subject/>
  <dc:title>PowerPoint Presentation</dc:title>
</cp:coreProperties>
</file>