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0BD-AC67-4063-8C60-0F624B93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AA2-E514-4677-A39E-452FF154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0A5-C4C3-43C7-8C29-8DB76D00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AD2-2B21-4477-AB1C-FA87BB56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5D01-BB24-4020-9239-C3266C88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E94F-C8E4-497D-A120-213D2CCD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B1D4-9454-418B-8E6F-42B460DA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B726-50E1-4AA3-A9AF-576981D9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B616-D307-4618-8E36-3487803A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3986-8122-4B76-AF58-DCCBAFE2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00B3-45EA-444D-8468-91404990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2D8-4F41-4C50-9D78-8A3CDE87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0F30-CAE5-4558-B4A3-BB0F2B00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7BE0-133F-4ED7-951F-C6384F5D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39C2-1576-48E2-A02F-2754DE9B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F40E-B532-498A-8D8A-50275D7D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4866-F164-47DB-9E75-6BB6875C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D25-4083-4167-A591-809EA3FE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AB5-5C6B-4E47-B461-BA0ABF8E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06E-B535-4DA6-A77A-C33444E6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19F-E12B-4DAE-9BFE-405B1445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C73-85BE-4691-8E91-74C62CE8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AD22-0D8A-4B36-AF66-8A0340E3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18F-2AB4-4813-B1EB-BAE9D193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B4BB-B0DC-4ECA-8BBB-EA58775BBD4E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EE3F-26C1-480A-B57E-19F4EC7DA7F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167760"/>
            <a:ext cx="79866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 Phase III Study of Double Autotransplantation Incorporating Bortezomib-Thalidomide-Dexamethasone (VTD) or Thalidomide-Dexamethasone (TD) for Multiple Myeloma: Superior Clinical Outcomes with VTD Compared to TD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325b"/>
                </a:solidFill>
                <a:latin typeface="Verdana"/>
              </a:rPr>
              <a:t>Cavo M et al.</a:t>
            </a:r>
            <a:br>
              <a:rPr sz="2500"/>
            </a:br>
            <a:r>
              <a:rPr b="0" i="1" lang="en-GB" sz="2500" spc="-1" strike="noStrike">
                <a:solidFill>
                  <a:srgbClr val="00325b"/>
                </a:solidFill>
                <a:latin typeface="Verdana"/>
              </a:rPr>
              <a:t>Proc ASH </a:t>
            </a:r>
            <a:r>
              <a:rPr b="0" lang="en-GB" sz="2500" spc="-1" strike="noStrike">
                <a:solidFill>
                  <a:srgbClr val="00325b"/>
                </a:solidFill>
                <a:latin typeface="Verdana"/>
              </a:rPr>
              <a:t>2009;Abstract 351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rial Schema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Line 71"/>
          <p:cNvSpPr/>
          <p:nvPr/>
        </p:nvSpPr>
        <p:spPr>
          <a:xfrm flipH="1">
            <a:off x="3443400" y="3029040"/>
            <a:ext cx="620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4068720" y="2495520"/>
            <a:ext cx="100476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71"/>
          <p:cNvSpPr/>
          <p:nvPr/>
        </p:nvSpPr>
        <p:spPr>
          <a:xfrm>
            <a:off x="5068800" y="3029040"/>
            <a:ext cx="620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71"/>
          <p:cNvSpPr/>
          <p:nvPr/>
        </p:nvSpPr>
        <p:spPr>
          <a:xfrm>
            <a:off x="4572000" y="1855800"/>
            <a:ext cx="0" cy="61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327320" y="1752480"/>
          <a:ext cx="6489360" cy="432000"/>
        </p:xfrm>
        <a:graphic>
          <a:graphicData uri="http://schemas.openxmlformats.org/drawingml/2006/table">
            <a:tbl>
              <a:tblPr/>
              <a:tblGrid>
                <a:gridCol w="648936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ewly diagnosed multiple myeloma; ≤65 years ol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</a:tbl>
          </a:graphicData>
        </a:graphic>
      </p:graphicFrame>
      <p:sp>
        <p:nvSpPr>
          <p:cNvPr id="92" name="Line 71"/>
          <p:cNvSpPr/>
          <p:nvPr/>
        </p:nvSpPr>
        <p:spPr>
          <a:xfrm>
            <a:off x="1828800" y="3067200"/>
            <a:ext cx="0" cy="62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71"/>
          <p:cNvSpPr/>
          <p:nvPr/>
        </p:nvSpPr>
        <p:spPr>
          <a:xfrm>
            <a:off x="7327800" y="3029040"/>
            <a:ext cx="0" cy="62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522360" y="2678040"/>
            <a:ext cx="2614680" cy="6494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Induction (n = 241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VTD, three 21-d cycl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67"/>
          <p:cNvSpPr/>
          <p:nvPr/>
        </p:nvSpPr>
        <p:spPr>
          <a:xfrm>
            <a:off x="6008760" y="2678040"/>
            <a:ext cx="2614680" cy="6494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Induction (n = 239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TD, three 21-d cycl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71"/>
          <p:cNvSpPr/>
          <p:nvPr/>
        </p:nvSpPr>
        <p:spPr>
          <a:xfrm>
            <a:off x="1828800" y="3981600"/>
            <a:ext cx="0" cy="62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1"/>
          <p:cNvSpPr/>
          <p:nvPr/>
        </p:nvSpPr>
        <p:spPr>
          <a:xfrm>
            <a:off x="7327800" y="3981600"/>
            <a:ext cx="0" cy="62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71"/>
          <p:cNvSpPr/>
          <p:nvPr/>
        </p:nvSpPr>
        <p:spPr>
          <a:xfrm>
            <a:off x="1828800" y="4997520"/>
            <a:ext cx="0" cy="62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71"/>
          <p:cNvSpPr/>
          <p:nvPr/>
        </p:nvSpPr>
        <p:spPr>
          <a:xfrm>
            <a:off x="7327800" y="4997520"/>
            <a:ext cx="0" cy="62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522360" y="4672080"/>
            <a:ext cx="2614680" cy="64908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Consolid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VTD, two 35-d cycl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7"/>
          <p:cNvSpPr/>
          <p:nvPr/>
        </p:nvSpPr>
        <p:spPr>
          <a:xfrm>
            <a:off x="6008760" y="4672080"/>
            <a:ext cx="2614680" cy="64908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Consolid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TD, two 35-d cycl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6"/>
          <p:cNvSpPr/>
          <p:nvPr/>
        </p:nvSpPr>
        <p:spPr>
          <a:xfrm>
            <a:off x="1073160" y="5646600"/>
            <a:ext cx="6997680" cy="41148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aintenance with dexamethaso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66"/>
          <p:cNvSpPr/>
          <p:nvPr/>
        </p:nvSpPr>
        <p:spPr>
          <a:xfrm>
            <a:off x="1073160" y="3716280"/>
            <a:ext cx="6997680" cy="63360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elphalan 200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Double autologous stem cell transplantation (ASCT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26080" y="6207120"/>
            <a:ext cx="424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Cavo M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35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Response to Induction Therapy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Intent-to-Treat Analysis*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50760" y="1809720"/>
          <a:ext cx="7240680" cy="2941560"/>
        </p:xfrm>
        <a:graphic>
          <a:graphicData uri="http://schemas.openxmlformats.org/drawingml/2006/table">
            <a:tbl>
              <a:tblPr/>
              <a:tblGrid>
                <a:gridCol w="1847880"/>
                <a:gridCol w="1792440"/>
                <a:gridCol w="1800360"/>
                <a:gridCol w="1800000"/>
              </a:tblGrid>
              <a:tr h="574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VT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24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T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23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R + nC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≥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VGP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≥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263"/>
          <p:cNvSpPr/>
          <p:nvPr/>
        </p:nvSpPr>
        <p:spPr>
          <a:xfrm>
            <a:off x="1505160" y="4978440"/>
            <a:ext cx="648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CR, complete response; nCR, near complete response; VGPR, very go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partial response; PR, partial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*</a:t>
            </a:r>
            <a:r>
              <a:rPr b="0" i="1" lang="en-GB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Responses were centrally reassessed and defined by EBMT criteri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26080" y="6207120"/>
            <a:ext cx="424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Cavo M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35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72" descr="Cavograph"/>
          <p:cNvPicPr/>
          <p:nvPr/>
        </p:nvPicPr>
        <p:blipFill>
          <a:blip r:embed="rId1"/>
          <a:stretch/>
        </p:blipFill>
        <p:spPr>
          <a:xfrm>
            <a:off x="2422440" y="1844640"/>
            <a:ext cx="4359240" cy="3213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rogression-Free Survival (PFS)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25"/>
          <p:cNvSpPr/>
          <p:nvPr/>
        </p:nvSpPr>
        <p:spPr>
          <a:xfrm>
            <a:off x="1770120" y="1690560"/>
            <a:ext cx="436680" cy="33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2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.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2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8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2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2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2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2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.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26"/>
          <p:cNvSpPr/>
          <p:nvPr/>
        </p:nvSpPr>
        <p:spPr>
          <a:xfrm>
            <a:off x="2286000" y="2049480"/>
            <a:ext cx="14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2286000" y="2624040"/>
            <a:ext cx="14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2286000" y="3206880"/>
            <a:ext cx="14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>
            <a:off x="2286000" y="3745080"/>
            <a:ext cx="14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2286000" y="4319640"/>
            <a:ext cx="14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31"/>
          <p:cNvSpPr/>
          <p:nvPr/>
        </p:nvSpPr>
        <p:spPr>
          <a:xfrm>
            <a:off x="2286000" y="4894200"/>
            <a:ext cx="14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35"/>
          <p:cNvSpPr/>
          <p:nvPr/>
        </p:nvSpPr>
        <p:spPr>
          <a:xfrm>
            <a:off x="2641680" y="5049720"/>
            <a:ext cx="0" cy="14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36"/>
          <p:cNvSpPr/>
          <p:nvPr/>
        </p:nvSpPr>
        <p:spPr>
          <a:xfrm>
            <a:off x="3276720" y="5049720"/>
            <a:ext cx="0" cy="14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37"/>
          <p:cNvSpPr/>
          <p:nvPr/>
        </p:nvSpPr>
        <p:spPr>
          <a:xfrm>
            <a:off x="3929040" y="5049720"/>
            <a:ext cx="0" cy="14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38"/>
          <p:cNvSpPr/>
          <p:nvPr/>
        </p:nvSpPr>
        <p:spPr>
          <a:xfrm>
            <a:off x="4572000" y="5049720"/>
            <a:ext cx="0" cy="14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41"/>
          <p:cNvSpPr/>
          <p:nvPr/>
        </p:nvSpPr>
        <p:spPr>
          <a:xfrm>
            <a:off x="5216400" y="5049720"/>
            <a:ext cx="0" cy="14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42"/>
          <p:cNvSpPr/>
          <p:nvPr/>
        </p:nvSpPr>
        <p:spPr>
          <a:xfrm>
            <a:off x="5861160" y="5049720"/>
            <a:ext cx="0" cy="14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43"/>
          <p:cNvSpPr/>
          <p:nvPr/>
        </p:nvSpPr>
        <p:spPr>
          <a:xfrm>
            <a:off x="6504120" y="5049720"/>
            <a:ext cx="0" cy="14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4"/>
          <p:cNvSpPr/>
          <p:nvPr/>
        </p:nvSpPr>
        <p:spPr>
          <a:xfrm>
            <a:off x="2494080" y="5170320"/>
            <a:ext cx="4279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687240"/>
                <a:tab algn="ctr" pos="1312920"/>
                <a:tab algn="ctr" pos="1947960"/>
                <a:tab algn="ctr" pos="2627280"/>
                <a:tab algn="ctr" pos="3252960"/>
                <a:tab algn="ct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8"/>
          <p:cNvSpPr/>
          <p:nvPr/>
        </p:nvSpPr>
        <p:spPr>
          <a:xfrm>
            <a:off x="6644520" y="2841480"/>
            <a:ext cx="605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78a00"/>
                </a:solidFill>
                <a:latin typeface="Verdana"/>
                <a:ea typeface="Verdana"/>
              </a:rPr>
              <a:t>VT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49"/>
          <p:cNvSpPr/>
          <p:nvPr/>
        </p:nvSpPr>
        <p:spPr>
          <a:xfrm>
            <a:off x="6642360" y="3114720"/>
            <a:ext cx="465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6666"/>
                </a:solidFill>
                <a:latin typeface="Verdana"/>
                <a:ea typeface="Verdana"/>
              </a:rPr>
              <a:t>T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22"/>
          <p:cNvSpPr/>
          <p:nvPr/>
        </p:nvSpPr>
        <p:spPr>
          <a:xfrm rot="16200000">
            <a:off x="49680" y="3301200"/>
            <a:ext cx="3048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  <a:ea typeface="Verdana"/>
              </a:rPr>
              <a:t>PFS (%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2597040" y="5505480"/>
            <a:ext cx="4019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  <a:ea typeface="Verdana"/>
              </a:rPr>
              <a:t>Month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724120" y="3473280"/>
          <a:ext cx="4221360" cy="1303560"/>
        </p:xfrm>
        <a:graphic>
          <a:graphicData uri="http://schemas.openxmlformats.org/drawingml/2006/table">
            <a:tbl>
              <a:tblPr/>
              <a:tblGrid>
                <a:gridCol w="1922400"/>
                <a:gridCol w="1143000"/>
                <a:gridCol w="1155960"/>
              </a:tblGrid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 = 0.00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% at 24 m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% at 30 m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e78a00"/>
                          </a:solidFill>
                          <a:latin typeface="Verdana"/>
                          <a:ea typeface="Verdana"/>
                        </a:rPr>
                        <a:t>VTD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(n = 23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6666"/>
                          </a:solidFill>
                          <a:latin typeface="Verdana"/>
                          <a:ea typeface="Verdana"/>
                        </a:rPr>
                        <a:t>TD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(n = 23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5"/>
          <p:cNvSpPr/>
          <p:nvPr/>
        </p:nvSpPr>
        <p:spPr>
          <a:xfrm>
            <a:off x="289800" y="6207120"/>
            <a:ext cx="624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With permission from Cavo M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35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PFS in Patients with High-Risk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Cytogenetic Profiles*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50760" y="1905120"/>
          <a:ext cx="7240680" cy="3328920"/>
        </p:xfrm>
        <a:graphic>
          <a:graphicData uri="http://schemas.openxmlformats.org/drawingml/2006/table">
            <a:tbl>
              <a:tblPr/>
              <a:tblGrid>
                <a:gridCol w="1627200"/>
                <a:gridCol w="1382760"/>
                <a:gridCol w="1347840"/>
                <a:gridCol w="1441440"/>
                <a:gridCol w="1441440"/>
              </a:tblGrid>
              <a:tr h="4791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VT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T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osi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Nega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osi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Nega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ven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2.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2.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.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FS at 24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FS at 30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-valu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1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Rectangle 263"/>
          <p:cNvSpPr/>
          <p:nvPr/>
        </p:nvSpPr>
        <p:spPr>
          <a:xfrm>
            <a:off x="1305360" y="5392800"/>
            <a:ext cx="305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*</a:t>
            </a:r>
            <a:r>
              <a:rPr b="0" i="1" lang="en-GB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Patients with t(4;14) ± del(17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46600" y="6207120"/>
            <a:ext cx="424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Cavo M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35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TD plus double ASCT provided superior short-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-term outcomes to TD plus double AS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ates of CR + nCR/≥VGPR were significantly improved with VTD vs T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FS was significantly improved with VTD vs T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oxicity of VTD as an induction and consolidation therapy was relatively low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TD regimen may be considered as a new standard treatment option for younger ASCT-eligible patients with multiple myel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46600" y="6207120"/>
            <a:ext cx="424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Cavo M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35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6:57:54Z</dcterms:created>
  <dc:creator>Fernando G Rendina</dc:creator>
  <dc:description/>
  <cp:keywords/>
  <dc:language>en-US</dc:language>
  <cp:lastModifiedBy>Albert Rosado</cp:lastModifiedBy>
  <cp:lastPrinted>2010-06-16T18:32:20Z</cp:lastPrinted>
  <dcterms:modified xsi:type="dcterms:W3CDTF">2010-06-16T18:34:32Z</dcterms:modified>
  <cp:revision>48</cp:revision>
  <dc:subject/>
  <dc:title>Main Title Slide — Always use  Title Case on Slide Titles</dc:title>
</cp:coreProperties>
</file>