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655-81D1-4D2F-BEEC-8B0C73D3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932-BF38-4562-98CD-E7853291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45D-5FE2-4E4B-9D2D-6D87D02B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BB4-F91A-4288-B65D-5DEC269C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55AC-08D0-4C1B-9623-C19C0F6F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4EFE-704D-4CAE-8627-31D8B752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0034-C1DC-4916-90E0-76DD244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7128-D379-415D-AB05-96038648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281D-77D8-4A83-9F5C-34726C1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0276-69A9-49EE-805D-5FF4E75A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2020-BDF1-481E-A667-279AEF08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E46-671D-4ADA-9CA0-C2C0910E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AB53-D5A0-4279-8727-B5587BE2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A9D-FF55-4B4B-B582-82EE4B48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612A-9607-4F1C-97CD-3A14061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8CE7-89B1-4F88-984A-4AAC31D7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02EE-CD02-4350-9C1A-381ECEC3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59F-2E7A-4930-9738-D66C707B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B46-7663-4771-9401-A0A81F59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AC7-ACCB-4364-98A7-E5A01FF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BD0-1ADB-45E9-8A43-AECEB924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80E-F1CA-43A2-B9A3-EBB689CC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F5C-876D-45BA-97A6-105EB37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776-FC55-4B2A-A559-B852A4A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D78E-F1C0-444B-8635-DD021DA92741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FA0-C2DA-4AE6-8B63-A86931CBF2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ortezomib Plus Melphalan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nd Prednisone Compared with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elphalan and Prednisone in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reviously Untreated Multiple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yeloma: Updated Follow-Up and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mpact of Subsequent Therapy in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he Phase III VISTA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Mateos M-V et al.</a:t>
            </a:r>
            <a:br>
              <a:rPr sz="2500"/>
            </a:b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 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2010;28(13):2259-66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survival has been shown to be improved with VMP compared with MP in previously untreated patients with multiple myeloma (MM) ineligible for transplant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359:906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cue therapies may affect overall survival in longer follow-u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ine updated survival analysis of bortezomib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V) with melphalan/prednisone (MP) versus M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one in patients with untreated MM ineligi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-dose thera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14800" y="6207120"/>
            <a:ext cx="465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ateos M-V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J Cli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28(13):2259-6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5576760" y="1917720"/>
            <a:ext cx="2387880" cy="1324080"/>
          </a:xfrm>
          <a:prstGeom prst="rect">
            <a:avLst/>
          </a:prstGeom>
          <a:solidFill>
            <a:srgbClr val="de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MP (n = 344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Bortezomib* 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 x 9 cycl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4249800" y="2608200"/>
            <a:ext cx="1206360" cy="68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249800" y="3529080"/>
            <a:ext cx="1190520" cy="50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585720" y="5025960"/>
            <a:ext cx="806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 Bortezomib administered on standard twice-weekly schedule during cycles 1-4. Bortezomib administered on weekly schedule during cycles 5-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576760" y="3433680"/>
            <a:ext cx="2387880" cy="1325520"/>
          </a:xfrm>
          <a:prstGeom prst="rect">
            <a:avLst/>
          </a:prstGeom>
          <a:solidFill>
            <a:srgbClr val="de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 (n = 33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 x 9 cycl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14800" y="6207120"/>
            <a:ext cx="465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ateos M-V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J Cli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28(13):2259-6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VISTA Trial Sche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39560" y="2536920"/>
          <a:ext cx="3294360" cy="1477800"/>
        </p:xfrm>
        <a:graphic>
          <a:graphicData uri="http://schemas.openxmlformats.org/drawingml/2006/table">
            <a:tbl>
              <a:tblPr/>
              <a:tblGrid>
                <a:gridCol w="329436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 = 6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eviously untrea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ultiple myelom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eligible for high-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ose therap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Oval 19"/>
          <p:cNvSpPr/>
          <p:nvPr/>
        </p:nvSpPr>
        <p:spPr>
          <a:xfrm>
            <a:off x="3395520" y="286056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bsequent Therap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2% of patients on VMP and 69% on MP have received subsequent therap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ong patients who received subsequent therapy, 24% on VMP arm and 50% on MP arm received bortezomi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n time to next treatment (TTNT) and treatment free interval (TFI) were significantly longer with VM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3% and 18% of VMP and MP patients, respectively, had TFI ≥ 2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14800" y="6207120"/>
            <a:ext cx="465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ateos M-V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J Cli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28(13):2259-6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78040" y="1849320"/>
            <a:ext cx="6673680" cy="3152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8"/>
          <p:cNvSpPr/>
          <p:nvPr/>
        </p:nvSpPr>
        <p:spPr>
          <a:xfrm>
            <a:off x="1690560" y="5011560"/>
            <a:ext cx="520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7"/>
          <p:cNvSpPr/>
          <p:nvPr/>
        </p:nvSpPr>
        <p:spPr>
          <a:xfrm>
            <a:off x="1114560" y="466740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1905120" y="5332320"/>
            <a:ext cx="6184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Time (month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7"/>
          <p:cNvSpPr/>
          <p:nvPr/>
        </p:nvSpPr>
        <p:spPr>
          <a:xfrm rot="16200000">
            <a:off x="-941040" y="3268080"/>
            <a:ext cx="3502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atients alive (%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2151000" y="3497400"/>
            <a:ext cx="63756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 yr OS: 68.5% with VMP; 54% with M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MP: Median OS not reached (109 death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: Median OS 43.1 months (148 death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R 0.653 (95% CI: 0.508, 0.840),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= 0.000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0"/>
          <p:cNvSpPr/>
          <p:nvPr/>
        </p:nvSpPr>
        <p:spPr>
          <a:xfrm>
            <a:off x="2298600" y="3919680"/>
            <a:ext cx="37332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1"/>
          <p:cNvSpPr/>
          <p:nvPr/>
        </p:nvSpPr>
        <p:spPr>
          <a:xfrm>
            <a:off x="2298600" y="4137120"/>
            <a:ext cx="3733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3"/>
          <p:cNvSpPr/>
          <p:nvPr/>
        </p:nvSpPr>
        <p:spPr>
          <a:xfrm>
            <a:off x="2058840" y="5011560"/>
            <a:ext cx="520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5"/>
          <p:cNvSpPr/>
          <p:nvPr/>
        </p:nvSpPr>
        <p:spPr>
          <a:xfrm>
            <a:off x="2421000" y="5011560"/>
            <a:ext cx="52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86"/>
          <p:cNvSpPr/>
          <p:nvPr/>
        </p:nvSpPr>
        <p:spPr>
          <a:xfrm>
            <a:off x="2784600" y="5011560"/>
            <a:ext cx="52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2884320" y="5011560"/>
            <a:ext cx="1041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8"/>
          <p:cNvSpPr/>
          <p:nvPr/>
        </p:nvSpPr>
        <p:spPr>
          <a:xfrm>
            <a:off x="3300480" y="5011560"/>
            <a:ext cx="1041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9"/>
          <p:cNvSpPr/>
          <p:nvPr/>
        </p:nvSpPr>
        <p:spPr>
          <a:xfrm>
            <a:off x="3699000" y="5011560"/>
            <a:ext cx="9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0"/>
          <p:cNvSpPr/>
          <p:nvPr/>
        </p:nvSpPr>
        <p:spPr>
          <a:xfrm>
            <a:off x="4079880" y="5011560"/>
            <a:ext cx="9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91"/>
          <p:cNvSpPr/>
          <p:nvPr/>
        </p:nvSpPr>
        <p:spPr>
          <a:xfrm>
            <a:off x="4452840" y="5011560"/>
            <a:ext cx="9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2"/>
          <p:cNvSpPr/>
          <p:nvPr/>
        </p:nvSpPr>
        <p:spPr>
          <a:xfrm>
            <a:off x="4840200" y="5011560"/>
            <a:ext cx="9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3"/>
          <p:cNvSpPr/>
          <p:nvPr/>
        </p:nvSpPr>
        <p:spPr>
          <a:xfrm>
            <a:off x="5173560" y="5011560"/>
            <a:ext cx="1041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94"/>
          <p:cNvSpPr/>
          <p:nvPr/>
        </p:nvSpPr>
        <p:spPr>
          <a:xfrm>
            <a:off x="5499000" y="5011560"/>
            <a:ext cx="115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5"/>
          <p:cNvSpPr/>
          <p:nvPr/>
        </p:nvSpPr>
        <p:spPr>
          <a:xfrm>
            <a:off x="5981760" y="5011560"/>
            <a:ext cx="9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6"/>
          <p:cNvSpPr/>
          <p:nvPr/>
        </p:nvSpPr>
        <p:spPr>
          <a:xfrm>
            <a:off x="6307200" y="5011560"/>
            <a:ext cx="1041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97"/>
          <p:cNvSpPr/>
          <p:nvPr/>
        </p:nvSpPr>
        <p:spPr>
          <a:xfrm>
            <a:off x="6737400" y="5011560"/>
            <a:ext cx="9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8"/>
          <p:cNvSpPr/>
          <p:nvPr/>
        </p:nvSpPr>
        <p:spPr>
          <a:xfrm>
            <a:off x="7099200" y="5011560"/>
            <a:ext cx="9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99"/>
          <p:cNvSpPr/>
          <p:nvPr/>
        </p:nvSpPr>
        <p:spPr>
          <a:xfrm>
            <a:off x="7461360" y="5011560"/>
            <a:ext cx="1041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0"/>
          <p:cNvSpPr/>
          <p:nvPr/>
        </p:nvSpPr>
        <p:spPr>
          <a:xfrm>
            <a:off x="7961400" y="5011560"/>
            <a:ext cx="779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1"/>
          <p:cNvSpPr/>
          <p:nvPr/>
        </p:nvSpPr>
        <p:spPr>
          <a:xfrm>
            <a:off x="1114560" y="433692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02"/>
          <p:cNvSpPr/>
          <p:nvPr/>
        </p:nvSpPr>
        <p:spPr>
          <a:xfrm>
            <a:off x="1114560" y="404496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3"/>
          <p:cNvSpPr/>
          <p:nvPr/>
        </p:nvSpPr>
        <p:spPr>
          <a:xfrm>
            <a:off x="1114560" y="375300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4"/>
          <p:cNvSpPr/>
          <p:nvPr/>
        </p:nvSpPr>
        <p:spPr>
          <a:xfrm>
            <a:off x="1114560" y="346068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5"/>
          <p:cNvSpPr/>
          <p:nvPr/>
        </p:nvSpPr>
        <p:spPr>
          <a:xfrm>
            <a:off x="1114560" y="318132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6"/>
          <p:cNvSpPr/>
          <p:nvPr/>
        </p:nvSpPr>
        <p:spPr>
          <a:xfrm>
            <a:off x="1114560" y="287640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7"/>
          <p:cNvSpPr/>
          <p:nvPr/>
        </p:nvSpPr>
        <p:spPr>
          <a:xfrm>
            <a:off x="1114560" y="257184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7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8"/>
          <p:cNvSpPr/>
          <p:nvPr/>
        </p:nvSpPr>
        <p:spPr>
          <a:xfrm>
            <a:off x="1114560" y="227952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8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09"/>
          <p:cNvSpPr/>
          <p:nvPr/>
        </p:nvSpPr>
        <p:spPr>
          <a:xfrm>
            <a:off x="1114560" y="1974960"/>
            <a:ext cx="69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9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10"/>
          <p:cNvSpPr/>
          <p:nvPr/>
        </p:nvSpPr>
        <p:spPr>
          <a:xfrm>
            <a:off x="1041480" y="1682640"/>
            <a:ext cx="81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4840" y="6207120"/>
            <a:ext cx="7620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With permission, originally published by the American Society of Clinical Oncology.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ateos M-V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J Cli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28(13):2259-6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pdated Survival Benefit with VMP (Median Follow-Up 36.7 Months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bset Analyse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ong those patients who received subsequent therapy, the survival benefit with VMP over MP was retai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rend of improved survival from start of subsequent therapy was observed (HR 0.815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0.21) in all patients who received subsequent therap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he VMP subgroup, OS was better among pati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d &lt; 75 vs ≥ 75 years (HR 1.664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0.01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tatistically significant difference in overall survival among patients treated with VMP was apparent when results were analyzed by baseline renal function or cytogenetic risk prof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40000" y="6207120"/>
            <a:ext cx="465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ateos M-V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J Cli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28(13):2259-6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d analysis confirms that VMP results in significantly improved survival compared to M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vival benefit is seen both overall and also in patients who had received subsequent therap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MP results in significantly longer TTNT and TF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vage therapies are similarly effective following VMP and MP, suggesting that bortezomib use as initial therapy does not induce more resistant relap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40000" y="6207120"/>
            <a:ext cx="465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ateos M-V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J Cli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28(13):2259-6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9:56:13Z</dcterms:created>
  <dc:creator>Fernando G Rendina</dc:creator>
  <dc:description/>
  <cp:keywords/>
  <dc:language>en-US</dc:language>
  <cp:lastModifiedBy>Albert Rosado</cp:lastModifiedBy>
  <cp:lastPrinted>2010-06-16T18:39:15Z</cp:lastPrinted>
  <dcterms:modified xsi:type="dcterms:W3CDTF">2010-06-16T18:39:18Z</dcterms:modified>
  <cp:revision>98</cp:revision>
  <dc:subject/>
  <dc:title>Main Title Slide — Always use  Title Case on Slide Titles</dc:title>
</cp:coreProperties>
</file>