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D89E-EC0A-4221-8A4C-FAC1609A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0193-21D8-49B9-A9A6-145357CF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4F3-9E02-42C3-84C5-24969192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96AC-456F-40E2-8F5D-B792A7BB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FF16-64F3-43F2-B867-3DD69F48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7FF8-12CB-47ED-8579-A22C59B9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4F60-1C65-4633-8B73-36F874CA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5919-235F-477D-A163-F2DDB560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6F52-8EFA-46C5-A21A-AE3B9D0A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B961-A57D-4BBA-B2B1-12A14015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BC40-202C-4C33-9393-CF249C0F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E759-FE3E-4E8D-96D9-3690C415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0CCB-9559-4C7D-9871-7BC2060D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7128-42E3-42AF-B118-D52E6FD4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2C8C-CC4F-4949-8597-8DCF82C9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C8F1-0774-4CAE-AC6F-E493BE83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397A-C43A-48B7-8B47-48A3BDDD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F86-8FDE-494F-835D-34E64513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3315-4FD0-4D3D-AEAC-79731A89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D5B-949B-4448-A2D1-0A6646A9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D7C8-C552-4A8A-8967-9B0F1FF9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E3A-9315-4C3D-88E3-21A0382F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C89-E332-44AD-94A7-F874716D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4FE9-D2F5-4C2E-86F0-9EC1C3B6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44FB-BC07-4C36-9C7C-F13F551C250A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BE39-F4A7-4F82-B17D-A781159AFA1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ernational Myeloma Working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Group Molecular Classification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of Multiple Myeloma: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potlight Review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Fonseca R et al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Leukemia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09;23(12):2210-21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myeloma (MM) is a clonal B-cell disorder with heterogeneity in outcome among different pat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ral subtypes have been identified at the genetic and molecular lev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tic and molecular subtypes are associated with unique clinicopathologic features and have prognostic impli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520200" y="6207120"/>
            <a:ext cx="434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Fonseca R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Leukemia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23(12):2210-2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Genetic Classifica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1360" y="1898280"/>
            <a:ext cx="4040280" cy="639720"/>
          </a:xfrm>
          <a:prstGeom prst="rect">
            <a:avLst/>
          </a:prstGeom>
          <a:solidFill>
            <a:srgbClr val="deeef4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b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8406f"/>
                </a:solidFill>
                <a:latin typeface="Verdana"/>
                <a:ea typeface="Verdana"/>
              </a:rPr>
              <a:t>Hyperdiploid (h) M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1360" y="2538000"/>
            <a:ext cx="404028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5% of all M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umerous chromosome trisom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ore favorable outcom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lightly more common in mal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ore common in elderl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1640" y="1898280"/>
            <a:ext cx="4041720" cy="639720"/>
          </a:xfrm>
          <a:prstGeom prst="rect">
            <a:avLst/>
          </a:prstGeom>
          <a:solidFill>
            <a:srgbClr val="deeef4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8406f"/>
                </a:solidFill>
                <a:latin typeface="Verdana"/>
                <a:ea typeface="Verdana"/>
              </a:rPr>
              <a:t>Nonhyperdiploid (nh) M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1640" y="2538000"/>
            <a:ext cx="404172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0% of all M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ighly enriched for IgH transloca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verall less favorable outcom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xamples include t(11;14),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(4;14), t(14:16), del(17p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4"/>
          <p:cNvSpPr/>
          <p:nvPr/>
        </p:nvSpPr>
        <p:spPr>
          <a:xfrm>
            <a:off x="539640" y="4968720"/>
            <a:ext cx="80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Remaining 15% of MM is either with overlap or unclassified in the two maj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genetic categori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20200" y="6207120"/>
            <a:ext cx="434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Fonseca R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Leukemia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23(12):2210-2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Molecular Subtypes of MM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(11;1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5% of all 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yposecretory dis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ociated with IgM myelo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nosis neut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(14;1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-7% of all 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 prevalence of concomitant chromosome 13 dele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frequency of IgA iso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gressive clinical cour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520200" y="6207120"/>
            <a:ext cx="434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Fonseca R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Leukemia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23(12):2210-2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Molecular Subtypes of MM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(17p1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aggressive dis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prevalence of extramedullary dis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rt duration of response after transpl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(4;1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5% of all 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 prevalence of concomitant chromosome 13 abnorma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or outco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rtezomib may overcome the poor prognosis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subgro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520200" y="6207120"/>
            <a:ext cx="434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Fonseca R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Leukemia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23(12):2210-2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Molecular Subtypes of MM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romosome 13 abnorma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 in 50% of MM and 90% of t(4;14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(14;1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ce is considered as of surrogate association with nh 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romosome 1 abnorma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erging mark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gative prognostic association in some rep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20200" y="6207120"/>
            <a:ext cx="434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Fonseca R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Leukemia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23(12):2210-2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Gene Expression Profiling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versity of Arkansas and IFM (Intergroupe Francophone du Myélome) have identified gene signatures that can provide prognostic discrimin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is minimal overlap between these two signatures, and both will need valid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conceivable that gene signatures may become predictive markers in the fu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520200" y="6207120"/>
            <a:ext cx="434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Fonseca R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Leukemia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23(12):2210-2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Recommendat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eline genetic information should be obtained in al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M c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SH testing must be done on purified plasma cells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on unsorted samp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panel required for prognostication should includ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(4;14), t(14;16) and del(17p13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ore comprehensive panel should include testing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(11;14), chromosome 13 deletion, ploidy category and chromosome 1 abnormalit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 expression signatures should be incorporated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clinical tria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20200" y="6207120"/>
            <a:ext cx="434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Fonseca R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Leukemia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2009;23(12):2210-2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6:03:20Z</dcterms:created>
  <dc:creator>Fernando G Rendina</dc:creator>
  <dc:description/>
  <cp:keywords/>
  <dc:language>en-US</dc:language>
  <cp:lastModifiedBy>Aura Herrmann</cp:lastModifiedBy>
  <cp:lastPrinted>2010-05-07T23:36:26Z</cp:lastPrinted>
  <dcterms:modified xsi:type="dcterms:W3CDTF">2010-05-14T13:06:44Z</dcterms:modified>
  <cp:revision>86</cp:revision>
  <dc:subject/>
  <dc:title>Main Title Slide — Always use  Title Case on Slide Titles</dc:title>
</cp:coreProperties>
</file>