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222-E25D-48F8-AC93-0E5FFC00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3D1-A699-47AA-8D75-FFDCFB0F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8EE-6302-46C7-8C21-E3E755EA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B73-F328-4D75-859E-89E151FE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A977-7DF8-4D3E-96B1-7B387C62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1154-8301-44E0-AA37-C793D607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6925-0A83-4003-B3E5-CAAB62C9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CE7E-164A-4F98-8CB0-557715FD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5E91-02E0-46B2-A9E2-4412CEAB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0A66-B950-43AC-B3D4-444D3F60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DA52-1279-4D02-A709-0EE81577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1E7-C79E-4F55-A002-995FC25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4BC1-F4AA-429B-8C46-EC96CB9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0075-CC44-4283-BB25-BA19A3F1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E78E-97C8-499D-91B1-D6BE0FA5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8B6D-7360-49E4-B559-D03D08E6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AAFA-D862-4369-A474-762D42D7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083-2DC1-4862-9061-D8A44E43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16E-349D-4562-B2B8-19FC937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90A-B800-4FE3-9ACD-AD1CF19C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0B9-B725-4B52-97FB-114067F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9B3-DAB4-4877-949E-4C8A98E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C7C-7BDF-4964-B42A-BD8FD0C8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E9E-88E5-4761-B59D-49F0A763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6015-711B-43F3-A9AA-C849ECB8DA4B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0B7B-2A62-40D6-9ACE-FEDC7464F83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fluence of Cytogenetics in Patients with Relapsed or Refractory Multiple Myeloma Treated with Lenalidomide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lus Dexamethasone: Adverse Effect of Deletion 17p13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Reece D et al.</a:t>
            </a:r>
            <a:br>
              <a:rPr sz="2500"/>
            </a:br>
            <a:r>
              <a:rPr b="0" i="1" lang="en-GB" sz="2500" spc="-1" strike="noStrike">
                <a:solidFill>
                  <a:srgbClr val="00325b"/>
                </a:solidFill>
                <a:latin typeface="Verdana"/>
              </a:rPr>
              <a:t>Blood</a:t>
            </a:r>
            <a:r>
              <a:rPr b="0" lang="en-GB" sz="2500" spc="-1" strike="noStrike">
                <a:solidFill>
                  <a:srgbClr val="00325b"/>
                </a:solidFill>
                <a:latin typeface="Verdana"/>
              </a:rPr>
              <a:t> 2009;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114(3):522-5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r prognosis exists for patients with multi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eloma (MM) carrying t(4;14) or del(17p13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lo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109:3489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gative prognostic impact of t(4;14) is overcom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bortezomib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Engl J Me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;359:906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data exist on the role of lenalidomide in patients with “high-risk” cytogenetic abnormaliti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effects of del(13q), t(4;14) and del(17p13) in patients treated with lenalidomide (R) and dexamethasone (D) for relapsed or refractory 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68000" y="6207120"/>
            <a:ext cx="362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eece 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14(3):522-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Method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t hoc subanalysis was performed on 130 patients from three Canadian centers in the Expanded Access Program database (MM-016 study), with available FISH studies for del(13q), t(4;14) and del(17p1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n follow-up at 19.7 mon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y outcome: Time to progression (T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ary outcome: Overall survival (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ched pair analysis was performed for the subgroup of patients with t(4;14) to address the inherent imbalance in clinical characteristics and short period of follow-u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8000" y="6207120"/>
            <a:ext cx="362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eece 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14(3):522-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ect of Cytogenetics on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reatment Efficac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26960" y="1714680"/>
          <a:ext cx="8288280" cy="3956040"/>
        </p:xfrm>
        <a:graphic>
          <a:graphicData uri="http://schemas.openxmlformats.org/drawingml/2006/table">
            <a:tbl>
              <a:tblPr/>
              <a:tblGrid>
                <a:gridCol w="1730520"/>
                <a:gridCol w="1388880"/>
                <a:gridCol w="1703520"/>
                <a:gridCol w="1701720"/>
                <a:gridCol w="1763640"/>
              </a:tblGrid>
              <a:tr h="82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All patients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13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del(13q)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5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del(17p13)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1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t(4;14)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Response (&gt;minimal)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3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7.8%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= 0.00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8.3%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&lt; 0.00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8.5%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= 0.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dian TTP (mo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.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.9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HR = 1.42; </a:t>
                      </a:r>
                      <a:br>
                        <a:rPr sz="1700"/>
                      </a:b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= 0.0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.22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HR = 2.82; </a:t>
                      </a:r>
                      <a:br>
                        <a:rPr sz="1700"/>
                      </a:b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&lt; 0.00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.0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HR = 1.44; </a:t>
                      </a:r>
                      <a:br>
                        <a:rPr sz="1700"/>
                      </a:b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= 0.13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dian OS (mo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2.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.7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HR = 1.43; </a:t>
                      </a:r>
                      <a:br>
                        <a:rPr sz="1700"/>
                      </a:b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= 0.15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.67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HR = 3.23; </a:t>
                      </a:r>
                      <a:br>
                        <a:rPr sz="1700"/>
                      </a:b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&lt; 0.00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3.7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HR = 1.04; </a:t>
                      </a:r>
                      <a:br>
                        <a:rPr sz="1700"/>
                      </a:b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= 0.91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188"/>
          <p:cNvSpPr/>
          <p:nvPr/>
        </p:nvSpPr>
        <p:spPr>
          <a:xfrm>
            <a:off x="981000" y="5815080"/>
            <a:ext cx="65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Hazard ratio (HR) and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-values for abnormality versus none (match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68000" y="6207120"/>
            <a:ext cx="362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eece 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14(3):522-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Discuss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bination of lenalidomide and dexamethasone is an effective therapy for relapsed/refractory 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either del(13q) or t(4;14) experienced median TTP and OS comparable to those without the corresponding cytogenetic abnorm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del(17p13), however, had significantly worse outcomes (TTP = 2.2 mo; OS = 4.67 mo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alidomide appears to be ineffective in patients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(17p13), and novel therapeutic approaches are needed for this subgrou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0760" y="628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68000" y="6207120"/>
            <a:ext cx="362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eece 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 2009;114(3):522-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8:22:35Z</dcterms:created>
  <dc:creator>Fernando G Rendina</dc:creator>
  <dc:description/>
  <cp:keywords/>
  <dc:language>en-US</dc:language>
  <cp:lastModifiedBy>Aura Herrmann</cp:lastModifiedBy>
  <cp:lastPrinted>2010-03-17T12:16:53Z</cp:lastPrinted>
  <dcterms:modified xsi:type="dcterms:W3CDTF">2010-05-14T13:06:12Z</dcterms:modified>
  <cp:revision>77</cp:revision>
  <dc:subject/>
  <dc:title>Main Title Slide — Always use  Title Case on Slide Titles</dc:title>
</cp:coreProperties>
</file>