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29E-70D2-4321-A36C-C41D384D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BFF-2BE4-436E-9D98-28D44A06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13B-2116-4A96-8B1F-985DAB59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963-59B1-43A7-B21F-C7DAD6F7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4287-5D2F-41F0-86A4-CFB49B46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5A96-0FDF-4EB4-9B0F-C179DFA7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3970-C74D-44C8-98F0-E3CE22F9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0927-BC67-412B-A133-5F2E7B60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D4AD-05C8-489F-B8CB-3D3E453C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4BA4-699F-4A18-BED9-DC7EE223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9C97-0C96-44B4-BD8D-132936F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802-6FC2-4D57-BEE1-E6744865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0081-FC98-46B0-BF1D-73735E4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EEE8-113F-4616-A100-A9F94761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A6A6-BC47-40CF-96FB-F45E90F7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6EE5-2005-43AB-A6B9-D85BBD75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FF33-EC03-437C-B3FF-1AFA3531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4EE-761E-4A6C-919D-4EE063E9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8B7-118B-4F06-964C-89775B76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86F-7918-40C7-B0E0-14326999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2C6-7FC7-4B28-9298-A7D1750F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D98-6233-454E-84AF-306425DA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8A9-F167-4726-983D-0319E2DC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1A2-723C-4B52-B227-945D111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87C1-DBFF-460C-BB62-D5B17883E78E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42DD-3ED8-4C06-AD09-9CE0F0F803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 Phase III Study to Determine the Efficacy and Safety of Lenalidomide in Combination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with Melphalan and Prednisone Followed by Lenalidomide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(MPR-R) in Patients ≥ 65 Years with Newly Diagnosed Multiple Myeloma (NDMM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Palumbo A et 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Proc ASH 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2009;Abstract 613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longed lenalidomide therapy has been shown to improve overall survival in patients with relapsed/ refractory multiple myeloma (ASH 2008;Abstract 370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/II study has demonstrated that MPR is an effective therapy with manageable toxicity for patients with NDMM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in Lymphoma Myelom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9;9:145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the efficacy and safety of MPR with or without lenalidomide maintenance with that of MP alone in patients with ND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23000" y="6207120"/>
            <a:ext cx="41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61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4236120" y="2008080"/>
            <a:ext cx="759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3"/>
          <p:cNvSpPr/>
          <p:nvPr/>
        </p:nvSpPr>
        <p:spPr>
          <a:xfrm>
            <a:off x="4538520" y="1065240"/>
            <a:ext cx="155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3033720" y="1596960"/>
            <a:ext cx="3076560" cy="665280"/>
          </a:xfrm>
          <a:prstGeom prst="rect">
            <a:avLst/>
          </a:prstGeom>
          <a:solidFill>
            <a:srgbClr val="de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406f"/>
                </a:solidFill>
                <a:latin typeface="Verdana"/>
                <a:ea typeface="Verdana"/>
              </a:rPr>
              <a:t>Newly diagnosed M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406f"/>
                </a:solidFill>
                <a:latin typeface="Verdana"/>
                <a:ea typeface="Verdana"/>
              </a:rPr>
              <a:t>Age ≥ 65 yea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5"/>
          <p:cNvSpPr/>
          <p:nvPr/>
        </p:nvSpPr>
        <p:spPr>
          <a:xfrm>
            <a:off x="3402720" y="2438280"/>
            <a:ext cx="2341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Randomization 1:1: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8"/>
          <p:cNvSpPr/>
          <p:nvPr/>
        </p:nvSpPr>
        <p:spPr>
          <a:xfrm>
            <a:off x="852480" y="5238720"/>
            <a:ext cx="7489800" cy="62244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3"/>
          <p:cNvSpPr/>
          <p:nvPr/>
        </p:nvSpPr>
        <p:spPr>
          <a:xfrm>
            <a:off x="1549440" y="2852640"/>
            <a:ext cx="610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555920" y="2843280"/>
            <a:ext cx="6084720" cy="318600"/>
            <a:chOff x="1555920" y="2843280"/>
            <a:chExt cx="6084720" cy="318600"/>
          </a:xfrm>
        </p:grpSpPr>
        <p:sp>
          <p:nvSpPr>
            <p:cNvPr id="96" name="Line 56"/>
            <p:cNvSpPr/>
            <p:nvPr/>
          </p:nvSpPr>
          <p:spPr>
            <a:xfrm>
              <a:off x="7640640" y="2877120"/>
              <a:ext cx="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59"/>
            <p:cNvSpPr/>
            <p:nvPr/>
          </p:nvSpPr>
          <p:spPr>
            <a:xfrm>
              <a:off x="4567320" y="2877120"/>
              <a:ext cx="0" cy="28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0"/>
            <p:cNvSpPr/>
            <p:nvPr/>
          </p:nvSpPr>
          <p:spPr>
            <a:xfrm>
              <a:off x="1555920" y="2843280"/>
              <a:ext cx="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Line 61"/>
          <p:cNvSpPr/>
          <p:nvPr/>
        </p:nvSpPr>
        <p:spPr>
          <a:xfrm>
            <a:off x="4572000" y="273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3"/>
          <p:cNvSpPr/>
          <p:nvPr/>
        </p:nvSpPr>
        <p:spPr>
          <a:xfrm>
            <a:off x="4573440" y="2262240"/>
            <a:ext cx="0" cy="23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64"/>
          <p:cNvSpPr/>
          <p:nvPr/>
        </p:nvSpPr>
        <p:spPr>
          <a:xfrm>
            <a:off x="4562640" y="3855960"/>
            <a:ext cx="0" cy="37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4"/>
          <p:cNvSpPr/>
          <p:nvPr/>
        </p:nvSpPr>
        <p:spPr>
          <a:xfrm>
            <a:off x="1552680" y="38559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64"/>
          <p:cNvSpPr/>
          <p:nvPr/>
        </p:nvSpPr>
        <p:spPr>
          <a:xfrm>
            <a:off x="7635960" y="38559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279600" y="3032280"/>
            <a:ext cx="2576520" cy="82044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R (n = 153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R q28 days x 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0"/>
          <p:cNvSpPr/>
          <p:nvPr/>
        </p:nvSpPr>
        <p:spPr>
          <a:xfrm>
            <a:off x="257040" y="3051000"/>
            <a:ext cx="2576520" cy="82080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R-R (n = 152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R q28 days x 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353280" y="3051000"/>
            <a:ext cx="2576520" cy="82080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 (n = 154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 Placebo: d1-2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q28 days x 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3279600" y="4264200"/>
            <a:ext cx="2576520" cy="74916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Cycles 10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0"/>
          <p:cNvSpPr/>
          <p:nvPr/>
        </p:nvSpPr>
        <p:spPr>
          <a:xfrm>
            <a:off x="257040" y="4276800"/>
            <a:ext cx="2576520" cy="74916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R q28 day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Cycles 10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6353280" y="4276800"/>
            <a:ext cx="2576520" cy="74916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Cycles 10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1161360" y="5259240"/>
            <a:ext cx="2882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rimary trial comparis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R-R vs M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4932000" y="5246640"/>
            <a:ext cx="3143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Secondary trial comparis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R-R vs MP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23000" y="6207120"/>
            <a:ext cx="41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61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hase III, Multicenter, Randomized Trial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f MPR in Elderly Patients with NDM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7800" y="1847880"/>
          <a:ext cx="8453520" cy="2916360"/>
        </p:xfrm>
        <a:graphic>
          <a:graphicData uri="http://schemas.openxmlformats.org/drawingml/2006/table">
            <a:tbl>
              <a:tblPr/>
              <a:tblGrid>
                <a:gridCol w="3515040"/>
                <a:gridCol w="1269720"/>
                <a:gridCol w="1270080"/>
                <a:gridCol w="1270080"/>
                <a:gridCol w="1128600"/>
              </a:tblGrid>
              <a:tr h="73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Best overall response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MPR-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15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MP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15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M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15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MPR-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s M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129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Overall 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mplete respon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≥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Very good partial respon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rtial respon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7%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ogressive disea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dian time to first respon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.9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.9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.8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102"/>
          <p:cNvSpPr/>
          <p:nvPr/>
        </p:nvSpPr>
        <p:spPr>
          <a:xfrm>
            <a:off x="539640" y="5025960"/>
            <a:ext cx="80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Measured by EBMT crite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23000" y="6207120"/>
            <a:ext cx="41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61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nical Response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87520" y="2444760"/>
            <a:ext cx="2881440" cy="2638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444680" y="501804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755720" y="5019840"/>
            <a:ext cx="474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247840" y="5025960"/>
            <a:ext cx="474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679840" y="501804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164040" y="50259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106640" y="4727520"/>
            <a:ext cx="48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042920" y="417348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042920" y="358128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042920" y="300672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7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928800" y="2408400"/>
            <a:ext cx="63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1494000" y="5403960"/>
            <a:ext cx="2985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FS Time (month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R 0.499 [0.330, 0.755]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 rot="16200000">
            <a:off x="-1047240" y="3725280"/>
            <a:ext cx="3146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atients without Event (%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652920" y="50259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5353200" y="5403960"/>
            <a:ext cx="3012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FS Time (month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HR 0.530 [0.350, 0.802]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901800" y="1868400"/>
            <a:ext cx="2077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R-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36"/>
          <p:cNvSpPr/>
          <p:nvPr/>
        </p:nvSpPr>
        <p:spPr>
          <a:xfrm>
            <a:off x="1319040" y="2319480"/>
            <a:ext cx="37332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7"/>
          <p:cNvSpPr/>
          <p:nvPr/>
        </p:nvSpPr>
        <p:spPr>
          <a:xfrm>
            <a:off x="1319040" y="2041560"/>
            <a:ext cx="373320" cy="0"/>
          </a:xfrm>
          <a:prstGeom prst="line">
            <a:avLst/>
          </a:prstGeom>
          <a:ln w="28440">
            <a:solidFill>
              <a:srgbClr val="e7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2812320" y="1855800"/>
            <a:ext cx="1448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Not reach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3.0 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571680" y="1563840"/>
            <a:ext cx="4000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rimary Analysis MPR-R vs M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4775040" y="1868400"/>
            <a:ext cx="2078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R-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P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5192640" y="2319480"/>
            <a:ext cx="37296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5192640" y="2041560"/>
            <a:ext cx="372960" cy="0"/>
          </a:xfrm>
          <a:prstGeom prst="line">
            <a:avLst/>
          </a:prstGeom>
          <a:ln w="28440">
            <a:solidFill>
              <a:srgbClr val="e7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6685920" y="1855800"/>
            <a:ext cx="1448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Not reach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3.2 mon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4775040" y="1563840"/>
            <a:ext cx="4368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Secondary Analysis MPR-R vs MP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2"/>
          <p:cNvSpPr/>
          <p:nvPr/>
        </p:nvSpPr>
        <p:spPr>
          <a:xfrm>
            <a:off x="4092480" y="50259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3"/>
          <p:cNvSpPr/>
          <p:nvPr/>
        </p:nvSpPr>
        <p:spPr>
          <a:xfrm>
            <a:off x="1729800" y="4440240"/>
            <a:ext cx="980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&lt;0.00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4"/>
          <p:cNvSpPr/>
          <p:nvPr/>
        </p:nvSpPr>
        <p:spPr>
          <a:xfrm>
            <a:off x="5622840" y="4440240"/>
            <a:ext cx="1093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= 0.00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5"/>
          <p:cNvSpPr/>
          <p:nvPr/>
        </p:nvSpPr>
        <p:spPr>
          <a:xfrm>
            <a:off x="5343480" y="501804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6"/>
          <p:cNvSpPr/>
          <p:nvPr/>
        </p:nvSpPr>
        <p:spPr>
          <a:xfrm>
            <a:off x="5670720" y="5019840"/>
            <a:ext cx="474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7"/>
          <p:cNvSpPr/>
          <p:nvPr/>
        </p:nvSpPr>
        <p:spPr>
          <a:xfrm>
            <a:off x="6122880" y="5025960"/>
            <a:ext cx="474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8"/>
          <p:cNvSpPr/>
          <p:nvPr/>
        </p:nvSpPr>
        <p:spPr>
          <a:xfrm>
            <a:off x="6539040" y="501804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9"/>
          <p:cNvSpPr/>
          <p:nvPr/>
        </p:nvSpPr>
        <p:spPr>
          <a:xfrm>
            <a:off x="6999120" y="5025960"/>
            <a:ext cx="500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5005440" y="4727520"/>
            <a:ext cx="48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1"/>
          <p:cNvSpPr/>
          <p:nvPr/>
        </p:nvSpPr>
        <p:spPr>
          <a:xfrm>
            <a:off x="4941720" y="417348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2"/>
          <p:cNvSpPr/>
          <p:nvPr/>
        </p:nvSpPr>
        <p:spPr>
          <a:xfrm>
            <a:off x="4941720" y="358128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3"/>
          <p:cNvSpPr/>
          <p:nvPr/>
        </p:nvSpPr>
        <p:spPr>
          <a:xfrm>
            <a:off x="4941720" y="3006720"/>
            <a:ext cx="48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7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4"/>
          <p:cNvSpPr/>
          <p:nvPr/>
        </p:nvSpPr>
        <p:spPr>
          <a:xfrm>
            <a:off x="4827600" y="2408400"/>
            <a:ext cx="63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1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5"/>
          <p:cNvSpPr/>
          <p:nvPr/>
        </p:nvSpPr>
        <p:spPr>
          <a:xfrm>
            <a:off x="7448400" y="50259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6"/>
          <p:cNvSpPr/>
          <p:nvPr/>
        </p:nvSpPr>
        <p:spPr>
          <a:xfrm>
            <a:off x="7904160" y="5025960"/>
            <a:ext cx="50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86000" y="6207120"/>
            <a:ext cx="616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With permission from 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61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edian Progression-Free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rvival (PFS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05400" y="2489040"/>
            <a:ext cx="2746440" cy="253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ous lenalidomide is superior to regimens of limited duration in patients ≥65 years with ND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R-R resulted in an approximately 50% reduced risk of progression compared to M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R-R had a tolerable safety profile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Grade 3/4 peripheral neuropat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 4 neutropenia: 36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R-R is a potential new standard treatment option for elderly patients with ND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23000" y="6207120"/>
            <a:ext cx="41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61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20:09:53Z</dcterms:created>
  <dc:creator>Fernando G Rendina</dc:creator>
  <dc:description/>
  <cp:keywords/>
  <dc:language>en-US</dc:language>
  <cp:lastModifiedBy>Aura Herrmann</cp:lastModifiedBy>
  <cp:lastPrinted>2010-05-14T12:51:49Z</cp:lastPrinted>
  <dcterms:modified xsi:type="dcterms:W3CDTF">2010-05-14T13:05:59Z</dcterms:modified>
  <cp:revision>103</cp:revision>
  <dc:subject/>
  <dc:title>Main Title Slide — Always use  Title Case on Slide Titles</dc:title>
</cp:coreProperties>
</file>