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201-3D24-42E1-B312-15F3533A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807-0B74-4492-93E7-149BDF6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011-976E-45A8-B9CC-67E5740F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B8C-5192-4BBA-98D1-AD9672AF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378A-9ABA-4BA7-9C12-55856153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2C54-BD3F-42F1-86F1-A39573C3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9D8E-330B-4A96-9A74-F5790216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C2ED-0887-4294-A837-DE99467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3C2E-1AD7-435D-B674-6515940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1209-E7CB-4DF8-8377-62F5172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9ECD-1E64-4C3A-B6E1-01BCB2F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7CF-2E9A-4249-A11D-96830652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65BE-7466-4FDE-AAEE-4B50EE0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576-1CB2-443E-A45C-3A0CD23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19CD-E271-4D2D-908A-971835BD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A0CA-51B9-4FBA-8C35-15D66138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1035-82E1-434D-9E69-C5136495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9CB-7EF4-4A4D-A376-4463631D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8AF-73A7-41B1-91FD-DBCE1830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0B2-368E-4A20-875B-EA1D6581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B07-1C65-422D-984D-8653C428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512-6A7D-466A-8511-04A5392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08E-B6F4-4EA2-B52A-6CFBB419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B29-3251-4A19-9459-1A3F38E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D5B-D556-46E5-9DCE-7EE2FE6E36F0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38D-01E8-4F73-A528-657501A609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Reversibility of Symptomatic Peripheral Neuropathy with Bortezomib in the Phase III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PEX Trial in Relapsed Multiple Myeloma: Impact of a Dose-Modification Guidelin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Richardson PG </a:t>
            </a: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et al.</a:t>
            </a:r>
            <a:br>
              <a:rPr sz="2500"/>
            </a:br>
            <a:r>
              <a:rPr b="0" i="1" lang="en-GB" sz="2500" spc="-1" strike="noStrike">
                <a:solidFill>
                  <a:srgbClr val="00325b"/>
                </a:solidFill>
                <a:latin typeface="Verdana"/>
              </a:rPr>
              <a:t>Br J Haematol 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09;144(6):895-903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PEX Trial Comparing Bortezomib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with Dexamethason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539640" y="502596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Bortezomib 1.3 mg/m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 on d1, 4, 8 and 11 for eight 21-d cycles, and then on d1, 8, 15 and 22 for three 35-d maintenance cyc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48640" y="6207120"/>
            <a:ext cx="5162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ichardson PG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r J Haemat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44(6):895-903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ichardson PG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5;353(24):2487-98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59"/>
          <p:cNvSpPr/>
          <p:nvPr/>
        </p:nvSpPr>
        <p:spPr>
          <a:xfrm>
            <a:off x="4572000" y="2425680"/>
            <a:ext cx="0" cy="191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77800" y="2198520"/>
          <a:ext cx="3294000" cy="2256120"/>
        </p:xfrm>
        <a:graphic>
          <a:graphicData uri="http://schemas.openxmlformats.org/drawingml/2006/table">
            <a:tbl>
              <a:tblPr/>
              <a:tblGrid>
                <a:gridCol w="32940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 = 66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9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elapsed multiple myelom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-3 prior therapi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Grade 2 peripheral neuropathy exclud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57"/>
          <p:cNvSpPr/>
          <p:nvPr/>
        </p:nvSpPr>
        <p:spPr>
          <a:xfrm>
            <a:off x="5183280" y="3983040"/>
            <a:ext cx="3343320" cy="7365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examethasone (n = 336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58"/>
          <p:cNvSpPr/>
          <p:nvPr/>
        </p:nvSpPr>
        <p:spPr>
          <a:xfrm>
            <a:off x="3875040" y="340200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9"/>
          <p:cNvSpPr/>
          <p:nvPr/>
        </p:nvSpPr>
        <p:spPr>
          <a:xfrm>
            <a:off x="4044960" y="288936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60"/>
          <p:cNvSpPr/>
          <p:nvPr/>
        </p:nvSpPr>
        <p:spPr>
          <a:xfrm>
            <a:off x="4551480" y="243828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61"/>
          <p:cNvSpPr/>
          <p:nvPr/>
        </p:nvSpPr>
        <p:spPr>
          <a:xfrm>
            <a:off x="4576680" y="43657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5183280" y="2058840"/>
            <a:ext cx="3343320" cy="7369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Bortezomib (n = 333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Dose-Modification Guideline in APEX Trial for Bortezomib-Associated Neuropath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1 without p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1 with pain or Grade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bortezomib dosage to 1.0 mg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2 with pain or Grade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hold bortezomib until toxicity resolves, then reinitiate at a dose of 0.7 mg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 week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ontinue bortezomi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1360" y="6207120"/>
            <a:ext cx="511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ichardson PG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r J Haemat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44(6):895-9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Neuropathy in APEX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7240" y="1917720"/>
          <a:ext cx="7769520" cy="2454120"/>
        </p:xfrm>
        <a:graphic>
          <a:graphicData uri="http://schemas.openxmlformats.org/drawingml/2006/table">
            <a:tbl>
              <a:tblPr/>
              <a:tblGrid>
                <a:gridCol w="3160800"/>
                <a:gridCol w="1447920"/>
                <a:gridCol w="1562040"/>
                <a:gridCol w="1598760"/>
              </a:tblGrid>
              <a:tr h="123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All patients with ≥G 2 neuropathy (n = 91)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G 2 neuropathy; dose modification (n = 7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G 2 neuropathy; no dose modification (n = 1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mprovement/resolution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of neuropath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8 (64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9 (68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 (47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improvement/resolution of neuropath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3 (36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 (32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 (53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18"/>
          <p:cNvSpPr/>
          <p:nvPr/>
        </p:nvSpPr>
        <p:spPr>
          <a:xfrm>
            <a:off x="539640" y="461016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Mostly sensory neuropathy (98%) observed; incidence and severity was independent of age, prior thalidomide or vincristine therapy, and diabetes histo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59080" y="6207120"/>
            <a:ext cx="511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ichardson PG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r J Haemat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44(6):895-9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Dose-Modification Guidelines and Reversibility of Neuropath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1/331 (27%) patients developed ≥G2 neuropat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2/91 had dose modifications per guide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/91 had no dose modifications (protocol violation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9/72 (68%) patients who had dose modifications experienced improvement or resolution of their neuropat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/19 (47%) patients who did not have dose modifications experienced resolution of their neuropat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59080" y="6207120"/>
            <a:ext cx="511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ichardson PG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r J Haemat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44(6):895-9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ect of Dose Modificatio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for Neuropathy on Outcom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7240" y="1917720"/>
          <a:ext cx="7769520" cy="3809880"/>
        </p:xfrm>
        <a:graphic>
          <a:graphicData uri="http://schemas.openxmlformats.org/drawingml/2006/table">
            <a:tbl>
              <a:tblPr/>
              <a:tblGrid>
                <a:gridCol w="2792520"/>
                <a:gridCol w="1486080"/>
                <a:gridCol w="952200"/>
                <a:gridCol w="1283040"/>
                <a:gridCol w="1255680"/>
              </a:tblGrid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Evaluable pati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R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CR + PR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Median TTP (m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Median OS (m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ll (N = 31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.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9.7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neuropathy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n = 19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.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.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G ≥ 2 neuropathy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n = 8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.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t estimabl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ose modified (n = 6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.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t estimabl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ose modification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n = 1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.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.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3"/>
          <p:cNvSpPr/>
          <p:nvPr/>
        </p:nvSpPr>
        <p:spPr>
          <a:xfrm>
            <a:off x="559080" y="6207120"/>
            <a:ext cx="511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ichardson PG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r J Haemat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44(6):895-9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tezomib-associated neuropathy is predominantly sensory and is reversible in the majority of pat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tezomib-associated neuropathy is unaffected by age, prior therapies with neurotoxic agents or history of diabetes and thus may be mechanistically distin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tezomib dose modification may ameliorate bortezomib-associated neuropat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tezomib dose modification for peripheral neuropathy does not appear to adversely affect efficacy or out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0760" y="628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59080" y="6207120"/>
            <a:ext cx="511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ichardson PG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r J Haemat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44(6):895-9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4:23:40Z</dcterms:created>
  <dc:creator>Fernando G Rendina</dc:creator>
  <dc:description/>
  <cp:keywords/>
  <dc:language>en-US</dc:language>
  <cp:lastModifiedBy>Albert Rosado</cp:lastModifiedBy>
  <cp:lastPrinted>2010-06-16T18:45:20Z</cp:lastPrinted>
  <dcterms:modified xsi:type="dcterms:W3CDTF">2010-06-16T18:45:21Z</dcterms:modified>
  <cp:revision>77</cp:revision>
  <dc:subject/>
  <dc:title>Main Title Slide — Always use  Title Case on Slide Titles</dc:title>
</cp:coreProperties>
</file>