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4ED-1323-45DE-AEAF-02A4ADDF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391-1B0C-43CE-BED6-4E3A75CA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6C7-878E-4FF3-A425-4585222D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49E-DADE-48A3-AE51-EBEC0E4C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BBA-99DD-44D8-9BD0-C2D00C5F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7BE7-AEE7-4694-8B0D-7E5F55E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212-76BA-4E04-BE21-D626CA98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6D66-6209-4873-A226-A703B05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322E-59C6-42A7-A876-9741DED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E588-1806-4539-888E-DADA786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BC33-8362-450D-9580-DF9CA2D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4EE-2371-4897-B48D-DA4D0BD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339-90B5-4966-8182-6783471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EF6-B4BF-47CE-8664-3F315BE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2C4-6851-493E-ABA1-F579A02D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B8E-37BF-4F5D-8EF7-DBFC25CA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AAD4-DCF9-48EC-A9D4-C692309D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874-0CA2-427F-BE91-B438DD04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9D1-9D56-40B1-9F13-6B988D6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8D3-5C6D-420A-B5DB-A68FC5C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08F-5B88-4625-BF01-87D0913C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D7D-5C24-455F-A407-51FABB7F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5A6-4B1C-41F5-B9D7-4C11D54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F2B-3094-417B-B5FF-6423356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7F7-059E-41E7-9914-40128E572CA6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B45-564D-4937-A431-73673590C2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91532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CCN Practice Guidelines in Oncology — Multiple Myeloma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.3.2010 </a:t>
            </a:r>
            <a:br>
              <a:rPr sz="3100"/>
            </a:br>
            <a:br>
              <a:rPr sz="3100"/>
            </a:b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ummary of the Guidelines Update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National Comprehensive Cancer Network Version 3.201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66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reatments Placed in New Categories:</a:t>
            </a:r>
            <a:br>
              <a:rPr sz="16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rimary Induction Therapy for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ansplant Candidat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7240" y="1941480"/>
          <a:ext cx="7839360" cy="3267000"/>
        </p:xfrm>
        <a:graphic>
          <a:graphicData uri="http://schemas.openxmlformats.org/drawingml/2006/table">
            <a:tbl>
              <a:tblPr/>
              <a:tblGrid>
                <a:gridCol w="5027760"/>
                <a:gridCol w="1425600"/>
                <a:gridCol w="1386000"/>
              </a:tblGrid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gimen (supporting trial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urrent category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revious category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ortezomib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Harousseau et al. ASCO 20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ortezomib/doxorubicin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Sonneveld et al. ASH 20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ortezomib/thalidomide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Cavo et al. ASH 20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nalidomide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Zonder et al. ASH 200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199"/>
          <p:cNvSpPr/>
          <p:nvPr/>
        </p:nvSpPr>
        <p:spPr>
          <a:xfrm>
            <a:off x="692280" y="5398920"/>
            <a:ext cx="63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Category 1 = uniform consensus, high evidence quality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B = nonuniform consensus, lower evidence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41720" y="6207120"/>
            <a:ext cx="633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CCN Practice Guidelines in Oncology — Multiple Myeloma v.3.20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66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reatments Placed in New Categorie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imary Induction Therapy for Transplant Candidates (continued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7240" y="1941480"/>
          <a:ext cx="7839360" cy="2916360"/>
        </p:xfrm>
        <a:graphic>
          <a:graphicData uri="http://schemas.openxmlformats.org/drawingml/2006/table">
            <a:tbl>
              <a:tblPr/>
              <a:tblGrid>
                <a:gridCol w="5129280"/>
                <a:gridCol w="1324080"/>
                <a:gridCol w="1386000"/>
              </a:tblGrid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gimen (supporting trial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urrent category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revious category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ajkumar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JCO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alidomide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ajkumar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JCO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iposomal doxorubicin/vincristine/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ifkin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ncer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42"/>
          <p:cNvSpPr/>
          <p:nvPr/>
        </p:nvSpPr>
        <p:spPr>
          <a:xfrm>
            <a:off x="692280" y="5025960"/>
            <a:ext cx="716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Category 2A = uniform consensus, lower evidence quality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B = nonuniform consensus, lower evidence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41720" y="6207120"/>
            <a:ext cx="633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CCN Practice Guidelines in Oncology — Multiple Myeloma v.3.20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66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reatments Placed in New Categories:</a:t>
            </a:r>
            <a:br>
              <a:rPr sz="16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rimary Induction Therapy for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ontransplant Candidate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7240" y="1917720"/>
          <a:ext cx="7839360" cy="3828960"/>
        </p:xfrm>
        <a:graphic>
          <a:graphicData uri="http://schemas.openxmlformats.org/drawingml/2006/table">
            <a:tbl>
              <a:tblPr/>
              <a:tblGrid>
                <a:gridCol w="5218200"/>
                <a:gridCol w="1235160"/>
                <a:gridCol w="138600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gimen (supporting trial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urrent catego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revious catego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lphalan/prednisone/thalidomide (MPT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Multiple randomized trials compar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PT to MP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lphalan/prednisone/bortezomib (MPB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San Miguel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JM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8 VISTA trial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nalidomide/low-dose dexamethasone (Rd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ajkumar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nce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1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lphalan/prednisone (MP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Multiple trials compared MP to eith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PT or MPB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441720" y="6207120"/>
            <a:ext cx="633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CCN Practice Guidelines in Oncology — Multiple Myeloma v.3.20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-66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reatments Placed in New Categorie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imary Induction Therapy for Nontransplant Candidates (continued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7240" y="1917720"/>
          <a:ext cx="7839360" cy="2604960"/>
        </p:xfrm>
        <a:graphic>
          <a:graphicData uri="http://schemas.openxmlformats.org/drawingml/2006/table">
            <a:tbl>
              <a:tblPr/>
              <a:tblGrid>
                <a:gridCol w="5218200"/>
                <a:gridCol w="1235160"/>
                <a:gridCol w="138600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Regimen (supporting trial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Current catego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revious catego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alidomide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ajkumar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JCO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Rajkumar et al.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JCO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incristine/doxorubicin/dexamethas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VAD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48"/>
          <p:cNvSpPr/>
          <p:nvPr/>
        </p:nvSpPr>
        <p:spPr>
          <a:xfrm>
            <a:off x="692280" y="4719600"/>
            <a:ext cx="78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Category 2A: Uniform consensus, lower evidence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VAD is now category 2B; no specific reference has been cited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for the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41720" y="6207120"/>
            <a:ext cx="633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CCN Practice Guidelines in Oncology — Multiple Myeloma v.3.20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intenance Therap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independent trials with lenalidomide maintenance have recently reported improvement in disease prog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GB-100104: 58% reduction in dise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on (ASH 2009;Abstract 3416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M 2005-02: Improved PFS and sCR/C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H 2009;Abstract 529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-015: 75% reduction in disease progres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H 2009;Abstract 613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alidomide maintenance added (Category 2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lidomide alone or with prednisone (Category 1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B respective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41720" y="6207120"/>
            <a:ext cx="633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CCN Practice Guidelines in Oncology — Multiple Myeloma v.3.20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15:30Z</dcterms:created>
  <dc:creator>Fernando G Rendina</dc:creator>
  <dc:description/>
  <cp:keywords/>
  <dc:language>en-US</dc:language>
  <cp:lastModifiedBy>Aura Herrmann</cp:lastModifiedBy>
  <cp:lastPrinted>2010-05-04T23:11:37Z</cp:lastPrinted>
  <dcterms:modified xsi:type="dcterms:W3CDTF">2010-05-14T13:06:06Z</dcterms:modified>
  <cp:revision>78</cp:revision>
  <dc:subject/>
  <dc:title>Main Title Slide — Always use  Title Case on Slide Titles</dc:title>
</cp:coreProperties>
</file>