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D59-EF38-4240-A635-A0426C78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D27-988B-400B-B74B-A9C541E4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DD1-9207-4DE0-ABCC-3EA4112B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BEB-3490-41C5-868F-AA1DAF86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024F-CB1C-4048-A4EA-E09DF1B9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8C1E-1399-49F5-8A7D-EBF0011F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9842-13D3-40A6-8D76-5FD264AC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11E4-09DE-46D0-A304-699866D5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CCD6-7A03-45FE-A5DA-CCF71394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7FD1-7EF7-4D01-ABAD-56D9657F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02E1-8EBD-4A6C-A1D2-DE2067F7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859-3EBB-4A4B-9ACF-AD4333CA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59CC-A39D-4361-8609-446AB520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AF75-5C75-4F46-83CC-386175BC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CA55-587D-4268-8625-9FF76D49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A0DB-E8E7-4433-812D-BD6EB75D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991F-A706-4884-860C-02112893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2F1-EC6A-4003-B82C-0C4B3CA8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65D-E6CF-47B6-9B87-6EAAF517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2C3-581D-4250-B9D7-85B050CF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D11-72D1-4F4D-BB02-83A85473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E1F-6AF9-4602-ADDE-73DFA347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0E2-20E4-42C6-8C06-F05E83ED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E6A-C701-466B-BDED-480A219C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61B0-1DD8-4D08-BE3B-A88E91649C03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C2AB-B97A-47F6-8A2E-E8D9CC101EC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he Use of Bisphosphonates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 Multiple Myeloma: Recommendations of an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Expert Panel on Behalf of the European Myeloma Network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Terpos E et a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Ann Oncol 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2009;20(8):1303-17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ne destruction occurs in 90% of patients with MM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ncolog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12:62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sphosphonates have become the standard of care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M to reduce and delay the skeletal morbid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mmendations developed by an expert panel after multiple rounds of review of associated evidence are summariz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506160" y="6207120"/>
            <a:ext cx="416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erpos E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nn Oncol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0(8):1303-1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09760" y="1725480"/>
          <a:ext cx="8138880" cy="3746520"/>
        </p:xfrm>
        <a:graphic>
          <a:graphicData uri="http://schemas.openxmlformats.org/drawingml/2006/table">
            <a:tbl>
              <a:tblPr/>
              <a:tblGrid>
                <a:gridCol w="2170080"/>
                <a:gridCol w="1790640"/>
                <a:gridCol w="647640"/>
                <a:gridCol w="1333440"/>
                <a:gridCol w="2197080"/>
              </a:tblGrid>
              <a:tr h="90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Bisphosphonate/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Manuscrip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educt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of pai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educt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of skele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elated events (SR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midronate (IV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vs Placeb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JC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998;16:5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Y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Y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Zoledroni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cid (IV) v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midronate (IV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anc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01;91:119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Y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Y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Zoledroni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cid (IV) v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midronate (IV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anc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03;98:173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1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Y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Y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ajor Double Blind Trials of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Bisphosphonates in MM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06160" y="6207120"/>
            <a:ext cx="416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erpos E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nn Oncol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0(8):1303-1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Renal Impairment with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Bisphosphonate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um creatinine should be monitored before each do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renal impairment should have creatinine clearance rates, serum electrolytes and albuminuria also monito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rate renal impairment (creatinine clearance 30-60 mL/min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doses and longer infusions of pamidron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doses with no changes in infusion time with zoledronic ac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e renal impairment (creatinine clearan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 30 mL/minute): Should not receive bisphosphon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06160" y="6207120"/>
            <a:ext cx="416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erpos E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nn Oncol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0(8):1303-1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Osteonecrosis of Jaw (ONJ)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with Bisphosphonate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ventive dentistry with ongoing dental evaluation has shown a 75% reduction in ONJ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nnals of Oncolog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9;20:137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rehensive dental examination should be done before initiating bisphosphon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sting/high-risk dental conditions should be treated before starting bisphosphon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sphosphonates should be stopped if a pati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s ONJ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06160" y="6207120"/>
            <a:ext cx="416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erpos E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nn Oncol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0(8):1303-1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sphosphonates should be administered to patients with MM with osteolytic lesions or osteopen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sphosphonates should be continued for 2 years, and administration beyond 2 years is not recommen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 years, bisphosphonates should be reinitiated in patients with pain or documented progression in bone involv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MGUS, asymptomatic multiple myeloma or solitary plasmacytoma should not receive bisphosphon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06160" y="6207120"/>
            <a:ext cx="416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erpos E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nn Oncol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0(8):1303-1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6:30:12Z</dcterms:created>
  <dc:creator>Fernando G Rendina</dc:creator>
  <dc:description/>
  <cp:keywords/>
  <dc:language>en-US</dc:language>
  <cp:lastModifiedBy>Aura Herrmann</cp:lastModifiedBy>
  <cp:lastPrinted>2010-03-17T12:16:53Z</cp:lastPrinted>
  <dcterms:modified xsi:type="dcterms:W3CDTF">2010-05-14T13:06:23Z</dcterms:modified>
  <cp:revision>80</cp:revision>
  <dc:subject/>
  <dc:title>Main Title Slide — Always use  Title Case on Slide Titles</dc:title>
</cp:coreProperties>
</file>