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0080-7F4B-4D46-9527-45F002E6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49F-90D1-4148-81AE-501554AC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5FDA-A77F-40F8-BBD1-33B6AB63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833-3A46-4361-98B4-6705FE44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445F-2259-4C7A-A492-E02957DE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D6FB-E60E-44B8-A32C-E37C9EBE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33D9-27F9-4F20-BBDF-60B0D37D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56A8-5BEA-4AAC-B273-805A4B30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0D6C-6D39-4062-B3D3-811E3B8A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F20F-342C-4C66-9C6C-209624E8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4592-BD00-4E9F-AAEF-9A149C7C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B6FF-01D9-4B78-88D6-7572F08C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39D5-AB50-4EEA-814B-F9CF1040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EF7C-DA7C-4923-A8B7-1CD60281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6E3C-8A0E-482A-B7E1-91188553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F83C-4DAF-485A-8007-51ABB4D1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AB5F-F94C-43DE-8A96-8686CD04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B0E-D618-4D51-8BE3-2287E72E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ADC9-8254-425C-9783-372AB2B7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E18-DC9F-408E-98B5-A1DA66A9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09D-9898-49DD-810F-1C1987EF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B475-17EC-4EEC-A96F-E9670712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7571-1AA5-49A0-9650-C126D83C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F821-7BCA-4D4C-AA0C-6F21B3A7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F156-3092-4568-8E4F-F8B05B179083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DE0C-5196-4B67-9704-7604EBEBFA4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Lenalidomide Plus High-Dose Dexamethasone versus Lenalidomide Plus Low-Dose Dexamethasone as Initial Therapy for Newly Diagnosed Multiple Myeloma: An Open-Label Randomised Controlled Trial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325b"/>
                </a:solidFill>
                <a:latin typeface="Verdana"/>
              </a:rPr>
              <a:t>Rajkumar SV et al. </a:t>
            </a:r>
            <a:br>
              <a:rPr sz="2500"/>
            </a:br>
            <a:r>
              <a:rPr b="0" i="1" lang="en-GB" sz="2500" spc="-1" strike="noStrike">
                <a:solidFill>
                  <a:srgbClr val="00325b"/>
                </a:solidFill>
                <a:latin typeface="Verdana"/>
              </a:rPr>
              <a:t>Lancet Oncol </a:t>
            </a:r>
            <a:r>
              <a:rPr b="0" lang="en-GB" sz="2500" spc="-1" strike="noStrike">
                <a:solidFill>
                  <a:srgbClr val="00325b"/>
                </a:solidFill>
                <a:latin typeface="Verdana"/>
              </a:rPr>
              <a:t>2010;11(1):29-37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newly diagnosed multiple myeloma (MM), the response rate with lenalidomide (R) plus high-dose dexamethasone (D) is 91%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lo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5;106:405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if R plus low-dose dexamethasone (Rd) can preserve the efficacy of RD but with reduced toxi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mary study endpoint: Overall response rate (ORR) in first 4 cycles of treat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rvival analysis of patients who received transplant after 4 cycles vs patients who continued Rd beyo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cyc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86720" y="6207120"/>
            <a:ext cx="43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ajkumar SV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ncet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0;11:29-37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5500800" y="2136600"/>
            <a:ext cx="3124080" cy="1324080"/>
          </a:xfrm>
          <a:prstGeom prst="rect">
            <a:avLst/>
          </a:prstGeom>
          <a:solidFill>
            <a:srgbClr val="de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 25 mg/d +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 40 mg/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d1-4, 9-12, 17-20 q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8 days* (n = 223) x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4 cycl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76440" y="1895400"/>
            <a:ext cx="67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ccrual: 4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 flipV="1">
            <a:off x="4249800" y="2789280"/>
            <a:ext cx="1206360" cy="815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9"/>
          <p:cNvSpPr/>
          <p:nvPr/>
        </p:nvSpPr>
        <p:spPr>
          <a:xfrm>
            <a:off x="4249800" y="3836880"/>
            <a:ext cx="1190520" cy="509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Open-Label Trial of RD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versus Rd in MM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585720" y="5195880"/>
            <a:ext cx="806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*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After 4 cycles, patients may proceed to stem cell transplant (SCT); patients with progression or no response may receive thalidomide + dexamethason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500800" y="3665520"/>
            <a:ext cx="3124080" cy="1325520"/>
          </a:xfrm>
          <a:prstGeom prst="rect">
            <a:avLst/>
          </a:prstGeom>
          <a:solidFill>
            <a:srgbClr val="de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 25 mg/d +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 40 mg/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d1, 8, 15, 22 q 28 days*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(n = 222) x 4 cycl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86720" y="6207120"/>
            <a:ext cx="43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ajkumar SV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ncet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0;11:29-37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1120" y="2427120"/>
          <a:ext cx="3294000" cy="2498760"/>
        </p:xfrm>
        <a:graphic>
          <a:graphicData uri="http://schemas.openxmlformats.org/drawingml/2006/table">
            <a:tbl>
              <a:tblPr/>
              <a:tblGrid>
                <a:gridCol w="3294000"/>
              </a:tblGrid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ligibilit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21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surable, untreated symptomatic MM or bone marrow plasmacytosis 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 plasmacytom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gb &gt; 70g/L,  platelet </a:t>
                      </a:r>
                      <a:br>
                        <a:rPr sz="1700"/>
                      </a:b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&gt;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75x10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L, neutrophil 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 1x10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Oval 19"/>
          <p:cNvSpPr/>
          <p:nvPr/>
        </p:nvSpPr>
        <p:spPr>
          <a:xfrm>
            <a:off x="3906720" y="3270240"/>
            <a:ext cx="100512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Select Adverse Events (AE)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in First Four Month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60240" y="6119640"/>
            <a:ext cx="691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46120" y="1762200"/>
          <a:ext cx="8031240" cy="3997080"/>
        </p:xfrm>
        <a:graphic>
          <a:graphicData uri="http://schemas.openxmlformats.org/drawingml/2006/table">
            <a:tbl>
              <a:tblPr/>
              <a:tblGrid>
                <a:gridCol w="3129120"/>
                <a:gridCol w="1739880"/>
                <a:gridCol w="1611000"/>
                <a:gridCol w="1551240"/>
              </a:tblGrid>
              <a:tr h="644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A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 </a:t>
                      </a: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R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(n = 223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R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(n = 220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Verdana"/>
                        </a:rPr>
                        <a:t>&gt;</a:t>
                      </a: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Grade 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2%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eath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0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eep vein thrombosis or pulmonary embolism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00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Infections or pneumoni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Fatigu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Rectangle 3"/>
          <p:cNvSpPr/>
          <p:nvPr/>
        </p:nvSpPr>
        <p:spPr>
          <a:xfrm>
            <a:off x="510480" y="6207120"/>
            <a:ext cx="43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ajkumar SV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ncet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0;11:29-37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rimary Study Results: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Overall Response and Survival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46120" y="1838160"/>
          <a:ext cx="8080200" cy="3181680"/>
        </p:xfrm>
        <a:graphic>
          <a:graphicData uri="http://schemas.openxmlformats.org/drawingml/2006/table">
            <a:tbl>
              <a:tblPr/>
              <a:tblGrid>
                <a:gridCol w="3378240"/>
                <a:gridCol w="1650960"/>
                <a:gridCol w="1490760"/>
                <a:gridCol w="1560240"/>
              </a:tblGrid>
              <a:tr h="644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 </a:t>
                      </a: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R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(n = 214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R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(n = 208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67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ORR (complete plus partial) at 4 cycl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9%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</a:t>
                      </a: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6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0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-year overall survival (OS)*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&lt; 65 years ol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   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Verdana"/>
                        </a:rPr>
                        <a:t>&gt;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65 years ol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-year OS*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9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9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9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9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uccessful stem cell mobilization (n = 16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63 (98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" name="Rectangle 65"/>
          <p:cNvSpPr/>
          <p:nvPr/>
        </p:nvSpPr>
        <p:spPr>
          <a:xfrm>
            <a:off x="533520" y="5264280"/>
            <a:ext cx="811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*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Not a protocol-specified endpoint; study stopped at 12.5 months follow-up because of higher OS with Rd. Patients on RD crossed over to R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510480" y="6207120"/>
            <a:ext cx="43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ajkumar SV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ncet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0;11:29-37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urvival Outcome with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ost-Induction SCT, No SCT or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ntinued Primary Therapy*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60240" y="6119640"/>
            <a:ext cx="691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46120" y="1886040"/>
          <a:ext cx="8139240" cy="2706480"/>
        </p:xfrm>
        <a:graphic>
          <a:graphicData uri="http://schemas.openxmlformats.org/drawingml/2006/table">
            <a:tbl>
              <a:tblPr/>
              <a:tblGrid>
                <a:gridCol w="3683160"/>
                <a:gridCol w="1460160"/>
                <a:gridCol w="1422720"/>
                <a:gridCol w="1573200"/>
              </a:tblGrid>
              <a:tr h="644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Three-year overall surviv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 </a:t>
                      </a: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R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R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67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o SCT after 4 cycles of primary therapy (n = 54, 39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5%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</a:t>
                      </a: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63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CT after 4 cycles of primary therapy (n = 50, 4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9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9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52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rimary therapy beyond 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 cycles (n = 108, 14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ot reporte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Rectangle 65"/>
          <p:cNvSpPr/>
          <p:nvPr/>
        </p:nvSpPr>
        <p:spPr>
          <a:xfrm>
            <a:off x="533520" y="4857840"/>
            <a:ext cx="811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*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At four months, 183 of 431 patients alive discontinued from study +/- subsequent SCT and 248 continued primary therapy in the absence of SC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510480" y="6207120"/>
            <a:ext cx="43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ajkumar SV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ncet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0;11:29-37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mary analysis of induction RD vs 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R RD vs Rd: 79% vs 69% (absolute difference within prespecified margin of noninferior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er toxicity and treatment-related mortality with Rd (0.5% vs 5.0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ater 2-year OS with Rd (87% vs 75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act of SCT and continued primary therapy on outco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nalidomide plus dexamethasone may be a good option for pretransplant induction therap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3-year OS: 92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d primary therapy (&gt;4 cycles) with Rd seems effective and tolerable as a front-line regimen for myeloma, particularly in the elder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10480" y="6207120"/>
            <a:ext cx="43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ajkumar SV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ncet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0;11:29-37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20:36:52Z</dcterms:created>
  <dc:creator>Fernando G Rendina</dc:creator>
  <dc:description/>
  <cp:keywords/>
  <dc:language>en-US</dc:language>
  <cp:lastModifiedBy>Albert Rosado</cp:lastModifiedBy>
  <cp:lastPrinted>2010-06-16T18:37:43Z</cp:lastPrinted>
  <dcterms:modified xsi:type="dcterms:W3CDTF">2010-06-16T18:37:45Z</dcterms:modified>
  <cp:revision>82</cp:revision>
  <dc:subject/>
  <dc:title>Main Title Slide — Always use  Title Case on Slide Titles</dc:title>
</cp:coreProperties>
</file>