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C7B4-A706-4168-8618-3D467B27C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8E6D-8541-49E4-B2ED-ADB50395C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FA59-4634-4EF0-8704-3D09E39CB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8A3E-7933-46DC-8E67-7A4A774DF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BD6F6-9678-427D-B496-A7C8F207A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9E946-A833-4C27-8765-2BE35FB8C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37100-873B-433F-9627-8A7B8E5AB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69B3C-356A-4FB4-9CC8-273DD1176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AF390-9797-481C-ABA4-4D5E0FE31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77D8D-3219-4ECA-B926-5BC0D7B9A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69D9C-DF0A-4FD2-AD95-7C16C3E9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BD9A-AC1C-41AD-A962-238BB75EC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35906-7257-471E-B4F2-6402A82A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3A98C-2F00-43EC-8B89-50CCDB77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85025-7DC5-4B13-A9B1-6C64C4F33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E6E8A-58AC-4ED0-A78E-8039540CD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FE80B-75D6-4AD7-8CD0-FC74F84D7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2615-196F-4EDB-B501-3F98032B8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6A1E-F8B2-43B5-8032-3D9C2BC65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2F7F-6A50-405F-A803-D05F5A193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5267-282A-4853-869F-AB97AAD25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2CCA-3B77-4937-B12F-3726D060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56EF-C3B6-4CD8-9090-CCDFB82C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CC71-820F-4BA9-92B2-7811841C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144468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65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DCB31-BBEB-44E2-9404-C4CFFF0C6B09}" type="slidenum">
              <a:rPr b="0" lang="en-GB" sz="1400" spc="-1" strike="noStrike">
                <a:solidFill>
                  <a:srgbClr val="ff65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0"/>
            <a:ext cx="9144000" cy="436896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1A7AF-0D2B-48E9-A84E-D3A174DE226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167760"/>
            <a:ext cx="7772400" cy="413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International Myeloma Working</a:t>
            </a:r>
            <a:br>
              <a:rPr sz="3100"/>
            </a:b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Group Guidelines for the</a:t>
            </a:r>
            <a:br>
              <a:rPr sz="3100"/>
            </a:b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Management of Multiple Myeloma</a:t>
            </a:r>
            <a:br>
              <a:rPr sz="3100"/>
            </a:b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Patients Ineligible for Standard</a:t>
            </a:r>
            <a:br>
              <a:rPr sz="3100"/>
            </a:b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High-Dose Chemotherapy</a:t>
            </a:r>
            <a:br>
              <a:rPr sz="3100"/>
            </a:b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with Autologous Stem Cell</a:t>
            </a:r>
            <a:br>
              <a:rPr sz="3100"/>
            </a:b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Transplantation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10920" y="4313160"/>
            <a:ext cx="7769160" cy="25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25b"/>
                </a:solidFill>
                <a:latin typeface="Verdana"/>
              </a:rPr>
              <a:t>Palumbo A et al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325b"/>
                </a:solidFill>
                <a:latin typeface="Verdana"/>
              </a:rPr>
              <a:t>Leukemia</a:t>
            </a:r>
            <a:r>
              <a:rPr b="0" lang="en-US" sz="2500" spc="-1" strike="noStrike">
                <a:solidFill>
                  <a:srgbClr val="00325b"/>
                </a:solidFill>
                <a:latin typeface="Verdana"/>
              </a:rPr>
              <a:t> 2009;23(10):1716-30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ior guidelines were published in 2005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update conducted by a panel of clinical and statistical experts who reviewed articles from 2004-2008 and abstracts from 2006-2008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changes to guidances on diagnosis, indications to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rt therapy or monitoring of myelom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anges in specific areas of multiple myeloma are summariz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507240" y="6207120"/>
            <a:ext cx="4414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Palumbo A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Leukemia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2009;23(10):1716-30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Update on Prognostic Factors and</a:t>
            </a:r>
            <a:br>
              <a:rPr sz="3100"/>
            </a:b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Response Criteria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ytogenetics and/or FISH should be performed in all patients at diagnosis and at the time of relap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WG criteria should be used to assess response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Leukemi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2006;20:1467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ponse criteria of stringent CR and VGPR hav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en add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rum free light chain assay is used to determine stringent C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507240" y="6207120"/>
            <a:ext cx="4414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Palumbo A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Leukemia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2009;23(10):1716-30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Front-Line Therapy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WG considers MPT and VMP as standard treatmen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 initial induction therapy in patients ineligible for transplantation and Rd for patients who wish to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stpone transplant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jor trials reviewed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D vs Rd (Rajkumar et al. ASCO 2008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PT vs MP (Palumbo et al.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Bloo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2008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PT vs MP (Facon et al.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Lance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200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PT vs MP (Hulin et al. ASH 200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MP vs MP (San Miguel et al.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EJ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2008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507240" y="6207120"/>
            <a:ext cx="4414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Palumbo A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Leukemia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2009;23(10):1716-30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Therapy for Relapsed Myeloma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the relapsed setting, IMWG recommend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ortezomib with or without dexamethasone or in combination with liposomal doxorubic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nalidomide in combination with dexamethas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oice of salvage therapy depends on earlier exposure to a particular drug and concomitant comorbiditi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507240" y="6207120"/>
            <a:ext cx="4414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Palumbo A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Leukemia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2009;23(10):1716-30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Supportive Care In Myeloma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isphosphonates are recommended in patients with osteolytic les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rehensive dental examination should be done before starting bisphosphonate therap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inue bisphosphonates for two years. However, one year is sufficient for patients in CR/nC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ertebral fractur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lloon kyphoplasty has shown a marked reducti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back disability and pain in a randomized Phase III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ial and should be considered as a standard approach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appropriate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Clinical Lymphoma Myeloma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009;Abstract 204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507240" y="6207120"/>
            <a:ext cx="4414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Palumbo A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Leukemia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2009;23(10):1716-30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0T18:22:35Z</dcterms:created>
  <dc:creator>Fernando G Rendina</dc:creator>
  <dc:description/>
  <cp:keywords/>
  <dc:language>en-US</dc:language>
  <cp:lastModifiedBy>Aura Herrmann</cp:lastModifiedBy>
  <cp:lastPrinted>2010-03-17T12:16:53Z</cp:lastPrinted>
  <dcterms:modified xsi:type="dcterms:W3CDTF">2010-05-14T13:06:09Z</dcterms:modified>
  <cp:revision>77</cp:revision>
  <dc:subject/>
  <dc:title>Main Title Slide — Always use  Title Case on Slide Titles</dc:title>
</cp:coreProperties>
</file>