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31D-3829-47E8-99D7-95296AE4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A58-47EB-4F34-9B4D-08806DF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B2F-0FC6-4FC9-A5FD-DCF0BCC9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3B7-B310-4E68-B0CD-CC5C4738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7960-11E0-45CF-8769-1E9C812E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D61-B41B-49A0-8786-03668DF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EFAF-577E-476E-92A4-C373C66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BB0-57AF-4BF5-B102-664FBBF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CA80-3222-4467-88F4-C089775B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C7C3-26F8-4EE4-BE85-89F617C8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A99F-3AD5-439A-9D2A-21FED24A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DBD-CCEF-4E69-95D3-D4067148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6E2D-94DB-4A15-9EB3-9EAF6F9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C777-B4FD-4F07-98F4-C5B4FB5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066D-FBE9-4D89-A00F-3DC47A0C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DAC4-40C9-4ED9-9483-7E86669F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6E91-5CF5-4550-AF9B-1970A812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8CB-9103-4434-ADDF-1547A263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072-73CB-42D9-A48E-8D89E574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CC5-D075-4C50-B072-3B556E91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463-5686-4A4D-9FC5-8E174A3B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F67-F223-436C-97F3-A3B2155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784-6016-4CE1-AFD1-409113E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B8B-8D84-4FC9-B6ED-377637B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FF5-0D30-46D3-9605-1DCBAE7004A4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6F4-2A5B-4E52-BFA6-958A529E66A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afety and Efficacy of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ingle-Agent Lenalidomide in Patients with Relapsed and Refractory Multiple Myelo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7240" y="4316400"/>
            <a:ext cx="776952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Richardson P et al. </a:t>
            </a:r>
            <a:br>
              <a:rPr sz="2500"/>
            </a:b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Blood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114(4):772-8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has demonstrated clinical benefit in the treatment of relapsed or refractory multiple myeloma (MM) as monotherapy and in combination with dexamethason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2;100:3063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108:345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adverse events resulted from the addition of dexamethasone to lenalidomide, inclu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ep vein thrombosis, infections and hyperglycem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icacy and safety of single-agent lenalidomid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 mg once daily, as therapy for relapsed and refractory 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y endpoint: At least partial 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93640" y="608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50360" y="6207120"/>
            <a:ext cx="407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ardson P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114(4):772-8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749160" y="2104920"/>
            <a:ext cx="678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406f"/>
                </a:solidFill>
                <a:latin typeface="Verdana"/>
                <a:ea typeface="Verdana"/>
              </a:rPr>
              <a:t>Protocol ID: NCT0006535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4359240" y="404028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hase II Study of Lenalidomi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s Treatment for Relapse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d Refractory M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07600" y="6207120"/>
            <a:ext cx="407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ardson P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114(4):772-8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2640" y="2565360"/>
          <a:ext cx="3560760" cy="2913120"/>
        </p:xfrm>
        <a:graphic>
          <a:graphicData uri="http://schemas.openxmlformats.org/drawingml/2006/table">
            <a:tbl>
              <a:tblPr/>
              <a:tblGrid>
                <a:gridCol w="356076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 = 22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5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apsed and refractory MM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ase progression during or within 60 days of salvage regime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prior treatment regimens, not including SC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56"/>
          <p:cNvSpPr/>
          <p:nvPr/>
        </p:nvSpPr>
        <p:spPr>
          <a:xfrm>
            <a:off x="5121360" y="3225960"/>
            <a:ext cx="3343320" cy="16509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Lenalidomide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 mg once daily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1-21 q 28 days until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rogression or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unacceptable toxi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Respons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(Intent to Treat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72960" y="1836720"/>
          <a:ext cx="8436240" cy="3525840"/>
        </p:xfrm>
        <a:graphic>
          <a:graphicData uri="http://schemas.openxmlformats.org/drawingml/2006/table">
            <a:tbl>
              <a:tblPr/>
              <a:tblGrid>
                <a:gridCol w="3310200"/>
                <a:gridCol w="2423880"/>
                <a:gridCol w="270216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 u="sng">
                          <a:solidFill>
                            <a:srgbClr val="08406f"/>
                          </a:solidFill>
                          <a:uFillTx/>
                          <a:latin typeface="Verdana"/>
                          <a:ea typeface="Verdana"/>
                        </a:rPr>
                        <a:t>&lt;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2 Prior Treatment Regimens (n = 7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 u="sng">
                          <a:solidFill>
                            <a:srgbClr val="08406f"/>
                          </a:solidFill>
                          <a:uFillTx/>
                          <a:latin typeface="Verdana"/>
                          <a:ea typeface="Verdana"/>
                        </a:rPr>
                        <a:t>&gt;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3 Prior Treatment Regimens (n = 14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 + P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mplete response (C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rtial response (P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inimal response (M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9%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able disea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gressive disea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5"/>
          <p:cNvSpPr/>
          <p:nvPr/>
        </p:nvSpPr>
        <p:spPr>
          <a:xfrm>
            <a:off x="507600" y="6207120"/>
            <a:ext cx="407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ardson P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114(4):772-8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Efficacy (Intent to Treat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04960" y="1730520"/>
          <a:ext cx="7673760" cy="3367080"/>
        </p:xfrm>
        <a:graphic>
          <a:graphicData uri="http://schemas.openxmlformats.org/drawingml/2006/table">
            <a:tbl>
              <a:tblPr/>
              <a:tblGrid>
                <a:gridCol w="3498840"/>
                <a:gridCol w="1251000"/>
                <a:gridCol w="1298520"/>
                <a:gridCol w="162540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Overall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2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R + PR (n = 5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R + PR + MR (n = 9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an PFS (mo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.9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.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an TTP (mo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.2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.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an OS (mo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.2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‡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3.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8.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-year survival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15"/>
          <p:cNvSpPr/>
          <p:nvPr/>
        </p:nvSpPr>
        <p:spPr>
          <a:xfrm>
            <a:off x="1201320" y="5229360"/>
            <a:ext cx="469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73% of patients had disease progression or d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†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69% of patients had disease progres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‡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60% of patients d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07600" y="6207120"/>
            <a:ext cx="407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ardson P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114(4):772-8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Discuss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monotherapy at 30 mg/day is an active therapy with long-term benefit in patients with relapsed and refractory 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response was obtained in patients who received prior thalidomide, bortezomib or after prior stem cell transplant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R = 41%, 46% and 39%, respective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ata not sh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xicity was acceptable. Common Grade 3/4 adverse events were neutropenia (60%), febrile neutropenia (4%), thrombocytopenia (39%) and anemia (20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data support the treatment option of single-agent lenalidom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07600" y="6207120"/>
            <a:ext cx="407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ardson P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114(4):772-8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4:12:39Z</dcterms:created>
  <dc:creator>Fernando G Rendina</dc:creator>
  <dc:description/>
  <cp:keywords/>
  <dc:language>en-US</dc:language>
  <cp:lastModifiedBy>Albert Rosado</cp:lastModifiedBy>
  <cp:lastPrinted>2010-06-16T18:44:02Z</cp:lastPrinted>
  <dcterms:modified xsi:type="dcterms:W3CDTF">2010-06-16T18:44:07Z</dcterms:modified>
  <cp:revision>48</cp:revision>
  <dc:subject/>
  <dc:title>Main Title Slide — Always use  Title Case on Slide Titles</dc:title>
</cp:coreProperties>
</file>