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FA0-CF16-4197-9700-6E8CFF55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9AF-A2E8-4F62-AC20-FD6E0EDE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ABF-2904-42C8-BC9D-50309251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40F-F78A-4FB1-A3E7-3D9F3D14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3CF5-CF7E-45C5-AA23-B5F4872E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C550-06D6-41C3-929F-7C3C25E4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D21F-7D8F-421C-9A28-3AF532C4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802F-9244-4050-8DD8-C6B8E4FC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D5A9-A798-4BAD-8EEB-BA49027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4B50-64D8-400E-BBE3-CD4359A7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45BA-90FE-4086-BADB-24F5D79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909-C77C-4989-82B0-42701026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F9ED-3AC9-4FF4-BC2B-BEA29A7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6410-6037-4C12-9D07-FA68EECF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7AAD-0F1C-447D-A4DA-FE4EB956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3B91-E56B-460C-904E-80C6BF6E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5786-B27E-4756-B492-01E82D6D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29E-3596-478A-AF00-BED74EC0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3F9-6B8B-401D-9A3E-301E4413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57B-54DB-4BE2-833F-60FA29DB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C95-15D3-4574-9216-2BC5D8AE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FF8-ADA2-4536-B926-280866D6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7D0-8572-487A-8DB4-19DDAD5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92F-8940-4714-AE68-53E6543A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3311-E5CC-4F87-9A93-C0538DBE278D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D80E-1228-4197-AA13-1F083ED81C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igh Complete and Very Good Partial Response Rates with Bortezomib-Dexamethasone as Induction Prior to ASCT in Newly Diagnosed Patients with High-Risk Myeloma: Results of the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FM2005-01 Phase 3 Trial 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Harousseau J-L et al.</a:t>
            </a:r>
            <a:br>
              <a:rPr sz="2500"/>
            </a:b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</a:t>
            </a:r>
            <a:r>
              <a:rPr b="0" i="1" lang="en-GB" sz="2500" spc="-1" strike="noStrike">
                <a:solidFill>
                  <a:srgbClr val="00325b"/>
                </a:solidFill>
                <a:latin typeface="Verdana"/>
              </a:rPr>
              <a:t>ASH </a:t>
            </a: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2009;Abstract 353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rial Sche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236120" y="1766880"/>
            <a:ext cx="759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4538520" y="1065240"/>
            <a:ext cx="155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3309840" y="2197080"/>
            <a:ext cx="25261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Randomization 1:1:1: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4"/>
          <p:cNvSpPr/>
          <p:nvPr/>
        </p:nvSpPr>
        <p:spPr>
          <a:xfrm>
            <a:off x="3520080" y="3678120"/>
            <a:ext cx="2103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Consolid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4"/>
          <p:cNvSpPr/>
          <p:nvPr/>
        </p:nvSpPr>
        <p:spPr>
          <a:xfrm>
            <a:off x="3588840" y="4564080"/>
            <a:ext cx="19666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Transplant 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3739680" y="2881440"/>
            <a:ext cx="16650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Induc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2"/>
          <p:cNvSpPr/>
          <p:nvPr/>
        </p:nvSpPr>
        <p:spPr>
          <a:xfrm>
            <a:off x="936720" y="5603760"/>
            <a:ext cx="47512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VAD = vincristine/doxorubicin/dexamethas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VD = bortezomib/dexamethas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3"/>
          <p:cNvSpPr/>
          <p:nvPr/>
        </p:nvSpPr>
        <p:spPr>
          <a:xfrm>
            <a:off x="1308240" y="2611440"/>
            <a:ext cx="646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6"/>
          <p:cNvSpPr/>
          <p:nvPr/>
        </p:nvSpPr>
        <p:spPr>
          <a:xfrm>
            <a:off x="7792920" y="2620800"/>
            <a:ext cx="0" cy="16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58"/>
          <p:cNvSpPr/>
          <p:nvPr/>
        </p:nvSpPr>
        <p:spPr>
          <a:xfrm>
            <a:off x="6270480" y="2614680"/>
            <a:ext cx="0" cy="16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59"/>
          <p:cNvSpPr/>
          <p:nvPr/>
        </p:nvSpPr>
        <p:spPr>
          <a:xfrm>
            <a:off x="2840040" y="2620800"/>
            <a:ext cx="0" cy="16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60"/>
          <p:cNvSpPr/>
          <p:nvPr/>
        </p:nvSpPr>
        <p:spPr>
          <a:xfrm>
            <a:off x="1314360" y="2602080"/>
            <a:ext cx="0" cy="16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61"/>
          <p:cNvSpPr/>
          <p:nvPr/>
        </p:nvSpPr>
        <p:spPr>
          <a:xfrm>
            <a:off x="4572000" y="249228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3"/>
          <p:cNvSpPr/>
          <p:nvPr/>
        </p:nvSpPr>
        <p:spPr>
          <a:xfrm>
            <a:off x="4573440" y="2021040"/>
            <a:ext cx="0" cy="23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64"/>
          <p:cNvSpPr/>
          <p:nvPr/>
        </p:nvSpPr>
        <p:spPr>
          <a:xfrm>
            <a:off x="2835360" y="3284640"/>
            <a:ext cx="0" cy="103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4"/>
          <p:cNvSpPr/>
          <p:nvPr/>
        </p:nvSpPr>
        <p:spPr>
          <a:xfrm>
            <a:off x="1311120" y="3284640"/>
            <a:ext cx="0" cy="2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64"/>
          <p:cNvSpPr/>
          <p:nvPr/>
        </p:nvSpPr>
        <p:spPr>
          <a:xfrm>
            <a:off x="7788240" y="3284640"/>
            <a:ext cx="0" cy="2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4"/>
          <p:cNvSpPr/>
          <p:nvPr/>
        </p:nvSpPr>
        <p:spPr>
          <a:xfrm>
            <a:off x="1311120" y="4091040"/>
            <a:ext cx="0" cy="2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64"/>
          <p:cNvSpPr/>
          <p:nvPr/>
        </p:nvSpPr>
        <p:spPr>
          <a:xfrm>
            <a:off x="7788240" y="4091040"/>
            <a:ext cx="0" cy="2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64"/>
          <p:cNvSpPr/>
          <p:nvPr/>
        </p:nvSpPr>
        <p:spPr>
          <a:xfrm>
            <a:off x="6270480" y="3284640"/>
            <a:ext cx="0" cy="103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851040" y="5205240"/>
            <a:ext cx="7481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nd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 ASCT or allo-RIC-SCT if &gt;VGP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84640" y="6207120"/>
            <a:ext cx="453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Harousseau J-L et al.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51040" y="1609560"/>
          <a:ext cx="7480080" cy="384480"/>
        </p:xfrm>
        <a:graphic>
          <a:graphicData uri="http://schemas.openxmlformats.org/drawingml/2006/table">
            <a:tbl>
              <a:tblPr/>
              <a:tblGrid>
                <a:gridCol w="7480080"/>
              </a:tblGrid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1101600"/>
                          <a:tab algn="l" pos="1652760"/>
                          <a:tab algn="l" pos="2203560"/>
                          <a:tab algn="l" pos="2754360"/>
                          <a:tab algn="l" pos="3305160"/>
                          <a:tab algn="l" pos="3855960"/>
                          <a:tab algn="l" pos="4406760"/>
                          <a:tab algn="l" pos="4957920"/>
                          <a:tab algn="l" pos="5508720"/>
                          <a:tab algn="l" pos="6059520"/>
                          <a:tab algn="l" pos="6610320"/>
                          <a:tab algn="l" pos="7161120"/>
                          <a:tab algn="l" pos="7711920"/>
                          <a:tab algn="l" pos="8263080"/>
                          <a:tab algn="l" pos="8813880"/>
                          <a:tab algn="l" pos="9364680"/>
                          <a:tab algn="l" pos="9915480"/>
                          <a:tab algn="l" pos="104662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wly diagnosed multiple myeloma; ≤ 65 years ol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6"/>
          <p:cNvSpPr/>
          <p:nvPr/>
        </p:nvSpPr>
        <p:spPr>
          <a:xfrm>
            <a:off x="611280" y="2752560"/>
            <a:ext cx="1406520" cy="53532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AD x 4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0"/>
          <p:cNvSpPr/>
          <p:nvPr/>
        </p:nvSpPr>
        <p:spPr>
          <a:xfrm>
            <a:off x="2136600" y="2752560"/>
            <a:ext cx="1408320" cy="53532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AD x 4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611280" y="3556080"/>
            <a:ext cx="1407960" cy="53496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CEP x 2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2136600" y="4349880"/>
            <a:ext cx="1408320" cy="83160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lpha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+ ASC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5567400" y="2752560"/>
            <a:ext cx="1407960" cy="53532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D x 4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7088040" y="2752560"/>
            <a:ext cx="1408320" cy="53532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VD x 4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611280" y="4349880"/>
            <a:ext cx="1406520" cy="82548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lpha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+ ASC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9"/>
          <p:cNvSpPr/>
          <p:nvPr/>
        </p:nvSpPr>
        <p:spPr>
          <a:xfrm>
            <a:off x="5567400" y="4349880"/>
            <a:ext cx="1406520" cy="83160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lpha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+ ASC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0"/>
          <p:cNvSpPr/>
          <p:nvPr/>
        </p:nvSpPr>
        <p:spPr>
          <a:xfrm>
            <a:off x="7088040" y="4349880"/>
            <a:ext cx="1408320" cy="83160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Melpha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+ ASC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1"/>
          <p:cNvSpPr/>
          <p:nvPr/>
        </p:nvSpPr>
        <p:spPr>
          <a:xfrm>
            <a:off x="7088040" y="3556080"/>
            <a:ext cx="1408320" cy="534960"/>
          </a:xfrm>
          <a:prstGeom prst="rect">
            <a:avLst/>
          </a:prstGeom>
          <a:solidFill>
            <a:srgbClr val="de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Verdana"/>
              </a:rPr>
              <a:t>DCEP x 2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15960" y="1773360"/>
          <a:ext cx="7591320" cy="2644560"/>
        </p:xfrm>
        <a:graphic>
          <a:graphicData uri="http://schemas.openxmlformats.org/drawingml/2006/table">
            <a:tbl>
              <a:tblPr/>
              <a:tblGrid>
                <a:gridCol w="3203640"/>
                <a:gridCol w="1469880"/>
                <a:gridCol w="1459080"/>
                <a:gridCol w="145872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A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1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(n = 22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fter induc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fter ASCT 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0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fter ASCT 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2"/>
          <p:cNvSpPr/>
          <p:nvPr/>
        </p:nvSpPr>
        <p:spPr>
          <a:xfrm>
            <a:off x="1140120" y="4572000"/>
            <a:ext cx="6703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A higher response rate was achieved in patients on the VD arm receiv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nduction therapy despi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A slightly higher proportion of patients with poor-risk cytogen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A smaller proportion of patients having received a second AS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584640" y="6207120"/>
            <a:ext cx="453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Harousseau J-L et al.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Response (≥VGPR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Progression-Free Survival (PFS)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Median Follow-Up 32 Month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49440" y="6108840"/>
            <a:ext cx="691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5960" y="2116080"/>
          <a:ext cx="7591320" cy="2625840"/>
        </p:xfrm>
        <a:graphic>
          <a:graphicData uri="http://schemas.openxmlformats.org/drawingml/2006/table">
            <a:tbl>
              <a:tblPr/>
              <a:tblGrid>
                <a:gridCol w="3486240"/>
                <a:gridCol w="1295280"/>
                <a:gridCol w="1473120"/>
                <a:gridCol w="1336680"/>
              </a:tblGrid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atient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A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ll patients (n = 242, 24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6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5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tients with ISS Stage II-II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n = 136, 13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3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tients with poor cytogenetics* (n = 29, 4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4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3.5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11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287"/>
          <p:cNvSpPr/>
          <p:nvPr/>
        </p:nvSpPr>
        <p:spPr>
          <a:xfrm>
            <a:off x="595440" y="4991040"/>
            <a:ext cx="79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Patients with poor cytogenetics were defined as having t(4;14) and/or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del(17p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84640" y="6207120"/>
            <a:ext cx="453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Harousseau J-L et al.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mpact of Post-Induction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VGPR or Better on PF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49440" y="6108840"/>
            <a:ext cx="691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5960" y="1951200"/>
          <a:ext cx="7591320" cy="2625480"/>
        </p:xfrm>
        <a:graphic>
          <a:graphicData uri="http://schemas.openxmlformats.org/drawingml/2006/table">
            <a:tbl>
              <a:tblPr/>
              <a:tblGrid>
                <a:gridCol w="3448080"/>
                <a:gridCol w="1359000"/>
                <a:gridCol w="1325520"/>
                <a:gridCol w="1458720"/>
              </a:tblGrid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atient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VGP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&lt;VGP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p</a:t>
                      </a:r>
                      <a:r>
                        <a:rPr b="1" lang="en-GB" sz="1500" spc="-1" strike="noStrike">
                          <a:solidFill>
                            <a:srgbClr val="08406f"/>
                          </a:solidFill>
                          <a:latin typeface="Verdana"/>
                          <a:ea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ef4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ll patients (n = 117, 324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1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tients with ISS Stage II-II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n = 65, 204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t reach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dfc7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tients with poor cytogenetics* (n = 21, 4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7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4 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03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2"/>
          <p:cNvSpPr/>
          <p:nvPr/>
        </p:nvSpPr>
        <p:spPr>
          <a:xfrm>
            <a:off x="1137240" y="4826160"/>
            <a:ext cx="68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*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Patients with poor cytogenetics were defined as having t(4;14) ± del(17p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84640" y="6207120"/>
            <a:ext cx="453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Harousseau J-L et al.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4480" y="1607760"/>
            <a:ext cx="83898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-ASCT induction therapy with VD versus VAD resulted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er PFS, irrespective of cytogenetic risk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rates of complete response and VGP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hieving at least VGPR after induction therapy appea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be a major prognostic factor for improved PFS, especially in patients with high-risk multiple myelo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84640" y="6207120"/>
            <a:ext cx="453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Harousseau J-L et al.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oc A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Abstract 35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9:14:41Z</dcterms:created>
  <dc:creator>Fernando G Rendina</dc:creator>
  <dc:description/>
  <cp:keywords/>
  <dc:language>en-US</dc:language>
  <cp:lastModifiedBy>Aura Herrmann</cp:lastModifiedBy>
  <dcterms:modified xsi:type="dcterms:W3CDTF">2010-05-14T13:06:32Z</dcterms:modified>
  <cp:revision>41</cp:revision>
  <dc:subject/>
  <dc:title>Main Title Slide — Always use  Title Case on Slide Titles</dc:title>
</cp:coreProperties>
</file>