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84D3-9A34-4109-9A70-C3C5AE48F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60D0-5C28-4ECA-A993-FBE19176E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5C11-E8C5-4E21-A688-C8D78F927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7916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8312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484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7916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8312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7268-2818-4028-BE86-A777EFF6D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C8FBD-A684-49B8-B48B-BA80B49E7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966F6-E074-425E-A69A-4B0DE6CC6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FE096-D890-4AE6-A431-5A41F9AE5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D36A7-3CE5-4D85-B816-F72600A60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D039A-B15A-46A3-81D2-89B7E39A9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5C303-B275-4C2D-860B-1699094F5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EF552-CE16-4671-B135-4CE0CF55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8476-FCB9-41F1-955D-AA6B06284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C616F-3D5B-488C-9C0A-30D89DA0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20E41-7A52-4DEE-B767-5FFC5E8C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BDE43-5B41-4627-8603-ED7ABA55D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06D61-92A0-4C92-BEEE-4B41AF73C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7916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8312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484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7916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8312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C21E5-DAFD-4902-9FEE-61024AB31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DCC9-E341-4985-9F25-9FC458FBB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1BE2-408B-4535-8E3C-3E409AA51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FFE8-B5D6-4FDE-B6DD-861626AA0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1107-C4AF-4072-83FA-B5B645C89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9EA0-7188-4503-BE26-2FAC806B0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C4D0-4792-448F-B0E8-F528DF68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B18E-EB5F-4D35-ADFD-A78C6E24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1444680"/>
          </a:xfrm>
          <a:prstGeom prst="rect">
            <a:avLst/>
          </a:prstGeom>
          <a:solidFill>
            <a:srgbClr val="002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65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94AB8-F35B-456E-8CE0-2764FAF9A059}" type="slidenum">
              <a:rPr b="0" lang="en-GB" sz="1400" spc="-1" strike="noStrike">
                <a:solidFill>
                  <a:srgbClr val="ff65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0" y="0"/>
            <a:ext cx="9144000" cy="4368960"/>
          </a:xfrm>
          <a:prstGeom prst="rect">
            <a:avLst/>
          </a:prstGeom>
          <a:solidFill>
            <a:srgbClr val="002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F3F41-A192-40D7-B018-B8E1F906F70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167760"/>
            <a:ext cx="7772400" cy="413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A Prospective, Multicenter,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andomized Trial of Bortezomib/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elphalan/Prednisone (VMP) versus Bortezomib/Thalidomide/Prednisone (VTP) as Induction Therapy Followed by Maintenance Treatment with VT versus VP in Elderly Untreated Patients with Multiple Myelom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Older than 65 Year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10920" y="4313160"/>
            <a:ext cx="7769160" cy="25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325b"/>
                </a:solidFill>
                <a:latin typeface="Verdana"/>
              </a:rPr>
              <a:t>Mateos MV et al.</a:t>
            </a:r>
            <a:br>
              <a:rPr sz="2500"/>
            </a:br>
            <a:r>
              <a:rPr b="0" i="1" lang="en-GB" sz="2500" spc="-1" strike="noStrike">
                <a:solidFill>
                  <a:srgbClr val="00325b"/>
                </a:solidFill>
                <a:latin typeface="Verdana"/>
              </a:rPr>
              <a:t>Proc ASH </a:t>
            </a:r>
            <a:r>
              <a:rPr b="0" lang="en-GB" sz="2500" spc="-1" strike="noStrike">
                <a:solidFill>
                  <a:srgbClr val="00325b"/>
                </a:solidFill>
                <a:latin typeface="Verdana"/>
              </a:rPr>
              <a:t>2009;Abstract 3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MP is tolerable and effective in elderly patie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89%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R; 32% CR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Bloo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2006;108:2165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dian PFS = 25 months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Haematologic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008;93:560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verall survival = 50 month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17% GIII-IV peripheral neuropath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urrent study objective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mpare the efficacy (ORR and CR rate) of VMP vs VTP when used as induction therap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ss if maintenance therapy (VT vs VP) can improve response rates with a favorable toxicity profi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 CR by 15% (from 20-35% to 35-40%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407160" y="6207120"/>
            <a:ext cx="3973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ateos MV et al. </a:t>
            </a:r>
            <a:r>
              <a:rPr b="0" i="1" lang="en-GB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oc ASH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2009;Abstract 3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Induction with VMP versus VTP Followed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by Maintenance with VT versus VP for Untreated MM in Patients &gt; 65 Year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Rectangle 20"/>
          <p:cNvSpPr/>
          <p:nvPr/>
        </p:nvSpPr>
        <p:spPr>
          <a:xfrm>
            <a:off x="539640" y="5025960"/>
            <a:ext cx="806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Bortezomib (V): Induction phase, 1.3 mg/m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Verdana"/>
                <a:ea typeface="Verdana"/>
              </a:rPr>
              <a:t>2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twice weekly during a 6-wee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first cycle, then weekly during subsequent cycles; maintenance phase,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1.3 mg/m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Verdana"/>
                <a:ea typeface="Verdana"/>
              </a:rPr>
              <a:t>2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twice weekly days 1, 4, 8 and 11 every 3 month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1"/>
          <p:cNvSpPr/>
          <p:nvPr/>
        </p:nvSpPr>
        <p:spPr>
          <a:xfrm>
            <a:off x="2049480" y="2101680"/>
            <a:ext cx="1467000" cy="774720"/>
          </a:xfrm>
          <a:prstGeom prst="rect">
            <a:avLst/>
          </a:prstGeom>
          <a:solidFill>
            <a:srgbClr val="deeef4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VM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(n = 130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48"/>
          <p:cNvSpPr/>
          <p:nvPr/>
        </p:nvSpPr>
        <p:spPr>
          <a:xfrm>
            <a:off x="321120" y="3235320"/>
            <a:ext cx="15994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Verdana"/>
                <a:ea typeface="Verdana"/>
              </a:rPr>
              <a:t>Maintenanc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48"/>
          <p:cNvSpPr/>
          <p:nvPr/>
        </p:nvSpPr>
        <p:spPr>
          <a:xfrm>
            <a:off x="366480" y="2349360"/>
            <a:ext cx="12322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Verdana"/>
                <a:ea typeface="Verdana"/>
              </a:rPr>
              <a:t>Inductio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Line 47"/>
          <p:cNvSpPr/>
          <p:nvPr/>
        </p:nvSpPr>
        <p:spPr>
          <a:xfrm flipH="1">
            <a:off x="5292360" y="2948040"/>
            <a:ext cx="927000" cy="75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Line 48"/>
          <p:cNvSpPr/>
          <p:nvPr/>
        </p:nvSpPr>
        <p:spPr>
          <a:xfrm>
            <a:off x="6219720" y="2955960"/>
            <a:ext cx="709560" cy="747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Line 52"/>
          <p:cNvSpPr/>
          <p:nvPr/>
        </p:nvSpPr>
        <p:spPr>
          <a:xfrm>
            <a:off x="3595680" y="2505240"/>
            <a:ext cx="1884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54"/>
          <p:cNvSpPr/>
          <p:nvPr/>
        </p:nvSpPr>
        <p:spPr>
          <a:xfrm>
            <a:off x="5487840" y="2122560"/>
            <a:ext cx="1467000" cy="753840"/>
          </a:xfrm>
          <a:prstGeom prst="rect">
            <a:avLst/>
          </a:prstGeom>
          <a:solidFill>
            <a:srgbClr val="deeef4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VT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(n = 130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61"/>
          <p:cNvSpPr/>
          <p:nvPr/>
        </p:nvSpPr>
        <p:spPr>
          <a:xfrm flipH="1">
            <a:off x="1936440" y="2948040"/>
            <a:ext cx="927000" cy="75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62"/>
          <p:cNvSpPr/>
          <p:nvPr/>
        </p:nvSpPr>
        <p:spPr>
          <a:xfrm>
            <a:off x="2863800" y="2955960"/>
            <a:ext cx="709560" cy="747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407160" y="6207120"/>
            <a:ext cx="3973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ateos MV et al. </a:t>
            </a:r>
            <a:r>
              <a:rPr b="0" i="1" lang="en-GB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oc ASH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2009;Abstract 3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Oval 19"/>
          <p:cNvSpPr/>
          <p:nvPr/>
        </p:nvSpPr>
        <p:spPr>
          <a:xfrm>
            <a:off x="4068720" y="2019240"/>
            <a:ext cx="1004760" cy="100332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Oval 19"/>
          <p:cNvSpPr/>
          <p:nvPr/>
        </p:nvSpPr>
        <p:spPr>
          <a:xfrm>
            <a:off x="5781600" y="2795760"/>
            <a:ext cx="797040" cy="79524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Oval 19"/>
          <p:cNvSpPr/>
          <p:nvPr/>
        </p:nvSpPr>
        <p:spPr>
          <a:xfrm>
            <a:off x="2390760" y="2795760"/>
            <a:ext cx="797040" cy="79524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21"/>
          <p:cNvSpPr/>
          <p:nvPr/>
        </p:nvSpPr>
        <p:spPr>
          <a:xfrm>
            <a:off x="1525680" y="3830760"/>
            <a:ext cx="852480" cy="563400"/>
          </a:xfrm>
          <a:prstGeom prst="rect">
            <a:avLst/>
          </a:prstGeom>
          <a:solidFill>
            <a:srgbClr val="deeef4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V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21"/>
          <p:cNvSpPr/>
          <p:nvPr/>
        </p:nvSpPr>
        <p:spPr>
          <a:xfrm>
            <a:off x="3112920" y="3830760"/>
            <a:ext cx="852480" cy="563400"/>
          </a:xfrm>
          <a:prstGeom prst="rect">
            <a:avLst/>
          </a:prstGeom>
          <a:solidFill>
            <a:srgbClr val="deeef4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V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1"/>
          <p:cNvSpPr/>
          <p:nvPr/>
        </p:nvSpPr>
        <p:spPr>
          <a:xfrm>
            <a:off x="4890960" y="3830760"/>
            <a:ext cx="852480" cy="563400"/>
          </a:xfrm>
          <a:prstGeom prst="rect">
            <a:avLst/>
          </a:prstGeom>
          <a:solidFill>
            <a:srgbClr val="deeef4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V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21"/>
          <p:cNvSpPr/>
          <p:nvPr/>
        </p:nvSpPr>
        <p:spPr>
          <a:xfrm>
            <a:off x="6478560" y="3830760"/>
            <a:ext cx="852480" cy="563400"/>
          </a:xfrm>
          <a:prstGeom prst="rect">
            <a:avLst/>
          </a:prstGeom>
          <a:solidFill>
            <a:srgbClr val="deeef4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V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Induction: Response and </a:t>
            </a:r>
            <a:br>
              <a:rPr sz="3100"/>
            </a:b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Toxicity Profile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7240" y="1739880"/>
          <a:ext cx="7839360" cy="4005360"/>
        </p:xfrm>
        <a:graphic>
          <a:graphicData uri="http://schemas.openxmlformats.org/drawingml/2006/table">
            <a:tbl>
              <a:tblPr/>
              <a:tblGrid>
                <a:gridCol w="4969080"/>
                <a:gridCol w="1484280"/>
                <a:gridCol w="1386000"/>
              </a:tblGrid>
              <a:tr h="455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Response Rate (EBMT criteria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VMP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VTP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</a:tr>
              <a:tr h="1081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ORR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CR immunofixation (CRIF)-negativ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CRIF-positiv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80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20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2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81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27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0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PR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48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46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</a:tr>
              <a:tr h="506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Select Adverse Events (≥G3-4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VMP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VTP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Infection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7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&lt;1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Peripheral neuropathy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5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9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</a:tr>
              <a:tr h="492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Cardiologic event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0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8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Rectangle 3"/>
          <p:cNvSpPr/>
          <p:nvPr/>
        </p:nvSpPr>
        <p:spPr>
          <a:xfrm>
            <a:off x="407160" y="6207120"/>
            <a:ext cx="3973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ateos MV et al. </a:t>
            </a:r>
            <a:r>
              <a:rPr b="0" i="1" lang="en-GB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oc ASH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2009;Abstract 3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Verdana"/>
              </a:rPr>
              <a:t>Maintenance: Response and Toxicity Profile 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701640" y="1917720"/>
          <a:ext cx="7769160" cy="3233880"/>
        </p:xfrm>
        <a:graphic>
          <a:graphicData uri="http://schemas.openxmlformats.org/drawingml/2006/table">
            <a:tbl>
              <a:tblPr/>
              <a:tblGrid>
                <a:gridCol w="3870360"/>
                <a:gridCol w="1932120"/>
                <a:gridCol w="1966680"/>
              </a:tblGrid>
              <a:tr h="46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Response Rate (EBMT criteria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VT (n = 91)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VP (n = 87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</a:tr>
              <a:tr h="1025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CR/nCR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  </a:t>
                      </a:r>
                      <a:r>
                        <a:rPr b="1" lang="en-GB" sz="17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CRIF-negativ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  </a:t>
                      </a: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CRIF-positiv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59%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44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5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55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39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6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PR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39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44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</a:tr>
              <a:tr h="435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Select Adverse Events (</a:t>
                      </a:r>
                      <a:r>
                        <a:rPr b="1" lang="en-US" sz="1500" spc="-1" strike="noStrike" u="sng">
                          <a:solidFill>
                            <a:srgbClr val="08406f"/>
                          </a:solidFill>
                          <a:uFillTx/>
                          <a:latin typeface="Verdana"/>
                          <a:ea typeface="Verdana"/>
                        </a:rPr>
                        <a:t>&gt;</a:t>
                      </a:r>
                      <a:r>
                        <a:rPr b="1" lang="en-US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G3-4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VT (n = 91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VP (n = 87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</a:tr>
              <a:tr h="409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Peripheral neuropathy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5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2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Cardiologic event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2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</a:tr>
            </a:tbl>
          </a:graphicData>
        </a:graphic>
      </p:graphicFrame>
      <p:sp>
        <p:nvSpPr>
          <p:cNvPr id="113" name="Rectangle 3"/>
          <p:cNvSpPr/>
          <p:nvPr/>
        </p:nvSpPr>
        <p:spPr>
          <a:xfrm>
            <a:off x="407160" y="6207120"/>
            <a:ext cx="3973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ateos MV et al. </a:t>
            </a:r>
            <a:r>
              <a:rPr b="0" i="1" lang="en-GB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oc ASH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2009;Abstract 3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87"/>
          <p:cNvSpPr/>
          <p:nvPr/>
        </p:nvSpPr>
        <p:spPr>
          <a:xfrm>
            <a:off x="5905440" y="1714680"/>
            <a:ext cx="2235240" cy="149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edian PFS by Induction-Maintenance Treatment Cohorts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(n = 178)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Line 48"/>
          <p:cNvSpPr/>
          <p:nvPr/>
        </p:nvSpPr>
        <p:spPr>
          <a:xfrm>
            <a:off x="2135160" y="4991040"/>
            <a:ext cx="0" cy="12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49"/>
          <p:cNvSpPr/>
          <p:nvPr/>
        </p:nvSpPr>
        <p:spPr>
          <a:xfrm>
            <a:off x="2598840" y="4991040"/>
            <a:ext cx="0" cy="12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50"/>
          <p:cNvSpPr/>
          <p:nvPr/>
        </p:nvSpPr>
        <p:spPr>
          <a:xfrm>
            <a:off x="3062160" y="4991040"/>
            <a:ext cx="0" cy="12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ine 51"/>
          <p:cNvSpPr/>
          <p:nvPr/>
        </p:nvSpPr>
        <p:spPr>
          <a:xfrm>
            <a:off x="3525840" y="4991040"/>
            <a:ext cx="0" cy="12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Line 52"/>
          <p:cNvSpPr/>
          <p:nvPr/>
        </p:nvSpPr>
        <p:spPr>
          <a:xfrm>
            <a:off x="3990960" y="4991040"/>
            <a:ext cx="0" cy="12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53"/>
          <p:cNvSpPr/>
          <p:nvPr/>
        </p:nvSpPr>
        <p:spPr>
          <a:xfrm>
            <a:off x="4454640" y="4991040"/>
            <a:ext cx="0" cy="12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Line 54"/>
          <p:cNvSpPr/>
          <p:nvPr/>
        </p:nvSpPr>
        <p:spPr>
          <a:xfrm>
            <a:off x="4917960" y="4991040"/>
            <a:ext cx="0" cy="12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Line 55"/>
          <p:cNvSpPr/>
          <p:nvPr/>
        </p:nvSpPr>
        <p:spPr>
          <a:xfrm>
            <a:off x="5381640" y="4991040"/>
            <a:ext cx="0" cy="12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56"/>
          <p:cNvSpPr/>
          <p:nvPr/>
        </p:nvSpPr>
        <p:spPr>
          <a:xfrm>
            <a:off x="5846760" y="4991040"/>
            <a:ext cx="0" cy="12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57"/>
          <p:cNvSpPr/>
          <p:nvPr/>
        </p:nvSpPr>
        <p:spPr>
          <a:xfrm>
            <a:off x="1884240" y="4941720"/>
            <a:ext cx="125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58"/>
          <p:cNvSpPr/>
          <p:nvPr/>
        </p:nvSpPr>
        <p:spPr>
          <a:xfrm>
            <a:off x="1884240" y="4329000"/>
            <a:ext cx="125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1884240" y="3716280"/>
            <a:ext cx="125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1884240" y="3103560"/>
            <a:ext cx="125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1884240" y="2490840"/>
            <a:ext cx="125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63"/>
          <p:cNvSpPr/>
          <p:nvPr/>
        </p:nvSpPr>
        <p:spPr>
          <a:xfrm>
            <a:off x="1884240" y="1878120"/>
            <a:ext cx="125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64"/>
          <p:cNvSpPr/>
          <p:nvPr/>
        </p:nvSpPr>
        <p:spPr>
          <a:xfrm>
            <a:off x="2021040" y="5075280"/>
            <a:ext cx="2286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5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65"/>
          <p:cNvSpPr/>
          <p:nvPr/>
        </p:nvSpPr>
        <p:spPr>
          <a:xfrm>
            <a:off x="2346480" y="5075280"/>
            <a:ext cx="4744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1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66"/>
          <p:cNvSpPr/>
          <p:nvPr/>
        </p:nvSpPr>
        <p:spPr>
          <a:xfrm>
            <a:off x="2828880" y="5075280"/>
            <a:ext cx="486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15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67"/>
          <p:cNvSpPr/>
          <p:nvPr/>
        </p:nvSpPr>
        <p:spPr>
          <a:xfrm>
            <a:off x="3276720" y="5075280"/>
            <a:ext cx="4744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2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68"/>
          <p:cNvSpPr/>
          <p:nvPr/>
        </p:nvSpPr>
        <p:spPr>
          <a:xfrm>
            <a:off x="3708360" y="5075280"/>
            <a:ext cx="5209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25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69"/>
          <p:cNvSpPr/>
          <p:nvPr/>
        </p:nvSpPr>
        <p:spPr>
          <a:xfrm>
            <a:off x="4200480" y="5075280"/>
            <a:ext cx="533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3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70"/>
          <p:cNvSpPr/>
          <p:nvPr/>
        </p:nvSpPr>
        <p:spPr>
          <a:xfrm>
            <a:off x="4651200" y="5075280"/>
            <a:ext cx="533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35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71"/>
          <p:cNvSpPr/>
          <p:nvPr/>
        </p:nvSpPr>
        <p:spPr>
          <a:xfrm>
            <a:off x="5132520" y="5075280"/>
            <a:ext cx="500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4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72"/>
          <p:cNvSpPr/>
          <p:nvPr/>
        </p:nvSpPr>
        <p:spPr>
          <a:xfrm>
            <a:off x="5605560" y="5075280"/>
            <a:ext cx="4824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45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73"/>
          <p:cNvSpPr/>
          <p:nvPr/>
        </p:nvSpPr>
        <p:spPr>
          <a:xfrm>
            <a:off x="1257480" y="4768920"/>
            <a:ext cx="684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0.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74"/>
          <p:cNvSpPr/>
          <p:nvPr/>
        </p:nvSpPr>
        <p:spPr>
          <a:xfrm>
            <a:off x="1257480" y="4164120"/>
            <a:ext cx="684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0.2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76"/>
          <p:cNvSpPr/>
          <p:nvPr/>
        </p:nvSpPr>
        <p:spPr>
          <a:xfrm>
            <a:off x="1257480" y="3543480"/>
            <a:ext cx="684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0.4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77"/>
          <p:cNvSpPr/>
          <p:nvPr/>
        </p:nvSpPr>
        <p:spPr>
          <a:xfrm>
            <a:off x="1257480" y="2933640"/>
            <a:ext cx="684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0.6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78"/>
          <p:cNvSpPr/>
          <p:nvPr/>
        </p:nvSpPr>
        <p:spPr>
          <a:xfrm>
            <a:off x="1257480" y="2319480"/>
            <a:ext cx="684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0.8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79"/>
          <p:cNvSpPr/>
          <p:nvPr/>
        </p:nvSpPr>
        <p:spPr>
          <a:xfrm>
            <a:off x="1257480" y="1701720"/>
            <a:ext cx="684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1.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80"/>
          <p:cNvSpPr/>
          <p:nvPr/>
        </p:nvSpPr>
        <p:spPr>
          <a:xfrm>
            <a:off x="2135160" y="4227480"/>
            <a:ext cx="282744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b8ff"/>
                </a:solidFill>
                <a:latin typeface="Verdana"/>
                <a:ea typeface="Verdana"/>
              </a:rPr>
              <a:t>VTP+VP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vs </a:t>
            </a:r>
            <a:r>
              <a:rPr b="1" lang="en-US" sz="1700" spc="-1" strike="noStrike">
                <a:solidFill>
                  <a:srgbClr val="e78a00"/>
                </a:solidFill>
                <a:latin typeface="Verdana"/>
                <a:ea typeface="Verdana"/>
              </a:rPr>
              <a:t>VMP+V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HR 1.6, </a:t>
            </a:r>
            <a:r>
              <a:rPr b="0" i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p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= 0.008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82"/>
          <p:cNvSpPr/>
          <p:nvPr/>
        </p:nvSpPr>
        <p:spPr>
          <a:xfrm>
            <a:off x="6027840" y="1908000"/>
            <a:ext cx="214128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b8ff"/>
                </a:solidFill>
                <a:latin typeface="Verdana"/>
                <a:ea typeface="Verdana"/>
              </a:rPr>
              <a:t>VTP+VP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: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26.5 m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ea100f"/>
                </a:solidFill>
                <a:latin typeface="Verdana"/>
                <a:ea typeface="Verdana"/>
              </a:rPr>
              <a:t>VMP+VP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: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32 m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66"/>
                </a:solidFill>
                <a:latin typeface="Verdana"/>
                <a:ea typeface="Verdana"/>
              </a:rPr>
              <a:t>VTP+VT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: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NR*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e78a00"/>
                </a:solidFill>
                <a:latin typeface="Verdana"/>
                <a:ea typeface="Verdana"/>
              </a:rPr>
              <a:t>VMP+VT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: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NR*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83"/>
          <p:cNvSpPr/>
          <p:nvPr/>
        </p:nvSpPr>
        <p:spPr>
          <a:xfrm>
            <a:off x="1973160" y="5408640"/>
            <a:ext cx="3967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Month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84"/>
          <p:cNvSpPr/>
          <p:nvPr/>
        </p:nvSpPr>
        <p:spPr>
          <a:xfrm rot="16200000">
            <a:off x="-599400" y="3345840"/>
            <a:ext cx="3502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Proportion PF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88"/>
          <p:cNvSpPr/>
          <p:nvPr/>
        </p:nvSpPr>
        <p:spPr>
          <a:xfrm>
            <a:off x="1406880" y="5713560"/>
            <a:ext cx="190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* NR = not reach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470160" y="6207120"/>
            <a:ext cx="5971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With permission from Mateos MV et al. </a:t>
            </a:r>
            <a:r>
              <a:rPr b="0" i="1" lang="en-GB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oc ASH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2009;Abstract 3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003400" y="1805040"/>
            <a:ext cx="3863880" cy="320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wo-Year Overall Survival According to Cytogenetic Risk Profile (VMP or VTP Followed by VT or VP) 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Text Box 20"/>
          <p:cNvSpPr/>
          <p:nvPr/>
        </p:nvSpPr>
        <p:spPr>
          <a:xfrm>
            <a:off x="1517760" y="5450040"/>
            <a:ext cx="2286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21"/>
          <p:cNvSpPr/>
          <p:nvPr/>
        </p:nvSpPr>
        <p:spPr>
          <a:xfrm>
            <a:off x="1870200" y="5451480"/>
            <a:ext cx="4744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1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23"/>
          <p:cNvSpPr/>
          <p:nvPr/>
        </p:nvSpPr>
        <p:spPr>
          <a:xfrm>
            <a:off x="2362320" y="5457960"/>
            <a:ext cx="4744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2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25"/>
          <p:cNvSpPr/>
          <p:nvPr/>
        </p:nvSpPr>
        <p:spPr>
          <a:xfrm>
            <a:off x="2806560" y="5450040"/>
            <a:ext cx="533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3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27"/>
          <p:cNvSpPr/>
          <p:nvPr/>
        </p:nvSpPr>
        <p:spPr>
          <a:xfrm>
            <a:off x="3290760" y="5457960"/>
            <a:ext cx="500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4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29"/>
          <p:cNvSpPr/>
          <p:nvPr/>
        </p:nvSpPr>
        <p:spPr>
          <a:xfrm>
            <a:off x="787320" y="5057640"/>
            <a:ext cx="6494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0.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30"/>
          <p:cNvSpPr/>
          <p:nvPr/>
        </p:nvSpPr>
        <p:spPr>
          <a:xfrm>
            <a:off x="774720" y="4579920"/>
            <a:ext cx="662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0.2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762120" y="4165560"/>
            <a:ext cx="6746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0.4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74720" y="3720960"/>
            <a:ext cx="662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0.6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33"/>
          <p:cNvSpPr/>
          <p:nvPr/>
        </p:nvSpPr>
        <p:spPr>
          <a:xfrm>
            <a:off x="812880" y="3278160"/>
            <a:ext cx="6238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0.8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34"/>
          <p:cNvSpPr/>
          <p:nvPr/>
        </p:nvSpPr>
        <p:spPr>
          <a:xfrm>
            <a:off x="787320" y="2822400"/>
            <a:ext cx="641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1.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38"/>
          <p:cNvSpPr/>
          <p:nvPr/>
        </p:nvSpPr>
        <p:spPr>
          <a:xfrm>
            <a:off x="1455840" y="5746680"/>
            <a:ext cx="2782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Month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39"/>
          <p:cNvSpPr/>
          <p:nvPr/>
        </p:nvSpPr>
        <p:spPr>
          <a:xfrm rot="16200000">
            <a:off x="-814680" y="3822840"/>
            <a:ext cx="29512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Proportion Surviving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43"/>
          <p:cNvSpPr/>
          <p:nvPr/>
        </p:nvSpPr>
        <p:spPr>
          <a:xfrm>
            <a:off x="3780000" y="5457960"/>
            <a:ext cx="500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5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44"/>
          <p:cNvSpPr/>
          <p:nvPr/>
        </p:nvSpPr>
        <p:spPr>
          <a:xfrm>
            <a:off x="5005440" y="5450040"/>
            <a:ext cx="2286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45"/>
          <p:cNvSpPr/>
          <p:nvPr/>
        </p:nvSpPr>
        <p:spPr>
          <a:xfrm>
            <a:off x="5500800" y="5451480"/>
            <a:ext cx="4744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1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46"/>
          <p:cNvSpPr/>
          <p:nvPr/>
        </p:nvSpPr>
        <p:spPr>
          <a:xfrm>
            <a:off x="6135840" y="5457960"/>
            <a:ext cx="4744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2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7"/>
          <p:cNvSpPr/>
          <p:nvPr/>
        </p:nvSpPr>
        <p:spPr>
          <a:xfrm>
            <a:off x="6743880" y="5450040"/>
            <a:ext cx="533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3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48"/>
          <p:cNvSpPr/>
          <p:nvPr/>
        </p:nvSpPr>
        <p:spPr>
          <a:xfrm>
            <a:off x="7381800" y="5457960"/>
            <a:ext cx="500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4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49"/>
          <p:cNvSpPr/>
          <p:nvPr/>
        </p:nvSpPr>
        <p:spPr>
          <a:xfrm>
            <a:off x="4305240" y="5057640"/>
            <a:ext cx="619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0.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50"/>
          <p:cNvSpPr/>
          <p:nvPr/>
        </p:nvSpPr>
        <p:spPr>
          <a:xfrm>
            <a:off x="4267080" y="4579920"/>
            <a:ext cx="6573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0.2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51"/>
          <p:cNvSpPr/>
          <p:nvPr/>
        </p:nvSpPr>
        <p:spPr>
          <a:xfrm>
            <a:off x="4305240" y="4089240"/>
            <a:ext cx="619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0.4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52"/>
          <p:cNvSpPr/>
          <p:nvPr/>
        </p:nvSpPr>
        <p:spPr>
          <a:xfrm>
            <a:off x="4280040" y="3616200"/>
            <a:ext cx="6444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0.6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53"/>
          <p:cNvSpPr/>
          <p:nvPr/>
        </p:nvSpPr>
        <p:spPr>
          <a:xfrm>
            <a:off x="4317840" y="3144960"/>
            <a:ext cx="6066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0.8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54"/>
          <p:cNvSpPr/>
          <p:nvPr/>
        </p:nvSpPr>
        <p:spPr>
          <a:xfrm>
            <a:off x="4305240" y="2655720"/>
            <a:ext cx="6112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1.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55"/>
          <p:cNvSpPr/>
          <p:nvPr/>
        </p:nvSpPr>
        <p:spPr>
          <a:xfrm>
            <a:off x="4921200" y="5746680"/>
            <a:ext cx="35337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Month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56"/>
          <p:cNvSpPr/>
          <p:nvPr/>
        </p:nvSpPr>
        <p:spPr>
          <a:xfrm>
            <a:off x="8026560" y="5457960"/>
            <a:ext cx="500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5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57"/>
          <p:cNvSpPr/>
          <p:nvPr/>
        </p:nvSpPr>
        <p:spPr>
          <a:xfrm>
            <a:off x="1015920" y="1639800"/>
            <a:ext cx="33480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From 1</a:t>
            </a:r>
            <a:r>
              <a:rPr b="1" lang="en-US" sz="1700" spc="-1" strike="noStrike" baseline="30000">
                <a:solidFill>
                  <a:srgbClr val="000000"/>
                </a:solidFill>
                <a:latin typeface="Verdana"/>
                <a:ea typeface="Verdana"/>
              </a:rPr>
              <a:t>st 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Randomizatio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      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Standard risk: 77%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High-risk: 74%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Line 59"/>
          <p:cNvSpPr/>
          <p:nvPr/>
        </p:nvSpPr>
        <p:spPr>
          <a:xfrm>
            <a:off x="1407960" y="2370240"/>
            <a:ext cx="373320" cy="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Line 60"/>
          <p:cNvSpPr/>
          <p:nvPr/>
        </p:nvSpPr>
        <p:spPr>
          <a:xfrm>
            <a:off x="1407960" y="2092320"/>
            <a:ext cx="373320" cy="0"/>
          </a:xfrm>
          <a:prstGeom prst="line">
            <a:avLst/>
          </a:prstGeom>
          <a:ln w="28440">
            <a:solidFill>
              <a:srgbClr val="e78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61"/>
          <p:cNvSpPr/>
          <p:nvPr/>
        </p:nvSpPr>
        <p:spPr>
          <a:xfrm>
            <a:off x="4929120" y="1639800"/>
            <a:ext cx="33480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From 2</a:t>
            </a:r>
            <a:r>
              <a:rPr b="1" lang="en-US" sz="1700" spc="-1" strike="noStrike" baseline="30000">
                <a:solidFill>
                  <a:srgbClr val="000000"/>
                </a:solidFill>
                <a:latin typeface="Verdana"/>
                <a:ea typeface="Verdana"/>
              </a:rPr>
              <a:t>nd 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Randomizatio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      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Standard risk: 84%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High-risk: 82%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Line 62"/>
          <p:cNvSpPr/>
          <p:nvPr/>
        </p:nvSpPr>
        <p:spPr>
          <a:xfrm>
            <a:off x="5321160" y="2370240"/>
            <a:ext cx="373320" cy="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63"/>
          <p:cNvSpPr/>
          <p:nvPr/>
        </p:nvSpPr>
        <p:spPr>
          <a:xfrm>
            <a:off x="5321160" y="2092320"/>
            <a:ext cx="373320" cy="0"/>
          </a:xfrm>
          <a:prstGeom prst="line">
            <a:avLst/>
          </a:prstGeom>
          <a:ln w="28440">
            <a:solidFill>
              <a:srgbClr val="e78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470160" y="6207120"/>
            <a:ext cx="5971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With permission from Mateos MV et al. </a:t>
            </a:r>
            <a:r>
              <a:rPr b="0" i="1" lang="en-GB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oc ASH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2009;Abstract 3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384200" y="2860560"/>
            <a:ext cx="2797200" cy="26002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846680" y="2679840"/>
            <a:ext cx="3565440" cy="27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54"/>
          <p:cNvSpPr/>
          <p:nvPr/>
        </p:nvSpPr>
        <p:spPr>
          <a:xfrm>
            <a:off x="4834080" y="1639800"/>
            <a:ext cx="36925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O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      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MRD negative (n = 34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         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MRD positive (n = 119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urvival According to MRD* After Induction Therapy (VMP or VTP Followed by VT or VP) 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1603440" y="4695840"/>
            <a:ext cx="2286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1901880" y="4689360"/>
            <a:ext cx="4744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1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2332080" y="4689360"/>
            <a:ext cx="4744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2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2735280" y="4689360"/>
            <a:ext cx="533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3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3174840" y="4689360"/>
            <a:ext cx="5004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4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1255680" y="4438800"/>
            <a:ext cx="4064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10"/>
          <p:cNvSpPr/>
          <p:nvPr/>
        </p:nvSpPr>
        <p:spPr>
          <a:xfrm>
            <a:off x="1179360" y="4003560"/>
            <a:ext cx="4827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4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1179360" y="3584520"/>
            <a:ext cx="4827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6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1182600" y="3166920"/>
            <a:ext cx="4827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8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3"/>
          <p:cNvSpPr/>
          <p:nvPr/>
        </p:nvSpPr>
        <p:spPr>
          <a:xfrm>
            <a:off x="1065240" y="2730600"/>
            <a:ext cx="5954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10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15"/>
          <p:cNvSpPr/>
          <p:nvPr/>
        </p:nvSpPr>
        <p:spPr>
          <a:xfrm rot="16200000">
            <a:off x="-699480" y="3472920"/>
            <a:ext cx="2702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Proportion Surviving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19"/>
          <p:cNvSpPr/>
          <p:nvPr/>
        </p:nvSpPr>
        <p:spPr>
          <a:xfrm>
            <a:off x="3605040" y="4689360"/>
            <a:ext cx="5004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5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31"/>
          <p:cNvSpPr/>
          <p:nvPr/>
        </p:nvSpPr>
        <p:spPr>
          <a:xfrm>
            <a:off x="5165640" y="4994280"/>
            <a:ext cx="27813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Month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33"/>
          <p:cNvSpPr/>
          <p:nvPr/>
        </p:nvSpPr>
        <p:spPr>
          <a:xfrm>
            <a:off x="1015920" y="1639800"/>
            <a:ext cx="35560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TT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      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MRD negative (n = 34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         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MRD positive (n = 119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34"/>
          <p:cNvSpPr/>
          <p:nvPr/>
        </p:nvSpPr>
        <p:spPr>
          <a:xfrm>
            <a:off x="1254240" y="2378160"/>
            <a:ext cx="372960" cy="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35"/>
          <p:cNvSpPr/>
          <p:nvPr/>
        </p:nvSpPr>
        <p:spPr>
          <a:xfrm>
            <a:off x="1254240" y="2100240"/>
            <a:ext cx="372960" cy="0"/>
          </a:xfrm>
          <a:prstGeom prst="line">
            <a:avLst/>
          </a:prstGeom>
          <a:ln w="28440">
            <a:solidFill>
              <a:srgbClr val="e78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37"/>
          <p:cNvSpPr/>
          <p:nvPr/>
        </p:nvSpPr>
        <p:spPr>
          <a:xfrm>
            <a:off x="5079960" y="2370240"/>
            <a:ext cx="372960" cy="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38"/>
          <p:cNvSpPr/>
          <p:nvPr/>
        </p:nvSpPr>
        <p:spPr>
          <a:xfrm>
            <a:off x="5079960" y="2092320"/>
            <a:ext cx="372960" cy="0"/>
          </a:xfrm>
          <a:prstGeom prst="line">
            <a:avLst/>
          </a:prstGeom>
          <a:ln w="28440">
            <a:solidFill>
              <a:srgbClr val="e78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42"/>
          <p:cNvSpPr/>
          <p:nvPr/>
        </p:nvSpPr>
        <p:spPr>
          <a:xfrm>
            <a:off x="5465880" y="4695840"/>
            <a:ext cx="2286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43"/>
          <p:cNvSpPr/>
          <p:nvPr/>
        </p:nvSpPr>
        <p:spPr>
          <a:xfrm>
            <a:off x="5764320" y="4689360"/>
            <a:ext cx="4744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1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44"/>
          <p:cNvSpPr/>
          <p:nvPr/>
        </p:nvSpPr>
        <p:spPr>
          <a:xfrm>
            <a:off x="6194520" y="4689360"/>
            <a:ext cx="4744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2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45"/>
          <p:cNvSpPr/>
          <p:nvPr/>
        </p:nvSpPr>
        <p:spPr>
          <a:xfrm>
            <a:off x="6597720" y="4689360"/>
            <a:ext cx="533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3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46"/>
          <p:cNvSpPr/>
          <p:nvPr/>
        </p:nvSpPr>
        <p:spPr>
          <a:xfrm>
            <a:off x="7037280" y="4689360"/>
            <a:ext cx="500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4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52"/>
          <p:cNvSpPr/>
          <p:nvPr/>
        </p:nvSpPr>
        <p:spPr>
          <a:xfrm>
            <a:off x="7467480" y="4689360"/>
            <a:ext cx="500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5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53"/>
          <p:cNvSpPr/>
          <p:nvPr/>
        </p:nvSpPr>
        <p:spPr>
          <a:xfrm>
            <a:off x="1376280" y="4994280"/>
            <a:ext cx="27813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Month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55"/>
          <p:cNvSpPr/>
          <p:nvPr/>
        </p:nvSpPr>
        <p:spPr>
          <a:xfrm>
            <a:off x="1930320" y="4187880"/>
            <a:ext cx="13334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P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&lt; 0.001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56"/>
          <p:cNvSpPr/>
          <p:nvPr/>
        </p:nvSpPr>
        <p:spPr>
          <a:xfrm>
            <a:off x="5851440" y="4187880"/>
            <a:ext cx="13334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P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= 0.07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57"/>
          <p:cNvSpPr/>
          <p:nvPr/>
        </p:nvSpPr>
        <p:spPr>
          <a:xfrm>
            <a:off x="5133960" y="4438800"/>
            <a:ext cx="4064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58"/>
          <p:cNvSpPr/>
          <p:nvPr/>
        </p:nvSpPr>
        <p:spPr>
          <a:xfrm>
            <a:off x="5057640" y="4003560"/>
            <a:ext cx="4827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4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59"/>
          <p:cNvSpPr/>
          <p:nvPr/>
        </p:nvSpPr>
        <p:spPr>
          <a:xfrm>
            <a:off x="5057640" y="3584520"/>
            <a:ext cx="4827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6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60"/>
          <p:cNvSpPr/>
          <p:nvPr/>
        </p:nvSpPr>
        <p:spPr>
          <a:xfrm>
            <a:off x="5060880" y="3166920"/>
            <a:ext cx="4827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8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61"/>
          <p:cNvSpPr/>
          <p:nvPr/>
        </p:nvSpPr>
        <p:spPr>
          <a:xfrm>
            <a:off x="4943520" y="2730600"/>
            <a:ext cx="5954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10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63"/>
          <p:cNvSpPr/>
          <p:nvPr/>
        </p:nvSpPr>
        <p:spPr>
          <a:xfrm>
            <a:off x="1212840" y="5475240"/>
            <a:ext cx="630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* Minimal residual disease (MRD) assessed by immunophenotyping in bone marro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66"/>
          <p:cNvSpPr/>
          <p:nvPr/>
        </p:nvSpPr>
        <p:spPr>
          <a:xfrm>
            <a:off x="6985080" y="2981160"/>
            <a:ext cx="1541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Median: N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67"/>
          <p:cNvSpPr/>
          <p:nvPr/>
        </p:nvSpPr>
        <p:spPr>
          <a:xfrm>
            <a:off x="2921040" y="2994120"/>
            <a:ext cx="16509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Median: N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68"/>
          <p:cNvSpPr/>
          <p:nvPr/>
        </p:nvSpPr>
        <p:spPr>
          <a:xfrm>
            <a:off x="6959520" y="3502080"/>
            <a:ext cx="1567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Median: N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69"/>
          <p:cNvSpPr/>
          <p:nvPr/>
        </p:nvSpPr>
        <p:spPr>
          <a:xfrm>
            <a:off x="3124080" y="3666960"/>
            <a:ext cx="17146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Median: 31m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470160" y="6207120"/>
            <a:ext cx="5971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With permission from Mateos MV et al. </a:t>
            </a:r>
            <a:r>
              <a:rPr b="0" i="1" lang="en-GB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oc ASH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2009;Abstract 3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581120" y="2760840"/>
            <a:ext cx="2403360" cy="19587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443560" y="2774880"/>
            <a:ext cx="2403360" cy="195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onclusions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ekly bortezomib dosing resulted in less peripheral neuropathy compared to rates seen with historical biweekly administr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intenance therapy increased the CR rate with an acceptable toxicity profil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gression-free survival with induction VMP followed by maintenance VT is significantly superior to VPT-TP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bortezomib-based combinations appeared to overcome the poor prognosis of high-risk cytogenetic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kylating agents remain effective drugs for elderly patients with previously untreated multiple myelom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320760" y="6281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427680" y="6207120"/>
            <a:ext cx="3973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ateos MV et al. </a:t>
            </a:r>
            <a:r>
              <a:rPr b="0" i="1" lang="en-GB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oc ASH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2009;Abstract 3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3T19:31:13Z</dcterms:created>
  <dc:creator>Fernando G Rendina</dc:creator>
  <dc:description/>
  <cp:keywords/>
  <dc:language>en-US</dc:language>
  <cp:lastModifiedBy>Albert Rosado</cp:lastModifiedBy>
  <cp:lastPrinted>2010-06-16T18:41:00Z</cp:lastPrinted>
  <dcterms:modified xsi:type="dcterms:W3CDTF">2010-06-16T18:41:07Z</dcterms:modified>
  <cp:revision>109</cp:revision>
  <dc:subject/>
  <dc:title>Main Title Slide — Always use  Title Case on Slide Titles</dc:title>
</cp:coreProperties>
</file>