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60A-70F6-4D96-B3E5-4A95FA9F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EF6-AA27-4409-9D59-7F7F8084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737-F288-432C-A3E9-0FBC4A12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EF6-E576-440E-8901-4540A595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D6AB-A040-4B73-A215-3062AB9E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DE95-882F-46A4-8C71-DA0C3A98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D4BC-B607-48E4-BF0E-E1581AFA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51C1-90AF-4279-9CF0-70FAD179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82DC-7AE8-4722-A0DA-CC83CA5F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F3B1-B8B9-4C3D-B81F-0BC4C529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5B6A-28A6-45C6-B426-18197BD4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C8DF-FDB0-4524-B462-58B15E84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A4C1-4720-4B23-9B4C-8F037CA4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4DAE-E94A-4912-937B-8BA46DED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8FDD-BCC8-48F2-8034-31F18376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FCD6-B20B-4A7F-AD46-85D55000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9D5E-ACBD-4ED2-851F-E639E5E4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ED5-895E-415C-9E3C-6E88C638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388A-86EA-4613-96CB-6AF31D97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044-96A8-4915-9840-F8C2D01E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1D8-64FA-4AAA-A7D4-1BCADDFF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D816-7247-4312-A4D1-5961B63C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CD5-9493-4D4C-BCFC-49576B35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BF3-6550-4CEF-9E43-898C439E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EF9B-8A0E-447F-8C69-5F8B33D571F4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E626-CAFB-4BD3-A3EC-63FDF45795A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Lenalidomide Plus Dexamethasone versus Thalidomide Plus Dexamethasone in Newly Diagnosed Multiple Myeloma: A Comparative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nalysis of 411 Patien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Gay F et al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Blood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10;115(7):1343-50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nalidomide and thalidomide are each active in combination with dexamethasone for the treatment of multiple myeloma (MM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nalidomide is more potent in preclinical assays than thalidomide, but causes more hematologic side effects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lo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2;100:3063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;357:212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randomized trial of thalidomide/dexamethasone (Thal/Dex) versus lenalidomide/dexamethasone (Len/Dex) has been reported or is ongoing/plan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e the efficacy and toxicity of Len/Dex 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al/Dex as initial therapy for MM using a retrospective analys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58280" y="6207120"/>
            <a:ext cx="3612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Gay F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lood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10;115(7):1343-5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Method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74840" y="1607760"/>
            <a:ext cx="82245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-control retrospective study conducted using data from 411 consecutive patients from the Mayo Clinic with newly diagnosed M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treated with Thal/Dex: 183 (110 received SC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treated with Len/Dex: 228 (111 received SC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patients were administered eith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-dose dexamethasone (40 mg orally, twice weekl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-dose dexamethasone (40 mg orally, weekl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k stratification of patien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risk: del 17p, t(4;14), t(14;16) by FISH or loss of chromosome 13 by metaphase cytogene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risk: Patients without any of the abo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58280" y="6207120"/>
            <a:ext cx="3612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Gay F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lood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10;115(7):1343-5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7240" y="1893960"/>
          <a:ext cx="7770960" cy="3132000"/>
        </p:xfrm>
        <a:graphic>
          <a:graphicData uri="http://schemas.openxmlformats.org/drawingml/2006/table">
            <a:tbl>
              <a:tblPr/>
              <a:tblGrid>
                <a:gridCol w="3937320"/>
                <a:gridCol w="1447560"/>
                <a:gridCol w="1362240"/>
                <a:gridCol w="102384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Efficacy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Thal/Dex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183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Len/Dex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228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57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.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3.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≥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VGP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2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4.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50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≥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1.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0.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edian time to progress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7.2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7.4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1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rogression-free surviva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7.1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6.7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3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76"/>
          <p:cNvSpPr/>
          <p:nvPr/>
        </p:nvSpPr>
        <p:spPr>
          <a:xfrm>
            <a:off x="539640" y="5222880"/>
            <a:ext cx="80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CR = complete response; VGPR = very good partial respons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PR = partial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58280" y="6207120"/>
            <a:ext cx="3612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Gay F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lood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10;115(7):1343-5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Efficacy Outcome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Median Overall Survival with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Len/Dex versus Thal/Dex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603440" y="4975200"/>
            <a:ext cx="228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158920" y="4968720"/>
            <a:ext cx="474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897280" y="496872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4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217520" y="4718160"/>
            <a:ext cx="406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1008000" y="2692440"/>
            <a:ext cx="595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0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 rot="16200000">
            <a:off x="-653400" y="3706200"/>
            <a:ext cx="270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% of patien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3629160" y="496872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6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5165640" y="5273640"/>
            <a:ext cx="2781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onth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4673520" y="2509920"/>
            <a:ext cx="37332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3149640" y="2511360"/>
            <a:ext cx="372960" cy="0"/>
          </a:xfrm>
          <a:prstGeom prst="line">
            <a:avLst/>
          </a:prstGeom>
          <a:ln w="28440">
            <a:solidFill>
              <a:srgbClr val="e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1376280" y="5273640"/>
            <a:ext cx="2781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onth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1625760" y="4314960"/>
            <a:ext cx="1333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HR 0.6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= 0.018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1"/>
          <p:cNvSpPr/>
          <p:nvPr/>
        </p:nvSpPr>
        <p:spPr>
          <a:xfrm>
            <a:off x="5521320" y="4327560"/>
            <a:ext cx="1333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HR 0.3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= 0.00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7"/>
          <p:cNvSpPr/>
          <p:nvPr/>
        </p:nvSpPr>
        <p:spPr>
          <a:xfrm>
            <a:off x="1212840" y="5729400"/>
            <a:ext cx="630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NR = not reach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38"/>
          <p:cNvSpPr/>
          <p:nvPr/>
        </p:nvSpPr>
        <p:spPr>
          <a:xfrm>
            <a:off x="1219320" y="1639800"/>
            <a:ext cx="3348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Regardless of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dexamethasone dos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9"/>
          <p:cNvSpPr/>
          <p:nvPr/>
        </p:nvSpPr>
        <p:spPr>
          <a:xfrm>
            <a:off x="4929120" y="1639800"/>
            <a:ext cx="3348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High-dos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dexamethasone onl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1"/>
          <p:cNvSpPr/>
          <p:nvPr/>
        </p:nvSpPr>
        <p:spPr>
          <a:xfrm>
            <a:off x="3162240" y="2841480"/>
            <a:ext cx="161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edian N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2"/>
          <p:cNvSpPr/>
          <p:nvPr/>
        </p:nvSpPr>
        <p:spPr>
          <a:xfrm>
            <a:off x="7086600" y="2778120"/>
            <a:ext cx="1676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edian N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3"/>
          <p:cNvSpPr/>
          <p:nvPr/>
        </p:nvSpPr>
        <p:spPr>
          <a:xfrm>
            <a:off x="6502320" y="4048200"/>
            <a:ext cx="2222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edian = 50.0 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2502000" y="3882960"/>
            <a:ext cx="2070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edian = 57.2 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3"/>
          <p:cNvSpPr/>
          <p:nvPr/>
        </p:nvSpPr>
        <p:spPr>
          <a:xfrm>
            <a:off x="5489640" y="5013360"/>
            <a:ext cx="228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4"/>
          <p:cNvSpPr/>
          <p:nvPr/>
        </p:nvSpPr>
        <p:spPr>
          <a:xfrm>
            <a:off x="6013440" y="5006880"/>
            <a:ext cx="474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5"/>
          <p:cNvSpPr/>
          <p:nvPr/>
        </p:nvSpPr>
        <p:spPr>
          <a:xfrm>
            <a:off x="6732720" y="500688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4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6"/>
          <p:cNvSpPr/>
          <p:nvPr/>
        </p:nvSpPr>
        <p:spPr>
          <a:xfrm>
            <a:off x="5103720" y="4756320"/>
            <a:ext cx="406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7"/>
          <p:cNvSpPr/>
          <p:nvPr/>
        </p:nvSpPr>
        <p:spPr>
          <a:xfrm>
            <a:off x="5027760" y="4194000"/>
            <a:ext cx="482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8"/>
          <p:cNvSpPr/>
          <p:nvPr/>
        </p:nvSpPr>
        <p:spPr>
          <a:xfrm>
            <a:off x="5027760" y="3705120"/>
            <a:ext cx="482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5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9"/>
          <p:cNvSpPr/>
          <p:nvPr/>
        </p:nvSpPr>
        <p:spPr>
          <a:xfrm>
            <a:off x="5030640" y="3214800"/>
            <a:ext cx="48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7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60"/>
          <p:cNvSpPr/>
          <p:nvPr/>
        </p:nvSpPr>
        <p:spPr>
          <a:xfrm>
            <a:off x="4894200" y="2730600"/>
            <a:ext cx="595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0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1"/>
          <p:cNvSpPr/>
          <p:nvPr/>
        </p:nvSpPr>
        <p:spPr>
          <a:xfrm>
            <a:off x="7426440" y="500688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6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2"/>
          <p:cNvSpPr/>
          <p:nvPr/>
        </p:nvSpPr>
        <p:spPr>
          <a:xfrm>
            <a:off x="3530520" y="2346480"/>
            <a:ext cx="1333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Len/dex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3"/>
          <p:cNvSpPr/>
          <p:nvPr/>
        </p:nvSpPr>
        <p:spPr>
          <a:xfrm>
            <a:off x="5067360" y="2346480"/>
            <a:ext cx="1333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Thal/dex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24080" y="6207120"/>
            <a:ext cx="6396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With permission from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loo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, through Copyright Clearance Center In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Gay F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lood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10;115(7):1343-5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5680" y="2813040"/>
            <a:ext cx="2360520" cy="2217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421240" y="2838600"/>
            <a:ext cx="2274840" cy="21571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7"/>
          <p:cNvSpPr/>
          <p:nvPr/>
        </p:nvSpPr>
        <p:spPr>
          <a:xfrm>
            <a:off x="1096920" y="4194000"/>
            <a:ext cx="48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8"/>
          <p:cNvSpPr/>
          <p:nvPr/>
        </p:nvSpPr>
        <p:spPr>
          <a:xfrm>
            <a:off x="1096920" y="3705120"/>
            <a:ext cx="48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5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9"/>
          <p:cNvSpPr/>
          <p:nvPr/>
        </p:nvSpPr>
        <p:spPr>
          <a:xfrm>
            <a:off x="1100160" y="3214800"/>
            <a:ext cx="482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7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Overall Survival with Respect To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ransplantation Statu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13"/>
          <p:cNvSpPr/>
          <p:nvPr/>
        </p:nvSpPr>
        <p:spPr>
          <a:xfrm rot="16200000">
            <a:off x="-681840" y="3455280"/>
            <a:ext cx="270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% of patien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1612800" y="4340160"/>
            <a:ext cx="1333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HR 0.5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= 0.07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5533920" y="4340160"/>
            <a:ext cx="1333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HR 0.5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= 0.02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3"/>
          <p:cNvSpPr/>
          <p:nvPr/>
        </p:nvSpPr>
        <p:spPr>
          <a:xfrm>
            <a:off x="1219320" y="1639800"/>
            <a:ext cx="334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atients with transpla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4"/>
          <p:cNvSpPr/>
          <p:nvPr/>
        </p:nvSpPr>
        <p:spPr>
          <a:xfrm>
            <a:off x="5003640" y="1639800"/>
            <a:ext cx="372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atients without transpla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5"/>
          <p:cNvSpPr/>
          <p:nvPr/>
        </p:nvSpPr>
        <p:spPr>
          <a:xfrm>
            <a:off x="2425680" y="3844800"/>
            <a:ext cx="2070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edian = 80.6 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8"/>
          <p:cNvSpPr/>
          <p:nvPr/>
        </p:nvSpPr>
        <p:spPr>
          <a:xfrm>
            <a:off x="6502320" y="4149720"/>
            <a:ext cx="2247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edian = 42.2 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1603440" y="4975200"/>
            <a:ext cx="228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2185920" y="4968720"/>
            <a:ext cx="474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2914560" y="496872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4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45"/>
          <p:cNvSpPr/>
          <p:nvPr/>
        </p:nvSpPr>
        <p:spPr>
          <a:xfrm>
            <a:off x="1217520" y="4718160"/>
            <a:ext cx="406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46"/>
          <p:cNvSpPr/>
          <p:nvPr/>
        </p:nvSpPr>
        <p:spPr>
          <a:xfrm>
            <a:off x="1090440" y="423216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7"/>
          <p:cNvSpPr/>
          <p:nvPr/>
        </p:nvSpPr>
        <p:spPr>
          <a:xfrm>
            <a:off x="1141560" y="3724200"/>
            <a:ext cx="482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5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8"/>
          <p:cNvSpPr/>
          <p:nvPr/>
        </p:nvSpPr>
        <p:spPr>
          <a:xfrm>
            <a:off x="1144440" y="3205080"/>
            <a:ext cx="48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7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9"/>
          <p:cNvSpPr/>
          <p:nvPr/>
        </p:nvSpPr>
        <p:spPr>
          <a:xfrm>
            <a:off x="1027080" y="2692440"/>
            <a:ext cx="595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0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3646440" y="496872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6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5165640" y="5273640"/>
            <a:ext cx="2781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onth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53"/>
          <p:cNvSpPr/>
          <p:nvPr/>
        </p:nvSpPr>
        <p:spPr>
          <a:xfrm>
            <a:off x="4673520" y="2357280"/>
            <a:ext cx="37332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54"/>
          <p:cNvSpPr/>
          <p:nvPr/>
        </p:nvSpPr>
        <p:spPr>
          <a:xfrm>
            <a:off x="3149640" y="2359080"/>
            <a:ext cx="372960" cy="0"/>
          </a:xfrm>
          <a:prstGeom prst="line">
            <a:avLst/>
          </a:prstGeom>
          <a:ln w="28440">
            <a:solidFill>
              <a:srgbClr val="e7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5"/>
          <p:cNvSpPr/>
          <p:nvPr/>
        </p:nvSpPr>
        <p:spPr>
          <a:xfrm>
            <a:off x="1376280" y="5273640"/>
            <a:ext cx="2781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onth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3162240" y="2778120"/>
            <a:ext cx="1575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edian N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6946920" y="3146400"/>
            <a:ext cx="1579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edian N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4"/>
          <p:cNvSpPr/>
          <p:nvPr/>
        </p:nvSpPr>
        <p:spPr>
          <a:xfrm>
            <a:off x="5489640" y="5013360"/>
            <a:ext cx="228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5"/>
          <p:cNvSpPr/>
          <p:nvPr/>
        </p:nvSpPr>
        <p:spPr>
          <a:xfrm>
            <a:off x="6058080" y="5006880"/>
            <a:ext cx="474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66"/>
          <p:cNvSpPr/>
          <p:nvPr/>
        </p:nvSpPr>
        <p:spPr>
          <a:xfrm>
            <a:off x="6729480" y="500688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4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67"/>
          <p:cNvSpPr/>
          <p:nvPr/>
        </p:nvSpPr>
        <p:spPr>
          <a:xfrm>
            <a:off x="5103720" y="4756320"/>
            <a:ext cx="406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68"/>
          <p:cNvSpPr/>
          <p:nvPr/>
        </p:nvSpPr>
        <p:spPr>
          <a:xfrm>
            <a:off x="5027760" y="4270320"/>
            <a:ext cx="482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69"/>
          <p:cNvSpPr/>
          <p:nvPr/>
        </p:nvSpPr>
        <p:spPr>
          <a:xfrm>
            <a:off x="5027760" y="3762360"/>
            <a:ext cx="482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5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70"/>
          <p:cNvSpPr/>
          <p:nvPr/>
        </p:nvSpPr>
        <p:spPr>
          <a:xfrm>
            <a:off x="5030640" y="3243240"/>
            <a:ext cx="48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7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71"/>
          <p:cNvSpPr/>
          <p:nvPr/>
        </p:nvSpPr>
        <p:spPr>
          <a:xfrm>
            <a:off x="4913280" y="2730600"/>
            <a:ext cx="595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0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2"/>
          <p:cNvSpPr/>
          <p:nvPr/>
        </p:nvSpPr>
        <p:spPr>
          <a:xfrm>
            <a:off x="7442280" y="500688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6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73"/>
          <p:cNvSpPr/>
          <p:nvPr/>
        </p:nvSpPr>
        <p:spPr>
          <a:xfrm>
            <a:off x="3530520" y="2193840"/>
            <a:ext cx="1333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Len/dex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4"/>
          <p:cNvSpPr/>
          <p:nvPr/>
        </p:nvSpPr>
        <p:spPr>
          <a:xfrm>
            <a:off x="5067360" y="2193840"/>
            <a:ext cx="1333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Thal/dex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57560" y="6207120"/>
            <a:ext cx="6396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With permission from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loo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, through Copyright Clearance Center In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Gay F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lood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10;115(7):1343-5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54120" y="2819520"/>
            <a:ext cx="2332080" cy="2208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421240" y="2838600"/>
            <a:ext cx="2274840" cy="2171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687240" y="1650960"/>
          <a:ext cx="7770960" cy="4203720"/>
        </p:xfrm>
        <a:graphic>
          <a:graphicData uri="http://schemas.openxmlformats.org/drawingml/2006/table">
            <a:tbl>
              <a:tblPr/>
              <a:tblGrid>
                <a:gridCol w="3592800"/>
                <a:gridCol w="1574640"/>
                <a:gridCol w="1473120"/>
                <a:gridCol w="1130400"/>
              </a:tblGrid>
              <a:tr h="65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Adverse even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Thal/Dex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183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Len/Dex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228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nemi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.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0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hrombocytopeni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.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eutropeni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4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eripheral neuropath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.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nstip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.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iarrhe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.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Venous thromboembolism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5.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.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5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Infection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.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3.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10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</a:tbl>
          </a:graphicData>
        </a:graphic>
      </p:graphicFrame>
      <p:sp>
        <p:nvSpPr>
          <p:cNvPr id="172" name="Rectangle 5"/>
          <p:cNvSpPr/>
          <p:nvPr/>
        </p:nvSpPr>
        <p:spPr>
          <a:xfrm>
            <a:off x="478080" y="6207120"/>
            <a:ext cx="3612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Gay F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lood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10;115(7):1343-5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Grade 3 and 4 Adverse Even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n/Dex appears superior to Thal/Dex in all efficacy outcomes including overall surviv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comes remain superior with Len/Dex after adjusting for the dose of dexamethasone and for transplantation statu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ces in the adverse events with the two regimens are consistent with what has been previously repor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matological side effects were more common with lenalidomide; peripheral neuropathy was more common with thalidom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ndomized trials are required for confirmation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resul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78080" y="6207120"/>
            <a:ext cx="3612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Gay F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lood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10;115(7):1343-5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8:36:40Z</dcterms:created>
  <dc:creator>Fernando G Rendina</dc:creator>
  <dc:description/>
  <cp:keywords/>
  <dc:language>en-US</dc:language>
  <cp:lastModifiedBy>Albert Rosado</cp:lastModifiedBy>
  <cp:lastPrinted>2010-06-16T18:42:06Z</cp:lastPrinted>
  <dcterms:modified xsi:type="dcterms:W3CDTF">2010-06-16T18:42:10Z</dcterms:modified>
  <cp:revision>114</cp:revision>
  <dc:subject/>
  <dc:title>Main Title Slide — Always use  Title Case on Slide Titles</dc:title>
</cp:coreProperties>
</file>