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FB7-68E2-4EF1-9970-C37824D4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42F-7BC0-4465-9073-1022F9EA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4E8-2214-4D89-AE42-E125E799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B9B-0067-4CAA-BA7A-A4F075D9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0996-AD8E-4227-884F-FF3243BB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4EF7-DA34-46EC-867C-AC8E9305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DAE8-8455-4720-97FA-C912B90B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3CC0-85D4-48EC-A9C1-90F0D748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EE2C-633C-4A04-9DEA-4CB5F3A5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923D-9AD3-45FF-BDA3-87A64437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036A-1D29-44A8-9AB4-70CBB049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AC1-4254-49EA-B55D-2F362CAA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27B6-79CE-464A-A175-EB28DDC0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A50E-BD78-43B0-83E6-E1249C79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BC95-DEB4-45DF-A212-2460DD87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55B4-858E-4C23-84DD-97C42C0F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8D9F-7FFF-4CCF-8165-91B89A6F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C4F-E1AF-4A64-9B42-01D00B27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DDF-F87E-4AB7-BE03-FAD6596F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501-A3F2-496B-A1F5-B9BA711A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6EF-024E-446B-B3E0-19792E2F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4C3-A430-4A91-9387-62DAE7D9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272-2844-4702-AAF3-356373D9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0C6-63BC-4795-97A8-AD561254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50A0-9D96-438A-9823-E027FABE13F9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AA02-849E-4E0A-BC8F-5FFE7275372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omalidomide (CC4047) Plus Low-Dose Dexamethasone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s Therapy for Relapsed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Multiple Myeloma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325b"/>
                </a:solidFill>
                <a:latin typeface="Verdana"/>
              </a:rPr>
              <a:t>Lacy MQ et al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00325b"/>
                </a:solidFill>
                <a:latin typeface="Verdana"/>
              </a:rPr>
              <a:t>J Clin Oncol </a:t>
            </a:r>
            <a:r>
              <a:rPr b="0" lang="en-GB" sz="2500" spc="-1" strike="noStrike">
                <a:solidFill>
                  <a:srgbClr val="00325b"/>
                </a:solidFill>
                <a:latin typeface="Verdana"/>
              </a:rPr>
              <a:t>2009;27(30):5008-14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urative therapy for multiple myeloma (MM) do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exist and most patients relap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malidomide is a new immunomodulatory drug demonstrated to be highly potent in vitro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lo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107:3098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ukem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3;17:41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malidomide dosed from 1 to 5 mg/mL has been shown to be well tolerated in Phase I trials in patients with relapsed MM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r J Haemato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;141:41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efficacy and safety of pomalidomide plus dexamethasone therapy for patients with relapsed M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28480" y="6207120"/>
            <a:ext cx="4362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cy MQ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09;27(30):5008-1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882720" y="1922400"/>
            <a:ext cx="678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25b"/>
                </a:solidFill>
                <a:latin typeface="Verdana"/>
              </a:rPr>
              <a:t>Protocol ID: NCT0055889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954760" y="3060720"/>
            <a:ext cx="2533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4246560" y="3881520"/>
            <a:ext cx="65088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hase II Trial of Pomalidomide Plus Low-Dose Dexamethasone in Patients with Relapsed Multiple Myelom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1370880" y="5318280"/>
            <a:ext cx="513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omalidomide 2 mg/day oral, d1-28 q28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examethasone 40 mg/day oral, d1, 8, 15, 22 q28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28480" y="6207120"/>
            <a:ext cx="4362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cy MQ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09;27(30):5008-1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42840" y="2476440"/>
          <a:ext cx="3294360" cy="2644920"/>
        </p:xfrm>
        <a:graphic>
          <a:graphicData uri="http://schemas.openxmlformats.org/drawingml/2006/table">
            <a:tbl>
              <a:tblPr/>
              <a:tblGrid>
                <a:gridCol w="3294360"/>
              </a:tblGrid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(n = 6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3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apsed/refractory multiple myelom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least one but no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than three prior regimen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ep vein thrombosis without prior therapeutic anticoagul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56"/>
          <p:cNvSpPr/>
          <p:nvPr/>
        </p:nvSpPr>
        <p:spPr>
          <a:xfrm>
            <a:off x="5019840" y="3314880"/>
            <a:ext cx="3342960" cy="11491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Pomalidomide +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dexamethasone*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(dose adjustment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allowed based on toxicity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Confirmed Responses in </a:t>
            </a: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atients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with Refractory Disease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49440" y="6108840"/>
            <a:ext cx="691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60400" y="1816200"/>
          <a:ext cx="7423200" cy="3192480"/>
        </p:xfrm>
        <a:graphic>
          <a:graphicData uri="http://schemas.openxmlformats.org/drawingml/2006/table">
            <a:tbl>
              <a:tblPr/>
              <a:tblGrid>
                <a:gridCol w="2489400"/>
                <a:gridCol w="1276200"/>
                <a:gridCol w="1295280"/>
                <a:gridCol w="1206720"/>
                <a:gridCol w="1155600"/>
              </a:tblGrid>
              <a:tr h="483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  <a:ea typeface="Verdana"/>
                        </a:rPr>
                        <a:t>Respon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325b"/>
                          </a:solidFill>
                          <a:latin typeface="Verdana"/>
                          <a:ea typeface="Verdana"/>
                        </a:rPr>
                        <a:t>C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325b"/>
                          </a:solidFill>
                          <a:latin typeface="Verdana"/>
                          <a:ea typeface="Verdana"/>
                        </a:rPr>
                        <a:t>VGP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  <a:ea typeface="Verdana"/>
                        </a:rPr>
                        <a:t>P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  <a:ea typeface="Verdana"/>
                        </a:rPr>
                        <a:t>R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otal popul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n = 6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ortezomib     </a:t>
                      </a:r>
                      <a:br>
                        <a:rPr sz="1700"/>
                      </a:b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refractory (n = 1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enalidomide  </a:t>
                      </a:r>
                      <a:br>
                        <a:rPr sz="1700"/>
                      </a:b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refractory (n = 2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ortezomib and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lenalidomide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refractory (n = 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</a:tbl>
          </a:graphicData>
        </a:graphic>
      </p:graphicFrame>
      <p:sp>
        <p:nvSpPr>
          <p:cNvPr id="100" name="Rectangle 310"/>
          <p:cNvSpPr/>
          <p:nvPr/>
        </p:nvSpPr>
        <p:spPr>
          <a:xfrm>
            <a:off x="1453680" y="5122800"/>
            <a:ext cx="557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R = complete response; VGPR = very good partial response;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 = partial response; RR = response rate (CR + VGPR + P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28480" y="6207120"/>
            <a:ext cx="4362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cy MQ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09;27(30):5008-1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Confirmed Responses in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Patients at High Risk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649440" y="6108840"/>
            <a:ext cx="691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60400" y="1820880"/>
          <a:ext cx="7423200" cy="3176640"/>
        </p:xfrm>
        <a:graphic>
          <a:graphicData uri="http://schemas.openxmlformats.org/drawingml/2006/table">
            <a:tbl>
              <a:tblPr/>
              <a:tblGrid>
                <a:gridCol w="2631960"/>
                <a:gridCol w="1244880"/>
                <a:gridCol w="1184040"/>
                <a:gridCol w="1206720"/>
                <a:gridCol w="1155600"/>
              </a:tblGrid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  <a:ea typeface="Verdana"/>
                        </a:rPr>
                        <a:t>Respon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325b"/>
                          </a:solidFill>
                          <a:latin typeface="Verdana"/>
                          <a:ea typeface="Verdana"/>
                        </a:rPr>
                        <a:t>C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325b"/>
                          </a:solidFill>
                          <a:latin typeface="Verdana"/>
                          <a:ea typeface="Verdana"/>
                        </a:rPr>
                        <a:t>VGP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  <a:ea typeface="Verdana"/>
                        </a:rPr>
                        <a:t>P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  <a:ea typeface="Verdana"/>
                        </a:rPr>
                        <a:t>R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ll high risk* (n = 1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eletion 13 (n = 4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(14;16) (n = 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7p- (n = 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CLI ≥ 3% (n = 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2.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59"/>
          <p:cNvSpPr/>
          <p:nvPr/>
        </p:nvSpPr>
        <p:spPr>
          <a:xfrm>
            <a:off x="1366200" y="5164200"/>
            <a:ext cx="68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Only one patient with t(14;16) achieved stable diseas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*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Two patients had two high-risk factors; PCLI = plasma cell labeling ind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528480" y="6207120"/>
            <a:ext cx="4362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cy MQ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09;27(30):5008-1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omalidomide plus low-dose dexamethasone combination was highly active as a treatment for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lapsed/refractory M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 in patients with refractory MM: 63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 in patients with high-risk MM: 74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xicity was mild and consisted mainly of Grade 3/4 neutropenia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ditional Phase II trials are planned with this treatment combination to better define response rates in patients with lenalidomide- and bortezomib-refractory M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28480" y="6207120"/>
            <a:ext cx="4362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cy MQ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09;27(30):5008-1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3:16:04Z</dcterms:created>
  <dc:creator>Fernando G Rendina</dc:creator>
  <dc:description/>
  <cp:keywords/>
  <dc:language>en-US</dc:language>
  <cp:lastModifiedBy>Aura Herrmann</cp:lastModifiedBy>
  <cp:lastPrinted>2010-05-07T23:43:08Z</cp:lastPrinted>
  <dcterms:modified xsi:type="dcterms:W3CDTF">2010-05-14T13:06:29Z</dcterms:modified>
  <cp:revision>63</cp:revision>
  <dc:subject/>
  <dc:title>Main Title Slide — Always use  Title Case on Slide Titles</dc:title>
</cp:coreProperties>
</file>