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B75-3EC9-444F-AD00-2ABC1DA3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A59-A3D6-445C-BC2A-2BBC91F9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B7D-E1C5-4019-A5E2-BFCBFCA9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918-2AC0-421B-833F-58FF6D04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10DA-5C71-4BCA-A935-8E1EE0E0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6741-AC84-481A-8506-B9723BD1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3739-8A99-4ACA-AD5D-9FAEC33D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B8A6-EE34-4D0A-BECC-DA942A73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16FB-8E08-4BFC-83CD-F2109AE4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1A57-755E-42FF-B231-AF9AD4F4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E3BE-1063-400D-8A7A-41AFBEF7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C24-0225-4F46-8734-0CAC6A89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4FB0-C9EA-4C48-A901-C7836966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BCCF-B5F2-423C-8DC3-93816AF1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0E11-AD03-463F-9454-7C86FE0D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B26A-0E19-4120-A2E6-08511B69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2BEF-FD14-45A6-8D36-A3B4F195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243-6E6B-40DC-B42F-1E66B348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BBA-7D5C-4441-95E9-FF318F7F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702-93A1-4928-B3C7-68AE00D8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33F-1E5D-4261-84B5-7059E9B5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79D-70CE-4F2E-8660-B69B48A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7A4-39EC-4D88-9FB5-6988893A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607-EF3E-43C2-B21E-7282D7F7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AF16-DCE7-415F-8EE7-FC11D405652D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90F6-6031-43CC-8B60-AE29EA3D4EA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X-171-004, an Ongoing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Open-Label Phase II Study of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ingle-Agent Carfilzomib (CFZ)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 Patients with Relapsed or Refractory Myeloma (MM): Updated Results from the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Bortezomib-Treated Cohor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Siegel D et 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Proc ASH 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2009;Abstract 303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FZ may provide greater, more sustained proteasomal inhibition than bortezomib (BTZ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FZ overcomes BTZ resistance in vitro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lo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110:328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able responses and disease control were observed in a Phase II study for progressive MM (ASCO 2009;Abstract 8504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patient responses by IMWG criteria from the bortezomib-treated cohort of the PX-171-004 stu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mary objective: Overall response rate (ORR), defined as ≥partial respon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34520" y="6207120"/>
            <a:ext cx="391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iegel 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hase II Study of CFZ for Relapsed or Refractory MM (BTZ-Treated Cohort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04880" y="2070000"/>
            <a:ext cx="678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8406f"/>
                </a:solidFill>
                <a:latin typeface="Verdana"/>
                <a:ea typeface="Verdana"/>
              </a:rPr>
              <a:t>Protocol ID: PX-171-00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4038480" y="364824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34520" y="6207120"/>
            <a:ext cx="391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iegel 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43040" y="2514600"/>
          <a:ext cx="3294000" cy="2211480"/>
        </p:xfrm>
        <a:graphic>
          <a:graphicData uri="http://schemas.openxmlformats.org/drawingml/2006/table">
            <a:tbl>
              <a:tblPr/>
              <a:tblGrid>
                <a:gridCol w="329400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8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Relapsed/refractor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M (&lt;25% respon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or progressed during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rapy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-3 prior treatm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regime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56"/>
          <p:cNvSpPr/>
          <p:nvPr/>
        </p:nvSpPr>
        <p:spPr>
          <a:xfrm>
            <a:off x="4635360" y="2971800"/>
            <a:ext cx="3865680" cy="1341360"/>
          </a:xfrm>
          <a:prstGeom prst="rect">
            <a:avLst/>
          </a:prstGeom>
          <a:solidFill>
            <a:srgbClr val="de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TZ-treated cohort (n = 3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FZ 20 m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IV bo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ays 1, 2, 8, 9, 15 and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q 28 days up to 12 cy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7240" y="2057400"/>
          <a:ext cx="7990200" cy="2924280"/>
        </p:xfrm>
        <a:graphic>
          <a:graphicData uri="http://schemas.openxmlformats.org/drawingml/2006/table">
            <a:tbl>
              <a:tblPr/>
              <a:tblGrid>
                <a:gridCol w="6151680"/>
                <a:gridCol w="1838520"/>
              </a:tblGrid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mplete respon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 (3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Very good partial respon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 (3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rtial response (P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 (12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inimal response (M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 (12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able disease ≥6 week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3 (39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ORR (≥PR) = 18%; CBR (≥MR) = 30%; disease control = 7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63"/>
          <p:cNvSpPr/>
          <p:nvPr/>
        </p:nvSpPr>
        <p:spPr>
          <a:xfrm>
            <a:off x="1204560" y="5205240"/>
            <a:ext cx="618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Duration of ≥MR = 9.0 mo; duration of ≥PR = 10.6 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Median TTP = 5.3 mo at 11.5-month follow-up; 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Evaluable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34520" y="6207120"/>
            <a:ext cx="391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iegel 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of CFZ Therapy in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BTZ-Treated Cohort (n = 33*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elect ≥Grade 3 Adverse Events*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7240" y="2057400"/>
          <a:ext cx="7990200" cy="2924280"/>
        </p:xfrm>
        <a:graphic>
          <a:graphicData uri="http://schemas.openxmlformats.org/drawingml/2006/table">
            <a:tbl>
              <a:tblPr/>
              <a:tblGrid>
                <a:gridCol w="6151680"/>
                <a:gridCol w="1838520"/>
              </a:tblGrid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nem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 (14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 (11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rombocyt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 (6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neumo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 (6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yspne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 (6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Upper respiratory infec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 (6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34"/>
          <p:cNvSpPr/>
          <p:nvPr/>
        </p:nvSpPr>
        <p:spPr>
          <a:xfrm>
            <a:off x="1139400" y="5243400"/>
            <a:ext cx="66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Includes related and nonrelated Grade 3 or 4 events in &gt;5% of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4520" y="6207120"/>
            <a:ext cx="391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iegel 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FZ (20 mg/m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 achieves durable responses and disease control in patients with MM despite prior bortezomib treatmen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8% ORR; 70% disease control; TTP = 5.3 m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verse events are mild and manageabl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lerability permits long-term treatment — 23% completed 12 cycle protocol (~ 1 year therapy;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ata not shown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ripheral neuropathy is rare, mild and does not limit therapy despite preexisting symptoms (data not shown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se data support the continuing evaluation of CFZ as a treatment option for M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going Phase II trial (PX-171-003 A1, n = 269) is further studying this agent in relapsed and refractory M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55040" y="6207120"/>
            <a:ext cx="391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iegel 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3:33:07Z</dcterms:created>
  <dc:creator>Fernando G Rendina</dc:creator>
  <dc:description/>
  <cp:keywords/>
  <dc:language>en-US</dc:language>
  <cp:lastModifiedBy>Albert Rosado</cp:lastModifiedBy>
  <cp:lastPrinted>2010-06-16T18:36:20Z</cp:lastPrinted>
  <dcterms:modified xsi:type="dcterms:W3CDTF">2010-06-16T18:36:22Z</dcterms:modified>
  <cp:revision>92</cp:revision>
  <dc:subject/>
  <dc:title>Main Title Slide — Always use  Title Case on Slide Titles</dc:title>
</cp:coreProperties>
</file>