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3E1-E3CB-4AAA-9B78-5C269D35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C43-B537-4DFB-B5C0-2F324249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9D9-8972-466E-810A-E0319E30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C55-628E-46A9-B7B1-DAC4E701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C0CA-4C59-4342-B38F-3C9FEC84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022D-F2D5-4B88-9B13-BB76272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9F4-ADB8-4423-B148-8FFA860B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27E-E2FB-4636-B831-BCC6097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71D-22C6-4BE7-BC66-1FF8C973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83F2-4C9B-48E1-B02E-0723B06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4D7-B9FA-4FC4-A67B-6B812E6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606-3978-4EEB-8F1F-3D61EB8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642A-44EC-411B-ACD1-63AB0970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4A1-FF83-4C36-B00D-7AADF2F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A4E4-3ED8-467B-97AD-0253F96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7DA4-B216-49CC-B22B-4EAB645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2C9-3AD9-47B4-85F1-EED2D641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083-5E76-4330-917D-4BF8FC5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AB8-1691-49B8-8F3D-32A1961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76E-9173-45F6-A6A1-C11BE1E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610-1B3C-44D8-9DCD-425E8DD5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E09-9916-4E6B-8F84-47C468F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B40-BA18-4F93-AD2C-62A39E25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248-48C1-49AD-A4E1-742F560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D99-6A4F-43F2-84BD-5A00FA63DDA9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D55-BD5F-4D19-8F22-2A0D6B4F8E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fety and Effectiveness of Bevacizumab (BV) Based Treatment in Subpopulations of Patients with Non-Small Cell Lung Cancer (NSCLC) from the ARIES Study: A BV Treatment Observational Cohort Study (OCS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Fischbach N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World Congress on Lung Cancer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Abstract C2.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570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COG-E4599 trial demonstrated that bevacizumab (BV) added to chemotherapy improves overall survival (OS) and progression-free survival (PFS) in patients with metastatic or locally-advanced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:254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efficacy and safety of BV added to chemotherapy in subpopulations of patients with NSCLC that were excluded or underrepresented in prior tri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known brain metast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history of hemopt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derly (≥70 yea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RIES: Prospective Observational Cohort Study of Patients with NSCLC Treated with BV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rual: 1,758/2,000 targeted (as of February 9,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4 sites accruing patients; median follow-up: 8.4 mon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gibility (Primary Analysis Popul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ly advanced/metastatic NSCLC (nonsquamous ce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V treatment with any first-line chemotherapy regi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of BV-containing therapy &lt;3 months prior to enrollment was allow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ve safety analyses conducted for overall cohort and subpop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1960" y="1763640"/>
          <a:ext cx="8556840" cy="3902040"/>
        </p:xfrm>
        <a:graphic>
          <a:graphicData uri="http://schemas.openxmlformats.org/drawingml/2006/table">
            <a:tbl>
              <a:tblPr/>
              <a:tblGrid>
                <a:gridCol w="4959360"/>
                <a:gridCol w="3597480"/>
              </a:tblGrid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67 mos (95% CI:6.28, 6.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elect Adverse Ev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Grade 3 or Above, n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lmonary Hemorrhage 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ry of hemoptysis (n=12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0.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3.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NS Hemorrhag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in mets at baseline (n=12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0.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trointestinal Perfo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0.8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im report of BV plus chemotherapy in “real-world” population of patients with NSCLC demonstra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first-line chemotherapy regimens are used in combination with BV, with an apparent decreased usage of platinum-based regimens with increasing patient age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effectiveness and toxicity profiles are consistent with results of prior t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reports of CNS bleeding in patients with brain metastases or of pulmonary hemorrhage in patients with cavitation in measurable tumors at base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comes in specific patient subpopulations will be analyzed once the data is m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20T13:05:16Z</cp:lastPrinted>
  <dcterms:modified xsi:type="dcterms:W3CDTF">2009-12-03T19:46:00Z</dcterms:modified>
  <cp:revision>182</cp:revision>
  <dc:subject/>
  <dc:title>Main Title Slide — Always use  Title Case on Slide Titles</dc:title>
</cp:coreProperties>
</file>