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FDD2-D6C4-49D3-822E-258191C20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6159-A355-4E24-A5AC-61F74A7AF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C618-C089-4565-AFB4-252FC96D3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7050-8E2F-488C-A72C-FB33F7DF6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E9690-23EC-4682-AF1B-B2B72FAE6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6979B-8309-44B4-B443-35E80286E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221A7-0E1D-4491-850C-7F440247A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0318C-64BC-423F-9DF2-E958E3DDA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70BE9-CB47-4397-B395-EAE78C7F9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C1594-4183-4CED-AAE9-3C2A51A38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36F7D-973E-49DF-8E75-6AEB294B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44D0-FD75-43B3-B5E1-53179232A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2DB6F-ACF0-4289-B25D-286BD3CC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014F8-E89C-4A52-9853-F0A54839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B733C-9206-43E3-BC9A-A0B545192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B46E6-B154-4DE1-831A-13C21955A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31130-C03F-4FED-8F4E-2A0DA5633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E2E7-19AB-4177-AE7E-7F07CB8FF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E22B-9505-4A9E-B853-2851661DC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08A2-DB5E-45A6-B5D8-CE048524F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C47F-5A98-4ACA-8511-1EDCB6213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366A-346A-4671-A861-BB5197B9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F897-541A-47E4-AC56-133C01C2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4EBA-0B9C-4E16-808C-DD853605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144468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65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3FCBD-3AB3-44D7-AA19-758AEFBC5D50}" type="slidenum">
              <a:rPr b="0" lang="en-GB" sz="1400" spc="-1" strike="noStrike">
                <a:solidFill>
                  <a:srgbClr val="ff65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0"/>
            <a:ext cx="9144000" cy="436896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17DCE-835C-40D6-98B4-EDBF542E5BF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167760"/>
            <a:ext cx="7772400" cy="413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Pemetrexed is More Effective in Patients with Nonsquamous Non-Small-Cell Lung Cancer (NSCLC) Histology: An Analysis of Three Large, Randomized, Phase III Trials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10920" y="4313160"/>
            <a:ext cx="7769160" cy="25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25b"/>
                </a:solidFill>
                <a:latin typeface="Verdana"/>
              </a:rPr>
              <a:t>Scagliotti G et 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325b"/>
                </a:solidFill>
                <a:latin typeface="Verdana"/>
              </a:rPr>
              <a:t>Proc World Conference on Lung Cancer</a:t>
            </a:r>
            <a:r>
              <a:rPr b="0" lang="en-US" sz="2500" spc="-1" strike="noStrike">
                <a:solidFill>
                  <a:srgbClr val="00325b"/>
                </a:solidFill>
                <a:latin typeface="Verdana"/>
              </a:rPr>
              <a:t> 2009;Abstract B2.6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666000" y="6207120"/>
            <a:ext cx="75294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Source: Scagliotti G et al. </a:t>
            </a:r>
            <a:r>
              <a:rPr b="0" i="1" lang="en-GB" sz="1500" spc="-1" strike="noStrike">
                <a:solidFill>
                  <a:srgbClr val="000000"/>
                </a:solidFill>
                <a:latin typeface="Verdana"/>
              </a:rPr>
              <a:t>Proc World Conference on Lung Cancer 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2009;Abstract B2.6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74480" y="1608120"/>
            <a:ext cx="8304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hase III studies indicate that nonsquamous tumor histology is a predictive factor for pemetrexed efficacy in treatment of advanced NSCL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urrent study objectiv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valuate the reproducibility and consistency of the increased efficacy of pemetrexed observed in thre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ior stud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reatment-By-Histology Interaction (THI) model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sed to estimate the effect of histology on pemetrexed effica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666000" y="6207120"/>
            <a:ext cx="75294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Source: Scagliotti G et al. </a:t>
            </a:r>
            <a:r>
              <a:rPr b="0" i="1" lang="en-GB" sz="1500" spc="-1" strike="noStrike">
                <a:solidFill>
                  <a:srgbClr val="000000"/>
                </a:solidFill>
                <a:latin typeface="Verdana"/>
              </a:rPr>
              <a:t>Proc World Conference on Lung Cancer 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2009;Abstract B2.6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Statistical Analysis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74480" y="1608120"/>
            <a:ext cx="8304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ta analyzed by squamous (Sq) and nonsquamous (NSq) cell histology for three Phase III studi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First Study (n = 571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line pemetrexed vs docetaxel (P vs D)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Oncologi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2009;14:253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Second Study (n = 1,725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line pemetrexed/cisplatin vs gemcitabine/cisplatin (P/C vs G/C)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JC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2008;26:3543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Third Study (n = 663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Maintenance pemetrexed vs placebo (mx-P vs PBO)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Lance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2009;374:143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 model measures hazard ratio (HR) for histology effect in P arm relative to histology effect in control ar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2200" y="-360"/>
            <a:ext cx="7769160" cy="135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0ecd9"/>
                </a:solidFill>
                <a:latin typeface="Verdana"/>
              </a:rPr>
              <a:t>Efficacy of Pemetrexed by Tumor Histology and THI Interactions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731880" y="6207120"/>
            <a:ext cx="7529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Source: Scagliotti G et al. </a:t>
            </a:r>
            <a:r>
              <a:rPr b="0" i="1" lang="en-GB" sz="1500" spc="-1" strike="noStrike">
                <a:solidFill>
                  <a:srgbClr val="000000"/>
                </a:solidFill>
                <a:latin typeface="Verdana"/>
              </a:rPr>
              <a:t>Proc World Conference on Lung Cancer 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2009;Abstract B2.6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45960" y="1763640"/>
          <a:ext cx="8391600" cy="2557440"/>
        </p:xfrm>
        <a:graphic>
          <a:graphicData uri="http://schemas.openxmlformats.org/drawingml/2006/table">
            <a:tbl>
              <a:tblPr/>
              <a:tblGrid>
                <a:gridCol w="2106720"/>
                <a:gridCol w="985680"/>
                <a:gridCol w="997200"/>
                <a:gridCol w="1155600"/>
                <a:gridCol w="1042920"/>
                <a:gridCol w="1042920"/>
                <a:gridCol w="1060560"/>
              </a:tblGrid>
              <a:tr h="685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Efficacy Parameter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P vs D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P/C vs G/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Mx-P vs PB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istologic </a:t>
                      </a:r>
                      <a:br>
                        <a:rPr sz="1700"/>
                      </a:b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oup (N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Sq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399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q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72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Sq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,252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q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473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sq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481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q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82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0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justed HR for 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7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56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84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66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2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I HR (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value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48 (0.001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69 (0.002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52 (0.033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8" name="Rectangle 190"/>
          <p:cNvSpPr/>
          <p:nvPr/>
        </p:nvSpPr>
        <p:spPr>
          <a:xfrm>
            <a:off x="950760" y="4992840"/>
            <a:ext cx="77155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THI HR&lt;1, efficacy of P relative to control arm is greater in patients with </a:t>
            </a:r>
            <a:br>
              <a:rPr sz="1500"/>
            </a:b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NSq histology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Summary and Conclusions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squamous tumor histology is predictive of the improved efficacy of pemetrexed in patients with advanced NSCL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eatment advantage of pemetrexed is consistent and reproducible across three different studies and lines of therap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metrexed should be considered as the preferred treatment regimen for patients with nonsquamous advanced NSCL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731880" y="6207120"/>
            <a:ext cx="7529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Source: Scagliotti G et al. </a:t>
            </a:r>
            <a:r>
              <a:rPr b="0" i="1" lang="en-GB" sz="1500" spc="-1" strike="noStrike">
                <a:solidFill>
                  <a:srgbClr val="000000"/>
                </a:solidFill>
                <a:latin typeface="Verdana"/>
              </a:rPr>
              <a:t>Proc World Conference on Lung Cancer 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2009;Abstract B2.6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01:19:04Z</dcterms:created>
  <dc:creator>Fernando G Rendina </dc:creator>
  <dc:description/>
  <cp:keywords/>
  <dc:language>en-US</dc:language>
  <cp:lastModifiedBy>Office 2004 Test Drive User</cp:lastModifiedBy>
  <cp:lastPrinted>2009-10-09T12:11:54Z</cp:lastPrinted>
  <dcterms:modified xsi:type="dcterms:W3CDTF">2009-12-03T20:16:51Z</dcterms:modified>
  <cp:revision>183</cp:revision>
  <dc:subject/>
  <dc:title>Main Title Slide — Always use  Title Case on Slide Titles</dc:title>
</cp:coreProperties>
</file>