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ACD-02D2-4FE8-AB4C-7F00C95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F10-3879-4589-B8E8-1F84E5B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7BE-5CF7-41F8-8538-52182776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7BF-C41B-4182-8E46-E7F0D9E0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DE94-77A5-41D0-8B20-2DE61D4A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1A30-65C3-4988-A02E-90D70E45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DD1-5931-444A-9226-782F118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A39D-1E24-4857-BCDF-AC78BDF7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728-4F8D-4585-88DB-D138917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7EF0-4AA1-496D-99EC-B4F367C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DE04-FED5-4FE4-AD96-DC513EB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454-63AA-4755-9FBE-1C7E7D20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03D7-EA74-4A9A-9B9F-35A1B6D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0042-1308-4DC1-8348-0E3F8BE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A223-1113-4ED5-91A4-EED6DEB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F72B-CC24-4BCC-B0CB-C3499263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947-A61F-44D5-9C81-495868AD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3FE-B106-4AD2-8FA0-DFF7530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977-0BB0-48A2-B1D2-E9E3A84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70E-2F77-408B-B690-251BA6C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CEF-46EF-4EBD-80BD-315D9BF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013-62AE-4BE5-A6F5-5303624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688-92C9-497D-B21F-B4F8789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280-27C0-41D7-86D3-570E605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F37-799C-47D4-9677-87359945F486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0FBA-9982-44A3-B279-180427ADCA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andetanib plus Docetaxel vs Docetaxel as 2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for Patients with Advanced Non-Small-Cell-Lung Cancer (NSCLC): A Randomized, Double-Blind Phase III Trial (ZODIAC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Herbst R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CRA800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Phase II trial demonstrated an increase in PFS with vandetanib/docetaxel as second-line treatment of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(27):42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second-line vandetanib plus docetaxel versus docetaxel alone in patients with advanced, recurrent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in female sub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13240" y="2530440"/>
            <a:ext cx="27000" cy="253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ZODIAC: A Phase III Trial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of Vandetanib/Docetaxel vs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Docetaxel Alon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9560" y="2158920"/>
          <a:ext cx="3294000" cy="315900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39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0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rent (Stage IIIb/IV) NSCLC refractory to first-line chemotherap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es of NSCLC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 use of bevacizumab and treatment for brain metastases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045040" y="19558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45040" y="44704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ndetanib 10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0" y="37828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6720" y="327024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3240" y="254016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0" y="50529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4272120" y="275904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4265640" y="44226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000" y="1763640"/>
          <a:ext cx="8389800" cy="2281320"/>
        </p:xfrm>
        <a:graphic>
          <a:graphicData uri="http://schemas.openxmlformats.org/drawingml/2006/table">
            <a:tbl>
              <a:tblPr/>
              <a:tblGrid>
                <a:gridCol w="3638520"/>
                <a:gridCol w="1684440"/>
                <a:gridCol w="1430280"/>
                <a:gridCol w="1636560"/>
              </a:tblGrid>
              <a:tr h="82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linic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Vandetanib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,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deterioration of symptoms (TD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7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2880" y="4173480"/>
            <a:ext cx="1707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R = not repor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detanib is the first oral targeted therapy to show significant clinical benefit in Phase III trials when added to standard chemotherapy in patients with previously treat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PFS, ORR and T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clinical effect was not observed for PFS or OS in women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se events were similar to those seen in other NSCLC vandetanib studie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09:52Z</cp:lastPrinted>
  <dcterms:modified xsi:type="dcterms:W3CDTF">2009-12-03T19:10:04Z</dcterms:modified>
  <cp:revision>177</cp:revision>
  <dc:subject/>
  <dc:title>Main Title Slide — Always use  Title Case on Slide Titles</dc:title>
</cp:coreProperties>
</file>