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B69-C5E7-44DC-8128-C6E74622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683-41D6-4198-862B-7421CE40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8A4-19A9-458F-9B2D-83CE6FF7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29A-A38C-474F-B9F6-B2D9EB6F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C8C6-F3E2-4203-AE93-666138F7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5771-F7E1-49F7-9661-8DA37155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709F-F24F-49B2-88E1-F035971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8CED-1FE1-451D-AE8C-BBD774E7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959A-1E9E-40BE-BF28-84678656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3E0D-6792-4B65-B3E4-3E48D32A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ECAE-7E43-4248-AB16-A84FC7A1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688-7365-468F-8CD1-8C862CBB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F28A-F73F-4357-B9A9-D50234D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408C-DDBF-4509-BF90-C40BAE25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01D4-14B1-4783-8D56-3E20F39F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3F69-CC05-42E4-9BA0-B03B4D79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FCE7-A5B9-449B-AEDC-09EF5301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362-2310-4398-96FC-26B1680C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9DE-5040-4D92-9550-4A7B113C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026-8154-49FC-9713-E7666E8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63F-5BDB-49E9-B168-FF45BD4E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1C4-F6C5-453C-A248-9AB2318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DFA-DDE4-4A2E-9BF2-38B6CCD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5B5-B7B7-4A48-BB76-B950DA6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CADC-EDF2-4571-BDE4-6BF2E5583ECE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7228-0E85-4AC0-96E6-68EEB1CCAB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2200" y="167760"/>
            <a:ext cx="79754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Trial of Cisplatin plus Gemcitabine with Either Placebo or Bevacizumab as First-Line Therapy for Nonsquamous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Non-Small-Cell Lung Cancer: AVAi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Reck M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8):1227-34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ECOG-E4599 tria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 showed substantial clinical benefit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acizumab (bev) plus carboplatin/paclitaxel in patients with nonsquamous non-small-cell lung cancer (NSCL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iveness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 plus cisplatin/gemcitabine (CG) regimen commonly used to treat NSCLC is not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the addition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 to the CG chemotherapy regimen in patients with advanced or recurrent nonsquamous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 Trial of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Bev plus CG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1531800"/>
            <a:ext cx="67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rual: 1,043 (Clo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1973160"/>
          <a:ext cx="3563640" cy="328464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8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IIIb/IV) or recurrent nonsquamous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grade ≥2 hemopt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history of thrombotic or hemorrhagic disorde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non-healing wound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156280" y="1908000"/>
            <a:ext cx="3397320" cy="951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High- or Low-Dose 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4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014640"/>
            <a:ext cx="3460680" cy="10969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Low-Dose Bev (7.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45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75320" y="3656160"/>
            <a:ext cx="420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8880" y="4305240"/>
            <a:ext cx="3460680" cy="10969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High-Dose Bev (1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51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4680" y="5445000"/>
            <a:ext cx="436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ll patients completing six treatment cycles 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ssigned to continued Bev or 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37120" y="2403000"/>
            <a:ext cx="931680" cy="102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8040" y="3990960"/>
            <a:ext cx="985680" cy="88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4200" y="318780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1960" y="1763640"/>
          <a:ext cx="8556840" cy="3643560"/>
        </p:xfrm>
        <a:graphic>
          <a:graphicData uri="http://schemas.openxmlformats.org/drawingml/2006/table">
            <a:tbl>
              <a:tblPr/>
              <a:tblGrid>
                <a:gridCol w="3648240"/>
                <a:gridCol w="1641600"/>
                <a:gridCol w="1641240"/>
                <a:gridCol w="162576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Endpoi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4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L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4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5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referenc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4%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0.002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1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referenc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7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R=0.7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R=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evere AEs of Interes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2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L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3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-D Bev+CG (n=32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Perfor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PH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127080" y="5541840"/>
            <a:ext cx="692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-D low-dose; H-D high-dose; FPH fatal pulmonary hemorrhag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 is second randomized Phase III trial to demonstrate clinical benefit of bev plus platinum-based chemotherapy in patients with advanced NSCLC who are bev-eligi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 and ORR were 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appeared similar to that seen in other studies of bev in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4;22(11):2184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e pulmonary hemorrhage was increased in the bev arms of the current study with seven fatal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hough the study was not powered to compare the two doses of bevacizumab, no apparent efficacy or safety differences were obser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Jay Qun</cp:lastModifiedBy>
  <cp:lastPrinted>2009-12-03T19:28:06Z</cp:lastPrinted>
  <dcterms:modified xsi:type="dcterms:W3CDTF">2009-12-03T19:28:08Z</dcterms:modified>
  <cp:revision>179</cp:revision>
  <dc:subject/>
  <dc:title>Main Title Slide — Always use  Title Case on Slide Titles</dc:title>
</cp:coreProperties>
</file>