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A14-8F64-474D-B3E0-4FF3CE97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C1B-5569-4FB8-A81F-069B1D3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22E-F174-41D8-9EB7-9D3F7E3F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28B-6C6B-46F9-ACD9-7111E2F3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2A89-018C-49A2-BB81-1A7FC66B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05F-A51B-4FB0-9DBA-2ADCBA5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467-BE4D-4B6F-8F28-44A99719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7660-3EEF-43C0-BF2F-A24C2B7C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8EF6-2D68-4676-AA18-3C63917C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1965-5C56-4D1D-82AB-81A63EE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A1C5-44FD-4603-AEA4-5743E5A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A9F-CA64-43E0-956E-D84CAF8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7EC5-8DC4-47E2-AE50-E521B03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EF7E-DACA-4C7B-A0FD-3B0CC70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33A3-8A98-4BCD-A06B-BE4BE9E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46EF-2695-4417-A2EC-22A37762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492-9CFA-4A58-9185-ADEC58BD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8D4-65DA-473A-8A8F-29BB34E3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AD4-EF0C-4F99-A020-F5112DF3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241-83EC-4C19-BDF4-63D3DC1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C03-76BA-499D-B669-7EEDBA3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201-193F-40D2-9D9F-58135A1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7FF-111D-45F0-BE47-897E1B5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EBB-9ECD-4DCF-9D16-7F28616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E98-B2F2-4924-8661-29EF055943EF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404C-4E82-4883-B738-7B609CD82BF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91676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 Study of Pemetrexed and Carboplatin plus Bevacizumab with Maintenance Pemetrexed and Bevacizumab as First-Line Therapy for Nonsquamous Non-Small-Cell Lung Cancer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atel JD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20):3284-9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metrexed-containing chemotherapy regimens for NSCLC are noninferior to standard chemotherapy treatments and have greater tolerabilit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;22(9):1589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26(21):354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rials ECOG-E4599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 and AVAi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8S:388) demonstrated a differential clinical benefit with bevacizumab added to chemotherapy for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first-line pem/bev/carbo (P/B/C) treatment followed by P/B maintenance in patients with advanced nonsquamous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 Study of Pemetrexed i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First-Line and Maintenance Therapies for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27040" y="1650960"/>
          <a:ext cx="7786800" cy="129708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IIIb/IV or recurrent non-squamous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chemotherapy, gross hemoptysis,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54240" y="3295800"/>
            <a:ext cx="6354720" cy="9032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itial treatment (n=50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 (500 mg/m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 + B (15 mg/kg) + C (AUC=6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3920" y="4545000"/>
            <a:ext cx="7251840" cy="8874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Maintenance therapy (CR, PR, or SD, n=30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 (500 mg/m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 + B (1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3wk until disease progression or unacceptable toxi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95960" y="2948040"/>
            <a:ext cx="0" cy="3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95960" y="4184640"/>
            <a:ext cx="0" cy="3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 (ITT Population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749600"/>
          <a:ext cx="7277040" cy="3117600"/>
        </p:xfrm>
        <a:graphic>
          <a:graphicData uri="http://schemas.openxmlformats.org/drawingml/2006/table">
            <a:tbl>
              <a:tblPr/>
              <a:tblGrid>
                <a:gridCol w="4386240"/>
                <a:gridCol w="1444680"/>
                <a:gridCol w="1446120"/>
              </a:tblGrid>
              <a:tr h="38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Endpoi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 at 13-month follow-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elect Adverse Ev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Grade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Grade 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erticulitis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rombocyt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ous thrombo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92200" y="4962600"/>
            <a:ext cx="77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ne case of Grade IV diverticulitis with bowel perfo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-line carboplatin/pemetrexed and bevacizumab followed by maintenance pemetrexed/bevacizumab was effective, safe and toler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 PFS and ORR compared favorably to other first-line NSCLC trea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brile neutropenia or pulmonary hemorrh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3 or 4 diverticulitis was an unexpected toxic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intBreak study (NCT00762034) will compare first-line P/B/C followed by P/B maintenance to standard treatment for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6199200"/>
            <a:ext cx="725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s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; Patel JD et al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lin Lung Cance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10(4):252-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21:04:37Z</cp:lastPrinted>
  <dcterms:modified xsi:type="dcterms:W3CDTF">2009-12-03T21:04:44Z</dcterms:modified>
  <cp:revision>182</cp:revision>
  <dc:subject/>
  <dc:title>Main Title Slide — Always use  Title Case on Slide Titles</dc:title>
</cp:coreProperties>
</file>