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4C3-B6A4-423F-872F-B32A814C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B82A-8AF7-4FEA-86CD-D1FED8D7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56A-8B98-41C8-B8E2-6022F1BD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C01-2C56-4992-A042-AE1E669E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98D3-AA91-4B65-90F0-0CF97B75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2D53-B47D-4A81-9FE4-93461681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4591-74C9-4FF7-A319-629ED9E9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406E-678D-41C5-AE82-0258657F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C17F-E5D7-4175-9454-81A1516C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8CB1-9675-41F8-98EA-9F7C45B4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419B-3092-4D4A-A4BC-DE62F59D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FA60-472D-4C90-933B-686A8CCF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3412-ADCD-4DED-A0EE-9A25E324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7819-EF0D-4AFC-AB5D-90D1E86B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4A58-D7D7-4E40-8806-32348DE2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0BAB-78BC-473A-AD68-C1D293FB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4AA3-7531-48FD-BA4B-9A85A0BF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9C0E-0AE3-4AD7-982E-016A257C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1E4E-61D8-43C7-8B38-160C62BB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466B-677B-482A-AA3F-E7B24BB4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AA6-2072-45C3-80D2-F0F801CC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1EA5-000C-40AD-BB7E-D181FABB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D065-5997-4AF9-A7C1-7F0A1B64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D126-F7A6-46D6-B0B2-48A30B8E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3FF3-83E3-4A46-86AD-E709E69E0877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32D8-B50D-4D90-81FC-C9F4DA5C329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ATURN: A Double-Blind, Randomized, Phase III Study of Maintenance Erlotinib versus Placebo Following Non-Progression with 1</a:t>
            </a:r>
            <a:r>
              <a:rPr b="1" lang="en-US" sz="31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-Line Platinum-Based Chemotherapy in Patients with Advanced NSCLC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Cappuzzo F et al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ASCO 2009;Abstract 8001.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2160" y="6207120"/>
            <a:ext cx="4783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Cappuzzo F et al. ASCO 2009;Abstract 800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fficacy and tolerability profile of erlotinib for NSCLC has been demonstrated in a large, phase III, placebo-controlled trial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J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5;353:123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ase III TALENT study demonstrated a trend toward improved time to progression (TTP) or death in patients with NSCLC who continued to receive erlotinib after six cycles of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erlotinib with concurrent chemotherapy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7;25:1545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if erlotinib given right after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chemo prolongs progression-free survival (PFS) of pati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advanced NSCLC. Assess PFS in EGFR-positive subset of pati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794120" y="4683240"/>
            <a:ext cx="2013120" cy="484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116080" y="4662360"/>
            <a:ext cx="209880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2160" y="6207120"/>
            <a:ext cx="4783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Cappuzzo F et al. ASCO 2009;Abstract 800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hase III, Placebo-Controlled Trial of Maintenance Erlotinib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5760" y="1598760"/>
            <a:ext cx="678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16400" y="2755800"/>
            <a:ext cx="47880" cy="231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962600" y="414000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795320" y="1800360"/>
          <a:ext cx="5570640" cy="750600"/>
        </p:xfrm>
        <a:graphic>
          <a:graphicData uri="http://schemas.openxmlformats.org/drawingml/2006/table">
            <a:tbl>
              <a:tblPr/>
              <a:tblGrid>
                <a:gridCol w="5570640"/>
              </a:tblGrid>
              <a:tr h="75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mo-naïve advanced NSCLC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=1,949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768320" y="2890800"/>
            <a:ext cx="5639040" cy="47160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Four cycles 1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-line platinum-based double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65440" y="3710160"/>
            <a:ext cx="5638680" cy="77616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Non-progressive disease in patient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889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63960" y="4267080"/>
            <a:ext cx="100476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2360" y="5267160"/>
            <a:ext cx="3441600" cy="64944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Erlotinib 150 mg/da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ssess disease progress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14800" y="5267160"/>
            <a:ext cx="3441960" cy="64944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laceb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ssess disease progress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6680" y="2550960"/>
            <a:ext cx="0" cy="317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2959200" y="4780080"/>
            <a:ext cx="311040" cy="31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5"/>
          <p:cNvSpPr/>
          <p:nvPr/>
        </p:nvSpPr>
        <p:spPr>
          <a:xfrm>
            <a:off x="5589720" y="4772160"/>
            <a:ext cx="311040" cy="31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6680" y="3359160"/>
            <a:ext cx="0" cy="317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Efficacy Result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452160" y="6207120"/>
            <a:ext cx="4783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Cappuzzo F et al. ASCO 2009;Abstract 800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91960" y="1763640"/>
          <a:ext cx="8556840" cy="4076280"/>
        </p:xfrm>
        <a:graphic>
          <a:graphicData uri="http://schemas.openxmlformats.org/drawingml/2006/table">
            <a:tbl>
              <a:tblPr/>
              <a:tblGrid>
                <a:gridCol w="4851720"/>
                <a:gridCol w="2341440"/>
                <a:gridCol w="1363680"/>
              </a:tblGrid>
              <a:tr h="73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rogression-Free Surviv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rlotinib vs Placeb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HR (95% CI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T population (n=437; 447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1 (0.62-0.82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IHC-positive (n=307; 311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9 (0.58-0.82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  <a:tr h="55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mutation-positive (n=22; 27)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0 (0.04-0.2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wil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-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 (n=199; 189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8 (0.63-0.96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8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enocarcinoma (n=204; 197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0 (0.48-0.7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uamous cell (n=166; 193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6 (0.60-0.9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4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2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lotinib maintenance therapy significantly improved PFS in patients with advanced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lotinib treatment effect was independent of several clinical/biological characteristics, including tumor histology, gender and smoking status (data not show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atest benefit in PFS seen in patients with EGFR mutation-positive disease (hazard ratio=0.10, p&lt;0.000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ffect on overall survival remains to be determined.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452160" y="6207120"/>
            <a:ext cx="4783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Cappuzzo F et al. ASCO 2009;Abstract 800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Albert Rosado</cp:lastModifiedBy>
  <cp:lastPrinted>2009-12-03T19:51:22Z</cp:lastPrinted>
  <dcterms:modified xsi:type="dcterms:W3CDTF">2009-12-03T19:51:34Z</dcterms:modified>
  <cp:revision>191</cp:revision>
  <dc:subject/>
  <dc:title>Main Title Slide — Always use  Title Case on Slide Titles</dc:title>
</cp:coreProperties>
</file>