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807-A2A6-4C4E-B31C-EA671899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44B0-AB20-4A43-8A21-D7915CFD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DF4-2F8C-435A-AD45-8A59023B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D31-2F25-4537-AC79-3577A947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E281-BDD8-4674-9FB5-7ED3B754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010A-6716-49FC-8867-89DFC170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32EE-BC4E-4BAF-8A75-0A2C6503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A2B7-ED62-4F64-943C-CB00D96B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0115-7114-48E6-B443-CA5F3560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4392-F345-4DF8-8CC9-21ADD543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D762-08C6-4CE4-B181-255480EE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A81-98FC-4068-9782-FB6D8165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E8BA-6FB6-4A09-A96D-92DB3889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6786-1AA0-4A75-95F4-1CCAE6B4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6A9A-A5FF-4D7E-BDD5-7B270895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FB2A-1FEB-482B-95DA-0381172E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EEFF-87A8-41BD-9A74-4C492DD8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671-5C70-441D-9090-DE30AF23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BEA-FE1B-4AEB-ABB2-DAD14683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F7C-A3BC-4FE3-988E-46598BF3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D5B-DF80-490E-81B0-FCAFE1E7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3467-1280-4CB9-821D-8E1A41A1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DC3-6F9C-478E-8C3F-976045B8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35F4-646E-4CD2-8ED6-2C05502A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7357-02F7-4AC7-98A4-699159FA0C8A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BB87-B5FD-4EE2-8C74-C5F185CF177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1680" y="167760"/>
            <a:ext cx="782964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Gefitinib or Carboplatin/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aclitaxel (C/P) in Pulmonary Adenocarcinoma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Mok TS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N Engl J Med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361(10):947-57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353880" y="6207120"/>
            <a:ext cx="9096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s: Mok TS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 Engl J Me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61(10):947-57; Kim ES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008;372(9652):1809-18; Kosaka T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Cancer Res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4;64(24):8919-2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FR tyrosine kinase inhibitors demonstrate improved efficacy in advanced non-small-cell lung cancer (NSCLC) in populations enriched for the presence of EGFR mu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smok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with lung adenocarcino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of Asian ori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efficacy and safety of first-line gefitinib versus C/P in EGFR mutation-enriched population with advanced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role of EGFR mutation as a predictor of treatment effica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923000" y="2122560"/>
            <a:ext cx="17280" cy="272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4640" y="6207120"/>
            <a:ext cx="646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ok TS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 Engl J Me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61(10):947-5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PASS: A Phase III Trial in Patients with Advanced NSCLC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455760" y="1598760"/>
            <a:ext cx="67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rual: 1,329 (Clos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400" y="5537160"/>
            <a:ext cx="8411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*Nonsmoker, &lt; 100 cigarettes in lifetime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former light smoker, stopped 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15 years ago and smoked 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l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10 pack-yea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0120" y="2214720"/>
          <a:ext cx="3618000" cy="2622240"/>
        </p:xfrm>
        <a:graphic>
          <a:graphicData uri="http://schemas.openxmlformats.org/drawingml/2006/table">
            <a:tbl>
              <a:tblPr/>
              <a:tblGrid>
                <a:gridCol w="3618000"/>
              </a:tblGrid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(n=1,21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 (Stage IIIb/IV) NSCLC, adenocarcinom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st Asian origi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smoker/former light smoker*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ior treatm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441680" y="2892600"/>
            <a:ext cx="1005120" cy="10029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6320" y="3440160"/>
            <a:ext cx="22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23000" y="2114640"/>
            <a:ext cx="453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5"/>
          <p:cNvSpPr/>
          <p:nvPr/>
        </p:nvSpPr>
        <p:spPr>
          <a:xfrm>
            <a:off x="4778280" y="2333520"/>
            <a:ext cx="31140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5"/>
          <p:cNvSpPr/>
          <p:nvPr/>
        </p:nvSpPr>
        <p:spPr>
          <a:xfrm>
            <a:off x="4784760" y="4154400"/>
            <a:ext cx="31104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1880" y="1916280"/>
            <a:ext cx="2955960" cy="8078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Gefitinib (250 mg/day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609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9040" y="4152960"/>
            <a:ext cx="3038400" cy="14558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arboplatin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AUC 5 or 6) +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aclitaxel (200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q3wk x 6 maximu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608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37040" y="4835520"/>
            <a:ext cx="40824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0ecd9"/>
                </a:solidFill>
                <a:latin typeface="Verdana"/>
              </a:rPr>
              <a:t>Efficacy of Gefitinib vs C/P in East Asian Patients With NSCLC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-134640" y="6207120"/>
            <a:ext cx="646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ok TS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 Engl J Me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61(10):947-5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3960" y="1515960"/>
          <a:ext cx="8264520" cy="4583160"/>
        </p:xfrm>
        <a:graphic>
          <a:graphicData uri="http://schemas.openxmlformats.org/drawingml/2006/table">
            <a:tbl>
              <a:tblPr/>
              <a:tblGrid>
                <a:gridCol w="3729240"/>
                <a:gridCol w="1341360"/>
                <a:gridCol w="1366920"/>
                <a:gridCol w="1827000"/>
              </a:tblGrid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Objective Response Rate (ORR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Gefitini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C/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nt-to-treat popul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609; 60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.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-posi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132; 12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71.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.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-nega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91; 8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1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.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Progression-Free Surviv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azard Rat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nt-to-treat popul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-posi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0.4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46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-nega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8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700200" y="4729320"/>
            <a:ext cx="183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fitinib is superior to C/P a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therapy in a selected EGFR mutation-rich population with pulmonary adenocarcinom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longed PFS and increased OR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d side effects and quality of life (data not show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FR mutation status is a predictive biomarker in a selected EGFR mutation-rich population for responsiveness of pulmonary adenocarcinomas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gefitinib treat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FS and ORR were significantly improved in patients who wer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itive for EGFR mu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-134640" y="6207120"/>
            <a:ext cx="646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ok TS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 Engl J Me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61(10):947-5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Jay Qun</cp:lastModifiedBy>
  <cp:lastPrinted>2009-12-03T17:21:34Z</cp:lastPrinted>
  <dcterms:modified xsi:type="dcterms:W3CDTF">2009-12-03T19:24:20Z</dcterms:modified>
  <cp:revision>185</cp:revision>
  <dc:subject/>
  <dc:title>Main Title Slide — Always use  Title Case on Slide Titles</dc:title>
</cp:coreProperties>
</file>