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65F-6512-4439-8DB6-1816437D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B24-9A09-4F97-931A-F0E68961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C59-97AD-4F4F-BDA8-FB51FFCE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4FD-4136-4984-B5FE-7F51DCC5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6F9D-E0C6-4C6D-9BD9-7CBC029A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9876-BA9B-4D77-A965-A2A6D601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AE3B-376A-4712-8B78-C80192AD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D437-C5CE-42C3-AA9F-94C9AD01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2860-1958-4A8A-AE86-C4928504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DDCC-4E51-40B6-868F-63EFA3F4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D2BD-F5C1-4552-AE2C-EFC32C9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A31-B9DF-4E19-9433-314FA797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AA04-DE6E-4BE9-A13B-DD721D83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BAE4-4621-4D56-9F5E-9394114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9FDD-872A-4738-AAD7-DE7F9BE5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B61A-6C8C-4DC4-A38E-2B3BCF05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429B-3006-49AF-AF62-A72ED095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4EF-6805-48BD-B8C2-B2B6A93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0D7-8DCE-4D0C-8C21-404E2120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380-5249-440C-B77E-672BB210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323-61BF-406E-B046-9AF3066B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D35-DFF8-4834-8B33-903B807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CFD-310D-4F57-BCAD-E3275C48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3AA-651B-4B43-92F6-CC4F8597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B749-AAF4-448E-A3DA-F2F1AD97382D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255E-90D1-46BF-9F13-83C25CFC6B4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iomarker Analyses from a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, Randomized, Open-Label, First-Line Study of Gefitinib vs Carboplatin/Paclitaxel in Clinically Selected Patients with Advanced Non-Small Cell Lung Cancer in Asia (IPASS) 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Fukuoka M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25b"/>
                </a:solidFill>
                <a:latin typeface="Verdana"/>
              </a:rPr>
              <a:t>ASCO 2009;Abstract 8006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ASS demonstrated overall superiority of first-line gefitinib (G) to carboplatin/paclitaxel (C/P) in selected East Asian population of nonsmokers/ex-light smokers with advanced pulmonary adenocarcino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progression-free survival (PFS), overall survival (OS) and objective response rate (ORR) by EGFR mutation status, EGFR-gene-copy number and EGFR protein 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ASS (n = 1,217 randomize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omarker consent (n = 1,038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d tumor samples (n = 683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Biomarker Data in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Evaluable Patien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97040" y="1620720"/>
          <a:ext cx="7542000" cy="2695680"/>
        </p:xfrm>
        <a:graphic>
          <a:graphicData uri="http://schemas.openxmlformats.org/drawingml/2006/table">
            <a:tbl>
              <a:tblPr/>
              <a:tblGrid>
                <a:gridCol w="3779640"/>
                <a:gridCol w="1924200"/>
                <a:gridCol w="1838160"/>
              </a:tblGrid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Biomark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tatu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N 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 statu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n=43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1 (60%)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6 (40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gene copy numb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n=4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9 (61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 (39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protein exp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n=36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itiv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6 (73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 (27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144"/>
          <p:cNvSpPr/>
          <p:nvPr/>
        </p:nvSpPr>
        <p:spPr>
          <a:xfrm>
            <a:off x="1357200" y="4462560"/>
            <a:ext cx="6656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igh EGFR-gene-copy number was defined as high polysomy  (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4 copies i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40% of cells) or gene amplification (ratio of gene:chromosome per cell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2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5 copies of EGFR per cell in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0% of cell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ositive EGFR protein expression status defined as ≥ 10% of cells stained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for EGFR protei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Progression-Free Survival by Biomarker Statu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3680" y="1711440"/>
          <a:ext cx="8226360" cy="3954240"/>
        </p:xfrm>
        <a:graphic>
          <a:graphicData uri="http://schemas.openxmlformats.org/drawingml/2006/table">
            <a:tbl>
              <a:tblPr/>
              <a:tblGrid>
                <a:gridCol w="3206520"/>
                <a:gridCol w="1222560"/>
                <a:gridCol w="1214280"/>
                <a:gridCol w="2583000"/>
              </a:tblGrid>
              <a:tr h="77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FS, HR</a:t>
                      </a:r>
                      <a:r>
                        <a:rPr b="1" lang="en-US" sz="1500" spc="-1" strike="noStrike" baseline="30000">
                          <a:solidFill>
                            <a:srgbClr val="00325b"/>
                          </a:solidFill>
                          <a:latin typeface="Verdana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FS, Rx x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ubgroup Interaction</a:t>
                      </a:r>
                      <a:r>
                        <a:rPr b="1" lang="en-US" sz="1500" spc="-1" strike="noStrike" baseline="30000">
                          <a:solidFill>
                            <a:srgbClr val="00325b"/>
                          </a:solidFill>
                          <a:latin typeface="Verdana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2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 status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+ (n=26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- (n=17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gene copy numb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+ (n=24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+, M+ (n=19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+, M- (n=5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- (n=15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0.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3.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36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43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68"/>
          <p:cNvSpPr/>
          <p:nvPr/>
        </p:nvSpPr>
        <p:spPr>
          <a:xfrm>
            <a:off x="318960" y="5745240"/>
            <a:ext cx="851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R (hazard ratio) &lt; 1.0 favors gefitinib; </a:t>
            </a: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R in biomarker+ vs HR in biomarker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mutation status is a predictive biomarker in a selected East Asian population for responsiveness of pulmonary adenocarcinomas to first-line gefitinib treatment (p &lt; 0.000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-gene-copy number was not as predictive of a differential PFS of gefitinib vs C/P (p &lt; 0.0437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FISH+, EGFR mutation-negative dise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 not benefit from gefitini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protein expression was the least predic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sis of OS by EGFR mutation status is immature but trending toward improvement for EGFR mutation-positive disease treated with gefitinib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07T14:23:42Z</cp:lastPrinted>
  <dcterms:modified xsi:type="dcterms:W3CDTF">2009-12-03T20:24:03Z</dcterms:modified>
  <cp:revision>181</cp:revision>
  <dc:subject/>
  <dc:title>Main Title Slide — Always use  Title Case on Slide Titles</dc:title>
</cp:coreProperties>
</file>