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9DFE-1707-4155-9A78-37B29844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5A95-4C7C-4253-AC96-59100441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A4F9-034E-492D-8D5E-EC53BA60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566F-86CE-4389-80F7-5755CE2C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45D3-E7A7-4BAD-9622-0572697A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05B5-77C0-4C78-8B03-4B7D117C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9A73-917D-4513-871B-A7ED0E7C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4337-586A-494B-B2C6-896BA49F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64FD-0A43-40AF-B4EA-9B8A5731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EAC1-DC31-4CCE-A263-36E63C44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6BF0-4339-4341-B339-43A0FD20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5005-ED02-4880-BA43-875803E3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66FE-E106-462A-8AF3-BA2BD21A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CBCB-5BDF-448E-86DA-5D1E4B01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6482-105C-4236-B46F-72EA03E7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DF37-A197-4557-B10F-4D21E658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CDA3-53B9-4597-9BB3-83602EEF8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A671-0FC3-4AA2-8B88-1BFF24BD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BE78-AC50-4E64-A012-14114668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7BD5-CA88-4BBD-A7CA-BD968DA5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A6D-F46E-4053-AAA5-EE30DDE0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14E2-8D2E-4F07-B324-0EAFB7F3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A0AA-D9B7-47F5-9BD2-8D343C36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E461-C134-4CF3-9F6A-1627864A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51B5-4B55-4954-8E8F-B0827FB0C75A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43B8-4B7A-4F8F-9B13-3D5DC4C2309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Maintenance Pemetrexed plus Best Supportive Care versus Placebo plus Best Supportive Care for Non-Small-Cell Lung Cancer: A Randomised, Double-Blind, Phase 3 Study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57800"/>
            <a:ext cx="7769160" cy="24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Ciuleanu T et 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Lancet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 2009;374(9699):1432-40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541440" y="6207120"/>
            <a:ext cx="5179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Ciuleanu T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Lance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74(9699):1432-40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eatment guidelines for patients with advanced non-small-cell lung cancer (NSCLC) recommend waiting until disease progression to administer approved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treatment agents such as docetaxel and pemetrexe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cent Phase III studie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Lung Cance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2006;52:155;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JNC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2005;97:499) of maintenance therapies after 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line chemotherapy in advanced NSCLC have not demonstrated an overall survival (OS) benef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urrent study objectiv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valuate pemetrexed (Pem) as maintenance therapy in patients with advanced NSCLC that has not progressed on four cycles of 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line platinum-based chemothera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41440" y="6207120"/>
            <a:ext cx="5179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Ciuleanu T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Lance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74(9699):1432-40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hase III Randomized, Double-Blind, Placebo-Controlled Trial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Line 17"/>
          <p:cNvSpPr/>
          <p:nvPr/>
        </p:nvSpPr>
        <p:spPr>
          <a:xfrm>
            <a:off x="5216400" y="2755800"/>
            <a:ext cx="47880" cy="231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8"/>
          <p:cNvSpPr/>
          <p:nvPr/>
        </p:nvSpPr>
        <p:spPr>
          <a:xfrm flipV="1">
            <a:off x="4962600" y="4140000"/>
            <a:ext cx="22860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20"/>
          <p:cNvSpPr/>
          <p:nvPr/>
        </p:nvSpPr>
        <p:spPr>
          <a:xfrm>
            <a:off x="523800" y="5489640"/>
            <a:ext cx="7162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B12, folate and dexamethasone prophylaxis administered in both arm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00120" y="2043000"/>
          <a:ext cx="3022560" cy="2949840"/>
        </p:xfrm>
        <a:graphic>
          <a:graphicData uri="http://schemas.openxmlformats.org/drawingml/2006/table">
            <a:tbl>
              <a:tblPr/>
              <a:tblGrid>
                <a:gridCol w="3022560"/>
              </a:tblGrid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ligibility (n=663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25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ge IIIB/IV NSCL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ur prior cycles of platinum + taxan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 gemcitab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ete or partial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ponse (CR or PR) or stable disease (S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Oval 19"/>
          <p:cNvSpPr/>
          <p:nvPr/>
        </p:nvSpPr>
        <p:spPr>
          <a:xfrm>
            <a:off x="3243240" y="3162240"/>
            <a:ext cx="1004760" cy="1003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28"/>
          <p:cNvSpPr/>
          <p:nvPr/>
        </p:nvSpPr>
        <p:spPr>
          <a:xfrm>
            <a:off x="4640400" y="2033640"/>
            <a:ext cx="3176280" cy="1312920"/>
          </a:xfrm>
          <a:prstGeom prst="rect">
            <a:avLst/>
          </a:prstGeom>
          <a:solidFill>
            <a:srgbClr val="d6eaf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em 500 mg/m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1 q3wks + best supportive care (BSC)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 = 441)*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" name="AutoShape 54"/>
          <p:cNvCxnSpPr/>
          <p:nvPr/>
        </p:nvCxnSpPr>
        <p:spPr>
          <a:xfrm flipH="1" flipV="1" rot="5400000">
            <a:off x="3949200" y="2529720"/>
            <a:ext cx="465840" cy="77724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Oval 25"/>
          <p:cNvSpPr/>
          <p:nvPr/>
        </p:nvSpPr>
        <p:spPr>
          <a:xfrm>
            <a:off x="3956040" y="2516040"/>
            <a:ext cx="311040" cy="31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" name="AutoShape 57"/>
          <p:cNvCxnSpPr/>
          <p:nvPr/>
        </p:nvCxnSpPr>
        <p:spPr>
          <a:xfrm flipH="1" rot="16200000">
            <a:off x="3999600" y="3949200"/>
            <a:ext cx="363960" cy="77724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Oval 25"/>
          <p:cNvSpPr/>
          <p:nvPr/>
        </p:nvSpPr>
        <p:spPr>
          <a:xfrm>
            <a:off x="3956040" y="4354560"/>
            <a:ext cx="311040" cy="31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7"/>
          <p:cNvSpPr/>
          <p:nvPr/>
        </p:nvSpPr>
        <p:spPr>
          <a:xfrm>
            <a:off x="4649760" y="3995640"/>
            <a:ext cx="3213000" cy="1038240"/>
          </a:xfrm>
          <a:prstGeom prst="rect">
            <a:avLst/>
          </a:prstGeom>
          <a:solidFill>
            <a:srgbClr val="d6eaf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lacebo (Plac)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1 q3wks + BSC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 = 222)*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of Result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541440" y="6207120"/>
            <a:ext cx="5179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Ciuleanu T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Lance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74(9699):1432-40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45960" y="1763640"/>
          <a:ext cx="8391600" cy="3921120"/>
        </p:xfrm>
        <a:graphic>
          <a:graphicData uri="http://schemas.openxmlformats.org/drawingml/2006/table">
            <a:tbl>
              <a:tblPr/>
              <a:tblGrid>
                <a:gridCol w="3679920"/>
                <a:gridCol w="1381320"/>
                <a:gridCol w="1346040"/>
                <a:gridCol w="777960"/>
                <a:gridCol w="1206360"/>
              </a:tblGrid>
              <a:tr h="47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Efficacy Paramete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em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la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H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107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ession-free surviva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squamous (n=481)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Squamous (n=182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3 mos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5 mos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8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6 mos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6 mos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6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3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all surviva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Nonsquamous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Squamou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4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.5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.9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6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3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8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7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Select Grade 3/4 A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42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tigu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—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utropeni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—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39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PFS and OS benefit was demonstrated with pemetrexed maintenance therapy in advanced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nsquamous histology was predictive of improved PFS and OS benefit with pemetrexed maintenanc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verall rate of drug-related grade 3 or 4 AEs, including neutropenia and fatigue, was higher in the pemetrexed ar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reatment discontinuation due to drug-related toxic effects was higher in pemetrexed arm (data not shown, 5% vs 1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emetrexed maintenance therapy may be a new treatment option for patients with advanced nonsquamous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541440" y="6207120"/>
            <a:ext cx="5179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Ciuleanu T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Lance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74(9699):1432-40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Office 2004 Test Drive User</cp:lastModifiedBy>
  <cp:lastPrinted>2009-10-13T12:23:39Z</cp:lastPrinted>
  <dcterms:modified xsi:type="dcterms:W3CDTF">2009-12-03T20:20:57Z</dcterms:modified>
  <cp:revision>195</cp:revision>
  <dc:subject/>
  <dc:title>Main Title Slide — Always use  Title Case on Slide Titles</dc:title>
</cp:coreProperties>
</file>