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EEF5-26AA-4C75-B5BB-A97BE0DD9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D62A-6C07-477C-B069-F8C781E9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F913-E477-4DC4-B575-57F595310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4E93-45A1-43C2-B3BD-5C87A4FD5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9FE8-B4CB-4448-A720-E09ED09E7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59F6-C3EF-4694-AEA7-89B2C840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8702-EFEA-4B6E-95B3-002E7953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49CA-DA7C-47CD-9E42-C0B83A98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2E1E-0BEC-4F21-9C2A-8104E1DA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3AF0-CA35-45BD-84A6-9570AD6F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505A-19FA-45B5-ACDD-07EFE76A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1B9F-AA9C-4C8D-B53F-F0426953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AA24-1BC2-4B02-899A-178C5A58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4872-8EEA-4D2E-A477-A704DFB6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3629-628A-41E9-9F53-8EBC3379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160A-25CD-4DD5-9773-DC5A80A9E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7000-45DD-4E4E-8A70-528C5BD2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44DC-DDDC-48C8-B9CB-F0434850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9040-CDCD-4746-B34E-72A9851F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7B72-574F-4D2B-9C34-8B1E4489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915C-CB71-4C09-AAA2-161AE085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F9AE-E7B6-4773-84CC-14219457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4FFC-AAD5-4307-94DD-CEA464D9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DF95-AE04-4231-A0AC-94E34803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3466-1451-41E3-92B3-255D304254DB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BE49-F7DD-4A0F-8938-FD227430B37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etuximab plus Chemotherapy in Patients with Advanced Non-Small-Cell Lung Cancer (FLEX): An Open-Label Randomised Phase III Trial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4313160"/>
            <a:ext cx="7769160" cy="25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Pirker R et 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25b"/>
                </a:solidFill>
                <a:latin typeface="Verdana"/>
              </a:rPr>
              <a:t>Lancet</a:t>
            </a:r>
            <a:r>
              <a:rPr b="0" lang="en-US" sz="2500" spc="-1" strike="noStrike">
                <a:solidFill>
                  <a:srgbClr val="00325b"/>
                </a:solidFill>
                <a:latin typeface="Verdana"/>
              </a:rPr>
              <a:t> 2009;373(9674):1525-31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533160" y="6207120"/>
            <a:ext cx="4940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Pirker R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Lancet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373(9674):1525-31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4480" y="1608120"/>
            <a:ext cx="8304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ed drugs added to chemotherapy may improve the survival of patients with non-small-cell lung cancer (NSCLC)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C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7;117(10):2740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ase II trial in patients with advanced, EGFR-positive NSCLC suggested that the addition of cetuximab to cisplatin/vinorelbine (CV) improved survival and increased the response rate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nn Onco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8;19(2):362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urrent study objectiv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 the efficacy and safety of cetuximab added to CV chemotherapy in the first-line in patients with advanced EGFR-positive NSCL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Line 63"/>
          <p:cNvSpPr/>
          <p:nvPr/>
        </p:nvSpPr>
        <p:spPr>
          <a:xfrm flipV="1">
            <a:off x="4559400" y="2422440"/>
            <a:ext cx="672840" cy="1006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64"/>
          <p:cNvSpPr/>
          <p:nvPr/>
        </p:nvSpPr>
        <p:spPr>
          <a:xfrm>
            <a:off x="4557600" y="3817800"/>
            <a:ext cx="677880" cy="82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533160" y="6207120"/>
            <a:ext cx="4940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Pirker R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Lancet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373(9674):1525-31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Phase III Randomized Trial of First-Line Cetuximab plus CV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Line 17"/>
          <p:cNvSpPr/>
          <p:nvPr/>
        </p:nvSpPr>
        <p:spPr>
          <a:xfrm>
            <a:off x="5238720" y="2755800"/>
            <a:ext cx="47520" cy="231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18"/>
          <p:cNvSpPr/>
          <p:nvPr/>
        </p:nvSpPr>
        <p:spPr>
          <a:xfrm flipV="1">
            <a:off x="4962600" y="4140000"/>
            <a:ext cx="228600" cy="12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00120" y="1576440"/>
          <a:ext cx="3759120" cy="3659040"/>
        </p:xfrm>
        <a:graphic>
          <a:graphicData uri="http://schemas.openxmlformats.org/drawingml/2006/table">
            <a:tbl>
              <a:tblPr/>
              <a:tblGrid>
                <a:gridCol w="3759120"/>
              </a:tblGrid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Eligibility (n=1,125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vanced (stage wet IIIb/IV) NSCLC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FR-expression positive by IHC (≥1 positive tumor cell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histologic subtypes allowe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prior treatment with chemo or EGFR-targeted drugs or antibodie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CNS metastase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Oval 19"/>
          <p:cNvSpPr/>
          <p:nvPr/>
        </p:nvSpPr>
        <p:spPr>
          <a:xfrm>
            <a:off x="4046400" y="3127320"/>
            <a:ext cx="1005120" cy="10033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52"/>
          <p:cNvSpPr/>
          <p:nvPr/>
        </p:nvSpPr>
        <p:spPr>
          <a:xfrm>
            <a:off x="5286240" y="1603440"/>
            <a:ext cx="2984760" cy="118584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C (80 mg/m</a:t>
            </a:r>
            <a:r>
              <a:rPr b="1" lang="en-US" sz="17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) +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V (25 mg/m</a:t>
            </a:r>
            <a:r>
              <a:rPr b="1" lang="en-US" sz="17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)*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q3wk x 6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(n=568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54"/>
          <p:cNvSpPr/>
          <p:nvPr/>
        </p:nvSpPr>
        <p:spPr>
          <a:xfrm>
            <a:off x="5273640" y="3933720"/>
            <a:ext cx="3598920" cy="127800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Cetuximab (400 mg/m</a:t>
            </a:r>
            <a:r>
              <a:rPr b="1" lang="en-US" sz="17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d1, then 250 mg/m</a:t>
            </a:r>
            <a:r>
              <a:rPr b="1" lang="en-US" sz="17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 q1wk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+ CV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(n=557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55"/>
          <p:cNvSpPr/>
          <p:nvPr/>
        </p:nvSpPr>
        <p:spPr>
          <a:xfrm>
            <a:off x="5466240" y="2803680"/>
            <a:ext cx="30564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*Protocol amended, dose reduce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from 30 mg/m</a:t>
            </a:r>
            <a:r>
              <a:rPr b="0" i="1" lang="en-US" sz="15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 due to grade 3/4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neutropeni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56"/>
          <p:cNvSpPr/>
          <p:nvPr/>
        </p:nvSpPr>
        <p:spPr>
          <a:xfrm>
            <a:off x="596880" y="5445000"/>
            <a:ext cx="72342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Cetuximab treatment continued after chemotherapy until disease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progression or unacceptable toxicity occurred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200" y="-360"/>
            <a:ext cx="776916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Efficacy Result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533160" y="6207120"/>
            <a:ext cx="4940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Pirker R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Lancet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373(9674):1525-31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91960" y="1763640"/>
          <a:ext cx="8556840" cy="3211560"/>
        </p:xfrm>
        <a:graphic>
          <a:graphicData uri="http://schemas.openxmlformats.org/drawingml/2006/table">
            <a:tbl>
              <a:tblPr/>
              <a:tblGrid>
                <a:gridCol w="2535480"/>
                <a:gridCol w="1528560"/>
                <a:gridCol w="1246320"/>
                <a:gridCol w="2270160"/>
                <a:gridCol w="976320"/>
              </a:tblGrid>
              <a:tr h="818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f5d"/>
                          </a:solidFill>
                          <a:latin typeface="Verdana"/>
                        </a:rPr>
                        <a:t>Efficacy Paramete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Cetux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+ CV (n=557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CV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(n=568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H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(95% CI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</a:t>
                      </a: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-valu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144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 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All patient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Nonsquamou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Squamou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.3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0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2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1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3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.9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87 (0.76-1.00)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94 (0.77-1.55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80 (0.64-1.00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4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 PF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8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8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94 (0.83-1.08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—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1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7" name="Rectangle 265"/>
          <p:cNvSpPr/>
          <p:nvPr/>
        </p:nvSpPr>
        <p:spPr>
          <a:xfrm>
            <a:off x="1288080" y="5267160"/>
            <a:ext cx="64566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HR = hazard ratio; OS = overall survival; PFS = progression-free survival; </a:t>
            </a:r>
            <a:br>
              <a:rPr sz="1500"/>
            </a:b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ORR = overall response rat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and Conclus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addition of cetuximab improved the efficacy of first-line platinum-based chemotherapy in the treatment of EGFR-positive advanced NSCL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S was prolonged across all histological sub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mor response rates were incre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FS, however, was unchang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fety profile consistent with known patterns of side effects for individual treatment agents (data not show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in cetuximab-related adverse event was acne-like rash (10%, grade 3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 rate of febrile neutropenia observed (22%, grade 3/4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533160" y="6207120"/>
            <a:ext cx="4940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Pirker R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Lancet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373(9674):1525-31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1:19:04Z</dcterms:created>
  <dc:creator>Fernando G Rendina </dc:creator>
  <dc:description/>
  <cp:keywords/>
  <dc:language>en-US</dc:language>
  <cp:lastModifiedBy>Office 2004 Test Drive User</cp:lastModifiedBy>
  <cp:lastPrinted>2009-10-20T12:55:15Z</cp:lastPrinted>
  <dcterms:modified xsi:type="dcterms:W3CDTF">2009-12-03T20:08:01Z</dcterms:modified>
  <cp:revision>185</cp:revision>
  <dc:subject/>
  <dc:title>Main Title Slide — Always use  Title Case on Slide Titles</dc:title>
</cp:coreProperties>
</file>