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6120-06F9-4CA6-8083-BFDA62CA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F688-B2A8-4B08-8D3A-B5704101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D1BE-23CD-45C4-90B7-D2B3EDD1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DAE4-F28C-4751-94EE-0C928577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8979-C1B1-4A73-BAFF-540BFE5F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B89F-0E35-4FC0-9FC2-CF371123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6879-F00C-4964-9FFB-CDEE7FD0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000C-0CC0-4CED-B899-2DB0DB97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18D9-7AE5-4900-939A-83357308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E8D8-234E-4C56-8C39-7C34CDEC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3D78-F1F4-4AA2-937D-48926A0C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E9A-34D9-43DA-800E-F5A8CEE3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3666-F592-458D-A787-321090B4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66DA-812A-4977-8FCE-147E1A81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EA38-F455-4FC6-B4CA-7036E25C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C683-A9CD-4CC3-8DF4-648C966A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9293-66A3-4F8C-82A8-1E609454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10A-94E0-4411-92D9-35D87DC0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FC2-D026-4CC8-B060-E4CF51FE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325-A8F6-4EFF-AFAE-CFF6783E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9FA-6B42-4EF8-9D40-952F1FAA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B49-D9ED-4DA3-8126-32FBB5DC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F1A3-190C-4141-A993-20C42F85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3CB9-B284-4FA7-90A2-9F0EF3DA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2D1E-DD46-43AC-A27B-51B3D81A42F1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E921-D4CF-4807-9D76-29F37BC059F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TLAS: A Randomized, Phase III Trial Comparing Bevacizumab with or without Erlotinib After Completion of Chemotherapy plus Bevacizumab for 1</a:t>
            </a:r>
            <a:r>
              <a:rPr b="1" lang="en-US" sz="31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-Line Treatment of Locally-Advanced, Recurrent, or Metastatic NSCLC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Miller VA et al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ASCO 2009;Abstract LBA8002.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280" y="6207120"/>
            <a:ext cx="4897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Miller VA et al. ASCO 2009;Abstract LBA800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III trials have demonstrated significant improvement in the survival of patients with advanced NSCLC treated with bevacizumab (bev) plus chemotherapy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6;355:2542) or with erlotinib monotherapy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5;353:123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II data suggests that progression-free survival (PFS) may be prolonged when bev is combined with erlotinib after initial chemotherapy with bev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7;25:4743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if maintenance erlotinib with bev (E + B) after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therapy with chemotherapy/ bev prolongs PFS in patients with advanced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41800" y="4705200"/>
            <a:ext cx="1878120" cy="45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228400" y="4672080"/>
            <a:ext cx="2016360" cy="48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280" y="6207120"/>
            <a:ext cx="4897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Miller VA et al. ASCO 2009;Abstract LBA800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Ib, Placebo-Controlled Trial of Maintenance Bev plus Erlotinib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168960" y="3332160"/>
            <a:ext cx="2533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18240" y="3903840"/>
            <a:ext cx="1481040" cy="37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40440" y="2746440"/>
            <a:ext cx="47520" cy="231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86280" y="413028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9440" y="1589040"/>
            <a:ext cx="678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68960" y="3332160"/>
            <a:ext cx="2533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0440" y="2746440"/>
            <a:ext cx="47520" cy="231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886280" y="413028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90640" y="1754280"/>
          <a:ext cx="5570280" cy="780840"/>
        </p:xfrm>
        <a:graphic>
          <a:graphicData uri="http://schemas.openxmlformats.org/drawingml/2006/table">
            <a:tbl>
              <a:tblPr/>
              <a:tblGrid>
                <a:gridCol w="5570280"/>
              </a:tblGrid>
              <a:tr h="78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ge wet IIIb/IV or recurrent NSCL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ior chemotherapy (n=1,16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47800" y="2820960"/>
            <a:ext cx="5638680" cy="47160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Four cycles 1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-line chemotherapy + Bev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5720" y="3546360"/>
            <a:ext cx="5638680" cy="77652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Non-progressive disease in patien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768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76640" y="4179960"/>
            <a:ext cx="100512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5040" y="5257800"/>
            <a:ext cx="3441600" cy="6494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B (15 mg/kg) +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 (150 mg/day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27480" y="5257800"/>
            <a:ext cx="3441960" cy="6494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B (15 mg/kg) +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lacebo (Plac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6680" y="25509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25"/>
          <p:cNvSpPr/>
          <p:nvPr/>
        </p:nvSpPr>
        <p:spPr>
          <a:xfrm>
            <a:off x="3071880" y="4751280"/>
            <a:ext cx="311040" cy="31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25"/>
          <p:cNvSpPr/>
          <p:nvPr/>
        </p:nvSpPr>
        <p:spPr>
          <a:xfrm>
            <a:off x="5702400" y="4743360"/>
            <a:ext cx="311040" cy="31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6680" y="329724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of Resul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49280" y="6207120"/>
            <a:ext cx="4897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Miller VA et al. ASCO 2009;Abstract LBA800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01760" y="1774800"/>
          <a:ext cx="8343720" cy="3530520"/>
        </p:xfrm>
        <a:graphic>
          <a:graphicData uri="http://schemas.openxmlformats.org/drawingml/2006/table">
            <a:tbl>
              <a:tblPr/>
              <a:tblGrid>
                <a:gridCol w="3254400"/>
                <a:gridCol w="1207800"/>
                <a:gridCol w="1216080"/>
                <a:gridCol w="266544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PFS (ITT Population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B + 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370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B + Plac (n=373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R (95% CI),</a:t>
                      </a:r>
                      <a:br>
                        <a:rPr sz="1500"/>
                      </a:br>
                      <a:r>
                        <a:rPr b="1" i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PF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edian follow-up 8.3 mos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8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8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22 (0.592-0.881), 0.001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FS rate, 3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FS rate, 6 mos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%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Summary AE (grade≥3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B + E (n=368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B + Plac (n=36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 3-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.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.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 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76640" y="5389560"/>
            <a:ext cx="1681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HR = hazard rati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+ E maintenance therapy after four cycles of chemotherapy/bev significantly improved PFS in patients with advanc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ment in PFS observed across multiple subgroups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xicity profile consistent with known AE profiles for each agent, though occurrence of more serious AEs was increased in the B + E ar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449280" y="6207120"/>
            <a:ext cx="4897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Miller VA et al. ASCO 2009;Abstract LBA800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Albert Rosado</cp:lastModifiedBy>
  <cp:lastPrinted>2009-12-03T20:17:46Z</cp:lastPrinted>
  <dcterms:modified xsi:type="dcterms:W3CDTF">2009-12-03T20:18:15Z</dcterms:modified>
  <cp:revision>185</cp:revision>
  <dc:subject/>
  <dc:title>Main Title Slide — Always use  Title Case on Slide Titles</dc:title>
</cp:coreProperties>
</file>