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2BBA-4988-4F7F-B71F-E718443AD2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AC36-3AAB-4CE0-9BB3-87E5653B2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264B-99CA-4837-A97E-54A0631DFB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EF3E-003D-4F24-97B8-6214DA778C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591F-87D7-4A8F-872A-EA88E7A576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2815-2799-4CDF-8A16-853E582136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CA00-639F-4CD9-87DC-1B80BE52383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31C4-3544-40C6-B1D2-0CAF3779374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4527-704F-4613-ABA9-D55C6829F5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F3FC-E300-4471-A94F-51DBDC5F2FD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E5B6-EB9B-444F-B5A1-C38EB19D5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65C2-2C7D-4359-8B35-545BF80B88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F594-5992-4357-BE90-9034BD7EC6E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9B06-69E9-4795-BA02-F286E76D5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9175-67AD-4FFC-9419-69FDFDD7D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8064-BE25-43D1-A650-A17DD6D70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BA71-BDA0-4D39-8C19-20574AF922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297C-DF1D-49A9-929F-D8C04819D5A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8568-904C-4756-914C-D6EFBF5A1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7D5F-AEBB-4CEB-93E1-0FFF27C4C1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65B6-FB84-4B76-A240-99AA57F0ADC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A70E-42B1-437E-A1DD-6B5272531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ase 4 (Ms Goodrich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70 yo active man with incidental dx of Stage 0 CLL (del 13q, IgVH-mutated) in 2005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Observed until 2008, when WBC = 358K, splenomegaly and bulky node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R with response but after cycle 4, Hgb = 4 g/dL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hospitalized for AIHA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3 mos later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rapid progression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hort response to R monotherapy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Alemtuzumab x 11 mos but d/c for cytopenias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rapid progression and AIHA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Real-Life Oncology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Case-Based Discussions on the Biopsychosocial Management of Patients with Non-Hodgkin Lymphoma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Friday, April 29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ＭＳ Ｐゴシック"/>
              </a:rPr>
              <a:t>Boston, Massachuse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4464000" y="5105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llie Moran, MSN, CNP, AOCN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tchell R Smith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221120" y="510552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ary Deng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y Goodrich, CRNP-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In what situations can patients with CLL be observed off antitumor treatment?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Rai Low (0) and Intermediate (I-II) Risk: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No significant disease-related symptoms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No end-organ function threatened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No progressive bulky disease (spleen not &gt; 6 cm below costal margin, lymph nodes not &gt; 10 cm)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Slow doubling time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No progressive anemia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No progressive thrombocytopenia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31120" y="6019920"/>
            <a:ext cx="79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CCN Clinical Practice Guidelines in Oncology, Non-Hodgkin’s Lymphomas, v2.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858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ommon Induction Regimens in C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CR (fludarabine, cyclophosphamide, rituximab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R (fludarabine, rituximab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R (bendamustine, rituximab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cbb33"/>
                </a:solidFill>
                <a:latin typeface="Arial"/>
              </a:rPr>
              <a:t>National Patterns of Care Among Clinical Investigators (N = 25): Preferred Initial Treatment </a:t>
            </a:r>
            <a:br>
              <a:rPr sz="2600"/>
            </a:br>
            <a:r>
              <a:rPr b="1" lang="en-US" sz="2600" spc="-1" strike="noStrike">
                <a:solidFill>
                  <a:srgbClr val="ecbb33"/>
                </a:solidFill>
                <a:latin typeface="Arial"/>
              </a:rPr>
              <a:t>for Younger and Older Patients with CLL (normal cytogenetics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027"/>
          <p:cNvSpPr/>
          <p:nvPr/>
        </p:nvSpPr>
        <p:spPr>
          <a:xfrm>
            <a:off x="152280" y="6019920"/>
            <a:ext cx="74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terns of Care in Medical Oncology: Management of NHL and CLL 2011;1(1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411120" y="2333520"/>
            <a:ext cx="8272440" cy="254340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1680" y="2494080"/>
          <a:ext cx="7924680" cy="2170080"/>
        </p:xfrm>
        <a:graphic>
          <a:graphicData uri="http://schemas.openxmlformats.org/drawingml/2006/table">
            <a:tbl>
              <a:tblPr/>
              <a:tblGrid>
                <a:gridCol w="3776400"/>
                <a:gridCol w="2087640"/>
                <a:gridCol w="2060640"/>
              </a:tblGrid>
              <a:tr h="47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0 y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5 y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FC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fc53d"/>
                          </a:solidFill>
                          <a:latin typeface="Arial"/>
                          <a:ea typeface="ＭＳ Ｐゴシック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F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fc53d"/>
                          </a:solidFill>
                          <a:latin typeface="Arial"/>
                          <a:ea typeface="ＭＳ Ｐゴシック"/>
                        </a:rPr>
                        <a:t>5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fc53d"/>
                          </a:solidFill>
                          <a:latin typeface="Arial"/>
                          <a:ea typeface="ＭＳ Ｐゴシック"/>
                        </a:rPr>
                        <a:t>4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ommon Induction Regimens in CLL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Patient Education I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2971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CR (fludarabine, cyclophosphamide, rituximab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R (fludarabine, rituximab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R (bendamustine, rituximab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c744"/>
                </a:solidFill>
                <a:latin typeface="Arial"/>
              </a:rPr>
              <a:t>Bendamustine Combined with Rituximab </a:t>
            </a:r>
            <a:br>
              <a:rPr sz="2800"/>
            </a:br>
            <a:r>
              <a:rPr b="1" lang="en-US" sz="2800" spc="-1" strike="noStrike">
                <a:solidFill>
                  <a:srgbClr val="edc744"/>
                </a:solidFill>
                <a:latin typeface="Arial"/>
              </a:rPr>
              <a:t>(BR) in First-Line Therapy of Advanced CLL: </a:t>
            </a:r>
            <a:br>
              <a:rPr sz="2800"/>
            </a:br>
            <a:r>
              <a:rPr b="1" lang="en-US" sz="2800" spc="-1" strike="noStrike">
                <a:solidFill>
                  <a:srgbClr val="edc744"/>
                </a:solidFill>
                <a:latin typeface="Arial"/>
              </a:rPr>
              <a:t>A Multicenter Phase II Trial of the German </a:t>
            </a:r>
            <a:br>
              <a:rPr sz="2800"/>
            </a:br>
            <a:r>
              <a:rPr b="1" lang="en-US" sz="2800" spc="-1" strike="noStrike">
                <a:solidFill>
                  <a:srgbClr val="edc744"/>
                </a:solidFill>
                <a:latin typeface="Arial"/>
              </a:rPr>
              <a:t>CLL Study Group (GCLLSG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scher K et al.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cde7f3"/>
                </a:solidFill>
                <a:latin typeface="Arial"/>
              </a:rPr>
              <a:t>Proc ASH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2009;Abstract 205.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c744"/>
                </a:solidFill>
                <a:latin typeface="Arial"/>
              </a:rPr>
              <a:t>German Study of BR in CLL</a:t>
            </a:r>
            <a:r>
              <a:rPr b="1" lang="en-US" sz="2600" spc="-1" strike="noStrike">
                <a:solidFill>
                  <a:srgbClr val="ecbb33"/>
                </a:solidFill>
                <a:latin typeface="Arial"/>
              </a:rPr>
              <a:t>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027"/>
          <p:cNvSpPr/>
          <p:nvPr/>
        </p:nvSpPr>
        <p:spPr>
          <a:xfrm>
            <a:off x="380880" y="644508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scher K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c AS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9;Abstract 20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33"/>
          <p:cNvSpPr/>
          <p:nvPr/>
        </p:nvSpPr>
        <p:spPr>
          <a:xfrm>
            <a:off x="380880" y="1371600"/>
            <a:ext cx="8305920" cy="373392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1592280"/>
          <a:ext cx="7848720" cy="3303720"/>
        </p:xfrm>
        <a:graphic>
          <a:graphicData uri="http://schemas.openxmlformats.org/drawingml/2006/table">
            <a:tbl>
              <a:tblPr/>
              <a:tblGrid>
                <a:gridCol w="5181840"/>
                <a:gridCol w="26668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17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verall response 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9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256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lete remission 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rogression-free survival (after 18 month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ot reach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ＭＳ Ｐゴシック"/>
                        </a:rPr>
                        <a:t>&gt;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 3 leukopen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ＭＳ Ｐゴシック"/>
                        </a:rPr>
                        <a:t>&gt;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 3 neutropen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ＭＳ Ｐゴシック"/>
                        </a:rPr>
                        <a:t>&gt;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 3 infe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2"/>
          <p:cNvSpPr/>
          <p:nvPr/>
        </p:nvSpPr>
        <p:spPr>
          <a:xfrm flipV="1">
            <a:off x="4724280" y="3123720"/>
            <a:ext cx="60984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4724280" y="4114800"/>
            <a:ext cx="60984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609480" y="2895480"/>
            <a:ext cx="3733920" cy="25146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38"/>
          <p:cNvSpPr/>
          <p:nvPr/>
        </p:nvSpPr>
        <p:spPr>
          <a:xfrm>
            <a:off x="609480" y="2438280"/>
            <a:ext cx="3733920" cy="457200"/>
          </a:xfrm>
          <a:prstGeom prst="rect">
            <a:avLst/>
          </a:prstGeom>
          <a:solidFill>
            <a:srgbClr val="0d65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igi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685800" y="2971800"/>
            <a:ext cx="3505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treated Binet C CLL or Binet A/B w/o B-symptoms, progressive lymphocytosis, marrow failure; massive, progressive or painful splenomegaly; massive lymph nodes or nodal clus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17p deletion by F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5334120" y="2819520"/>
            <a:ext cx="3352680" cy="6858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C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5334120" y="4267080"/>
            <a:ext cx="3352680" cy="6858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tle 14"/>
          <p:cNvSpPr/>
          <p:nvPr/>
        </p:nvSpPr>
        <p:spPr>
          <a:xfrm>
            <a:off x="53352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cbb33"/>
                </a:solidFill>
                <a:latin typeface="Arial"/>
              </a:rPr>
              <a:t>Phase III Trial of Combined Immunochemotherapy with FCR versus BR in Previously Untreated CLL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535680" y="18288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adee4"/>
                </a:solidFill>
                <a:latin typeface="Arial"/>
                <a:ea typeface="ＭＳ Ｐゴシック"/>
              </a:rPr>
              <a:t>Target Accrual = 550 (op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07880" y="6445080"/>
            <a:ext cx="37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ww.ClinicalTrials.gov, April 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962520" y="3581280"/>
            <a:ext cx="852480" cy="8510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304920" y="5805360"/>
            <a:ext cx="86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dee4"/>
                </a:solidFill>
                <a:latin typeface="Arial"/>
              </a:rPr>
              <a:t>German CLL Study Gro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5800" y="1143000"/>
            <a:ext cx="7772400" cy="518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c744"/>
                </a:solidFill>
                <a:latin typeface="Arial"/>
              </a:rPr>
              <a:t>Complementary Strategies </a:t>
            </a:r>
            <a:br>
              <a:rPr sz="4000"/>
            </a:br>
            <a:r>
              <a:rPr b="1" lang="en-US" sz="4000" spc="-1" strike="noStrike">
                <a:solidFill>
                  <a:srgbClr val="edc744"/>
                </a:solidFill>
                <a:latin typeface="Arial"/>
              </a:rPr>
              <a:t>in End-of-Life C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39:11Z</dcterms:created>
  <dc:creator>Research To Practice</dc:creator>
  <dc:description/>
  <cp:keywords/>
  <dc:language>en-US</dc:language>
  <cp:lastModifiedBy>Aura Herrmann</cp:lastModifiedBy>
  <cp:lastPrinted>2011-04-26T15:32:31Z</cp:lastPrinted>
  <dcterms:modified xsi:type="dcterms:W3CDTF">2011-08-11T22:07:27Z</dcterms:modified>
  <cp:revision>342</cp:revision>
  <dc:subject/>
  <dc:title>PowerPoint Presentation</dc:title>
</cp:coreProperties>
</file>