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F1B-0BFF-40B8-B4A9-25CD746C1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A90A-C5C0-4AF3-9726-50F972B9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979-4AE9-4907-8828-8D44617F29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26D-7287-4AED-AF80-F699787F7B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3859-444A-4478-8CB3-3A95AE413D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E802-1D3A-485B-9958-E11BFAF7A9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BB16-85E5-40CD-A0A4-DD890EAFBA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936-3D29-4630-9339-8F14973FF6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0606-938B-4D48-9D20-1785A1825A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B87E-C28C-4947-89F4-A9B8904EF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6B0-0929-4509-8E96-8B28A793EF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ABE-2254-4B77-BD51-89157521D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0A4-EECC-408D-9AFD-730985D37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740D-9DEF-4E4A-910D-494CCEBB6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DC0B-EDDF-4607-9E13-BAB28A1D4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C21E-0AA4-4B16-8000-B22E2FACEA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6C2-7242-4E93-B98C-C8F5F6BB5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EB4-BC52-4ACF-BCAC-928E9EB6E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291F-9D34-4EA2-BC95-0AFD1D1736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99B-3027-4362-841C-3ABDA40A9C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F8B-7C79-4C7E-B38C-607EC814B3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D0B9-7F1A-4E00-89FF-BC97B8A5EE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FEA-1E1E-447E-921D-6346BCCE7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F348-E02D-4D5E-B8C7-CB7FB734A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504-871D-4382-AB03-066994FB6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46A2-7C2D-4475-B6C1-C3DBC9AA4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102-43B4-44BA-8A86-E1C45EE0B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40B8-6B4B-4D80-BBE8-672700D27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0AF7-8829-49F4-84B8-0535D96303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Indications for CNS prophylaxis in DLBC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Paranasal sinus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Testicular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Epidural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Bone marrow with large cell lymphoma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HIV lymphoma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≥ </a:t>
            </a: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2 extranodal sites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Complications of Intrathecal Chemotherap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cu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-265680"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Headache, nuchal rigidity, back pain, vomiting, feve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18960" indent="-318960"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ubacu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-265680"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araplegia, seizures, cranial nerve palsy, com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18960" indent="-318960"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La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-265680"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Leukoencephalopath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Hepatitis B Screening in Patients Receiving </a:t>
            </a:r>
            <a:br>
              <a:rPr sz="2500"/>
            </a:b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Anti-CD20 Antibody (Rituximab)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No risk factors: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Hepatitis B surface antigen and core antibod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isk factors or prior history of hepatitis B: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dd e-antige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f positive, check viral load and consult with gastroenterologis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31120" y="6019920"/>
            <a:ext cx="79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CN Clinical Practice Guidelines in Oncology, Non-Hodgkin’s Lymphomas, v2.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52280" y="6445080"/>
            <a:ext cx="46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esh O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28(2):292-98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1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325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6445080"/>
            <a:ext cx="46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esh O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28(2):292-98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1279440"/>
            <a:ext cx="7924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Insomnia Symptoms After First Cycle of Chemotherapy (N = 823) vs General Populat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05520" y="24382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omnia meeting clinical crite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insomnia symp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666880" y="5715000"/>
            <a:ext cx="2362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ancer Patient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876920" y="5715000"/>
            <a:ext cx="236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eneral Popul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0" y="3276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omni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ptom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1" descr="ONS_NHL_Palesh_Slide24"/>
          <p:cNvPicPr/>
          <p:nvPr/>
        </p:nvPicPr>
        <p:blipFill>
          <a:blip r:embed="rId1"/>
          <a:stretch/>
        </p:blipFill>
        <p:spPr>
          <a:xfrm>
            <a:off x="2590920" y="2484360"/>
            <a:ext cx="4640040" cy="3230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4952880" y="2514600"/>
            <a:ext cx="152640" cy="152280"/>
          </a:xfrm>
          <a:prstGeom prst="rect">
            <a:avLst/>
          </a:prstGeom>
          <a:solidFill>
            <a:srgbClr val="112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676520" y="2362320"/>
            <a:ext cx="9144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1"/>
          <p:cNvPicPr/>
          <p:nvPr/>
        </p:nvPicPr>
        <p:blipFill>
          <a:blip r:embed="rId1"/>
          <a:stretch/>
        </p:blipFill>
        <p:spPr>
          <a:xfrm>
            <a:off x="228600" y="1706400"/>
            <a:ext cx="8763120" cy="400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45" name="Rectangle 6"/>
          <p:cNvSpPr/>
          <p:nvPr/>
        </p:nvSpPr>
        <p:spPr>
          <a:xfrm>
            <a:off x="191160" y="6416640"/>
            <a:ext cx="416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hen L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100(10):2253-60.</a:t>
            </a:r>
            <a:r>
              <a:rPr b="0" lang="en-US" sz="2400" spc="-1" strike="noStrike">
                <a:solidFill>
                  <a:srgbClr val="e6852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398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9880" y="1981080"/>
          <a:ext cx="8304120" cy="2824200"/>
        </p:xfrm>
        <a:graphic>
          <a:graphicData uri="http://schemas.openxmlformats.org/drawingml/2006/table">
            <a:tbl>
              <a:tblPr/>
              <a:tblGrid>
                <a:gridCol w="830412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1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Diffuse Large B-Cell Lymphoma (DLBC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2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Follicular Lymphoma (F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3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Mantle-Cell Lymphoma (MC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4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Chronic Lymphocytic Leukemia (CL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1 (Ms Mora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66 yo man with syncope, leg pain and a 10- x 6-cm mass identified in the right thigh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iopsy = DLBCL with BM involvemen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Workup: CNS-negative but thrombosis posterior to leg mass, bilateral small PE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IVC filter plac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Disease in multiple nodes and skeleto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tandard R-CHOP and IT methotrexat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ransient cranial nerve palsies, now resolv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nterim PET/CT = response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CR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xperienced Rx-related stress and depression, with sleep disturbance, irritability and mood swing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94120" cy="344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449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1319040" y="1295280"/>
            <a:ext cx="65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R Thigh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406600" y="1219320"/>
            <a:ext cx="43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Right Ili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029200" cy="43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18560" y="121932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Ster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055960" y="1827360"/>
            <a:ext cx="502740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104200" y="12193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Right Scap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574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fc53d"/>
                </a:solidFill>
                <a:latin typeface="Arial"/>
              </a:rPr>
              <a:t>Sites of Extranodal Involvement in NH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tomach, GI trac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esti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one marrow/bon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72160" y="6019920"/>
            <a:ext cx="57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pez-Guillermo A et al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 J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5;23(12):2797-280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2"/>
          <p:cNvSpPr/>
          <p:nvPr/>
        </p:nvSpPr>
        <p:spPr>
          <a:xfrm>
            <a:off x="3392640" y="4110120"/>
            <a:ext cx="353520" cy="2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564160" y="6400800"/>
            <a:ext cx="330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6975360" y="4272120"/>
            <a:ext cx="1371600" cy="13716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-C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6975360" y="2443320"/>
            <a:ext cx="1371600" cy="13716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-I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6096600"/>
            <a:ext cx="83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ril 2011; Horning S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loo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0;115(4):775-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05320"/>
          <a:ext cx="2559240" cy="1150920"/>
        </p:xfrm>
        <a:graphic>
          <a:graphicData uri="http://schemas.openxmlformats.org/drawingml/2006/table">
            <a:tbl>
              <a:tblPr/>
              <a:tblGrid>
                <a:gridCol w="255924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Criteria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lky Stage II or Stage III/IV DLBC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18"/>
          <p:cNvSpPr/>
          <p:nvPr/>
        </p:nvSpPr>
        <p:spPr>
          <a:xfrm>
            <a:off x="818640" y="302724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rget Accrual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COG-E3404: Response-Adapted Therapy for Aggressive NHL Based on Early PET Scan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9880" y="3505320"/>
          <a:ext cx="1295640" cy="116676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116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to 4 Cyc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562720" y="3605040"/>
          <a:ext cx="914400" cy="91440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18" name="Line 12"/>
          <p:cNvSpPr/>
          <p:nvPr/>
        </p:nvSpPr>
        <p:spPr>
          <a:xfrm>
            <a:off x="5116680" y="4087800"/>
            <a:ext cx="353520" cy="2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6017400" y="3140280"/>
            <a:ext cx="804960" cy="5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56"/>
          <p:cNvSpPr/>
          <p:nvPr/>
        </p:nvSpPr>
        <p:spPr>
          <a:xfrm>
            <a:off x="6018120" y="3129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6016680" y="4961160"/>
            <a:ext cx="762120" cy="5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6018120" y="451944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873760" y="3224160"/>
            <a:ext cx="274680" cy="274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5873760" y="4595760"/>
            <a:ext cx="274680" cy="274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Aura Herrmann</cp:lastModifiedBy>
  <cp:lastPrinted>2011-04-26T15:32:31Z</cp:lastPrinted>
  <dcterms:modified xsi:type="dcterms:W3CDTF">2011-08-11T22:04:27Z</dcterms:modified>
  <cp:revision>342</cp:revision>
  <dc:subject/>
  <dc:title>PowerPoint Presentation</dc:title>
</cp:coreProperties>
</file>