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BE6C-251C-4CEE-AC36-59955EAB4F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56E1-E222-4C73-BE1B-4E6F6D549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E2BF-9799-4D8D-9BBD-EC1798932D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1D59-9655-45C1-9471-0BF2AB9FF9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5320-F538-4C37-8DA1-B977B1800F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94C8-9BD8-40BC-BB8B-C6A2676ADF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C9F3-FC13-4503-844C-5F317E109B1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C601-3221-49DC-AC02-065B06197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7E5D-46DD-4E41-B984-C3F9E4BE2A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83BA-F607-4F20-8D25-20723D33E0A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B575-00EE-4A42-8AF4-EA6428A5501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04D9-A7DD-4429-8818-878CBDDFC0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DBC9-70F8-4621-86BB-C77EC68A9DC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AFA7-89A0-4CF0-BCA4-DB5A3DE02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210D-709A-4BEE-9A83-AD5E27D92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6B0F-2BA4-4465-AC51-8E698C57A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043A-C893-41E6-B7B2-69AA98BF9B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F41A-890E-44EA-8B98-94933E613A7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5EE4-C436-48AF-BA92-91C05CFD3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24C9-2E5A-4FEF-A618-F420E22464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5680-D2C3-4325-911E-785EB379C98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7DAE-7E89-4745-B2FD-7C2543651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3AE1-0376-4DA5-B891-5D6A9DB26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A5E0-955F-40C4-8CA6-DCA6FC0AD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529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529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  <a:ea typeface="ＭＳ Ｐゴシック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bb1e"/>
                </a:solidFill>
                <a:latin typeface="Arial"/>
              </a:rPr>
              <a:t>Case 2 (Ms Goodrich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43 yo man with Stage IIA Grade I FL dx’d 2009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Initially observed but soon new bulky nodes 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R monotherapy x 4 wkly cycles </a:t>
            </a:r>
            <a:r>
              <a:rPr b="0" lang="en-US" sz="25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 </a:t>
            </a:r>
            <a:br>
              <a:rPr sz="2500"/>
            </a:b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excellent PR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Progression in Feb 2010 </a:t>
            </a:r>
            <a:r>
              <a:rPr b="0" lang="en-US" sz="25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 R/bendamustine </a:t>
            </a:r>
            <a:br>
              <a:rPr sz="2500"/>
            </a:b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x 6 cycles </a:t>
            </a:r>
            <a:r>
              <a:rPr b="0" lang="en-US" sz="25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 excellent PR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ubstantial N/V controlled with antiemetics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ontinues on R maintenance q 2 mos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amily member with ? re: CAM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Patient is a binge alcohol drinker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440" y="21333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37"/>
              </a:spcBef>
              <a:buClr>
                <a:srgbClr val="ecb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cbb1e"/>
                </a:solidFill>
                <a:latin typeface="Arial"/>
              </a:rPr>
              <a:t>Two years of treatment: every 8 weeks</a:t>
            </a:r>
            <a:endParaRPr b="0" lang="en-US" sz="26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1137"/>
              </a:spcBef>
              <a:buClr>
                <a:srgbClr val="ecb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cbb1e"/>
                </a:solidFill>
                <a:latin typeface="Arial"/>
              </a:rPr>
              <a:t>3-year progression-free survival</a:t>
            </a:r>
            <a:r>
              <a:rPr b="0" lang="en-US" sz="2600" spc="-1" strike="noStrike">
                <a:solidFill>
                  <a:srgbClr val="9cb52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0"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be0e3"/>
                </a:solidFill>
                <a:latin typeface="Arial"/>
              </a:rPr>
              <a:t>R maintenance: 79%   Control: 60%</a:t>
            </a:r>
            <a:endParaRPr b="0" lang="en-US" sz="26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1137"/>
              </a:spcBef>
              <a:buClr>
                <a:srgbClr val="ecb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cbb1e"/>
                </a:solidFill>
                <a:latin typeface="Arial"/>
              </a:rPr>
              <a:t>Gr 3-4 infection</a:t>
            </a:r>
            <a:endParaRPr b="0" lang="en-US" sz="26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0"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de7f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de7f3"/>
                </a:solidFill>
                <a:latin typeface="Arial"/>
              </a:rPr>
              <a:t>R maintenance: 4%     Control: 1%</a:t>
            </a:r>
            <a:endParaRPr b="0" lang="en-US" sz="26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1137"/>
              </a:spcBef>
              <a:buClr>
                <a:srgbClr val="ecb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cbb1e"/>
                </a:solidFill>
                <a:latin typeface="Arial"/>
              </a:rPr>
              <a:t>Treatment discontinued</a:t>
            </a:r>
            <a:endParaRPr b="0" lang="en-US" sz="26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0"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de7f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de7f3"/>
                </a:solidFill>
                <a:latin typeface="Arial"/>
              </a:rPr>
              <a:t>R maintenance: 4%     Control: 2%</a:t>
            </a:r>
            <a:endParaRPr b="0" lang="en-US" sz="26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68580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Rituximab Maintenance After R-Chemo: PRIMA Stu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1027"/>
          <p:cNvSpPr/>
          <p:nvPr/>
        </p:nvSpPr>
        <p:spPr>
          <a:xfrm>
            <a:off x="182520" y="6445080"/>
            <a:ext cx="749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alles GA et al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 Proc AS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2010;Abstract 1788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efc53d"/>
                </a:solidFill>
                <a:latin typeface="Arial"/>
              </a:rPr>
              <a:t>Clinical Decision-Making Based on Risk versus Efficacy: Implications for Complementary Medicine Approaches</a:t>
            </a:r>
            <a:endParaRPr b="0" lang="en-US" sz="2100" spc="-1" strike="noStrike">
              <a:solidFill>
                <a:srgbClr val="cde7f3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752480" y="2133720"/>
          <a:ext cx="5867640" cy="3514680"/>
        </p:xfrm>
        <a:graphic>
          <a:graphicData uri="http://schemas.openxmlformats.org/drawingml/2006/table">
            <a:tbl>
              <a:tblPr/>
              <a:tblGrid>
                <a:gridCol w="2934000"/>
                <a:gridCol w="2933640"/>
              </a:tblGrid>
              <a:tr h="176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efc53d"/>
                          </a:solidFill>
                          <a:latin typeface="Arial"/>
                        </a:rPr>
                        <a:t>Safe but efficacy inconclusive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Tolerate, encourage caution, closely monitor effectivenes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efc53d"/>
                          </a:solidFill>
                          <a:latin typeface="Arial"/>
                        </a:rPr>
                        <a:t>Safe and efficaciou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Recommend and continue to monitor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6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efc53d"/>
                          </a:solidFill>
                          <a:latin typeface="Arial"/>
                        </a:rPr>
                        <a:t>Not efficacious and with serious risk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Avoid and actively discourage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efc53d"/>
                          </a:solidFill>
                          <a:latin typeface="Arial"/>
                        </a:rPr>
                        <a:t>Efficacious but safety inconclusive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Consider tolerating, encourage caution, closely monitor safety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Rectangle 14"/>
          <p:cNvSpPr/>
          <p:nvPr/>
        </p:nvSpPr>
        <p:spPr>
          <a:xfrm>
            <a:off x="228600" y="373392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15"/>
          <p:cNvSpPr/>
          <p:nvPr/>
        </p:nvSpPr>
        <p:spPr>
          <a:xfrm>
            <a:off x="3886560" y="5943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ffica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16"/>
          <p:cNvSpPr/>
          <p:nvPr/>
        </p:nvSpPr>
        <p:spPr>
          <a:xfrm>
            <a:off x="1241280" y="530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17"/>
          <p:cNvSpPr/>
          <p:nvPr/>
        </p:nvSpPr>
        <p:spPr>
          <a:xfrm flipV="1">
            <a:off x="1295280" y="2438280"/>
            <a:ext cx="0" cy="3200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18"/>
          <p:cNvSpPr/>
          <p:nvPr/>
        </p:nvSpPr>
        <p:spPr>
          <a:xfrm>
            <a:off x="1752480" y="594360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8"/>
          <p:cNvSpPr/>
          <p:nvPr/>
        </p:nvSpPr>
        <p:spPr>
          <a:xfrm>
            <a:off x="304920" y="3049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Patient Checklist of Supplements Being 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5" descr="ONS_NHL_PatientSuppList_S3"/>
          <p:cNvPicPr/>
          <p:nvPr/>
        </p:nvPicPr>
        <p:blipFill>
          <a:blip r:embed="rId1"/>
          <a:srcRect l="0" t="0" r="335" b="0"/>
          <a:stretch/>
        </p:blipFill>
        <p:spPr>
          <a:xfrm>
            <a:off x="1828800" y="1085760"/>
            <a:ext cx="5659560" cy="531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7"/>
          <p:cNvSpPr/>
          <p:nvPr/>
        </p:nvSpPr>
        <p:spPr>
          <a:xfrm>
            <a:off x="4042800" y="4667400"/>
            <a:ext cx="114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Facul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3406680" y="3962520"/>
            <a:ext cx="23288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Moderato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il Love, M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304920" y="1371600"/>
            <a:ext cx="85341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Real-Life Oncology</a:t>
            </a:r>
            <a:br>
              <a:rPr sz="2800"/>
            </a:br>
            <a:br>
              <a:rPr sz="1400"/>
            </a:b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Case-Based Discussions on the Biopsychosocial Management of Patients with Non-Hodgkin Lymphoma</a:t>
            </a:r>
            <a:br>
              <a:rPr sz="2400"/>
            </a:br>
            <a:br>
              <a:rPr sz="1400"/>
            </a:b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Friday, April 29, 2011</a:t>
            </a:r>
            <a:br>
              <a:rPr sz="2400"/>
            </a:br>
            <a:r>
              <a:rPr b="1" lang="en-US" sz="2400" spc="-1" strike="noStrike">
                <a:solidFill>
                  <a:srgbClr val="bbe0e3"/>
                </a:solidFill>
                <a:latin typeface="Arial"/>
                <a:ea typeface="ＭＳ Ｐゴシック"/>
              </a:rPr>
              <a:t>Boston, Massachuse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464000" y="51055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ollie Moran, MSN, CNP, AOCN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itchell R Smith, MD, Ph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1221120" y="5105520"/>
            <a:ext cx="293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ary Deng, MD, Ph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my Goodrich, CRNP-A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Clinical Decision-Making Based on Risk versus Efficacy: Implications for Complementary Medicine Approaches</a:t>
            </a:r>
            <a:endParaRPr b="0" lang="en-US" sz="2000" spc="-1" strike="noStrike">
              <a:solidFill>
                <a:srgbClr val="cde7f3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752480" y="2133720"/>
          <a:ext cx="5867640" cy="3403440"/>
        </p:xfrm>
        <a:graphic>
          <a:graphicData uri="http://schemas.openxmlformats.org/drawingml/2006/table">
            <a:tbl>
              <a:tblPr/>
              <a:tblGrid>
                <a:gridCol w="2934000"/>
                <a:gridCol w="2933640"/>
              </a:tblGrid>
              <a:tr h="17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fc53d"/>
                          </a:solidFill>
                          <a:latin typeface="Arial"/>
                          <a:ea typeface="ＭＳ Ｐゴシック"/>
                        </a:rPr>
                        <a:t>Safe but efficacy inconclus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de7f3"/>
                          </a:solidFill>
                          <a:latin typeface="Arial"/>
                          <a:ea typeface="ＭＳ Ｐゴシック"/>
                        </a:rPr>
                        <a:t>Tolerate, encourage caution, closely monitor effectiven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fc53d"/>
                          </a:solidFill>
                          <a:latin typeface="Arial"/>
                          <a:ea typeface="ＭＳ Ｐゴシック"/>
                        </a:rPr>
                        <a:t>Safe and efficacio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de7f3"/>
                          </a:solidFill>
                          <a:latin typeface="Arial"/>
                          <a:ea typeface="ＭＳ Ｐゴシック"/>
                        </a:rPr>
                        <a:t>Recommend and continue to moni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fc53d"/>
                          </a:solidFill>
                          <a:latin typeface="Arial"/>
                          <a:ea typeface="ＭＳ Ｐゴシック"/>
                        </a:rPr>
                        <a:t>Not efficacious and with serious ris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de7f3"/>
                          </a:solidFill>
                          <a:latin typeface="Arial"/>
                          <a:ea typeface="ＭＳ Ｐゴシック"/>
                        </a:rPr>
                        <a:t>Avoid and actively discour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fc53d"/>
                          </a:solidFill>
                          <a:latin typeface="Arial"/>
                          <a:ea typeface="ＭＳ Ｐゴシック"/>
                        </a:rPr>
                        <a:t>Efficacious but safety inconclus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de7f3"/>
                          </a:solidFill>
                          <a:latin typeface="Arial"/>
                          <a:ea typeface="ＭＳ Ｐゴシック"/>
                        </a:rPr>
                        <a:t>Consider tolerating, encourage caution, closely monitor safe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Rectangle 14"/>
          <p:cNvSpPr/>
          <p:nvPr/>
        </p:nvSpPr>
        <p:spPr>
          <a:xfrm>
            <a:off x="228600" y="373392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3886560" y="5943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ffica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1241280" y="530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17"/>
          <p:cNvSpPr/>
          <p:nvPr/>
        </p:nvSpPr>
        <p:spPr>
          <a:xfrm flipV="1">
            <a:off x="1295280" y="2438280"/>
            <a:ext cx="0" cy="3200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18"/>
          <p:cNvSpPr/>
          <p:nvPr/>
        </p:nvSpPr>
        <p:spPr>
          <a:xfrm>
            <a:off x="1752480" y="594360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1"/>
          <p:cNvPicPr/>
          <p:nvPr/>
        </p:nvPicPr>
        <p:blipFill>
          <a:blip r:embed="rId1"/>
          <a:stretch/>
        </p:blipFill>
        <p:spPr>
          <a:xfrm>
            <a:off x="1371600" y="1360440"/>
            <a:ext cx="6324480" cy="4735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90" name="Rectangle 5"/>
          <p:cNvSpPr/>
          <p:nvPr/>
        </p:nvSpPr>
        <p:spPr>
          <a:xfrm>
            <a:off x="176760" y="6445080"/>
            <a:ext cx="43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deshna KM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roc AS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10;Abstract 6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447920" y="1665360"/>
            <a:ext cx="6172200" cy="137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 Intergroup Randomised Trial of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ituximab vs a Watch &amp; Wait Approach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Patients with Advanced Stage,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symptomatic, Non-Bulky Follicular Lymphoma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447920" y="3189240"/>
            <a:ext cx="6172200" cy="59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Kirit M Ardeshna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, Paul Smith, Wendi Qian, June Warden, Lindsey Stevens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ristopher FE Pocock, Fiona Miall, David Cunningham, John Davies, Andrew Jack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an Walewski, A Burhan Ferhanoglu, Ken Bradstock and David C Linch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8" descr="ONS_NHL_Ardeshna_Slide19"/>
          <p:cNvPicPr/>
          <p:nvPr/>
        </p:nvPicPr>
        <p:blipFill>
          <a:blip r:embed="rId1"/>
          <a:stretch/>
        </p:blipFill>
        <p:spPr>
          <a:xfrm>
            <a:off x="2438280" y="2198520"/>
            <a:ext cx="5715000" cy="31482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80880" y="990720"/>
            <a:ext cx="5715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Time to Initiation of New Therap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04920" y="6095880"/>
            <a:ext cx="7543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ith permission fro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Verdana"/>
              </a:rPr>
              <a:t>Ardeshna KM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Verdana"/>
              </a:rPr>
              <a:t>Proc ASH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Verdana"/>
              </a:rPr>
              <a:t>2010;Abstract 6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531720" y="2897280"/>
            <a:ext cx="157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304920" y="3033720"/>
            <a:ext cx="186696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opor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of pati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i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no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ne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reat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niti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2558880" y="5653080"/>
            <a:ext cx="573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Years from randomis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2743200" y="4114800"/>
            <a:ext cx="62485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% requiring Rx at 3 yr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en-US" sz="1500" spc="-1" strike="noStrike">
                <a:solidFill>
                  <a:srgbClr val="ecbb33"/>
                </a:solidFill>
                <a:latin typeface="Verdana"/>
              </a:rPr>
              <a:t>Watch and Wait = 52%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cbb33"/>
                </a:solidFill>
                <a:latin typeface="Verdana"/>
              </a:rPr>
              <a:t>          </a:t>
            </a:r>
            <a:r>
              <a:rPr b="1" lang="en-US" sz="1500" spc="-1" strike="noStrike">
                <a:solidFill>
                  <a:srgbClr val="ecbb33"/>
                </a:solidFill>
                <a:latin typeface="Verdana"/>
              </a:rPr>
              <a:t>Rituximab = 20%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cbb33"/>
                </a:solidFill>
                <a:latin typeface="Verdana"/>
              </a:rPr>
              <a:t>          </a:t>
            </a:r>
            <a:r>
              <a:rPr b="1" lang="en-US" sz="1500" spc="-1" strike="noStrike">
                <a:solidFill>
                  <a:srgbClr val="ecbb33"/>
                </a:solidFill>
                <a:latin typeface="Verdana"/>
              </a:rPr>
              <a:t>Rituximab and maintenance rituximab = 9%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1973160" y="2075040"/>
            <a:ext cx="657360" cy="36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1.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0.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0.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0.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0.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0.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0.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0.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0.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0.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0.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2424240" y="5335560"/>
            <a:ext cx="60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0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   1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      2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          3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              4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                  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23"/>
          <p:cNvSpPr/>
          <p:nvPr/>
        </p:nvSpPr>
        <p:spPr>
          <a:xfrm>
            <a:off x="2819520" y="4419720"/>
            <a:ext cx="457200" cy="0"/>
          </a:xfrm>
          <a:prstGeom prst="line">
            <a:avLst/>
          </a:prstGeom>
          <a:ln w="22320">
            <a:solidFill>
              <a:srgbClr val="122e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24"/>
          <p:cNvSpPr/>
          <p:nvPr/>
        </p:nvSpPr>
        <p:spPr>
          <a:xfrm>
            <a:off x="2819520" y="4648320"/>
            <a:ext cx="457200" cy="0"/>
          </a:xfrm>
          <a:prstGeom prst="line">
            <a:avLst/>
          </a:prstGeom>
          <a:ln w="22320">
            <a:solidFill>
              <a:srgbClr val="e16d3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25"/>
          <p:cNvSpPr/>
          <p:nvPr/>
        </p:nvSpPr>
        <p:spPr>
          <a:xfrm>
            <a:off x="2819520" y="4876920"/>
            <a:ext cx="457200" cy="0"/>
          </a:xfrm>
          <a:prstGeom prst="line">
            <a:avLst/>
          </a:prstGeom>
          <a:ln w="22320">
            <a:solidFill>
              <a:srgbClr val="cbcd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62"/>
              </a:spcBef>
              <a:buClr>
                <a:srgbClr val="cade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adee4"/>
                </a:solidFill>
                <a:latin typeface="Arial"/>
              </a:rPr>
              <a:t>R-CHOP (rituximab, cyclophosphamide, doxorubicin, vincristine, prednisone)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62"/>
              </a:spcBef>
              <a:buClr>
                <a:srgbClr val="cade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adee4"/>
                </a:solidFill>
                <a:latin typeface="Arial"/>
              </a:rPr>
              <a:t>BR (bendamustine, rituximab)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62"/>
              </a:spcBef>
              <a:buClr>
                <a:srgbClr val="cade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adee4"/>
                </a:solidFill>
                <a:latin typeface="Arial"/>
              </a:rPr>
              <a:t>R-CVP (rituximab, cyclophosphamide, vincristine, prednisone)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62"/>
              </a:spcBef>
              <a:buClr>
                <a:srgbClr val="cade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adee4"/>
                </a:solidFill>
                <a:latin typeface="Arial"/>
              </a:rPr>
              <a:t>Rituximab monotherapy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457200" y="10666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dc744"/>
                </a:solidFill>
                <a:latin typeface="Arial"/>
              </a:rPr>
              <a:t>Common Options for Initial Systemic Treatment of FL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3"/>
          <p:cNvSpPr/>
          <p:nvPr/>
        </p:nvSpPr>
        <p:spPr>
          <a:xfrm>
            <a:off x="434880" y="2286000"/>
            <a:ext cx="8272440" cy="335268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9480" y="2514600"/>
          <a:ext cx="7925040" cy="2895480"/>
        </p:xfrm>
        <a:graphic>
          <a:graphicData uri="http://schemas.openxmlformats.org/drawingml/2006/table">
            <a:tbl>
              <a:tblPr/>
              <a:tblGrid>
                <a:gridCol w="3533760"/>
                <a:gridCol w="2221200"/>
                <a:gridCol w="2170080"/>
              </a:tblGrid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58-year-ol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75-year-ol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R-CHOP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33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6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</a:tr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R-bendamustin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38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36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R-CVP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26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34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Rituximab monotherapy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3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24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</a:tr>
            </a:tbl>
          </a:graphicData>
        </a:graphic>
      </p:graphicFrame>
      <p:sp>
        <p:nvSpPr>
          <p:cNvPr id="110" name="Title 1"/>
          <p:cNvSpPr/>
          <p:nvPr/>
        </p:nvSpPr>
        <p:spPr>
          <a:xfrm>
            <a:off x="304920" y="114300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cbb1e"/>
                </a:solidFill>
                <a:latin typeface="Arial"/>
              </a:rPr>
              <a:t>What is currently your usual preferred regimen for a patient with FL who requires initial treatment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1027"/>
          <p:cNvSpPr/>
          <p:nvPr/>
        </p:nvSpPr>
        <p:spPr>
          <a:xfrm>
            <a:off x="152280" y="6019920"/>
            <a:ext cx="749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tterns of Care in Medical Oncology: Management of NHL and CLL 201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c53d"/>
                </a:solidFill>
                <a:latin typeface="Arial"/>
              </a:rPr>
              <a:t>Bendamustine plus Rituximab versus CHOP </a:t>
            </a:r>
            <a:br>
              <a:rPr sz="2800"/>
            </a:br>
            <a:r>
              <a:rPr b="1" lang="en-US" sz="2800" spc="-1" strike="noStrike">
                <a:solidFill>
                  <a:srgbClr val="efc53d"/>
                </a:solidFill>
                <a:latin typeface="Arial"/>
              </a:rPr>
              <a:t>plus Rituximab in the First-Line Treatment of Patients with Indolent and Mantle Cell Lymphoma — Final Results of a Randomized Phase III Study of the StiL (Study Group </a:t>
            </a:r>
            <a:br>
              <a:rPr sz="2800"/>
            </a:br>
            <a:r>
              <a:rPr b="1" lang="en-US" sz="2800" spc="-1" strike="noStrike">
                <a:solidFill>
                  <a:srgbClr val="efc53d"/>
                </a:solidFill>
                <a:latin typeface="Arial"/>
              </a:rPr>
              <a:t>indolent Lymphomas, Germany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09120" y="4800600"/>
            <a:ext cx="807732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Rummel MJ et al. 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ASH Meeting December 2009 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German Trial of R-CHOP vs BR 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1027"/>
          <p:cNvSpPr/>
          <p:nvPr/>
        </p:nvSpPr>
        <p:spPr>
          <a:xfrm>
            <a:off x="182520" y="6445080"/>
            <a:ext cx="749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ummel MJ et al. ASCO/ASH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010 Joint Sess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33"/>
          <p:cNvSpPr/>
          <p:nvPr/>
        </p:nvSpPr>
        <p:spPr>
          <a:xfrm>
            <a:off x="393840" y="1447920"/>
            <a:ext cx="8354880" cy="457200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47640" y="1689120"/>
          <a:ext cx="7848720" cy="4091040"/>
        </p:xfrm>
        <a:graphic>
          <a:graphicData uri="http://schemas.openxmlformats.org/drawingml/2006/table">
            <a:tbl>
              <a:tblPr/>
              <a:tblGrid>
                <a:gridCol w="4071960"/>
                <a:gridCol w="1881360"/>
                <a:gridCol w="1895400"/>
              </a:tblGrid>
              <a:tr h="43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R-CHOP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BR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</a:tr>
              <a:tr h="61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rogression-free survival </a:t>
                      </a:r>
                      <a:br>
                        <a:rPr sz="1900"/>
                      </a:b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35 months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35 mo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55 mo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256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eutropeni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46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1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</a:tr>
              <a:tr h="61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lopeci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+++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-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</a:tr>
              <a:tr h="61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aresthesia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29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7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</a:tr>
              <a:tr h="61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rythem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9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5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llergic reaction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6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37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</a:tr>
            </a:tbl>
          </a:graphicData>
        </a:graphic>
      </p:graphicFrame>
      <p:sp>
        <p:nvSpPr>
          <p:cNvPr id="118" name="Rectangle 47"/>
          <p:cNvSpPr/>
          <p:nvPr/>
        </p:nvSpPr>
        <p:spPr>
          <a:xfrm>
            <a:off x="533520" y="2270160"/>
            <a:ext cx="8153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62"/>
              </a:spcBef>
              <a:buClr>
                <a:srgbClr val="cade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adee4"/>
                </a:solidFill>
                <a:latin typeface="Arial"/>
              </a:rPr>
              <a:t>R-CHOP (rituximab, cyclophosphamide, doxorubicin, vincristine, prednisone)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62"/>
              </a:spcBef>
              <a:buClr>
                <a:srgbClr val="cade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adee4"/>
                </a:solidFill>
                <a:latin typeface="Arial"/>
              </a:rPr>
              <a:t>BR (bendamustine, rituximab)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62"/>
              </a:spcBef>
              <a:buClr>
                <a:srgbClr val="cade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adee4"/>
                </a:solidFill>
                <a:latin typeface="Arial"/>
              </a:rPr>
              <a:t>R-CVP (rituximab, cyclophosphamide, vincristine, prednisone)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62"/>
              </a:spcBef>
              <a:buClr>
                <a:srgbClr val="cade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adee4"/>
                </a:solidFill>
                <a:latin typeface="Arial"/>
              </a:rPr>
              <a:t>Rituximab monotherapy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457200" y="12193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dc744"/>
                </a:solidFill>
                <a:latin typeface="Arial"/>
              </a:rPr>
              <a:t>Common Options for Initial Systemic Treatment of FL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dc744"/>
                </a:solidFill>
                <a:latin typeface="Arial"/>
              </a:rPr>
              <a:t>Implications for Patient Education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1219320"/>
            <a:ext cx="8077320" cy="25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c53d"/>
                </a:solidFill>
                <a:latin typeface="Arial"/>
              </a:rPr>
              <a:t>Updated Results of the PRIMA Study </a:t>
            </a:r>
            <a:br>
              <a:rPr sz="2800"/>
            </a:br>
            <a:r>
              <a:rPr b="1" lang="en-US" sz="2800" spc="-1" strike="noStrike">
                <a:solidFill>
                  <a:srgbClr val="efc53d"/>
                </a:solidFill>
                <a:latin typeface="Arial"/>
              </a:rPr>
              <a:t>Confirms the Benefit of 2-Years Rituximab Maintenance in Follicular Lymphoma Patients Responding to Immunochemotherap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38080" y="4190760"/>
            <a:ext cx="746784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alles GA et al. 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cde7f3"/>
                </a:solidFill>
                <a:latin typeface="Arial"/>
              </a:rPr>
              <a:t>Proc ASH 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2010;Abstract 1788.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21:39:11Z</dcterms:created>
  <dc:creator>Research To Practice</dc:creator>
  <dc:description/>
  <cp:keywords/>
  <dc:language>en-US</dc:language>
  <cp:lastModifiedBy>Aura Herrmann</cp:lastModifiedBy>
  <cp:lastPrinted>2011-04-26T15:32:31Z</cp:lastPrinted>
  <dcterms:modified xsi:type="dcterms:W3CDTF">2011-08-11T22:06:30Z</dcterms:modified>
  <cp:revision>342</cp:revision>
  <dc:subject/>
  <dc:title>PowerPoint Presentation</dc:title>
</cp:coreProperties>
</file>