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05BA6-3E65-4B13-9DA2-B76EA293D6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7F0FE-A4E8-487E-9AB5-39D74CE1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51736-DCAA-4066-9F76-AA2E8307D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D0E63-9BEB-45DA-BC11-F88A104533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BE17B-C4D0-46BA-A02C-B98F703B6D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6560" cy="480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8F8AF-9FDD-470F-9A50-F0F258CE6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80880" y="4343040"/>
            <a:ext cx="6475680" cy="34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C612B-B276-48AB-941D-C6A56675C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0681B-D38A-49F5-9C8E-E6BDEB6491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70C58-D9B4-4CEE-BBE0-C2C9C56252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65EF5-5F3E-44F2-BD52-32DC6B2DA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4771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2015B-BD77-4AE8-8620-F754D1B370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BBA2D-01CA-4C1A-8C59-B56FD8EF7C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62AC7-8AFB-4CE5-A2E6-E6B6351FFD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320" y="4343040"/>
            <a:ext cx="6400800" cy="38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2 (Ms Mill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w 91 yo man, dx’d with plasmacytoma 2 yrs prior with IgA lambda M-spik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l workup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ISS Stage I MM: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ß2 = 3.9 mg/L, albumin = 4.8 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ngle-agent lenalidomide 25 mg qd 21 of 28 day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decrease dose 20 mg for cytopenia in cycle 8 f/b sC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/C all treatment, including bisphosphonate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NED to prese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duction Treatment Options for Patients Not Eligible for Transpl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d (Lenalidomide, Low-Dose Dexametha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 (Melphalan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 (Bortezomib, Dexametha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T (Melphalan, Prednisone, Thalidomid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V (Melphalan, Prednisone, Bortezomi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R (Melphalan, Prednisone, Lenalidomid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TD or RVD (fit elderly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54520" y="56386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Education I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Very Elderly Patient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(Over Age 85) with Multiple Myelom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hould these patients receive anti-myeloma treatment?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nagement of the very elderly in th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ommunity setting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eemptive dose reduc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ian-Reported Responses to Initial Induction Regimens Over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266760" y="2228760"/>
            <a:ext cx="8610480" cy="36385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9040" y="2371680"/>
          <a:ext cx="8267760" cy="3303720"/>
        </p:xfrm>
        <a:graphic>
          <a:graphicData uri="http://schemas.openxmlformats.org/drawingml/2006/table">
            <a:tbl>
              <a:tblPr/>
              <a:tblGrid>
                <a:gridCol w="2095560"/>
                <a:gridCol w="1530360"/>
                <a:gridCol w="1616040"/>
                <a:gridCol w="1617840"/>
                <a:gridCol w="1407960"/>
              </a:tblGrid>
              <a:tr h="97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esponse to 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2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&lt;65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5-74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8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≥</a:t>
                      </a: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5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6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inimal response/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ian-Reported Tolerability of Initial Induction Regimens Over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266760" y="2228760"/>
            <a:ext cx="8610480" cy="36385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9040" y="2371680"/>
          <a:ext cx="8267760" cy="3371760"/>
        </p:xfrm>
        <a:graphic>
          <a:graphicData uri="http://schemas.openxmlformats.org/drawingml/2006/table">
            <a:tbl>
              <a:tblPr/>
              <a:tblGrid>
                <a:gridCol w="3162240"/>
                <a:gridCol w="1295640"/>
                <a:gridCol w="1295280"/>
                <a:gridCol w="1295280"/>
                <a:gridCol w="1219320"/>
              </a:tblGrid>
              <a:tr h="75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 side effect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nd toxic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26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&lt;65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9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5-74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9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de7f3"/>
                          </a:solidFill>
                          <a:uFillTx/>
                          <a:latin typeface="Arial"/>
                          <a:ea typeface="ヒラギノ角ゴ Pro W3"/>
                        </a:rPr>
                        <a:t>&gt;</a:t>
                      </a: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5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7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herapy went very well: Same or fewer problems than expec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herapy went pretty well: Minor or moderate problems, not difficult to man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ignificant problems that were difficult to man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ajor problems with significant consequ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1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06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fc53d"/>
                </a:solidFill>
                <a:latin typeface="Arial"/>
              </a:rPr>
              <a:t>Suggested Age-Adjusted Dose Reduction in Patients with M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120" y="6095880"/>
            <a:ext cx="579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lumbo A, Anderson K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1;364(11):1046-6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760320"/>
            <a:ext cx="7507440" cy="529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Arial"/>
              </a:rPr>
              <a:t>Assessing Patients’ </a:t>
            </a:r>
            <a:br>
              <a:rPr sz="3600"/>
            </a:br>
            <a:r>
              <a:rPr b="1" lang="en-US" sz="3600" spc="-1" strike="noStrike">
                <a:solidFill>
                  <a:srgbClr val="efc53d"/>
                </a:solidFill>
                <a:latin typeface="Arial"/>
              </a:rPr>
              <a:t>Life Goals and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22T18:56:29Z</dcterms:modified>
  <cp:revision>117</cp:revision>
  <dc:subject/>
  <dc:title>Slide 1</dc:title>
</cp:coreProperties>
</file>