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4479A-E7EE-4C68-893E-F0CA3CA632F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15684-A557-47EA-97FE-B5C19883F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0E814-5DC1-448E-94D9-84B68AF579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FD7E5-7CFE-4216-B5AD-1DDCD416A5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AD7FF-F918-49E1-A658-34F46BF938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0" y="4343040"/>
            <a:ext cx="6856560" cy="61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C351-DFCA-4556-AC32-22DF02E1C3F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14CF-C242-486B-B4D2-65B6A9280D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5EBD-61A6-4022-B9E9-BE52DCB4CA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430880" cy="31845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EA84D-A907-45A7-9F3A-C53353885B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-360" y="43434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267818F-05F0-4A98-8819-811E23DB41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600C9-C6D0-4E55-A6ED-2A71E4A516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ase 4 (Ms Miller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83 yo with bone pain and renal failure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(Cr = 6.03 mg/dL, BUN = 99 mg/dL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Workup: IgG lambda M-spike, lambda FLC 24,400 mg/d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Initiates VD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dramatic pain improvement, halving of Cr without dialysis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VGPR after 2 cycle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Management of Patients with Renal Failu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Acute management plan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Use of lenalidomid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hoice of bisphosphonat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Avoidance of NSAID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180720" y="5979960"/>
            <a:ext cx="46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le Myeloma Working Group, April 7-8, 201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What is your usual induction therapy for patients with renal dysfunction?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Investigator Respons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yBorD = 8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VD = 7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VDoxD = 2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VTD = 2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il Love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Real-Life Oncology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efc53d"/>
                </a:solidFill>
                <a:latin typeface="Arial"/>
              </a:rPr>
              <a:t>Case-Based Discussions on the Biopsychosocial Management of Patients with Multiple Myeloma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ヒラギノ角ゴ Pro W3"/>
              </a:rPr>
              <a:t>Saturday, April 30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Boston, Massachuset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038480" y="51055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opur Raje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ffany Richards, MS, ANP-BC, AOCN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15120" y="5105520"/>
            <a:ext cx="28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arol Ann Huff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na C Miller, MSN, FN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2031840"/>
            <a:ext cx="7010280" cy="3283200"/>
          </a:xfrm>
          <a:prstGeom prst="rect">
            <a:avLst/>
          </a:prstGeom>
          <a:ln w="0">
            <a:noFill/>
          </a:ln>
        </p:spPr>
      </p:pic>
      <p:sp>
        <p:nvSpPr>
          <p:cNvPr id="100" name="Title 1"/>
          <p:cNvSpPr/>
          <p:nvPr/>
        </p:nvSpPr>
        <p:spPr>
          <a:xfrm>
            <a:off x="71280" y="1201680"/>
            <a:ext cx="8975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MRC Myeloma IX Trial: Surviv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0"/>
          <p:cNvSpPr/>
          <p:nvPr/>
        </p:nvSpPr>
        <p:spPr>
          <a:xfrm>
            <a:off x="152280" y="606420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permission from Morgan G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801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2774880" y="53989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3886200" y="53989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4952880" y="53989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095880" y="5410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7194600" y="5410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8305920" y="5410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1075680" y="1949400"/>
            <a:ext cx="32076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876920" y="5668920"/>
            <a:ext cx="36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70920" y="3124080"/>
            <a:ext cx="1017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rvival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P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089"/>
          <p:cNvSpPr/>
          <p:nvPr/>
        </p:nvSpPr>
        <p:spPr>
          <a:xfrm>
            <a:off x="2218680" y="4419720"/>
            <a:ext cx="208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lodronate (n = 682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089"/>
          <p:cNvSpPr/>
          <p:nvPr/>
        </p:nvSpPr>
        <p:spPr>
          <a:xfrm>
            <a:off x="2196360" y="4703760"/>
            <a:ext cx="254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Zoledronic acid (n = 668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089"/>
          <p:cNvSpPr/>
          <p:nvPr/>
        </p:nvSpPr>
        <p:spPr>
          <a:xfrm>
            <a:off x="5896440" y="2254320"/>
            <a:ext cx="2096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HR = 0.82 (0.70-0.96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= 0.0107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671480" y="53989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traight Connector 63"/>
          <p:cNvSpPr/>
          <p:nvPr/>
        </p:nvSpPr>
        <p:spPr>
          <a:xfrm flipH="1" flipV="1">
            <a:off x="1904760" y="4543560"/>
            <a:ext cx="234000" cy="36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traight Connector 65"/>
          <p:cNvSpPr/>
          <p:nvPr/>
        </p:nvSpPr>
        <p:spPr>
          <a:xfrm flipH="1" flipV="1">
            <a:off x="1907280" y="4834080"/>
            <a:ext cx="234360" cy="360"/>
          </a:xfrm>
          <a:prstGeom prst="line">
            <a:avLst/>
          </a:prstGeom>
          <a:ln w="38160">
            <a:solidFill>
              <a:srgbClr val="eb91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Vertebral Compression Fractures Move Center of Gravity Forwar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2362320" y="1781280"/>
            <a:ext cx="4254480" cy="4394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16"/>
          <p:cNvGrpSpPr/>
          <p:nvPr/>
        </p:nvGrpSpPr>
        <p:grpSpPr>
          <a:xfrm>
            <a:off x="2057400" y="1257480"/>
            <a:ext cx="5028840" cy="5028840"/>
            <a:chOff x="2057400" y="1257480"/>
            <a:chExt cx="5028840" cy="5028840"/>
          </a:xfrm>
        </p:grpSpPr>
        <p:pic>
          <p:nvPicPr>
            <p:cNvPr id="120" name="Picture 2" descr=""/>
            <p:cNvPicPr/>
            <p:nvPr/>
          </p:nvPicPr>
          <p:blipFill>
            <a:blip r:embed="rId1"/>
            <a:srcRect l="1188" t="1904" r="1897" b="1152"/>
            <a:stretch/>
          </p:blipFill>
          <p:spPr>
            <a:xfrm>
              <a:off x="2057400" y="1257480"/>
              <a:ext cx="5028840" cy="502884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sp>
          <p:nvSpPr>
            <p:cNvPr id="121" name="Rectangle 15"/>
            <p:cNvSpPr/>
            <p:nvPr/>
          </p:nvSpPr>
          <p:spPr>
            <a:xfrm>
              <a:off x="5028120" y="1257480"/>
              <a:ext cx="2058120" cy="68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7:01:55Z</dcterms:created>
  <dc:creator>Michele Morgan</dc:creator>
  <dc:description/>
  <dc:language>en-US</dc:language>
  <cp:lastModifiedBy>Mac Pro E703803Y4PC</cp:lastModifiedBy>
  <cp:lastPrinted>2011-08-08T12:20:52Z</cp:lastPrinted>
  <dcterms:modified xsi:type="dcterms:W3CDTF">2011-08-08T12:20:54Z</dcterms:modified>
  <cp:revision>121</cp:revision>
  <dc:subject/>
  <dc:title>Slide 1</dc:title>
</cp:coreProperties>
</file>