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93728-C2E5-405B-9830-261E061538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E5917-4FDF-4F6D-9014-3BF66883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F4370-FD94-4AA7-8B47-A529DF34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E06EE-6ED2-4D5F-B09D-8F7730B8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29350-9854-4E20-B373-68D62A0E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0FD8E-1B2B-4D31-A777-381EF1E0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-360" y="43434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B2F07-E2D0-4DD1-B881-46B442EB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9A660-BF26-421E-91F0-E8A296A3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5FC31-0BD0-482F-9402-64EF53B8F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1A2BB-E4A3-43DD-AB59-F9B627DA7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65EFF-69AA-4ABB-B733-EEC89BAD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49424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80998-EDBC-4A2A-951E-CF474C34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-360" y="4343040"/>
            <a:ext cx="6172200" cy="43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6010A-D039-4DDD-99B8-81E3349C5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89E9B-0024-4057-9C31-83B7F01D5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307D7-8B43-4233-8856-6CA3E71FB9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5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B0B16-CF91-4950-A9FD-CF514C7D0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4DE8D-9D84-4A11-BB4A-712C4A59A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BE2F1-1526-4DAF-8DB4-D1207B803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-360" y="4267080"/>
            <a:ext cx="6553080" cy="46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CBEB2-ED3D-4C21-A7FA-181AEB2D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584EF-A6CE-4AC4-BC8D-C3B21C6E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40328-A1F8-4191-9A71-8BB5540D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BEC-11A1-410B-B8C4-E3664F9C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06F-DF4A-4DD5-BEE4-2057C04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F31-F0C9-4F3A-ACD8-06A19297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B1C-FDF7-4D9F-BEFA-900DD920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AD3-BB51-4782-A3EF-A437488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13A-B33D-4745-81CB-2B1CCE5A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36F-EFD6-4132-B49E-0F253D46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808-382B-4D90-B4E7-B5D9BE9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C58-FBE7-44DD-B431-7A04FD4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9DC-7BE7-4D8B-9FF8-98D8AD5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6F9-6391-4414-B763-1EAECC7D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808-8DA1-41F5-8490-3955327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5985C-56E9-4FF7-AA84-BBCA6571C43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E7E29-0A44-4C3E-A489-83923F9017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6" descr="RTP09_SlideBackground"/>
          <p:cNvPicPr/>
          <p:nvPr/>
        </p:nvPicPr>
        <p:blipFill>
          <a:blip r:embed="rId1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Real-Life Oncology</a:t>
            </a:r>
            <a:br>
              <a:rPr sz="1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Case-Based Discussions on the Biopsychosocial Management of Patients with Multiple Myeloma</a:t>
            </a:r>
            <a:br>
              <a:rPr sz="1800"/>
            </a:br>
            <a:br>
              <a:rPr sz="1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urday, April 30, 2011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ston, Massachuse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038480" y="5105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opur Raje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ffany Richards, MS, ANP-BC, AO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15120" y="51055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ol Ann Huff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a C Miller, MSN, F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447920" y="1447920"/>
          <a:ext cx="6858000" cy="4800600"/>
        </p:xfrm>
        <a:graphic>
          <a:graphicData uri="http://schemas.openxmlformats.org/drawingml/2006/table">
            <a:tbl>
              <a:tblPr/>
              <a:tblGrid>
                <a:gridCol w="3352680"/>
                <a:gridCol w="3505320"/>
              </a:tblGrid>
              <a:tr h="48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Lectur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elissa Alsina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William I Bensinge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Ivan Borrell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ristina Gasparett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rie A Gertz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arol Ann Huff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agar Lonial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Nikhil C Munshi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uben Niesvizky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ntonio Palumb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David S Siegel, MD, P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Edward A Stadtmaue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 Keith Stewart, MBC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Guido Tricot, MD, P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avi Vij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Jeffrey L Wolf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Jeffrey A Zonde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Presen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Elizabeth Bilotti, MSN, APRN, 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Warren S Brenner, MBB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harles M Farber, MD, P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Lyle Feinstei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William P Fusselma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hilip T Glyn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ric W Greenfield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teven J Hager,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David S Lesse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aymond L Lobins,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Jason Melea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obert A Mos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hachar Pele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iffany Richards, MS, ANP-BC, AOC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ark S Robbin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Elizabeth D Simmon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eter Ungar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42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Multiple Myeloma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Much Debated Topics in Multiple Myelo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 versus 3 drug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ytogenetics and FISH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bcutaneous bortezom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ost-transplant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reemptive dose reduction in el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rvival benefit with zoledronic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1 (Ms Richa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50 yo woman with RLE pain and paresthes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RI = sacral mass, biopsy = plasmacyt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ne marrow = 15-20% plasma cell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l cytogenetics/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P IFE = 2.8 g/dL IgG lambda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ß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= 2.1 mg/L, nl Ca, nl renal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ocal XRT to sacrum f/b CyBorD with VGPR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ASCT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maintenance lenalidom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3"/>
          <p:cNvSpPr/>
          <p:nvPr/>
        </p:nvSpPr>
        <p:spPr>
          <a:xfrm>
            <a:off x="266760" y="2286000"/>
            <a:ext cx="8610480" cy="35812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19040" y="2462040"/>
          <a:ext cx="8305920" cy="3229200"/>
        </p:xfrm>
        <a:graphic>
          <a:graphicData uri="http://schemas.openxmlformats.org/drawingml/2006/table">
            <a:tbl>
              <a:tblPr/>
              <a:tblGrid>
                <a:gridCol w="2595600"/>
                <a:gridCol w="2738520"/>
                <a:gridCol w="297180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noclonal Gammopathy of Undetermined Significance (MG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moldering (Asymptomatic) Myel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e (Symptomatic) Myel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20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rum M-protein &lt;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M plasma cells &lt;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rgan or tissue impairment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rum M-protein ≥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/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M plasma cells ≥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rgan or tissue impairment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quires ≥1 of the followi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ercalcem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al insufficien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em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one disease (lytic or osteope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MGUS versus Smoldering versus Active Myel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28" descr="ONC_Supplement_2010_MM_Figure2_v2fr"/>
          <p:cNvPicPr/>
          <p:nvPr/>
        </p:nvPicPr>
        <p:blipFill>
          <a:blip r:embed="rId1"/>
          <a:stretch/>
        </p:blipFill>
        <p:spPr>
          <a:xfrm>
            <a:off x="289080" y="2514600"/>
            <a:ext cx="8702640" cy="335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ross-Sectional Case Survey: Did You Initially Consider This Patient to Be a Candidate for Stem Cell Transplant? (n = 264 Assess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303840" y="591336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8"/>
          <p:cNvSpPr/>
          <p:nvPr/>
        </p:nvSpPr>
        <p:spPr>
          <a:xfrm>
            <a:off x="328680" y="685800"/>
            <a:ext cx="85611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efc53d"/>
                </a:solidFill>
                <a:latin typeface="Arial"/>
              </a:rPr>
              <a:t>Cross-Sectional Case Survey of 43 US Community Oncolog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efc53d"/>
                </a:solidFill>
                <a:latin typeface="Arial"/>
              </a:rPr>
              <a:t>Most Common Induction Regimens Used in Multiple Myel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9"/>
          <p:cNvSpPr/>
          <p:nvPr/>
        </p:nvSpPr>
        <p:spPr>
          <a:xfrm>
            <a:off x="304200" y="591336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efc5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266760" y="2319480"/>
            <a:ext cx="8610480" cy="31240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07880" y="2517840"/>
          <a:ext cx="8328240" cy="2730600"/>
        </p:xfrm>
        <a:graphic>
          <a:graphicData uri="http://schemas.openxmlformats.org/drawingml/2006/table">
            <a:tbl>
              <a:tblPr/>
              <a:tblGrid>
                <a:gridCol w="2043360"/>
                <a:gridCol w="2044440"/>
                <a:gridCol w="228600"/>
                <a:gridCol w="2005200"/>
                <a:gridCol w="2006640"/>
              </a:tblGrid>
              <a:tr h="546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nsplant eligible (n = 12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nsplant ineligible (n = 13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d/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V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1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V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d/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V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3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P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yBo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3e1f1"/>
                          </a:solidFill>
                          <a:latin typeface="Arial"/>
                          <a:ea typeface="ヒラギノ角ゴ Pro W3"/>
                        </a:rPr>
                        <a:t>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PV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12"/>
          <p:cNvSpPr/>
          <p:nvPr/>
        </p:nvSpPr>
        <p:spPr>
          <a:xfrm flipV="1">
            <a:off x="3429000" y="3429000"/>
            <a:ext cx="60948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429000" y="4114800"/>
            <a:ext cx="60948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609480" y="3657600"/>
            <a:ext cx="2362320" cy="99072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8"/>
          <p:cNvSpPr/>
          <p:nvPr/>
        </p:nvSpPr>
        <p:spPr>
          <a:xfrm>
            <a:off x="609480" y="3200400"/>
            <a:ext cx="23623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685800" y="38098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4114800" y="2057400"/>
            <a:ext cx="4572000" cy="1828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cycles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D cyclophosphamide + SC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cycles 4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enance lenalidomide x 12+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(HD melphalan + SCT at relap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4114800" y="4114800"/>
            <a:ext cx="4495680" cy="1828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cycles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D cyclophosphamide + SC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HD melphalan + AS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for additional 2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enance lenalidomide x 12+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4"/>
          <p:cNvSpPr/>
          <p:nvPr/>
        </p:nvSpPr>
        <p:spPr>
          <a:xfrm>
            <a:off x="533520" y="304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IFM/DFCI 2009: Phase III Study of RVD versus High-Dose Treatment with Stem Cell Transplant in the Initial Management of Multiple Myeloma in Patients </a:t>
            </a:r>
            <a:r>
              <a:rPr b="1" lang="en-US" sz="1800" spc="-1" strike="noStrike" u="sng">
                <a:solidFill>
                  <a:srgbClr val="efc53d"/>
                </a:solidFill>
                <a:uFillTx/>
                <a:latin typeface="Arial"/>
              </a:rPr>
              <a:t>&lt;</a:t>
            </a: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 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536400" y="182880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</a:rPr>
              <a:t>Target Accrual: 1,000 (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April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5"/>
          <p:cNvSpPr/>
          <p:nvPr/>
        </p:nvSpPr>
        <p:spPr>
          <a:xfrm>
            <a:off x="2590920" y="3505320"/>
            <a:ext cx="852480" cy="850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4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What specific cytogenetic or FISH findings constitute “high risk” so that treatment would be primarily altere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86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SH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del(17p)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(14;16)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(4;14)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(14;20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80720" y="597996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yeloma Working Group, April 7-8,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572000" y="2438280"/>
            <a:ext cx="4267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etaphase cytogene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del 1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hypodiploid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ny abnormal karyotyp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Lenalidomide Maintenance After Stem Cell Transpl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wo major trials reported (IFM, CALGB)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1,2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Greater progression-free survival with maintenanc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42 months vs 24 and 22 month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No improvement in survival at this early poin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Question of increase in second cancers?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4760" y="5979960"/>
            <a:ext cx="84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l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A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;Abstract 310;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Carthy PL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A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;Abstract 3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Counseling Younger Patients About What to Expect with a Diagnosis of Multiple Myelo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Information seeking attitude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Assessing the needs of family and loved ones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Providing information on prognosis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Pace of clinical research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6" descr="RTP09_SlideBackground"/>
          <p:cNvPicPr/>
          <p:nvPr/>
        </p:nvPicPr>
        <p:blipFill>
          <a:blip r:embed="rId1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98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46000" y="2286000"/>
          <a:ext cx="8304120" cy="2913120"/>
        </p:xfrm>
        <a:graphic>
          <a:graphicData uri="http://schemas.openxmlformats.org/drawingml/2006/table">
            <a:tbl>
              <a:tblPr/>
              <a:tblGrid>
                <a:gridCol w="830412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1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Induction, Transplant and Post-Transplant Maintenan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2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Long-Term Management of Older Patients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             Who Are Not Transplant Eligib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3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rogressive Treatment for Relapsed MM and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            End-of-Life Ca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4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enal Insufficiency and Pain Management in M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6" descr="RTP09_SlideBackground"/>
          <p:cNvPicPr/>
          <p:nvPr/>
        </p:nvPicPr>
        <p:blipFill>
          <a:blip r:embed="rId1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6" descr="1"/>
          <p:cNvPicPr/>
          <p:nvPr/>
        </p:nvPicPr>
        <p:blipFill>
          <a:blip r:embed="rId2"/>
          <a:stretch/>
        </p:blipFill>
        <p:spPr>
          <a:xfrm>
            <a:off x="685800" y="1219320"/>
            <a:ext cx="7772400" cy="506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MMSummit6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26" descr="MMSummit6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27"/>
          <p:cNvSpPr/>
          <p:nvPr/>
        </p:nvSpPr>
        <p:spPr>
          <a:xfrm>
            <a:off x="0" y="5943600"/>
            <a:ext cx="9144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Myeloma Working Group, Miami,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il 7th and 8th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27" descr="MMSummit4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27" descr="MMSummit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28" descr="IMG_760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IMG_734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dcterms:modified xsi:type="dcterms:W3CDTF">2011-07-15T19:47:13Z</dcterms:modified>
  <cp:revision>119</cp:revision>
  <dc:subject/>
  <dc:title>Slide 1</dc:title>
</cp:coreProperties>
</file>