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46B4-BA9C-4341-B5AF-88EF078116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6596-8C24-458F-9FA1-149911D6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E0AD-787C-45EB-A821-792D297C3F6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FDB-6F78-4A05-BB9E-82E8ACE8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191B-3E69-4FF0-8091-93BC3A8C8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D75C-5F37-4BD1-B756-5C060930E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90360" y="4349520"/>
            <a:ext cx="4932360" cy="43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4 (Ms Lits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59 yo with remote h/o Stage II BC treated surgically without adjuvant Rx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1998 = bone metastases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 multiple lines of endocrine Rx plus bisphosphonate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0 = still bone only but surgical interventions for pain, and capecitabine start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440" y="2992320"/>
            <a:ext cx="80010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enosumab: subcutaneous, Zoledronic acid: IV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Denosumab may be used in patients with renal dysfunction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ewer skeletal events with denosumab (18% reduction in time to first event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ONJ: Denosumab (2.5%), zoledronic acid (1.8%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5800" y="685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Bone-Targeted Treatment in Metastatic Breast Cancer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Denosumab versus Zoledron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560" y="510552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hy D Miller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 Lita Smith, RN, A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41320" y="51055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ncy U Lin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orgia Litsas, MSN, ANP-BC, AO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07T17:49:58Z</dcterms:modified>
  <cp:revision>475</cp:revision>
  <dc:subject/>
  <dc:title>PowerPoint Presentation</dc:title>
</cp:coreProperties>
</file>