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9459-9C48-4EF1-85C6-001AA25E8D6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3A03-D73A-4D4D-8CD2-17EE4371F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53BE-DACD-4026-81E6-353171B07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DD6A-7C96-48A0-A4FE-A8C18F506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D174-6EFC-4C8B-80E0-E4DC02582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B09E-2B2E-49E2-8CAE-B92DBD0E6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6919-A6AD-47D0-8ED6-3F4A21973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74EA-311C-47DF-A0CD-CF4B2A80CC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063C-D5EB-4922-B833-CA9DBE43E2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529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  <a:ea typeface="ＭＳ Ｐゴシック"/>
              </a:rPr>
              <a:t>Copyright © 2011 Research To Practice. All rights reserv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Case 2 (Ms Litsa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38 yo Hispanic woman dx'd in 2007 with large TNBC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Neoadjuvant AC-T </a:t>
            </a:r>
            <a:r>
              <a:rPr b="0" lang="en-US" sz="24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 lumpectomy, ALND and local XRT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Genetic testing = BRCA2+ </a:t>
            </a:r>
            <a:r>
              <a:rPr b="0" lang="en-US" sz="24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 bilateral oophorectomy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2009 = visceral and bone recurrence with poor response to multiple regimens: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Cisplatin, capecitabine/bev, ixabepilone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457200" y="243828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Emotional Impact of the Diagnosis of Triple-Negative Breast Canc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995480"/>
            <a:ext cx="777240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bbe0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Benefits of bevacizumab/chemotherapy seem greater than in ER-positive, HER2-negative disease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Biologic connection to tumors in patients with </a:t>
            </a:r>
            <a:br>
              <a:rPr sz="2400"/>
            </a:b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BRCA mutation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unctional BRCA dysfunction in patients without BRCA?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Role, if any, of PARP inhibitors (synthetic lethality)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Role of platinum agents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Triple-Negative Breast Cancer</a:t>
            </a:r>
            <a:br>
              <a:rPr sz="3200"/>
            </a:b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Key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3"/>
          <p:cNvSpPr/>
          <p:nvPr/>
        </p:nvSpPr>
        <p:spPr>
          <a:xfrm>
            <a:off x="419040" y="1981080"/>
            <a:ext cx="8305920" cy="327672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685800" y="4572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c53d"/>
                </a:solidFill>
                <a:latin typeface="Arial Bold"/>
              </a:rPr>
              <a:t>Meta-Analysis of Patients with TNBC Randomly Assigned in First-Line Trials of Chemotherapy with or without Bevacizumab for m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287280" y="6095880"/>
            <a:ext cx="770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O’Shaughnessy J et al. San Antonio Breast Cancer Symposium 2010;Abstract P6-12-0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71680" y="2125800"/>
          <a:ext cx="8001000" cy="2950920"/>
        </p:xfrm>
        <a:graphic>
          <a:graphicData uri="http://schemas.openxmlformats.org/drawingml/2006/table">
            <a:tbl>
              <a:tblPr/>
              <a:tblGrid>
                <a:gridCol w="2301840"/>
                <a:gridCol w="3068640"/>
                <a:gridCol w="2630520"/>
              </a:tblGrid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Bevacizumab +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emotherapy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36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emotherapy alone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25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</a:tr>
              <a:tr h="48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O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2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4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2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27b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8.1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5.4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2-month survival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2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7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2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64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27b"/>
                    </a:solidFill>
                  </a:tcPr>
                </a:tc>
              </a:tr>
              <a:tr h="45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8.9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7.5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8224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bb33"/>
                </a:solidFill>
                <a:latin typeface="Arial"/>
              </a:rPr>
              <a:t>National Patterns of Care Survey (N = 100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027"/>
          <p:cNvSpPr/>
          <p:nvPr/>
        </p:nvSpPr>
        <p:spPr>
          <a:xfrm>
            <a:off x="152280" y="5715000"/>
            <a:ext cx="749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tterns of Care in Medical Oncology: Management of Breast Cancer in the Neoadjuvant, Adjuvant and Metastatic Settings 2011;7(1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3"/>
          <p:cNvSpPr/>
          <p:nvPr/>
        </p:nvSpPr>
        <p:spPr>
          <a:xfrm>
            <a:off x="343080" y="2514600"/>
            <a:ext cx="8458200" cy="228600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14440" y="2666880"/>
          <a:ext cx="8115120" cy="1995480"/>
        </p:xfrm>
        <a:graphic>
          <a:graphicData uri="http://schemas.openxmlformats.org/drawingml/2006/table">
            <a:tbl>
              <a:tblPr/>
              <a:tblGrid>
                <a:gridCol w="2865240"/>
                <a:gridCol w="1582920"/>
                <a:gridCol w="1062000"/>
                <a:gridCol w="1562040"/>
                <a:gridCol w="1042920"/>
              </a:tblGrid>
              <a:tr h="801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Recommended trea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symptoma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ymptoma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4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60 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75 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60 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75 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axane/bevacizum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4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3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4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</a:tr>
            </a:tbl>
          </a:graphicData>
        </a:graphic>
      </p:graphicFrame>
      <p:sp>
        <p:nvSpPr>
          <p:cNvPr id="60" name="Rectangle 54"/>
          <p:cNvSpPr/>
          <p:nvPr/>
        </p:nvSpPr>
        <p:spPr>
          <a:xfrm>
            <a:off x="352440" y="1447920"/>
            <a:ext cx="85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 with TNBC and  bone and pulmonary metast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8T13:30:01Z</dcterms:created>
  <dc:creator>Research To Practice</dc:creator>
  <dc:description/>
  <dc:language>en-US</dc:language>
  <cp:lastModifiedBy>Mac Pro E703803Y4PC</cp:lastModifiedBy>
  <cp:lastPrinted>2011-04-27T16:12:14Z</cp:lastPrinted>
  <dcterms:modified xsi:type="dcterms:W3CDTF">2011-07-22T19:48:12Z</dcterms:modified>
  <cp:revision>476</cp:revision>
  <dc:subject/>
  <dc:title>PowerPoint Presentation</dc:title>
</cp:coreProperties>
</file>