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807F-666F-4BDD-89F3-B1E456DBC64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EB79-87EA-4FC7-A644-588072E4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828B-090A-4FE4-B12C-679DD46B2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58A0-A61C-4871-A358-03EF45BEDD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6AB5-CC55-49B1-A5BC-78A475684F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90360" y="4349520"/>
            <a:ext cx="4932360" cy="434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5872-D261-4D96-A606-9B439F6A3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AF39-983C-4C89-B303-74DFA0AA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8308-27C5-4F82-8ED2-6FACC62A91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3DE6-E452-4A43-8925-CE4116A607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9DBA-5997-436A-9A01-CA17F760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806F-BCC6-45BE-B333-1FF3F3654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B042-8AD6-411B-9D99-959049C68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2F65-D569-4A3C-A2BA-4A44E6659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2B02-94F5-4DAC-B746-48B45415E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206E-C2CA-43AD-B1B5-AED221914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F6E6-3FB0-4DCC-A2BA-E794FC672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506C-35E5-4914-BFDF-8206DDE70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5A0B-0EF1-4717-BAAA-08A8EA263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CA3C-8FA4-4E8C-96E4-58B9F667C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B9F0-3943-4E77-92E3-F76441D3E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057F-B58D-4342-94A8-8AEAED3C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8DCD-2AF7-47CF-888C-09D7B399B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F56F-7B2D-4DF5-B780-9DF191062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EC46-72CA-4C1E-9191-C94F2AAFC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B368-FA7B-4B15-8574-2FE359D95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6B8D-58D5-4C0F-8112-3B52E749D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Notes Placeholder 5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il Love,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Case-Based Discussions on the Biopsychosocial Management of Patients with Breast Cancer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Friday, April 29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ＭＳ Ｐゴシック"/>
              </a:rPr>
              <a:t>Boston, Massachuse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35560" y="5105520"/>
            <a:ext cx="35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thy D Miller,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 Lita Smith, RN, AC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841320" y="5105520"/>
            <a:ext cx="43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ncy U Lin,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orgia Litsas, MSN, ANP-BC, AOC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bb1e"/>
                </a:solidFill>
                <a:latin typeface="Arial"/>
                <a:ea typeface="ヒラギノ角ゴ Pro W3"/>
              </a:rPr>
              <a:t>TDM-1: Key Clinical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Minimal or no alopecia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Minimal GI toxicity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Transient thrombocytopenia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Better quality of life than chemo/trastuzumab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12"/>
          <p:cNvSpPr/>
          <p:nvPr/>
        </p:nvSpPr>
        <p:spPr>
          <a:xfrm flipV="1">
            <a:off x="4724280" y="3472920"/>
            <a:ext cx="6098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4724280" y="4083120"/>
            <a:ext cx="60984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609480" y="3473280"/>
            <a:ext cx="3733920" cy="129564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609480" y="3016080"/>
            <a:ext cx="3733920" cy="457200"/>
          </a:xfrm>
          <a:prstGeom prst="rect">
            <a:avLst/>
          </a:prstGeom>
          <a:solidFill>
            <a:srgbClr val="0d65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ig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685800" y="3625920"/>
            <a:ext cx="3505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R2+ breast ca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viously treated with a taxane and trastuzu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5334120" y="3092400"/>
            <a:ext cx="3352680" cy="685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stuzumab-DM1 (T-DM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5334120" y="4006800"/>
            <a:ext cx="3352680" cy="685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patinib + Capecita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tle 14"/>
          <p:cNvSpPr/>
          <p:nvPr/>
        </p:nvSpPr>
        <p:spPr>
          <a:xfrm>
            <a:off x="533520" y="304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Phase III Study of Trastuzumab-DM1 (T-DM1) vs Capecitabine + Lapatinib in Patients With HER2+ Locally Advanced or Metastatic Breast Canc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611640" y="24066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adee4"/>
                </a:solidFill>
                <a:latin typeface="Arial"/>
                <a:ea typeface="ＭＳ Ｐゴシック"/>
              </a:rPr>
              <a:t>Target Accrual = 980 (Op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07880" y="6445080"/>
            <a:ext cx="37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ww.ClinicalTrials.gov, April 201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5"/>
          <p:cNvSpPr/>
          <p:nvPr/>
        </p:nvSpPr>
        <p:spPr>
          <a:xfrm>
            <a:off x="3962520" y="3549600"/>
            <a:ext cx="852480" cy="8510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362320" y="5149800"/>
            <a:ext cx="4419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education implic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1 (Ms Smith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47 yo dx'd in 2004 with ER/PR-negative, HER2-positive inflammatory BC and liver mets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AC-TH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excellent response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mastectomy + local XRT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postoperative trastuzumab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C/o neck and head pain, MRI = occipital lobe mets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resection + WBRT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trastuzumab and NED x 1.5 yr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~ Late 2006, new ataxia and isolated CNS recurrence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stereotactic XRT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postoperative lapatinib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Remains on lapatinib 1,000 mg qd (dose red for initial LFT rise)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Central Nervous System (Brain) Metasta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Tumors of origin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Incidence in breast cancer subtypes </a:t>
            </a:r>
            <a:br>
              <a:rPr sz="2400"/>
            </a:b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(HER2+, TNBC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Use of surgery, various RT modalitie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Use of systemic agents, including lapatinib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457200" y="2438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What information and instructions would you provide to a patient about to begin whole brain 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33526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Past history of suicide attemp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Mother and father died after diagnosi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Can’t drive a car due to neurologic symptom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57200" y="838080"/>
            <a:ext cx="8458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Living with the Complex Biopsychosocial Burdens of Breast Cancer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Managing Patients with Metastatic 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Breast Cancer for Prolonged Time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83988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9880" y="1981080"/>
          <a:ext cx="8304120" cy="2824200"/>
        </p:xfrm>
        <a:graphic>
          <a:graphicData uri="http://schemas.openxmlformats.org/drawingml/2006/table">
            <a:tbl>
              <a:tblPr/>
              <a:tblGrid>
                <a:gridCol w="830412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1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HER2-Positive Inflammatory Breast Canc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2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Triple-Negative Breast Cancer (TNBC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3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ER-Positive Progressive Metastatic Diseas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4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Bone-Only Metastatic Breast Canc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1 (Ms Smith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47 yo dx'd in 2004 with ER/PR-negative, HER2-positive inflammatory BC and liver mets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AC-TH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excellent response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mastectomy + local XRT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postoperative trastuzumab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C/o neck and head pain, MRI = occipital lobe mets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resection + WBRT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trastuzumab and NED x 1.5 yr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~ Late 2006, new ataxia and isolated CNS recurrence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stereotactic XRT </a:t>
            </a:r>
            <a:r>
              <a:rPr b="0" lang="en-US" sz="22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postoperative lapatinib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Remains on lapatinib 1,000 mg qd (dose red for initial LFT rise)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Clinical syndrom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Erythema and edema (peau d’orange) 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Palpable border to the erythema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May be tumor present in dermal lymphatics of involved skin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Accounts for 1-6% of breast cancers in U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More likely to be HER2+, HR-, younger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5-year disease-free survival: 35%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Inflammatory Breast 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How small is too small to not treat patients with node-negative tum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hoice of chemotherapy partner with trastuzum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Anthracycline? …issue of cardiotox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Paclitaxel alone? …in elder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Research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Addition of bevacizumab (NSABP/BCI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Addition of lapatinib (ALT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Use in “HER2-normal” tum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72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urrent Issues in the Adjuvant Treatment of HER2+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2" descr="ONS_Breast_Trast_Lapatinib_Slide6"/>
          <p:cNvPicPr/>
          <p:nvPr/>
        </p:nvPicPr>
        <p:blipFill>
          <a:blip r:embed="rId1"/>
          <a:srcRect l="0" t="0" r="0" b="29792"/>
          <a:stretch/>
        </p:blipFill>
        <p:spPr>
          <a:xfrm>
            <a:off x="1371600" y="1771560"/>
            <a:ext cx="6435720" cy="4552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cbb1e"/>
                </a:solidFill>
                <a:latin typeface="Arial"/>
              </a:rPr>
              <a:t>Mechanisms of Action of Trastuzumab and Lapatini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488200" y="16002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stuzu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829920" y="4038480"/>
            <a:ext cx="230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patin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nds on TK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wnstream casca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 events inhib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23920" y="1828800"/>
            <a:ext cx="83844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4343400" y="190512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5029200" y="3244680"/>
            <a:ext cx="2438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rosin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nase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4952880" y="4648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1295280" y="3962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gnal transduction to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04920" y="243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sma 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1371600" y="2286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2 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371600" y="1676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4343400" y="190512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3733920" y="1905120"/>
            <a:ext cx="761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3809880" y="251460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6"/>
          <p:cNvSpPr/>
          <p:nvPr/>
        </p:nvSpPr>
        <p:spPr>
          <a:xfrm flipH="1">
            <a:off x="4343400" y="327672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7"/>
          <p:cNvSpPr/>
          <p:nvPr/>
        </p:nvSpPr>
        <p:spPr>
          <a:xfrm>
            <a:off x="4343400" y="327672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8"/>
          <p:cNvSpPr/>
          <p:nvPr/>
        </p:nvSpPr>
        <p:spPr>
          <a:xfrm flipH="1" flipV="1">
            <a:off x="4876560" y="3809880"/>
            <a:ext cx="190476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31"/>
          <p:cNvGrpSpPr/>
          <p:nvPr/>
        </p:nvGrpSpPr>
        <p:grpSpPr>
          <a:xfrm>
            <a:off x="3210120" y="3743280"/>
            <a:ext cx="590400" cy="590400"/>
            <a:chOff x="3210120" y="3743280"/>
            <a:chExt cx="590400" cy="590400"/>
          </a:xfrm>
        </p:grpSpPr>
        <p:sp>
          <p:nvSpPr>
            <p:cNvPr id="119" name="Line 29"/>
            <p:cNvSpPr/>
            <p:nvPr/>
          </p:nvSpPr>
          <p:spPr>
            <a:xfrm flipH="1">
              <a:off x="3373560" y="3743280"/>
              <a:ext cx="263520" cy="59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210120" y="3906720"/>
              <a:ext cx="590400" cy="26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Line 32"/>
          <p:cNvSpPr/>
          <p:nvPr/>
        </p:nvSpPr>
        <p:spPr>
          <a:xfrm flipH="1">
            <a:off x="5257440" y="4952880"/>
            <a:ext cx="15228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838080" y="3048120"/>
            <a:ext cx="533520" cy="152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4419720" y="5486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acti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5486400" y="5410080"/>
            <a:ext cx="16002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5105520" y="2300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ding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4876920" y="20574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4876920" y="3048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B9AA-3D35-4FE8-8890-2887DBE96191}" type="slidenum">
              <a:rPr b="0" lang="en-GB" sz="1400" spc="-1" strike="noStrike">
                <a:solidFill>
                  <a:srgbClr val="ff65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3"/>
          <p:cNvSpPr/>
          <p:nvPr/>
        </p:nvSpPr>
        <p:spPr>
          <a:xfrm>
            <a:off x="208080" y="2133720"/>
            <a:ext cx="8727840" cy="289548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304920" y="53352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Key Clinical Trials of Neoadjuvant Treatment for HER2+ Breast Cancer: Chemotherapy Plus…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04920" y="6095880"/>
            <a:ext cx="8610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tch M et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 SABC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0;Abstract S3-1.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lga J et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 SABC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0;Abstract S3-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43080" y="2311560"/>
          <a:ext cx="8458200" cy="2541600"/>
        </p:xfrm>
        <a:graphic>
          <a:graphicData uri="http://schemas.openxmlformats.org/drawingml/2006/table">
            <a:tbl>
              <a:tblPr/>
              <a:tblGrid>
                <a:gridCol w="1942920"/>
                <a:gridCol w="2133720"/>
                <a:gridCol w="1981080"/>
                <a:gridCol w="2400480"/>
              </a:tblGrid>
              <a:tr h="507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athologic Complete Response R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rastuzuma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apatini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rastuzumab/</a:t>
                      </a:r>
                      <a:br>
                        <a:rPr sz="2100"/>
                      </a:b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apatini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82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rman study</a:t>
                      </a:r>
                      <a:r>
                        <a:rPr b="0" lang="en-US" sz="21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—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eoALTTO</a:t>
                      </a:r>
                      <a:r>
                        <a:rPr b="0" lang="en-US" sz="21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1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45720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NeoSphere Neoadjuvant Trial in HER2+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Breast Canc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15"/>
          <p:cNvSpPr/>
          <p:nvPr/>
        </p:nvSpPr>
        <p:spPr>
          <a:xfrm>
            <a:off x="3600" y="6013440"/>
            <a:ext cx="45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anni L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SABC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10;Abstract S3-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208080" y="2286000"/>
            <a:ext cx="8727840" cy="274320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3080" y="2438280"/>
          <a:ext cx="8458200" cy="2438280"/>
        </p:xfrm>
        <a:graphic>
          <a:graphicData uri="http://schemas.openxmlformats.org/drawingml/2006/table">
            <a:tbl>
              <a:tblPr/>
              <a:tblGrid>
                <a:gridCol w="1447560"/>
                <a:gridCol w="1638360"/>
                <a:gridCol w="1905120"/>
                <a:gridCol w="1714320"/>
                <a:gridCol w="1752840"/>
              </a:tblGrid>
              <a:tr h="73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athologic Complete Response R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Docetaxel + Trastuz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Docetaxel + Trastuzumab + Pertuz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rastuzumab+ Pertuz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Docetaxel + Pertuzu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NeoSphe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9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6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7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4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27b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085840"/>
            <a:ext cx="8153280" cy="371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1000"/>
              </a:srgbClr>
            </a:outerShdw>
          </a:effectLst>
        </p:spPr>
      </p:pic>
      <p:sp>
        <p:nvSpPr>
          <p:cNvPr id="141" name="Rectangle 5"/>
          <p:cNvSpPr/>
          <p:nvPr/>
        </p:nvSpPr>
        <p:spPr>
          <a:xfrm>
            <a:off x="0" y="609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Trastuzumab-DM1 (T-DM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16160" y="6018120"/>
            <a:ext cx="793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apted from Mackey JR. Discussant, ASCO Metastatic Breast Cancer Poster Discussion 200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385920" y="4427640"/>
            <a:ext cx="28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Verdana"/>
              </a:rPr>
              <a:t>DM1 is a highly potent antimicrotubul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3546360" y="4417920"/>
            <a:ext cx="24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Verdana"/>
              </a:rPr>
              <a:t>T-DM1 undergoes receptor-mediated intern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6305400" y="44276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Verdana"/>
              </a:rPr>
              <a:t>Free DM1 is released within the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058480" y="1998720"/>
            <a:ext cx="17229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4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stuzumab-D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954320" y="2743200"/>
            <a:ext cx="17229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4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stuzumab-D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7701840" y="2743200"/>
            <a:ext cx="1288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4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stuzum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601640" y="28954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7b"/>
                </a:solidFill>
                <a:latin typeface="Arial"/>
              </a:rPr>
              <a:t>H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516200" y="329400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7b"/>
                </a:solidFill>
                <a:latin typeface="Arial"/>
              </a:rPr>
              <a:t>H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7240320" y="329400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7b"/>
                </a:solidFill>
                <a:latin typeface="Arial"/>
              </a:rPr>
              <a:t>H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411560" y="397980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27b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4268880" y="397980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27b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6974280" y="397980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27b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Rectangle 5" descr=""/>
          <p:cNvPicPr/>
          <p:nvPr/>
        </p:nvPicPr>
        <p:blipFill>
          <a:blip r:embed="rId2"/>
          <a:stretch/>
        </p:blipFill>
        <p:spPr>
          <a:xfrm>
            <a:off x="7848720" y="3181320"/>
            <a:ext cx="579240" cy="669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3:30:01Z</dcterms:created>
  <dc:creator>Research To Practice</dc:creator>
  <dc:description/>
  <dc:language>en-US</dc:language>
  <cp:lastModifiedBy>Mac Pro E703803Y4PC</cp:lastModifiedBy>
  <cp:lastPrinted>2011-04-27T16:12:14Z</cp:lastPrinted>
  <dcterms:modified xsi:type="dcterms:W3CDTF">2011-07-13T15:29:14Z</dcterms:modified>
  <cp:revision>481</cp:revision>
  <dc:subject/>
  <dc:title>PowerPoint Presentation</dc:title>
</cp:coreProperties>
</file>