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844A-3FD5-47B3-AEC9-34D38B33E2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7A0-AB3A-430A-917E-17B98468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DD47-ECD1-4B40-BC5F-32A4B415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C2E4-097E-439D-B82C-1BB6C819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5D9-5460-404A-9335-FE572CE2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5C5-2480-40E5-942F-6C102321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3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42 yo woman treated on trial in 2005 for ER-positive, HER2-negative BC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oadjuvant capecitabine/docetaxel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AC and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en surger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At presentation for postop XRT, supraclavicular lymph node mets identifi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XRT completed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 goserelin/anastrozole but PD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within 4 mo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aclitaxel/bevacizumab = response but hypertension requiring meds and facial rash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D x 18 mos treatmen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Hypertension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Proteinuria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Thromboembolic events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Congestive heart failure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Wound healing 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37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GI perforation </a:t>
            </a:r>
            <a:endParaRPr b="0" lang="en-US" sz="23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8088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c53d"/>
                </a:solidFill>
                <a:latin typeface="Arial Bold"/>
              </a:rPr>
              <a:t>Side Effects/Complications Associated with </a:t>
            </a:r>
            <a:br>
              <a:rPr sz="2600"/>
            </a:br>
            <a:r>
              <a:rPr b="0" lang="en-US" sz="2600" spc="-1" strike="noStrike">
                <a:solidFill>
                  <a:srgbClr val="efc53d"/>
                </a:solidFill>
                <a:latin typeface="Arial Bold"/>
              </a:rPr>
              <a:t>the Use of Bevacizumab: Patient Education Im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13716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iving with the Complex Biopsychosocial Burdens of Breast Cancer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Emotional explosion in the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07T17:49:50Z</dcterms:modified>
  <cp:revision>475</cp:revision>
  <dc:subject/>
  <dc:title>PowerPoint Presentation</dc:title>
</cp:coreProperties>
</file>