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0202-CE5F-48C1-AC7D-37102EB1E5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1580-7CF8-4F28-8A7F-80D8457CF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6184-B378-461F-AA70-CB6703996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9BA0-63B4-4CA0-AE4D-49A7D00F10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B4DB-816E-4DCB-934F-AA4871E7C8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2077-CCE7-4A2A-9CAC-553D72B7E568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92BD-FA9E-4B8E-9497-E321D5BEE674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99A0-2926-431A-90D6-E30E28630496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CAE7-9A50-47B2-8953-602E4C1FEF1C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5D05-8C83-42AC-8BD8-5246BEE4FB82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8562-296D-40F5-9D77-192B12E9D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DC17-DD4B-4997-8E3A-50410BA613F2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211D-F857-41FE-9F42-40C836C2107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374D-C96B-4580-BDEF-0F23D0F55652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E9B6-82DA-4E85-8B2B-1F19F12EC2BE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4585-71BB-4949-803A-D2715F1C357C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002C-BA5A-4767-AEFC-6938FA0A1CA4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989A-BA82-4357-A543-00272A85E317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EF42-6EC9-458E-B38F-609E1B25F520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75AC-4EFB-443F-AC44-9A4F685F11A9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529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29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380880" y="460440"/>
            <a:ext cx="6477120" cy="3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tle 23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c53d"/>
                </a:solidFill>
                <a:latin typeface="Verdana"/>
              </a:rPr>
              <a:t>Module 1: Workup </a:t>
            </a:r>
            <a:br>
              <a:rPr sz="3600"/>
            </a:br>
            <a:r>
              <a:rPr b="1" lang="en-US" sz="3600" spc="-1" strike="noStrike">
                <a:solidFill>
                  <a:srgbClr val="efc53d"/>
                </a:solidFill>
                <a:latin typeface="Verdana"/>
              </a:rPr>
              <a:t>and Risk Stratifica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Subtitle 14"/>
          <p:cNvSpPr/>
          <p:nvPr/>
        </p:nvSpPr>
        <p:spPr>
          <a:xfrm>
            <a:off x="1371600" y="3821040"/>
            <a:ext cx="640080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deaf3"/>
                </a:solidFill>
                <a:latin typeface="Verdana"/>
              </a:rPr>
              <a:t>Nikhil C Munshi, M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457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fc53d"/>
                </a:solidFill>
                <a:latin typeface="Verdana"/>
              </a:rPr>
              <a:t>What Risk Factor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312920" y="210960"/>
            <a:ext cx="1276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ZoneTexte 6"/>
          <p:cNvSpPr/>
          <p:nvPr/>
        </p:nvSpPr>
        <p:spPr>
          <a:xfrm>
            <a:off x="0" y="12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efc53d"/>
                </a:solidFill>
                <a:latin typeface="Arial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efc53d"/>
                </a:solidFill>
                <a:latin typeface="Arial"/>
                <a:ea typeface="Times New Roman"/>
              </a:rPr>
              <a:t>I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ZoneTexte 6"/>
          <p:cNvSpPr/>
          <p:nvPr/>
        </p:nvSpPr>
        <p:spPr>
          <a:xfrm>
            <a:off x="609480" y="1971720"/>
            <a:ext cx="8201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ased on b2m and albumin leve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uilt before novel drug er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ill valid with current approaches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ethod used for measurement should be standa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though extremely convenient, requires incorporation of additional myeloma-specific featu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311040"/>
            <a:ext cx="914400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Verdana"/>
              </a:rPr>
              <a:t>Influence of t(4;14) and/or del(17p) on Overall Survival in All ISS Sta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82400" y="6477120"/>
            <a:ext cx="314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Arial"/>
              </a:rPr>
              <a:t>Avet-Loiseau. Blood 2007;109:3489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479600"/>
            <a:ext cx="7848720" cy="472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,064 patients with newly diagnosed MM enrolled in IFM 99 clinical trial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patients had cytogenetic analyses performed by FISH on bone marrow plasma cells.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85800" indent="-22860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tients were screened for del(13), t(11;14), t(4;14),  hyperdiploidy, MYC translocations and del(17p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variate analysis on 513 patients demonstrated that only t(4;14) and del(17p) retained prognostic value for overall surviva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74600" indent="-17460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prognostic model compared favorably to the IS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Verdana"/>
              </a:rPr>
              <a:t>Lack of Prognostic Impact of del(13) </a:t>
            </a:r>
            <a:br>
              <a:rPr sz="3200"/>
            </a:br>
            <a:r>
              <a:rPr b="1" lang="en-US" sz="3200" spc="-1" strike="noStrike">
                <a:solidFill>
                  <a:srgbClr val="efc53d"/>
                </a:solidFill>
                <a:latin typeface="Verdana"/>
              </a:rPr>
              <a:t>Detected by FISH in Patients </a:t>
            </a:r>
            <a:br>
              <a:rPr sz="3200"/>
            </a:br>
            <a:r>
              <a:rPr b="1" lang="en-US" sz="3200" spc="-1" strike="noStrike">
                <a:solidFill>
                  <a:srgbClr val="efc53d"/>
                </a:solidFill>
                <a:latin typeface="Verdana"/>
              </a:rPr>
              <a:t>Lacking t(4;14) and del(17p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527040" y="6476040"/>
            <a:ext cx="36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vet-Loiseau et al. Blood 2007;109:3489.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2200320"/>
            <a:ext cx="7620120" cy="37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variate analysis of 513 patients with newly diagnosed MM enrolled in IFM 99 clinical trials demonstrated that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87240" indent="-2300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prognostic value of del(13) appeared to be almost entirely dependent on the presence of accompanying t(4;14) and del(17p) cytogenetic abnormalities.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87240" indent="-2300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patients lacking t(4;14) and del(17p), del(13) loses its significance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fc53d"/>
                </a:solidFill>
                <a:latin typeface="Verdana"/>
              </a:rPr>
              <a:t>To Decide Treatment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12920" y="210960"/>
            <a:ext cx="1276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ZoneTexte 6"/>
          <p:cNvSpPr/>
          <p:nvPr/>
        </p:nvSpPr>
        <p:spPr>
          <a:xfrm>
            <a:off x="936720" y="2057400"/>
            <a:ext cx="288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efc53d"/>
                </a:solidFill>
                <a:latin typeface="Arial"/>
                <a:ea typeface="Times New Roman"/>
              </a:rPr>
              <a:t>Allo-transpla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ZoneTexte 6"/>
          <p:cNvSpPr/>
          <p:nvPr/>
        </p:nvSpPr>
        <p:spPr>
          <a:xfrm>
            <a:off x="1240560" y="2743200"/>
            <a:ext cx="554004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or high-risk patients? Or for low-risk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rontline? Or at 1st relaps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ZoneTexte 6"/>
          <p:cNvSpPr/>
          <p:nvPr/>
        </p:nvSpPr>
        <p:spPr>
          <a:xfrm>
            <a:off x="936720" y="4191120"/>
            <a:ext cx="40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efc53d"/>
                </a:solidFill>
                <a:latin typeface="Arial"/>
                <a:ea typeface="Times New Roman"/>
              </a:rPr>
              <a:t>Novel drugs in t(4;14)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1312920" y="210960"/>
            <a:ext cx="1276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ZoneTexte 6"/>
          <p:cNvSpPr/>
          <p:nvPr/>
        </p:nvSpPr>
        <p:spPr>
          <a:xfrm>
            <a:off x="940320" y="2147760"/>
            <a:ext cx="23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efc53d"/>
                </a:solidFill>
                <a:latin typeface="Arial"/>
                <a:ea typeface="Times New Roman"/>
              </a:rPr>
              <a:t>Mainten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ZoneTexte 6"/>
          <p:cNvSpPr/>
          <p:nvPr/>
        </p:nvSpPr>
        <p:spPr>
          <a:xfrm>
            <a:off x="838080" y="274320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urrent level of evidence does not provide direction in deciding if a specific group of patients will benefit from maintenance therapy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fc53d"/>
                </a:solidFill>
                <a:latin typeface="Verdana"/>
              </a:rPr>
              <a:t>To Decide Treatment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0" y="563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fc53d"/>
                </a:solidFill>
                <a:latin typeface="Verdana"/>
              </a:rPr>
              <a:t>What Risk Factor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312920" y="210960"/>
            <a:ext cx="1276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ZoneTexte 6"/>
          <p:cNvSpPr/>
          <p:nvPr/>
        </p:nvSpPr>
        <p:spPr>
          <a:xfrm>
            <a:off x="0" y="1309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efc53d"/>
                </a:solidFill>
                <a:latin typeface="Arial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efc53d"/>
                </a:solidFill>
                <a:latin typeface="Arial"/>
                <a:ea typeface="Times New Roman"/>
              </a:rPr>
              <a:t>Imag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ZoneTexte 6"/>
          <p:cNvSpPr/>
          <p:nvPr/>
        </p:nvSpPr>
        <p:spPr>
          <a:xfrm>
            <a:off x="838080" y="2057400"/>
            <a:ext cx="7620120" cy="27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umber of bone lytic lesions, per DS system, is not considered of any prognostic signific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1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imited series showing prognostic value of MR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1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ight be useful for response evalu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1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quires further validation stud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563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fc53d"/>
                </a:solidFill>
                <a:latin typeface="Verdana"/>
              </a:rPr>
              <a:t>Genomic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1312920" y="210960"/>
            <a:ext cx="1276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ZoneTexte 6"/>
          <p:cNvSpPr/>
          <p:nvPr/>
        </p:nvSpPr>
        <p:spPr>
          <a:xfrm>
            <a:off x="0" y="1447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efc53d"/>
                </a:solidFill>
                <a:latin typeface="Arial"/>
                <a:ea typeface="Times New Roman"/>
              </a:rPr>
              <a:t>Gene expression profiling (GEP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ZoneTexte 6"/>
          <p:cNvSpPr/>
          <p:nvPr/>
        </p:nvSpPr>
        <p:spPr>
          <a:xfrm>
            <a:off x="1223280" y="2425680"/>
            <a:ext cx="619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wo large studies showed prognostic valu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wo different sets of 70 and 15 gen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b: feasibility in multicenter sett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009800" y="5089680"/>
            <a:ext cx="7448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0 highly overexpressed or underexpressed genes distinguished patients with low-risk or high-risk disease in terms of EFS and O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Verdana"/>
              </a:rPr>
              <a:t>Gene Expression Profiling Predicts Outcom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719"/>
          <p:cNvSpPr/>
          <p:nvPr/>
        </p:nvSpPr>
        <p:spPr>
          <a:xfrm>
            <a:off x="152280" y="6477120"/>
            <a:ext cx="563904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haughnessy JD et al.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Blood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2007;109:2276-84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219320" y="1447920"/>
          <a:ext cx="6858000" cy="332244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  <a:gridCol w="1714320"/>
                <a:gridCol w="1714680"/>
              </a:tblGrid>
              <a:tr h="579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tient Grou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f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vents/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f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d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f7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R (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valu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f71"/>
                    </a:solidFill>
                  </a:tcPr>
                </a:tc>
              </a:tr>
              <a:tr h="4572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0609d"/>
                          </a:solidFill>
                          <a:latin typeface="Verdana"/>
                        </a:rPr>
                        <a:t>Event-Free Surviv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w ris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1/3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t reach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.51 (&lt;0.00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gh ris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7/4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.7 month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0609d"/>
                          </a:solidFill>
                          <a:latin typeface="Verdana"/>
                        </a:rPr>
                        <a:t>Overall Surviv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w ris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/30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t reach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.16 (&lt;0.00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gh ris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/4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 month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0" y="457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fc53d"/>
                </a:solidFill>
                <a:latin typeface="Verdana"/>
                <a:ea typeface="Arial"/>
              </a:rPr>
              <a:t>Gene Expression Profiling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fc53d"/>
                </a:solidFill>
                <a:latin typeface="Verdana"/>
                <a:ea typeface="Arial"/>
              </a:rPr>
              <a:t>IFM – </a:t>
            </a:r>
            <a:r>
              <a:rPr b="1" lang="fr-FR" sz="3200" spc="-1" strike="noStrike">
                <a:solidFill>
                  <a:srgbClr val="efc53d"/>
                </a:solidFill>
                <a:latin typeface="Verdana"/>
              </a:rPr>
              <a:t>15-Gene Mod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Rectangle 30"/>
          <p:cNvSpPr/>
          <p:nvPr/>
        </p:nvSpPr>
        <p:spPr>
          <a:xfrm>
            <a:off x="390960" y="6415200"/>
            <a:ext cx="26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caux et al. JCO 2008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1830240"/>
            <a:ext cx="8381880" cy="453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 expression profiles were generated for 250 patients with newly diagnosed MM enrolled in the IFM 99 trial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4600" indent="-1746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training set of 182 patients was used to identify the 15 most stable genes for risk-score calculat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4600" indent="-1746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process identified a 25% high-risk populat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4600" indent="-1746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FM 15-gene model was validated in three independent data sets: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7240" indent="-230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iversity of Arkansas School of Medical Sciences (UAMS) data set of 532 patients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7240" indent="-230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yo Clinic data set of 57 patients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87240" indent="-230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ulligan et al data set, bortezomib alon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4600" indent="-1746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risk score was significantly associated with decreased survival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3808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fc53d"/>
                </a:solidFill>
                <a:latin typeface="Verdana"/>
                <a:ea typeface="Arial"/>
              </a:rPr>
              <a:t>How to Improve the </a:t>
            </a:r>
            <a:br>
              <a:rPr sz="3200"/>
            </a:br>
            <a:r>
              <a:rPr b="1" lang="fr-FR" sz="3200" spc="-1" strike="noStrike">
                <a:solidFill>
                  <a:srgbClr val="efc53d"/>
                </a:solidFill>
                <a:latin typeface="Verdana"/>
                <a:ea typeface="Arial"/>
              </a:rPr>
              <a:t>Prognostica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ZoneTexte 4"/>
          <p:cNvSpPr/>
          <p:nvPr/>
        </p:nvSpPr>
        <p:spPr>
          <a:xfrm>
            <a:off x="1371600" y="1771560"/>
            <a:ext cx="662940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efc53d"/>
                </a:solidFill>
                <a:latin typeface="Arial"/>
                <a:ea typeface="Times New Roman"/>
              </a:rPr>
              <a:t>High-density genomic array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NA-based array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71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ene expression profiling (GEP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NA-based array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71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GH arra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71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NP arra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ranscript processing-based array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71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on arra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-2271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icroRNA profi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om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747720" y="55728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fc53d"/>
                </a:solidFill>
                <a:latin typeface="Verdana"/>
              </a:rPr>
              <a:t>Purposes of Risk Stratific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312920" y="210960"/>
            <a:ext cx="1276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ZoneTexte 6"/>
          <p:cNvSpPr/>
          <p:nvPr/>
        </p:nvSpPr>
        <p:spPr>
          <a:xfrm>
            <a:off x="609480" y="1639800"/>
            <a:ext cx="7643880" cy="37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t to decide whether to treat or no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5040" indent="-177840">
              <a:lnSpc>
                <a:spcPct val="11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MM with t(4;14) or del(13) by FISH or on cytogenetics – Treat or not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1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 determine progno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1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 stratify patients in tria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11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 update prognostic factors in the era of novel therapies (thalidomide, bortezomib, lenalidomid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6858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fc53d"/>
                </a:solidFill>
                <a:latin typeface="Verdana"/>
              </a:rPr>
              <a:t>Novel Agents and Risk Stratificati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312920" y="210960"/>
            <a:ext cx="1276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ZoneTexte 6"/>
          <p:cNvSpPr/>
          <p:nvPr/>
        </p:nvSpPr>
        <p:spPr>
          <a:xfrm>
            <a:off x="957240" y="1828800"/>
            <a:ext cx="78058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eliminary reports suggest tha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tezomib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s able to overcome t(4;14) prognosi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nflicting data on IMiDs</a:t>
            </a:r>
            <a:r>
              <a:rPr b="0" lang="fr-FR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®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urrently, to mandate definitive treat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ccording to cytogenetic abnormalities 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ematur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urther data needed for treatment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commendation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fc53d"/>
                </a:solidFill>
                <a:latin typeface="Verdana"/>
              </a:rPr>
              <a:t>Time of Assess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1312920" y="210960"/>
            <a:ext cx="1276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ZoneTexte 6"/>
          <p:cNvSpPr/>
          <p:nvPr/>
        </p:nvSpPr>
        <p:spPr>
          <a:xfrm>
            <a:off x="687960" y="1552680"/>
            <a:ext cx="24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efc53d"/>
                </a:solidFill>
                <a:uFillTx/>
                <a:latin typeface="Arial"/>
                <a:ea typeface="Times New Roman"/>
              </a:rPr>
              <a:t>At diagnosis</a:t>
            </a:r>
            <a:r>
              <a:rPr b="1" lang="fr-FR" sz="2800" spc="-1" strike="noStrike">
                <a:solidFill>
                  <a:srgbClr val="efc53d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ZoneTexte 6"/>
          <p:cNvSpPr/>
          <p:nvPr/>
        </p:nvSpPr>
        <p:spPr>
          <a:xfrm>
            <a:off x="685800" y="2273400"/>
            <a:ext cx="8077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current risk stratification is applicable to newly diagnosed patients with parameters obtained a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gnosi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rum mark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ytogenetics (karyotyp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SH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fc53d"/>
                </a:solidFill>
                <a:latin typeface="Verdana"/>
              </a:rPr>
              <a:t>Time of Assess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312920" y="210960"/>
            <a:ext cx="1276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ZoneTexte 6"/>
          <p:cNvSpPr/>
          <p:nvPr/>
        </p:nvSpPr>
        <p:spPr>
          <a:xfrm>
            <a:off x="685800" y="228744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vidence of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hange in risk factors at relaps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eg, mean labeling index increased from 1% at diagnosis to 2.5% at relaps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f a patient acquires high-risk features at relapse or progression, then that patient should be reclassified as having high-risk disease.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ZoneTexte 6"/>
          <p:cNvSpPr/>
          <p:nvPr/>
        </p:nvSpPr>
        <p:spPr>
          <a:xfrm>
            <a:off x="685800" y="1522440"/>
            <a:ext cx="229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efc53d"/>
                </a:solidFill>
                <a:uFillTx/>
                <a:latin typeface="Arial"/>
                <a:ea typeface="Times New Roman"/>
              </a:rPr>
              <a:t>At relap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fc53d"/>
                </a:solidFill>
                <a:latin typeface="Verdana"/>
              </a:rPr>
              <a:t>Time of Assess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1312920" y="210960"/>
            <a:ext cx="1276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ZoneTexte 6"/>
          <p:cNvSpPr/>
          <p:nvPr/>
        </p:nvSpPr>
        <p:spPr>
          <a:xfrm>
            <a:off x="685800" y="1905120"/>
            <a:ext cx="77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am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enetic abnormalities characteristic of poor outcome at diagnosis may suggest poor outcome if detected at the time of relapse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-determination of factors such a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m or ISS at relapse or at follow-up is not considered predictive of change in risk stratification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ole of serum LDH at relapse is less clea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ZoneTexte 6"/>
          <p:cNvSpPr/>
          <p:nvPr/>
        </p:nvSpPr>
        <p:spPr>
          <a:xfrm>
            <a:off x="686880" y="1492200"/>
            <a:ext cx="19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efc53d"/>
                </a:solidFill>
                <a:uFillTx/>
                <a:latin typeface="Arial"/>
                <a:ea typeface="Times New Roman"/>
              </a:rPr>
              <a:t>At relap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1312920" y="210960"/>
            <a:ext cx="1276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ZoneTexte 6"/>
          <p:cNvSpPr/>
          <p:nvPr/>
        </p:nvSpPr>
        <p:spPr>
          <a:xfrm>
            <a:off x="685800" y="1927080"/>
            <a:ext cx="7772400" cy="34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1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rapy-related poor-risk features include length of response to prior therapy – either progression while on therapy or short duration of respons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1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960" indent="-291960">
              <a:lnSpc>
                <a:spcPct val="11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f a patient already has an identified high-risk feature at diagnosis, then there is no need to look for the same feature agai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fc53d"/>
                </a:solidFill>
                <a:latin typeface="Verdana"/>
              </a:rPr>
              <a:t>Time of Assess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ZoneTexte 6"/>
          <p:cNvSpPr/>
          <p:nvPr/>
        </p:nvSpPr>
        <p:spPr>
          <a:xfrm>
            <a:off x="686880" y="1492200"/>
            <a:ext cx="19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efc53d"/>
                </a:solidFill>
                <a:uFillTx/>
                <a:latin typeface="Arial"/>
                <a:ea typeface="Times New Roman"/>
              </a:rPr>
              <a:t>At relap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563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fc53d"/>
                </a:solidFill>
                <a:latin typeface="Verdana"/>
              </a:rPr>
              <a:t>What Risk Factor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312920" y="210960"/>
            <a:ext cx="1276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ZoneTexte 6"/>
          <p:cNvSpPr/>
          <p:nvPr/>
        </p:nvSpPr>
        <p:spPr>
          <a:xfrm>
            <a:off x="993600" y="1446120"/>
            <a:ext cx="6750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fr-F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Serum: b2m, albumin, LDH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fr-F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Conventional cytogenetic abnormalit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fr-F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FISH:</a:t>
            </a:r>
            <a:r>
              <a:rPr b="0" lang="fr-F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fr-FR" sz="3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 identified plasma cell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AutoShape 12"/>
          <p:cNvSpPr/>
          <p:nvPr/>
        </p:nvSpPr>
        <p:spPr>
          <a:xfrm rot="5238000">
            <a:off x="4343040" y="3095640"/>
            <a:ext cx="533160" cy="228600"/>
          </a:xfrm>
          <a:custGeom>
            <a:avLst/>
            <a:gdLst>
              <a:gd name="textAreaLeft" fmla="*/ 66600 w 533160"/>
              <a:gd name="textAreaRight" fmla="*/ 466560 w 5331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AutoShape 14"/>
          <p:cNvSpPr/>
          <p:nvPr/>
        </p:nvSpPr>
        <p:spPr>
          <a:xfrm rot="7890000">
            <a:off x="2694960" y="3047760"/>
            <a:ext cx="533520" cy="228600"/>
          </a:xfrm>
          <a:custGeom>
            <a:avLst/>
            <a:gdLst>
              <a:gd name="textAreaLeft" fmla="*/ 66600 w 533520"/>
              <a:gd name="textAreaRight" fmla="*/ 46692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1487160" y="335772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ff33"/>
                </a:solidFill>
                <a:latin typeface="Arial"/>
              </a:rPr>
              <a:t>Immuno-FIS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3427200" y="350028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ff33"/>
                </a:solidFill>
                <a:latin typeface="Arial"/>
              </a:rPr>
              <a:t>Cell sorting/CD138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AutoShape 12"/>
          <p:cNvSpPr/>
          <p:nvPr/>
        </p:nvSpPr>
        <p:spPr>
          <a:xfrm rot="3103800">
            <a:off x="6019200" y="3047760"/>
            <a:ext cx="533520" cy="228600"/>
          </a:xfrm>
          <a:custGeom>
            <a:avLst/>
            <a:gdLst>
              <a:gd name="textAreaLeft" fmla="*/ 66600 w 533520"/>
              <a:gd name="textAreaRight" fmla="*/ 46692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5944320" y="335268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ff33"/>
                </a:solidFill>
                <a:latin typeface="Arial"/>
              </a:rPr>
              <a:t>GIEMSA + FIS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ZoneTexte 6"/>
          <p:cNvSpPr/>
          <p:nvPr/>
        </p:nvSpPr>
        <p:spPr>
          <a:xfrm>
            <a:off x="2819520" y="4251240"/>
            <a:ext cx="38862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efc53d"/>
                </a:solidFill>
                <a:latin typeface="Arial"/>
                <a:ea typeface="Times New Roman"/>
              </a:rPr>
              <a:t>At least:</a:t>
            </a:r>
            <a:r>
              <a:rPr b="1" lang="fr-FR" sz="2500" spc="-1" strike="noStrike">
                <a:solidFill>
                  <a:srgbClr val="efc53d"/>
                </a:solidFill>
                <a:latin typeface="Arial"/>
                <a:ea typeface="Times New Roman"/>
              </a:rPr>
              <a:t>	</a:t>
            </a:r>
            <a:r>
              <a:rPr b="1" lang="fr-FR" sz="2500" spc="-1" strike="noStrike">
                <a:solidFill>
                  <a:srgbClr val="efc53d"/>
                </a:solidFill>
                <a:latin typeface="Arial"/>
                <a:ea typeface="Times New Roman"/>
              </a:rPr>
              <a:t>t(4;14), del(17p), t(14;16)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efc53d"/>
                </a:solidFill>
                <a:latin typeface="Arial"/>
                <a:ea typeface="Times New Roman"/>
              </a:rPr>
              <a:t>Others: 1q, 1p, 8p, 12p, 16q, 22q, hyperdiploid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6858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Verdana"/>
              </a:rPr>
              <a:t>International Staging System (IS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304920" y="1828800"/>
            <a:ext cx="8534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ISS identifies 3 groups with validated and confirmed survival differen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age 1</a:t>
            </a: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 (serum </a:t>
            </a:r>
            <a:r>
              <a:rPr b="0" lang="en-US" sz="2200" spc="-1" strike="noStrike">
                <a:solidFill>
                  <a:srgbClr val="cde7f3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2m &lt;3.5 mg/L </a:t>
            </a:r>
            <a:br>
              <a:rPr sz="2200"/>
            </a:b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          &amp; serum albumin ≥3.5 g/dL)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62 Mo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age 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(neither Stage 1 nor 3)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4 Mo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age 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(serum </a:t>
            </a:r>
            <a:r>
              <a:rPr b="0" lang="en-US" sz="2200" spc="-1" strike="noStrike">
                <a:solidFill>
                  <a:srgbClr val="cde7f3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cde7f3"/>
                </a:solidFill>
                <a:latin typeface="Arial"/>
              </a:rPr>
              <a:t>2m  ≥5.5 mg/L)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9 Mo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ISS prognostic regardless of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, geographic region, individual institution or cooperative group, standard or transplant therapy, method of albumin</a:t>
            </a: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504000" y="6477120"/>
            <a:ext cx="23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Arial"/>
              </a:rPr>
              <a:t>Greipp. JCO 2005;23:3412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21:44:32Z</dcterms:created>
  <dc:creator>Research To Practice</dc:creator>
  <dc:description/>
  <cp:keywords/>
  <dc:language>en-US</dc:language>
  <cp:lastModifiedBy>Mac Pro E703803Y4PC</cp:lastModifiedBy>
  <cp:lastPrinted>2011-04-22T15:44:09Z</cp:lastPrinted>
  <dcterms:modified xsi:type="dcterms:W3CDTF">2011-05-06T19:46:17Z</dcterms:modified>
  <cp:revision>135</cp:revision>
  <dc:subject/>
  <dc:title>PowerPoint Presentation</dc:title>
</cp:coreProperties>
</file>